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FA74-18A7-4C5E-BED1-16DAC7514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E96D-FCA0-4211-8657-853F3379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EB64-80F3-4F50-80F5-F23F9E558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8465-7DBF-407A-B1C5-64978D2F5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C577-1F19-4467-9493-1912AD1F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07B3-DA85-470E-8776-5DE66120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FBFC-71CD-4E1C-B364-FF51F65B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88F7-85E0-4B23-9389-C574BB9C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00F9-C385-48B3-AB06-9D9A20AA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907D-C7EF-403E-9B20-5C436A07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27FB-371E-47BC-AC2C-279FDEB2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956C-7C95-4871-8BA3-F9C995CE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96B5-9742-4683-89D5-99021CD5B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GEOTECHNICAL ENGINEERING IN RESIDUAL SOILS </a:t>
            </a:r>
            <a:br>
              <a:rPr sz="4000"/>
            </a:b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University of Chile, Santiago</a:t>
            </a: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PART 3: GROUPING &amp; CLASSIFICATION SCHEMES FOR RESIDUAL SOI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4680" y="404640"/>
            <a:ext cx="7772400" cy="64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00080"/>
                </a:solidFill>
                <a:latin typeface="Arial"/>
              </a:rPr>
              <a:t>British Geological Society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9280" y="1676520"/>
            <a:ext cx="8155080" cy="4480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A very complex system based on pedologial metho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Almost no clear connection between classification groups and engineering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Probably best ignored for engineering purpos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7772400" cy="809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0033"/>
                </a:solidFill>
                <a:latin typeface="Arial"/>
              </a:rPr>
              <a:t>Methods for specific local 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436760"/>
            <a:ext cx="8686800" cy="5213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Toncer and Lohnes describe a method for use with lateritic soils in Hawaii and Puerto R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Pender describes an adaptation of Little’s  method for use with NZ weathered greywac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With and Zeiglet describe a system specifically developed for one project - the Baltimore subway proje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3300"/>
                </a:solidFill>
                <a:latin typeface="Arial"/>
              </a:rPr>
              <a:t>These approaches are very practical and very use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135640" cy="720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660033"/>
                </a:solidFill>
                <a:latin typeface="Times New Roman"/>
              </a:rPr>
              <a:t>A USEFUL GROUPING SYSTEM</a:t>
            </a:r>
            <a:r>
              <a:rPr b="0" lang="en-N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1387440"/>
            <a:ext cx="8380440" cy="506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3300"/>
                </a:solidFill>
                <a:latin typeface="Arial"/>
              </a:rPr>
              <a:t>The two components of residual soil that give them distinctive characteristics ar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AU" sz="3600" spc="-1" strike="noStrike">
                <a:solidFill>
                  <a:srgbClr val="003300"/>
                </a:solidFill>
                <a:latin typeface="Arial"/>
              </a:rPr>
              <a:t>Mineralogical composi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AU" sz="3600" spc="-1" strike="noStrike">
                <a:solidFill>
                  <a:srgbClr val="00330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3300"/>
                </a:solidFill>
                <a:latin typeface="Arial"/>
              </a:rPr>
              <a:t>These can be used as the basis for a grouping system for residual soi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660033"/>
                </a:solidFill>
                <a:latin typeface="Times New Roman"/>
              </a:rPr>
              <a:t>Three main groups on basis of mineralogical composition:</a:t>
            </a:r>
            <a:r>
              <a:rPr b="0" lang="en-N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5040" y="2046240"/>
            <a:ext cx="8550360" cy="4359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Group A: Soils without strong mineralogical influ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Group B: Soils with strong mineralogical influence from conventional (usual) clay minerals commonly found in sedimentary soi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Group C: Soils with strong mineralogical influence from special clay minerals not found in sedimentar soi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660033"/>
                </a:solidFill>
                <a:latin typeface="Times New Roman"/>
              </a:rPr>
              <a:t>Each group can be sub-divided on basis of soil structure.</a:t>
            </a:r>
            <a:r>
              <a:rPr b="0" lang="en-N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1360" y="1768320"/>
            <a:ext cx="8321760" cy="4480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3300"/>
                </a:solidFill>
                <a:latin typeface="Arial"/>
              </a:rPr>
              <a:t>Types of  soil struct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NZ" sz="3200" spc="-1" strike="noStrike">
                <a:solidFill>
                  <a:srgbClr val="003300"/>
                </a:solidFill>
                <a:latin typeface="Arial"/>
              </a:rPr>
              <a:t>Macro structure – joints, fault lines, bedding planes, - features visible to the naked ey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AU" sz="3200" spc="-1" strike="noStrike">
                <a:solidFill>
                  <a:srgbClr val="003300"/>
                </a:solidFill>
                <a:latin typeface="Arial"/>
              </a:rPr>
              <a:t>Micro structure – bonding or cementing between particles – not visible to the naked ey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343320" y="0"/>
            <a:ext cx="580068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1628280"/>
            <a:ext cx="2792520" cy="273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3300"/>
                </a:solidFill>
                <a:latin typeface="Times New Roman"/>
              </a:rPr>
              <a:t>Macro- structure in weathered sandst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5678280"/>
            <a:ext cx="8207280" cy="990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3300"/>
                </a:solidFill>
                <a:latin typeface="Times New Roman"/>
              </a:rPr>
              <a:t>Minor macro-structure but important micro-structure (sensitive volcanic as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3520" y="1440"/>
            <a:ext cx="807696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2200" y="1501560"/>
            <a:ext cx="2665440" cy="3222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3300"/>
                </a:solidFill>
                <a:latin typeface="Times New Roman"/>
              </a:rPr>
              <a:t>Soil with no structural influence</a:t>
            </a:r>
            <a:br>
              <a:rPr sz="3600"/>
            </a:br>
            <a:r>
              <a:rPr b="1" lang="en-NZ" sz="3600" spc="-1" strike="noStrike">
                <a:solidFill>
                  <a:srgbClr val="003300"/>
                </a:solidFill>
                <a:latin typeface="Times New Roman"/>
              </a:rPr>
              <a:t> - tropical red cl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0" t="0" r="0" b="9312"/>
          <a:stretch/>
        </p:blipFill>
        <p:spPr>
          <a:xfrm>
            <a:off x="3405240" y="0"/>
            <a:ext cx="574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040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0033"/>
                </a:solidFill>
                <a:latin typeface="Times New Roman"/>
              </a:rPr>
              <a:t>Group A Soils – little influence from mineralogy</a:t>
            </a:r>
            <a:r>
              <a:rPr b="1" lang="en-NZ" sz="36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3120" y="1893960"/>
            <a:ext cx="8031240" cy="399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Generally of a rather coarse nature ie a relatively low clay fra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Clay fraction usually of low activity mineral ie kaolin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A common example of this group is weathered granit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8192" t="210" r="0" b="0"/>
          <a:stretch/>
        </p:blipFill>
        <p:spPr>
          <a:xfrm>
            <a:off x="0" y="-103320"/>
            <a:ext cx="9144000" cy="6961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921400" y="404640"/>
            <a:ext cx="6026760" cy="520560"/>
          </a:xfrm>
          <a:prstGeom prst="rect">
            <a:avLst/>
          </a:prstGeom>
          <a:solidFill>
            <a:srgbClr val="ccffcc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cc"/>
                </a:solidFill>
                <a:latin typeface="Arial"/>
              </a:rPr>
              <a:t>A group A soil: Weathered grani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0066"/>
                </a:solidFill>
                <a:latin typeface="Arial"/>
              </a:rPr>
              <a:t>Present Classification Systems:</a:t>
            </a:r>
            <a:r>
              <a:rPr b="1" lang="en-NZ" sz="36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7520" y="1803240"/>
            <a:ext cx="7872120" cy="393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66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NZ" sz="3200" spc="-1" strike="noStrike">
                <a:solidFill>
                  <a:srgbClr val="003300"/>
                </a:solidFill>
                <a:latin typeface="Arial"/>
              </a:rPr>
              <a:t>Methods based on the weathering profile</a:t>
            </a:r>
            <a:r>
              <a:rPr b="0" lang="en-NZ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3300"/>
                </a:solidFill>
                <a:latin typeface="Arial"/>
              </a:rPr>
              <a:t>(b) Methods based on pedalogical classificatio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3300"/>
                </a:solidFill>
                <a:latin typeface="Arial"/>
              </a:rPr>
              <a:t>(c)  Methods intended for local use on specific soil types only</a:t>
            </a:r>
            <a:r>
              <a:rPr b="1" lang="en-AU" sz="32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0033"/>
                </a:solidFill>
                <a:latin typeface="Times New Roman"/>
              </a:rPr>
              <a:t>Group B – Soils with strong infuence from “common” clay miner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2363760"/>
            <a:ext cx="814392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One dominant group – “black cotton soil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Strongly influenced by presene of active clay minerals of the smectit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The clay mineral montmorillinite is the most common member of this group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M.Doby%204%20Swelling%20soil%20Surabaya%20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2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8600" y="6095880"/>
            <a:ext cx="206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560700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66"/>
                </a:solidFill>
                <a:latin typeface="Arial"/>
              </a:rPr>
              <a:t>Group B soil: Montmorillinite cl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NZ" sz="2800" spc="-1" strike="noStrike">
                <a:solidFill>
                  <a:srgbClr val="ffff66"/>
                </a:solidFill>
                <a:latin typeface="Arial"/>
              </a:rPr>
              <a:t>- shallow failure on gentle slope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6000" y="228240"/>
            <a:ext cx="66960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0033"/>
                </a:solidFill>
                <a:latin typeface="Times New Roman"/>
              </a:rPr>
              <a:t>Group C soils: strong influence from unusual clay minerals</a:t>
            </a:r>
            <a:r>
              <a:rPr b="1" lang="en-N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57840" y="2085840"/>
            <a:ext cx="6220440" cy="3506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3300"/>
                </a:solidFill>
                <a:latin typeface="Arial"/>
              </a:rPr>
              <a:t>Three important mineral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AU" sz="3200" spc="-1" strike="noStrike">
                <a:solidFill>
                  <a:srgbClr val="003300"/>
                </a:solidFill>
                <a:latin typeface="Arial"/>
              </a:rPr>
              <a:t>Allophane/imogol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3300"/>
                </a:solidFill>
                <a:latin typeface="Arial"/>
              </a:rPr>
              <a:t>Halloysi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AU" sz="3200" spc="-1" strike="noStrike">
                <a:solidFill>
                  <a:srgbClr val="003300"/>
                </a:solidFill>
                <a:latin typeface="Arial"/>
              </a:rPr>
              <a:t>Sesquioxide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152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Weathering sequence for the three unusual clay miner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735200"/>
            <a:ext cx="8397720" cy="4786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Volcanic ash  - “glass” 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Allopha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Halloy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Laterite - Sesquioxides - Hydrated oxides of iron (geothite) and aluminium (gibbsi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00720" y="223524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95680" y="36036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95680" y="48276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Notes on this weathering proces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219320"/>
            <a:ext cx="8664480" cy="4756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Formation of allophane is conditional on non crystalline parent material (gla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The weathering process involves both chemical change and leaching (solution) out of si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Removal of silica leads to concentration of iron and aluminium compounds – the sesquiox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The sesquioxides tend to act as cementing agents, leading to formation of laterite, a hard gravelly mater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95640" y="71280"/>
            <a:ext cx="4464000" cy="333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Outline of Group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52280" y="609480"/>
          <a:ext cx="8915400" cy="624384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  <a:gridCol w="2971800"/>
              </a:tblGrid>
              <a:tr h="153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Major Di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- mineralogy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Sub-gro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- structur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Other inform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- especially parent rock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Group A – no strong mineralogical influ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6600"/>
                        </a:buClr>
                        <a:buFont typeface="Times New Roman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Macro-stru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6600"/>
                        </a:buClr>
                        <a:buFont typeface="Times New Roman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Micro-stru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6600"/>
                        </a:buClr>
                        <a:buFont typeface="Times New Roman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No structur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Group B – strong influence from “normal” clay miner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6600"/>
                        </a:buClr>
                        <a:buFont typeface="Times New Roman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Macro-stru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6600"/>
                        </a:buClr>
                        <a:buFont typeface="Times New Roman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Micro-stru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6600"/>
                        </a:buClr>
                        <a:buFont typeface="Times New Roman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No stru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Group C – strong influence from unusual clay mineral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6600"/>
                        </a:buClr>
                        <a:buFont typeface="Times New Roman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Macro-stru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6600"/>
                        </a:buClr>
                        <a:buFont typeface="Times New Roman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Micro-stru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6600"/>
                        </a:buClr>
                        <a:buFont typeface="Times New Roman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No stru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58723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10920" y="6019560"/>
            <a:ext cx="3745080" cy="609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Grouping syst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76000" y="6092640"/>
            <a:ext cx="6048360" cy="533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Group examples and propert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147600"/>
            <a:ext cx="914400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47640" y="151920"/>
            <a:ext cx="61200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he place of conventional classification systems</a:t>
            </a:r>
            <a:r>
              <a:rPr b="1" lang="en-US" sz="3600" spc="-1" strike="noStrike">
                <a:solidFill>
                  <a:srgbClr val="660033"/>
                </a:solidFill>
                <a:latin typeface="SimHe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6120" y="1844640"/>
            <a:ext cx="8129520" cy="4377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This grouping system is not intended to be a rigorous classification system to replace existing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It is intended to identify soil groups that can be expected to have similar engineering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It should be used alongside other well established systems, in particular the Unified Soil Classification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SimHei"/>
              </a:rPr>
              <a:t>A point about the Plasticity Ch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19810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6440" y="57038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595944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he position a soil occupies on the chart is a very useful indicator of likely behaviour.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-8412" t="-5075" r="-4999" b="-2591"/>
          <a:stretch/>
        </p:blipFill>
        <p:spPr>
          <a:xfrm>
            <a:off x="0" y="590400"/>
            <a:ext cx="914400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2666880" cy="2362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0033"/>
                </a:solidFill>
                <a:latin typeface="Arial"/>
              </a:rPr>
              <a:t>Methods based on weathering profile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660840" y="0"/>
            <a:ext cx="49496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3036960"/>
            <a:ext cx="320040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Profile from Little (1969), based on experience with weathered gran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0560" y="2769840"/>
            <a:ext cx="5761080" cy="1235160"/>
          </a:xfrm>
          <a:prstGeom prst="rect">
            <a:avLst/>
          </a:prstGeom>
          <a:solidFill>
            <a:srgbClr val="ffff99">
              <a:alpha val="48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IN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racias por su aten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79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0033"/>
                </a:solidFill>
                <a:latin typeface="Arial"/>
              </a:rPr>
              <a:t>Note the six weathering categori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9080" y="1219320"/>
            <a:ext cx="8530920" cy="454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VI   S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V    Completely weath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lV    Highly weath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lll    Moderately weathered (rock 80 to 90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ll    Slightly weath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l    Fresh roc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6480360" cy="718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0033"/>
                </a:solidFill>
                <a:latin typeface="Arial"/>
              </a:rPr>
              <a:t>Limitations of this meth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523880"/>
            <a:ext cx="8686800" cy="442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describes the weathering profile of igneous rocks in the tropics  (Little’s intentio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does not provide any comparative information between soils from one rock type and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the profile shown in the Little figure is relevant only to certain types of roc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other types of rock produce different profiles.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280" y="5791320"/>
            <a:ext cx="7272360" cy="761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3300"/>
                </a:solidFill>
                <a:latin typeface="Arial"/>
              </a:rPr>
              <a:t>Variations in weathering profile</a:t>
            </a:r>
            <a:r>
              <a:rPr b="1" lang="en-NZ" sz="36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-897" t="-4054" r="-2646" b="-10682"/>
          <a:stretch/>
        </p:blipFill>
        <p:spPr>
          <a:xfrm>
            <a:off x="-1440" y="0"/>
            <a:ext cx="9145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6985080" cy="496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0033"/>
                </a:solidFill>
                <a:latin typeface="Arial"/>
              </a:rPr>
              <a:t>Notes on weathering profil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838080"/>
            <a:ext cx="9144000" cy="5852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Weathering of (igneous) acidic rocks produces a thick gradual transition zone, while basic rocks produce a very thin sharp transition zon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33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With volcanic ash or lahar layers, weathering may be greater deeper down – depending on relative age of lay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With limestones, there is no transition zone. The weathering process is simply one of solution of the whole ro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Soil profile from highly stratified sandstone reflects the layers of the parent rock as much as the weathering influ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7556760" cy="718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0033"/>
                </a:solidFill>
                <a:latin typeface="Arial"/>
              </a:rPr>
              <a:t>Use of Pedalogical Group Nam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209600"/>
            <a:ext cx="8512200" cy="4857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Various group names have been borrowed from pedalogical systems used by soil scien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3300"/>
                </a:solidFill>
                <a:latin typeface="Arial"/>
              </a:rPr>
              <a:t>They have crept in randomly - for conveni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3300"/>
                </a:solidFill>
                <a:latin typeface="Arial"/>
              </a:rPr>
              <a:t>The first and best known is probably late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3300"/>
                </a:solidFill>
                <a:latin typeface="Arial"/>
              </a:rPr>
              <a:t>The three most commonly used at present are probably </a:t>
            </a:r>
            <a:r>
              <a:rPr b="1" lang="en-AU" sz="2800" spc="-1" strike="noStrike" u="sng">
                <a:solidFill>
                  <a:srgbClr val="003300"/>
                </a:solidFill>
                <a:uFillTx/>
                <a:latin typeface="Arial"/>
              </a:rPr>
              <a:t>lateritic soil</a:t>
            </a:r>
            <a:r>
              <a:rPr b="1" lang="en-AU" sz="2800" spc="-1" strike="noStrike">
                <a:solidFill>
                  <a:srgbClr val="003300"/>
                </a:solidFill>
                <a:latin typeface="Arial"/>
              </a:rPr>
              <a:t>, l</a:t>
            </a:r>
            <a:r>
              <a:rPr b="1" lang="en-AU" sz="2800" spc="-1" strike="noStrike" u="sng">
                <a:solidFill>
                  <a:srgbClr val="003300"/>
                </a:solidFill>
                <a:uFillTx/>
                <a:latin typeface="Arial"/>
              </a:rPr>
              <a:t>atosol</a:t>
            </a:r>
            <a:r>
              <a:rPr b="1" lang="en-AU" sz="2800" spc="-1" strike="noStrike">
                <a:solidFill>
                  <a:srgbClr val="003300"/>
                </a:solidFill>
                <a:latin typeface="Arial"/>
              </a:rPr>
              <a:t>, and </a:t>
            </a:r>
            <a:r>
              <a:rPr b="1" lang="en-AU" sz="2800" spc="-1" strike="noStrike" u="sng">
                <a:solidFill>
                  <a:srgbClr val="003300"/>
                </a:solidFill>
                <a:uFillTx/>
                <a:latin typeface="Arial"/>
              </a:rPr>
              <a:t>black cotton s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0033"/>
                </a:solidFill>
                <a:latin typeface="Arial"/>
              </a:rPr>
              <a:t>Three pedalogial grou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Three%20pedological%20groups" descr=""/>
          <p:cNvPicPr/>
          <p:nvPr/>
        </p:nvPicPr>
        <p:blipFill>
          <a:blip r:embed="rId1"/>
          <a:srcRect l="-1733" t="-2626" r="-2605" b="-1443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3T21:30:02Z</dcterms:created>
  <dc:creator>lwes010</dc:creator>
  <dc:description/>
  <dc:language>en-US</dc:language>
  <cp:lastModifiedBy>Laurie Wesley </cp:lastModifiedBy>
  <dcterms:modified xsi:type="dcterms:W3CDTF">2007-07-22T21:45:05Z</dcterms:modified>
  <cp:revision>99</cp:revision>
  <dc:subject/>
  <dc:title>GEOTECHNICAL ENGINEERING IN RESIUDAL SOILS  University of Chile, Santiago   PART 3: GROUPING &amp; CLASSIFICATION SCHEMES FOR RESIDUAL SOILS</dc:title>
</cp:coreProperties>
</file>