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5C0-9390-4CD2-AC1A-99960231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39E-9D6F-490A-A753-73FEFA88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56C-CAE1-458C-9A91-6AA4B362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63F-5F00-44B2-861D-947C566F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6D9-09C9-4B39-9463-97627A64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D33-8280-43F3-82B1-609719F4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6FF-CB31-48BA-8AA3-9FA3C0B7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1B7-8C83-4C0B-9B16-7FE97309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138-96E8-4EA2-8A93-19A7AA81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9AF-59C1-4C6F-B169-E872B692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A08-C938-4B1D-816B-D41E5DDE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414-5D7F-472C-B9A7-232ACA6C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ADE2-93FA-4C7B-92F4-65126A9F4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GEOTECHNICAL ENGINEERING IN RESIDUAL SOILS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University of Chile, Santiago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ART 3: GROUPING &amp; CLASSIFICATION SCHEMES FOR RESIDUAL SO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4680" y="404640"/>
            <a:ext cx="7772400" cy="64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00080"/>
                </a:solidFill>
                <a:latin typeface="Arial"/>
              </a:rPr>
              <a:t>British Geological Societ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1676520"/>
            <a:ext cx="815508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 very complex system based on pedologial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lmost no clear connection between classification groups and engineering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Probably best ignored for engineering purpo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Methods for specific local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436760"/>
            <a:ext cx="8686800" cy="521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Toncer and Lohnes describe a method for use with lateritic soils in Hawaii and Puerto 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Pender describes an adaptation of Little’s  method for use with NZ weathered greywac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ith and Zeiglet describe a system specifically developed for one project - the Baltimore subway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se approaches are very practical and very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0033"/>
                </a:solidFill>
                <a:latin typeface="Times New Roman"/>
              </a:rPr>
              <a:t>A USEFUL GROUPING SYSTEM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387440"/>
            <a:ext cx="8380440" cy="50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00"/>
                </a:solidFill>
                <a:latin typeface="Arial"/>
              </a:rPr>
              <a:t>The two components of residual soil that give them distinctive characteristic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Mineralogical composi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These can be used as the basis for a grouping system for residual so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0033"/>
                </a:solidFill>
                <a:latin typeface="Times New Roman"/>
              </a:rPr>
              <a:t>Three main groups on basis of mineralogical composition: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2046240"/>
            <a:ext cx="855036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Group A: Soils without strong mineralogical influ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Group B: Soils with strong mineralogical influence from conventional (usual) clay minerals commonly found in sedimentary so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Group C: Soils with strong mineralogical influence from special clay minerals not found in sedimentar so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0033"/>
                </a:solidFill>
                <a:latin typeface="Times New Roman"/>
              </a:rPr>
              <a:t>Each group can be sub-divided on basis of soil structure.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1768320"/>
            <a:ext cx="832176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Types of  soil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Macro structure – joints, fault lines, bedding planes, - features visible to the naked ey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Micro structure – bonding or cementing between particles – not visible to the naked ey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43320" y="0"/>
            <a:ext cx="5800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628280"/>
            <a:ext cx="2792520" cy="27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Times New Roman"/>
              </a:rPr>
              <a:t>Macro- structure in weathered sandst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5678280"/>
            <a:ext cx="8207280" cy="99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Times New Roman"/>
              </a:rPr>
              <a:t>Minor macro-structure but important micro-structure (sensitive volcanic a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440"/>
            <a:ext cx="807696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2200" y="1501560"/>
            <a:ext cx="2665440" cy="322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00"/>
                </a:solidFill>
                <a:latin typeface="Times New Roman"/>
              </a:rPr>
              <a:t>Soil with no structural influence</a:t>
            </a:r>
            <a:br>
              <a:rPr sz="3600"/>
            </a:br>
            <a:r>
              <a:rPr b="1" lang="en-NZ" sz="3600" spc="-1" strike="noStrike">
                <a:solidFill>
                  <a:srgbClr val="003300"/>
                </a:solidFill>
                <a:latin typeface="Times New Roman"/>
              </a:rPr>
              <a:t> - tropical red c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9312"/>
          <a:stretch/>
        </p:blipFill>
        <p:spPr>
          <a:xfrm>
            <a:off x="3405240" y="0"/>
            <a:ext cx="574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0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Times New Roman"/>
              </a:rPr>
              <a:t>Group A Soils – little influence from mineralogy</a:t>
            </a:r>
            <a:r>
              <a:rPr b="1" lang="en-NZ" sz="36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3120" y="1893960"/>
            <a:ext cx="803124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Generally of a rather coarse nature ie a relatively low clay fra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Clay fraction usually of low activity mineral ie kaol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 common example of this group is weathered grani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8192" t="210" r="0" b="0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21400" y="404640"/>
            <a:ext cx="6026760" cy="520560"/>
          </a:xfrm>
          <a:prstGeom prst="rect">
            <a:avLst/>
          </a:prstGeom>
          <a:solidFill>
            <a:srgbClr val="ccff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Arial"/>
              </a:rPr>
              <a:t>A group A soil: Weathered gran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66"/>
                </a:solidFill>
                <a:latin typeface="Arial"/>
              </a:rPr>
              <a:t>Present Classification Systems:</a:t>
            </a: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7520" y="1803240"/>
            <a:ext cx="7872120" cy="393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Methods based on the weathering profile</a:t>
            </a:r>
            <a:r>
              <a:rPr b="0" lang="en-N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(b) Methods based on pedalogical classific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(c)  Methods intended for local use on specific soil types only</a:t>
            </a:r>
            <a:r>
              <a:rPr b="1" lang="en-AU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Times New Roman"/>
              </a:rPr>
              <a:t>Group B – Soils with strong infuence from “common” clay miner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363760"/>
            <a:ext cx="81439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One dominant group – “black cotton soil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Strongly influenced by presene of active clay minerals of the smectit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The clay mineral montmorillinite is the most common member of this group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.Doby%204%20Swelling%20soil%20Surabaya%2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6095880"/>
            <a:ext cx="20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6070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66"/>
                </a:solidFill>
                <a:latin typeface="Arial"/>
              </a:rPr>
              <a:t>Group B soil: Montmorillinite c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ffff66"/>
                </a:solidFill>
                <a:latin typeface="Arial"/>
              </a:rPr>
              <a:t>- shallow failure on gentle slop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6696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Times New Roman"/>
              </a:rPr>
              <a:t>Group C soils: strong influence from unusual clay minerals</a:t>
            </a: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7840" y="2085840"/>
            <a:ext cx="6220440" cy="350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Three important mineral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Allophane/imogo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Halloys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Sesquioxid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ing sequence for the three unusual clay miner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735200"/>
            <a:ext cx="8397720" cy="478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Volcanic ash  - “glass”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lloph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Halloy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Laterite - Sesquioxides - Hydrated oxides of iron (geothite) and aluminium (gibb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22352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3603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4827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tes on this weathering proces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19320"/>
            <a:ext cx="8664480" cy="475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Formation of allophane is conditional on non crystalline parent material (g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e weathering process involves both chemical change and leaching (solution) out of si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emoval of silica leads to concentration of iron and aluminium compounds – the sesquiox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e sesquioxides tend to act as cementing agents, leading to formation of laterite, a hard gravelly 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640" y="71280"/>
            <a:ext cx="4464000" cy="333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utline of Group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609480"/>
          <a:ext cx="8915400" cy="62438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5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Major Di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 mineralogy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Sub-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 struc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Other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 especially parent roc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Group A – no strong mineralogical infl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a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i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No struc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Group B – strong influence from “normal” clay mi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a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i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No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Group C – strong influence from unusual clay minera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a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i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No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7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0920" y="6019560"/>
            <a:ext cx="374508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rouping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6092640"/>
            <a:ext cx="6048360" cy="533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roup examples and proper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151920"/>
            <a:ext cx="6120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place of conventional classification systems</a:t>
            </a:r>
            <a:r>
              <a:rPr b="1" lang="en-US" sz="3600" spc="-1" strike="noStrike">
                <a:solidFill>
                  <a:srgbClr val="660033"/>
                </a:solidFill>
                <a:latin typeface="SimHe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6120" y="1844640"/>
            <a:ext cx="8129520" cy="437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is grouping system is not intended to be a rigorous classification system to replace exis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t is intended to identify soil groups that can be expected to have similar engineering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t should be used alongside other well established systems, in particular the Unified Soil Classification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SimHei"/>
              </a:rPr>
              <a:t>A point about the Plasticity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981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6440" y="5703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9594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position a soil occupies on the chart is a very useful indicator of likely behaviour.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-8412" t="-5075" r="-4999" b="-2591"/>
          <a:stretch/>
        </p:blipFill>
        <p:spPr>
          <a:xfrm>
            <a:off x="0" y="590400"/>
            <a:ext cx="91440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2666880" cy="2362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Methods based on weathering profile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60840" y="0"/>
            <a:ext cx="4949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36960"/>
            <a:ext cx="32004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Profile from Little (1969), based on experience with weathered gra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69840"/>
            <a:ext cx="5761080" cy="1235160"/>
          </a:xfrm>
          <a:prstGeom prst="rect">
            <a:avLst/>
          </a:prstGeom>
          <a:solidFill>
            <a:srgbClr val="ffff99">
              <a:alpha val="4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racias por su a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Note the six weathering categori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1219320"/>
            <a:ext cx="8530920" cy="454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I  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    Complete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V    High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ll    Moderately weathered (rock 80 to 9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l    Slight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    Fresh r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480360" cy="71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Limitations of this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523880"/>
            <a:ext cx="8686800" cy="442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describes the weathering profile of igneous rocks in the tropics  (Little’s inten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does not provide any comparative information between soils from one rock type and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the profile shown in the Little figure is relevant only to certain types of r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other types of rock produce different profiles.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5791320"/>
            <a:ext cx="727236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00"/>
                </a:solidFill>
                <a:latin typeface="Arial"/>
              </a:rPr>
              <a:t>Variations in weathering profile</a:t>
            </a: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-897" t="-4054" r="-2646" b="-10682"/>
          <a:stretch/>
        </p:blipFill>
        <p:spPr>
          <a:xfrm>
            <a:off x="-1440" y="0"/>
            <a:ext cx="9145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6985080" cy="496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Notes on weathering profi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9144000" cy="585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eathering of (igneous) acidic rocks produces a thick gradual transition zone, while basic rocks produce a very thin sharp transition z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ith volcanic ash or lahar layers, weathering may be greater deeper down – depending on relative age of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ith limestones, there is no transition zone. The weathering process is simply one of solution of the whole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Soil profile from highly stratified sandstone reflects the layers of the parent rock as much as the weathering influ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556760" cy="71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Use of Pedalogical Group Nam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09600"/>
            <a:ext cx="8512200" cy="4857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Various group names have been borrowed from pedalogical systems used by soil sci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y have crept in randomly - for conveni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 first and best known is probably late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 three most commonly used at present are probably </a:t>
            </a:r>
            <a:r>
              <a:rPr b="1" lang="en-AU" sz="2800" spc="-1" strike="noStrike" u="sng">
                <a:solidFill>
                  <a:srgbClr val="003300"/>
                </a:solidFill>
                <a:uFillTx/>
                <a:latin typeface="Arial"/>
              </a:rPr>
              <a:t>lateritic soil</a:t>
            </a: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, l</a:t>
            </a:r>
            <a:r>
              <a:rPr b="1" lang="en-AU" sz="2800" spc="-1" strike="noStrike" u="sng">
                <a:solidFill>
                  <a:srgbClr val="003300"/>
                </a:solidFill>
                <a:uFillTx/>
                <a:latin typeface="Arial"/>
              </a:rPr>
              <a:t>atosol</a:t>
            </a: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, and </a:t>
            </a:r>
            <a:r>
              <a:rPr b="1" lang="en-AU" sz="2800" spc="-1" strike="noStrike" u="sng">
                <a:solidFill>
                  <a:srgbClr val="003300"/>
                </a:solidFill>
                <a:uFillTx/>
                <a:latin typeface="Arial"/>
              </a:rPr>
              <a:t>black cotton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Three pedalogial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hree%20pedological%20groups" descr=""/>
          <p:cNvPicPr/>
          <p:nvPr/>
        </p:nvPicPr>
        <p:blipFill>
          <a:blip r:embed="rId1"/>
          <a:srcRect l="-1733" t="-2626" r="-2605" b="-1443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21:30:02Z</dcterms:created>
  <dc:creator>lwes010</dc:creator>
  <dc:description/>
  <dc:language>en-US</dc:language>
  <cp:lastModifiedBy>Laurie Wesley </cp:lastModifiedBy>
  <dcterms:modified xsi:type="dcterms:W3CDTF">2007-07-22T21:45:05Z</dcterms:modified>
  <cp:revision>99</cp:revision>
  <dc:subject/>
  <dc:title>GEOTECHNICAL ENGINEERING IN RESIUDAL SOILS  University of Chile, Santiago   PART 3: GROUPING &amp; CLASSIFICATION SCHEMES FOR RESIDUAL SOILS</dc:title>
</cp:coreProperties>
</file>