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4AE8-B0E2-409A-88D4-D1A45688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9292-02D8-4022-8FC2-589EB1CC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2D22-524D-425E-8D13-E1A40227C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DAA1-4F58-4E5E-A403-FB3AF54A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5B88-7F5A-4169-9246-6D96B224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3FE2-4770-4ABD-B449-89C1E73B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50A8-964A-4E4C-9853-18E3695B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8A53-D8A5-4342-92F3-12B7C352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7561-3C5E-425F-BF7D-64488D13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3346-65B8-45FD-81B2-ACB2590C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5031-738C-42A3-9C3C-F6FD3982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F5E4-E761-4529-817A-86C21D28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651B-F109-4004-9BF6-A236E4C19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GEOTECHNICAL ENGINEERING IN RESIUDAL SOILS </a:t>
            </a:r>
            <a:br>
              <a:rPr sz="4400"/>
            </a:b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University of Chile, Santiago</a:t>
            </a: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PART 2: Factors controlling the properties or soils</a:t>
            </a:r>
            <a:br>
              <a:rPr sz="4400"/>
            </a:b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(three main groups ?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990099"/>
                </a:solidFill>
                <a:latin typeface="Arial"/>
              </a:rPr>
              <a:t>SOIL GROUPING – ON WHAT BASI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685800"/>
            <a:ext cx="8129880" cy="55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Undisturbed and remould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Normally consolidated and over-consolid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Fully saturated and partially saturated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Sedimentary (transported) and residual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Perhaps the best basic grouping is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3366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(a) Sedimentary so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3366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(b) Residual soil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(c) Remoulded (or destructured) soils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25909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990099"/>
                </a:solidFill>
                <a:latin typeface="Arial"/>
              </a:rPr>
              <a:t>Factors influencing soil formation</a:t>
            </a:r>
            <a:br>
              <a:rPr sz="2800"/>
            </a:br>
            <a:r>
              <a:rPr b="1" lang="en-NZ" sz="2800" spc="-1" strike="noStrike">
                <a:solidFill>
                  <a:srgbClr val="990099"/>
                </a:solidFill>
                <a:latin typeface="Arial"/>
              </a:rPr>
              <a:t> - two factors make sedimentary soils more predictable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:</a:t>
            </a:r>
            <a:br>
              <a:rPr sz="2800"/>
            </a:br>
            <a:br>
              <a:rPr sz="2800"/>
            </a:b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(a) sorting processes </a:t>
            </a:r>
            <a:br>
              <a:rPr sz="2800"/>
            </a:br>
            <a:br>
              <a:rPr sz="2800"/>
            </a:b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(b) stress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oil%20formation%20chart" descr=""/>
          <p:cNvPicPr/>
          <p:nvPr/>
        </p:nvPicPr>
        <p:blipFill>
          <a:blip r:embed="rId1"/>
          <a:stretch/>
        </p:blipFill>
        <p:spPr>
          <a:xfrm>
            <a:off x="3355920" y="228600"/>
            <a:ext cx="57117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990099"/>
                </a:solidFill>
                <a:latin typeface="Arial"/>
              </a:rPr>
              <a:t>Soil properties are closely linked to their </a:t>
            </a:r>
            <a:r>
              <a:rPr b="1" lang="en-NZ" sz="2800" spc="-1" strike="noStrike" u="sng">
                <a:solidFill>
                  <a:srgbClr val="990099"/>
                </a:solidFill>
                <a:uFillTx/>
                <a:latin typeface="Arial"/>
              </a:rPr>
              <a:t>composition</a:t>
            </a:r>
            <a:r>
              <a:rPr b="1" lang="en-NZ" sz="2800" spc="-1" strike="noStrike">
                <a:solidFill>
                  <a:srgbClr val="990099"/>
                </a:solidFill>
                <a:latin typeface="Arial"/>
              </a:rPr>
              <a:t> and the </a:t>
            </a:r>
            <a:r>
              <a:rPr b="1" lang="en-NZ" sz="2800" spc="-1" strike="noStrike" u="sng">
                <a:solidFill>
                  <a:srgbClr val="990099"/>
                </a:solidFill>
                <a:uFillTx/>
                <a:latin typeface="Arial"/>
              </a:rPr>
              <a:t>processes</a:t>
            </a:r>
            <a:r>
              <a:rPr b="1" lang="en-NZ" sz="2800" spc="-1" strike="noStrike">
                <a:solidFill>
                  <a:srgbClr val="990099"/>
                </a:solidFill>
                <a:latin typeface="Arial"/>
              </a:rPr>
              <a:t> which formed them</a:t>
            </a:r>
            <a:r>
              <a:rPr b="0" lang="en-NZ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98560" y="2960640"/>
            <a:ext cx="7635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We need to be aware of the formation processes applicable to any particular so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2920" y="228240"/>
            <a:ext cx="6697800" cy="609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990099"/>
                </a:solidFill>
                <a:latin typeface="Arial"/>
              </a:rPr>
              <a:t>SEDIMENTARY SOILS</a:t>
            </a:r>
            <a:r>
              <a:rPr b="1" lang="en-NZ" sz="3200" spc="-1" strike="noStrike">
                <a:solidFill>
                  <a:srgbClr val="660033"/>
                </a:solidFill>
                <a:latin typeface="Arial"/>
              </a:rPr>
              <a:t>:</a:t>
            </a:r>
            <a:r>
              <a:rPr b="0" lang="en-NZ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8240" y="1219320"/>
            <a:ext cx="8624880" cy="524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The sorting process during erosion, transportation and redeposition tends to produce homogeneous soi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The loading and unloading ie “stress history” is a major influence on behavioural characteristics  - provides the basis for division into N.C. and O.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( Importance of stress history probably somewhat over-stat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Leaching, aging and hardening are equally important influen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791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Influence of aging or “hardening” on soft normally consolidated clay” (OCR = 2)</a:t>
            </a:r>
            <a:r>
              <a:rPr b="0" lang="en-NZ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Geot%20Eng%20in%20Residual%20Soils%20Fig%202.3" descr=""/>
          <p:cNvPicPr/>
          <p:nvPr/>
        </p:nvPicPr>
        <p:blipFill>
          <a:blip r:embed="rId1"/>
          <a:srcRect l="0" t="-2900" r="-5256" b="0"/>
          <a:stretch/>
        </p:blipFill>
        <p:spPr>
          <a:xfrm>
            <a:off x="228600" y="38160"/>
            <a:ext cx="891540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280" y="144360"/>
            <a:ext cx="6985080" cy="1052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RESIDUAL SOILS – IMPORTANT CHARACTERISTICS 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8000" y="1300320"/>
            <a:ext cx="8915400" cy="5364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Variability and heterogen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Structure – (a) from features of parent r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           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(b) new, from weathering proces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The soil may not be “particulate” ie not a collection of individual particl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Absence of stress history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 influ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Presence of unusual clay minera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The zone of interest to geotechnical engineers may be mainly above the water ta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990099"/>
                </a:solidFill>
                <a:latin typeface="Arial"/>
              </a:rPr>
              <a:t>Factors governing behaviour of three groups</a:t>
            </a:r>
            <a:r>
              <a:rPr b="1" lang="en-NZ" sz="24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eot%20Eng%20Fig%202" descr=""/>
          <p:cNvPicPr/>
          <p:nvPr/>
        </p:nvPicPr>
        <p:blipFill>
          <a:blip r:embed="rId1"/>
          <a:srcRect l="-3700" t="-3403" r="-7401" b="-1888"/>
          <a:stretch/>
        </p:blipFill>
        <p:spPr>
          <a:xfrm>
            <a:off x="0" y="0"/>
            <a:ext cx="914400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23640" y="380880"/>
            <a:ext cx="5327640" cy="671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0066"/>
                </a:solidFill>
                <a:latin typeface="Arial"/>
              </a:rPr>
              <a:t>REMOULDED SOILS</a:t>
            </a:r>
            <a:r>
              <a:rPr b="1" lang="en-NZ" sz="32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1600200"/>
            <a:ext cx="8839440" cy="4480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1" lang="en-NZ" sz="3200" spc="-1" strike="noStrike">
                <a:solidFill>
                  <a:srgbClr val="008000"/>
                </a:solidFill>
                <a:latin typeface="Arial"/>
              </a:rPr>
              <a:t>The term “de-structured” soils is sometimes preferred for these soi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8000"/>
                </a:solidFill>
                <a:latin typeface="Arial"/>
              </a:rPr>
              <a:t>Includes soils prepared by sedimentation from an artificial soil slurry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NZ" sz="3200" spc="-1" strike="noStrike">
                <a:solidFill>
                  <a:srgbClr val="008000"/>
                </a:solidFill>
                <a:latin typeface="Arial"/>
              </a:rPr>
              <a:t>While generally free of structure, some compaction processes my create minor structural characteristics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.</a:t>
            </a:r>
            <a:r>
              <a:rPr b="0" lang="en-NZ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30T22:57:20Z</dcterms:created>
  <dc:creator>lwes010</dc:creator>
  <dc:description/>
  <dc:language>en-US</dc:language>
  <cp:lastModifiedBy>Laurie Wesley </cp:lastModifiedBy>
  <dcterms:modified xsi:type="dcterms:W3CDTF">2007-07-21T22:08:05Z</dcterms:modified>
  <cp:revision>39</cp:revision>
  <dc:subject/>
  <dc:title>GEOTECHNICAL ENGINEERING IN RESIUDAL SOILS  University of Chile, Santiago   PART 2: Factors controlling the properties or soils (three main groups)</dc:title>
</cp:coreProperties>
</file>