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626-7979-4A2E-A262-DA2E4E9B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588-08AF-4829-95E5-D0003C38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0D0-1CFD-45B0-85A7-EB2B9A19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2CE-FA67-427E-8694-6187BC53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B78-46E9-44B7-8017-B72254CA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512-BA2D-4C4B-9446-1643F634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2D5-54CE-476D-83D2-5691BBFD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8F79-E861-4B75-B4AB-75BE72AD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5EC-FFC1-45E8-9438-7B0982FF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1B39-5D80-4693-A1F2-958E605E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EC5-F897-44A6-B8D6-F4FF430B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FF7E-E6F3-4DF6-BFB2-3F779215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C847-0532-4AF8-8FEA-441E30CB1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GEOTECHNICAL ENGINEERING IN RESIUDAL SOILS </a:t>
            </a:r>
            <a:br>
              <a:rPr sz="3600"/>
            </a:b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University of Chile, Santiago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ART 1: WEATHERING PROCESSES AND SOIL FORM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358128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EATHERING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87640" y="0"/>
            <a:ext cx="49514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2286000"/>
            <a:ext cx="3352680" cy="393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- Little (1969) based on granit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- not always valid for other so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5134" t="7439" r="10153" b="0"/>
          <a:stretch/>
        </p:blipFill>
        <p:spPr>
          <a:xfrm>
            <a:off x="0" y="1116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267080" y="228600"/>
            <a:ext cx="4572000" cy="1191240"/>
          </a:xfrm>
          <a:prstGeom prst="rect">
            <a:avLst/>
          </a:prstGeom>
          <a:solidFill>
            <a:srgbClr val="cc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Volcanic ash layers – deeper layers can be more weathered than shallow layers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0000" y="228240"/>
            <a:ext cx="4032360" cy="6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SAPROLITE”</a:t>
            </a: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040" y="1143000"/>
            <a:ext cx="8550360" cy="5425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Term used for “intermediate” material, - satisfying following criter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geotechnically it is a 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xhibits clear inherited structural features from parent r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genuinely residual, ie it forms part of the weathered profile from parent ro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557280"/>
            <a:ext cx="91440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alphaModFix amt="74000"/>
          </a:blip>
          <a:srcRect l="-1630" t="-1092" r="-3100" b="-1092"/>
          <a:stretch/>
        </p:blipFill>
        <p:spPr>
          <a:xfrm>
            <a:off x="2124000" y="44280"/>
            <a:ext cx="6985080" cy="676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21240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idual and sedimentary soil formation – very different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274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Cliff exposure – weathered sandstone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0" r="0" b="3324"/>
          <a:stretch/>
        </p:blipFill>
        <p:spPr>
          <a:xfrm>
            <a:off x="4267080" y="0"/>
            <a:ext cx="52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225360"/>
            <a:ext cx="8991720" cy="61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0033"/>
                </a:solidFill>
                <a:latin typeface="Arial"/>
              </a:rPr>
              <a:t>SOIL MECHANICS, SEDIMENT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0033"/>
                </a:solidFill>
                <a:latin typeface="Arial"/>
              </a:rPr>
              <a:t>SOILS, AND RESIDUAL SOILS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Soil mechanics grew up in Northern Europe and America, from the study of sedimentary soi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Behavioural framework or “theoretical basis” of soil mechanics is based almost entirely on the properties  of sedimentary soi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Textbooks and geotechnical engineering courses deal almost exclusively with sedimentary soi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AU" sz="2800" spc="-1" strike="noStrike">
                <a:solidFill>
                  <a:srgbClr val="336600"/>
                </a:solidFill>
                <a:latin typeface="Arial"/>
              </a:rPr>
              <a:t>(even in countries with predominant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                 </a:t>
            </a:r>
            <a:r>
              <a:rPr b="1" lang="en-AU" sz="2800" spc="-1" strike="noStrike">
                <a:solidFill>
                  <a:srgbClr val="336600"/>
                </a:solidFill>
                <a:latin typeface="Arial"/>
              </a:rPr>
              <a:t>residual soil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-7920"/>
            <a:ext cx="7391520" cy="6804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Weathered volcanic 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4904" t="4674" r="5772" b="346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2320" y="5486400"/>
            <a:ext cx="40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Weathered Sch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4070" r="0" b="8110"/>
          <a:stretch/>
        </p:blipFill>
        <p:spPr>
          <a:xfrm>
            <a:off x="2540160" y="0"/>
            <a:ext cx="66038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280" y="1849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eathered sand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52280"/>
            <a:ext cx="6840720" cy="82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EATHERING PROCE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523880"/>
            <a:ext cx="784836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hysical – reduces particle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Chemical – alters chemical com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Solution and leaching – removes some material and leaves other material intact.</a:t>
            </a: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4922" t="7512" r="5347" b="15000"/>
          <a:stretch/>
        </p:blipFill>
        <p:spPr>
          <a:xfrm>
            <a:off x="372420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048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eathered sandstone aga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5565" t="3750" r="7304" b="0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744800" y="5835600"/>
            <a:ext cx="42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Weathered Gran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920" y="1915920"/>
            <a:ext cx="6337440" cy="237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IN</a:t>
            </a:r>
            <a:br>
              <a:rPr sz="4400"/>
            </a:b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racias por su atenc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1640" y="609480"/>
            <a:ext cx="6553080" cy="803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PHYSICAL WEATH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080" y="2073240"/>
            <a:ext cx="8474040" cy="301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rosion – by glaciers, water, o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Disintegration – by wetting and drying, or by freezing and thawing (also by tectonic movement, creating cracks &amp; joints) – followed by ero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3048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Beach sand – physical weather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note sand grains are normally </a:t>
            </a:r>
            <a:r>
              <a:rPr b="1" lang="en-US" sz="2400" spc="-1" strike="noStrike" u="sng">
                <a:solidFill>
                  <a:srgbClr val="336600"/>
                </a:solidFill>
                <a:uFillTx/>
                <a:latin typeface="Arial"/>
              </a:rPr>
              <a:t>singl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rock minerals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27586" t="0" r="0" b="0"/>
          <a:stretch/>
        </p:blipFill>
        <p:spPr>
          <a:xfrm>
            <a:off x="3903840" y="0"/>
            <a:ext cx="524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8720" cy="6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HEMICAL WEATH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066680"/>
            <a:ext cx="8763120" cy="557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omplex chemical processes convert rock minerals to clay min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lay minerals – normally crystalline, platy            </a:t>
            </a:r>
            <a:r>
              <a:rPr b="1" lang="en-US" sz="3200" spc="-1" strike="noStrike">
                <a:solidFill>
                  <a:srgbClr val="0033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0.002mm (kaolinite, illite, montmorillinit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parent rock, drainage condition, acidic/alkaline nature of groundwater govern clay mineral 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allophane/immogolite &amp; halloysite important in volcanic are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129440" cy="725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SOLUTION AND LE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5760" y="1176480"/>
            <a:ext cx="8778960" cy="527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solution of material from rock means reduction in density – creation of voids containing wat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with sedimentary rocks, weathering may mean solution of “bonds” between particles, and release of clay minerals “locked” in the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limestone is a special case – no actual weathering  - only complete sol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volcanic ash also a special case – weathering not necessarily from top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NOTE CLIMATE INFLUENCE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13080"/>
            <a:ext cx="7772400" cy="3031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 cold climates physical weathering predomi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 warm, especially tropical climates, chemical weathering predom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3520"/>
            <a:ext cx="2514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eathered granite – soil or rock? Saprolite?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52800" y="0"/>
            <a:ext cx="6051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648036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INFLUENCE OF TOP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-865" t="-4994" r="-865" b="-8324"/>
          <a:stretch/>
        </p:blipFill>
        <p:spPr>
          <a:xfrm>
            <a:off x="0" y="1498680"/>
            <a:ext cx="91440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20:27:47Z</dcterms:created>
  <dc:creator>Laurie Wesley </dc:creator>
  <dc:description/>
  <dc:language>en-US</dc:language>
  <cp:lastModifiedBy>Laurie Wesley </cp:lastModifiedBy>
  <dcterms:modified xsi:type="dcterms:W3CDTF">2007-07-25T14:26:05Z</dcterms:modified>
  <cp:revision>65</cp:revision>
  <dc:subject/>
  <dc:title>GEOTECHNICAL ENGINEERING IN RESIUDAL SOILS  University of Chile, Santiago   PART 1: WEATHERING PROCESSES AND SOIL FORMATION </dc:title>
</cp:coreProperties>
</file>