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C9BC-2463-4C2F-AAF8-0C041A4DC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5F97-5BF8-48A7-8170-F92FFA83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5B24-CB33-4033-B2E3-26EFA2E7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D9DB-10F4-4AB2-96DC-176A3D8AD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5CE6-08D7-4218-801D-DAC9A0FA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29FE-0CB3-4B23-AA1E-AEB32873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C177-C614-4339-AC08-E2E639B5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CACD-95D3-4991-BC0E-4376E12E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FE7B-BBA6-4EE0-982F-FC922999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09CB-A9B1-492C-BCD9-4E1707ED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3E52-18EE-40CE-8676-BCFCDB74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F24E-11CD-432E-BBF0-CDA6868A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8AF4-4AEC-455D-ADAF-409F75A2C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GEOTECHNICAL ENGINEERING IN RESIUDAL SOILS </a:t>
            </a:r>
            <a:br>
              <a:rPr sz="3600"/>
            </a:b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University of Chile, Santiago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PART 1: WEATHERING PROCESSES AND SOIL FORM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3581280" cy="1295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WEATHERING 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87640" y="0"/>
            <a:ext cx="495144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4920" y="2286000"/>
            <a:ext cx="3352680" cy="3934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- Little (1969) based on granite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- not always valid for other soi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5134" t="7439" r="10153" b="0"/>
          <a:stretch/>
        </p:blipFill>
        <p:spPr>
          <a:xfrm>
            <a:off x="0" y="1116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267080" y="228600"/>
            <a:ext cx="4572000" cy="1191240"/>
          </a:xfrm>
          <a:prstGeom prst="rect">
            <a:avLst/>
          </a:prstGeom>
          <a:solidFill>
            <a:srgbClr val="ccffc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Volcanic ash layers – deeper layers can be more weathered than shallow layers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0000" y="228240"/>
            <a:ext cx="4032360" cy="685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SAPROLITE”</a:t>
            </a:r>
            <a:r>
              <a:rPr b="0" lang="en-US" sz="3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5040" y="1143000"/>
            <a:ext cx="8550360" cy="5425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Term used for “intermediate” material, - satisfying following criter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geotechnically it is a s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exhibits clear inherited structural features from parent r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genuinely residual, ie it forms part of the weathered profile from parent roc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557280"/>
            <a:ext cx="914400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>
            <a:alphaModFix amt="74000"/>
          </a:blip>
          <a:srcRect l="-1630" t="-1092" r="-3100" b="-1092"/>
          <a:stretch/>
        </p:blipFill>
        <p:spPr>
          <a:xfrm>
            <a:off x="2124000" y="44280"/>
            <a:ext cx="6985080" cy="6769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21240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idual and sedimentary soil formation – very different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2743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Cliff exposure – weathered sandstone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0" t="0" r="0" b="3324"/>
          <a:stretch/>
        </p:blipFill>
        <p:spPr>
          <a:xfrm>
            <a:off x="4267080" y="0"/>
            <a:ext cx="5210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280" y="225360"/>
            <a:ext cx="8991720" cy="61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0033"/>
                </a:solidFill>
                <a:latin typeface="Arial"/>
              </a:rPr>
              <a:t>SOIL MECHANICS, SEDIMENT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0033"/>
                </a:solidFill>
                <a:latin typeface="Arial"/>
              </a:rPr>
              <a:t>SOILS, AND RESIDUAL SOILS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Soil mechanics grew up in Northern Europe and America, from the study of sedimentary soi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Behavioural framework or “theoretical basis” of soil mechanics is based almost entirely on the properties  of sedimentary soi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Textbooks and geotechnical engineering courses deal almost exclusively with sedimentary soi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en-AU" sz="2800" spc="-1" strike="noStrike">
                <a:solidFill>
                  <a:srgbClr val="336600"/>
                </a:solidFill>
                <a:latin typeface="Arial"/>
              </a:rPr>
              <a:t>(even in countries with predominant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                    </a:t>
            </a:r>
            <a:r>
              <a:rPr b="1" lang="en-AU" sz="2800" spc="-1" strike="noStrike">
                <a:solidFill>
                  <a:srgbClr val="336600"/>
                </a:solidFill>
                <a:latin typeface="Arial"/>
              </a:rPr>
              <a:t>residual soil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-7920"/>
            <a:ext cx="7391520" cy="6804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0033"/>
                </a:solidFill>
                <a:latin typeface="Arial"/>
              </a:rPr>
              <a:t>Weathered volcanic 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4904" t="4674" r="5772" b="346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82320" y="5486400"/>
            <a:ext cx="401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Weathered Sch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4070" r="0" b="8110"/>
          <a:stretch/>
        </p:blipFill>
        <p:spPr>
          <a:xfrm>
            <a:off x="2540160" y="0"/>
            <a:ext cx="66038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2280" y="184932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Weathered sand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52280"/>
            <a:ext cx="6840720" cy="828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EATHERING PROCES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523880"/>
            <a:ext cx="7848360" cy="448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Physical – reduces particle siz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Chemical – alters chemical com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Solution and leaching – removes some material and leaves other material intact.</a:t>
            </a:r>
            <a:r>
              <a:rPr b="0" lang="en-US" sz="36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4922" t="7512" r="5347" b="15000"/>
          <a:stretch/>
        </p:blipFill>
        <p:spPr>
          <a:xfrm>
            <a:off x="3724200" y="0"/>
            <a:ext cx="54198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3048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Weathered sandstone agai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5565" t="3750" r="7304" b="0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744800" y="5835600"/>
            <a:ext cx="424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Weathered Gran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8920" y="1915920"/>
            <a:ext cx="6337440" cy="2376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IN</a:t>
            </a:r>
            <a:br>
              <a:rPr sz="4400"/>
            </a:br>
            <a:br>
              <a:rPr sz="32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Gracias por su atenc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31640" y="609480"/>
            <a:ext cx="6553080" cy="803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PHYSICAL WEATH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9080" y="2073240"/>
            <a:ext cx="8474040" cy="301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Erosion – by glaciers, water, or w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Disintegration – by wetting and drying, or by freezing and thawing (also by tectonic movement, creating cracks &amp; joints) – followed by ero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3048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Beach sand – physical weathering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note sand grains are normally </a:t>
            </a:r>
            <a:r>
              <a:rPr b="1" lang="en-US" sz="2400" spc="-1" strike="noStrike" u="sng">
                <a:solidFill>
                  <a:srgbClr val="336600"/>
                </a:solidFill>
                <a:uFillTx/>
                <a:latin typeface="Arial"/>
              </a:rPr>
              <a:t>single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rock minerals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27586" t="0" r="0" b="0"/>
          <a:stretch/>
        </p:blipFill>
        <p:spPr>
          <a:xfrm>
            <a:off x="3903840" y="0"/>
            <a:ext cx="524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408720" cy="654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HEMICAL WEATH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066680"/>
            <a:ext cx="8763120" cy="557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complex chemical processes convert rock minerals to clay min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clay minerals – normally crystalline, platy            </a:t>
            </a:r>
            <a:r>
              <a:rPr b="1" lang="en-US" sz="3200" spc="-1" strike="noStrike">
                <a:solidFill>
                  <a:srgbClr val="0033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 0.002mm (kaolinite, illite, montmorillinite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parent rock, drainage condition, acidic/alkaline nature of groundwater govern clay mineral 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allophane/immogolite &amp; halloysite important in volcanic are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129440" cy="725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SOLUTION AND LEAC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5760" y="1176480"/>
            <a:ext cx="8778960" cy="5274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solution of material from rock means reduction in density – creation of voids containing wat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with sedimentary rocks, weathering may mean solution of “bonds” between particles, and release of clay minerals “locked” in the r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limestone is a special case – no actual weathering  - only complete solu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volcanic ash also a special case – weathering not necessarily from top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47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NOTE CLIMATE INFLUENCE</a:t>
            </a: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413080"/>
            <a:ext cx="7772400" cy="3031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In cold climates physical weathering predomin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In warm, especially tropical climates, chemical weathering predomin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523520"/>
            <a:ext cx="2514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Weathered granite – soil or rock? Saprolite?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52800" y="0"/>
            <a:ext cx="60516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404640"/>
            <a:ext cx="6480360" cy="720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INFLUENCE OF TOP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-865" t="-4994" r="-865" b="-8324"/>
          <a:stretch/>
        </p:blipFill>
        <p:spPr>
          <a:xfrm>
            <a:off x="0" y="1498680"/>
            <a:ext cx="914400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20:27:47Z</dcterms:created>
  <dc:creator>Laurie Wesley </dc:creator>
  <dc:description/>
  <dc:language>en-US</dc:language>
  <cp:lastModifiedBy>Laurie Wesley </cp:lastModifiedBy>
  <dcterms:modified xsi:type="dcterms:W3CDTF">2007-07-25T14:26:05Z</dcterms:modified>
  <cp:revision>65</cp:revision>
  <dc:subject/>
  <dc:title>GEOTECHNICAL ENGINEERING IN RESIUDAL SOILS  University of Chile, Santiago   PART 1: WEATHERING PROCESSES AND SOIL FORMATION </dc:title>
</cp:coreProperties>
</file>