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71BA-76C6-472E-87D5-B29AC7931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86AC-7933-458C-A11D-96963E1E9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EBCB-B9B2-49DA-BA30-C6C34685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C9BD-EE92-4B73-9797-1B0BE6216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E62A-2D5D-4EF0-BC7E-4A05D9E40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B9C2-FA34-4F5B-B05E-758E945AA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0ECB-4309-49EF-824A-05620A9C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1C7-9D65-46BD-A7C9-E3D68B08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6F49-83DE-4D02-9087-7CA52C679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DA85-994D-41C3-ADF1-34D0A5CDE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10AD-6EDD-46D0-AA52-A63FED5F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23BD-113B-49FE-B0E6-104E927D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12E2A-C47E-439A-9F5F-3E8D99BF1A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7924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GEOTECHNICAL ENGINEERING IN RESIUDAL SOILS </a:t>
            </a:r>
            <a:br>
              <a:rPr sz="3600"/>
            </a:br>
            <a:r>
              <a:rPr b="1" lang="en-US" sz="3600" spc="-1" strike="noStrike">
                <a:solidFill>
                  <a:srgbClr val="990099"/>
                </a:solidFill>
                <a:latin typeface="Arial"/>
              </a:rPr>
              <a:t>University of Chile, Santiago 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ART 1: WEATHERING PROCESSES AND SOIL FORMATIO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3581280" cy="1295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ING PRO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887640" y="0"/>
            <a:ext cx="495144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4920" y="2286000"/>
            <a:ext cx="3352680" cy="3934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- Little (1969) based on granite</a:t>
            </a:r>
            <a:br>
              <a:rPr sz="3600"/>
            </a:br>
            <a:br>
              <a:rPr sz="3600"/>
            </a:br>
            <a:r>
              <a:rPr b="1" lang="en-US" sz="3600" spc="-1" strike="noStrike">
                <a:solidFill>
                  <a:srgbClr val="336600"/>
                </a:solidFill>
                <a:latin typeface="Arial"/>
              </a:rPr>
              <a:t>- not always valid for other soi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rcRect l="5134" t="7439" r="10153" b="0"/>
          <a:stretch/>
        </p:blipFill>
        <p:spPr>
          <a:xfrm>
            <a:off x="0" y="11160"/>
            <a:ext cx="9144000" cy="6824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267080" y="228600"/>
            <a:ext cx="4572000" cy="1191240"/>
          </a:xfrm>
          <a:prstGeom prst="rect">
            <a:avLst/>
          </a:prstGeom>
          <a:solidFill>
            <a:srgbClr val="ccffcc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Volcanic ash layers – deeper layers can be more weathered than shallow layer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.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00000" y="228240"/>
            <a:ext cx="403236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“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APROLITE”</a:t>
            </a:r>
            <a:r>
              <a:rPr b="0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65040" y="1143000"/>
            <a:ext cx="8550360" cy="5425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Term used for “intermediate” material, - satisfying following crite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eotechnically it is a so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xhibits clear inherited structural features from parent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genuinely residual, ie it forms part of the weathered profile from parent roc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557280"/>
            <a:ext cx="9144000" cy="54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>
            <a:alphaModFix amt="74000"/>
          </a:blip>
          <a:srcRect l="-1630" t="-1092" r="-3100" b="-1092"/>
          <a:stretch/>
        </p:blipFill>
        <p:spPr>
          <a:xfrm>
            <a:off x="2124000" y="44280"/>
            <a:ext cx="6985080" cy="676944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1915920"/>
            <a:ext cx="212400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sidual and sedimentary soil formation – very different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2743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Cliff exposure – weathered sandstone</a:t>
            </a:r>
            <a:r>
              <a:rPr b="0" lang="en-US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rcRect l="0" t="0" r="0" b="3324"/>
          <a:stretch/>
        </p:blipFill>
        <p:spPr>
          <a:xfrm>
            <a:off x="4267080" y="0"/>
            <a:ext cx="5210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52280" y="225360"/>
            <a:ext cx="8991720" cy="616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0033"/>
                </a:solidFill>
                <a:latin typeface="Arial"/>
              </a:rPr>
              <a:t>SOIL MECHANICS, SEDIMENTA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660033"/>
                </a:solidFill>
                <a:latin typeface="Arial"/>
              </a:rPr>
              <a:t>SOILS, AND RESIDUAL SOILS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Soil mechanics grew up in Northern Europe and America, from the study of sedimentary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Behavioural framework or “theoretical basis” of soil mechanics is based almost entirely on the properties  of sedimentary soil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extbooks and geotechnical engineering courses deal almost exclusively with sedimentary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(even in countries with predominantl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                     </a:t>
            </a:r>
            <a:r>
              <a:rPr b="1" lang="en-AU" sz="2800" spc="-1" strike="noStrike">
                <a:solidFill>
                  <a:srgbClr val="336600"/>
                </a:solidFill>
                <a:latin typeface="Arial"/>
              </a:rPr>
              <a:t>residual soils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38080" y="-7920"/>
            <a:ext cx="7391520" cy="6804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62120" y="1599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33"/>
                </a:solidFill>
                <a:latin typeface="Arial"/>
              </a:rPr>
              <a:t>Weathered volcanic as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rcRect l="4904" t="4674" r="5772" b="346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82320" y="548640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ed Sch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4070" r="0" b="8110"/>
          <a:stretch/>
        </p:blipFill>
        <p:spPr>
          <a:xfrm>
            <a:off x="2540160" y="0"/>
            <a:ext cx="66038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2280" y="1849320"/>
            <a:ext cx="2133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sandst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87280" y="152280"/>
            <a:ext cx="6840720" cy="828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Arial"/>
              </a:rPr>
              <a:t>WEATHERING 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3520" y="1523880"/>
            <a:ext cx="7848360" cy="4483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Physical – reduces particle siz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Chemical – alters chemical compos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Solution and leaching – removes some material and leaves other material intact.</a:t>
            </a:r>
            <a:r>
              <a:rPr b="0" lang="en-US" sz="36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rcRect l="4922" t="7512" r="5347" b="15000"/>
          <a:stretch/>
        </p:blipFill>
        <p:spPr>
          <a:xfrm>
            <a:off x="3724200" y="0"/>
            <a:ext cx="54198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30481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sandstone again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5565" t="3750" r="7304" b="0"/>
          <a:stretch/>
        </p:blipFill>
        <p:spPr>
          <a:xfrm>
            <a:off x="0" y="1908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744800" y="5835600"/>
            <a:ext cx="424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Weathered Gran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58920" y="1915920"/>
            <a:ext cx="6337440" cy="2376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FIN</a:t>
            </a:r>
            <a:br>
              <a:rPr sz="4400"/>
            </a:b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Gracias por su atenc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31640" y="609480"/>
            <a:ext cx="6553080" cy="803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PHYSICAL WE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89080" y="2073240"/>
            <a:ext cx="8474040" cy="3018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Erosion – by glaciers, water, or w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33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Disintegration – by wetting and drying, or by freezing and thawing (also by tectonic movement, creating cracks &amp; joints) – followed by eros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3048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Beach sand – physical weathering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note sand grains are normally </a:t>
            </a:r>
            <a:r>
              <a:rPr b="1" lang="en-US" sz="2400" spc="-1" strike="noStrike" u="sng">
                <a:solidFill>
                  <a:srgbClr val="336600"/>
                </a:solidFill>
                <a:uFillTx/>
                <a:latin typeface="Arial"/>
              </a:rPr>
              <a:t>singl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rock minerals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27586" t="0" r="0" b="0"/>
          <a:stretch/>
        </p:blipFill>
        <p:spPr>
          <a:xfrm>
            <a:off x="3903840" y="0"/>
            <a:ext cx="5240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259920"/>
            <a:ext cx="6408720" cy="654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CHEMICAL WEATHE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1066680"/>
            <a:ext cx="8763120" cy="5577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omplex chemical processes convert rock minerals to clay miner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clay minerals – normally crystalline, platy            </a:t>
            </a:r>
            <a:r>
              <a:rPr b="1" lang="en-US" sz="3200" spc="-1" strike="noStrike">
                <a:solidFill>
                  <a:srgbClr val="003300"/>
                </a:solidFill>
                <a:latin typeface="Symbol"/>
                <a:ea typeface="Symbol"/>
              </a:rPr>
              <a:t>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0.002mm (kaolinite, illite, montmorillinite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parent rock, drainage condition, acidic/alkaline nature of groundwater govern clay mineral form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allophane/immogolite &amp; halloysite important in volcanic area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129440" cy="7254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SOLUTION AND LEACH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85760" y="1176480"/>
            <a:ext cx="8778960" cy="527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solution of material from rock means reduction in density – creation of voids containing water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with sedimentary rocks, weathering may mean solution of “bonds” between particles, and release of clay minerals “locked” in the r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limestone is a special case – no actual weathering  - only complete solu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3300"/>
                </a:solidFill>
                <a:latin typeface="Arial"/>
              </a:rPr>
              <a:t>volcanic ash also a special case – weathering not necessarily from top 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7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NOTE CLIMATE INFLUENCE</a:t>
            </a:r>
            <a:r>
              <a:rPr b="1" lang="en-US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2413080"/>
            <a:ext cx="7772400" cy="3031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cold climates physical weathering predomin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In warm, especially tropical climates, chemical weathering predomin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1523520"/>
            <a:ext cx="25146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Weathered granite – soil or rock? Saprolite?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52800" y="0"/>
            <a:ext cx="605160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000" y="404640"/>
            <a:ext cx="6480360" cy="720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INFLUENCE OF TOP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rcRect l="-865" t="-4994" r="-865" b="-8324"/>
          <a:stretch/>
        </p:blipFill>
        <p:spPr>
          <a:xfrm>
            <a:off x="0" y="1498680"/>
            <a:ext cx="9144000" cy="53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9T20:27:47Z</dcterms:created>
  <dc:creator>Laurie Wesley </dc:creator>
  <dc:description/>
  <dc:language>en-US</dc:language>
  <cp:lastModifiedBy>Laurie Wesley </cp:lastModifiedBy>
  <dcterms:modified xsi:type="dcterms:W3CDTF">2007-07-25T14:26:05Z</dcterms:modified>
  <cp:revision>65</cp:revision>
  <dc:subject/>
  <dc:title>GEOTECHNICAL ENGINEERING IN RESIUDAL SOILS  University of Chile, Santiago   PART 1: WEATHERING PROCESSES AND SOIL FORMATION </dc:title>
</cp:coreProperties>
</file>