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6ED1-B2A8-4107-84D1-1D08313F7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5994-CE36-4FAA-A5E9-01694D24B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5B2C-2B81-49CB-B789-FC1B1B3F5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63A3-507C-43FC-9992-C06375443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BC2A-5EAD-4725-A2E3-00AF39D20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7647-7712-4633-B4AF-A21648AA9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8446-AEB5-45E3-A1A4-3F878AC10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C53C-01C5-4A91-BBA0-CEA66D4E0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0948-4ADF-4051-8910-E4747CEA1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E32B-27BB-4F4A-93C1-87CC1EE6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825A-31F2-417B-BE48-019A28F7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26E3-DA90-4B82-9E67-658D3BF1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1E845-7CAF-4AC8-9C89-48CE2BB9A24F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468520" y="5530680"/>
            <a:ext cx="719280" cy="885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00800" y="5776920"/>
            <a:ext cx="519120" cy="603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0400" y="5867280"/>
            <a:ext cx="301788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6553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I61Q/CI71M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RINCIPIOS DE REMEDIACION Y RESTAU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304812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STEMA DE REMEDIACION PARA SUELO CONTAMINADO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720" y="3049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61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2362320"/>
            <a:ext cx="7467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0000"/>
                </a:solidFill>
                <a:latin typeface="Arial"/>
              </a:rPr>
              <a:t>INTRODUC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REACCIONES DE PRIMER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DE SEGUNDO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SIMPLES EN SER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BIOCHLOR DECISION SUPPORT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nética de reaccion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uede ser definida como el estudio del efecto de la temperatura, presión, y concentración sobre la tasa a la cual se desarrolla una reacción químic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asa de reac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es un término usado para describir la tasa de formación o desaparición de una sustancia (o especies químicas)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reacciones generalmente resultan en la pérdida de un reactante y la ganancia o formación de un producto. En forma esquemática se puede escribir lo sigui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tasa a la cual ocurre esta reacción, r, tiene unidades de concentración por tiempo, es decir, M/L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505320" y="4114800"/>
                <a:ext cx="214128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actante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product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23:16:03Z</dcterms:created>
  <dc:creator>Compaq</dc:creator>
  <dc:description/>
  <dc:language>en-US</dc:language>
  <cp:lastModifiedBy>Carlos Espinoza</cp:lastModifiedBy>
  <cp:lastPrinted>2002-03-07T00:28:35Z</cp:lastPrinted>
  <dcterms:modified xsi:type="dcterms:W3CDTF">2005-07-29T20:54:28Z</dcterms:modified>
  <cp:revision>49</cp:revision>
  <dc:subject/>
  <dc:title>Sin título de diapositiva</dc:title>
</cp:coreProperties>
</file>