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513-4D19-459A-B2E1-48C8B603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4C0-C679-49E7-95B2-489230AD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D8E-4287-4951-B391-F3BA1AFB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7AB-8A4A-40B0-8B5B-68F2D581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3F9-21D1-4048-981B-AB7AE2A5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753-D07A-400B-84D5-0958D62E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CF9-C3F6-4706-B556-FB05B7E7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9A4-62B9-46D5-A466-4DFE34C1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03F-963C-4B54-8EAC-8BC04075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3A4-BEB6-4277-AA73-330E1085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772-5C0F-43EA-93F1-2C029B75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4DAB-7223-4213-9664-24027F6C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AB9F-9F48-4E0D-AB58-9170AA0A5AD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MODELO SACRAMENTO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Representa las características de humedad del suelo tal qu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Humedad aplicada se distribuye en una manera físicamente realista en las distintas zonas y estados de energía de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Se mantienen las características racionales de la percolación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La escorrentía se simula ef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952880"/>
            <a:ext cx="8153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delo ideal para la simulación de cuencas grandes (&gt;1000 km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p (evaporación potencia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pende principalmente del balance neto de radiación en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ede estimarse de la evaporación de bande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étodo de Thornthwaite (1948)…basado en temperatura observada del aire y  duración de horas de s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3818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quem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838080" y="614520"/>
            <a:ext cx="9982080" cy="6243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1160"/>
            <a:ext cx="861048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XADJ factor ajuste Precipi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ADJ factor ajus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deman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M)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libr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K Frac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iaria de tasa de salida de agua libre en zona si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TIM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mínim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onal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IV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vege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Riparian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PERC coefici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i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XP expon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q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11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S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suplement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P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prim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SK Fracción 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uplement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ia de salid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PK Fracción d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prim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FREE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que va directamente a la zona baja de almacenamiento de 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SERV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libre en zona baja que no es transferible a agua en tensión en la zona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ID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ociente de recarga subterránea al flujo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T ET deman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d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(mm/da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 factor ajuste P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el dí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6th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cada mes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609480"/>
            <a:ext cx="8458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el áre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S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suplementaria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P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primaria en Zona 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urva de Perco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4124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tasa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inua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d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fun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 la capacidad de zona baja y de las tasas de salida de esa zo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BASE = LZFSM • LZSK + LZFPM • LZP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PE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número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BASE un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es que debe agregarse a la tasa de percolación continua para definie la tasa máxima de 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X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xponen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 qu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urvatu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curva d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cambi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deficiencia de humedad del suelo en la zona Inferio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28600"/>
            <a:ext cx="5715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aracte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tic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ibr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justando flujo base, capacidad de  agua en tensión y parámetros de simulación de escorrent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a estimaciones puntuales o espaciales de precipitaciones históricas, temperatura, y evaporación poten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962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p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acterísticas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609480"/>
            <a:ext cx="838188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 de los Parámetros de humedad de suelo en la Respuest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el volumen cambia pero no se ve afectada la relación entre los componentes de la escorrentía de las zonas no imperme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TWM, LZTWM, ET (curva de demanda), PE (Curva de ajus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cambia la relación relativa de escorrentía entre las diversas componentes no impermeables ; siempre causa desfases temporales y en algunos casos cambios de volumen signifi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FWM, LZFPM, LZFSM, UZK, LZPK, LZSK, ZPERC, R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perficies Impermeabl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CTIM, AD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erando estos parámetros se determina cuánto de la lluvia + derretimiento va directamente a la salida; ambos tienen un volumen y el efecto de la sincronización, aunque PCTIM afecta principalmente el volumen, y ADIMP afecta sobre todo la sincr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olumen de Flujo Bas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DE, RIVA, PF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terar estos parámetros cambia sobre todo la cantidad de volumen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flujo Bas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ientras que teniendo poco o nada de efecto en otros componentes de la sal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s Menor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tiene poco efecto en la respuesta del 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8458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transpi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: Evapotranspiración de la superficie de suelo cuando no hay limitaciones en la humedad del suelo (tension water at capa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ración Potential : Evaporación de las superficies de agua libre (lagos, pastos húmedo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 Curva de ajuste: curva estacional que refleja el tipo y actividad de la vege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 = PE * PE Aju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85800"/>
            <a:ext cx="9144000" cy="5526000"/>
            <a:chOff x="0" y="685800"/>
            <a:chExt cx="9144000" cy="5526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rcRect l="0" t="19419" r="0" b="0"/>
            <a:stretch/>
          </p:blipFill>
          <p:spPr>
            <a:xfrm>
              <a:off x="0" y="685800"/>
              <a:ext cx="9144000" cy="55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23880" y="1828800"/>
              <a:ext cx="198144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MODELO SAC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3886200"/>
            <a:ext cx="990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VAP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579132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15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da cuenca está representada verticalmente por 2 zo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superior (capacidad de almacenamiento de corto plaz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inferior (humedad de suelo y almacenamiento subterrán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182600"/>
            <a:ext cx="8153280" cy="521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80880"/>
            <a:ext cx="83055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mponent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Sac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ns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adherida a la partícul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ólo removida por 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libre de moverse bajo efecto de fuerzas gravitacionales, E, PP, flujo horizo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lujo Super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vapotranspir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E)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Vertical (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P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5410080"/>
                <a:ext cx="4686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10552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neto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92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715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990720"/>
            <a:ext cx="6858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Tensión y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8088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(t) consis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lujo superfici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(t) y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flujo subsuperficial  (flujo base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(t)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  R(t) = S(t) + B(t).    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max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es una medida de la capacidad de los suelos de contener agua (m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9297" t="0" r="28067" b="0"/>
          <a:stretch/>
        </p:blipFill>
        <p:spPr>
          <a:xfrm>
            <a:off x="1981080" y="3625920"/>
            <a:ext cx="3814920" cy="262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(t) flujo subterrá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(t) se estima como s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Ep = evapotranspiración potencial en mm/mes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16861" t="0" r="29219" b="19900"/>
          <a:stretch/>
        </p:blipFill>
        <p:spPr>
          <a:xfrm>
            <a:off x="2057400" y="1371600"/>
            <a:ext cx="541008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465800"/>
                <a:ext cx="350532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01:50:32Z</dcterms:created>
  <dc:creator>GOG</dc:creator>
  <dc:description/>
  <dc:language>en-US</dc:language>
  <cp:lastModifiedBy>academico</cp:lastModifiedBy>
  <dcterms:modified xsi:type="dcterms:W3CDTF">2006-08-21T05:19:34Z</dcterms:modified>
  <cp:revision>12</cp:revision>
  <dc:subject/>
  <dc:title>Presentación de PowerPoint</dc:title>
</cp:coreProperties>
</file>