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E13-BAE7-4CFC-AD1E-675CC52E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ADD-D26E-476A-9A07-7A8C05D9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493-FBF6-49BB-8EB0-34761AEC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73D-B8E0-4CCD-AF28-952605C3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4C25-8E20-4FB8-B551-91A8BB88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9D60-B138-4484-B14F-470BBF67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EDBB-2E4D-4DC5-9E2A-783882C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108-66E8-4207-900D-3E9AD84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848-68D1-46AB-BCFF-4E4CD291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40A2-8E0D-42A5-84E6-290667DB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689-0DF2-4017-AC91-D77DC626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9607-85D7-4D64-984B-C96E5737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260F-212D-4055-9C01-42586A47B3E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8001000" cy="43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MODELO SACRAMENTO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Tahoma"/>
              </a:rPr>
              <a:t>Representa las características de humedad del suelo tal que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Humedad aplicada se distribuye en una manera físicamente realista en las distintas zonas y estados de energía del sue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Se mantienen las características racionales de la percolación</a:t>
            </a:r>
            <a:r>
              <a:rPr b="1" lang="es-ES" sz="2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Tahoma"/>
              </a:rPr>
              <a:t>La escorrentía se simula ef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952880"/>
            <a:ext cx="81536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odelo ideal para la simulación de cuencas grandes (&gt;1000 km</a:t>
            </a:r>
            <a:r>
              <a:rPr b="0" lang="en-US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" dur="5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p (evaporación potencial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pende principalmente del balance neto de radiación en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uede estimarse de la evaporación de bandej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étodo de Thornthwaite (1948)…basado en temperatura observada del aire y  duración de horas de so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8381880" cy="1219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quem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-838080" y="614520"/>
            <a:ext cx="9982080" cy="6243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11160"/>
            <a:ext cx="861048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XADJ factor ajuste Precipi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i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ADJ factor ajus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demand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M)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libr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K Frac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iaria de tasa de salida de agua libre en zona si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CTIM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mínim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mpermeable 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onal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IV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a veget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Riparian (frac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decima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ZPERC coefici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xim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 de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EXP exponent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equ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Percola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M capac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ad de agua en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tens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 zo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711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á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met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S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suplement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FPM capac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ad primaria de agua libr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o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baj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SK Fracción 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uplement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ia de salid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LZPK Fracción d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as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prima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FREE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que va directamente a la zona baja de almacenamiento de 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SERV Fracció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agua libre en zona baja que no es transferible a agua en tensión en la zona 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ID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uociente de recarga subterránea al flujo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T ET demand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 diari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(mm/da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 factor ajuste P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el día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6th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cada mes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4920" y="609480"/>
            <a:ext cx="84582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de es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el áre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DIMP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ZF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en Zona superior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TW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en tensión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S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suplementaria en Zona Baj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LZFPC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tenido de Agua Libre primaria en Zona Baja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(m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9600" cy="6172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381880" cy="62863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4360" y="404640"/>
            <a:ext cx="7343640" cy="9471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a de Percolación en Condiciones Saturadas (Cont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628640"/>
            <a:ext cx="374328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en Zona Inf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686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68360" y="404640"/>
            <a:ext cx="511164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urva de Perco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741240"/>
            <a:ext cx="845820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tasa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tinua en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de satu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fun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 la capacidad de zona baja y de las tasas de salida de esa zo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BASE = LZFSM • LZSK + LZFPM • LZP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ZPER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 número de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BASE un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es que debe agregarse a la tasa de percolación continua para definie la tasa máxima de 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REX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l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xponent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 qu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fin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curvatur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curva de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ercolación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que cambia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deficiencia de humedad del suelo en la zona Inferior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228600"/>
            <a:ext cx="57150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aracter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í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tic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ibra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ajustando flujo base, capacidad de  agua en tensión y parámetros de simulación de escorrent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a estimaciones puntuales o espaciales de precipitaciones históricas, temperatura, y evaporación potenc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9625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opograf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aracterísticas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609480"/>
            <a:ext cx="8381880" cy="65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 de los Parámetros de humedad de suelo en la Respuesta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lum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el volumen cambia pero no se ve afectada la relación entre los componentes de la escorrentía de las zonas no imperme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TWM, LZTWM, ET (curva de demanda), PE (Curva de ajus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emp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ando estos parámetros cambia la relación relativa de escorrentía entre las diversas componentes no impermeables ; siempre causa desfases temporales y en algunos casos cambios de volumen signific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FWM, LZFPM, LZFSM, UZK, LZPK, LZSK, ZPERC, REX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28600"/>
            <a:ext cx="91440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perficies Impermeable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CTIM, AD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erando estos parámetros se determina cuánto de la lluvia + derretimiento va directamente a la salida; ambos tienen un volumen y el efecto de la sincronización, aunque PCTIM afecta principalmente el volumen, y ADIMP afecta sobre todo la sincro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olumen de Flujo Base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DE, RIVA, PF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Alterar estos parámetros cambia sobre todo la cantidad de volumen del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flujo Base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mientras que teniendo poco o nada de efecto en otros componentes de la sal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fectos Menores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SER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lmente tiene poco efecto en la respuesta del model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0880" y="457200"/>
            <a:ext cx="8458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P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transpi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: Evapotranspiración de la superficie de suelo cuando no hay limitaciones en la humedad del suelo (tension water at capacit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poración Potential : Evaporación de las superficies de agua libre (lagos, pastos húmedos)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 Curva de ajuste: curva estacional que refleja el tipo y actividad de la vege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T Demanda = PE * PE Ajus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685800"/>
            <a:ext cx="9144000" cy="5526000"/>
            <a:chOff x="0" y="685800"/>
            <a:chExt cx="9144000" cy="55260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rcRect l="0" t="19419" r="0" b="0"/>
            <a:stretch/>
          </p:blipFill>
          <p:spPr>
            <a:xfrm>
              <a:off x="0" y="685800"/>
              <a:ext cx="9144000" cy="552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1523880" y="1828800"/>
              <a:ext cx="1981440" cy="520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MODELO SAC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0" y="3886200"/>
            <a:ext cx="990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ahoma"/>
              </a:rPr>
              <a:t>EVAP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72200" y="5791320"/>
            <a:ext cx="2666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828800"/>
            <a:ext cx="81532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ada cuenca está representada verticalmente por 2 zon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superior (capacidad de almacenamiento de corto plaz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Una zona inferior (humedad de suelo y almacenamiento subterráne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182600"/>
            <a:ext cx="8153280" cy="5218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3520" y="380880"/>
            <a:ext cx="83055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Component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 Model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Sacr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ens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adherida a la partícula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ólo removida por 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Libre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libre de moverse bajo efecto de fuerzas gravitacionales, E, PP, flujo horizont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lujo Superf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vapotranspir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(E)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renaje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Vertical (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P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ercola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ó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447920" y="5410080"/>
                <a:ext cx="46861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510552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ujos neto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029200" y="53341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715000" y="54100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38080" y="628560"/>
            <a:ext cx="7848720" cy="588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143000" y="990720"/>
            <a:ext cx="685800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gua en Tensión y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5867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3733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Lat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38088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(t) consiste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lujo superfici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(t) y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flujo subsuperficial  (flujo base)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(t)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            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    R(t) = S(t) + B(t).    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max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es una medida de la capacidad de los suelos de contener agua (mm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rcRect l="19297" t="0" r="28067" b="0"/>
          <a:stretch/>
        </p:blipFill>
        <p:spPr>
          <a:xfrm>
            <a:off x="1981080" y="3625920"/>
            <a:ext cx="3814920" cy="26226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0948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G(t) flujo subterrán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E(t) se estima como sig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(Ep = evapotranspiración potencial en mm/mes)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rcRect l="16861" t="0" r="29219" b="19900"/>
          <a:stretch/>
        </p:blipFill>
        <p:spPr>
          <a:xfrm>
            <a:off x="2057400" y="1371600"/>
            <a:ext cx="5410080" cy="1371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971800" y="4465800"/>
                <a:ext cx="3505320" cy="15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01:50:32Z</dcterms:created>
  <dc:creator>GOG</dc:creator>
  <dc:description/>
  <dc:language>en-US</dc:language>
  <cp:lastModifiedBy>academico</cp:lastModifiedBy>
  <dcterms:modified xsi:type="dcterms:W3CDTF">2006-08-21T05:19:34Z</dcterms:modified>
  <cp:revision>12</cp:revision>
  <dc:subject/>
  <dc:title>Presentación de PowerPoint</dc:title>
</cp:coreProperties>
</file>