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EDE-B9ED-4326-8553-4E9F1387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9E5-146E-44D4-BCCF-AA247146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9AA-E877-485D-BB49-46058B90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44E-EA61-4EEC-BA26-F7CF52E6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7CC-C201-4101-81AB-E56A6DE8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CF5-8E6D-4613-B9EA-118249BD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9B3-FC4A-40E0-9A33-AD39AA28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3576-4F98-4DE9-9DCA-FA1462A4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987-36D1-4F4F-83C4-288C238C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DC13-BC08-4E22-AB06-B8349223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1C31-3272-4D2D-94E9-2FACEDA7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507-F4F4-4BD4-8CB5-2DA5EF5B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ECBF-FD1E-41EF-9A15-F0DCF6196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539640"/>
            <a:ext cx="8507520" cy="55641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8915400" cy="18856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28605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28600" y="228600"/>
          <a:ext cx="8686800" cy="30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30765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33520" y="3673440"/>
          <a:ext cx="8229600" cy="3046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673440"/>
                    <a:ext cx="8229600" cy="3046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162000"/>
          <a:ext cx="8458200" cy="22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2000"/>
                    <a:ext cx="8458200" cy="22194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85800" y="2793960"/>
          <a:ext cx="7543800" cy="1677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793960"/>
                    <a:ext cx="7543800" cy="16779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3880" y="4670280"/>
          <a:ext cx="7162920" cy="2187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670280"/>
                    <a:ext cx="7162920" cy="21877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6320" y="152280"/>
          <a:ext cx="8915400" cy="13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52280"/>
                    <a:ext cx="8915400" cy="13305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990720" y="1752480"/>
          <a:ext cx="7149960" cy="1401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752480"/>
                    <a:ext cx="7149960" cy="14018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85800" y="3733920"/>
          <a:ext cx="7924680" cy="1373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733920"/>
                    <a:ext cx="7924680" cy="1373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304920"/>
            <a:ext cx="7924680" cy="1922760"/>
          </a:xfrm>
          <a:prstGeom prst="rect">
            <a:avLst/>
          </a:prstGeom>
          <a:solidFill>
            <a:srgbClr val="00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Los datos de entrada al modelo son los 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stadística de precipitación mens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stadística de evapo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752480" y="3200400"/>
                <a:ext cx="58546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143000" y="4343400"/>
                <a:ext cx="69343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TP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M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228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Los parámetros del model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066680"/>
            <a:ext cx="8534520" cy="5106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A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Coeficiente que multiplica el dato lluvia para obtener la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precipitación media sobre la cuenca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B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Coeficiente que multiplica el dato evaporación para obtener la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evapotranspiración potencial media sobre la cuenca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FC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Tasa de infiltración correspondiente al suelo saturado (S=1)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medida en mm/día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ALFA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Variación de la tasa de infiltración por unidad de variación del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grado de humedad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SMIN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Grado de humedad correspondiente al  punto de marchitez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permanente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SCRIT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Grado de humedad crítico bajo el cual la tasa de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evapotranspiración real decrece linealmente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SCC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Grado de humedad correspondiente a la capacidad de campo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H</a:t>
            </a:r>
            <a:r>
              <a:rPr b="1" lang="es-MX" sz="1800" spc="-1" strike="noStrike" baseline="-25000">
                <a:solidFill>
                  <a:srgbClr val="000080"/>
                </a:solidFill>
                <a:latin typeface="Times New Roman"/>
              </a:rPr>
              <a:t>máx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Máxima lámina de agua contenida en el suelo saturado en mm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k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Constante de tiempo del embalse subterráneo en días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P</a:t>
            </a:r>
            <a:r>
              <a:rPr b="1" lang="es-MX" sz="1800" spc="-1" strike="noStrike" baseline="-25000">
                <a:solidFill>
                  <a:srgbClr val="000080"/>
                </a:solidFill>
                <a:latin typeface="Times New Roman"/>
              </a:rPr>
              <a:t>min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Porcentaje de lluvia que se manifiesta como escorrentía superficial 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inmediata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ÁREA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Área de la cuenca en km</a:t>
            </a:r>
            <a:r>
              <a:rPr b="1" lang="es-MX" sz="1800" spc="-1" strike="noStrike" baseline="30000">
                <a:solidFill>
                  <a:srgbClr val="000080"/>
                </a:solidFill>
                <a:latin typeface="Times New Roman"/>
              </a:rPr>
              <a:t>2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.</a:t>
            </a:r>
            <a:r>
              <a:rPr b="1" lang="es-MX" sz="1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8080" y="304920"/>
            <a:ext cx="7925040" cy="1397160"/>
          </a:xfrm>
          <a:prstGeom prst="rect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Times New Roman"/>
              </a:rPr>
              <a:t>El procedimiento utilizado por el modelo consiste en calcular para cada día del mes el grado de saturación final S</a:t>
            </a:r>
            <a:r>
              <a:rPr b="1" lang="es-MX" sz="2000" spc="-1" strike="noStrike" baseline="-25000">
                <a:solidFill>
                  <a:srgbClr val="003399"/>
                </a:solidFill>
                <a:latin typeface="Times New Roman"/>
              </a:rPr>
              <a:t>F</a:t>
            </a:r>
            <a:r>
              <a:rPr b="1" lang="es-MX" sz="2000" spc="-1" strike="noStrike">
                <a:solidFill>
                  <a:srgbClr val="003399"/>
                </a:solidFill>
                <a:latin typeface="Times New Roman"/>
              </a:rPr>
              <a:t>, conocido el grado de saturación al inicio del día S</a:t>
            </a:r>
            <a:r>
              <a:rPr b="1" lang="es-MX" sz="2000" spc="-1" strike="noStrike" baseline="-25000">
                <a:solidFill>
                  <a:srgbClr val="003399"/>
                </a:solidFill>
                <a:latin typeface="Times New Roman"/>
              </a:rPr>
              <a:t>I</a:t>
            </a:r>
            <a:r>
              <a:rPr b="1" lang="es-MX" sz="2000" spc="-1" strike="noStrike">
                <a:solidFill>
                  <a:srgbClr val="003399"/>
                </a:solidFill>
                <a:latin typeface="Times New Roman"/>
              </a:rPr>
              <a:t> y los valores diarios de la infiltración, percolación profunda y evapotranspi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62120" y="2057400"/>
                <a:ext cx="426060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152280" y="3505320"/>
            <a:ext cx="5334120" cy="302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S</a:t>
            </a:r>
            <a:r>
              <a:rPr b="1" lang="es-MX" sz="2000" spc="-1" strike="noStrike" baseline="-25000">
                <a:solidFill>
                  <a:srgbClr val="000080"/>
                </a:solidFill>
                <a:latin typeface="Arial"/>
              </a:rPr>
              <a:t>F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:Grado de saturación al final del 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día.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S</a:t>
            </a:r>
            <a:r>
              <a:rPr b="1" lang="es-MX" sz="2000" spc="-1" strike="noStrike" baseline="-25000">
                <a:solidFill>
                  <a:srgbClr val="000080"/>
                </a:solidFill>
                <a:latin typeface="Arial"/>
              </a:rPr>
              <a:t>I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:Grado de saturación al inicio del 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día.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H</a:t>
            </a:r>
            <a:r>
              <a:rPr b="1" lang="es-MX" sz="2000" spc="-1" strike="noStrike" baseline="-25000">
                <a:solidFill>
                  <a:srgbClr val="000080"/>
                </a:solidFill>
                <a:latin typeface="Arial"/>
              </a:rPr>
              <a:t>máx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:Máxima lámina de agua contenida 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en el suelo saturado en mm.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I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:Infiltración.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PP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:Percolación profunda.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ET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:Evapotranspiración.</a:t>
            </a:r>
            <a:r>
              <a:rPr b="1" lang="es-MX" sz="2000" spc="-1" strike="noStrike">
                <a:solidFill>
                  <a:srgbClr val="000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562720" y="1968480"/>
                <a:ext cx="3200400" cy="26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400800" y="5132520"/>
                <a:ext cx="198108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752480" y="1295280"/>
            <a:ext cx="5562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grama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04920"/>
            <a:ext cx="8915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ATMÓSFERA: AGUA COMO VAPOR, SÓLIDA O LÍQU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5853240"/>
            <a:ext cx="487656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772400" y="5943600"/>
            <a:ext cx="160020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OCÉ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6324480"/>
            <a:ext cx="3124080" cy="457200"/>
          </a:xfrm>
          <a:custGeom>
            <a:avLst/>
            <a:gdLst>
              <a:gd name="textAreaLeft" fmla="*/ 390240 w 3124080"/>
              <a:gd name="textAreaRight" fmla="*/ 2733840 w 3124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609588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. su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419720"/>
            <a:ext cx="335268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3505320"/>
            <a:ext cx="2666880" cy="1381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ARROYOS, LAGOS, RÍ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52680"/>
            <a:ext cx="426744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PERFICI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35812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434340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4724280"/>
            <a:ext cx="1524240" cy="228600"/>
          </a:xfrm>
          <a:prstGeom prst="leftArrow">
            <a:avLst>
              <a:gd name="adj1" fmla="val 50000"/>
              <a:gd name="adj2" fmla="val 166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48769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4876920"/>
            <a:ext cx="304920" cy="990360"/>
          </a:xfrm>
          <a:prstGeom prst="downArrow">
            <a:avLst>
              <a:gd name="adj1" fmla="val 50000"/>
              <a:gd name="adj2" fmla="val 8119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38098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8098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685800"/>
            <a:ext cx="228600" cy="2743200"/>
          </a:xfrm>
          <a:prstGeom prst="downArrow">
            <a:avLst>
              <a:gd name="adj1" fmla="val 50000"/>
              <a:gd name="adj2" fmla="val 300000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685800"/>
            <a:ext cx="228600" cy="1676520"/>
          </a:xfrm>
          <a:prstGeom prst="downArrow">
            <a:avLst>
              <a:gd name="adj1" fmla="val 50000"/>
              <a:gd name="adj2" fmla="val 1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68580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2209680"/>
            <a:ext cx="304560" cy="1143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1752480"/>
            <a:ext cx="16761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VE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19051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10666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914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362320"/>
            <a:ext cx="1752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NIEVE Y H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209680"/>
            <a:ext cx="0" cy="114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2209680"/>
            <a:ext cx="0" cy="152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685800"/>
            <a:ext cx="189000" cy="1650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13716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609480"/>
            <a:ext cx="152640" cy="114300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1066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762120"/>
            <a:ext cx="228600" cy="25653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057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685800"/>
            <a:ext cx="228600" cy="2895480"/>
          </a:xfrm>
          <a:prstGeom prst="downArrow">
            <a:avLst>
              <a:gd name="adj1" fmla="val 50000"/>
              <a:gd name="adj2" fmla="val 3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91520" y="685800"/>
            <a:ext cx="228600" cy="2793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85800"/>
            <a:ext cx="304560" cy="52322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62920" y="19810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839080" y="24382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12952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3809880"/>
            <a:ext cx="152280" cy="6098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solidFill>
            <a:srgbClr val="ff3300"/>
          </a:solidFill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I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Ex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388620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if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81952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5105520"/>
            <a:ext cx="1067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876920"/>
            <a:ext cx="152280" cy="990360"/>
          </a:xfrm>
          <a:prstGeom prst="downArrow">
            <a:avLst>
              <a:gd name="adj1" fmla="val 50000"/>
              <a:gd name="adj2" fmla="val 16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72400" y="4876920"/>
            <a:ext cx="152280" cy="1143000"/>
          </a:xfrm>
          <a:prstGeom prst="downArrow">
            <a:avLst>
              <a:gd name="adj1" fmla="val 50000"/>
              <a:gd name="adj2" fmla="val 187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24680" y="502920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5029200"/>
            <a:ext cx="14475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Verdana"/>
              </a:rPr>
              <a:t>Ascenso Cap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518148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Pe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09680" y="1143000"/>
            <a:ext cx="5715000" cy="4761000"/>
            <a:chOff x="2209680" y="1143000"/>
            <a:chExt cx="5715000" cy="4761000"/>
          </a:xfrm>
        </p:grpSpPr>
        <p:pic>
          <p:nvPicPr>
            <p:cNvPr id="93" name="clase5-1" descr=""/>
            <p:cNvPicPr/>
            <p:nvPr/>
          </p:nvPicPr>
          <p:blipFill>
            <a:blip r:embed="rId1"/>
            <a:stretch/>
          </p:blipFill>
          <p:spPr>
            <a:xfrm>
              <a:off x="2209680" y="1143000"/>
              <a:ext cx="5715000" cy="476100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</p:pic>
        <p:sp>
          <p:nvSpPr>
            <p:cNvPr id="94" name=""/>
            <p:cNvSpPr/>
            <p:nvPr/>
          </p:nvSpPr>
          <p:spPr>
            <a:xfrm>
              <a:off x="2362320" y="4952880"/>
              <a:ext cx="167616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stribuido por subcuen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6920" y="5029200"/>
              <a:ext cx="20574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stribuido por módul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85800" y="461880"/>
            <a:ext cx="7620120" cy="5575320"/>
            <a:chOff x="685800" y="461880"/>
            <a:chExt cx="7620120" cy="5575320"/>
          </a:xfrm>
        </p:grpSpPr>
        <p:pic>
          <p:nvPicPr>
            <p:cNvPr id="97" name="clase5-2" descr=""/>
            <p:cNvPicPr/>
            <p:nvPr/>
          </p:nvPicPr>
          <p:blipFill>
            <a:blip r:embed="rId1"/>
            <a:stretch/>
          </p:blipFill>
          <p:spPr>
            <a:xfrm>
              <a:off x="685800" y="461880"/>
              <a:ext cx="7620120" cy="55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362320" y="4572000"/>
              <a:ext cx="5715000" cy="13226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f: Nivel freá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: Escorrentía Subterrán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: Escorrentía Superfi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r: Escorrentía en rí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 flipH="1" flipV="1">
            <a:off x="1828440" y="3809520"/>
            <a:ext cx="7621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05520" y="38862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1816200"/>
            <a:ext cx="1181160" cy="3289320"/>
          </a:xfrm>
          <a:custGeom>
            <a:avLst/>
            <a:gdLst/>
            <a:ahLst/>
            <a:rect l="l" t="t" r="r" b="b"/>
            <a:pathLst>
              <a:path w="744" h="2072">
                <a:moveTo>
                  <a:pt x="144" y="2072"/>
                </a:moveTo>
                <a:cubicBezTo>
                  <a:pt x="372" y="1796"/>
                  <a:pt x="600" y="1520"/>
                  <a:pt x="672" y="1208"/>
                </a:cubicBezTo>
                <a:cubicBezTo>
                  <a:pt x="744" y="896"/>
                  <a:pt x="688" y="400"/>
                  <a:pt x="576" y="200"/>
                </a:cubicBezTo>
                <a:cubicBezTo>
                  <a:pt x="464" y="0"/>
                  <a:pt x="232" y="4"/>
                  <a:pt x="0" y="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76240" y="2654280"/>
            <a:ext cx="3467160" cy="2832120"/>
          </a:xfrm>
          <a:custGeom>
            <a:avLst/>
            <a:gdLst/>
            <a:ahLst/>
            <a:rect l="l" t="t" r="r" b="b"/>
            <a:pathLst>
              <a:path w="2184" h="1784">
                <a:moveTo>
                  <a:pt x="936" y="1784"/>
                </a:moveTo>
                <a:cubicBezTo>
                  <a:pt x="692" y="1748"/>
                  <a:pt x="448" y="1712"/>
                  <a:pt x="312" y="1496"/>
                </a:cubicBezTo>
                <a:cubicBezTo>
                  <a:pt x="176" y="1280"/>
                  <a:pt x="0" y="728"/>
                  <a:pt x="120" y="488"/>
                </a:cubicBezTo>
                <a:cubicBezTo>
                  <a:pt x="240" y="248"/>
                  <a:pt x="688" y="112"/>
                  <a:pt x="1032" y="56"/>
                </a:cubicBezTo>
                <a:cubicBezTo>
                  <a:pt x="1376" y="0"/>
                  <a:pt x="1780" y="76"/>
                  <a:pt x="2184" y="1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990720" y="0"/>
            <a:ext cx="7010280" cy="6936480"/>
            <a:chOff x="990720" y="0"/>
            <a:chExt cx="7010280" cy="6936480"/>
          </a:xfrm>
        </p:grpSpPr>
        <p:graphicFrame>
          <p:nvGraphicFramePr>
            <p:cNvPr id="104" name=""/>
            <p:cNvGraphicFramePr/>
            <p:nvPr/>
          </p:nvGraphicFramePr>
          <p:xfrm>
            <a:off x="990720" y="0"/>
            <a:ext cx="7010280" cy="6858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0"/>
                      <a:ext cx="7010280" cy="68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990720" y="6629400"/>
              <a:ext cx="7010280" cy="228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19920" y="662940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Escorrentía 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380880" y="1371600"/>
          <a:ext cx="8570880" cy="344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570880" cy="34401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609480"/>
          <a:ext cx="9144000" cy="308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30877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52280" y="3981600"/>
          <a:ext cx="8610840" cy="2206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981600"/>
                    <a:ext cx="8610840" cy="2206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991720" cy="43909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70a1"/>
            </a:gs>
            <a:gs pos="50000">
              <a:srgbClr val="003399"/>
            </a:gs>
            <a:gs pos="100000">
              <a:srgbClr val="5f70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1011240"/>
            <a:ext cx="8610840" cy="412920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52:04Z</dcterms:created>
  <dc:creator>Ximena Vargas</dc:creator>
  <dc:description/>
  <dc:language>en-US</dc:language>
  <cp:lastModifiedBy>xv</cp:lastModifiedBy>
  <dcterms:modified xsi:type="dcterms:W3CDTF">2005-09-01T13:48:47Z</dcterms:modified>
  <cp:revision>5</cp:revision>
  <dc:subject/>
  <dc:title>Sin título de diapositiva</dc:title>
</cp:coreProperties>
</file>