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521-F36F-4B51-91BB-E63453CE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1CE-C985-44F0-A10E-44C65B51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FDC-3245-468C-8125-E489A8C5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AE2-BD77-44DC-8B98-3F301243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023-8D29-4B06-B781-AFF6CE21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949-A4C3-48E6-8EEB-9F4D1F45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EEF-EDCB-4199-B243-768ED6E9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50F-D9A5-4097-9207-863F7DE8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F71-45EC-4CE2-A911-D3CAE26F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F2E-C1A3-4547-B8F0-C6513F8D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22B-7F0F-4F96-8788-90829F12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9A0-C766-443B-8A30-213860A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300D-ACC5-460B-9702-8F2881471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539640"/>
            <a:ext cx="8507520" cy="5564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18856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28605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28600" y="228600"/>
          <a:ext cx="8686800" cy="30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3076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520" y="3673440"/>
          <a:ext cx="8229600" cy="3046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673440"/>
                    <a:ext cx="8229600" cy="3046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162000"/>
          <a:ext cx="8458200" cy="22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2000"/>
                    <a:ext cx="8458200" cy="2219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5800" y="2793960"/>
          <a:ext cx="7543800" cy="167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93960"/>
                    <a:ext cx="7543800" cy="1677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3880" y="4670280"/>
          <a:ext cx="7162920" cy="2187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670280"/>
                    <a:ext cx="7162920" cy="2187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6320" y="152280"/>
          <a:ext cx="8915400" cy="13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2280"/>
                    <a:ext cx="8915400" cy="1330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90720" y="1752480"/>
          <a:ext cx="7149960" cy="1401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7149960" cy="1401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5800" y="3733920"/>
          <a:ext cx="7924680" cy="137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733920"/>
                    <a:ext cx="7924680" cy="1373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04920"/>
            <a:ext cx="7924680" cy="192276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Los datos de entrada al modelo son lo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adística de precipitación mens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adística de evap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752480" y="3200400"/>
                <a:ext cx="58546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43000" y="4343400"/>
                <a:ext cx="69343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T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M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Los parámetros del model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066680"/>
            <a:ext cx="8534520" cy="5106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A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Coeficiente que multiplica el dato lluvia para obtener la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recipitación media sobre la cuenc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B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Coeficiente que multiplica el dato evaporación para obtener la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evapotranspiración potencial media sobre la cuenc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FC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Tasa de infiltración correspondiente al suelo saturado (S=1)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medida en mm/dí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ALFA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Variación de la tasa de infiltración por unidad de variación del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SMIN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 correspondiente al  punto de marchitez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ermanente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SCRIT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 crítico bajo el cual la tasa de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evapotranspiración real decrece linealmente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SCC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 correspondiente a la capacidad de campo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lang="es-MX" sz="1800" spc="-1" strike="noStrike" baseline="-25000">
                <a:solidFill>
                  <a:srgbClr val="000080"/>
                </a:solidFill>
                <a:latin typeface="Times New Roman"/>
              </a:rPr>
              <a:t>máx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Máxima lámina de agua contenida en el suelo saturado en mm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k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Constante de tiempo del embalse subterráneo en días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1" lang="es-MX" sz="1800" spc="-1" strike="noStrike" baseline="-25000">
                <a:solidFill>
                  <a:srgbClr val="000080"/>
                </a:solidFill>
                <a:latin typeface="Times New Roman"/>
              </a:rPr>
              <a:t>min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orcentaje de lluvia que se manifiesta como escorrentía superficial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inmediat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ÁREA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Área de la cuenca en km</a:t>
            </a:r>
            <a:r>
              <a:rPr b="1" lang="es-MX" sz="1800" spc="-1" strike="noStrike" baseline="30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304920"/>
            <a:ext cx="7925040" cy="139716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Times New Roman"/>
              </a:rPr>
              <a:t>El procedimiento utilizado por el modelo consiste en calcular para cada día del mes el grado de saturación final S</a:t>
            </a:r>
            <a:r>
              <a:rPr b="1" lang="es-MX" sz="2000" spc="-1" strike="noStrike" baseline="-25000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MX" sz="2000" spc="-1" strike="noStrike">
                <a:solidFill>
                  <a:srgbClr val="003399"/>
                </a:solidFill>
                <a:latin typeface="Times New Roman"/>
              </a:rPr>
              <a:t>, conocido el grado de saturación al inicio del día S</a:t>
            </a:r>
            <a:r>
              <a:rPr b="1" lang="es-MX" sz="2000" spc="-1" strike="noStrike" baseline="-25000">
                <a:solidFill>
                  <a:srgbClr val="003399"/>
                </a:solidFill>
                <a:latin typeface="Times New Roman"/>
              </a:rPr>
              <a:t>I</a:t>
            </a:r>
            <a:r>
              <a:rPr b="1" lang="es-MX" sz="2000" spc="-1" strike="noStrike">
                <a:solidFill>
                  <a:srgbClr val="003399"/>
                </a:solidFill>
                <a:latin typeface="Times New Roman"/>
              </a:rPr>
              <a:t> y los valores diarios de la infiltración, percolación profunda y evapotranspi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057400"/>
                <a:ext cx="4260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2280" y="3505320"/>
            <a:ext cx="5334120" cy="302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1" lang="es-MX" sz="2000" spc="-1" strike="noStrike" baseline="-25000">
                <a:solidFill>
                  <a:srgbClr val="000080"/>
                </a:solidFill>
                <a:latin typeface="Arial"/>
              </a:rPr>
              <a:t>F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Grado de saturación al final del 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día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1" lang="es-MX" sz="20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Grado de saturación al inicio del 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día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H</a:t>
            </a:r>
            <a:r>
              <a:rPr b="1" lang="es-MX" sz="2000" spc="-1" strike="noStrike" baseline="-25000">
                <a:solidFill>
                  <a:srgbClr val="000080"/>
                </a:solidFill>
                <a:latin typeface="Arial"/>
              </a:rPr>
              <a:t>máx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Máxima lámina de agua contenida 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en el suelo saturado en mm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Infiltración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PP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Percolación profunda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ET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Evapotranspiración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562720" y="1968480"/>
                <a:ext cx="3200400" cy="26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400800" y="5132520"/>
                <a:ext cx="19810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752480" y="1295280"/>
            <a:ext cx="5562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gram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724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390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09680" y="1143000"/>
            <a:ext cx="5715000" cy="4761000"/>
            <a:chOff x="2209680" y="1143000"/>
            <a:chExt cx="5715000" cy="4761000"/>
          </a:xfrm>
        </p:grpSpPr>
        <p:pic>
          <p:nvPicPr>
            <p:cNvPr id="93" name="clase5-1" descr=""/>
            <p:cNvPicPr/>
            <p:nvPr/>
          </p:nvPicPr>
          <p:blipFill>
            <a:blip r:embed="rId1"/>
            <a:stretch/>
          </p:blipFill>
          <p:spPr>
            <a:xfrm>
              <a:off x="2209680" y="1143000"/>
              <a:ext cx="5715000" cy="476100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sp>
          <p:nvSpPr>
            <p:cNvPr id="94" name=""/>
            <p:cNvSpPr/>
            <p:nvPr/>
          </p:nvSpPr>
          <p:spPr>
            <a:xfrm>
              <a:off x="2362320" y="4952880"/>
              <a:ext cx="167616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tribuido por subcuen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6920" y="5029200"/>
              <a:ext cx="2057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tribuido por módul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85800" y="461880"/>
            <a:ext cx="7620120" cy="5575320"/>
            <a:chOff x="685800" y="461880"/>
            <a:chExt cx="7620120" cy="5575320"/>
          </a:xfrm>
        </p:grpSpPr>
        <p:pic>
          <p:nvPicPr>
            <p:cNvPr id="97" name="clase5-2" descr=""/>
            <p:cNvPicPr/>
            <p:nvPr/>
          </p:nvPicPr>
          <p:blipFill>
            <a:blip r:embed="rId1"/>
            <a:stretch/>
          </p:blipFill>
          <p:spPr>
            <a:xfrm>
              <a:off x="685800" y="461880"/>
              <a:ext cx="7620120" cy="55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362320" y="4572000"/>
              <a:ext cx="5715000" cy="1322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f: Nivel freá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: Escorrentía Subterrán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: Escorrentía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r: Escorrentía en rí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H="1" flipV="1">
            <a:off x="1828440" y="380952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05520" y="38862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816200"/>
            <a:ext cx="1181160" cy="3289320"/>
          </a:xfrm>
          <a:custGeom>
            <a:avLst/>
            <a:gdLst/>
            <a:ahLst/>
            <a:rect l="l" t="t" r="r" b="b"/>
            <a:pathLst>
              <a:path w="744" h="2072">
                <a:moveTo>
                  <a:pt x="144" y="2072"/>
                </a:moveTo>
                <a:cubicBezTo>
                  <a:pt x="372" y="1796"/>
                  <a:pt x="600" y="1520"/>
                  <a:pt x="672" y="1208"/>
                </a:cubicBezTo>
                <a:cubicBezTo>
                  <a:pt x="744" y="896"/>
                  <a:pt x="688" y="400"/>
                  <a:pt x="576" y="200"/>
                </a:cubicBezTo>
                <a:cubicBezTo>
                  <a:pt x="464" y="0"/>
                  <a:pt x="232" y="4"/>
                  <a:pt x="0" y="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6240" y="2654280"/>
            <a:ext cx="3467160" cy="2832120"/>
          </a:xfrm>
          <a:custGeom>
            <a:avLst/>
            <a:gdLst/>
            <a:ahLst/>
            <a:rect l="l" t="t" r="r" b="b"/>
            <a:pathLst>
              <a:path w="2184" h="1784">
                <a:moveTo>
                  <a:pt x="936" y="1784"/>
                </a:moveTo>
                <a:cubicBezTo>
                  <a:pt x="692" y="1748"/>
                  <a:pt x="448" y="1712"/>
                  <a:pt x="312" y="1496"/>
                </a:cubicBezTo>
                <a:cubicBezTo>
                  <a:pt x="176" y="1280"/>
                  <a:pt x="0" y="728"/>
                  <a:pt x="120" y="488"/>
                </a:cubicBezTo>
                <a:cubicBezTo>
                  <a:pt x="240" y="248"/>
                  <a:pt x="688" y="112"/>
                  <a:pt x="1032" y="56"/>
                </a:cubicBezTo>
                <a:cubicBezTo>
                  <a:pt x="1376" y="0"/>
                  <a:pt x="1780" y="76"/>
                  <a:pt x="2184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90720" y="0"/>
            <a:ext cx="7010280" cy="6936480"/>
            <a:chOff x="990720" y="0"/>
            <a:chExt cx="7010280" cy="6936480"/>
          </a:xfrm>
        </p:grpSpPr>
        <p:graphicFrame>
          <p:nvGraphicFramePr>
            <p:cNvPr id="104" name=""/>
            <p:cNvGraphicFramePr/>
            <p:nvPr/>
          </p:nvGraphicFramePr>
          <p:xfrm>
            <a:off x="990720" y="0"/>
            <a:ext cx="7010280" cy="685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0"/>
                      <a:ext cx="701028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990720" y="6629400"/>
              <a:ext cx="7010280" cy="228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19920" y="6629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Escorrentía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80880" y="1371600"/>
          <a:ext cx="8570880" cy="34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570880" cy="3440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609480"/>
          <a:ext cx="9144000" cy="308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3087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52280" y="3981600"/>
          <a:ext cx="8610840" cy="220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981600"/>
                    <a:ext cx="8610840" cy="2206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4390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011240"/>
            <a:ext cx="8610840" cy="41292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52:04Z</dcterms:created>
  <dc:creator>Ximena Vargas</dc:creator>
  <dc:description/>
  <dc:language>en-US</dc:language>
  <cp:lastModifiedBy>xv</cp:lastModifiedBy>
  <dcterms:modified xsi:type="dcterms:W3CDTF">2005-09-01T13:48:47Z</dcterms:modified>
  <cp:revision>5</cp:revision>
  <dc:subject/>
  <dc:title>Sin título de diapositiva</dc:title>
</cp:coreProperties>
</file>