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692-5FE4-4C2A-A539-A5401881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31C-F678-4D60-A373-2C36368A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C5-A406-4ADE-ABD4-167A75AB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96B-89C0-464F-921A-61E3DA52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617-A7F5-4CD2-95A6-FA11773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967-93D4-44E3-BAED-0683F03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077-3BB0-4F32-8502-1417EBE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895-8142-4FE7-8B2D-9E6D3DD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A79-4034-42F3-A76F-5CB5070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FE5-21BD-419E-86F4-C78F91E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F4E-5918-4CCD-8FF0-465E8D6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3C1-7BAD-48C1-8C3E-2853102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AD82-C54F-4F27-8D4D-37DEF94E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539640"/>
            <a:ext cx="8507520" cy="5564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1885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28605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228600"/>
          <a:ext cx="8686800" cy="30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3076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520" y="3673440"/>
          <a:ext cx="8229600" cy="304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73440"/>
                    <a:ext cx="8229600" cy="304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162000"/>
          <a:ext cx="8458200" cy="22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2000"/>
                    <a:ext cx="8458200" cy="221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2793960"/>
          <a:ext cx="7543800" cy="167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93960"/>
                    <a:ext cx="7543800" cy="1677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4670280"/>
          <a:ext cx="7162920" cy="218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670280"/>
                    <a:ext cx="7162920" cy="21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6320" y="152280"/>
          <a:ext cx="8915400" cy="13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280"/>
                    <a:ext cx="8915400" cy="1330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90720" y="1752480"/>
          <a:ext cx="7149960" cy="140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149960" cy="1401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" y="3733920"/>
          <a:ext cx="7924680" cy="137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7924680" cy="137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7924680" cy="192276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os datos de entrada al modelo son lo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precipitación men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evap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52480" y="3200400"/>
                <a:ext cx="5854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43000" y="4343400"/>
                <a:ext cx="69343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T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os parámetros del model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066680"/>
            <a:ext cx="8534520" cy="5106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lluvia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recipitación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evaporación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potencial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F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Tasa de infiltración correspondiente al suelo saturado (S=1)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edida en mm/dí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LF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Variación de la tasa de infiltración por unidad de variación de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l  punto de marchitez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erman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RIT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rítico bajo el cual la tasa de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real decrece linealm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 la capacidad de campo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áx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áxima lámina de agua contenida en el suelo saturado en mm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k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nstante de tiempo del embalse subterráneo en días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orcentaje de lluvia que se manifiesta como escorrentía superficia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inmediat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 de la cuenca en km</a:t>
            </a:r>
            <a:r>
              <a:rPr b="1" lang="es-MX" sz="1800" spc="-1" strike="noStrike" baseline="30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925040" cy="139716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El procedimiento utilizado por el modelo consiste en calcular para cada día del mes el grado de saturación final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, conocido el grado de saturación al inicio del día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 y los valores diarios de la infiltración, percolación profunda y evapotranspi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057400"/>
                <a:ext cx="4260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280" y="3505320"/>
            <a:ext cx="5334120" cy="302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F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final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inicio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H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máx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Máxima lámina de agua contenida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n el suelo saturado en mm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Infilt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PP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Percolación profund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T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Evapotranspi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562720" y="1968480"/>
                <a:ext cx="3200400" cy="26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00800" y="5132520"/>
                <a:ext cx="19810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52480" y="1295280"/>
            <a:ext cx="5562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gram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724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390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09680" y="1143000"/>
            <a:ext cx="5715000" cy="4761000"/>
            <a:chOff x="2209680" y="1143000"/>
            <a:chExt cx="5715000" cy="4761000"/>
          </a:xfrm>
        </p:grpSpPr>
        <p:pic>
          <p:nvPicPr>
            <p:cNvPr id="93" name="clase5-1" descr=""/>
            <p:cNvPicPr/>
            <p:nvPr/>
          </p:nvPicPr>
          <p:blipFill>
            <a:blip r:embed="rId1"/>
            <a:stretch/>
          </p:blipFill>
          <p:spPr>
            <a:xfrm>
              <a:off x="2209680" y="1143000"/>
              <a:ext cx="5715000" cy="47610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sp>
          <p:nvSpPr>
            <p:cNvPr id="94" name=""/>
            <p:cNvSpPr/>
            <p:nvPr/>
          </p:nvSpPr>
          <p:spPr>
            <a:xfrm>
              <a:off x="2362320" y="4952880"/>
              <a:ext cx="167616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subcuen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5029200"/>
              <a:ext cx="2057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módul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85800" y="461880"/>
            <a:ext cx="7620120" cy="5575320"/>
            <a:chOff x="685800" y="461880"/>
            <a:chExt cx="7620120" cy="5575320"/>
          </a:xfrm>
        </p:grpSpPr>
        <p:pic>
          <p:nvPicPr>
            <p:cNvPr id="97" name="clase5-2" descr=""/>
            <p:cNvPicPr/>
            <p:nvPr/>
          </p:nvPicPr>
          <p:blipFill>
            <a:blip r:embed="rId1"/>
            <a:stretch/>
          </p:blipFill>
          <p:spPr>
            <a:xfrm>
              <a:off x="685800" y="461880"/>
              <a:ext cx="762012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362320" y="4572000"/>
              <a:ext cx="5715000" cy="132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f: Nivel freá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: Escorrentía Subterrán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: Escorrentía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r: Escorrentía en rí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H="1" flipV="1">
            <a:off x="1828440" y="380952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05520" y="38862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816200"/>
            <a:ext cx="1181160" cy="3289320"/>
          </a:xfrm>
          <a:custGeom>
            <a:avLst/>
            <a:gdLst/>
            <a:ahLst/>
            <a:rect l="l" t="t" r="r" b="b"/>
            <a:pathLst>
              <a:path w="744" h="2072">
                <a:moveTo>
                  <a:pt x="144" y="2072"/>
                </a:moveTo>
                <a:cubicBezTo>
                  <a:pt x="372" y="1796"/>
                  <a:pt x="600" y="1520"/>
                  <a:pt x="672" y="1208"/>
                </a:cubicBezTo>
                <a:cubicBezTo>
                  <a:pt x="744" y="896"/>
                  <a:pt x="688" y="400"/>
                  <a:pt x="576" y="200"/>
                </a:cubicBezTo>
                <a:cubicBezTo>
                  <a:pt x="464" y="0"/>
                  <a:pt x="232" y="4"/>
                  <a:pt x="0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6240" y="2654280"/>
            <a:ext cx="3467160" cy="2832120"/>
          </a:xfrm>
          <a:custGeom>
            <a:avLst/>
            <a:gdLst/>
            <a:ahLst/>
            <a:rect l="l" t="t" r="r" b="b"/>
            <a:pathLst>
              <a:path w="2184" h="1784">
                <a:moveTo>
                  <a:pt x="936" y="1784"/>
                </a:moveTo>
                <a:cubicBezTo>
                  <a:pt x="692" y="1748"/>
                  <a:pt x="448" y="1712"/>
                  <a:pt x="312" y="1496"/>
                </a:cubicBezTo>
                <a:cubicBezTo>
                  <a:pt x="176" y="1280"/>
                  <a:pt x="0" y="728"/>
                  <a:pt x="120" y="488"/>
                </a:cubicBezTo>
                <a:cubicBezTo>
                  <a:pt x="240" y="248"/>
                  <a:pt x="688" y="112"/>
                  <a:pt x="1032" y="56"/>
                </a:cubicBezTo>
                <a:cubicBezTo>
                  <a:pt x="1376" y="0"/>
                  <a:pt x="1780" y="76"/>
                  <a:pt x="2184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90720" y="0"/>
            <a:ext cx="7010280" cy="6936480"/>
            <a:chOff x="990720" y="0"/>
            <a:chExt cx="7010280" cy="6936480"/>
          </a:xfrm>
        </p:grpSpPr>
        <p:graphicFrame>
          <p:nvGraphicFramePr>
            <p:cNvPr id="104" name=""/>
            <p:cNvGraphicFramePr/>
            <p:nvPr/>
          </p:nvGraphicFramePr>
          <p:xfrm>
            <a:off x="990720" y="0"/>
            <a:ext cx="7010280" cy="685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99072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92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1371600"/>
          <a:ext cx="857088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70880" cy="3440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609480"/>
          <a:ext cx="9144000" cy="30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30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52280" y="3981600"/>
          <a:ext cx="8610840" cy="220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981600"/>
                    <a:ext cx="8610840" cy="22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4390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011240"/>
            <a:ext cx="8610840" cy="41292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52:04Z</dcterms:created>
  <dc:creator>Ximena Vargas</dc:creator>
  <dc:description/>
  <dc:language>en-US</dc:language>
  <cp:lastModifiedBy>xv</cp:lastModifiedBy>
  <dcterms:modified xsi:type="dcterms:W3CDTF">2005-09-01T13:48:47Z</dcterms:modified>
  <cp:revision>5</cp:revision>
  <dc:subject/>
  <dc:title>Sin título de diapositiva</dc:title>
</cp:coreProperties>
</file>