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C51-1669-4843-A074-60164B0A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B10-0F8A-42BF-A3B0-70724633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580-CB89-4F6A-BF05-AF7287CE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086-5F91-4025-8A8F-B6DEA4E7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00F7-15BA-498A-944B-F654CE87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9E9-7B9D-459C-ADF7-D47A514F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0FE-D3A6-4C97-9089-C05FDB72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71C-FB53-49AD-9310-275A16D7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A3C-CC75-4FFC-BB11-A14A57A2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B4C-D6A5-41CD-A550-2E478281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D872-2471-4945-85E3-B4740F6A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FBB-CA3F-4678-B239-D2A22C93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6771-D213-41C6-BF7F-EDCC9EF06F0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1600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xplíc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562720" y="533520"/>
            <a:ext cx="1600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Implíc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43200" y="228600"/>
            <a:ext cx="2666880" cy="1219320"/>
          </a:xfrm>
          <a:prstGeom prst="leftRightArrow">
            <a:avLst>
              <a:gd name="adj1" fmla="val 50000"/>
              <a:gd name="adj2" fmla="val 43541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05120"/>
            <a:ext cx="3047760" cy="2590560"/>
          </a:xfrm>
          <a:custGeom>
            <a:avLst/>
            <a:gdLst>
              <a:gd name="textAreaLeft" fmla="*/ 0 w 3047760"/>
              <a:gd name="textAreaRight" fmla="*/ 3048120 w 3047760"/>
              <a:gd name="textAreaTop" fmla="*/ 335520 h 2590560"/>
              <a:gd name="textAreaBottom" fmla="*/ 22550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66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F objetivo est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Expresada 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Relación explíci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De las variable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Ser optim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12193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0" y="106668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2057400"/>
            <a:ext cx="3047760" cy="2590920"/>
          </a:xfrm>
          <a:custGeom>
            <a:avLst/>
            <a:gdLst>
              <a:gd name="textAreaLeft" fmla="*/ 0 w 3047760"/>
              <a:gd name="textAreaRight" fmla="*/ 3048120 w 3047760"/>
              <a:gd name="textAreaTop" fmla="*/ 335880 h 2590920"/>
              <a:gd name="textAreaBottom" fmla="*/ 225504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66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Modelos hidr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Usan este tip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Times New Roman"/>
              </a:rPr>
              <a:t>F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Ci71f5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6476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28600"/>
            <a:ext cx="822960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Ibbit (1970) modifica el procedimiento avanzando en una dirección hasta alcanzar el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i71f6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5034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6019920"/>
            <a:ext cx="9144000" cy="8380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Para terminar la búsqueda en una dirección sup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Aproximación cuadrática F=ct</a:t>
            </a:r>
            <a:r>
              <a:rPr b="1" lang="es-ES_tradnl" sz="2400" spc="-1" strike="noStrike" baseline="30000">
                <a:solidFill>
                  <a:srgbClr val="6699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+bt+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1600200"/>
            <a:ext cx="2286000" cy="440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99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6699ff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6699ff"/>
                </a:solidFill>
                <a:latin typeface="Verdana"/>
              </a:rPr>
              <a:t>mín</a:t>
            </a:r>
            <a:r>
              <a:rPr b="1" lang="es-ES_tradnl" sz="2000" spc="-1" strike="noStrike">
                <a:solidFill>
                  <a:srgbClr val="6699ff"/>
                </a:solidFill>
                <a:latin typeface="Verdana"/>
              </a:rPr>
              <a:t> = -b/(2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038480" y="2209680"/>
                <a:ext cx="510552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í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]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43000" y="457200"/>
            <a:ext cx="7162920" cy="2397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Determinar  mínim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Y=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-14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+2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-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Usando rotación de coordenadas, partir de (15,-4) S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1 y 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3352680"/>
            <a:ext cx="632448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0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07   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6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4 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114800"/>
            <a:ext cx="381492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4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4 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876920"/>
            <a:ext cx="723888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4-1,5*1=12,5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4 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63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5638680"/>
            <a:ext cx="784872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4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2,5-1,5*1,5=10,25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4 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4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34,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62120" y="380880"/>
            <a:ext cx="800100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5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4-1,5*2,25=6,88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4 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0,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219320"/>
            <a:ext cx="800100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6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4-1,5*3,75=1,82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4 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7,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286000"/>
            <a:ext cx="5181840" cy="10666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calcula posición de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3429000"/>
            <a:ext cx="35816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5,01   y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7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191120"/>
            <a:ext cx="800100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4+1=-3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5,01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8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12,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800600"/>
            <a:ext cx="800100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3+1,5*1=-1,5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5,01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9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33,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5410080"/>
            <a:ext cx="800100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3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1,5+1,5*1,5=0,75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5,01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0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47,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6095880"/>
            <a:ext cx="830556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4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0,75+1,5*2,25=4,13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5,01 y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-31,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04920"/>
            <a:ext cx="5181480" cy="106668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calcula posición de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523880"/>
            <a:ext cx="3962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1,25   y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2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-48,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266688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0(15;-4)    P1(5,01;1,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581280"/>
            <a:ext cx="3810240" cy="1672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Nuevas dir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=5,01-15=-9,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=1,25-(-4)=5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038480"/>
            <a:ext cx="53352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484960" y="3733920"/>
            <a:ext cx="3659040" cy="2182680"/>
            <a:chOff x="5484960" y="3733920"/>
            <a:chExt cx="3659040" cy="2182680"/>
          </a:xfrm>
        </p:grpSpPr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5484960" y="3733920"/>
                  <a:ext cx="365904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A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99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i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25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5638680" y="4419720"/>
                  <a:ext cx="3248280" cy="14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acc>
                                <m:accPr>
                                  <m:chr m:val="⃗"/>
                                </m:accPr>
                                <m:e>
                                  <m:r>
                                    <m:t xml:space="preserve">A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5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5 {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</m:e>
                      </m:eqAr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B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,2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i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9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5334120"/>
                <a:ext cx="3124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9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 {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</m:eqAr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Ci71f7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54380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304920"/>
            <a:ext cx="76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egundo Ciclo: dirección e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219320"/>
            <a:ext cx="8915400" cy="510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5,01-1*(-0,89)=5,9 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1,25-1*(0,47)=0,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20574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Verdana"/>
              </a:rPr>
              <a:t>13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=-51,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743200"/>
            <a:ext cx="8915400" cy="1116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5,01-1,5*(-0,89)=7,24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0,78  -1,51*(0,47)=-0,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41148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Verdana"/>
              </a:rPr>
              <a:t>14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=-49,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4952880"/>
            <a:ext cx="5181480" cy="106704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calcula posición de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6095880"/>
            <a:ext cx="5257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6,7   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0,36   y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5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-51,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618320" y="1675800"/>
            <a:ext cx="1108080" cy="4344120"/>
            <a:chOff x="7618320" y="1675800"/>
            <a:chExt cx="1108080" cy="4344120"/>
          </a:xfrm>
        </p:grpSpPr>
        <p:sp>
          <p:nvSpPr>
            <p:cNvPr id="118" name=""/>
            <p:cNvSpPr/>
            <p:nvPr/>
          </p:nvSpPr>
          <p:spPr>
            <a:xfrm rot="16204200">
              <a:off x="6838920" y="2457360"/>
              <a:ext cx="2666880" cy="1104840"/>
            </a:xfrm>
            <a:custGeom>
              <a:avLst/>
              <a:gdLst>
                <a:gd name="textAreaLeft" fmla="*/ 888840 w 2666880"/>
                <a:gd name="textAreaRight" fmla="*/ 2284200 w 2666880"/>
                <a:gd name="textAreaTop" fmla="*/ 636480 h 1104840"/>
                <a:gd name="textAreaBottom" fmla="*/ 946440 h 110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81880" y="4343400"/>
              <a:ext cx="304920" cy="1676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876920" y="1905120"/>
            <a:ext cx="2743200" cy="761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304920"/>
            <a:ext cx="762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egundo Ciclo: dirección e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219320"/>
            <a:ext cx="5257800" cy="92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5,01+1*(0,47)=6,37   x</a:t>
            </a:r>
            <a:r>
              <a:rPr b="1" lang="es-ES_tradnl" sz="2400" spc="-1" strike="noStrike" baseline="-25000">
                <a:solidFill>
                  <a:srgbClr val="ccffff"/>
                </a:solidFill>
                <a:latin typeface="Verdana"/>
              </a:rPr>
              <a:t>2</a:t>
            </a:r>
            <a:r>
              <a:rPr b="1" lang="es-ES_tradnl" sz="2400" spc="-1" strike="noStrike" baseline="30000">
                <a:solidFill>
                  <a:srgbClr val="ccffff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=0,78+1*(0,89)=1,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137160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Verdana"/>
              </a:rPr>
              <a:t>16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=-53,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2438280"/>
            <a:ext cx="38862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tc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066680" y="228600"/>
            <a:ext cx="34290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Función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800100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ebe tenerse en cuenta el objetivo deseado: en la simulación hidrológica es simular un hidrograma y compararlo con el observ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2971800"/>
            <a:ext cx="243864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Función cuadrá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572000" y="2743200"/>
                <a:ext cx="30225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1600200" y="6172200"/>
            <a:ext cx="71629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an mayor peso a caudales may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572000"/>
            <a:ext cx="243828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Función Mód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648320" y="4419720"/>
                <a:ext cx="278928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533520"/>
            <a:ext cx="243864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Función In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194000" y="442800"/>
                <a:ext cx="31687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1828800" y="18288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a mayor peso a caudales men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2971800"/>
            <a:ext cx="243828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Función Rel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281480" y="2895480"/>
                <a:ext cx="31399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762120" y="4876920"/>
            <a:ext cx="81532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Ajuste en rastreo de crec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1 se ajusta mejor en el máxim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2 en promedio y F3 en los menores cau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4572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Técnicas Ite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676520"/>
            <a:ext cx="5943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usan cuando las F. Objetivo son implíc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9907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3200400"/>
            <a:ext cx="71629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rocesos direccionados de búsq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3962520"/>
            <a:ext cx="6858000" cy="2253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Definición de punto de par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Dirección de búsque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Intervalo de variación en cada it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riterio de de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i71f8" descr=""/>
          <p:cNvPicPr/>
          <p:nvPr/>
        </p:nvPicPr>
        <p:blipFill>
          <a:blip r:embed="rId1"/>
          <a:stretch/>
        </p:blipFill>
        <p:spPr>
          <a:xfrm>
            <a:off x="1295280" y="536400"/>
            <a:ext cx="7010640" cy="61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457200"/>
            <a:ext cx="7924680" cy="1557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Optimización por iteración en modelos de simulación hidrológica considera FO, diferencia de volúmenes y examen visual de aproximación de curvas (Subje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438280"/>
            <a:ext cx="4495680" cy="533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IMI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276720"/>
            <a:ext cx="8381880" cy="3352680"/>
          </a:xfrm>
          <a:prstGeom prst="flowChartPunchedCard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-FO puede presentar anomalías en la vecindad del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-Solución puede converger para parámetros inconsist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desde el punto de vista fí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-mínimo puede ser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-cuando son muchos parámetros el proceso puede ser l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-incertezas de datos observados son transferidas a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de ajuste pudiendo llegar a resultados absur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-puede existir interdependencia entre paráme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-pueden existir discontinuidades en la 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304920"/>
            <a:ext cx="533520" cy="60948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28600"/>
            <a:ext cx="3353040" cy="533520"/>
          </a:xfrm>
          <a:prstGeom prst="horizontalScrol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Recomend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1143000"/>
            <a:ext cx="6477120" cy="239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Verdana"/>
              </a:rPr>
              <a:t>Seleccionar los parámetros más sens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Verdana"/>
              </a:rPr>
              <a:t>Estimar los parámetros poco sensibles y fijar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Verdana"/>
              </a:rPr>
              <a:t>Limitar la variación de los paráme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Verdana"/>
              </a:rPr>
              <a:t>Criterios de detención: número máximo d iteraciones,  número máximo de ciclos, variación de función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952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i FO no es uni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5181480"/>
            <a:ext cx="3581280" cy="533520"/>
          </a:xfrm>
          <a:prstGeom prst="rightArrow">
            <a:avLst>
              <a:gd name="adj1" fmla="val 50000"/>
              <a:gd name="adj2" fmla="val 167814"/>
            </a:avLst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380880"/>
            <a:ext cx="6095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Técnicas de optimización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2514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Métodos aleato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11430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Variar punto de partida y reiniciar la Optim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4572000" y="2133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Algoritmos gené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2971800"/>
            <a:ext cx="152280" cy="1066680"/>
          </a:xfrm>
          <a:prstGeom prst="downArrow">
            <a:avLst>
              <a:gd name="adj1" fmla="val 50000"/>
              <a:gd name="adj2" fmla="val 175118"/>
            </a:avLst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533520" y="4267080"/>
            <a:ext cx="205740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Búsqueda aleatoria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2666880" y="3505320"/>
            <a:ext cx="205740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Búsqueda aleatoria adap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5181480" y="3429000"/>
            <a:ext cx="35816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Método Comb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7916000">
            <a:off x="4533840" y="2552400"/>
            <a:ext cx="304920" cy="1143000"/>
          </a:xfrm>
          <a:prstGeom prst="downArrow">
            <a:avLst>
              <a:gd name="adj1" fmla="val 50000"/>
              <a:gd name="adj2" fmla="val 93713"/>
            </a:avLst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19320" y="1371600"/>
            <a:ext cx="73152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basa en la definición de un intervalo de variación para cada parámetro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971800"/>
            <a:ext cx="28191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min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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xma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3962520"/>
            <a:ext cx="6553440" cy="155700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Se generan N números aleatorios con distribución uniforme y se determinan N valores de la Función Objetivo. El menor valor se adopta como mínim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83059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14400" y="457200"/>
            <a:ext cx="7391520" cy="82548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scoger un punto inicial para un parámetro centrado con respecto a su rango de var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905120"/>
            <a:ext cx="7467480" cy="155700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Generar N valores aleatorios dentro del intervalo siguiendo distribución uniforme o normal y almacene el punto con mejor valor de 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3809880"/>
            <a:ext cx="845820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Repetir  m veces reduciendo el intervalo en 10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i 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en cada repetición. Para cada repetición habrá un punto ópti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5334120"/>
            <a:ext cx="784836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Compare los m+1 puntos  óptimos y escoja el mejor valor de FO, redefiniéndolo como nuevo punto inicial. Almacene el 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0889400">
            <a:off x="8763120" y="2361960"/>
            <a:ext cx="380880" cy="3657600"/>
          </a:xfrm>
          <a:custGeom>
            <a:avLst/>
            <a:gdLst>
              <a:gd name="textAreaLeft" fmla="*/ 50760 w 380880"/>
              <a:gd name="textAreaRight" fmla="*/ 330120 w 38088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8686800" y="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  <a:path fill="darken" w="21600" h="28789">
                <a:moveTo>
                  <a:pt x="3794" y="14394"/>
                </a:moveTo>
                <a:lnTo>
                  <a:pt x="17806" y="7388"/>
                </a:lnTo>
                <a:lnTo>
                  <a:pt x="17806" y="21401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838080"/>
            <a:ext cx="7848720" cy="1191240"/>
          </a:xfrm>
          <a:prstGeom prst="rect">
            <a:avLst/>
          </a:prstGeom>
          <a:solidFill>
            <a:srgbClr val="66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Utiliza la generación de Números aleatorios para  establecer lo puntos iniciales  de las técnicas iter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8229600" y="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2971800"/>
            <a:ext cx="3276360" cy="22885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para cada valor generado de parámetro se usa técnica iterativa y se encuentra ópt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213372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5520" y="3048120"/>
            <a:ext cx="3504960" cy="2654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Después de un cierto número de iteraciones en método adaptivo se usa mejor punto como inicial para técnica it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2920" y="220968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0880" y="609480"/>
            <a:ext cx="8458200" cy="1557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ff"/>
                </a:solidFill>
                <a:latin typeface="Verdana"/>
              </a:rPr>
              <a:t>Se basa en que los “individuos” que tienen características semejantes se adaptan mejor a un mismo ambiente y tienen mejor oportunidad de sobrevivir, los busca y selecciona en grupos defi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3352680"/>
            <a:ext cx="21333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Inicialización de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3200400"/>
            <a:ext cx="2666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Disponibilidad de cada individuo en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1320" y="3048120"/>
            <a:ext cx="33526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Generación de nuevos individuos basados en la población exist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5232240"/>
            <a:ext cx="32004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Retiro de individuos de la población para dejar espacio a los 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5410080"/>
            <a:ext cx="22860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Disponibilidad de nuevos individ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5257800"/>
            <a:ext cx="23623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Criterio de detención o continuar 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2743200"/>
            <a:ext cx="1067040" cy="304920"/>
          </a:xfrm>
          <a:custGeom>
            <a:avLst/>
            <a:gdLst>
              <a:gd name="textAreaLeft" fmla="*/ 186480 w 1067040"/>
              <a:gd name="textAreaRight" fmla="*/ 773640 w 106704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2666880"/>
            <a:ext cx="1066680" cy="30492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-228600" y="2819520"/>
            <a:ext cx="10058400" cy="2361960"/>
            <a:chOff x="-228600" y="2819520"/>
            <a:chExt cx="10058400" cy="2361960"/>
          </a:xfrm>
        </p:grpSpPr>
        <p:sp>
          <p:nvSpPr>
            <p:cNvPr id="183" name=""/>
            <p:cNvSpPr/>
            <p:nvPr/>
          </p:nvSpPr>
          <p:spPr>
            <a:xfrm>
              <a:off x="8610480" y="2819520"/>
              <a:ext cx="1219320" cy="152280"/>
            </a:xfrm>
            <a:custGeom>
              <a:avLst/>
              <a:gdLst>
                <a:gd name="textAreaLeft" fmla="*/ 213120 w 1219320"/>
                <a:gd name="textAreaRight" fmla="*/ 884160 w 121932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228600" y="4952880"/>
              <a:ext cx="990720" cy="228600"/>
            </a:xfrm>
            <a:custGeom>
              <a:avLst/>
              <a:gdLst>
                <a:gd name="textAreaLeft" fmla="*/ 173160 w 990720"/>
                <a:gd name="textAreaRight" fmla="*/ 718200 w 9907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200400" y="4800600"/>
            <a:ext cx="1066680" cy="30492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4876920"/>
            <a:ext cx="1066680" cy="30456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8381880" y="4495680"/>
            <a:ext cx="381240" cy="1600200"/>
            <a:chOff x="8381880" y="4495680"/>
            <a:chExt cx="381240" cy="1600200"/>
          </a:xfrm>
        </p:grpSpPr>
        <p:sp>
          <p:nvSpPr>
            <p:cNvPr id="188" name=""/>
            <p:cNvSpPr/>
            <p:nvPr/>
          </p:nvSpPr>
          <p:spPr>
            <a:xfrm>
              <a:off x="8610480" y="4495680"/>
              <a:ext cx="152640" cy="1600200"/>
            </a:xfrm>
            <a:prstGeom prst="upArrow">
              <a:avLst>
                <a:gd name="adj1" fmla="val 50000"/>
                <a:gd name="adj2" fmla="val 26208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81880" y="6019920"/>
              <a:ext cx="304920" cy="7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2120" y="457200"/>
            <a:ext cx="7848360" cy="1557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oblación es definida por un conjunto de m individuos. Cada individuo es un conjunto de n valores que representa el vector de parámetros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895480"/>
            <a:ext cx="8077320" cy="764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Inicialización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está definida por una población inicial escogida por el usuario o generada aleato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191120"/>
            <a:ext cx="8229600" cy="1679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Disponibilidad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para cada individuo (punto con valor de j parámetros) de la población se calcula FO y se asigna un peso (a la peor FO se le asigna peso 1; el peso aumenta en un intervalo 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p) (Se puede normalizar los pesosy usar fdp; si 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p=0, fdp uniforme, si </a:t>
            </a:r>
            <a:r>
              <a:rPr b="1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p=1 es triangu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33520" y="304920"/>
            <a:ext cx="8229600" cy="13744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Selección y Generación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se generan números aleatorios con fdp uniforme; se analiza si está sobre el umbral prefijado de la F acumaulada (por ejemplo 10% mayores); si se cumple se selecciona al individ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286000"/>
            <a:ext cx="8305920" cy="1838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Eliminación de Individuos y Regeneración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Sustitución total: en cada etapa m individuos son sustituidos por igual núm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Sustitución Limitada: se generan R individuos que sustituyen a los R peores individuos de los m exis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800600"/>
            <a:ext cx="8153280" cy="1069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Reproducción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basado en la población actual se generan nuevos individuos combinando 2 individuos o por mutación de un individ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533520"/>
            <a:ext cx="4191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Método Univari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828800"/>
            <a:ext cx="7162920" cy="28954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unto de Inicio P(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0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varía 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k+1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= 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r>
              <a:rPr b="1" lang="es-ES_tradnl" sz="2400" spc="-1" strike="noStrike" baseline="30000">
                <a:solidFill>
                  <a:srgbClr val="000066"/>
                </a:solidFill>
                <a:latin typeface="Verdana"/>
              </a:rPr>
              <a:t>k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+s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encuentra mínimo de F.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varía 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y se encuentra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completa el ciclo con x</a:t>
            </a:r>
            <a:r>
              <a:rPr b="1" lang="es-ES_tradnl" sz="2400" spc="-1" strike="noStrike" baseline="-25000">
                <a:solidFill>
                  <a:srgbClr val="000066"/>
                </a:solidFill>
                <a:latin typeface="Verdan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Se repite cada ciclo hast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0"/>
            <a:ext cx="6858000" cy="1069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arada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criterios son semejantes a los de las técnicas iterativas. Número máximo de iteraciones o 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1447920"/>
            <a:ext cx="8458200" cy="51814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Franchini</a:t>
            </a:r>
            <a:r>
              <a:rPr b="1" lang="es-ES_tradnl" sz="1800" spc="-1" strike="noStrike">
                <a:solidFill>
                  <a:srgbClr val="ccffff"/>
                </a:solidFill>
                <a:latin typeface="Verdana"/>
              </a:rPr>
              <a:t>, 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1996 “Use of Genetic algorithm combined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a local search method for the automatic calibra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conceptual Rainfall-runoff models.” Hydrological Sci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Journal V. 41 p 21-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Duan, Soroosshian y Gupta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, 1992 “Effective and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Global optimization for conceptual rainfall-runoff model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Water Resources Research V. 28 Nº4 p.1015-10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Wang,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 1991 “the genetic algorithm and its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To calibration conceptual rainfall-runoff model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Water Resources Research V27 Nº9 p. 2467-24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Halhal et al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 1997 “Multiobjective Improvement of 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Distribution Systems Using a structured Messy Gene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Algorithm approach”ASCE Journal Of Water Res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and Management Vol 123 No3 pp 137-1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Savic and Walters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 1997 “Genetic algorithms for the l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cost design of water distribution networks” ASCE Journal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Water Res Planning and Management Vol 123 No3 pp 67-77</a:t>
            </a:r>
            <a:r>
              <a:rPr b="1" lang="es-ES_tradnl" sz="2000" spc="-1" strike="noStrike">
                <a:solidFill>
                  <a:srgbClr val="cc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562720"/>
            <a:ext cx="152280" cy="990360"/>
          </a:xfrm>
          <a:custGeom>
            <a:avLst/>
            <a:gdLst>
              <a:gd name="textAreaLeft" fmla="*/ 0 w 152280"/>
              <a:gd name="textAreaRight" fmla="*/ 106920 w 15228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05920" y="304920"/>
            <a:ext cx="380880" cy="6324480"/>
          </a:xfrm>
          <a:custGeom>
            <a:avLst/>
            <a:gdLst>
              <a:gd name="textAreaLeft" fmla="*/ 0 w 380880"/>
              <a:gd name="textAreaRight" fmla="*/ 267120 w 380880"/>
              <a:gd name="textAreaTop" fmla="*/ 263520 h 6324480"/>
              <a:gd name="textAreaBottom" fmla="*/ 6060960 h 632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304920"/>
            <a:ext cx="457200" cy="6324480"/>
          </a:xfrm>
          <a:custGeom>
            <a:avLst/>
            <a:gdLst>
              <a:gd name="textAreaLeft" fmla="*/ 134280 w 457200"/>
              <a:gd name="textAreaRight" fmla="*/ 457560 w 457200"/>
              <a:gd name="textAreaTop" fmla="*/ 263520 h 6324480"/>
              <a:gd name="textAreaBottom" fmla="*/ 6060960 h 632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685800"/>
            <a:ext cx="746748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Jurcyk et al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 2001 “Distributed conceptual rainfall runoff model with radar data at a high resolution input using genetic algorithm for parameter optimization” www.imgw.katowice.pl/Activities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Madsen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, 2000 ”Automatic calibration  of the Mike11/NAM Rainfall-Runoff model” http://projects.dhi.dk/daihm/Files/NAMautocalNHK2000Paper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Seibert 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2000 “Multicriteria calibration of conceptual rainfall-runoff model using genetic algorithm”   www.ma.slu.se/IMA/JanS/papers.html</a:t>
            </a:r>
            <a:r>
              <a:rPr b="1" lang="en-US" sz="800" spc="-1" strike="noStrike">
                <a:solidFill>
                  <a:srgbClr val="cc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ccffff"/>
                </a:solidFill>
                <a:latin typeface="Verdana"/>
              </a:rPr>
              <a:t>SOLICITAR por 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Aly, Peralta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 1999 “Comparison of a genetic algorithm and mathematical programming to the design of groundwater cleanup systems” Water Resources Research Vol 35 N</a:t>
            </a:r>
            <a:r>
              <a:rPr b="1" lang="en-US" sz="1800" spc="-1" strike="noStrike" baseline="30000">
                <a:solidFill>
                  <a:srgbClr val="ccffff"/>
                </a:solidFill>
                <a:latin typeface="Verdana"/>
              </a:rPr>
              <a:t>o</a:t>
            </a:r>
            <a:r>
              <a:rPr b="1" lang="en-US" sz="1800" spc="-1" strike="noStrike">
                <a:solidFill>
                  <a:srgbClr val="ccffff"/>
                </a:solidFill>
                <a:latin typeface="Verdana"/>
              </a:rPr>
              <a:t>8 p 24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858960"/>
            <a:ext cx="6248160" cy="4668840"/>
          </a:xfrm>
          <a:prstGeom prst="rect">
            <a:avLst/>
          </a:prstGeom>
          <a:ln w="9360">
            <a:solidFill>
              <a:srgbClr val="66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0"/>
            <a:ext cx="2286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25040" cy="3395880"/>
          </a:xfrm>
          <a:prstGeom prst="rect">
            <a:avLst/>
          </a:prstGeom>
          <a:ln w="9360">
            <a:solidFill>
              <a:srgbClr val="66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58" name="Ci71f3" descr=""/>
          <p:cNvPicPr/>
          <p:nvPr/>
        </p:nvPicPr>
        <p:blipFill>
          <a:blip r:embed="rId2"/>
          <a:stretch/>
        </p:blipFill>
        <p:spPr>
          <a:xfrm>
            <a:off x="1523880" y="4083120"/>
            <a:ext cx="6477120" cy="2774880"/>
          </a:xfrm>
          <a:prstGeom prst="rect">
            <a:avLst/>
          </a:prstGeom>
          <a:ln w="9360">
            <a:solidFill>
              <a:srgbClr val="6699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228600"/>
            <a:ext cx="70102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Método de rotación de coordenadas (Rosenbrock, 19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1295280"/>
            <a:ext cx="7391520" cy="304812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Partida igual que método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1,0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(x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) punto inicial cicl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m,0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(x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) último punto del cic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Nueva dirección (no x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) dada por vector A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Que liga P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1,0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y P</a:t>
            </a:r>
            <a:r>
              <a:rPr b="1" lang="es-ES_tradnl" sz="2000" spc="-1" strike="noStrike" baseline="-25000">
                <a:solidFill>
                  <a:srgbClr val="000066"/>
                </a:solidFill>
                <a:latin typeface="Verdana"/>
              </a:rPr>
              <a:t>m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137040" y="4730760"/>
                <a:ext cx="56894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 flipH="1">
            <a:off x="3505320" y="5410080"/>
            <a:ext cx="761760" cy="60984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6095880"/>
            <a:ext cx="6477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6699ff"/>
                </a:solidFill>
                <a:latin typeface="Verdana"/>
              </a:rPr>
              <a:t>Suma de todos los desplazamientos en la dirección e</a:t>
            </a:r>
            <a:r>
              <a:rPr b="1" lang="es-ES_tradnl" sz="1600" spc="-1" strike="noStrike" baseline="-25000">
                <a:solidFill>
                  <a:srgbClr val="6699ff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3002040"/>
            <a:ext cx="6477120" cy="3899880"/>
            <a:chOff x="0" y="3002040"/>
            <a:chExt cx="6477120" cy="3899880"/>
          </a:xfrm>
        </p:grpSpPr>
        <p:grpSp>
          <p:nvGrpSpPr>
            <p:cNvPr id="65" name=""/>
            <p:cNvGrpSpPr/>
            <p:nvPr/>
          </p:nvGrpSpPr>
          <p:grpSpPr>
            <a:xfrm>
              <a:off x="0" y="3002040"/>
              <a:ext cx="6477120" cy="3899880"/>
              <a:chOff x="0" y="3002040"/>
              <a:chExt cx="6477120" cy="3899880"/>
            </a:xfrm>
          </p:grpSpPr>
          <p:pic>
            <p:nvPicPr>
              <p:cNvPr id="66" name="Ci71f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3002040"/>
                <a:ext cx="6477120" cy="385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4800600" y="6461280"/>
                <a:ext cx="99072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Verdana"/>
                  </a:rPr>
                  <a:t>x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304920" y="3124080"/>
              <a:ext cx="533160" cy="44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1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80880" y="304920"/>
                <a:ext cx="1943280" cy="18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A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3276720" y="609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Primer e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438280" y="1066680"/>
            <a:ext cx="990720" cy="3049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1371600"/>
            <a:ext cx="541008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Dirección siguiente es normal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830680" y="2666880"/>
                <a:ext cx="56908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7010280" y="350532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22680" y="4114800"/>
                <a:ext cx="46213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821200" y="4983120"/>
                <a:ext cx="2035440" cy="18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43000" y="533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Generaliz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62320" y="1219320"/>
                <a:ext cx="530532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/>
                    </m:nary>
                    <m:r>
                      <m:t xml:space="preserve">(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⋅</m:t>
                    </m:r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084560" y="3200400"/>
                <a:ext cx="1943280" cy="18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B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B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1523880"/>
            <a:ext cx="8001000" cy="3400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Escogida una dirección se avanza con el intervalo dado hasta lograr éxito ( disminuir la F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Se modifica la dirección hasta que todas las variables han sido alteradas una vez, alcanzando éxito (fin cicl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Después de un éxito el espaciamiento se aumenta en acelerador </a:t>
            </a:r>
            <a:r>
              <a:rPr b="1" lang="es-ES_tradnl" sz="2400" spc="-1" strike="noStrike">
                <a:solidFill>
                  <a:srgbClr val="6699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 &gt;1. Si es falla (aumento de FO) se reduce en </a:t>
            </a:r>
            <a:r>
              <a:rPr b="1" lang="es-ES_tradnl" sz="2400" spc="-1" strike="noStrike">
                <a:solidFill>
                  <a:srgbClr val="6699ff"/>
                </a:solidFill>
                <a:latin typeface="Symbol"/>
                <a:ea typeface="Symbol"/>
              </a:rPr>
              <a:t></a:t>
            </a:r>
            <a:r>
              <a:rPr b="1" lang="es-ES_tradnl" sz="2400" spc="-1" strike="noStrike">
                <a:solidFill>
                  <a:srgbClr val="6699ff"/>
                </a:solidFill>
                <a:latin typeface="Verdana"/>
              </a:rPr>
              <a:t> (&lt;1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18:17:01Z</dcterms:created>
  <dc:creator>Guillermo Osses</dc:creator>
  <dc:description/>
  <dc:language>en-US</dc:language>
  <cp:lastModifiedBy>xv</cp:lastModifiedBy>
  <dcterms:modified xsi:type="dcterms:W3CDTF">2005-09-01T13:50:37Z</dcterms:modified>
  <cp:revision>10</cp:revision>
  <dc:subject/>
  <dc:title>Presentación de PowerPoint</dc:title>
</cp:coreProperties>
</file>