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A61-6B28-4966-A4C1-D049941C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EDD-CB41-4ADA-BBEF-348822EF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924-E43E-4C12-AC80-FA3EB56E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06E-4A35-4D90-99BE-C15FE5192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8AF-F190-47AF-8DAF-D964D6E5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964-332B-461F-871F-14DA36D2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3FF-4B69-420A-90B3-81444EE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5CA-F304-4DC0-8D71-1DF6E04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F38-3863-4255-B4D1-AC8ED016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F6F-ADB8-4A8B-9755-CC75D3C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912-322E-4572-A782-A7D5ABF7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0D9-F410-4DC8-82C8-1E4BA14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92C2-94B3-4E73-8E01-0AF513782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../../../Mis%20documentos/CI71F/Clase4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80880"/>
            <a:ext cx="7848360" cy="838440"/>
          </a:xfrm>
          <a:custGeom>
            <a:avLst/>
            <a:gdLst>
              <a:gd name="textAreaLeft" fmla="*/ 98640 w 7848360"/>
              <a:gd name="textAreaRight" fmla="*/ 7749720 w 7848360"/>
              <a:gd name="textAreaTop" fmla="*/ 98640 h 838440"/>
              <a:gd name="textAreaBottom" fmla="*/ 739800 h 838440"/>
            </a:gdLst>
            <a:ahLst/>
            <a:rect l="textAreaLeft" t="textAreaTop" r="textAreaRight" b="textAreaBottom"/>
            <a:pathLst>
              <a:path w="20211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8513" y="21600"/>
                </a:lnTo>
                <a:arcTo wR="3600" hR="3600" stAng="10800000" swAng="5400000"/>
                <a:lnTo>
                  <a:pt x="202113" y="3600"/>
                </a:lnTo>
                <a:arcTo wR="3600" hR="3600" stAng="5400000" swAng="5400000"/>
                <a:close/>
              </a:path>
            </a:pathLst>
          </a:cu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Optimización de parámetros de Modelos Hid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1905120"/>
            <a:ext cx="6553080" cy="13716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Buscar valor de una o varias variabl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porcionen el mejor resultado de una fun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ependiente de esas variables, dentro de un o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y sujeto a ciertas restric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3505320"/>
            <a:ext cx="8229600" cy="3124080"/>
            <a:chOff x="533520" y="3505320"/>
            <a:chExt cx="8229600" cy="3124080"/>
          </a:xfrm>
        </p:grpSpPr>
        <p:sp>
          <p:nvSpPr>
            <p:cNvPr id="44" name=""/>
            <p:cNvSpPr/>
            <p:nvPr/>
          </p:nvSpPr>
          <p:spPr>
            <a:xfrm>
              <a:off x="533520" y="3505320"/>
              <a:ext cx="8229600" cy="3124080"/>
            </a:xfrm>
            <a:prstGeom prst="foldedCorner">
              <a:avLst>
                <a:gd name="adj" fmla="val 12500"/>
              </a:avLst>
            </a:prstGeom>
            <a:solidFill>
              <a:srgbClr val="3399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Ejemplo: ecuación de Manning en canal trapecial para e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66"/>
                  </a:solidFill>
                  <a:latin typeface="Verdana"/>
                </a:rPr>
                <a:t>máximo caud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676520" y="4495680"/>
                  <a:ext cx="4419360" cy="18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Q</m:t>
                          </m:r>
                          <m:r>
                            <m:t xml:space="preserve">≡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α</m:t>
                          </m:r>
                          <m:r>
                            <m:t xml:space="preserve">)</m:t>
                          </m:r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R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  <m:r>
                            <m:t xml:space="preserve">≡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[</m:t>
                              </m:r>
                              <m:r>
                                <m:t xml:space="preserve">B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g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  <m:r>
                                <m:t xml:space="preserve">]</m:t>
                              </m:r>
                            </m:den>
                          </m:f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1</m:t>
                              </m:r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858000" y="4694400"/>
                <a:ext cx="15238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tricci {</m:t>
                            </m:r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</m:eqArr>
                    <m:r>
                      <m:t xml:space="preserve">A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B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533520"/>
            <a:ext cx="5867280" cy="398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inimizar o maximizar función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33520"/>
            <a:ext cx="1981440" cy="990360"/>
          </a:xfrm>
          <a:prstGeom prst="flowChartOffpageConnector">
            <a:avLst/>
          </a:prstGeom>
          <a:solidFill>
            <a:srgbClr val="3399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y=F(x</a:t>
            </a:r>
            <a:r>
              <a:rPr b="1" lang="es-ES_tradnl" sz="20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400440" y="1143000"/>
            <a:ext cx="1600200" cy="10666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2209680"/>
            <a:ext cx="3124080" cy="307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 variables independi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895480"/>
            <a:ext cx="7848720" cy="954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ara el modelo hidrológico x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Verdana"/>
              </a:rPr>
              <a:t>i</a:t>
            </a: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 son los parámetros mientras que para la metodología de optimización son las variables e y es la variable depe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4114800"/>
            <a:ext cx="6324480" cy="1752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Sin 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Optimización </a:t>
            </a:r>
            <a:r>
              <a:rPr b="1" lang="es-ES_tradnl" sz="1800" spc="-1" strike="noStrike" u="sng">
                <a:solidFill>
                  <a:srgbClr val="3399ff"/>
                </a:solidFill>
                <a:uFillTx/>
                <a:latin typeface="Arial"/>
              </a:rPr>
              <a:t>Con</a:t>
            </a: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 Restri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Arial"/>
              </a:rPr>
              <a:t>Condición de máximo o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8305920" y="64008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95280" y="380880"/>
            <a:ext cx="3657600" cy="2286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568440"/>
            <a:ext cx="2819520" cy="1844640"/>
          </a:xfrm>
          <a:custGeom>
            <a:avLst/>
            <a:gdLst/>
            <a:ahLst/>
            <a:rect l="l" t="t" r="r" b="b"/>
            <a:pathLst>
              <a:path w="1776" h="1162">
                <a:moveTo>
                  <a:pt x="0" y="938"/>
                </a:moveTo>
                <a:cubicBezTo>
                  <a:pt x="24" y="886"/>
                  <a:pt x="48" y="834"/>
                  <a:pt x="96" y="794"/>
                </a:cubicBezTo>
                <a:cubicBezTo>
                  <a:pt x="144" y="754"/>
                  <a:pt x="232" y="714"/>
                  <a:pt x="288" y="698"/>
                </a:cubicBezTo>
                <a:cubicBezTo>
                  <a:pt x="344" y="682"/>
                  <a:pt x="384" y="706"/>
                  <a:pt x="432" y="698"/>
                </a:cubicBezTo>
                <a:cubicBezTo>
                  <a:pt x="480" y="690"/>
                  <a:pt x="528" y="698"/>
                  <a:pt x="576" y="650"/>
                </a:cubicBezTo>
                <a:cubicBezTo>
                  <a:pt x="624" y="602"/>
                  <a:pt x="680" y="490"/>
                  <a:pt x="720" y="410"/>
                </a:cubicBezTo>
                <a:cubicBezTo>
                  <a:pt x="760" y="330"/>
                  <a:pt x="784" y="234"/>
                  <a:pt x="816" y="170"/>
                </a:cubicBezTo>
                <a:cubicBezTo>
                  <a:pt x="848" y="106"/>
                  <a:pt x="880" y="50"/>
                  <a:pt x="912" y="26"/>
                </a:cubicBezTo>
                <a:cubicBezTo>
                  <a:pt x="944" y="2"/>
                  <a:pt x="978" y="0"/>
                  <a:pt x="1008" y="26"/>
                </a:cubicBezTo>
                <a:cubicBezTo>
                  <a:pt x="1038" y="52"/>
                  <a:pt x="1062" y="105"/>
                  <a:pt x="1094" y="185"/>
                </a:cubicBezTo>
                <a:cubicBezTo>
                  <a:pt x="1126" y="265"/>
                  <a:pt x="1150" y="372"/>
                  <a:pt x="1200" y="506"/>
                </a:cubicBezTo>
                <a:cubicBezTo>
                  <a:pt x="1250" y="640"/>
                  <a:pt x="1336" y="882"/>
                  <a:pt x="1392" y="986"/>
                </a:cubicBezTo>
                <a:cubicBezTo>
                  <a:pt x="1448" y="1090"/>
                  <a:pt x="1504" y="1106"/>
                  <a:pt x="1536" y="1130"/>
                </a:cubicBezTo>
                <a:cubicBezTo>
                  <a:pt x="1568" y="1154"/>
                  <a:pt x="1568" y="1130"/>
                  <a:pt x="1584" y="1130"/>
                </a:cubicBezTo>
                <a:cubicBezTo>
                  <a:pt x="1600" y="1130"/>
                  <a:pt x="1608" y="1162"/>
                  <a:pt x="1632" y="1130"/>
                </a:cubicBezTo>
                <a:cubicBezTo>
                  <a:pt x="1656" y="1098"/>
                  <a:pt x="1704" y="994"/>
                  <a:pt x="1728" y="938"/>
                </a:cubicBezTo>
                <a:cubicBezTo>
                  <a:pt x="1752" y="882"/>
                  <a:pt x="1764" y="838"/>
                  <a:pt x="1776" y="794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12952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6002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5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23623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1981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248520" y="685800"/>
                <a:ext cx="13078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≡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1676520" y="2895480"/>
            <a:ext cx="2895480" cy="19051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Puntos estaciona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so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99ff"/>
                </a:solidFill>
                <a:latin typeface="Verdana"/>
              </a:rPr>
              <a:t>donde se cu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343400" y="1828800"/>
            <a:ext cx="2057400" cy="2286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648320"/>
            <a:ext cx="3276720" cy="1752480"/>
          </a:xfrm>
          <a:prstGeom prst="flowChart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ueden ser mínim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áximos o pu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e infl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905120" y="685800"/>
            <a:ext cx="4952880" cy="38098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362320" y="914400"/>
                <a:ext cx="3975120" cy="31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</m:e>
                      </m:mr>
                      <m:mr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mr>
                      <m:mr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∂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⋯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∂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F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685800" y="152280"/>
            <a:ext cx="35053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ff"/>
                </a:solidFill>
                <a:latin typeface="Verdana"/>
              </a:rPr>
              <a:t>Matriz Hess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48769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4724280"/>
            <a:ext cx="1295280" cy="7621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&g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876920"/>
            <a:ext cx="3352680" cy="3988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   definida pos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426708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867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57913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lt;0   si i es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Ri&gt;0       si i es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609480"/>
            <a:ext cx="4343400" cy="1600200"/>
          </a:xfrm>
          <a:prstGeom prst="flowChartPunchedCard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Si R</a:t>
            </a:r>
            <a:r>
              <a:rPr b="1" lang="es-ES_tradnl" sz="2000" spc="-1" strike="noStrike" baseline="-25000">
                <a:solidFill>
                  <a:srgbClr val="66ffff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=0 la deriva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ayor orden debe us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para verificar si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ffff"/>
                </a:solidFill>
                <a:latin typeface="Verdana"/>
              </a:rPr>
              <a:t>máximo o mín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2743200"/>
            <a:ext cx="6781680" cy="2209680"/>
          </a:xfrm>
          <a:prstGeom prst="rect">
            <a:avLst/>
          </a:prstGeom>
          <a:solidFill>
            <a:srgbClr val="6699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768760"/>
            <a:ext cx="5867280" cy="1739880"/>
          </a:xfrm>
          <a:custGeom>
            <a:avLst/>
            <a:gdLst/>
            <a:ahLst/>
            <a:rect l="l" t="t" r="r" b="b"/>
            <a:pathLst>
              <a:path w="3696" h="1096">
                <a:moveTo>
                  <a:pt x="0" y="416"/>
                </a:moveTo>
                <a:cubicBezTo>
                  <a:pt x="20" y="536"/>
                  <a:pt x="40" y="656"/>
                  <a:pt x="96" y="752"/>
                </a:cubicBezTo>
                <a:cubicBezTo>
                  <a:pt x="152" y="848"/>
                  <a:pt x="256" y="936"/>
                  <a:pt x="336" y="992"/>
                </a:cubicBezTo>
                <a:cubicBezTo>
                  <a:pt x="416" y="1048"/>
                  <a:pt x="512" y="1080"/>
                  <a:pt x="576" y="1088"/>
                </a:cubicBezTo>
                <a:cubicBezTo>
                  <a:pt x="640" y="1096"/>
                  <a:pt x="664" y="1096"/>
                  <a:pt x="720" y="1040"/>
                </a:cubicBezTo>
                <a:cubicBezTo>
                  <a:pt x="776" y="984"/>
                  <a:pt x="848" y="872"/>
                  <a:pt x="912" y="752"/>
                </a:cubicBezTo>
                <a:cubicBezTo>
                  <a:pt x="976" y="632"/>
                  <a:pt x="1048" y="440"/>
                  <a:pt x="1104" y="320"/>
                </a:cubicBezTo>
                <a:cubicBezTo>
                  <a:pt x="1160" y="200"/>
                  <a:pt x="1200" y="64"/>
                  <a:pt x="1248" y="32"/>
                </a:cubicBezTo>
                <a:cubicBezTo>
                  <a:pt x="1296" y="0"/>
                  <a:pt x="1336" y="56"/>
                  <a:pt x="1392" y="128"/>
                </a:cubicBezTo>
                <a:cubicBezTo>
                  <a:pt x="1448" y="200"/>
                  <a:pt x="1520" y="384"/>
                  <a:pt x="1584" y="464"/>
                </a:cubicBezTo>
                <a:cubicBezTo>
                  <a:pt x="1648" y="544"/>
                  <a:pt x="1688" y="616"/>
                  <a:pt x="1776" y="608"/>
                </a:cubicBezTo>
                <a:cubicBezTo>
                  <a:pt x="1864" y="600"/>
                  <a:pt x="2008" y="488"/>
                  <a:pt x="2112" y="416"/>
                </a:cubicBezTo>
                <a:cubicBezTo>
                  <a:pt x="2216" y="344"/>
                  <a:pt x="2328" y="216"/>
                  <a:pt x="2400" y="176"/>
                </a:cubicBezTo>
                <a:cubicBezTo>
                  <a:pt x="2472" y="136"/>
                  <a:pt x="2504" y="144"/>
                  <a:pt x="2544" y="176"/>
                </a:cubicBezTo>
                <a:cubicBezTo>
                  <a:pt x="2584" y="208"/>
                  <a:pt x="2586" y="322"/>
                  <a:pt x="2640" y="368"/>
                </a:cubicBezTo>
                <a:cubicBezTo>
                  <a:pt x="2694" y="414"/>
                  <a:pt x="2796" y="445"/>
                  <a:pt x="2868" y="453"/>
                </a:cubicBezTo>
                <a:cubicBezTo>
                  <a:pt x="2940" y="461"/>
                  <a:pt x="2990" y="462"/>
                  <a:pt x="3072" y="416"/>
                </a:cubicBezTo>
                <a:cubicBezTo>
                  <a:pt x="3154" y="370"/>
                  <a:pt x="3293" y="227"/>
                  <a:pt x="3360" y="176"/>
                </a:cubicBezTo>
                <a:cubicBezTo>
                  <a:pt x="3427" y="125"/>
                  <a:pt x="3428" y="105"/>
                  <a:pt x="3476" y="113"/>
                </a:cubicBezTo>
                <a:cubicBezTo>
                  <a:pt x="3524" y="121"/>
                  <a:pt x="3611" y="198"/>
                  <a:pt x="3648" y="224"/>
                </a:cubicBezTo>
                <a:cubicBezTo>
                  <a:pt x="3685" y="250"/>
                  <a:pt x="3688" y="264"/>
                  <a:pt x="3696" y="2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44197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36576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4290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34290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3200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5105520"/>
            <a:ext cx="304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029200"/>
            <a:ext cx="3045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514600"/>
            <a:ext cx="7621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96252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3886200"/>
            <a:ext cx="76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3657600"/>
            <a:ext cx="76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638680"/>
            <a:ext cx="5943600" cy="78732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,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y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3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son mínimos locales en el intervalo (a,b); P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es mínimo global en dicho interva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1080" y="304920"/>
            <a:ext cx="5562720" cy="1523880"/>
          </a:xfrm>
          <a:prstGeom prst="plus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=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14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+2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-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2133720"/>
            <a:ext cx="2435400" cy="440640"/>
          </a:xfrm>
          <a:prstGeom prst="rect">
            <a:avLst/>
          </a:prstGeom>
          <a:solidFill>
            <a:srgbClr val="000000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8 y x</a:t>
            </a:r>
            <a:r>
              <a:rPr b="1" lang="es-ES_tradnl" sz="2000" spc="-1" strike="noStrike" baseline="-25000">
                <a:solidFill>
                  <a:srgbClr val="ffff00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572000"/>
            <a:ext cx="31240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ínimo y=-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666880" y="2743200"/>
                <a:ext cx="177804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mr>
                      <m:mr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438280" y="2590920"/>
            <a:ext cx="2286000" cy="20574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33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352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3808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Clasificación de Técnicas de 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160020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600200"/>
            <a:ext cx="213336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Co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676520"/>
            <a:ext cx="2133720" cy="825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in 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429000"/>
            <a:ext cx="266724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429000"/>
            <a:ext cx="2666880" cy="1557000"/>
          </a:xfrm>
          <a:prstGeom prst="rect">
            <a:avLst/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unción Objetivo y restriccione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733920"/>
            <a:ext cx="2057400" cy="838080"/>
          </a:xfrm>
          <a:prstGeom prst="leftRightArrow">
            <a:avLst>
              <a:gd name="adj1" fmla="val 50000"/>
              <a:gd name="adj2" fmla="val 48870"/>
            </a:avLst>
          </a:prstGeom>
          <a:solidFill>
            <a:srgbClr val="000099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5486400"/>
            <a:ext cx="266724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33cc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Método Si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51814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5562720"/>
            <a:ext cx="3657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rogramación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i Fobj. es cuadr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y restriccione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297200">
            <a:off x="4419360" y="502920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6699ff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000000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/>
          </p:cNvPr>
          <p:cNvSpPr/>
          <p:nvPr/>
        </p:nvSpPr>
        <p:spPr>
          <a:xfrm>
            <a:off x="2133720" y="2590920"/>
            <a:ext cx="28954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0T15:44:28Z</dcterms:created>
  <dc:creator>Ximena Vargas</dc:creator>
  <dc:description/>
  <dc:language>en-US</dc:language>
  <cp:lastModifiedBy>xv</cp:lastModifiedBy>
  <dcterms:modified xsi:type="dcterms:W3CDTF">2005-09-01T13:50:50Z</dcterms:modified>
  <cp:revision>6</cp:revision>
  <dc:subject/>
  <dc:title>Sin título de diapositiva</dc:title>
</cp:coreProperties>
</file>