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851-BBA1-4530-BE6F-72485B73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3B8-363F-48DF-95EF-F275D40C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B54-7C31-4E79-9B51-F2FB0C5D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71C-003F-412F-B04B-BD8A57F8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7DE-A427-491C-8CB3-A6582BD7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0B3C-C57E-4B09-AFDA-17A2E153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4A3-63F9-4190-97B5-3D07C95C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92D-F008-49C4-81AA-26542334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581-F2DC-42B9-B064-562A4D7B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221-F440-453E-9F28-CCA1A61C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D49-B20C-4A04-BAE3-2C2F0FFA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E18-B849-47FB-A033-FD3ABA58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7934-98FF-4B48-AADC-39904BCE5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Console"/>
              </a:rPr>
              <a:t>James McPh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Console"/>
              </a:rPr>
              <a:t>Ximena Var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371600"/>
            <a:ext cx="7315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delación Hidrológica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457200"/>
            <a:ext cx="6629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abilidad de que variable sea mayor que un valor dado (o menor si es mínim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1828800"/>
            <a:ext cx="5181840" cy="3429000"/>
          </a:xfrm>
          <a:prstGeom prst="vertic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Diferencias entre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y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ya sea por falt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de la muestra u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o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errores de proces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762120"/>
            <a:ext cx="30481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ie estacio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905120"/>
            <a:ext cx="7391160" cy="1981080"/>
          </a:xfrm>
          <a:custGeom>
            <a:avLst/>
            <a:gdLst>
              <a:gd name="textAreaLeft" fmla="*/ 1847880 w 7391160"/>
              <a:gd name="textAreaRight" fmla="*/ 5543640 w 7391160"/>
              <a:gd name="textAreaTop" fmla="*/ 24768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 en río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truye embals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serie que inclu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ores de antes y despu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es estacio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648320"/>
            <a:ext cx="6858000" cy="1981080"/>
          </a:xfrm>
          <a:custGeom>
            <a:avLst/>
            <a:gdLst>
              <a:gd name="textAreaLeft" fmla="*/ 1714320 w 6858000"/>
              <a:gd name="textAreaRight" fmla="*/ 5143680 w 6858000"/>
              <a:gd name="textAreaTop" fmla="*/ 0 h 1981080"/>
              <a:gd name="textAreaBottom" fmla="*/ 1733760 h 19810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 en una cue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 realiza urb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 serie que inclu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dos los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es homogé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429000" y="457200"/>
            <a:ext cx="2666880" cy="914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RSI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828800"/>
            <a:ext cx="7543800" cy="2438280"/>
          </a:xfrm>
          <a:custGeom>
            <a:avLst/>
            <a:gdLst>
              <a:gd name="textAreaLeft" fmla="*/ 0 w 7543800"/>
              <a:gd name="textAreaRight" fmla="*/ 7544160 w 7543800"/>
              <a:gd name="textAreaTop" fmla="*/ 316080 h 2438280"/>
              <a:gd name="textAreaBottom" fmla="*/ 212220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SISTEMA: estructura, esquema o proce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real o abstracto, que en un instante dado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interrelaciona con una entrada, causa o estím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de energía o información y una salida, efecto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respuesta de energía o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5105520"/>
            <a:ext cx="251460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5029200"/>
            <a:ext cx="1600200" cy="762120"/>
          </a:xfrm>
          <a:prstGeom prst="rightArrow">
            <a:avLst>
              <a:gd name="adj1" fmla="val 50000"/>
              <a:gd name="adj2" fmla="val 52492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5791320"/>
            <a:ext cx="1828800" cy="838080"/>
          </a:xfrm>
          <a:prstGeom prst="rightArrow">
            <a:avLst>
              <a:gd name="adj1" fmla="val 50000"/>
              <a:gd name="adj2" fmla="val 54553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3880" y="1371600"/>
            <a:ext cx="2438640" cy="2133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46040" y="2311560"/>
            <a:ext cx="2197440" cy="1295280"/>
          </a:xfrm>
          <a:custGeom>
            <a:avLst/>
            <a:gdLst/>
            <a:ahLst/>
            <a:rect l="l" t="t" r="r" b="b"/>
            <a:pathLst>
              <a:path w="1384" h="816">
                <a:moveTo>
                  <a:pt x="112" y="80"/>
                </a:moveTo>
                <a:cubicBezTo>
                  <a:pt x="224" y="16"/>
                  <a:pt x="672" y="0"/>
                  <a:pt x="880" y="80"/>
                </a:cubicBezTo>
                <a:cubicBezTo>
                  <a:pt x="1088" y="160"/>
                  <a:pt x="1336" y="440"/>
                  <a:pt x="1360" y="560"/>
                </a:cubicBezTo>
                <a:cubicBezTo>
                  <a:pt x="1384" y="680"/>
                  <a:pt x="1176" y="784"/>
                  <a:pt x="1024" y="800"/>
                </a:cubicBezTo>
                <a:cubicBezTo>
                  <a:pt x="872" y="816"/>
                  <a:pt x="584" y="712"/>
                  <a:pt x="448" y="656"/>
                </a:cubicBezTo>
                <a:cubicBezTo>
                  <a:pt x="312" y="600"/>
                  <a:pt x="264" y="560"/>
                  <a:pt x="208" y="464"/>
                </a:cubicBezTo>
                <a:cubicBezTo>
                  <a:pt x="152" y="368"/>
                  <a:pt x="0" y="144"/>
                  <a:pt x="112" y="80"/>
                </a:cubicBez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346040"/>
            <a:ext cx="1765080" cy="1168560"/>
          </a:xfrm>
          <a:custGeom>
            <a:avLst/>
            <a:gdLst/>
            <a:ahLst/>
            <a:rect l="l" t="t" r="r" b="b"/>
            <a:pathLst>
              <a:path w="1112" h="736">
                <a:moveTo>
                  <a:pt x="0" y="736"/>
                </a:moveTo>
                <a:cubicBezTo>
                  <a:pt x="0" y="696"/>
                  <a:pt x="32" y="504"/>
                  <a:pt x="96" y="400"/>
                </a:cubicBezTo>
                <a:cubicBezTo>
                  <a:pt x="160" y="296"/>
                  <a:pt x="272" y="176"/>
                  <a:pt x="384" y="112"/>
                </a:cubicBezTo>
                <a:cubicBezTo>
                  <a:pt x="496" y="48"/>
                  <a:pt x="664" y="32"/>
                  <a:pt x="768" y="16"/>
                </a:cubicBezTo>
                <a:cubicBezTo>
                  <a:pt x="872" y="0"/>
                  <a:pt x="952" y="8"/>
                  <a:pt x="1008" y="16"/>
                </a:cubicBezTo>
                <a:cubicBezTo>
                  <a:pt x="1064" y="24"/>
                  <a:pt x="1112" y="0"/>
                  <a:pt x="1104" y="64"/>
                </a:cubicBezTo>
                <a:cubicBezTo>
                  <a:pt x="1096" y="128"/>
                  <a:pt x="1008" y="296"/>
                  <a:pt x="960" y="400"/>
                </a:cubicBezTo>
                <a:cubicBezTo>
                  <a:pt x="912" y="504"/>
                  <a:pt x="872" y="648"/>
                  <a:pt x="816" y="688"/>
                </a:cubicBezTo>
                <a:cubicBezTo>
                  <a:pt x="760" y="728"/>
                  <a:pt x="696" y="648"/>
                  <a:pt x="624" y="640"/>
                </a:cubicBezTo>
                <a:cubicBezTo>
                  <a:pt x="552" y="632"/>
                  <a:pt x="468" y="637"/>
                  <a:pt x="384" y="640"/>
                </a:cubicBezTo>
                <a:cubicBezTo>
                  <a:pt x="300" y="643"/>
                  <a:pt x="182" y="644"/>
                  <a:pt x="118" y="660"/>
                </a:cubicBezTo>
                <a:cubicBezTo>
                  <a:pt x="54" y="676"/>
                  <a:pt x="25" y="720"/>
                  <a:pt x="0" y="736"/>
                </a:cubicBezTo>
                <a:close/>
              </a:path>
            </a:pathLst>
          </a:custGeom>
          <a:solidFill>
            <a:srgbClr val="0099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2209680"/>
            <a:ext cx="3276360" cy="533520"/>
          </a:xfrm>
          <a:prstGeom prst="leftArrow">
            <a:avLst>
              <a:gd name="adj1" fmla="val 50000"/>
              <a:gd name="adj2" fmla="val 153526"/>
            </a:avLst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bsistem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310600">
            <a:off x="0" y="685800"/>
            <a:ext cx="2819520" cy="914400"/>
          </a:xfrm>
          <a:prstGeom prst="rightArrow">
            <a:avLst>
              <a:gd name="adj1" fmla="val 50000"/>
              <a:gd name="adj2" fmla="val 77087"/>
            </a:avLst>
          </a:prstGeom>
          <a:solidFill>
            <a:srgbClr val="009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bsistem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7242200">
            <a:off x="457200" y="4190760"/>
            <a:ext cx="3200400" cy="1067040"/>
          </a:xfrm>
          <a:prstGeom prst="rightArrow">
            <a:avLst>
              <a:gd name="adj1" fmla="val 50000"/>
              <a:gd name="adj2" fmla="val 74983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Subsistem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505320"/>
            <a:ext cx="3657600" cy="2819160"/>
          </a:xfrm>
          <a:prstGeom prst="flowChartMagneticTape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erdana"/>
              </a:rPr>
              <a:t>Modelo: 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es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representación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omportamiento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304920"/>
            <a:ext cx="2057400" cy="914400"/>
          </a:xfrm>
          <a:prstGeom prst="flowChartManualInpu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1905120"/>
            <a:ext cx="144756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905120"/>
            <a:ext cx="1752480" cy="990360"/>
          </a:xfrm>
          <a:prstGeom prst="flowChartOffpageConnector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1676520"/>
            <a:ext cx="2590560" cy="129528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tem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g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819520"/>
            <a:ext cx="152640" cy="838080"/>
          </a:xfrm>
          <a:prstGeom prst="downArrow">
            <a:avLst>
              <a:gd name="adj1" fmla="val 50000"/>
              <a:gd name="adj2" fmla="val 1372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733920"/>
            <a:ext cx="22096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a sistema a escala 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5105520"/>
            <a:ext cx="2971800" cy="1008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ogías entre ecuaciones de distintos fenóm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3124080"/>
            <a:ext cx="228600" cy="1905120"/>
          </a:xfrm>
          <a:prstGeom prst="downArrow">
            <a:avLst>
              <a:gd name="adj1" fmla="val 50000"/>
              <a:gd name="adj2" fmla="val 208346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657600"/>
            <a:ext cx="26668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 usan ecuaciones para representar comportamient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3124080"/>
            <a:ext cx="152640" cy="4572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500"/>
                            </p:stCondLst>
                            <p:childTnLst>
                              <p:par>
                                <p:cTn id="4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000"/>
                            </p:stCondLst>
                            <p:childTnLst>
                              <p:par>
                                <p:cTn id="43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380880"/>
            <a:ext cx="7848720" cy="1295640"/>
          </a:xfrm>
          <a:custGeom>
            <a:avLst/>
            <a:gdLst>
              <a:gd name="textAreaLeft" fmla="*/ 0 w 7848720"/>
              <a:gd name="textAreaRight" fmla="*/ 7849080 w 7848720"/>
              <a:gd name="textAreaTop" fmla="*/ 167760 h 1295640"/>
              <a:gd name="textAreaBottom" fmla="*/ 1127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delos matemáticos son mas versátiles aunque discretiz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os  continuos y se presentan dificultades para represen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temáticamente algunos procesos fí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50292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jemplo: Q de un embal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2362320"/>
            <a:ext cx="17528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2666880"/>
            <a:ext cx="106704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971800" y="3232080"/>
                <a:ext cx="19558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762120" y="4724280"/>
            <a:ext cx="1447560" cy="1143000"/>
          </a:xfrm>
          <a:prstGeom prst="flowChartPreparation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 S=K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11480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3505320"/>
            <a:ext cx="2057400" cy="580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riable de estado del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828440" y="5486040"/>
            <a:ext cx="106668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6019920"/>
            <a:ext cx="990720" cy="838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áme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5105520"/>
            <a:ext cx="3048120" cy="380880"/>
          </a:xfrm>
          <a:prstGeom prst="rightArrow">
            <a:avLst>
              <a:gd name="adj1" fmla="val 50000"/>
              <a:gd name="adj2" fmla="val 200071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562720" y="4800600"/>
                <a:ext cx="2286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7696080" y="5410080"/>
            <a:ext cx="22860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6477120"/>
            <a:ext cx="27432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3733920"/>
            <a:ext cx="27432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086240" y="4114800"/>
            <a:ext cx="15228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324480"/>
            <a:ext cx="251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 variable independ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500"/>
                            </p:stCondLst>
                            <p:childTnLst>
                              <p:par>
                                <p:cTn id="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7000"/>
                            </p:stCondLst>
                            <p:childTnLst>
                              <p:par>
                                <p:cTn id="5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7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304920"/>
            <a:ext cx="4191120" cy="1600200"/>
          </a:xfrm>
          <a:custGeom>
            <a:avLst/>
            <a:gdLst>
              <a:gd name="textAreaLeft" fmla="*/ 0 w 4191120"/>
              <a:gd name="textAreaRight" fmla="*/ 4191480 w 419112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ulación es el proc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 utilización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190512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2004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657600"/>
            <a:ext cx="304560" cy="1600200"/>
          </a:xfrm>
          <a:custGeom>
            <a:avLst/>
            <a:gdLst>
              <a:gd name="textAreaLeft" fmla="*/ 40680 w 304560"/>
              <a:gd name="textAreaRight" fmla="*/ 263880 w 30456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46483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os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os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55627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095880"/>
            <a:ext cx="1828800" cy="5335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á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0602200">
            <a:off x="4191120" y="2133360"/>
            <a:ext cx="533160" cy="1143000"/>
          </a:xfrm>
          <a:prstGeom prst="downArrow">
            <a:avLst>
              <a:gd name="adj1" fmla="val 50000"/>
              <a:gd name="adj2" fmla="val 53596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3276720"/>
            <a:ext cx="198108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idación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e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45720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os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á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41148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548640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6095880"/>
            <a:ext cx="2743200" cy="762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os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bservados vs. calc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548400">
            <a:off x="5797440" y="1169640"/>
            <a:ext cx="609480" cy="2590560"/>
          </a:xfrm>
          <a:prstGeom prst="downArrow">
            <a:avLst>
              <a:gd name="adj1" fmla="val 50000"/>
              <a:gd name="adj2" fmla="val 10626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352680"/>
            <a:ext cx="1981080" cy="7621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visión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o Mod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45720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os de 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áme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41148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29600" y="54100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5943600"/>
            <a:ext cx="2743200" cy="762120"/>
          </a:xfrm>
          <a:prstGeom prst="flowChartTerminator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os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lc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5029200"/>
            <a:ext cx="3962520" cy="1600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152280"/>
            <a:ext cx="3429000" cy="1752840"/>
          </a:xfrm>
          <a:prstGeom prst="flowChartMagneticTape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ando no existen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usan rangos físi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validez de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á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438280"/>
            <a:ext cx="2895840" cy="99072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juste por Tant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juste por Optim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est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86200" y="2590920"/>
            <a:ext cx="1600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2362320"/>
            <a:ext cx="30477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A través de métodos matemáticos se optimiza F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3352680"/>
            <a:ext cx="8380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809880"/>
            <a:ext cx="33526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Medidas específicas en el sistema (área, coeficiente de rugosidad de un ca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257800"/>
            <a:ext cx="3276720" cy="1143000"/>
          </a:xfrm>
          <a:custGeom>
            <a:avLst/>
            <a:gdLst/>
            <a:ahLst/>
            <a:rect l="l" t="t" r="r" b="b"/>
            <a:pathLst>
              <a:path w="2064" h="720">
                <a:moveTo>
                  <a:pt x="0" y="0"/>
                </a:moveTo>
                <a:cubicBezTo>
                  <a:pt x="8" y="52"/>
                  <a:pt x="16" y="104"/>
                  <a:pt x="48" y="144"/>
                </a:cubicBezTo>
                <a:cubicBezTo>
                  <a:pt x="80" y="184"/>
                  <a:pt x="112" y="216"/>
                  <a:pt x="192" y="240"/>
                </a:cubicBezTo>
                <a:cubicBezTo>
                  <a:pt x="272" y="264"/>
                  <a:pt x="448" y="256"/>
                  <a:pt x="528" y="288"/>
                </a:cubicBezTo>
                <a:cubicBezTo>
                  <a:pt x="608" y="320"/>
                  <a:pt x="624" y="376"/>
                  <a:pt x="672" y="432"/>
                </a:cubicBezTo>
                <a:cubicBezTo>
                  <a:pt x="720" y="488"/>
                  <a:pt x="728" y="584"/>
                  <a:pt x="816" y="624"/>
                </a:cubicBezTo>
                <a:cubicBezTo>
                  <a:pt x="904" y="664"/>
                  <a:pt x="1088" y="720"/>
                  <a:pt x="1200" y="672"/>
                </a:cubicBezTo>
                <a:cubicBezTo>
                  <a:pt x="1312" y="624"/>
                  <a:pt x="1376" y="416"/>
                  <a:pt x="1488" y="336"/>
                </a:cubicBezTo>
                <a:cubicBezTo>
                  <a:pt x="1600" y="256"/>
                  <a:pt x="1776" y="248"/>
                  <a:pt x="1872" y="192"/>
                </a:cubicBezTo>
                <a:cubicBezTo>
                  <a:pt x="1968" y="136"/>
                  <a:pt x="2016" y="68"/>
                  <a:pt x="2064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6095880"/>
            <a:ext cx="99072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5867280"/>
            <a:ext cx="129528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334120"/>
            <a:ext cx="327672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617220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57913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53341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5029200"/>
            <a:ext cx="4724280" cy="1621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auciones con Información Usada en calibración (Ej. Si se usa rango entre H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y H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y se simula con H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 sobre estima velocidad) y tener en cuenta variación temporal de parámetros (Ej. Impermeabilización al urbaniz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152280"/>
            <a:ext cx="4724280" cy="457200"/>
          </a:xfrm>
          <a:prstGeom prst="horizont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SIFICACION DE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914400"/>
            <a:ext cx="3733920" cy="1295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mori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: espacio de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sado durante el c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 entrada afecta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stado presente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523880"/>
            <a:ext cx="457200" cy="1676520"/>
          </a:xfrm>
          <a:custGeom>
            <a:avLst/>
            <a:gdLst>
              <a:gd name="textAreaLeft" fmla="*/ 61200 w 457200"/>
              <a:gd name="textAreaRight" fmla="*/ 396000 w 45720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666880"/>
            <a:ext cx="3429000" cy="1067040"/>
          </a:xfrm>
          <a:prstGeom prst="flowChartPreparation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moria cero: entra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fecta solo en 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ante en que e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cu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1523880"/>
            <a:ext cx="838440" cy="3581640"/>
          </a:xfrm>
          <a:custGeom>
            <a:avLst/>
            <a:gdLst>
              <a:gd name="textAreaLeft" fmla="*/ 112320 w 838440"/>
              <a:gd name="textAreaRight" fmla="*/ 726120 w 838440"/>
              <a:gd name="textAreaTop" fmla="*/ 626760 h 3581640"/>
              <a:gd name="textAreaBottom" fmla="*/ 259668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114800"/>
            <a:ext cx="3429000" cy="10666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Memoria infini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Sistema depende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todo su pas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762120"/>
            <a:ext cx="3505320" cy="533160"/>
          </a:xfrm>
          <a:custGeom>
            <a:avLst/>
            <a:gdLst>
              <a:gd name="textAreaLeft" fmla="*/ 613440 w 3505320"/>
              <a:gd name="textAreaRight" fmla="*/ 2541600 w 35053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1447920"/>
            <a:ext cx="2971800" cy="1295280"/>
          </a:xfrm>
          <a:prstGeom prst="flowChartPreparation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moria fini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stema depe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e entrada ocurri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n periodo finito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s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2666880"/>
            <a:ext cx="3962520" cy="3200400"/>
          </a:xfrm>
          <a:prstGeom prst="cloudCallout">
            <a:avLst>
              <a:gd name="adj1" fmla="val -25842"/>
              <a:gd name="adj2" fmla="val 723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emoria Cuen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ara una determi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ecipitación es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iempo que el agu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usa para infiltrar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ercolar y escur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hasta la sec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alida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500"/>
                            </p:stCondLst>
                            <p:childTnLst>
                              <p:par>
                                <p:cTn id="78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685800"/>
            <a:ext cx="34290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380880"/>
            <a:ext cx="3200400" cy="1067040"/>
          </a:xfrm>
          <a:prstGeom prst="irregularSeal2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Vale superpo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1905120"/>
            <a:ext cx="59436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ecuación diferencial que representa al sistem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2944800"/>
                <a:ext cx="57150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1371600" y="4267080"/>
            <a:ext cx="2514600" cy="1371600"/>
          </a:xfrm>
          <a:prstGeom prst="hexagon">
            <a:avLst>
              <a:gd name="adj" fmla="val 45833"/>
              <a:gd name="vf" fmla="val 11547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i A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[y(t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47242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4648320"/>
            <a:ext cx="3657600" cy="76176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Ecuación diferencial es lin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943600"/>
            <a:ext cx="8305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i S=KQ en ec. Continuidad. Si K cte. El modelo es lin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914400"/>
            <a:ext cx="7619760" cy="4969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roveer al alumno de técnicas avanzadas de modelación de sistemas de aguas superficiales y subterráneas que les permitan abordar el impacto de cambios naturales y antrópic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0"/>
            <a:ext cx="30477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etter Gothic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14400" y="685800"/>
            <a:ext cx="34290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685800"/>
            <a:ext cx="34290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828800"/>
            <a:ext cx="5943600" cy="17524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stema se modifica continu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ero para efectos de proyecto, los regi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 toman  a intervalos de tiempo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4114800"/>
            <a:ext cx="3352680" cy="1905120"/>
          </a:xfrm>
          <a:prstGeom prst="flowChartPunchedCard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i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t disminuye, el cos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 medir y de mod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umenta a favor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ayor precis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4419720"/>
            <a:ext cx="2133360" cy="1572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Limnígra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limní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380880"/>
            <a:ext cx="3429000" cy="6098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oncent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80880"/>
            <a:ext cx="3429000" cy="6098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istrib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676520"/>
            <a:ext cx="5943600" cy="17524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gún la variabilidad espacial y tem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e las variables y parámetros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685800"/>
            <a:ext cx="228600" cy="4038480"/>
          </a:xfrm>
          <a:custGeom>
            <a:avLst/>
            <a:gdLst>
              <a:gd name="textAreaLeft" fmla="*/ 30600 w 228600"/>
              <a:gd name="textAreaRight" fmla="*/ 198000 w 22860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3657600"/>
            <a:ext cx="3200400" cy="1371600"/>
          </a:xfrm>
          <a:prstGeom prst="flowChartPunchedCard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cuación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ordinaria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un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independiente 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3733920"/>
            <a:ext cx="3200400" cy="1371600"/>
          </a:xfrm>
          <a:prstGeom prst="flowChartPunchedCard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cuación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parcial con tiempo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spacio como 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independi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762120"/>
            <a:ext cx="457200" cy="4114800"/>
          </a:xfrm>
          <a:custGeom>
            <a:avLst/>
            <a:gdLst>
              <a:gd name="textAreaLeft" fmla="*/ 61200 w 457200"/>
              <a:gd name="textAreaRight" fmla="*/ 396000 w 4572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5334120"/>
            <a:ext cx="7162920" cy="64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 la práctica no se usan modelos distribuidos puros pues se usan discretizaciones numé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6248520"/>
            <a:ext cx="464832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6477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6553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6095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6095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6095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6095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6095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6400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6172200"/>
            <a:ext cx="2971800" cy="631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ntre A y B distrib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ntre i e i+1 concent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4000"/>
                            </p:stCondLst>
                            <p:childTnLst>
                              <p:par>
                                <p:cTn id="95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500"/>
                            </p:stCondLst>
                            <p:childTnLst>
                              <p:par>
                                <p:cTn id="9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6000"/>
                            </p:stCondLst>
                            <p:childTnLst>
                              <p:par>
                                <p:cTn id="96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95280" y="533520"/>
            <a:ext cx="6248520" cy="1371600"/>
          </a:xfrm>
          <a:prstGeom prst="flowChartOffpageConnector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elo distribuido representa mejor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variabilidad espa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362320"/>
            <a:ext cx="7391160" cy="205740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mbos tipos pueden entregar iguales resultad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sin embargo, sólo el distribuido permite ESTUD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variabilidad del comportamiento físic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diferentes partes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0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380880"/>
            <a:ext cx="3429000" cy="6098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stoc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457200"/>
            <a:ext cx="34290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etermin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295280"/>
            <a:ext cx="4572000" cy="2286000"/>
          </a:xfrm>
          <a:prstGeom prst="horizont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 se considera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 ocurrencia en la for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l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3962520"/>
            <a:ext cx="2667240" cy="1295280"/>
          </a:xfrm>
          <a:prstGeom prst="flowChartPunchedCard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Frente a la mis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ntrada el siste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produce la mi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610480" y="838080"/>
            <a:ext cx="533520" cy="4724640"/>
          </a:xfrm>
          <a:custGeom>
            <a:avLst/>
            <a:gdLst>
              <a:gd name="textAreaLeft" fmla="*/ 71280 w 533520"/>
              <a:gd name="textAreaRight" fmla="*/ 462240 w 53352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3809880"/>
            <a:ext cx="2666880" cy="129564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i rel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entrada salida 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estad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914400"/>
            <a:ext cx="380880" cy="3962520"/>
          </a:xfrm>
          <a:custGeom>
            <a:avLst/>
            <a:gdLst>
              <a:gd name="textAreaLeft" fmla="*/ 50760 w 380880"/>
              <a:gd name="textAreaRight" fmla="*/ 330120 w 380880"/>
              <a:gd name="textAreaTop" fmla="*/ 693360 h 3962520"/>
              <a:gd name="textAreaBottom" fmla="*/ 28728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5410080"/>
            <a:ext cx="8686800" cy="1447920"/>
          </a:xfrm>
          <a:prstGeom prst="flowChartTerminator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 una variable de entrada a un sistema es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mbién lo es la de salida. No obstante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uede tener comportamiento determinístico o 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terminado por un modelo determiní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304920"/>
            <a:ext cx="792468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jemplo: el caudal de entrada y salida a un embalse son variables aleatorias, pero el proceso es determiní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828800"/>
            <a:ext cx="7925040" cy="21337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Un examen simple de respuesta de un sistema puede llevar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clusiones errad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Un sistema con comportamiento aparentemente ale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puede también ser determin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572000"/>
            <a:ext cx="7315200" cy="1981080"/>
          </a:xfrm>
          <a:prstGeom prst="flowChartDocumen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CAOS DETERMINI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Cuando un sistema es no lineal y muy 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de sus condiciones iniciales, la respuesta pu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presentar características de una variable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y pasar por test estadísticos y estocás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0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3520" y="380880"/>
            <a:ext cx="6553080" cy="1008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Ejemplo: Modelo Determinístico No lineal en que la variable depende del parámetro r y del valor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990720" y="1676520"/>
                <a:ext cx="6470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r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 flipV="1">
            <a:off x="3124080" y="2438280"/>
            <a:ext cx="5335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33526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pará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648320" y="2286000"/>
            <a:ext cx="9144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3200400"/>
            <a:ext cx="251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Iteración 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09480" y="3762360"/>
            <a:ext cx="3353040" cy="2714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952880" y="3581280"/>
            <a:ext cx="3200400" cy="2905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4800600" y="62485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64612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LEATOR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30360" y="541440"/>
            <a:ext cx="2320920" cy="441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Concep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02320" y="195480"/>
            <a:ext cx="2365200" cy="9554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Empíricos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Caja Neg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2960" y="1620000"/>
            <a:ext cx="2705040" cy="2157840"/>
          </a:xfrm>
          <a:prstGeom prst="vertic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gún la característica de las funciones uti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1143000"/>
            <a:ext cx="228600" cy="3352680"/>
          </a:xfrm>
          <a:prstGeom prst="downArrow">
            <a:avLst>
              <a:gd name="adj1" fmla="val 50000"/>
              <a:gd name="adj2" fmla="val 36665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4520" y="4465800"/>
            <a:ext cx="2925720" cy="1501200"/>
          </a:xfrm>
          <a:prstGeom prst="flowChartPunchedCard">
            <a:avLst/>
          </a:pr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uando las fun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nen en consid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os procesos fí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800600"/>
            <a:ext cx="1676160" cy="609480"/>
          </a:xfrm>
          <a:prstGeom prst="leftArrow">
            <a:avLst>
              <a:gd name="adj1" fmla="val 50000"/>
              <a:gd name="adj2" fmla="val 6875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85720" y="3872880"/>
            <a:ext cx="2680560" cy="2779920"/>
          </a:xfrm>
          <a:prstGeom prst="foldedCorner">
            <a:avLst>
              <a:gd name="adj" fmla="val 125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Definición es arti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pues también se us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cs. Empíricas (Darc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Horton) que está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relacionadas con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física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0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762120"/>
            <a:ext cx="2133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533520"/>
            <a:ext cx="1463760" cy="2398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414200">
            <a:off x="3580920" y="1143000"/>
            <a:ext cx="1600200" cy="1219320"/>
          </a:xfrm>
          <a:prstGeom prst="rightArrow">
            <a:avLst>
              <a:gd name="adj1" fmla="val 50000"/>
              <a:gd name="adj2" fmla="val 32809"/>
            </a:avLst>
          </a:pr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257440" y="533520"/>
            <a:ext cx="2590920" cy="2361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609480"/>
            <a:ext cx="2666880" cy="228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038480"/>
            <a:ext cx="6934320" cy="13737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resentación de un OBJETO o SISTEMA con el fin de buscar sus respuestas para diferentes ent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762120"/>
            <a:ext cx="77724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 el hombre dimensiona un sistema especifica sus condicionantes y tiene un control total (edificio, circuito eléctr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809880"/>
            <a:ext cx="761976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UENCA HIDROGRÁFICA es el resultado de un Proceso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762120"/>
            <a:ext cx="754380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ortante monitorear comportamiento para prever sus respuestas frente a diferentes entradas: precipitaciones extremas, modificaciones uso suelo, cambio climático, etc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800600"/>
            <a:ext cx="3047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imi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449568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eterogeneidad física de la cuenca y de los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3962520"/>
            <a:ext cx="2743200" cy="609480"/>
          </a:xfrm>
          <a:custGeom>
            <a:avLst/>
            <a:gdLst>
              <a:gd name="textAreaLeft" fmla="*/ 479880 w 2743200"/>
              <a:gd name="textAreaRight" fmla="*/ 1989000 w 27432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29000" y="0"/>
            <a:ext cx="2286000" cy="1143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447920"/>
            <a:ext cx="861048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tintos modelos que son f(datos, discretización, prioridades en representación de los procesos y objetivo perseguido con la model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3886200" cy="236232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¿Por qué un modelo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 miden las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5867280"/>
            <a:ext cx="1676520" cy="609840"/>
          </a:xfrm>
          <a:custGeom>
            <a:avLst/>
            <a:gdLst>
              <a:gd name="textAreaLeft" fmla="*/ 293400 w 1676520"/>
              <a:gd name="textAreaRight" fmla="*/ 1215720 w 167652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3505320"/>
            <a:ext cx="4876920" cy="2438280"/>
          </a:xfrm>
          <a:prstGeom prst="flowChartPunchedCar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TICIPARSE a los ev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presentando impac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rbanización antes que 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que puedan usa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das preven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3505320"/>
            <a:ext cx="4876920" cy="24382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visión de crecida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emp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acto de alte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 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urrencia de eventos ext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adísticamente po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04920"/>
            <a:ext cx="3505320" cy="2514600"/>
          </a:xfrm>
          <a:prstGeom prst="flowChartPunchedTap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 tengo mode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¿Por qué med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3124080"/>
            <a:ext cx="2210040" cy="91440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1523880"/>
            <a:ext cx="3200400" cy="160020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en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yor incert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609480"/>
            <a:ext cx="6934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urso abordará modelos que usan funciones matemáticas empíricas o conceptuales para modelar parte d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819520"/>
            <a:ext cx="2514600" cy="1015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LIMI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2514600"/>
            <a:ext cx="1828800" cy="190512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idad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724280"/>
            <a:ext cx="2819160" cy="1676520"/>
          </a:xfrm>
          <a:custGeom>
            <a:avLst/>
            <a:gdLst>
              <a:gd name="textAreaLeft" fmla="*/ 0 w 2819160"/>
              <a:gd name="textAreaRight" fmla="*/ 2819520 w 2819160"/>
              <a:gd name="textAreaTop" fmla="*/ 217080 h 1676520"/>
              <a:gd name="textAreaBottom" fmla="*/ 14594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ficult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 mode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unos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4876920"/>
            <a:ext cx="3810240" cy="16761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ific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pacial de fenó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3048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8898200">
            <a:off x="3650040" y="4128120"/>
            <a:ext cx="446040" cy="1028520"/>
          </a:xfrm>
          <a:prstGeom prst="downArrow">
            <a:avLst>
              <a:gd name="adj1" fmla="val 50000"/>
              <a:gd name="adj2" fmla="val 576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228600"/>
            <a:ext cx="7924680" cy="119124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so: ser capaces de analizar modelos existentes, preparar modelos y aplicarlos en problemas “corrient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05120"/>
            <a:ext cx="2210040" cy="761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133720"/>
            <a:ext cx="1981080" cy="11430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685800" y="3276720"/>
            <a:ext cx="3352680" cy="16002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certid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7848720" y="5638680"/>
            <a:ext cx="304560" cy="304920"/>
          </a:xfrm>
          <a:prstGeom prst="star5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3886200"/>
            <a:ext cx="3809880" cy="1295280"/>
          </a:xfrm>
          <a:prstGeom prst="horizont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Vertedero diseñado 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T=1000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1814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791320"/>
            <a:ext cx="6858000" cy="904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 un año cualquiera riesgo es 0,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valo de confianza de Q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14:48:28Z</dcterms:created>
  <dc:creator>Ximena Vargas</dc:creator>
  <dc:description/>
  <dc:language>en-US</dc:language>
  <cp:lastModifiedBy>academico</cp:lastModifiedBy>
  <dcterms:modified xsi:type="dcterms:W3CDTF">2007-07-25T22:39:15Z</dcterms:modified>
  <cp:revision>11</cp:revision>
  <dc:subject/>
  <dc:title>Sin título de diapositiva</dc:title>
</cp:coreProperties>
</file>