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52F-A782-41A6-B970-A46EEFFB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CBA-8DC6-4B2B-BDD2-DE4B0EEF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F8A-FE99-4176-B636-7F6E90D1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788-2C1D-4F7E-BC45-F1A1E5AF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0CB1-FEB5-4655-8F06-9D43DB82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7AAE-6AA5-434A-B2A8-2AC065CB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E8F-5E36-422D-B2E4-D469FF3F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5C6-3A2F-4F11-96D4-ED11528F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B25-A497-49DE-B757-BBAB9858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C37-91B7-4760-BCBB-606FFF11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AAA-4971-4868-A0D3-98BF5670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E13-9ABF-4134-8DB9-66C97F08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982AEF-5826-4C85-84ED-310AA11E7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pítulo 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48006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CDA-D98F-4D89-BEE1-3017FE365447}" type="slidenum">
              <a:t>1</a:t>
            </a:fld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3348000" y="378936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258560" y="3860640"/>
            <a:ext cx="2017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32000" y="48690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 la ut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112920" y="5462640"/>
                <a:ext cx="379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537320" y="5445000"/>
                <a:ext cx="419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32000" y="256536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551664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616800">
            <a:off x="1835280" y="2492280"/>
            <a:ext cx="4897440" cy="208908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321300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2760" y="2297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49000" y="4772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41360" y="5084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57600" y="3952800"/>
            <a:ext cx="97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560" y="3573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4640" y="4581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6120" y="5734080"/>
            <a:ext cx="58654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variable con la localizació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ero estrictamente positiva siemp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969240" y="5016600"/>
                <a:ext cx="1396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83A-6A6E-43A4-AA5F-77243BB1F5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l ingr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156120" y="5300640"/>
                <a:ext cx="336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flipV="1">
            <a:off x="3348000" y="4200120"/>
            <a:ext cx="0" cy="1079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332000" y="41292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332000" y="463248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232884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528012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261612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19280" y="297648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2760" y="2060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99760" y="441648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91760" y="484812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58040" y="3716280"/>
            <a:ext cx="76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lt;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9960" y="393228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5040" y="434484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6640" y="5661000"/>
            <a:ext cx="6171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constante para toda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764480" y="5229360"/>
                <a:ext cx="452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5FE-3B65-4CC7-91BD-244DD34D49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La disposición a paga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amilia de curvas condicionales a un nivel de utilidad exógeno (se da en el equilibri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ingreso y precios son parámetr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 inversamente proporcional a la ut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tributos diferencian los valores de DP, incluyendo accesibilidad, en el espac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P a pagar varía en el espacio, compensando diferencias de atributos, manteniendo util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764-E140-4CF8-8144-DC45ADB027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7080" y="196056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Excedentes del Consumidor en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D06-A9C3-40D4-85F3-A685D1C558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378936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79320" y="1773360"/>
          <a:ext cx="317988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773360"/>
                    <a:ext cx="317988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189680" y="188424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4640" y="2878200"/>
          <a:ext cx="266724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4640" y="2878200"/>
                    <a:ext cx="26672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4302000" y="292428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sto en otros bienes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5960" y="4019400"/>
                <a:ext cx="363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5148360" y="3789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a pagar como función del gasto en otros bi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44600" y="5846760"/>
          <a:ext cx="551484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600" y="5846760"/>
                    <a:ext cx="55148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6840" y="505944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i se paga un precio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p,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gasto total 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767-6FDE-4A02-9605-3F2A448E31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732040" y="2901960"/>
          <a:ext cx="290844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2040" y="2901960"/>
                    <a:ext cx="29084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743200" y="1989000"/>
          <a:ext cx="394344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989000"/>
                    <a:ext cx="39434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820960" y="4255920"/>
          <a:ext cx="3718080" cy="73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20960" y="4255920"/>
                    <a:ext cx="371808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Función de gasto: caso de utilidad cuasi lineal</a:t>
            </a: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BAF-CCC7-4FC6-BD7F-0051C731D0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ahoma"/>
              </a:rPr>
              <a:t>La función de gast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911240" y="1773360"/>
          <a:ext cx="632952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1240" y="1773360"/>
                    <a:ext cx="632952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296000" y="2637000"/>
            <a:ext cx="63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=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igual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al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l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en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g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ay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203720" y="3998880"/>
          <a:ext cx="4835520" cy="268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3720" y="3998880"/>
                    <a:ext cx="4835520" cy="26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1240560" y="4478400"/>
            <a:ext cx="21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N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e equilibr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A93-19FF-4ADF-860A-D86BE7D5C5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33520" y="3129120"/>
          <a:ext cx="8173800" cy="121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129120"/>
                    <a:ext cx="817380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825480" y="23670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838080" y="48150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AC6-D718-45F3-8D1D-0D751287C9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constant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381400" y="3313080"/>
          <a:ext cx="478764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1400" y="3313080"/>
                    <a:ext cx="4787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30080" y="4627440"/>
          <a:ext cx="6397920" cy="19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080" y="4627440"/>
                    <a:ext cx="639792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308720" y="5589720"/>
            <a:ext cx="1371600" cy="691920"/>
          </a:xfrm>
          <a:prstGeom prst="wedgeRectCallout">
            <a:avLst>
              <a:gd name="adj1" fmla="val -177893"/>
              <a:gd name="adj2" fmla="val -90597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351080" y="2421000"/>
                <a:ext cx="77929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F2D1-3B52-4756-86F6-8261C586A3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381400" y="2879640"/>
          <a:ext cx="478764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1400" y="2879640"/>
                    <a:ext cx="4787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76280" y="4576680"/>
          <a:ext cx="694368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4576680"/>
                    <a:ext cx="69436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547640" y="2133720"/>
                <a:ext cx="69138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314-F336-4C8B-9D8D-4EF70EB302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240" y="2437920"/>
            <a:ext cx="6945480" cy="33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Modelo Microeconómico de Localizació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I. El corto plaz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(oferta exógen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D09-321B-4475-93A5-7A85010A31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, Utilidad cuasi-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039760" y="1870200"/>
          <a:ext cx="402912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1870200"/>
                    <a:ext cx="402912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109960" y="4765680"/>
          <a:ext cx="367488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09960" y="4765680"/>
                    <a:ext cx="367488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1AB-45DE-4606-9BC1-F1DD94BC82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52600" y="2819520"/>
                <a:ext cx="81882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de cambio en DP por cambios causados en lo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1066680" y="5410080"/>
            <a:ext cx="6978600" cy="1703160"/>
          </a:xfrm>
          <a:prstGeom prst="rect">
            <a:avLst/>
          </a:prstGeom>
          <a:solidFill>
            <a:srgbClr val="c9c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Obs.: 1) condiciones exter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73E-8E9C-4385-A679-228200D2E5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DP evaluado a U cte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 son idénticos a cambios en r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F00-DEB4-46AA-9DED-EE00D4C069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DETERMINÍ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0EF-68E0-4BCE-BEB8-8878BCF12E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84280" y="1600200"/>
                <a:ext cx="79372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20680" y="5373720"/>
            <a:ext cx="34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i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116-DDC2-4121-B61F-C922B88093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57360" y="3657600"/>
                <a:ext cx="8162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3992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292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77344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4468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F9D-439B-47F3-8024-7816868962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944720" y="1752480"/>
                <a:ext cx="5199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BCD1-5FAA-4D92-A86C-7C70C7B87C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Ú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0F8-C6B4-427A-8399-B5F37E9A15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44467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245120" y="2209680"/>
                <a:ext cx="37764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4038480"/>
            <a:ext cx="5135400" cy="1905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995640" y="4581360"/>
                <a:ext cx="4554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E7F-F834-4EC3-9D9F-DE75622255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971640" y="1125360"/>
                <a:ext cx="31017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859280" y="1111320"/>
                <a:ext cx="3780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619280" y="3068640"/>
                <a:ext cx="57610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140360" y="4508640"/>
                <a:ext cx="439236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695-AE91-4177-9F22-3ACC75402E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consumidores: resident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atributo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riedad de opciones zona-e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rcado de Remates: 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álisis de equilibrio del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das económicas sobre cambio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ulaciones en us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C64E-646C-4B38-9B73-58F9C90483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114560" y="2378160"/>
                <a:ext cx="6084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979640" y="3213000"/>
                <a:ext cx="49226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2D0-DDD5-438D-BABB-4CA5744BF5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MODELO DE EQUILIBRIO ESTOCÁSTICO EN LOCALIZACIÓN Y USO DEL SUEL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CEA1-7F14-4458-9A02-4E5A9DED18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582-1873-4AD6-BD2A-934B47300444}" type="slidenum">
              <a:t>32</a:t>
            </a:fld>
          </a:p>
        </p:txBody>
      </p:sp>
    </p:spTree>
  </p:cSld>
  <p:transition spd="med" advTm="16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3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97D-DB1E-48A4-8874-2B0D153CF52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BEE-6999-4A64-AE8B-EAD0CAFCBBF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BCC-8179-436C-9C67-E60A510ED3A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30400" y="3654360"/>
                <a:ext cx="43704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4F0-82F3-403F-BF15-FE4B14AE461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722600" y="4167360"/>
                <a:ext cx="63547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474-BBD0-453F-87CE-F3327B5F1E5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209680" y="5029200"/>
            <a:ext cx="574704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780000" y="2349360"/>
                <a:ext cx="33764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780000" y="3500280"/>
                <a:ext cx="33573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414520" y="5157720"/>
                <a:ext cx="532620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EEF-DC55-4F65-A1C3-47CF876C95C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971640" y="1413000"/>
            <a:ext cx="7342200" cy="1778040"/>
            <a:chOff x="971640" y="1413000"/>
            <a:chExt cx="7342200" cy="1778040"/>
          </a:xfrm>
        </p:grpSpPr>
        <p:sp>
          <p:nvSpPr>
            <p:cNvPr id="353" name=""/>
            <p:cNvSpPr/>
            <p:nvPr/>
          </p:nvSpPr>
          <p:spPr>
            <a:xfrm>
              <a:off x="971640" y="1413000"/>
              <a:ext cx="7342200" cy="17780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1347840" y="1427040"/>
                  <a:ext cx="6404040" cy="16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i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h</m:t>
                                  </m:r>
                                </m:num>
                                <m:den>
                                  <m:r>
                                    <m:t xml:space="preserve">i</m:t>
                                  </m:r>
                                </m:den>
                              </m:f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h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sSup>
                            <m:e>
                              <m:r>
                                <m:t xml:space="preserve">μ</m:t>
                              </m:r>
                            </m:e>
                            <m:sup>
                              <m:r>
                                <m:t xml:space="preserve">b</m:t>
                              </m:r>
                            </m:sup>
                          </m:sSup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  <m:sSup>
                                <m:e>
                                  <m:r>
                                    <m:t xml:space="preserve">μ</m:t>
                                  </m:r>
                                </m:e>
                                <m:sup>
                                  <m:r>
                                    <m:t xml:space="preserve">b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j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5" name=""/>
          <p:cNvSpPr/>
          <p:nvPr/>
        </p:nvSpPr>
        <p:spPr>
          <a:xfrm>
            <a:off x="1116000" y="3886200"/>
            <a:ext cx="5673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.. hay re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=1 ,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oferta se remat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.equilibrio oferta deman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041-EC82-470E-AE20-6E2B02ADBD2D}" type="slidenum">
              <a:t>39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LA DISPOSICIÓN </a:t>
            </a:r>
            <a:br>
              <a:rPr sz="4800"/>
            </a:b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A PAGAR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E0A-9A56-4CE8-A6FD-7429ED3CD5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alibr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415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rrelación entre atributos z y rentas r afecta parámetros de modelo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s posturas calibradas son truncada en ambas ver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mbigüedad en la función calibrada por choice: es de postura o utilidad. No hay ambigüedad en versión bi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arámetro de accesibilidad mejor en versión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clusión: estimar sistema de ecuaciones (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h/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i/h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, 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4C4-6E78-40B5-9EDC-9F088A95BAA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7080" y="1916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EQUILIBRIO EN 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ESTOCÁ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F76-DC02-46B5-8DCC-9D7319A507D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371600" y="236232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335240" y="2438280"/>
                <a:ext cx="63990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833400" y="6019920"/>
            <a:ext cx="628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nto fijo en localización dadas utilida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Externalidades</a:t>
            </a:r>
            <a:br>
              <a:rPr sz="4000"/>
            </a:b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 Equilibrio corto plaz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286000" y="4724280"/>
                <a:ext cx="41148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B7F-FE4B-4C40-88B9-A2DDDC160C3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49fff"/>
                </a:solidFill>
                <a:latin typeface="Tahoma"/>
              </a:rPr>
              <a:t>Caso utilidad cuasi 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550880" y="1600200"/>
                <a:ext cx="59277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693800" y="4114800"/>
                <a:ext cx="568188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vi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 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25E-BEDB-417C-9C94-DB2FF4F0D6D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834680" y="5907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92720" y="121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95880" y="24019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=L(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19560" y="1407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=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28120" y="1922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Probabilidad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72428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267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6708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2590920"/>
            <a:ext cx="4952880" cy="2895480"/>
          </a:xfrm>
          <a:custGeom>
            <a:avLst/>
            <a:gdLst/>
            <a:ahLst/>
            <a:rect l="l" t="t" r="r" b="b"/>
            <a:pathLst>
              <a:path w="3504" h="2256">
                <a:moveTo>
                  <a:pt x="0" y="2256"/>
                </a:moveTo>
                <a:cubicBezTo>
                  <a:pt x="764" y="2084"/>
                  <a:pt x="1528" y="1912"/>
                  <a:pt x="1920" y="1584"/>
                </a:cubicBezTo>
                <a:cubicBezTo>
                  <a:pt x="2312" y="1256"/>
                  <a:pt x="2088" y="552"/>
                  <a:pt x="2352" y="288"/>
                </a:cubicBezTo>
                <a:cubicBezTo>
                  <a:pt x="2616" y="24"/>
                  <a:pt x="3312" y="48"/>
                  <a:pt x="350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2590920"/>
            <a:ext cx="228600" cy="152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3657600"/>
            <a:ext cx="152280" cy="1522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EE9-807C-49F7-A5C9-53D2949058E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880" y="34092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Equilibrio en Localización</a:t>
            </a:r>
            <a:br>
              <a:rPr sz="4000"/>
            </a:b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“Todo agente se localiza”</a:t>
            </a: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076480" y="4183200"/>
                <a:ext cx="57531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1978920" y="6156360"/>
            <a:ext cx="4187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utilidad: 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=f(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133720" y="2070000"/>
                <a:ext cx="5333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69C-7BB9-4919-B8D7-9BE6064AD0A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842600" y="59072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00640" y="12193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07160" y="243828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=logsuma(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33240" y="140796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=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31000" y="19224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Logs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94360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518112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4953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76520" y="2743200"/>
            <a:ext cx="4876560" cy="2514600"/>
          </a:xfrm>
          <a:custGeom>
            <a:avLst/>
            <a:gdLst/>
            <a:ahLst/>
            <a:rect l="l" t="t" r="r" b="b"/>
            <a:pathLst>
              <a:path w="3072" h="1584">
                <a:moveTo>
                  <a:pt x="0" y="1584"/>
                </a:moveTo>
                <a:cubicBezTo>
                  <a:pt x="336" y="1584"/>
                  <a:pt x="672" y="1584"/>
                  <a:pt x="960" y="1536"/>
                </a:cubicBezTo>
                <a:cubicBezTo>
                  <a:pt x="1248" y="1488"/>
                  <a:pt x="1472" y="1448"/>
                  <a:pt x="1728" y="1296"/>
                </a:cubicBezTo>
                <a:cubicBezTo>
                  <a:pt x="1984" y="1144"/>
                  <a:pt x="2272" y="840"/>
                  <a:pt x="2496" y="624"/>
                </a:cubicBezTo>
                <a:cubicBezTo>
                  <a:pt x="2720" y="408"/>
                  <a:pt x="2968" y="112"/>
                  <a:pt x="3072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230-3E87-4025-AEE4-CBDAF3664F7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033000" y="3413160"/>
            <a:ext cx="307764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P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564080" y="2590920"/>
            <a:ext cx="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4080" y="4343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62720" y="5715000"/>
            <a:ext cx="1676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7238880" y="2057400"/>
            <a:ext cx="0" cy="3657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0574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228600"/>
            <a:ext cx="7086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71800" y="1676520"/>
            <a:ext cx="297180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5105520"/>
            <a:ext cx="1981440" cy="1218960"/>
          </a:xfrm>
          <a:prstGeom prst="diamond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98800" y="54853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ve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C2B-69BF-4208-BC3E-F5EF2BBDEB6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Beneficios de Uso del suelo: caso estocást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8128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302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652320" y="2252520"/>
                <a:ext cx="7304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222-0587-47CC-8429-942D91301AA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289-E1F7-4474-B193-60C5E59B654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52480" y="1828800"/>
            <a:ext cx="5555880" cy="1887120"/>
            <a:chOff x="1752480" y="1828800"/>
            <a:chExt cx="5555880" cy="188712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1752480" y="2022840"/>
                  <a:ext cx="5166360" cy="158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1752480" y="3715920"/>
              <a:ext cx="5555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08360" y="1828800"/>
              <a:ext cx="0" cy="188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258920" y="3777120"/>
            <a:ext cx="75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texto: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bien es la localiz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umo  de un solo bien inmue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Bienes discretos y diferenciables en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spacio dis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xtensiones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ngreso end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Restricción de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tilidad de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40720" y="3716280"/>
            <a:ext cx="1403280" cy="609480"/>
          </a:xfrm>
          <a:prstGeom prst="borderCallout1">
            <a:avLst>
              <a:gd name="adj1" fmla="val 18750"/>
              <a:gd name="adj2" fmla="val -8333"/>
              <a:gd name="adj3" fmla="val -56250"/>
              <a:gd name="adj4" fmla="val -1675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n b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04000" y="3860640"/>
          <a:ext cx="36504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3860640"/>
                    <a:ext cx="3650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BBE-C846-4026-A137-784B46EDE7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5334120"/>
            <a:ext cx="669636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Derivación de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828800" y="1295280"/>
            <a:ext cx="5638320" cy="1752480"/>
            <a:chOff x="1828800" y="1295280"/>
            <a:chExt cx="5638320" cy="175248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1828800" y="1475280"/>
                  <a:ext cx="5243040" cy="14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96" name=""/>
            <p:cNvSpPr/>
            <p:nvPr/>
          </p:nvSpPr>
          <p:spPr>
            <a:xfrm>
              <a:off x="1828800" y="3047760"/>
              <a:ext cx="5638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67120" y="1295280"/>
              <a:ext cx="0" cy="17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34920" y="3424320"/>
                <a:ext cx="3276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179600" y="350532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14400" y="4308480"/>
                <a:ext cx="4521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5853960" y="449568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: precio exóg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206360" y="5486400"/>
                <a:ext cx="58755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042920" y="628488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o U. Demanda compen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92C1-0B9E-4E5C-9569-473BB49AAA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Caso utilidad cuasi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14680" y="1590840"/>
                <a:ext cx="6019560" cy="46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6659640" y="342900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3031" y="3794"/>
                </a:moveTo>
                <a:lnTo>
                  <a:pt x="27044" y="10800"/>
                </a:lnTo>
                <a:lnTo>
                  <a:pt x="13031" y="17806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E87-3CC4-4995-B5DD-65F2CC4441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502920" y="520200"/>
            <a:ext cx="7669080" cy="4837320"/>
            <a:chOff x="502920" y="520200"/>
            <a:chExt cx="7669080" cy="4837320"/>
          </a:xfrm>
        </p:grpSpPr>
        <p:sp>
          <p:nvSpPr>
            <p:cNvPr id="110" name=""/>
            <p:cNvSpPr/>
            <p:nvPr/>
          </p:nvSpPr>
          <p:spPr>
            <a:xfrm>
              <a:off x="502920" y="520200"/>
              <a:ext cx="5438520" cy="703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Derivación de la utilidad cuasi lineal</a:t>
              </a:r>
              <a:r>
                <a:rPr b="0" lang="es-MX" sz="12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1" name=""/>
            <p:cNvGraphicFramePr/>
            <p:nvPr/>
          </p:nvGraphicFramePr>
          <p:xfrm>
            <a:off x="504720" y="1376280"/>
            <a:ext cx="2837880" cy="72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4720" y="1376280"/>
                      <a:ext cx="283788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04720" y="2105280"/>
            <a:ext cx="3102480" cy="41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4720" y="2105280"/>
                      <a:ext cx="3102480" cy="4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04720" y="2515680"/>
            <a:ext cx="4459320" cy="40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4720" y="2515680"/>
                      <a:ext cx="445932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" name=""/>
            <p:cNvSpPr/>
            <p:nvPr/>
          </p:nvSpPr>
          <p:spPr>
            <a:xfrm>
              <a:off x="505800" y="3205800"/>
              <a:ext cx="52056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PO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504720" y="3945240"/>
            <a:ext cx="7667280" cy="1412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4720" y="3945240"/>
                      <a:ext cx="7667280" cy="141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1280" y="5734080"/>
          <a:ext cx="712944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5734080"/>
                    <a:ext cx="7129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8F1-F1F0-4A9F-8A3E-3491F11867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: 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áximo valor dispuesto a pagar para alcanzar nivel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manda compensada (Hicksiana) por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ensa diferenciales de atributos entre opciones para mantener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calizaciones con precio igual a DP son indiferentes para el consumid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46C-E548-4B64-B56D-EE9C81B1E7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martine</cp:lastModifiedBy>
  <dcterms:modified xsi:type="dcterms:W3CDTF">2007-10-05T15:53:44Z</dcterms:modified>
  <cp:revision>107</cp:revision>
  <dc:subject/>
  <dc:title>General</dc:title>
</cp:coreProperties>
</file>