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C07-23F0-4F6D-8847-8F44B58E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EE3-0DD6-45D1-8C4C-EDED7FD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06E-5BCA-44D1-987F-18248379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E69-D60F-4EE4-B209-6E9405A1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2AF-1AB5-4ECD-97D5-CA2E55CF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5E8-6DDF-4A2A-9B47-A5D57629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950-4B16-4A73-B8CD-AC54ABB8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45E-69F2-46BB-97EE-F44E2F2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ABB-71F2-4D7F-8F16-1E549B6B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FAE-FEAA-49A0-96DD-EBF3B32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7CB-26C0-4564-B491-7E6E9332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4F4-88D2-487C-BA76-6D70BBE6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C80A80-0DC5-426A-8CAB-C2DAF6927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ítulo 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8006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148-94A3-4DBB-A476-31BA8C2E550B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3348000" y="3789360"/>
            <a:ext cx="0" cy="1727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58560" y="3860640"/>
            <a:ext cx="2017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32000" y="48690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 la ut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112920" y="5462640"/>
                <a:ext cx="3794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537320" y="5445000"/>
                <a:ext cx="419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32000" y="256536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551664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616800">
            <a:off x="1835280" y="2492280"/>
            <a:ext cx="4897440" cy="208908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321300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2760" y="2297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9000" y="47721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41360" y="5084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57600" y="3952800"/>
            <a:ext cx="97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gt;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560" y="3573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4640" y="4581360"/>
            <a:ext cx="1098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6120" y="5734080"/>
            <a:ext cx="58654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U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variable con la localizació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ero estrictamente positiva siemp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969240" y="5016600"/>
                <a:ext cx="1396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DCA-41D9-4929-A267-26A943C8D6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 gráfica: función del ingr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156120" y="5300640"/>
                <a:ext cx="336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3348000" y="4200120"/>
            <a:ext cx="0" cy="1079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332000" y="412920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332000" y="4632480"/>
            <a:ext cx="201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2328840"/>
            <a:ext cx="0" cy="295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5280120"/>
            <a:ext cx="669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61612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2976480"/>
            <a:ext cx="4968720" cy="2160720"/>
          </a:xfrm>
          <a:custGeom>
            <a:avLst/>
            <a:gdLst/>
            <a:ahLst/>
            <a:rect l="l" t="t" r="r" b="b"/>
            <a:pathLst>
              <a:path w="3130" h="1361">
                <a:moveTo>
                  <a:pt x="0" y="0"/>
                </a:moveTo>
                <a:cubicBezTo>
                  <a:pt x="42" y="95"/>
                  <a:pt x="84" y="190"/>
                  <a:pt x="182" y="318"/>
                </a:cubicBezTo>
                <a:cubicBezTo>
                  <a:pt x="280" y="446"/>
                  <a:pt x="424" y="650"/>
                  <a:pt x="590" y="771"/>
                </a:cubicBezTo>
                <a:cubicBezTo>
                  <a:pt x="756" y="892"/>
                  <a:pt x="953" y="967"/>
                  <a:pt x="1180" y="1043"/>
                </a:cubicBezTo>
                <a:cubicBezTo>
                  <a:pt x="1407" y="1119"/>
                  <a:pt x="1626" y="1172"/>
                  <a:pt x="1951" y="1225"/>
                </a:cubicBezTo>
                <a:cubicBezTo>
                  <a:pt x="2276" y="1278"/>
                  <a:pt x="2926" y="1338"/>
                  <a:pt x="3130" y="1361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2760" y="2060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99760" y="441648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91760" y="4848120"/>
            <a:ext cx="38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58040" y="3716280"/>
            <a:ext cx="76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&lt;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960" y="393228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040" y="4344840"/>
            <a:ext cx="99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6640" y="5661000"/>
            <a:ext cx="6171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-DP(I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constante para toda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7764480" y="5229360"/>
                <a:ext cx="452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16B-6697-424D-A57D-3345FD405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La disposición a pagar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amilia de curvas condicionales a un nivel de utilidad exógeno (se da en el equilibri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ingreso y precios son parámetr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s inversamente proporcional a la ut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tributos diferencian los valores de DP, incluyendo accesibilidad, en el espac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P a pagar varía en el espacio, compensando diferencias de atributos, manteniendo ut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BAF-2EB6-44AD-8FEA-09BE0B174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17080" y="196056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Excedentes del Consumidor en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E4E-5C17-41A4-A861-8FA155125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3789360"/>
            <a:ext cx="434340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9320" y="1773360"/>
          <a:ext cx="317988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773360"/>
                    <a:ext cx="317988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189680" y="188424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4640" y="2878200"/>
          <a:ext cx="2667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878200"/>
                    <a:ext cx="26672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302000" y="29242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sto en otros bienes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15960" y="4019400"/>
                <a:ext cx="3635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e</m:t>
                        </m:r>
                      </m:e>
                    </m:ba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5148360" y="378936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a pagar como función del gasto en otros bi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44600" y="5846760"/>
          <a:ext cx="55148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5846760"/>
                    <a:ext cx="55148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016320" y="58672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unción de 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6840" y="505944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i se paga un precio </a:t>
            </a:r>
            <a:r>
              <a:rPr b="0" i="1" lang="es-MX" sz="2400" spc="-1" strike="noStrike">
                <a:solidFill>
                  <a:srgbClr val="ffffff"/>
                </a:solidFill>
                <a:latin typeface="Tahoma"/>
              </a:rPr>
              <a:t>p,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gasto total 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9D0-45B8-461B-92C3-84E588626F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32040" y="2901960"/>
          <a:ext cx="2908440" cy="7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32040" y="2901960"/>
                    <a:ext cx="29084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743200" y="1989000"/>
          <a:ext cx="394344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1989000"/>
                    <a:ext cx="394344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820960" y="4255920"/>
          <a:ext cx="3718080" cy="73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20960" y="4255920"/>
                    <a:ext cx="371808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Función de gasto: caso de utilidad cuasi lineal</a:t>
            </a: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6F3-289C-4E00-B89D-F6603E8E1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ahoma"/>
              </a:rPr>
              <a:t>La función de gast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911240" y="1773360"/>
          <a:ext cx="6329520" cy="70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773360"/>
                    <a:ext cx="632952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6000" y="2637000"/>
            <a:ext cx="63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=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igual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al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l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en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Si p&gt;DP entonces el gasto es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mayor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que ingr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203720" y="3998880"/>
          <a:ext cx="4835520" cy="268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3720" y="3998880"/>
                    <a:ext cx="4835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240560" y="4478400"/>
            <a:ext cx="21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N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de equilibr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53B-0B2A-4D93-AF68-77F60A2416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3129120"/>
          <a:ext cx="8173800" cy="121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9120"/>
                    <a:ext cx="817380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825480" y="23670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edidas clásicas: (p,z,U) e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838080" y="4815000"/>
                <a:ext cx="74804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;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F53-7C49-4C8C-8A76-2B3D8AC932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constant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381400" y="331308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331308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730080" y="4627440"/>
          <a:ext cx="6397920" cy="19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4627440"/>
                    <a:ext cx="639792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308720" y="5589720"/>
            <a:ext cx="1371600" cy="691920"/>
          </a:xfrm>
          <a:prstGeom prst="wedgeRectCallout">
            <a:avLst>
              <a:gd name="adj1" fmla="val -177893"/>
              <a:gd name="adj2" fmla="val -90597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351080" y="2421000"/>
                <a:ext cx="77929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57E-35B3-403E-A08F-E325B84A66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381400" y="2879640"/>
          <a:ext cx="47876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1400" y="2879640"/>
                    <a:ext cx="4787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76280" y="4576680"/>
          <a:ext cx="694368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4576680"/>
                    <a:ext cx="6943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547640" y="2133720"/>
                <a:ext cx="69138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44F-FA17-4A33-80C2-76218AC7E7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cf4ea"/>
                </a:solidFill>
                <a:latin typeface="Times New Roman"/>
              </a:rPr>
              <a:t>Módulo 4</a:t>
            </a:r>
            <a:r>
              <a:rPr b="1" lang="en-US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240" y="2437920"/>
            <a:ext cx="6945480" cy="33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Modelo Microeconómico de Localizació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I. El corto plaz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Times New Roman"/>
              </a:rPr>
              <a:t>(oferta exógen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E8C-5814-4437-A44F-C40E4CBE73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Excedente del consumidor: </a:t>
            </a:r>
            <a:r>
              <a:rPr b="1" lang="es-ES" sz="2800" spc="-1" strike="noStrike">
                <a:solidFill>
                  <a:srgbClr val="cc0000"/>
                </a:solidFill>
                <a:latin typeface="Tahoma"/>
              </a:rPr>
              <a:t>Utilidad variable, Utilidad cuasi-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39760" y="1870200"/>
          <a:ext cx="4029120" cy="19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9760" y="1870200"/>
                    <a:ext cx="4029120" cy="19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109960" y="4765680"/>
          <a:ext cx="367488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09960" y="4765680"/>
                    <a:ext cx="36748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7451640" y="5516640"/>
            <a:ext cx="1371600" cy="691920"/>
          </a:xfrm>
          <a:prstGeom prst="wedgeRectCallout">
            <a:avLst>
              <a:gd name="adj1" fmla="val -154166"/>
              <a:gd name="adj2" fmla="val -89449"/>
            </a:avLst>
          </a:prstGeom>
          <a:solidFill>
            <a:srgbClr val="84928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Notar U</a:t>
            </a:r>
            <a:r>
              <a:rPr b="0" lang="en-US" sz="1600" spc="-1" strike="noStrike" baseline="30000">
                <a:solidFill>
                  <a:srgbClr val="cc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7960" y="401796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Para I constante, cambio en localización de equilibri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8E9-5E59-4EC1-831B-B401A6541D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cf4ea"/>
                </a:solidFill>
                <a:latin typeface="Tahoma"/>
              </a:rPr>
              <a:t>Medidas de beneficio total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52600" y="2819520"/>
                <a:ext cx="81882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810720" y="1981080"/>
            <a:ext cx="77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o Total = Excedente Consumidor + Pro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ide cambio en DP por cambios causados en lo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ifiere de variación de pre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665680" y="5637240"/>
                <a:ext cx="12398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066680" y="5410080"/>
            <a:ext cx="6978600" cy="1703160"/>
          </a:xfrm>
          <a:prstGeom prst="rect">
            <a:avLst/>
          </a:prstGeom>
          <a:solidFill>
            <a:srgbClr val="c9c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Obs.: 1) condiciones exter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302097"/>
                </a:solidFill>
                <a:latin typeface="Tahoma"/>
              </a:rPr>
              <a:t>2) externalidades: interacción entre ag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9360" y="152388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una localiza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B30-E7B2-4440-8FEB-BF8C76488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Algunas conclus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beneficios totales 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DP evaluado a U cte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U más cambio en rentas,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mbio en valor de ambiente construido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ahoma"/>
              </a:rPr>
              <a:t>NO son idénticos a cambios en ren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F74-968E-4677-9E41-96B38EA6CC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DETERMINÍ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D6A-244D-45EA-BD08-6AC3AB4AB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295280"/>
            <a:ext cx="8305920" cy="12956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b7a5"/>
                </a:solidFill>
                <a:latin typeface="Times New Roman"/>
              </a:rPr>
              <a:t>TEORIA DEL COMPORT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200400"/>
            <a:ext cx="236196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 externalidades de localización (endógenas a US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Nivel de ingres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tatu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Etnia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8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glomeración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84280" y="1600200"/>
                <a:ext cx="79372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3200400"/>
            <a:ext cx="236232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del sistema de transporte para acceder a actividades (end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200400"/>
            <a:ext cx="2362320" cy="15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Variables geográficas (exógenas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a US&amp;T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3200400"/>
            <a:ext cx="2057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Parámetros de gust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447920" y="2362320"/>
            <a:ext cx="7617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57600" y="30477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581280" y="236196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657600" y="2438280"/>
            <a:ext cx="16765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095880" y="2362320"/>
            <a:ext cx="6858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7772400" y="2437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20680" y="5373720"/>
            <a:ext cx="34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h: categoría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6633"/>
                </a:solidFill>
                <a:latin typeface="Arial"/>
              </a:rPr>
              <a:t>i: zona de localizació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431-C42C-4A18-ACD0-F76CC89E05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57200" y="3429000"/>
            <a:ext cx="8534520" cy="13716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04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b7a5"/>
                </a:solidFill>
                <a:latin typeface="Times New Roman"/>
              </a:rPr>
              <a:t>LA DISPOSICION A PAG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1066680"/>
            <a:ext cx="762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 existe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 U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existe </a:t>
            </a:r>
            <a:r>
              <a:rPr b="0" i="1" lang="es-ES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752480"/>
            <a:ext cx="8534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el monto que un hogar o firma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está dispuesto a pagar por  una localización “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 de manera de obtener un nivel de satisfacció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57360" y="3657600"/>
                <a:ext cx="81626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c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228600" y="5562720"/>
            <a:ext cx="541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  vector de valoración de cada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39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29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77344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4144680" y="449568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C51-73D2-4FBE-A830-2B8416EDE3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600200" y="1523880"/>
            <a:ext cx="6172200" cy="1219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6094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EQUIVALE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44720" y="1752480"/>
                <a:ext cx="5199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838080" y="5638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pción:  Trabajar con utilidades o co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28195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ecio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257800" y="2361960"/>
            <a:ext cx="380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705360" y="236232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5829120" y="2247840"/>
            <a:ext cx="380880" cy="2895480"/>
          </a:xfrm>
          <a:custGeom>
            <a:avLst/>
            <a:gdLst>
              <a:gd name="textAreaLeft" fmla="*/ 243360 w 380880"/>
              <a:gd name="textAreaRight" fmla="*/ 381240 w 38088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3400" y="3962520"/>
            <a:ext cx="350532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dente del 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ARIACIÓN COMPENSA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429000"/>
            <a:ext cx="1143000" cy="609480"/>
          </a:xfrm>
          <a:prstGeom prst="wedgeRectCallout">
            <a:avLst>
              <a:gd name="adj1" fmla="val 80416"/>
              <a:gd name="adj2" fmla="val -198175"/>
            </a:avLst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52640" y="3468600"/>
            <a:ext cx="10281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ofe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B2A9-1A50-4C3C-AF5D-9C75DFD1CB1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4114800"/>
            <a:ext cx="624816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localización es asignada 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2800" spc="-1" strike="noStrike">
                <a:solidFill>
                  <a:srgbClr val="ff6633"/>
                </a:solidFill>
                <a:latin typeface="Times New Roman"/>
              </a:rPr>
              <a:t>mejor postor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ienes Ún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05320" y="21337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5288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2819520"/>
            <a:ext cx="739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elo Urbano es un bien “</a:t>
            </a: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cuasi-ún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Times New Roman"/>
              </a:rPr>
              <a:t>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s posible producir localizaciones de iguales atrib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595-E6CF-4EC7-9FA8-62546FE5EF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33920" y="1981080"/>
            <a:ext cx="5105160" cy="1067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057400"/>
            <a:ext cx="32004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120" y="4446720"/>
            <a:ext cx="26668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77880" indent="-677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max pos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4245120" y="2209680"/>
                <a:ext cx="377640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457200" y="457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cf4ea"/>
                </a:solidFill>
                <a:latin typeface="Times New Roman"/>
              </a:rPr>
              <a:t>REGLA MEJOR POST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038480"/>
            <a:ext cx="5135400" cy="1905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995640" y="4581360"/>
                <a:ext cx="45547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/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160-193D-4A4F-9F0A-16D40A0518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86200" y="4419720"/>
            <a:ext cx="48006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2895480"/>
            <a:ext cx="6858000" cy="11430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838080"/>
            <a:ext cx="8001000" cy="9907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4648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ostor en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457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b7a5"/>
                </a:solidFill>
                <a:latin typeface="Times New Roman"/>
              </a:rPr>
              <a:t>OFER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21337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Equilibrio </a:t>
            </a:r>
            <a:r>
              <a:rPr b="1" i="1" lang="es-ES" sz="2400" spc="-1" strike="noStrike">
                <a:solidFill>
                  <a:srgbClr val="ff6633"/>
                </a:solidFill>
                <a:latin typeface="Times New Roman"/>
              </a:rPr>
              <a:t>BID-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5486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7880" indent="-6778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hace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eo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oferta que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971640" y="1125360"/>
                <a:ext cx="31017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59280" y="1111320"/>
                <a:ext cx="3780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19280" y="3068640"/>
                <a:ext cx="57610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Ω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lim>
                        </m:limLow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140360" y="4508640"/>
                <a:ext cx="4392360" cy="15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72E-B257-45F2-A5B2-D094F8EBA4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Contexto Econó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mercado del suelo urb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consumidores: resident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últiples atributo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xternalidades de loc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Variedad de opciones zona-edif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Mercado de Remates: competencia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álisis de equilibrio del 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das económicas sobre cambios d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Regulaciones en us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29C-A7F7-4EB6-9F43-F17B56336D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6212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CONCLUSION:  Modelo Bid-Cho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b7a5"/>
                </a:solidFill>
                <a:latin typeface="Times New Roman"/>
              </a:rPr>
              <a:t>(oferta dad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2133720"/>
            <a:ext cx="7543800" cy="2209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114560" y="2378160"/>
                <a:ext cx="60847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  <m:r>
                          <m:t xml:space="preserve">'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979640" y="3213000"/>
                <a:ext cx="4922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g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914400" y="4419720"/>
            <a:ext cx="746748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i se observa un agente localizado, enton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a localización maximiza su utilid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renta representa su máxima disposición a paga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dada una ofer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41160" y="6172200"/>
            <a:ext cx="49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33"/>
                </a:solidFill>
                <a:latin typeface="Arial"/>
              </a:rPr>
              <a:t>BID ES CONDICIÓN SUFIC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27E-CFDB-4715-B5F9-0A58EFB16C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MODELO DE EQUILIBRIO ESTOCÁSTICO EN LOCALIZACIÓN Y USO DEL SUEL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EEB-2C85-4CCF-B2A2-D1A50DC553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0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cf4ea"/>
                </a:solidFill>
                <a:latin typeface="Times New Roman"/>
              </a:rPr>
              <a:t>¡Bien...pero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f4ea"/>
                </a:solidFill>
                <a:latin typeface="Times New Roman"/>
              </a:rPr>
              <a:t>¿ Cómo puedo saber exactamente el comporta-mient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E7D-382F-4644-89A2-8D9A2F61A12A}" type="slidenum">
              <a:t>32</a:t>
            </a:fld>
          </a:p>
        </p:txBody>
      </p:sp>
    </p:spTree>
  </p:cSld>
  <p:transition spd="med" advTm="16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de elección discre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19160" y="22654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054760"/>
            <a:ext cx="4756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,i1         v2,i2         vk,ik                          v,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91920" y="47498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04680" y="2158920"/>
            <a:ext cx="1571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52880" y="5724360"/>
            <a:ext cx="570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consumi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04360" y="1828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0445-EE59-40AF-85A1-061A646FE59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23880" y="3962520"/>
            <a:ext cx="5181840" cy="160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Choice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- 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Supuesto: 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, precio p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ex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i/h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EC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j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j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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828800" y="4038480"/>
                <a:ext cx="41911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- 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900000" y="5883120"/>
            <a:ext cx="6502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predi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3FA-2E7F-4220-958E-032E65D667F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nfoque remate 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(selección discreta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044800" y="2755800"/>
            <a:ext cx="1854000" cy="2184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346200" y="2749680"/>
            <a:ext cx="54612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92680" y="2749680"/>
            <a:ext cx="291960" cy="2120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2680" y="2749680"/>
            <a:ext cx="2273040" cy="204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2265480"/>
            <a:ext cx="495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v,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20800" y="5054760"/>
            <a:ext cx="459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1                 h2           h3                         h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82440" y="2235240"/>
            <a:ext cx="160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Oferente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vivienda,z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0800" y="4902120"/>
            <a:ext cx="2152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umidor/po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gar o fi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52520" y="5724360"/>
            <a:ext cx="6253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ación utilidad del dueño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3440" y="190512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EB7-ABBA-46FC-820F-E11E05DC108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71600" y="365760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D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(z,U) + 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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hi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IDGumbel 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/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= Prob(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h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&gt; B</a:t>
            </a:r>
            <a:r>
              <a:rPr b="0" i="1" lang="es-CL" sz="2000" spc="-1" strike="noStrike">
                <a:solidFill>
                  <a:srgbClr val="ffffff"/>
                </a:solidFill>
                <a:latin typeface="Times New Roman"/>
              </a:rPr>
              <a:t>gi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 ; g</a:t>
            </a:r>
            <a:r>
              <a:rPr b="0" i="1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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30400" y="3654360"/>
                <a:ext cx="43704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833400" y="6019920"/>
            <a:ext cx="7431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ogit multinomial. Alternativas son consumid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45720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Modelos estocástico: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Versión B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3E0-1106-4573-88E1-7B499523F01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809880"/>
            <a:ext cx="7696440" cy="22100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f4ea"/>
                </a:solidFill>
                <a:latin typeface="Times New Roman"/>
              </a:rPr>
              <a:t>Renta endóge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nta es valor esperado máxima pos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áx</a:t>
            </a:r>
            <a:r>
              <a:rPr b="0" lang="es-CL" sz="32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+  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IIDG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(0,</a:t>
            </a: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CL" sz="2800" spc="-1" strike="noStrike" baseline="30000">
                <a:solidFill>
                  <a:srgbClr val="ffffff"/>
                </a:solidFill>
                <a:latin typeface="Times New Roman"/>
              </a:rPr>
              <a:t>b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1722600" y="4167360"/>
                <a:ext cx="635472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7C8-E17D-4743-92FD-BFBE0C7F12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209680" y="5029200"/>
            <a:ext cx="5747040" cy="160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1066680"/>
            <a:ext cx="5029200" cy="3505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8080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909960" y="1219320"/>
                <a:ext cx="3535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ε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780000" y="2349360"/>
                <a:ext cx="3376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780000" y="3500280"/>
                <a:ext cx="335736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45200" y="1403280"/>
            <a:ext cx="120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1) Cho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2600" y="2546280"/>
            <a:ext cx="83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2) B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1160" y="3689280"/>
            <a:ext cx="1110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)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14520" y="5157720"/>
                <a:ext cx="53262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i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 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γ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78D-98E4-4EBA-A870-D2FC98E30D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80800" y="304920"/>
            <a:ext cx="77151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Equivalencia modelos estocástic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971640" y="1413000"/>
            <a:ext cx="7342200" cy="1778040"/>
            <a:chOff x="971640" y="1413000"/>
            <a:chExt cx="7342200" cy="1778040"/>
          </a:xfrm>
        </p:grpSpPr>
        <p:sp>
          <p:nvSpPr>
            <p:cNvPr id="353" name=""/>
            <p:cNvSpPr/>
            <p:nvPr/>
          </p:nvSpPr>
          <p:spPr>
            <a:xfrm>
              <a:off x="971640" y="1413000"/>
              <a:ext cx="7342200" cy="17780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4" name=""/>
                <p:cNvSpPr txBox="1"/>
                <p:nvPr/>
              </p:nvSpPr>
              <p:spPr>
                <a:xfrm>
                  <a:off x="1347840" y="1427040"/>
                  <a:ext cx="6404040" cy="16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i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h</m:t>
                                  </m:r>
                                </m:num>
                                <m:den>
                                  <m:r>
                                    <m:t xml:space="preserve">i</m:t>
                                  </m:r>
                                </m:den>
                              </m:f>
                            </m:sub>
                          </m:sSub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h</m:t>
                                      </m:r>
                                    </m:num>
                                    <m:den>
                                      <m:r>
                                        <m:t xml:space="preserve">j</m:t>
                                      </m:r>
                                    </m:den>
                                  </m:f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sSup>
                            <m:e>
                              <m:r>
                                <m:t xml:space="preserve">μ</m:t>
                              </m:r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hi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Ω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exp</m:t>
                              </m:r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b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j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5" name=""/>
          <p:cNvSpPr/>
          <p:nvPr/>
        </p:nvSpPr>
        <p:spPr>
          <a:xfrm>
            <a:off x="1116000" y="3886200"/>
            <a:ext cx="5673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quivalencia ocurre si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factores de escala son idéntico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cios endógenos.. hay re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es-E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=1 ,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oferta se remat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.equilibrio oferta deman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1080" y="6095880"/>
            <a:ext cx="47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6633"/>
                </a:solidFill>
                <a:latin typeface="Arial"/>
              </a:rPr>
              <a:t>BID es aplicable siemp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6EA-FB05-49A8-A50C-27F6CB0B88BE}" type="slidenum">
              <a:t>39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7080" y="1889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LA DISPOSICIÓN </a:t>
            </a:r>
            <a:br>
              <a:rPr sz="4800"/>
            </a:br>
            <a:r>
              <a:rPr b="1" lang="es-MX" sz="4800" spc="-1" strike="noStrike">
                <a:solidFill>
                  <a:srgbClr val="8cf4ea"/>
                </a:solidFill>
                <a:latin typeface="Times New Roman"/>
              </a:rPr>
              <a:t>A PAGAR LOCALIZACIÓN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C25C-5258-4BFC-8FEC-6D55099552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alibr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415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rrelación entre atributos z y rentas r afecta parámetros de modelo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s posturas calibradas son truncada en ambas ver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mbigüedad en la función calibrada por choice: es de postura o utilidad. No hay ambigüedad en versión b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arámetro de accesibilidad mejor en versión cho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clusión: estimar sistema de ecuaciones (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h/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Times New Roman"/>
              </a:rPr>
              <a:t>i/h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, 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824-5128-44B9-904D-97C75646C9B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7080" y="1916280"/>
            <a:ext cx="7558200" cy="31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cf4ea"/>
                </a:solidFill>
                <a:latin typeface="Times New Roman"/>
              </a:rPr>
              <a:t>EQUILIBRIO EN LOCALIZACIÓN Y USO DEL SUELO</a:t>
            </a:r>
            <a:br>
              <a:rPr sz="4400"/>
            </a:br>
            <a:r>
              <a:rPr b="1" lang="es-MX" sz="3600" spc="-1" strike="noStrike">
                <a:solidFill>
                  <a:srgbClr val="8cf4ea"/>
                </a:solidFill>
                <a:latin typeface="Times New Roman"/>
              </a:rPr>
              <a:t>(MODELO ESTOCÁSTIC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C75-19B0-42E2-83ED-6764611E1E9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371600" y="2362320"/>
            <a:ext cx="6324480" cy="19810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335240" y="2438280"/>
                <a:ext cx="6399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833400" y="6019920"/>
            <a:ext cx="6283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nto fijo en localización dadas utilidad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609480"/>
            <a:ext cx="77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Externalidades</a:t>
            </a:r>
            <a:br>
              <a:rPr sz="4000"/>
            </a:br>
            <a:r>
              <a:rPr b="1" lang="es-CL" sz="4000" spc="-1" strike="noStrike">
                <a:solidFill>
                  <a:srgbClr val="8cf4ea"/>
                </a:solidFill>
                <a:latin typeface="Times New Roman"/>
              </a:rPr>
              <a:t> Equilibrio corto plaz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286000" y="4724280"/>
                <a:ext cx="41148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978-5B70-4D83-B63E-F548BF18608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49fff"/>
                </a:solidFill>
                <a:latin typeface="Tahoma"/>
              </a:rPr>
              <a:t>Caso utilidad cuasi lineal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550880" y="1600200"/>
                <a:ext cx="59277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693800" y="4114800"/>
                <a:ext cx="568188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/vi 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εH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FB9-410F-48F1-8F82-F8EEC4D21B5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E91-485C-4B67-8FD4-331E3F0567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3880" y="34092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Equilibrio en Localización</a:t>
            </a:r>
            <a:br>
              <a:rPr sz="4000"/>
            </a:b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“Todo agente se localiza”</a:t>
            </a:r>
            <a:r>
              <a:rPr b="0" lang="en-US" sz="40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076480" y="4183200"/>
                <a:ext cx="575316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1978920" y="6156360"/>
            <a:ext cx="41871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133720" y="207000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7A6-9FE1-41D5-A41E-E61F4C164A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2A56-A1D1-438C-8229-B0F4BB734FB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62720" y="5715000"/>
            <a:ext cx="1676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238880" y="2057400"/>
            <a:ext cx="0" cy="3657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n-US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5105520"/>
            <a:ext cx="1981440" cy="1218960"/>
          </a:xfrm>
          <a:prstGeom prst="diamond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98800" y="54853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ve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E17-1AA0-48D5-8692-F65C619855D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Beneficios de Uso del suelo: caso estocást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1874880" y="3498840"/>
                <a:ext cx="60498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U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H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3429000" y="5257800"/>
            <a:ext cx="2286000" cy="990720"/>
          </a:xfrm>
          <a:prstGeom prst="wedgeRectCallout">
            <a:avLst>
              <a:gd name="adj1" fmla="val 1527"/>
              <a:gd name="adj2" fmla="val -123398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1280" y="5334120"/>
            <a:ext cx="242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Consum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943600" y="5181480"/>
            <a:ext cx="2133720" cy="1067040"/>
          </a:xfrm>
          <a:prstGeom prst="wedgeRectCallout">
            <a:avLst>
              <a:gd name="adj1" fmla="val -22546"/>
              <a:gd name="adj2" fmla="val -111162"/>
            </a:avLst>
          </a:prstGeom>
          <a:solidFill>
            <a:srgbClr val="30209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40720" y="5334120"/>
            <a:ext cx="1937880" cy="825480"/>
          </a:xfrm>
          <a:prstGeom prst="rect">
            <a:avLst/>
          </a:prstGeom>
          <a:solidFill>
            <a:srgbClr val="3020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Exced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9cfcd"/>
                </a:solidFill>
                <a:latin typeface="Tahoma"/>
              </a:rPr>
              <a:t>Produc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52320" y="2252520"/>
                <a:ext cx="730440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p>
                                      <m:e/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23F-862B-4F8C-A835-CAD8ED29453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2320" y="1203480"/>
            <a:ext cx="1946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que falta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59F-3A2A-444B-8E48-70A5C8EE34A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Modelo Consumidor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752480" y="1828800"/>
            <a:ext cx="5555880" cy="1887120"/>
            <a:chOff x="1752480" y="1828800"/>
            <a:chExt cx="5555880" cy="1887120"/>
          </a:xfrm>
        </p:grpSpPr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1752480" y="2022840"/>
                  <a:ext cx="5166360" cy="158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86" name=""/>
            <p:cNvSpPr/>
            <p:nvPr/>
          </p:nvSpPr>
          <p:spPr>
            <a:xfrm>
              <a:off x="1752480" y="3715920"/>
              <a:ext cx="5555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08360" y="1828800"/>
              <a:ext cx="0" cy="188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258920" y="377712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texto: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bien es la localiz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umo  de un solo bien inmue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Bienes discretos y diferenciables en 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pacio disc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xtensiones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Ingreso endóg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stricción de tiem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tilidad de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40720" y="3716280"/>
            <a:ext cx="1403280" cy="609480"/>
          </a:xfrm>
          <a:prstGeom prst="borderCallout1">
            <a:avLst>
              <a:gd name="adj1" fmla="val 18750"/>
              <a:gd name="adj2" fmla="val -8333"/>
              <a:gd name="adj3" fmla="val -56250"/>
              <a:gd name="adj4" fmla="val -1675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n b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04000" y="3860640"/>
          <a:ext cx="36504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3860640"/>
                    <a:ext cx="365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2CF-9DFA-4B1F-98BA-F6B4F1B426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00000" y="5334120"/>
            <a:ext cx="6696360" cy="914400"/>
          </a:xfrm>
          <a:prstGeom prst="rect">
            <a:avLst/>
          </a:prstGeom>
          <a:solidFill>
            <a:srgbClr val="c9cfc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cf4ea"/>
                </a:solidFill>
                <a:latin typeface="Tahoma"/>
              </a:rPr>
              <a:t>Derivación de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28800" y="1295280"/>
            <a:ext cx="5638320" cy="1752480"/>
            <a:chOff x="1828800" y="1295280"/>
            <a:chExt cx="5638320" cy="175248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828800" y="1475280"/>
                  <a:ext cx="5243040" cy="14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δ</m:t>
                                </m:r>
                              </m:lim>
                            </m:limLow>
                          </m:e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</m:lim>
                                </m:limLow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z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mr>
                        <m:mr>
                          <m:e>
                            <m:r>
                              <m:t xml:space="preserve">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I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>
              <a:off x="1828800" y="3047760"/>
              <a:ext cx="5638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120" y="1295280"/>
              <a:ext cx="0" cy="1752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934920" y="3424320"/>
                <a:ext cx="32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4179600" y="350532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tilidad indirecta &amp; condi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14400" y="4308480"/>
                <a:ext cx="4521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853960" y="44956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: precio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06360" y="5486400"/>
                <a:ext cx="58755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042920" y="6284880"/>
            <a:ext cx="73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ax valor para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z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ado U. Demanda compens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9E7-3ADF-4C03-95A5-4755638CF8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8cf4ea"/>
                </a:solidFill>
                <a:latin typeface="Tahoma"/>
              </a:rPr>
              <a:t>Caso utilidad cuasi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14680" y="1590840"/>
                <a:ext cx="6019560" cy="465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6659640" y="3429000"/>
            <a:ext cx="936720" cy="50472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0075" h="21600">
                <a:moveTo>
                  <a:pt x="0" y="0"/>
                </a:moveTo>
                <a:lnTo>
                  <a:pt x="40075" y="0"/>
                </a:lnTo>
                <a:lnTo>
                  <a:pt x="40075" y="21600"/>
                </a:lnTo>
                <a:lnTo>
                  <a:pt x="0" y="21600"/>
                </a:lnTo>
                <a:close/>
              </a:path>
              <a:path fill="lightenLess" w="40075" h="21600">
                <a:moveTo>
                  <a:pt x="0" y="0"/>
                </a:moveTo>
                <a:lnTo>
                  <a:pt x="40075" y="0"/>
                </a:lnTo>
                <a:lnTo>
                  <a:pt x="38675" y="1400"/>
                </a:lnTo>
                <a:lnTo>
                  <a:pt x="1400" y="1400"/>
                </a:lnTo>
                <a:close/>
              </a:path>
              <a:path fill="darken" w="40075" h="21600">
                <a:moveTo>
                  <a:pt x="40075" y="0"/>
                </a:moveTo>
                <a:lnTo>
                  <a:pt x="40075" y="21600"/>
                </a:lnTo>
                <a:lnTo>
                  <a:pt x="38675" y="20200"/>
                </a:lnTo>
                <a:lnTo>
                  <a:pt x="38675" y="1400"/>
                </a:lnTo>
                <a:close/>
              </a:path>
              <a:path fill="darkenLess" w="40075" h="21600">
                <a:moveTo>
                  <a:pt x="400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75" y="20200"/>
                </a:lnTo>
                <a:close/>
              </a:path>
              <a:path fill="lighten" w="400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75" h="21600">
                <a:moveTo>
                  <a:pt x="13031" y="3794"/>
                </a:moveTo>
                <a:lnTo>
                  <a:pt x="27044" y="10800"/>
                </a:lnTo>
                <a:lnTo>
                  <a:pt x="1303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301-3751-4C06-876D-733DDFB97C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502920" y="520200"/>
            <a:ext cx="7669080" cy="4837320"/>
            <a:chOff x="502920" y="520200"/>
            <a:chExt cx="7669080" cy="4837320"/>
          </a:xfrm>
        </p:grpSpPr>
        <p:sp>
          <p:nvSpPr>
            <p:cNvPr id="110" name=""/>
            <p:cNvSpPr/>
            <p:nvPr/>
          </p:nvSpPr>
          <p:spPr>
            <a:xfrm>
              <a:off x="502920" y="520200"/>
              <a:ext cx="5438520" cy="703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Derivación de la utilidad cuasi lineal</a:t>
              </a:r>
              <a:r>
                <a:rPr b="0" lang="es-MX" sz="12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504720" y="1376280"/>
            <a:ext cx="2837880" cy="72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4720" y="1376280"/>
                      <a:ext cx="283788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04720" y="2105280"/>
            <a:ext cx="3102480" cy="41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4720" y="2105280"/>
                      <a:ext cx="3102480" cy="41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04720" y="2515680"/>
            <a:ext cx="4459320" cy="40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4720" y="2515680"/>
                      <a:ext cx="4459320" cy="4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505800" y="3205800"/>
              <a:ext cx="52056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PO: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04720" y="3945240"/>
            <a:ext cx="7667280" cy="1412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04720" y="3945240"/>
                      <a:ext cx="7667280" cy="141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5734080"/>
          <a:ext cx="712944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734080"/>
                    <a:ext cx="7129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A1A-5042-4CBC-896C-D0BE478324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cf4ea"/>
                </a:solidFill>
                <a:latin typeface="Times New Roman"/>
              </a:rPr>
              <a:t>DP: 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áximo valor dispuesto a pagar para alcanzar nivel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manda compensada (Hicksiana) por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ompensa diferenciales de atributos entre opciones para mantener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calizaciones con precio igual a DP son indiferentes para el consumid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730-0C96-4B1D-918D-FB8CB941C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7-10-05T15:53:44Z</dcterms:modified>
  <cp:revision>107</cp:revision>
  <dc:subject/>
  <dc:title>General</dc:title>
</cp:coreProperties>
</file>