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1A2-0926-46F3-8DE6-38E315FC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F99-4EBA-4D26-942B-4FD2466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392-425A-48CF-90D8-6F87C32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285-E10D-4A53-AEA9-84B389A4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DB3-2168-44E1-92C1-708DFEB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039-9808-4C1A-93B9-5CCB930E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05B-C5C7-4153-9C47-AFC8B00A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EFB-702A-424C-89FB-C9D82774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21C-117F-4965-82E6-97AADFD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F44-E936-4098-9637-64AD594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DA1-A4A7-4D5F-B43A-5E4CA26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611-723E-438C-9A35-D0954CB9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2F8C5A-4589-40C4-A2FF-254A0D540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503-59B9-4222-9674-9BB3056C9C07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D16-E747-456A-8C8E-53BE1BD50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28E-2461-468A-BD82-96BA353BA3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D93-0954-4074-89F4-5A7942A5B2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4B9-1D85-4463-86D6-0E3B6569D5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9320" y="1773360"/>
          <a:ext cx="31798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73360"/>
                    <a:ext cx="3179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4640" y="2878200"/>
          <a:ext cx="2667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878200"/>
                    <a:ext cx="2667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4600" y="5846760"/>
          <a:ext cx="55148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5846760"/>
                    <a:ext cx="5514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4A3-DEF0-48B3-8CDD-A7EDF4C87F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32040" y="2901960"/>
          <a:ext cx="290844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2901960"/>
                    <a:ext cx="2908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743200" y="1989000"/>
          <a:ext cx="394344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989000"/>
                    <a:ext cx="3943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20960" y="4255920"/>
          <a:ext cx="37180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0960" y="4255920"/>
                    <a:ext cx="3718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Función de gasto: caso de utilidad cuasi lineal</a:t>
            </a: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0F3-2760-44F8-A3D3-B44FF8B3E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11240" y="1773360"/>
          <a:ext cx="63295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773360"/>
                    <a:ext cx="63295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03720" y="3998880"/>
          <a:ext cx="4835520" cy="26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3720" y="3998880"/>
                    <a:ext cx="4835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D1C-35CE-45EB-B1CE-19EB290D4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9120"/>
          <a:ext cx="817380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9120"/>
                    <a:ext cx="8173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23E-CCBA-430D-92A4-969863CAB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81400" y="331308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331308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0080" y="4627440"/>
          <a:ext cx="6397920" cy="19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4627440"/>
                    <a:ext cx="6397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868-ED76-443E-BFBC-5477D700A9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81400" y="287964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287964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76280" y="4576680"/>
          <a:ext cx="694368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576680"/>
                    <a:ext cx="6943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DD1-E277-4AEF-BB68-B262455ED6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945480" cy="33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Modelo Microeconómico de Localiza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I. El corto plaz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2A4-1048-42A3-8506-FA76D1AF1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39760" y="1870200"/>
          <a:ext cx="40291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870200"/>
                    <a:ext cx="40291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109960" y="4765680"/>
          <a:ext cx="367488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9960" y="4765680"/>
                    <a:ext cx="3674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010-EAFB-4897-9C2E-EFD01AC680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34B-A355-48F2-B93C-F9595B10A5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03D-A23E-4271-A3F7-289979EFD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D99-2A21-4E03-9FBC-9BCBA5D559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169-E858-4B59-83C4-D216E4FEE4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379-4261-47B9-AA17-D964BB0592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508-FEEF-4164-8119-13413D3831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6B8-08D2-4A21-9301-65143B293D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231-720B-4F84-9BC0-80C987691D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906-B1D1-4CD9-B38E-27FBA4DB94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o del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conómicas sobre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 en us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5FC-12D8-4666-9E02-FCE4FF642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DF2-524A-4217-BE08-1DF81E4EB8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BD4-D9CB-4AE2-B535-B9338969A0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683-FDEA-4D46-8BAF-500F3993C8E0}" type="slidenum">
              <a:t>32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0E0-9B96-41AF-BAEA-BAB6B3816AE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F48-F5AF-4A27-B220-3B6B0F2449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EC4-5591-40FA-824F-DE363BF8F7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811-8866-4ECB-8ADA-033729DD5C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D11-7EE9-4CC5-8E0E-133ADA265EB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553-2F5C-4C7A-A62B-D56A7397A4E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5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EC4-3162-4F10-B2FC-9A0175696C9A}" type="slidenum">
              <a:t>39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FD5-DC48-4974-924A-D2BE692EC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589-5244-45D3-A3E2-DFD84A75D6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FED-4489-48B4-AA8B-EAF1F723DE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9D7-BB73-4537-9F45-C85CC21009F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A5C-38B7-4734-8670-E20C85F9E9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EB0-14FE-42DB-ABA5-E183BA1A2DC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EC3-9516-4461-A15D-5DA62BE4CAB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65C-0E81-46EB-A62D-8883D00D5F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A7F-399F-482E-AA0E-C804922714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0DB-7145-4E2F-8C4F-E7B2B8B203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7CE-E06B-4DFF-8BF4-049009E592E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77712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o  d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s en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stricción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04000" y="3860640"/>
          <a:ext cx="36504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3860640"/>
                    <a:ext cx="365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686-9962-4BA4-847C-411AC47EA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084-2BBB-4077-8EB1-A2FF213A0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659640" y="3429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79E-0EF5-4F59-878B-BA4591E0A1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02920" y="520200"/>
            <a:ext cx="7669080" cy="4837320"/>
            <a:chOff x="502920" y="520200"/>
            <a:chExt cx="7669080" cy="4837320"/>
          </a:xfrm>
        </p:grpSpPr>
        <p:sp>
          <p:nvSpPr>
            <p:cNvPr id="110" name=""/>
            <p:cNvSpPr/>
            <p:nvPr/>
          </p:nvSpPr>
          <p:spPr>
            <a:xfrm>
              <a:off x="502920" y="520200"/>
              <a:ext cx="5438520" cy="703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rivación de la utilidad cuasi lineal</a:t>
              </a:r>
              <a:r>
                <a:rPr b="0" lang="es-MX" sz="12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504720" y="1376280"/>
            <a:ext cx="283788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4720" y="1376280"/>
                      <a:ext cx="2837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04720" y="2105280"/>
            <a:ext cx="3102480" cy="4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720" y="2105280"/>
                      <a:ext cx="31024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04720" y="2515680"/>
            <a:ext cx="4459320" cy="4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4720" y="2515680"/>
                      <a:ext cx="4459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505800" y="3205800"/>
              <a:ext cx="52056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P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04720" y="3945240"/>
            <a:ext cx="7667280" cy="141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4720" y="3945240"/>
                      <a:ext cx="7667280" cy="14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5734080"/>
          <a:ext cx="71294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734080"/>
                    <a:ext cx="712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77C-C6C0-4E35-B7B5-E9524746B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ACF-46E9-4CA8-B288-AF7133592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7-10-05T15:53:44Z</dcterms:modified>
  <cp:revision>107</cp:revision>
  <dc:subject/>
  <dc:title>General</dc:title>
</cp:coreProperties>
</file>