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F1E-91DA-45CF-8F4C-5DBC50E2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F98-4CB8-4009-8EB3-D9ABCE52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7BD-2DC0-450C-94F7-BF91D9A8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5F0-FF2A-4D56-AD13-38CD4CF3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22A-AE87-4629-B9D4-EF350B2D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267-1393-4100-801D-B808C54B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24F-E3D9-4C03-8AD6-0BB354E1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0B7-A394-416F-A6EC-7893CB56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17A-1FA3-4F8A-8DCD-20749976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4A7-5913-4599-9FD4-C1D94DB2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46A-CCA9-484B-BFCA-BCA7C58E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A85-1D2D-4FD9-9896-EDBA41C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6E78DA-2719-4957-AD36-02509D2C569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51055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307-0DBB-4ED4-8CD8-C27F1AF0C274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C3F-7C87-4958-966C-4D044DB790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B8B-0815-4BE8-8DAB-332595EE64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DE7-8994-49CF-AE40-13153F9FF86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7C1-C5A0-4953-86E3-AB7D3D83E7B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753-4D43-4B53-BEA5-258992743EA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818-A980-42FD-8D64-7DD849BC553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F62-8328-40D5-AF82-4BD5D62E7A3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comp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80B-0728-4C24-B0E8-FDC85AAF485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demanda por servicios de comercio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1981080"/>
                <a:ext cx="7010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302000"/>
                <a:ext cx="4648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3124080"/>
                <a:ext cx="3390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5562720"/>
                <a:ext cx="2108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094120" y="57902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BB8-D57A-4230-B04D-A1EDD4E381B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3171960"/>
                <a:ext cx="40006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15880" y="2132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medida de atractividad, tamaño del centr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23080" y="41900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dida de 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515016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es el comportamiento implícito de los consumidores en este mode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541-454B-48E9-BEDB-EC87954ABE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F9B-53FD-4218-AB51-DD10F9FC4F7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Versión desagregad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1905120"/>
                <a:ext cx="767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99800" y="2818440"/>
            <a:ext cx="481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g: tipo de bienes, w: tipos de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: modo transporte, h: tipo de ti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952880"/>
                <a:ext cx="47242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h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w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w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679920"/>
                <a:ext cx="2971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h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hw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39840" y="3885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94D-E114-4B71-A4CE-37FB4D8451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Factores de atracción: </a:t>
            </a:r>
            <a:r>
              <a:rPr b="0" i="1" lang="es-CL" sz="4400" spc="-1" strike="noStrike">
                <a:solidFill>
                  <a:srgbClr val="8cf4ea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55600" y="1798560"/>
          <a:ext cx="737892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798560"/>
                    <a:ext cx="7378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38280" y="4038480"/>
                <a:ext cx="4597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g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h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sup>
                            </m:sSubSup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4EB-8F1D-4405-B3D1-0B875C6EF5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localización de centros comerc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CF4-5633-4118-BD71-9DBE659F8B6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Cálculo de tamaño y localización óptima de centros comerciales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210204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Hipótesis: Los comerciantes invierten en infraestructura si obtienen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33640" y="3160800"/>
                <a:ext cx="3314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08360" y="4419720"/>
                <a:ext cx="3298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5746680"/>
                <a:ext cx="2425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3724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67480" y="4454640"/>
                <a:ext cx="205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∈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s un parámet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: es tiemp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124680" y="5866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dició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8160" y="3437280"/>
            <a:ext cx="212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 costo por m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53A-D0FF-4220-919A-E28E92C493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82720" y="2057400"/>
                <a:ext cx="3975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82720" y="3048120"/>
                <a:ext cx="3810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4157640"/>
                <a:ext cx="187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49680" y="5027760"/>
                <a:ext cx="319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ona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7320" y="213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426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518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2E9-5907-461A-ADC6-34F7A6982E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... cont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62320" y="2133720"/>
                <a:ext cx="4311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α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23880" y="3962520"/>
                <a:ext cx="655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β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62320" y="5665680"/>
                <a:ext cx="420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unto fijo en 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367-557B-4C56-B722-FDD6714A9F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60640" y="457200"/>
          <a:ext cx="459756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457200"/>
                    <a:ext cx="459756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03920" y="787320"/>
                <a:ext cx="3538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427800" y="774720"/>
                <a:ext cx="353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881840" y="762120"/>
                <a:ext cx="341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687240"/>
                <a:ext cx="6858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0880" y="210996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352680"/>
                <a:ext cx="685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22560" y="713160"/>
            <a:ext cx="18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a solu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89000" y="2039400"/>
            <a:ext cx="2797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i no hay intersección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0, entonces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=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65920"/>
            <a:ext cx="2797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res ca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corta la función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) es solo tang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i) no se toc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bserv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se puede pasar de caso (I) a caso (III) cambiando cosot de cosntruc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, pasando abruptamente de W&gt;0 a W=0. Esta es la base de la teoría de la catástrof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2720" y="10911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6600" y="10785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9520" y="1002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680" y="27327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58600" y="280908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58600" y="4485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126-E40F-4C29-A3A8-96CCD46604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: catástrofe 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332080"/>
          <a:ext cx="8001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32080"/>
                    <a:ext cx="8001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4C6-4023-4261-96BA-962D846654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Insumo Produ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382-93C3-49AB-AEC5-23D3E868908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Teoría de Producción y Multiplicador (Keynes,1936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ducc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depende de la demanda futura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, la que no es función de los precios sino del ingreso.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),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que depende  de la invers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istema cerrado en equilibrio general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=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sumidores: consumir o ahorrar, productores: producir o inver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27400" y="3800520"/>
                <a:ext cx="2121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C9B-F1B1-4D47-A204-AFC17D146C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5F3-CD91-4EA1-8887-D9F83A999EA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2057400"/>
          <a:ext cx="701676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016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25120" y="61711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Y=C+S       P=C+I            S=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00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76E-CFAA-495E-A3B2-9F59255617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br>
              <a:rPr sz="3600"/>
            </a:b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Propensión al consumo (CC) y al ahorro (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66680" y="1309680"/>
          <a:ext cx="615960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09680"/>
                    <a:ext cx="61596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562720" y="13734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sólo consumo (pto de quieb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qulibrio se mueve a la izquierda,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equlibriuo se mueva a decrecha, en este caso ingreso aumenta más que la inversió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fecto multiplic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A28-C116-4EEC-A29E-A6784174A4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60600" y="2050920"/>
          <a:ext cx="584820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2050920"/>
                    <a:ext cx="58482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114800" y="204480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057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4D5-0F2A-4BC8-91CA-CCB4B8232C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6920" y="15991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antidad de producto del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 requerido para producción de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09680" y="2362320"/>
                <a:ext cx="4813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57360" y="3276720"/>
                <a:ext cx="1886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1840" y="3352680"/>
                <a:ext cx="44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95520" y="4267080"/>
                <a:ext cx="314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5257800"/>
                <a:ext cx="563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99520" y="263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8840" y="32760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Demandas intermedia y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3A3-910B-47F0-BD7A-99C66FD4C7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9520" y="1218240"/>
            <a:ext cx="59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oeficiente técnico estable en el corto plazo, cambia con la tecnolo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1828800"/>
                <a:ext cx="41468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971800"/>
                <a:ext cx="340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962520"/>
                <a:ext cx="817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66680" y="5181480"/>
                <a:ext cx="5061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257800" y="5943600"/>
            <a:ext cx="1905120" cy="762120"/>
          </a:xfrm>
          <a:prstGeom prst="wedgeRectCallout">
            <a:avLst>
              <a:gd name="adj1" fmla="val -70583"/>
              <a:gd name="adj2" fmla="val -85208"/>
            </a:avLst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ltipli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652-42B6-46C2-9E6C-225FAA8CEC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111320"/>
          <a:ext cx="6311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1320"/>
                    <a:ext cx="6311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84F-2830-432D-8228-2AE71DD0FC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5440" y="1676520"/>
          <a:ext cx="56131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76520"/>
                    <a:ext cx="5613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52480" y="5308560"/>
                <a:ext cx="3321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den>
                    </m:f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464080" y="560736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Q: función de distancia a esti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F87-8495-4E5F-9AD0-FED3115B1F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77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01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07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17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22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6E0-2A43-4003-8676-3DCF458FE3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1C5-2B25-4BEB-BBF2-58B5A8C4C4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CFC-3ED8-4FC0-9B99-DB78D0DBBD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C24-1D0F-43ED-98CA-484B2D92AA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D2B-41D3-4FF8-8AC9-129BB409A8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C0C-E6D2-4206-9E41-9E0498DEC4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31A-2BF7-448B-B262-420E02F5A8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09-26T13:36:50Z</dcterms:modified>
  <cp:revision>142</cp:revision>
  <dc:subject/>
  <dc:title>General</dc:title>
</cp:coreProperties>
</file>