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1E7-75CF-4BCB-86ED-729B1C1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C5E-A493-4254-B721-D17136F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248-720E-4EE4-A388-095DE682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E7A-FCB8-466D-8694-815220B6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747-A3F2-4636-8309-10A954ED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EB5-3E89-47FA-AD2E-BBA1D51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88F-9F6D-4F08-912A-8814F909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490-DA69-4B53-9672-E5EE5D0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6BF-7EC2-4A2A-B04B-89BD601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664-9959-44D4-B0AC-1C9D2115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B11-0F72-47EB-8A7B-8BA96B3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C16-9098-4659-B0C7-7951E89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EB0762-821A-4B06-87CB-8E386F10B5C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51055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867-82E3-4525-9B84-6A1A618AD46F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578-B7B1-456C-936F-24FBCD01FB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809-3355-4257-AF6B-3FCE53481D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C5B-80ED-4A4E-AEF3-A5AA67FF0B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4A7-CA0F-47EA-84CF-49613E96D54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84F-B61B-4CF4-B6EA-DCB4A0DAD9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579-026A-4863-9B8D-40421805D6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710-184C-49BE-B510-8A1A85F5BB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3F9-5D5E-4256-9042-FA854539C4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A80-8359-4492-B064-3CF6B91690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592-9931-4FBB-8C31-D598953EF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412-2B5D-4592-B3DA-1E7712753D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C83-2B59-43D3-A2F8-BC31D79575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51F-A2AD-4F69-AFEF-EB303E5851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F89-6F0A-40AD-A000-9911813980A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AA0-D23B-4D99-B574-06128223A4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0C2-1327-4DED-ADE7-B183F8462E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5F4-E7E5-4B48-86CA-822ADACE1C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CEF-AE49-4C1F-A44E-60C8BD164A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870-B9DA-4C6B-A130-515BC949C7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549-B4A7-4221-96BC-96FA74C53B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090-6433-4B2C-801E-3BF649FA11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89C-F2EC-46AD-B9B6-6F4E577C8E6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C41-2F5B-49A9-BD66-32A5F9BA54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E2E-2047-47FF-8B6F-40D840F01F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DE4-FC7D-44DD-A8DF-41260F8D7D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EBE-88DD-40EB-8172-D3057A8387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4D0-BF26-4BD9-8FFA-1381FBAE52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F17-6232-4117-815F-C86F8FE308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A8F-A60C-4D5A-AA89-8E2C85E8A7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744-D7F9-496A-8FB4-D8C7E73252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41A-E5D7-4B7A-80FE-EE4FEC8AA8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D35-A965-4BB2-A35A-A2069790B3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3D9-15DC-482B-AAF0-3A53C6A5AF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2F0-395D-4450-8889-6EDE917B8C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752-F7EF-4548-B684-EA14E2A7BF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498-FC01-45F2-8AB9-229A470FEE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09-26T13:36:50Z</dcterms:modified>
  <cp:revision>142</cp:revision>
  <dc:subject/>
  <dc:title>General</dc:title>
</cp:coreProperties>
</file>