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47F9-0441-4424-BAF2-FC1CDAA4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ED39-28BA-4FE4-A516-7103CBA7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36C7-AD2D-4A11-8FC3-4E95966E0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9DC2-F326-4B35-AF6A-A28606D2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0DC-AC1D-432A-A186-718822BD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C52F-5922-4916-A5EC-E6A8D931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BE01-40E0-42BE-931B-17BD7BFE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C6E-0D43-4914-ACAB-B31B0873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92A-AB56-4BBF-A15F-38BFAB27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39E-479D-4BFF-8C0E-52BB5A3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588-DB9C-42E0-A859-5EDBC80A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928-12D8-47C6-9365-893D399F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54F7D97-BC01-45BE-8833-91E124A0414D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38080" y="51055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51E0-A42B-4FCA-B02C-516238DA05FC}" type="slidenum">
              <a:t>1</a:t>
            </a:fld>
          </a:p>
        </p:txBody>
      </p:sp>
    </p:spTree>
  </p:cSld>
  <p:transition spd="med"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E04-5977-4608-87E1-6EEA493BB8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114-A95C-4B21-A2CD-FA517D38DA5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943-BEDC-4FEB-85AD-4E442A0BBFB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7C68-1816-4C33-BD80-248EC781464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D9C-2B41-4A48-9516-00BF723CE18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i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2EFA-C75A-4DF3-B8B7-A9F1AE6F183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689-18AD-40A1-99B1-3E8992E8465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compr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C87A-AD7B-48E8-A7FC-D8A09AFFAB0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demanda por servicios de comercio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43000" y="1981080"/>
                <a:ext cx="7010280" cy="105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143000" y="4302000"/>
                <a:ext cx="464832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143000" y="3124080"/>
                <a:ext cx="3390840" cy="112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a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267080" y="5562720"/>
                <a:ext cx="21081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2094120" y="57902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ul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093-658B-4785-A2D2-D4562FBBAA9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Interpret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86000" y="3171960"/>
                <a:ext cx="400068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415880" y="2132640"/>
            <a:ext cx="75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medida de atractividad, tamaño del centro comer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23080" y="4190040"/>
            <a:ext cx="331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edida de acces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76200" y="5150160"/>
            <a:ext cx="710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es el comportamiento implícito de los consumidores en este model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CA2F-3432-4FFC-8222-AAAEA511E2B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F36-5E1B-4F50-9F0F-D4891F95CBB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Versión desagregad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43000" y="1905120"/>
                <a:ext cx="767700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k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1099800" y="2818440"/>
            <a:ext cx="481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g: tipo de bienes, w: tipos de consumi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k: modo transporte, h: tipo de tien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133720" y="4952880"/>
                <a:ext cx="472428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hk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ghw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gw</m:t>
                                        </m:r>
                                      </m:sup>
                                    </m:sSup>
                                    <m:sSubSup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  <m:sup>
                                        <m:r>
                                          <m:t xml:space="preserve">k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679920"/>
                <a:ext cx="2971800" cy="98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jh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hwk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gw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239840" y="38851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B27D-9804-470E-B53B-8F49D6D6AB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Factores de atracción: </a:t>
            </a:r>
            <a:r>
              <a:rPr b="0" i="1" lang="es-CL" sz="4400" spc="-1" strike="noStrike">
                <a:solidFill>
                  <a:srgbClr val="8cf4ea"/>
                </a:solidFill>
                <a:latin typeface="Times New Roman"/>
              </a:rPr>
              <a:t>W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155600" y="1798560"/>
          <a:ext cx="7378920" cy="178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1798560"/>
                    <a:ext cx="7378920" cy="17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38280" y="4038480"/>
                <a:ext cx="459756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hw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g</m:t>
                                </m:r>
                                <m:r>
                                  <m:t xml:space="preserve">'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g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g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h</m:t>
                                    </m:r>
                                  </m:sup>
                                </m:sSubSup>
                              </m:e>
                            </m:nary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gh</m:t>
                                </m:r>
                              </m:sup>
                            </m:sSubSup>
                          </m:e>
                        </m:d>
                      </m:e>
                      <m:sup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00F-435A-4E58-980E-B696F56F34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localización de centros comerci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DISEÑ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638E-6A2C-4B5B-8CCF-33AD871EB3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Cálculo de tamaño y localización óptima de centros comerciales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66760" y="210204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Hipótesis: Los comerciantes invierten en infraestructura si obtienen gana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2933640" y="3160800"/>
                <a:ext cx="33148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808360" y="4419720"/>
                <a:ext cx="329868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276720" y="5746680"/>
                <a:ext cx="242568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53724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567480" y="4454640"/>
                <a:ext cx="2055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∈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es un parámetr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: es tiemp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124680" y="586620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ndición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88160" y="3437280"/>
            <a:ext cx="212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: costo por m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51C5-97D7-49C2-A071-562BAC65242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682720" y="2057400"/>
                <a:ext cx="39751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α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682720" y="3048120"/>
                <a:ext cx="381024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  <m:sup>
                            <m:r>
                              <m:t xml:space="preserve">α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4157640"/>
                <a:ext cx="18730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749680" y="5027760"/>
                <a:ext cx="319392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</m:nary>
                    <m:r>
                      <m:t xml:space="preserve">∀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zona</m:t>
                    </m:r>
                    <m:r>
                      <m:t xml:space="preserve"> 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1687320" y="21326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0720" y="42660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77960" y="51804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9CED-F72A-4244-B4FD-F852B664902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nálisis dinámico... cont.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2362320" y="2133720"/>
                <a:ext cx="43113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α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d>
                          </m:num>
                          <m:den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k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den>
                        </m:f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∀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523880" y="3962520"/>
                <a:ext cx="655344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∈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α</m:t>
                                    </m:r>
                                  </m:sup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βC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</m:num>
                              <m:den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α</m:t>
                                        </m:r>
                                      </m:sup>
                                    </m:sSub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p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−</m:t>
                                        </m:r>
                                        <m:sSub>
                                          <m:e>
                                            <m:r>
                                              <m:t xml:space="preserve">β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ij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nary>
                              </m:den>
                            </m:f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362320" y="5665680"/>
                <a:ext cx="420372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punto fijo en 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E324-E579-4721-A89A-9C049D9226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3860640" y="457200"/>
          <a:ext cx="459756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0640" y="457200"/>
                    <a:ext cx="459756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4903920" y="787320"/>
                <a:ext cx="35388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427800" y="774720"/>
                <a:ext cx="3538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7881840" y="762120"/>
                <a:ext cx="341280" cy="17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80880" y="687240"/>
                <a:ext cx="68580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g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80880" y="2109960"/>
                <a:ext cx="68580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880" y="3352680"/>
                <a:ext cx="685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1222560" y="713160"/>
            <a:ext cx="1861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Una solu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&gt;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89000" y="2039400"/>
            <a:ext cx="27972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Si no hay intersección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 </a:t>
            </a:r>
            <a:r>
              <a:rPr b="0" lang="es-CL" sz="1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0, entonces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=0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27160" y="335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65920"/>
            <a:ext cx="27972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res ca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)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i="1" lang="es-CL" sz="16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 corta la función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) es solo tangen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iii) no se toca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Observ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: se puede pasar de caso (I) a caso (III) cambiando cosot de cosntrucción </a:t>
            </a:r>
            <a:r>
              <a:rPr b="0" i="1" lang="es-CL" sz="16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, pasando abruptamente de W&gt;0 a W=0. Esta es la base de la teoría de la catástrof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02720" y="10911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26600" y="10785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39520" y="1002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556680" y="273276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58600" y="280908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58600" y="4485240"/>
            <a:ext cx="395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s-CL" sz="9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s-CL" sz="9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EE7F-BA65-4331-914D-7CFF0A16AD5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: catástrofe 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762120" y="2332080"/>
          <a:ext cx="800100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332080"/>
                    <a:ext cx="800100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D31-6B1B-4A52-A237-BB76DA80A5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Times New Roman"/>
              </a:rPr>
              <a:t>Modelo de Insumo Product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5EF5-936F-4D51-8CFB-12023DACEB1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Teoría de Producción y Multiplicador (Keynes,1936)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Producc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 depende de la demanda futura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, la que no es función de los precios sino del ingreso.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),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que depende  de la inversión (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Sistema cerrado en equilibrio general: </a:t>
            </a:r>
            <a:r>
              <a:rPr b="0" i="1" lang="es-CL" sz="3200" spc="-1" strike="noStrike">
                <a:solidFill>
                  <a:srgbClr val="ffffff"/>
                </a:solidFill>
                <a:latin typeface="Times New Roman"/>
              </a:rPr>
              <a:t>Y=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Consumidores: consumir o ahorrar, productores: producir o invert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4127400" y="3800520"/>
                <a:ext cx="212112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[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B13-B82B-489D-ADD7-D8BB0663B2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AE68-F24E-45F4-864D-23C6C1A9E5B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8080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371600" y="2057400"/>
          <a:ext cx="7016760" cy="4130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7016760" cy="41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5" name=""/>
          <p:cNvSpPr/>
          <p:nvPr/>
        </p:nvSpPr>
        <p:spPr>
          <a:xfrm>
            <a:off x="2625120" y="6171120"/>
            <a:ext cx="385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Y=C+S       P=C+I            S=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008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283-F621-4C57-A36D-18744B1676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Teoría de Producción y Multiplicador...</a:t>
            </a:r>
            <a:br>
              <a:rPr sz="3600"/>
            </a:br>
            <a:r>
              <a:rPr b="0" lang="es-CL" sz="2800" spc="-1" strike="noStrike">
                <a:solidFill>
                  <a:srgbClr val="8cf4ea"/>
                </a:solidFill>
                <a:latin typeface="Times New Roman"/>
              </a:rPr>
              <a:t>Propensión al consumo (CC) y al ahorro (S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66680" y="1309680"/>
          <a:ext cx="6159600" cy="500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09680"/>
                    <a:ext cx="615960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5562720" y="137340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sólo consumo (pto de quieb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equilib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’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: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S, 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equlibrio se mueve a la izquierda, aumenta </a:t>
            </a: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CL" sz="1800" spc="-1" strike="noStrike">
                <a:solidFill>
                  <a:srgbClr val="000000"/>
                </a:solidFill>
                <a:latin typeface="Times New Roman"/>
              </a:rPr>
              <a:t> equlibriuo se mueva a decrecha, en este caso ingreso aumenta más que la inversión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Times New Roman"/>
              </a:rPr>
              <a:t>efecto multiplicativ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A3A-2969-4161-A895-74266B263C6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1560600" y="2050920"/>
          <a:ext cx="584820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0600" y="2050920"/>
                    <a:ext cx="584820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4114800" y="2044800"/>
            <a:ext cx="0" cy="236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205740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34A-BA87-4E8B-98F6-1475DB7C95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36920" y="1599120"/>
            <a:ext cx="62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antidad de producto del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 requerido para producción de sector </a:t>
            </a:r>
            <a:r>
              <a:rPr b="1" i="1" lang="es-CL" sz="2400" spc="-1" strike="noStrike" baseline="3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209680" y="2362320"/>
                <a:ext cx="48135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2457360" y="3276720"/>
                <a:ext cx="188604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641840" y="3352680"/>
                <a:ext cx="4425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495520" y="4267080"/>
                <a:ext cx="31431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514600" y="5257800"/>
                <a:ext cx="5638680" cy="90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b>
                        </m:sSub>
                      </m:e>
                    </m:nary>
                    <m:r>
                      <m:t xml:space="preserve">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m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3" name=""/>
          <p:cNvSpPr/>
          <p:nvPr/>
        </p:nvSpPr>
        <p:spPr>
          <a:xfrm>
            <a:off x="299520" y="263448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8840" y="3276000"/>
            <a:ext cx="210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Times New Roman"/>
              </a:rPr>
              <a:t>Demandas intermedia y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8C97-CA13-4531-BD69-EBF74E62BF4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29520" y="1218240"/>
            <a:ext cx="596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s-CL" sz="2400" spc="-1" strike="noStrike" baseline="30000">
                <a:solidFill>
                  <a:srgbClr val="ffffff"/>
                </a:solidFill>
                <a:latin typeface="Times New Roman"/>
              </a:rPr>
              <a:t>mn : Coeficiente técnico estable en el corto plazo, cambia con la tecnologí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438280" y="1828800"/>
                <a:ext cx="414684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⇒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895480" y="2971800"/>
                <a:ext cx="34038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838080" y="3962520"/>
                <a:ext cx="8172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n</m:t>
                        </m:r>
                      </m:sub>
                      <m:sup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mn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n</m:t>
                                    </m:r>
                                  </m:sup>
                                </m:sSup>
                              </m:e>
                            </m:d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1066680" y="5181480"/>
                <a:ext cx="506124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5257800" y="5943600"/>
            <a:ext cx="1905120" cy="762120"/>
          </a:xfrm>
          <a:prstGeom prst="wedgeRectCallout">
            <a:avLst>
              <a:gd name="adj1" fmla="val -70583"/>
              <a:gd name="adj2" fmla="val -85208"/>
            </a:avLst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atriz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ultiplic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B01-8F54-48A0-B09A-89597ED920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447920" y="1111320"/>
          <a:ext cx="6311880" cy="551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111320"/>
                    <a:ext cx="6311880" cy="55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2456-707E-44EE-B410-ABA83733401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333440" y="1522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 de Insumo Produc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1765440" y="1676520"/>
          <a:ext cx="5613120" cy="350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676520"/>
                    <a:ext cx="561312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752480" y="5308560"/>
                <a:ext cx="332100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bSup>
                              </m:e>
                            </m:nary>
                          </m:e>
                        </m:nary>
                      </m:den>
                    </m:f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j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"/>
          <p:cNvSpPr/>
          <p:nvPr/>
        </p:nvSpPr>
        <p:spPr>
          <a:xfrm>
            <a:off x="5464080" y="5607360"/>
            <a:ext cx="337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Q: función de distancia a estim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37A6-9A42-4E4C-9F96-F030958941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6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277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01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02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07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1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12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16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17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19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22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2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AB3-070D-451A-844C-93ADEC3854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445-2C4D-44CD-B940-AD16F5E5FDC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B8DA-3A7E-4298-BD16-A4A7E93C51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F65F-0F16-4347-A99A-72D867EA1F0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674-FF55-49DB-8A8D-E040F1FA16B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D2EB-AAB9-43AD-95AE-FC2B568938A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B7D-F0F9-48C9-8B0D-737C5DD8CA6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martine</cp:lastModifiedBy>
  <dcterms:modified xsi:type="dcterms:W3CDTF">2006-09-26T13:36:50Z</dcterms:modified>
  <cp:revision>142</cp:revision>
  <dc:subject/>
  <dc:title>General</dc:title>
</cp:coreProperties>
</file>