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24E-A85B-404F-A240-0F55AD8A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101-8023-4D28-A674-E95DF65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F98-46F6-45CD-87E5-DFA8771A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4B3-940B-4939-959B-6B0E3187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9C8-4BD9-4F54-8A89-4E8BE66B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37F-3C64-422F-A08B-262D72F1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C4F-B836-40DE-ABF9-4C096524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E21-C1EB-4C15-BACC-EABD3E03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1F6-F833-4785-85AD-BF5006D4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6C9-EB48-4F61-A9CF-9180966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DDD-0F7F-4CA1-8AC9-9AC74457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82B-DBFE-4B4E-B0AE-8B446C45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DCEEDB-2D5A-4A0C-9522-B024E652B81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51055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46B-B373-4445-B4F9-3ED809F2083C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72B-E92E-480F-A071-236CA5A854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B1A-5D1D-4375-B3DD-23615B479BF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422-1520-4BC4-A2FC-A8EB176A6F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EBB-04D4-4B84-BAC4-27FF4D6BBD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6DA-7548-4579-84FA-D15172B0CD8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C45-3F20-4A45-9B75-9F117FA6CFD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772-C544-4EE3-B4AA-F6E6FB6F09A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comp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004-700B-4A35-92DE-EC97C95F0C4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demanda por servicios de comercio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1981080"/>
                <a:ext cx="7010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302000"/>
                <a:ext cx="4648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3124080"/>
                <a:ext cx="3390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5562720"/>
                <a:ext cx="2108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094120" y="57902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DF3-05B3-49CE-90FC-21F44BE41AC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3171960"/>
                <a:ext cx="40006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15880" y="2132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medida de atractividad, tamaño del centr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23080" y="41900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dida de 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515016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es el comportamiento implícito de los consumidores en este mode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E1B-DA79-4417-A198-47BB03F463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7F1-6C7F-41DD-B72A-CED761441F9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Versión desagregad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1905120"/>
                <a:ext cx="767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99800" y="2818440"/>
            <a:ext cx="481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g: tipo de bienes, w: tipos de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: modo transporte, h: tipo de ti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952880"/>
                <a:ext cx="47242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h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w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w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679920"/>
                <a:ext cx="2971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h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hw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39840" y="3885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898-08FD-4CBD-B696-2F6D988E00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Factores de atracción: </a:t>
            </a:r>
            <a:r>
              <a:rPr b="0" i="1" lang="es-CL" sz="4400" spc="-1" strike="noStrike">
                <a:solidFill>
                  <a:srgbClr val="8cf4ea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55600" y="1798560"/>
          <a:ext cx="737892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798560"/>
                    <a:ext cx="7378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38280" y="4038480"/>
                <a:ext cx="4597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g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h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sup>
                            </m:sSubSup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7A7-7A61-487D-927B-5366A390D9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localización de centros comerc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762-8610-468D-A527-A8BB7DA9F09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Cálculo de tamaño y localización óptima de centros comerciales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210204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Hipótesis: Los comerciantes invierten en infraestructura si obtienen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33640" y="3160800"/>
                <a:ext cx="3314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08360" y="4419720"/>
                <a:ext cx="3298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5746680"/>
                <a:ext cx="2425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3724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67480" y="4454640"/>
                <a:ext cx="205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∈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s un parámet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: es tiemp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124680" y="5866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dició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8160" y="3437280"/>
            <a:ext cx="212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 costo por m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38F-5690-4ADD-8C23-899D14D9DB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82720" y="2057400"/>
                <a:ext cx="3975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82720" y="3048120"/>
                <a:ext cx="3810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4157640"/>
                <a:ext cx="187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49680" y="5027760"/>
                <a:ext cx="319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ona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7320" y="213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426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518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620-E56D-4D85-97F3-8677634028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... cont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62320" y="2133720"/>
                <a:ext cx="4311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α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23880" y="3962520"/>
                <a:ext cx="655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β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62320" y="5665680"/>
                <a:ext cx="420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unto fijo en 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60C-D023-4A82-816C-7F160EE579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60640" y="457200"/>
          <a:ext cx="459756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457200"/>
                    <a:ext cx="459756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03920" y="787320"/>
                <a:ext cx="3538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427800" y="774720"/>
                <a:ext cx="353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881840" y="762120"/>
                <a:ext cx="341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687240"/>
                <a:ext cx="6858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0880" y="210996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352680"/>
                <a:ext cx="685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22560" y="713160"/>
            <a:ext cx="18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a solu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89000" y="2039400"/>
            <a:ext cx="2797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i no hay intersección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0, entonces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=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65920"/>
            <a:ext cx="2797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res ca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corta la función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) es solo tang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i) no se toc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bserv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se puede pasar de caso (I) a caso (III) cambiando cosot de cosntruc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, pasando abruptamente de W&gt;0 a W=0. Esta es la base de la teoría de la catástrof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2720" y="10911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6600" y="10785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9520" y="1002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680" y="27327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58600" y="280908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58600" y="4485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97F-885B-4954-9BE8-5D8BF7DECD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: catástrofe 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332080"/>
          <a:ext cx="8001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32080"/>
                    <a:ext cx="8001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A02-6A70-41F9-8008-05CB12E4C6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Insumo Produ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573-0E9D-4473-A2E7-32F156BEF9E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Teoría de Producción y Multiplicador (Keynes,1936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ducc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depende de la demanda futura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, la que no es función de los precios sino del ingreso.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),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que depende  de la invers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istema cerrado en equilibrio general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=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sumidores: consumir o ahorrar, productores: producir o inver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27400" y="3800520"/>
                <a:ext cx="2121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074-8FCC-4358-91C5-A4166F08BB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24E-1B0C-4699-89AE-8A39C8E37AA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2057400"/>
          <a:ext cx="701676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016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25120" y="61711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Y=C+S       P=C+I            S=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00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CB9-61EA-4E85-9BD4-FFBE5DD23B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br>
              <a:rPr sz="3600"/>
            </a:b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Propensión al consumo (CC) y al ahorro (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66680" y="1309680"/>
          <a:ext cx="615960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09680"/>
                    <a:ext cx="61596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562720" y="13734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sólo consumo (pto de quieb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qulibrio se mueve a la izquierda,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equlibriuo se mueva a decrecha, en este caso ingreso aumenta más que la inversió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fecto multiplic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02F-0DE3-4984-8D45-6CA665B187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60600" y="2050920"/>
          <a:ext cx="584820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2050920"/>
                    <a:ext cx="58482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114800" y="204480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057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DB9-7EC0-4C69-A5A9-2A57E5B1D2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6920" y="15991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antidad de producto del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 requerido para producción de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09680" y="2362320"/>
                <a:ext cx="4813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57360" y="3276720"/>
                <a:ext cx="1886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1840" y="3352680"/>
                <a:ext cx="44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95520" y="4267080"/>
                <a:ext cx="314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5257800"/>
                <a:ext cx="563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99520" y="263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8840" y="32760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Demandas intermedia y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E6A-71F9-44B1-9721-BA8E7EEA87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9520" y="1218240"/>
            <a:ext cx="59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oeficiente técnico estable en el corto plazo, cambia con la tecnolo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1828800"/>
                <a:ext cx="41468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971800"/>
                <a:ext cx="340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962520"/>
                <a:ext cx="817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66680" y="5181480"/>
                <a:ext cx="5061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257800" y="5943600"/>
            <a:ext cx="1905120" cy="762120"/>
          </a:xfrm>
          <a:prstGeom prst="wedgeRectCallout">
            <a:avLst>
              <a:gd name="adj1" fmla="val -70583"/>
              <a:gd name="adj2" fmla="val -85208"/>
            </a:avLst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ltipli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C2F-2425-49F6-AF9D-EB487B93BE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111320"/>
          <a:ext cx="6311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1320"/>
                    <a:ext cx="6311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357-A5B8-4FB7-9A6B-15FBE81CDE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5440" y="1676520"/>
          <a:ext cx="56131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76520"/>
                    <a:ext cx="5613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52480" y="5308560"/>
                <a:ext cx="3321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den>
                    </m:f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464080" y="560736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Q: función de distancia a esti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E71-F640-4844-B15E-36077E3EE9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77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01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07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17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22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00E-3832-48CA-A68C-9FF97E03AC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F3C-8416-4A58-AEBF-CFA0267D18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9EF-D9C2-41F4-A7C9-C9B8F9BFCA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ECB-DFC6-4A0E-ABC6-2E8349A825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625-016F-4CF7-ABDB-537ACF20CA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DC3-981A-4C09-8087-18DAEF7DE7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F89-91F4-46F0-B248-E4D9B66B93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09-26T13:36:50Z</dcterms:modified>
  <cp:revision>142</cp:revision>
  <dc:subject/>
  <dc:title>General</dc:title>
</cp:coreProperties>
</file>