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93C-01E4-4D87-BCD9-4192E3F2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AED-7BE3-4653-83D5-F54940CF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577-154E-45DF-9BCB-5C91154A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F73-5695-4A17-BB46-DBDD8666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77D-3C42-46A4-84B0-C2E62D3B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A25-9C38-4DA2-ADF8-6832BB96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179-2D0A-40DF-A49E-F3888F4B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0FE-A7CB-4EE2-85CF-4DB76D2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9A9-0649-49BC-9D94-A85C7186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5F2-963B-4FE2-8DC5-A0102AE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A29-E97A-43C1-B210-E3AD1DDD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01B-BEB4-4B56-9027-6B756F19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02F4B2-08C7-4E82-8A49-08DAF5F8988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51055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7E7-8A18-4EC5-87BA-117109458E36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33B-38B6-41CF-9DC2-7B011C64F9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336-A397-4626-AB75-80609D5C4D4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E82-128C-4FDE-A8AE-1802F1382AA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30A-5C3F-48C6-92D3-948ED1128D6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9A2-E40F-472C-A616-8E6A6E103B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710-1ADF-4819-BA6D-0D8DCCC1D77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18D-8F66-4D0E-BEA8-A199B2DE48E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comp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DEF-0B64-4DB2-B4E7-49C0636F932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demanda por servicios de comercio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1981080"/>
                <a:ext cx="7010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302000"/>
                <a:ext cx="4648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3124080"/>
                <a:ext cx="3390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5562720"/>
                <a:ext cx="2108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094120" y="57902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61A-9163-4F8E-B07F-E19F9256C5D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3171960"/>
                <a:ext cx="40006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15880" y="2132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medida de atractividad, tamaño del centr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23080" y="41900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dida de 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515016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es el comportamiento implícito de los consumidores en este mode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C8F-0787-4703-AA5A-6642A830F6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597-CE9B-483F-AAF5-BBEE4A01B9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Versión desagregad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1905120"/>
                <a:ext cx="767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99800" y="2818440"/>
            <a:ext cx="481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g: tipo de bienes, w: tipos de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: modo transporte, h: tipo de ti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952880"/>
                <a:ext cx="47242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h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w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w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679920"/>
                <a:ext cx="2971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h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hw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39840" y="3885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199-AF48-45CA-846B-F3BF0A585B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Factores de atracción: </a:t>
            </a:r>
            <a:r>
              <a:rPr b="0" i="1" lang="es-CL" sz="4400" spc="-1" strike="noStrike">
                <a:solidFill>
                  <a:srgbClr val="8cf4ea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55600" y="1798560"/>
          <a:ext cx="737892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798560"/>
                    <a:ext cx="7378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38280" y="4038480"/>
                <a:ext cx="4597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g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h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sup>
                            </m:sSubSup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0BE-20C4-4769-8C93-60AD708615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localización de centros comerc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F35-25BF-4979-9836-9D5951464CD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Cálculo de tamaño y localización óptima de centros comerciales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210204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Hipótesis: Los comerciantes invierten en infraestructura si obtienen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33640" y="3160800"/>
                <a:ext cx="3314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08360" y="4419720"/>
                <a:ext cx="3298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5746680"/>
                <a:ext cx="2425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3724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67480" y="4454640"/>
                <a:ext cx="205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∈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s un parámet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: es tiemp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124680" y="5866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dició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8160" y="3437280"/>
            <a:ext cx="212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 costo por m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94D-F677-476E-976F-2053C80D86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82720" y="2057400"/>
                <a:ext cx="3975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82720" y="3048120"/>
                <a:ext cx="3810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4157640"/>
                <a:ext cx="187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49680" y="5027760"/>
                <a:ext cx="319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ona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7320" y="213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426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518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3EE-A0F2-43F8-B8AB-CF64B99E03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... cont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62320" y="2133720"/>
                <a:ext cx="4311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α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23880" y="3962520"/>
                <a:ext cx="655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β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62320" y="5665680"/>
                <a:ext cx="420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unto fijo en 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E0C-22D4-4908-9EDD-7FAE1F596B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60640" y="457200"/>
          <a:ext cx="459756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457200"/>
                    <a:ext cx="459756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03920" y="787320"/>
                <a:ext cx="3538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427800" y="774720"/>
                <a:ext cx="353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881840" y="762120"/>
                <a:ext cx="341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687240"/>
                <a:ext cx="6858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0880" y="210996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352680"/>
                <a:ext cx="685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22560" y="713160"/>
            <a:ext cx="18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a solu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89000" y="2039400"/>
            <a:ext cx="2797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i no hay intersección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0, entonces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=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65920"/>
            <a:ext cx="2797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res ca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corta la función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) es solo tang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i) no se toc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bserv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se puede pasar de caso (I) a caso (III) cambiando cosot de cosntruc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, pasando abruptamente de W&gt;0 a W=0. Esta es la base de la teoría de la catástrof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2720" y="10911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6600" y="10785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9520" y="1002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680" y="27327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58600" y="280908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58600" y="4485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2F0-4042-4961-9F11-A876886038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: catástrofe 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332080"/>
          <a:ext cx="8001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32080"/>
                    <a:ext cx="8001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E07-4E30-4605-9D2D-E848BB47EF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Insumo Produ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D51-93B2-42CD-BF4F-9D66B006C69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Teoría de Producción y Multiplicador (Keynes,1936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ducc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depende de la demanda futura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, la que no es función de los precios sino del ingreso.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),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que depende  de la invers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istema cerrado en equilibrio general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=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sumidores: consumir o ahorrar, productores: producir o inver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27400" y="3800520"/>
                <a:ext cx="2121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FBB-220A-4BA3-8622-228014A9A2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C63-50FD-478B-AAC2-A345CD59617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2057400"/>
          <a:ext cx="701676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016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25120" y="61711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Y=C+S       P=C+I            S=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00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070-ED0E-4FE0-B0FC-83ACEDB151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br>
              <a:rPr sz="3600"/>
            </a:b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Propensión al consumo (CC) y al ahorro (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66680" y="1309680"/>
          <a:ext cx="615960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09680"/>
                    <a:ext cx="61596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562720" y="13734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sólo consumo (pto de quieb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qulibrio se mueve a la izquierda,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equlibriuo se mueva a decrecha, en este caso ingreso aumenta más que la inversió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fecto multiplic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29A-E174-4675-8AA8-9287BE8B16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60600" y="2050920"/>
          <a:ext cx="584820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2050920"/>
                    <a:ext cx="58482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114800" y="204480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057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04A-D550-4709-853B-21FC457184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6920" y="15991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antidad de producto del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 requerido para producción de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09680" y="2362320"/>
                <a:ext cx="4813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57360" y="3276720"/>
                <a:ext cx="1886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1840" y="3352680"/>
                <a:ext cx="44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95520" y="4267080"/>
                <a:ext cx="314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5257800"/>
                <a:ext cx="563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99520" y="263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8840" y="32760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Demandas intermedia y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0CF-63C5-4227-B9D9-3950151006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9520" y="1218240"/>
            <a:ext cx="59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oeficiente técnico estable en el corto plazo, cambia con la tecnolo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1828800"/>
                <a:ext cx="41468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971800"/>
                <a:ext cx="340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962520"/>
                <a:ext cx="817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66680" y="5181480"/>
                <a:ext cx="5061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257800" y="5943600"/>
            <a:ext cx="1905120" cy="762120"/>
          </a:xfrm>
          <a:prstGeom prst="wedgeRectCallout">
            <a:avLst>
              <a:gd name="adj1" fmla="val -70583"/>
              <a:gd name="adj2" fmla="val -85208"/>
            </a:avLst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ltipli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A0D-416E-46A0-A9A8-15826BC4E4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111320"/>
          <a:ext cx="6311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1320"/>
                    <a:ext cx="6311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978-FDA3-4527-B14E-A24646ED40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5440" y="1676520"/>
          <a:ext cx="56131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76520"/>
                    <a:ext cx="5613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52480" y="5308560"/>
                <a:ext cx="3321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den>
                    </m:f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464080" y="560736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Q: función de distancia a esti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233-94E2-4B8E-85D0-E77BFBA7C3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77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01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07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17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22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041-5538-4971-9890-0704B5F648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442-EDA0-424E-8EDF-D5D5531A83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53D-4EB1-4C6C-A5B9-ACD92F96D4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682-DD88-400F-99D7-287AB99988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29F-195D-493C-ADA2-444D61B6CE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C3A-1AE7-44DB-AFB5-662E7DD7E5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BA4-E12B-4264-8FEC-4BB633FBA1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09-26T13:36:50Z</dcterms:modified>
  <cp:revision>142</cp:revision>
  <dc:subject/>
  <dc:title>General</dc:title>
</cp:coreProperties>
</file>