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BE91-EFFB-41DD-81F1-4E9544B6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DA49-6529-4D3C-851B-BBFC1F40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9159-5C09-47E7-A8F0-75606D20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7CF0-DACE-4DD8-9EFC-899F60C0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E9E7-01AF-4EFE-B2B3-858F2627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0C7F-A087-40CD-8DFC-B05DCB9F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F543-A03E-44FD-988F-B69F03C5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635F-96B9-414D-BABB-F1F25FB0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26CD-94E9-421B-9366-2367734D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A77F-8646-41CD-9CB2-9D9ED173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E58B-2FB5-46A1-8275-9CD1D431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A7B0-F1B8-45DB-9A90-5C689261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560BF73-5021-4521-8FD0-FD40187F6F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90720" y="45720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1700-1383-43DD-9C3C-FD71D17A6F02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tasas marginales de sustit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295280"/>
            <a:ext cx="7772400" cy="502920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676520" y="182880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243320" y="2057400"/>
                <a:ext cx="3463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808280" y="3300480"/>
                <a:ext cx="5757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recios  decrecientes con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828800" y="4151160"/>
                <a:ext cx="18082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289400" y="4113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ejarse del CBD mientras los ahorros en renta sean mayor que costo extra en 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AC64-7AF2-4D20-A08D-020456AA7F6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61760" y="22093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finición: conjunto de precios que el individuo está dispuesto a pagar a diversas distancias para obtener un nivel de utilidad d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pia de cada individuo (gustos e ingres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ferida a un nivel de utilidad. Existe una familia de cur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tiene necesaria relación con la curva de precios re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496960" y="1143000"/>
                <a:ext cx="4267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5373-F743-4052-8E07-9F96073E0A0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344680" y="1143000"/>
                <a:ext cx="4265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62120" y="3232080"/>
                <a:ext cx="3332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343400" y="3200400"/>
                <a:ext cx="41911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limLow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609480" y="48744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 precio o costo marginal de localiza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ún si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constante, DP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desutilidad tp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U(x,q,t)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e puede derivar la D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yor costo tpt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ás desutilidad de viajar debe compensarse con disminución de D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62120" y="2362320"/>
                <a:ext cx="31240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D59F-7EB7-4503-A245-6B33DE31432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4648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y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 mismo individuo NO se intersec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ecto ingreso terreno más barato compensa costo tpte para mantener 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75480" y="-1460520"/>
            <a:ext cx="11450520" cy="6261120"/>
            <a:chOff x="375480" y="-1460520"/>
            <a:chExt cx="11450520" cy="6261120"/>
          </a:xfrm>
        </p:grpSpPr>
        <p:sp>
          <p:nvSpPr>
            <p:cNvPr id="142" name=""/>
            <p:cNvSpPr/>
            <p:nvPr/>
          </p:nvSpPr>
          <p:spPr>
            <a:xfrm>
              <a:off x="375480" y="685800"/>
              <a:ext cx="3823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i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735120" y="-1460520"/>
              <a:ext cx="11090880" cy="6261120"/>
              <a:chOff x="735120" y="-1460520"/>
              <a:chExt cx="11090880" cy="6261120"/>
            </a:xfrm>
          </p:grpSpPr>
          <p:sp>
            <p:nvSpPr>
              <p:cNvPr id="144" name=""/>
              <p:cNvSpPr/>
              <p:nvPr/>
            </p:nvSpPr>
            <p:spPr>
              <a:xfrm>
                <a:off x="735120" y="995760"/>
                <a:ext cx="0" cy="327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0520" y="4277520"/>
                <a:ext cx="5824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92080" y="42091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60000">
                <a:off x="849240" y="-5558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554120" y="4330800"/>
                <a:ext cx="30636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54120" y="4062240"/>
                <a:ext cx="32364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66720" y="4398120"/>
                <a:ext cx="30672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60000">
                <a:off x="963720" y="-10256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60000">
                <a:off x="1127520" y="-13676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444000" y="30826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514200" y="34862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583680" y="38876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7316280" y="3167640"/>
            <a:ext cx="15739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47440" y="1505160"/>
            <a:ext cx="309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 q, y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u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A79F-97F7-4A22-AC55-415076B7D9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-1526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l hogar </a:t>
            </a: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(precios exógenos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71440" y="1295280"/>
                <a:ext cx="2562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3965400" y="1238760"/>
            <a:ext cx="495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dición de equilibrio individual condicional en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,y,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;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18160" y="324828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y,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,u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362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4480" y="267336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0960" y="5954760"/>
            <a:ext cx="582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02160" y="58863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638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38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68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60000">
            <a:off x="973080" y="651240"/>
            <a:ext cx="1065744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26720" y="51631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434340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76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752480" y="2666880"/>
                <a:ext cx="17686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flipH="1">
            <a:off x="1447560" y="3200400"/>
            <a:ext cx="53316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760" y="4570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61760" y="434340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8080" y="401220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60000">
            <a:off x="1125720" y="38412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60000">
            <a:off x="858960" y="99360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895480"/>
            <a:ext cx="4267080" cy="2133720"/>
          </a:xfrm>
          <a:custGeom>
            <a:avLst/>
            <a:gdLst/>
            <a:ahLst/>
            <a:rect l="l" t="t" r="r" b="b"/>
            <a:pathLst>
              <a:path w="2688" h="1344">
                <a:moveTo>
                  <a:pt x="0" y="0"/>
                </a:moveTo>
                <a:cubicBezTo>
                  <a:pt x="4" y="168"/>
                  <a:pt x="8" y="336"/>
                  <a:pt x="48" y="480"/>
                </a:cubicBezTo>
                <a:cubicBezTo>
                  <a:pt x="88" y="624"/>
                  <a:pt x="104" y="768"/>
                  <a:pt x="240" y="864"/>
                </a:cubicBezTo>
                <a:cubicBezTo>
                  <a:pt x="376" y="960"/>
                  <a:pt x="608" y="992"/>
                  <a:pt x="864" y="1056"/>
                </a:cubicBezTo>
                <a:cubicBezTo>
                  <a:pt x="1120" y="1120"/>
                  <a:pt x="1472" y="1200"/>
                  <a:pt x="1776" y="1248"/>
                </a:cubicBezTo>
                <a:cubicBezTo>
                  <a:pt x="2080" y="1296"/>
                  <a:pt x="2528" y="1328"/>
                  <a:pt x="2688" y="1344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79000" y="47743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26720" y="553644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54C3-E0DC-4EF9-B83D-C7F8881FFC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0800" y="3805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P de la firm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438280" y="4924440"/>
                <a:ext cx="4699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600200" y="1752480"/>
                <a:ext cx="2425680" cy="24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788000" y="16754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f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36160" y="236124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olumen de nego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5720" y="304704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stos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99520" y="36565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ecio del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0473-9849-47B7-B183-A11CA30B14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286000" y="1066680"/>
                <a:ext cx="27432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303640" y="1752480"/>
                <a:ext cx="4173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286000" y="2503440"/>
                <a:ext cx="4038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495680" y="30492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1107360" y="4129560"/>
            <a:ext cx="725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Vt: Pérdida de ingreso por alejamiento del CB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v : Cambio costo operación por cambio en volumen de nego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t: Cambio por costos de operación por alej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q dP/dt: Disminución del precio del sue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C5A7-A783-4CFA-8D99-7CF4509ECB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152360" y="1371600"/>
                <a:ext cx="7077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8080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011400" y="2646360"/>
                <a:ext cx="38750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609480" y="42670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gana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a firma NO se intersec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enen pendiente neg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9ED3-541C-4CB2-BE1B-AE9B299B4D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75480" y="1603440"/>
            <a:ext cx="382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5120" y="183528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1240" y="5116680"/>
            <a:ext cx="582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92440" y="504828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60000">
            <a:off x="849240" y="284400"/>
            <a:ext cx="10661400" cy="480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54120" y="51688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54120" y="4900680"/>
            <a:ext cx="3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67440" y="52354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60000">
            <a:off x="963360" y="-186480"/>
            <a:ext cx="1066140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60000">
            <a:off x="1127520" y="-529920"/>
            <a:ext cx="106603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7280" y="40334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94600" y="4444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02360" y="4795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40680" y="4005720"/>
            <a:ext cx="17251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7240" y="2343600"/>
            <a:ext cx="269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q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G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7600" y="-3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583920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 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,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G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80640" y="5028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39040" y="3427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40384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62120" y="4038480"/>
            <a:ext cx="21333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2120" y="370764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27280" y="1816200"/>
            <a:ext cx="4673520" cy="2679480"/>
          </a:xfrm>
          <a:custGeom>
            <a:avLst/>
            <a:gdLst/>
            <a:ahLst/>
            <a:rect l="l" t="t" r="r" b="b"/>
            <a:pathLst>
              <a:path w="2944" h="1688">
                <a:moveTo>
                  <a:pt x="16" y="0"/>
                </a:moveTo>
                <a:cubicBezTo>
                  <a:pt x="8" y="152"/>
                  <a:pt x="0" y="304"/>
                  <a:pt x="112" y="528"/>
                </a:cubicBezTo>
                <a:cubicBezTo>
                  <a:pt x="224" y="752"/>
                  <a:pt x="320" y="1160"/>
                  <a:pt x="688" y="1344"/>
                </a:cubicBezTo>
                <a:cubicBezTo>
                  <a:pt x="1056" y="1528"/>
                  <a:pt x="1944" y="1576"/>
                  <a:pt x="2320" y="1632"/>
                </a:cubicBezTo>
                <a:cubicBezTo>
                  <a:pt x="2696" y="1688"/>
                  <a:pt x="2820" y="1684"/>
                  <a:pt x="2944" y="1680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486040" y="3809880"/>
            <a:ext cx="30492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5DA-666B-4AD4-9A85-B42976BC0A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057400" y="4038480"/>
            <a:ext cx="0" cy="9144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581280" y="4114800"/>
            <a:ext cx="0" cy="838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4038480"/>
            <a:ext cx="54864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6536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lugares residenciales y otros de agri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743A-BD80-4CA9-9B16-B2DA65313C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portes teorícos en localización residencial</a:t>
            </a:r>
            <a:br>
              <a:rPr sz="3600"/>
            </a:b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ntes de 1900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. Smith, D. Ricardo, J. S. Mill: suelo es un caso monopó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fred Marshal (1890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te value = situation + agricultural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ds: en base a ventajas de localización y asignación a uso más ren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M Hurd (1903): valor depende de rentabilidad, esta de localización y esta de  cercanía, valor depende de cercanía. Caso residencial el valor es social y no económ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E04B-A353-4DF6-A6FA-2A1B4ADF3E4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190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057400" y="1828800"/>
            <a:ext cx="0" cy="3124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581280" y="3200400"/>
            <a:ext cx="0" cy="17524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648320" y="3809520"/>
            <a:ext cx="0" cy="11430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47920" y="4114800"/>
            <a:ext cx="54864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26920" y="401220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90480" y="126900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133720" y="1752480"/>
            <a:ext cx="45720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76280" y="2031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048120" y="2514600"/>
            <a:ext cx="30456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23840" y="3174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495680" y="3657600"/>
            <a:ext cx="15264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15E4-DED0-4706-B5B5-52DC7BC69A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057400" y="2437920"/>
            <a:ext cx="0" cy="25146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581280" y="3733920"/>
            <a:ext cx="0" cy="121896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4038480"/>
            <a:ext cx="548640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8412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F25A-C6DF-421B-B04D-5AE7D8776C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12254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90000" y="1219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60000">
            <a:off x="1574280" y="-769320"/>
            <a:ext cx="1169028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300000">
            <a:off x="2521800" y="-1445040"/>
            <a:ext cx="5483520" cy="649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014928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014928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20000">
            <a:off x="1479240" y="2945160"/>
            <a:ext cx="12013560" cy="163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22" y="20534"/>
                </a:moveTo>
                <a:arcTo wR="10800" hR="10800" stAng="6940080" swAng="3866601"/>
                <a:lnTo>
                  <a:pt x="10800" y="10800"/>
                </a:lnTo>
                <a:close/>
              </a:path>
              <a:path fill="none" w="21600" h="21600">
                <a:moveTo>
                  <a:pt x="6122" y="20534"/>
                </a:moveTo>
                <a:arcTo wR="10800" hR="10800" stAng="6940080" swAng="3866601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68360" y="106056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3740040"/>
            <a:ext cx="0" cy="12067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05520" y="45021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8108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9828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3200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7992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553080" y="4489200"/>
            <a:ext cx="0" cy="469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441080" y="4572000"/>
            <a:ext cx="5118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92000">
            <a:off x="2492640" y="-1492920"/>
            <a:ext cx="5482800" cy="649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358" y="17536"/>
                </a:moveTo>
                <a:arcTo wR="10800" hR="10800" stAng="8484575" swAng="2317105"/>
                <a:lnTo>
                  <a:pt x="10800" y="10800"/>
                </a:lnTo>
                <a:close/>
              </a:path>
              <a:path fill="none" w="21600" h="21600">
                <a:moveTo>
                  <a:pt x="2358" y="17536"/>
                </a:moveTo>
                <a:arcTo wR="10800" hR="10800" stAng="8484575" swAng="2317105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60000">
            <a:off x="1569240" y="-767160"/>
            <a:ext cx="11690640" cy="546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04" y="20793"/>
                </a:moveTo>
                <a:arcTo wR="10800" hR="10800" stAng="6737166" swAng="1612575"/>
                <a:lnTo>
                  <a:pt x="10800" y="10800"/>
                </a:lnTo>
                <a:close/>
              </a:path>
              <a:path fill="none" w="21600" h="21600">
                <a:moveTo>
                  <a:pt x="6704" y="20793"/>
                </a:moveTo>
                <a:arcTo wR="10800" hR="10800" stAng="6737166" swAng="1612575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20000">
            <a:off x="1461960" y="2957040"/>
            <a:ext cx="12009600" cy="163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09" swAng="1368189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09" swAng="1368189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3440" y="152388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3124080"/>
            <a:ext cx="45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525780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525780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55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08360" y="533700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8944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60000">
            <a:off x="1395000" y="-616680"/>
            <a:ext cx="1169028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60000">
            <a:off x="1874520" y="-851760"/>
            <a:ext cx="1168956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6B71-2E23-497C-AAC4-F3F9186BD4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047240" y="1143000"/>
            <a:ext cx="77914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Área disponible 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: S(t)=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ars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(t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rdenar hogares y firmas de mayor a menor pendient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contr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solv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733920" y="2714760"/>
                <a:ext cx="1969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D7F3-7C24-44CB-86CA-47B2E682D3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61760" y="4343400"/>
            <a:ext cx="77914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arar el precio resultante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el margen de la ciudad con el valor agrícola, si coincide con la suposición entonces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ra correcta, si no, hay que modificar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Se obtiene el límite urb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ernativamente, partir del valor de suelo agrícola y un límite urbano, probar si cabe toda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09480" y="75960"/>
            <a:ext cx="7963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80880" y="1371600"/>
          <a:ext cx="8763120" cy="261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76312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6111-06C2-4AFE-B8EE-80AAF11D13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4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345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969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970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975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980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985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87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990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C960-863B-42D5-9168-26C699643F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obert Haig (1926): renta producto del ahorro de costos de transporte; asignación vía rem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in (Renta + costo tpte) = costo de fri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cologis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k &amp; Burques:Valor renta determina e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ig: ¿Uso determina valor o a la invers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wley: Hogares se distribuyen por renta, costo de transporte y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localización de otros hogar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stos factores generan la renta residenc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alter Firey: Minimizar costo total de obtener máxima satisfacción sea mínimo. Costo incluye elementos sentiment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A76C-1258-4FF4-A73C-263B7A3F7A1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Teoría de localización residencial</a:t>
            </a:r>
            <a:br>
              <a:rPr sz="3600"/>
            </a:b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Alonso (1961-64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lanada homogénea: idéntica calidad, lista para usar, compra y venta libre, se aceptan hoy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ormación perfecta, no hay restricciones legales ni so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mpradores maximizan utilidad, vendedores maximizan gan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cio: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Arrien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venta y costo de propie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amaño terreno: trivial para un solo ocupante, una fracción para múltiples ocupant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7410-7F3F-4D9A-BA30-33BB364CEC4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l terr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istancia del centro C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de decisión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"hombre económico" Individuo puede representar un hogar (opinantes o no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idéntico en todas dire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onocentr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empleo y servicios concentrados en CB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quilibri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iste en definir la cantidad de terreno y localización que el individuo comprar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9A64-C6BC-47FC-B0A9-ED0231D7FBF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31240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x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ienes de consumo a precio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tancia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tamaño de terreno a precio en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(t)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recio suelo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calizado en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or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costo de transporte desde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ingreso del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741760" y="1447920"/>
                <a:ext cx="4117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614880" y="141624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l ho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8250-3102-43CF-97ED-5D148F7614F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upuest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29800" y="1474920"/>
            <a:ext cx="6495120" cy="4492800"/>
            <a:chOff x="829800" y="1474920"/>
            <a:chExt cx="6495120" cy="4492800"/>
          </a:xfrm>
        </p:grpSpPr>
        <p:sp>
          <p:nvSpPr>
            <p:cNvPr id="91" name=""/>
            <p:cNvSpPr/>
            <p:nvPr/>
          </p:nvSpPr>
          <p:spPr>
            <a:xfrm>
              <a:off x="1238760" y="1508760"/>
              <a:ext cx="0" cy="390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38760" y="5410440"/>
              <a:ext cx="588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35480" y="1703880"/>
              <a:ext cx="4431240" cy="3381120"/>
            </a:xfrm>
            <a:custGeom>
              <a:avLst/>
              <a:gdLst/>
              <a:ahLst/>
              <a:rect l="l" t="t" r="r" b="b"/>
              <a:pathLst>
                <a:path w="3216" h="2496">
                  <a:moveTo>
                    <a:pt x="0" y="0"/>
                  </a:moveTo>
                  <a:cubicBezTo>
                    <a:pt x="44" y="296"/>
                    <a:pt x="88" y="592"/>
                    <a:pt x="240" y="864"/>
                  </a:cubicBezTo>
                  <a:cubicBezTo>
                    <a:pt x="392" y="1136"/>
                    <a:pt x="624" y="1416"/>
                    <a:pt x="912" y="1632"/>
                  </a:cubicBezTo>
                  <a:cubicBezTo>
                    <a:pt x="1200" y="1848"/>
                    <a:pt x="1584" y="2016"/>
                    <a:pt x="1968" y="2160"/>
                  </a:cubicBezTo>
                  <a:cubicBezTo>
                    <a:pt x="2352" y="2304"/>
                    <a:pt x="2992" y="2432"/>
                    <a:pt x="3216" y="2496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00080" y="1833840"/>
              <a:ext cx="3703680" cy="3251160"/>
            </a:xfrm>
            <a:custGeom>
              <a:avLst/>
              <a:gdLst/>
              <a:ahLst/>
              <a:rect l="l" t="t" r="r" b="b"/>
              <a:pathLst>
                <a:path w="2688" h="2400">
                  <a:moveTo>
                    <a:pt x="0" y="2400"/>
                  </a:moveTo>
                  <a:cubicBezTo>
                    <a:pt x="280" y="2360"/>
                    <a:pt x="560" y="2320"/>
                    <a:pt x="816" y="2208"/>
                  </a:cubicBezTo>
                  <a:cubicBezTo>
                    <a:pt x="1072" y="2096"/>
                    <a:pt x="1280" y="2000"/>
                    <a:pt x="1536" y="1728"/>
                  </a:cubicBezTo>
                  <a:cubicBezTo>
                    <a:pt x="1792" y="1456"/>
                    <a:pt x="2160" y="864"/>
                    <a:pt x="2352" y="576"/>
                  </a:cubicBezTo>
                  <a:cubicBezTo>
                    <a:pt x="2544" y="288"/>
                    <a:pt x="2624" y="104"/>
                    <a:pt x="2688" y="0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02640" y="485676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64520" y="173520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k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58880" y="54417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9800" y="55080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CB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72280" y="147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477120" y="1752480"/>
                <a:ext cx="761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858000" y="4572000"/>
                <a:ext cx="762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096960" y="365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ecios exóg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5445-8E9D-4BAA-9378-069C0A72958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3000" y="1295280"/>
            <a:ext cx="7772400" cy="510552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restricción de ingreso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286000" y="1447920"/>
                <a:ext cx="5105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71800" y="2133720"/>
                <a:ext cx="4267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362320" y="2738520"/>
                <a:ext cx="4572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057400" y="3429000"/>
                <a:ext cx="6400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47920" y="4898880"/>
                <a:ext cx="25905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984920" y="4919760"/>
                <a:ext cx="3473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CC7E-43D7-4C9D-865D-C8EA02BCDCB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1219320"/>
            <a:ext cx="7696080" cy="51051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822320" y="1447920"/>
                <a:ext cx="2757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función de utilidad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57400" y="2057400"/>
                <a:ext cx="4629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603760" y="2971800"/>
                <a:ext cx="2549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432480" y="5018040"/>
                <a:ext cx="12636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7560" y="2881440"/>
                <a:ext cx="26370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33720" y="484992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2338560" y="380916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illo concéntr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17080" y="380916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 rad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01240" y="426600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s marginales de sustit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FE52-01CF-481C-B1C9-5955EFB38ED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6-07-24T13:48:49Z</dcterms:modified>
  <cp:revision>119</cp:revision>
  <dc:subject/>
  <dc:title>General</dc:title>
</cp:coreProperties>
</file>