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7FE-F32D-4C6C-B6B4-6D6DA7B7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A67-8B99-4908-AEBD-888C9E0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AF5-48BD-4E43-8188-76DBA2BF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786-AADE-40EF-A830-618BEEFF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5FD-B200-4758-908F-75AB13B9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54F-70BA-46FA-9C52-01EEC168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61E-B334-45FA-943D-759F534D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518-5685-4C1C-823D-7F02D1D0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181-76A9-4043-BDEA-7E5B6961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59A-DDC9-4236-B985-63B74DF0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B1A-9754-4BDC-8802-6D398115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4C4-4DF9-4172-848F-180814D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7668F3-B8D2-43E6-B530-24C9C99E8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20B-979B-484D-B7BB-CA676B46493A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2CC-B8C7-421F-9387-FBC84DF56C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439-7093-441F-B1BC-8F8DB323A1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FE4-A574-46E8-9A28-9A698DC05E4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E28-CD12-41BD-9158-ECEB30B05F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5C9-BFF1-417E-B376-913D138608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332-C25F-40EA-9A24-1753A3E262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EEF-3871-4B13-83A4-01F79C2D56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3F2-4D46-4942-80B9-9E245DC849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7F1-E58E-40F8-AC23-A0D37D26A2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F44-AAA0-44ED-935B-91136D0F68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92A-DD15-4E8F-A777-8969F02615A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687-3688-4B68-B24E-5BAF5538AC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93E-14BF-420B-8E25-E7B42E8B51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C7D-03F2-48B4-8926-115FAAF15C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179-ACF2-4AE1-9D42-A7C2FFD614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1CD-E038-425B-9F7E-E27F6CEBB2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022-7F4C-41BD-88ED-F72A589BBD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14F-D0D2-4D35-9925-093DEE8BF1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ED6-BE4C-4569-A955-30E50EC06C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B01-7D8F-4A51-AB73-C23C18FFC6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ED5-AC9F-455B-968F-F87C6998DA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EA5-11E2-4AB9-B2C6-C4186CE78F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00C-C40F-45A2-B15C-E048DA83E1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2B6-19D9-4244-8215-ACCBCE997B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7-24T13:48:49Z</dcterms:modified>
  <cp:revision>119</cp:revision>
  <dc:subject/>
  <dc:title>General</dc:title>
</cp:coreProperties>
</file>