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3C0-7C62-4E0F-B0A6-F1C89CDE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87A-7972-46D7-BCF2-8D86DB22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42F-1CE3-4A65-B297-71412C44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B7C-D81C-466C-8626-4D4CCC5B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2D9-F5C0-4C25-9472-64C70395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98E-8923-41F4-8EDA-6A7ADE11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7BA-E1C2-42A6-AA61-B4E260C4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ACB-784D-422E-A6CD-6FA0F8C3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65C-A378-43F6-A968-96AB70C9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553-6675-44A7-91D1-A8FDD79D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D9EA-4318-4D69-AB98-4D8ABF2D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6AC-8D7D-452B-835C-62185FD4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8929F9-5E3B-4898-81F1-8C55B3278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2578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DF9-C9B4-4524-85F3-99C1F1C16EE7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OPTIM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C43-7B80-4C12-BCD0-53E52F95BF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1218960"/>
            <a:ext cx="771516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bidimensional: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9C8-11D3-427F-BB04-FCBB768753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2057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Múltiples áreas de mercado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98A-C8AD-4904-9489-FA0D6A6E0C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44160" y="127836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demanda del bien en la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920" y="2057400"/>
            <a:ext cx="7010280" cy="3505320"/>
            <a:chOff x="1447920" y="2057400"/>
            <a:chExt cx="7010280" cy="35053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2057400"/>
              <a:ext cx="7010280" cy="3505320"/>
              <a:chOff x="1447920" y="2057400"/>
              <a:chExt cx="7010280" cy="35053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2057400"/>
                <a:ext cx="7010280" cy="3505320"/>
              </a:xfrm>
              <a:prstGeom prst="rect">
                <a:avLst/>
              </a:prstGeom>
              <a:solidFill>
                <a:srgbClr val="c9cf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9200" y="3316320"/>
                <a:ext cx="1509840" cy="173376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192400" y="2209680"/>
                <a:ext cx="2516400" cy="2887920"/>
                <a:chOff x="2192400" y="2209680"/>
                <a:chExt cx="2516400" cy="2887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192400" y="5097600"/>
                  <a:ext cx="251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192400" y="2209680"/>
                  <a:ext cx="0" cy="28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192400" y="2760840"/>
                <a:ext cx="2013120" cy="23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95680" y="3316320"/>
                <a:ext cx="1509840" cy="17337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68600" y="5051520"/>
                <a:ext cx="3794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988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10800000">
                <a:off x="4957920" y="3316320"/>
                <a:ext cx="1511280" cy="1733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69200" y="290700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692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34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7920" y="4699080"/>
                <a:ext cx="302112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744640" y="3001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8560" y="289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4440" y="236124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o de deman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504960" y="2819520"/>
              <a:ext cx="1066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2819520"/>
              <a:ext cx="1371600" cy="76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ercado monopól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3880" y="5134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8316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62D-1326-4813-BDF4-9FE567EEE7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900400" y="1980000"/>
            <a:ext cx="27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emanda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: densidad pob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-p=máximo costo fl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en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costo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tot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38480" y="1828800"/>
                <a:ext cx="30859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1371600" y="274320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556272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048120"/>
            <a:ext cx="3276720" cy="251460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495288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0240" y="472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3040" y="2894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4960" y="5561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7160" y="2437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825-E786-43F2-9270-0C3E3CDF88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co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271600" y="1447920"/>
            <a:ext cx="14400" cy="403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71600" y="5478480"/>
            <a:ext cx="641520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124080"/>
            <a:ext cx="3505320" cy="236232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91920" y="2818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31400" y="548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21120" y="16754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232000"/>
            <a:ext cx="4800600" cy="317808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048120" y="38862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42864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14440" y="46483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BCA-9541-4479-B78E-1A9B12F831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últiples productores cercanos: competencia espa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590920"/>
            <a:ext cx="5638680" cy="37335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16480" y="5369040"/>
            <a:ext cx="361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516480" y="2913120"/>
            <a:ext cx="0" cy="24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92320" y="444672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92320" y="397656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4200" y="5349960"/>
            <a:ext cx="647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564080" y="4266720"/>
            <a:ext cx="7920" cy="1049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6480" y="5105520"/>
            <a:ext cx="27320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16480" y="468144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59200" y="5349960"/>
            <a:ext cx="816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48240" y="3200400"/>
            <a:ext cx="2484360" cy="171936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78200" y="3270240"/>
            <a:ext cx="2354400" cy="147312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0000" y="3592440"/>
            <a:ext cx="390600" cy="3700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27440" y="3363840"/>
            <a:ext cx="2001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sto largo pla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46760" y="3892680"/>
            <a:ext cx="1386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64080" y="39765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6200" y="4565520"/>
            <a:ext cx="52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49760" y="4935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4960" y="4653000"/>
            <a:ext cx="52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14960" y="482904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6200" y="467532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83200" y="4675320"/>
            <a:ext cx="98280" cy="856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49760" y="4154400"/>
            <a:ext cx="392400" cy="3682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571560" y="424008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657600"/>
            <a:ext cx="2438280" cy="1523880"/>
          </a:xfrm>
          <a:custGeom>
            <a:avLst/>
            <a:gdLst/>
            <a:ahLst/>
            <a:rect l="l" t="t" r="r" b="b"/>
            <a:pathLst>
              <a:path w="1160" h="1016">
                <a:moveTo>
                  <a:pt x="8" y="0"/>
                </a:moveTo>
                <a:cubicBezTo>
                  <a:pt x="4" y="88"/>
                  <a:pt x="0" y="176"/>
                  <a:pt x="56" y="288"/>
                </a:cubicBezTo>
                <a:cubicBezTo>
                  <a:pt x="112" y="400"/>
                  <a:pt x="208" y="560"/>
                  <a:pt x="344" y="672"/>
                </a:cubicBezTo>
                <a:cubicBezTo>
                  <a:pt x="480" y="784"/>
                  <a:pt x="736" y="904"/>
                  <a:pt x="872" y="960"/>
                </a:cubicBezTo>
                <a:cubicBezTo>
                  <a:pt x="1008" y="1016"/>
                  <a:pt x="1112" y="1000"/>
                  <a:pt x="1160" y="100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3429000"/>
            <a:ext cx="3353040" cy="182880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2895480"/>
            <a:ext cx="1828800" cy="914400"/>
          </a:xfrm>
          <a:prstGeom prst="wedgeRoundRectCallout">
            <a:avLst>
              <a:gd name="adj1" fmla="val -102342"/>
              <a:gd name="adj2" fmla="val 162152"/>
              <a:gd name="adj3" fmla="val 16667"/>
            </a:avLst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manda ca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 compe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92120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m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8004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41880" y="5410080"/>
            <a:ext cx="8161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m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399-7707-4539-BDBA-5A61A9A77F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Areas de mercado e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62120" y="2566080"/>
            <a:ext cx="3794760" cy="3300480"/>
            <a:chOff x="762120" y="2566080"/>
            <a:chExt cx="3794760" cy="3300480"/>
          </a:xfrm>
        </p:grpSpPr>
        <p:grpSp>
          <p:nvGrpSpPr>
            <p:cNvPr id="311" name=""/>
            <p:cNvGrpSpPr/>
            <p:nvPr/>
          </p:nvGrpSpPr>
          <p:grpSpPr>
            <a:xfrm>
              <a:off x="2546280" y="2566080"/>
              <a:ext cx="2010600" cy="1663200"/>
              <a:chOff x="2546280" y="2566080"/>
              <a:chExt cx="2010600" cy="16632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46280" y="259236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438360" y="286488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04720" y="25660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40000" y="3317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546280" y="4203720"/>
              <a:ext cx="2010600" cy="1662840"/>
              <a:chOff x="2546280" y="4203720"/>
              <a:chExt cx="2010600" cy="1662840"/>
            </a:xfrm>
          </p:grpSpPr>
          <p:sp>
            <p:nvSpPr>
              <p:cNvPr id="317" name=""/>
              <p:cNvSpPr/>
              <p:nvPr/>
            </p:nvSpPr>
            <p:spPr>
              <a:xfrm>
                <a:off x="2546280" y="422964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438360" y="450216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04720" y="420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40000" y="495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62120" y="2566080"/>
              <a:ext cx="2010600" cy="1663200"/>
              <a:chOff x="762120" y="2566080"/>
              <a:chExt cx="2010600" cy="1663200"/>
            </a:xfrm>
          </p:grpSpPr>
          <p:sp>
            <p:nvSpPr>
              <p:cNvPr id="322" name=""/>
              <p:cNvSpPr/>
              <p:nvPr/>
            </p:nvSpPr>
            <p:spPr>
              <a:xfrm>
                <a:off x="762120" y="259236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1654200" y="286488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320560" y="25660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57640" y="3317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62120" y="4203720"/>
              <a:ext cx="2010600" cy="1662840"/>
              <a:chOff x="762120" y="4203720"/>
              <a:chExt cx="2010600" cy="1662840"/>
            </a:xfrm>
          </p:grpSpPr>
          <p:sp>
            <p:nvSpPr>
              <p:cNvPr id="327" name=""/>
              <p:cNvSpPr/>
              <p:nvPr/>
            </p:nvSpPr>
            <p:spPr>
              <a:xfrm>
                <a:off x="762120" y="422964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1654200" y="450216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20560" y="420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57640" y="495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4876920" y="2133720"/>
            <a:ext cx="4188960" cy="3809880"/>
            <a:chOff x="4876920" y="2133720"/>
            <a:chExt cx="4188960" cy="3809880"/>
          </a:xfrm>
        </p:grpSpPr>
        <p:grpSp>
          <p:nvGrpSpPr>
            <p:cNvPr id="332" name=""/>
            <p:cNvGrpSpPr/>
            <p:nvPr/>
          </p:nvGrpSpPr>
          <p:grpSpPr>
            <a:xfrm>
              <a:off x="5105520" y="2133720"/>
              <a:ext cx="3960360" cy="2133360"/>
              <a:chOff x="5105520" y="2133720"/>
              <a:chExt cx="3960360" cy="21333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5105520" y="2362320"/>
                <a:ext cx="3960360" cy="1904760"/>
                <a:chOff x="5105520" y="2362320"/>
                <a:chExt cx="3960360" cy="1904760"/>
              </a:xfrm>
            </p:grpSpPr>
            <p:grpSp>
              <p:nvGrpSpPr>
                <p:cNvPr id="334" name=""/>
                <p:cNvGrpSpPr/>
                <p:nvPr/>
              </p:nvGrpSpPr>
              <p:grpSpPr>
                <a:xfrm>
                  <a:off x="6858000" y="2437200"/>
                  <a:ext cx="2207880" cy="1829880"/>
                  <a:chOff x="6858000" y="2437200"/>
                  <a:chExt cx="2207880" cy="182988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6858000" y="2438280"/>
                    <a:ext cx="1981080" cy="1828800"/>
                  </a:xfrm>
                  <a:prstGeom prst="ellipse">
                    <a:avLst/>
                  </a:prstGeom>
                  <a:solidFill>
                    <a:srgbClr val="c9cfcd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V="1">
                    <a:off x="7848720" y="2742840"/>
                    <a:ext cx="76176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8613720" y="2437200"/>
                    <a:ext cx="452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648920" y="327564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9" name=""/>
                <p:cNvSpPr/>
                <p:nvPr/>
              </p:nvSpPr>
              <p:spPr>
                <a:xfrm>
                  <a:off x="7740720" y="26668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105520" y="2438280"/>
                  <a:ext cx="1981080" cy="1828800"/>
                </a:xfrm>
                <a:prstGeom prst="ellipse">
                  <a:avLst/>
                </a:prstGeom>
                <a:solidFill>
                  <a:srgbClr val="c9cfc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6095880" y="2742840"/>
                  <a:ext cx="76212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842160" y="2362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89644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521400" y="266688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858000" y="2438280"/>
                  <a:ext cx="2073240" cy="1828800"/>
                  <a:chOff x="6858000" y="2438280"/>
                  <a:chExt cx="2073240" cy="18288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858000" y="2438280"/>
                    <a:ext cx="1981080" cy="18288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7848720" y="2742840"/>
                    <a:ext cx="76176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8747280" y="2438280"/>
                    <a:ext cx="1839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648920" y="327564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 flipH="1">
                  <a:off x="6857640" y="3048120"/>
                  <a:ext cx="152280" cy="228600"/>
                </a:xfrm>
                <a:prstGeom prst="line">
                  <a:avLst/>
                </a:prstGeom>
                <a:ln w="1260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6857640" y="3200400"/>
                  <a:ext cx="228600" cy="304920"/>
                </a:xfrm>
                <a:prstGeom prst="line">
                  <a:avLst/>
                </a:prstGeom>
                <a:ln w="1260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6933960" y="3429000"/>
                  <a:ext cx="152280" cy="228600"/>
                </a:xfrm>
                <a:prstGeom prst="line">
                  <a:avLst/>
                </a:prstGeom>
                <a:ln w="1260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934320" y="3124080"/>
                  <a:ext cx="152280" cy="1526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858000" y="3352680"/>
                  <a:ext cx="228600" cy="1526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58000" y="3581280"/>
                  <a:ext cx="152280" cy="763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 flipH="1">
                <a:off x="7238880" y="2133720"/>
                <a:ext cx="10663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638680" y="2133720"/>
                <a:ext cx="10663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858000" y="4113720"/>
              <a:ext cx="2207880" cy="1829880"/>
              <a:chOff x="6858000" y="4113720"/>
              <a:chExt cx="2207880" cy="1829880"/>
            </a:xfrm>
          </p:grpSpPr>
          <p:sp>
            <p:nvSpPr>
              <p:cNvPr id="359" name=""/>
              <p:cNvSpPr/>
              <p:nvPr/>
            </p:nvSpPr>
            <p:spPr>
              <a:xfrm>
                <a:off x="6858000" y="411480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7848720" y="4419360"/>
                <a:ext cx="7617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613720" y="411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48920" y="4952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740720" y="4343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05520" y="411480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95880" y="4419360"/>
              <a:ext cx="7621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42160" y="4038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96440" y="495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21400" y="4343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6858000" y="4113720"/>
              <a:ext cx="2207880" cy="1829880"/>
              <a:chOff x="6858000" y="4113720"/>
              <a:chExt cx="2207880" cy="1829880"/>
            </a:xfrm>
          </p:grpSpPr>
          <p:sp>
            <p:nvSpPr>
              <p:cNvPr id="370" name=""/>
              <p:cNvSpPr/>
              <p:nvPr/>
            </p:nvSpPr>
            <p:spPr>
              <a:xfrm>
                <a:off x="6858000" y="4114800"/>
                <a:ext cx="198108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7848720" y="4419360"/>
                <a:ext cx="7617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613720" y="411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48920" y="4952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 flipH="1">
              <a:off x="6857640" y="4724280"/>
              <a:ext cx="152280" cy="2286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857640" y="4876920"/>
              <a:ext cx="228600" cy="304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933960" y="5105520"/>
              <a:ext cx="152280" cy="2286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34320" y="4800600"/>
              <a:ext cx="15228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58000" y="5029200"/>
              <a:ext cx="22860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58000" y="5257800"/>
              <a:ext cx="152280" cy="76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876920" y="4343040"/>
              <a:ext cx="0" cy="1219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76920" y="2743200"/>
              <a:ext cx="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21A-6898-4AD3-9459-8734E57AC7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833760" y="1065240"/>
            <a:ext cx="5380560" cy="5838480"/>
            <a:chOff x="833760" y="1065240"/>
            <a:chExt cx="5380560" cy="5838480"/>
          </a:xfrm>
        </p:grpSpPr>
        <p:grpSp>
          <p:nvGrpSpPr>
            <p:cNvPr id="383" name=""/>
            <p:cNvGrpSpPr/>
            <p:nvPr/>
          </p:nvGrpSpPr>
          <p:grpSpPr>
            <a:xfrm>
              <a:off x="833760" y="1065240"/>
              <a:ext cx="5380560" cy="5838480"/>
              <a:chOff x="833760" y="1065240"/>
              <a:chExt cx="5380560" cy="5838480"/>
            </a:xfrm>
          </p:grpSpPr>
          <p:sp>
            <p:nvSpPr>
              <p:cNvPr id="384" name=""/>
              <p:cNvSpPr/>
              <p:nvPr/>
            </p:nvSpPr>
            <p:spPr>
              <a:xfrm rot="20128800">
                <a:off x="2419200" y="47462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128800">
                <a:off x="3790800" y="40604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0128800">
                <a:off x="3942720" y="2384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128800">
                <a:off x="2724120" y="13935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128800">
                <a:off x="1276200" y="20793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128800">
                <a:off x="1123920" y="38318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47600" y="47019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1123200" y="3880440"/>
                <a:ext cx="1904040" cy="1666440"/>
                <a:chOff x="1123200" y="3880440"/>
                <a:chExt cx="1904040" cy="1666440"/>
              </a:xfrm>
            </p:grpSpPr>
            <p:sp>
              <p:nvSpPr>
                <p:cNvPr id="392" name=""/>
                <p:cNvSpPr/>
                <p:nvPr/>
              </p:nvSpPr>
              <p:spPr>
                <a:xfrm flipV="1">
                  <a:off x="1123200" y="3881520"/>
                  <a:ext cx="573120" cy="763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23200" y="46447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533240" y="5545800"/>
                  <a:ext cx="920880" cy="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697760" y="3880440"/>
                  <a:ext cx="1329480" cy="1665360"/>
                  <a:chOff x="1697760" y="3880440"/>
                  <a:chExt cx="1329480" cy="16653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>
                    <a:off x="2453040" y="4783320"/>
                    <a:ext cx="574200" cy="7624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2617920" y="3881520"/>
                    <a:ext cx="407880" cy="902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1697760" y="3880440"/>
                    <a:ext cx="92016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" name=""/>
              <p:cNvSpPr/>
              <p:nvPr/>
            </p:nvSpPr>
            <p:spPr>
              <a:xfrm rot="20128800">
                <a:off x="2495520" y="307008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95520" y="40161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532600" y="3151440"/>
                <a:ext cx="57276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32600" y="3914640"/>
                <a:ext cx="411120" cy="90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943000" y="4815720"/>
                <a:ext cx="9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107520" y="3150360"/>
                <a:ext cx="1329480" cy="1665360"/>
                <a:chOff x="3107520" y="3150360"/>
                <a:chExt cx="1329480" cy="166536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3862800" y="4053240"/>
                  <a:ext cx="574200" cy="76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4027680" y="3151440"/>
                  <a:ext cx="407880" cy="90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3107520" y="3150360"/>
                  <a:ext cx="920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324320" y="569268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1256400" y="2181960"/>
                <a:ext cx="1903680" cy="1666440"/>
                <a:chOff x="1256400" y="2181960"/>
                <a:chExt cx="1903680" cy="166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299240" y="29401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1256400" y="2181960"/>
                  <a:ext cx="1903680" cy="1666440"/>
                  <a:chOff x="1256400" y="2181960"/>
                  <a:chExt cx="1903680" cy="16664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1256400" y="21834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666440" y="38473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1830600" y="2181960"/>
                    <a:ext cx="1329480" cy="1665360"/>
                    <a:chOff x="1830600" y="2181960"/>
                    <a:chExt cx="1329480" cy="1665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2585880" y="30848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flipV="1">
                      <a:off x="2750760" y="21830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flipV="1">
                      <a:off x="1830600" y="21819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2723040" y="1496160"/>
                <a:ext cx="1904040" cy="1666440"/>
                <a:chOff x="2723040" y="1496160"/>
                <a:chExt cx="1904040" cy="1666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765880" y="22543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2723040" y="1496160"/>
                  <a:ext cx="1904040" cy="1666440"/>
                  <a:chOff x="2723040" y="1496160"/>
                  <a:chExt cx="1904040" cy="16664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2723040" y="14976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3133080" y="31615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297600" y="1496160"/>
                    <a:ext cx="1329480" cy="1665360"/>
                    <a:chOff x="3297600" y="1496160"/>
                    <a:chExt cx="1329480" cy="16653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>
                      <a:off x="4052880" y="23990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flipV="1">
                      <a:off x="4217760" y="14972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flipV="1">
                      <a:off x="3297600" y="14961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999600" y="2432520"/>
                <a:ext cx="1903680" cy="1666440"/>
                <a:chOff x="3999600" y="2432520"/>
                <a:chExt cx="1903680" cy="1666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042440" y="319068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999600" y="2432520"/>
                  <a:ext cx="1903680" cy="1666440"/>
                  <a:chOff x="3999600" y="2432520"/>
                  <a:chExt cx="1903680" cy="16664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3999600" y="243396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4409640" y="409788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73800" y="2432520"/>
                    <a:ext cx="1329480" cy="1665360"/>
                    <a:chOff x="4573800" y="2432520"/>
                    <a:chExt cx="1329480" cy="16653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329080" y="333540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flipV="1">
                      <a:off x="5493960" y="243360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flipV="1">
                      <a:off x="4573800" y="243252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2418480" y="4848840"/>
                <a:ext cx="1903680" cy="1666440"/>
                <a:chOff x="2418480" y="4848840"/>
                <a:chExt cx="1903680" cy="16664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461320" y="56070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2418480" y="4848840"/>
                  <a:ext cx="1903680" cy="1666440"/>
                  <a:chOff x="2418480" y="4848840"/>
                  <a:chExt cx="1903680" cy="16664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418480" y="48502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2828520" y="65142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992680" y="4848840"/>
                    <a:ext cx="1329480" cy="1665360"/>
                    <a:chOff x="2992680" y="4848840"/>
                    <a:chExt cx="1329480" cy="166536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3747960" y="57517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 flipV="1">
                      <a:off x="3912840" y="48499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flipV="1">
                      <a:off x="2992680" y="48488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866040" y="4109040"/>
                <a:ext cx="1904040" cy="1666440"/>
                <a:chOff x="3866040" y="4109040"/>
                <a:chExt cx="1904040" cy="16664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08880" y="48672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866040" y="4109040"/>
                  <a:ext cx="1904040" cy="1666440"/>
                  <a:chOff x="3866040" y="4109040"/>
                  <a:chExt cx="1904040" cy="16664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>
                    <a:off x="3866040" y="41104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276080" y="57744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4440600" y="4109040"/>
                    <a:ext cx="1329480" cy="1665360"/>
                    <a:chOff x="4440600" y="4109040"/>
                    <a:chExt cx="1329480" cy="16653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flipH="1">
                      <a:off x="5195880" y="50119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 flipV="1">
                      <a:off x="5360760" y="41101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flipV="1">
                      <a:off x="4440600" y="41090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54" name=""/>
            <p:cNvSpPr/>
            <p:nvPr/>
          </p:nvSpPr>
          <p:spPr>
            <a:xfrm>
              <a:off x="2190600" y="2917440"/>
              <a:ext cx="0" cy="17528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90600" y="4670280"/>
              <a:ext cx="1218960" cy="10666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409920" y="4898880"/>
              <a:ext cx="144720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857480" y="322200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3714480" y="2384280"/>
              <a:ext cx="114264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190600" y="2384280"/>
              <a:ext cx="1523520" cy="533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14280" y="284148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14280" y="459396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0" y="5660640"/>
              <a:ext cx="151920" cy="1526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81520" y="48225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81520" y="32223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38520" y="23079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09920" y="39081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34320" y="404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56800" y="192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8400" y="306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2840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8360" y="579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6760" y="4592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03960" y="276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55520" y="90720"/>
            <a:ext cx="90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ESTRUCTURA ESPACIAL DE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CON IDENTICOS 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876920" y="2675880"/>
            <a:ext cx="4101840" cy="2833920"/>
            <a:chOff x="4876920" y="2675880"/>
            <a:chExt cx="4101840" cy="2833920"/>
          </a:xfrm>
        </p:grpSpPr>
        <p:grpSp>
          <p:nvGrpSpPr>
            <p:cNvPr id="476" name=""/>
            <p:cNvGrpSpPr/>
            <p:nvPr/>
          </p:nvGrpSpPr>
          <p:grpSpPr>
            <a:xfrm>
              <a:off x="6327360" y="2675880"/>
              <a:ext cx="2651400" cy="2833920"/>
              <a:chOff x="6327360" y="2675880"/>
              <a:chExt cx="2651400" cy="283392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6327360" y="2675880"/>
                <a:ext cx="2651400" cy="2833920"/>
                <a:chOff x="6327360" y="2675880"/>
                <a:chExt cx="2651400" cy="2833920"/>
              </a:xfrm>
            </p:grpSpPr>
            <p:sp>
              <p:nvSpPr>
                <p:cNvPr id="478" name=""/>
                <p:cNvSpPr/>
                <p:nvPr/>
              </p:nvSpPr>
              <p:spPr>
                <a:xfrm rot="20128800">
                  <a:off x="7106760" y="446148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20128800">
                  <a:off x="7784640" y="412956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20128800">
                  <a:off x="7859880" y="3318120"/>
                  <a:ext cx="97920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20128800">
                  <a:off x="7257600" y="283860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20128800">
                  <a:off x="6541920" y="317052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20128800">
                  <a:off x="6466680" y="401904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428880" y="44402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"/>
                <p:cNvGrpSpPr/>
                <p:nvPr/>
              </p:nvGrpSpPr>
              <p:grpSpPr>
                <a:xfrm>
                  <a:off x="6465240" y="4041360"/>
                  <a:ext cx="940320" cy="809280"/>
                  <a:chOff x="6465240" y="4041360"/>
                  <a:chExt cx="940320" cy="80928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V="1">
                    <a:off x="6465240" y="4041360"/>
                    <a:ext cx="28548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468480" y="441252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>
                    <a:off x="6670080" y="4846320"/>
                    <a:ext cx="45324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6754320" y="4041360"/>
                    <a:ext cx="651240" cy="808920"/>
                    <a:chOff x="6754320" y="4041360"/>
                    <a:chExt cx="651240" cy="80892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flipH="1">
                      <a:off x="7119720" y="447804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H="1" flipV="1">
                      <a:off x="7207560" y="404136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H="1">
                      <a:off x="6754320" y="404136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93" name=""/>
                <p:cNvSpPr/>
                <p:nvPr/>
              </p:nvSpPr>
              <p:spPr>
                <a:xfrm rot="20128800">
                  <a:off x="7144560" y="365004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144560" y="410832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7161840" y="3688200"/>
                  <a:ext cx="285120" cy="37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165080" y="4059360"/>
                  <a:ext cx="198720" cy="436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7366680" y="4493520"/>
                  <a:ext cx="45288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7450920" y="3688200"/>
                  <a:ext cx="651240" cy="808920"/>
                  <a:chOff x="7450920" y="3688200"/>
                  <a:chExt cx="651240" cy="8089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flipH="1">
                    <a:off x="7816320" y="4124880"/>
                    <a:ext cx="285840" cy="372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 flipV="1">
                    <a:off x="7904160" y="3688200"/>
                    <a:ext cx="197280" cy="43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>
                    <a:off x="7450920" y="3688200"/>
                    <a:ext cx="452880" cy="2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048160" y="491976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6531120" y="3219480"/>
                  <a:ext cx="940320" cy="809640"/>
                  <a:chOff x="6531120" y="3219480"/>
                  <a:chExt cx="940320" cy="8096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6555600" y="358740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6531120" y="3219480"/>
                    <a:ext cx="940320" cy="809640"/>
                    <a:chOff x="6531120" y="3219480"/>
                    <a:chExt cx="940320" cy="80964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6531120" y="321948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6735600" y="402480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08" name=""/>
                    <p:cNvGrpSpPr/>
                    <p:nvPr/>
                  </p:nvGrpSpPr>
                  <p:grpSpPr>
                    <a:xfrm>
                      <a:off x="6820200" y="3219480"/>
                      <a:ext cx="651240" cy="808920"/>
                      <a:chOff x="6820200" y="3219480"/>
                      <a:chExt cx="651240" cy="808920"/>
                    </a:xfrm>
                  </p:grpSpPr>
                  <p:sp>
                    <p:nvSpPr>
                      <p:cNvPr id="509" name=""/>
                      <p:cNvSpPr/>
                      <p:nvPr/>
                    </p:nvSpPr>
                    <p:spPr>
                      <a:xfrm flipH="1">
                        <a:off x="7185600" y="365616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 flipH="1" flipV="1">
                        <a:off x="7273440" y="321948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 flipH="1">
                        <a:off x="6820200" y="321948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7255800" y="2887560"/>
                  <a:ext cx="940320" cy="809640"/>
                  <a:chOff x="7255800" y="2887560"/>
                  <a:chExt cx="940320" cy="8096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7280280" y="325548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7255800" y="2887560"/>
                    <a:ext cx="940320" cy="809640"/>
                    <a:chOff x="7255800" y="2887560"/>
                    <a:chExt cx="940320" cy="8096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V="1">
                      <a:off x="7255800" y="288756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7460640" y="369288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7" name=""/>
                    <p:cNvGrpSpPr/>
                    <p:nvPr/>
                  </p:nvGrpSpPr>
                  <p:grpSpPr>
                    <a:xfrm>
                      <a:off x="7544880" y="2887560"/>
                      <a:ext cx="651240" cy="808920"/>
                      <a:chOff x="7544880" y="2887560"/>
                      <a:chExt cx="651240" cy="808920"/>
                    </a:xfrm>
                  </p:grpSpPr>
                  <p:sp>
                    <p:nvSpPr>
                      <p:cNvPr id="518" name=""/>
                      <p:cNvSpPr/>
                      <p:nvPr/>
                    </p:nvSpPr>
                    <p:spPr>
                      <a:xfrm flipH="1">
                        <a:off x="7910280" y="332424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9" name=""/>
                      <p:cNvSpPr/>
                      <p:nvPr/>
                    </p:nvSpPr>
                    <p:spPr>
                      <a:xfrm flipH="1" flipV="1">
                        <a:off x="7998120" y="288756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 flipH="1">
                        <a:off x="7544880" y="288756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886880" y="3340440"/>
                  <a:ext cx="940320" cy="809640"/>
                  <a:chOff x="7886880" y="3340440"/>
                  <a:chExt cx="940320" cy="8096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7911360" y="370836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7886880" y="3340440"/>
                    <a:ext cx="940320" cy="809640"/>
                    <a:chOff x="7886880" y="3340440"/>
                    <a:chExt cx="940320" cy="80964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flipV="1">
                      <a:off x="7886880" y="334044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V="1">
                      <a:off x="8091360" y="414576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8175960" y="3340440"/>
                      <a:ext cx="651240" cy="808920"/>
                      <a:chOff x="8175960" y="3340440"/>
                      <a:chExt cx="651240" cy="80892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 flipH="1">
                        <a:off x="8541360" y="377712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 flipH="1" flipV="1">
                        <a:off x="8629200" y="334044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 flipH="1">
                        <a:off x="8175960" y="334044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105320" y="4510080"/>
                  <a:ext cx="940320" cy="809640"/>
                  <a:chOff x="7105320" y="4510080"/>
                  <a:chExt cx="940320" cy="8096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7129800" y="487800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7105320" y="4510080"/>
                    <a:ext cx="940320" cy="809640"/>
                    <a:chOff x="7105320" y="4510080"/>
                    <a:chExt cx="940320" cy="80964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flipV="1">
                      <a:off x="7105320" y="451008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7309800" y="531540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35" name=""/>
                    <p:cNvGrpSpPr/>
                    <p:nvPr/>
                  </p:nvGrpSpPr>
                  <p:grpSpPr>
                    <a:xfrm>
                      <a:off x="7394400" y="4510080"/>
                      <a:ext cx="651240" cy="808920"/>
                      <a:chOff x="7394400" y="4510080"/>
                      <a:chExt cx="651240" cy="808920"/>
                    </a:xfrm>
                  </p:grpSpPr>
                  <p:sp>
                    <p:nvSpPr>
                      <p:cNvPr id="536" name=""/>
                      <p:cNvSpPr/>
                      <p:nvPr/>
                    </p:nvSpPr>
                    <p:spPr>
                      <a:xfrm flipH="1">
                        <a:off x="7759800" y="494676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 flipH="1" flipV="1">
                        <a:off x="7847640" y="451008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8" name=""/>
                      <p:cNvSpPr/>
                      <p:nvPr/>
                    </p:nvSpPr>
                    <p:spPr>
                      <a:xfrm flipH="1">
                        <a:off x="7394400" y="451008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7820640" y="4152240"/>
                  <a:ext cx="940320" cy="809640"/>
                  <a:chOff x="7820640" y="4152240"/>
                  <a:chExt cx="940320" cy="80964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7845120" y="452016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7820640" y="4152240"/>
                    <a:ext cx="940320" cy="809640"/>
                    <a:chOff x="7820640" y="4152240"/>
                    <a:chExt cx="940320" cy="80964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7820640" y="415224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8025480" y="495756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44" name=""/>
                    <p:cNvGrpSpPr/>
                    <p:nvPr/>
                  </p:nvGrpSpPr>
                  <p:grpSpPr>
                    <a:xfrm>
                      <a:off x="8109720" y="4152240"/>
                      <a:ext cx="651240" cy="808920"/>
                      <a:chOff x="8109720" y="4152240"/>
                      <a:chExt cx="651240" cy="808920"/>
                    </a:xfrm>
                  </p:grpSpPr>
                  <p:sp>
                    <p:nvSpPr>
                      <p:cNvPr id="545" name=""/>
                      <p:cNvSpPr/>
                      <p:nvPr/>
                    </p:nvSpPr>
                    <p:spPr>
                      <a:xfrm flipH="1">
                        <a:off x="8475120" y="458892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 flipH="1" flipV="1">
                        <a:off x="8562960" y="415224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H="1">
                        <a:off x="8109720" y="415224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548" name=""/>
              <p:cNvSpPr/>
              <p:nvPr/>
            </p:nvSpPr>
            <p:spPr>
              <a:xfrm>
                <a:off x="6993720" y="3576600"/>
                <a:ext cx="0" cy="8481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993720" y="4425120"/>
                <a:ext cx="602280" cy="51624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596360" y="4535640"/>
                <a:ext cx="715320" cy="4053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311680" y="3724200"/>
                <a:ext cx="0" cy="81144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7746480" y="3318480"/>
                <a:ext cx="564840" cy="4053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6993360" y="3318480"/>
                <a:ext cx="752760" cy="2577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955920" y="353988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955920" y="438804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58560" y="4904280"/>
                <a:ext cx="75240" cy="7380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74240" y="449892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274240" y="372420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09400" y="328176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96360" y="405612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481160" y="4020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90600" y="2994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68480" y="35470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268480" y="4352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443000" y="48675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66560" y="4285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725160" y="3399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4876920" y="3276720"/>
              <a:ext cx="2895480" cy="75960"/>
            </a:xfrm>
            <a:prstGeom prst="line">
              <a:avLst/>
            </a:prstGeom>
            <a:ln cap="rnd" w="572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4876920"/>
              <a:ext cx="2666880" cy="75960"/>
            </a:xfrm>
            <a:prstGeom prst="line">
              <a:avLst/>
            </a:prstGeom>
            <a:ln cap="rnd" w="572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5F60-E272-4810-A16A-553D710663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br>
              <a:rPr sz="4400"/>
            </a:b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nfoques de modelación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roeconomía clásica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w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ilson &amp;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C8F-13A8-4488-A555-932644F09E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El 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163600"/>
            <a:ext cx="0" cy="2995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135400"/>
            <a:ext cx="4419360" cy="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376360"/>
            <a:ext cx="32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89480" y="199548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697120"/>
            <a:ext cx="381456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6880" y="5241960"/>
            <a:ext cx="25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361116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361152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4680" y="3367080"/>
            <a:ext cx="6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9920" y="277344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2880" y="516564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7880" y="5241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6278400"/>
            <a:ext cx="6950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renta en i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6200" y="2467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2589480"/>
            <a:ext cx="335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cantidad producida por m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unitario de venta e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: costo unitari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costo unitario d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istancia de 0 a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0" cy="2995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72428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1960" y="1965240"/>
            <a:ext cx="329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4560" y="158436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286000"/>
            <a:ext cx="381492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4830840"/>
            <a:ext cx="25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20004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6200" y="3200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0880" y="2955960"/>
            <a:ext cx="63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15000" y="236232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7960" y="475452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3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968640"/>
            <a:ext cx="7302600" cy="17398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7640" y="15541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xcedente o 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6640" y="6278400"/>
            <a:ext cx="580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mj=renta j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285640"/>
            <a:ext cx="3505320" cy="2438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renta agrícola: multicultivo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2860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9760" y="5241960"/>
            <a:ext cx="40428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0880" y="5135400"/>
            <a:ext cx="25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3124080" cy="144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19720"/>
            <a:ext cx="502920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325296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401472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5640" y="454824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72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50680" y="5234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264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1356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7913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680" y="3535200"/>
            <a:ext cx="382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971800"/>
            <a:ext cx="990360" cy="1219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191120"/>
            <a:ext cx="1219320" cy="533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724280"/>
            <a:ext cx="2819520" cy="4572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3809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520" y="38862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76360"/>
            <a:ext cx="3886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Cultivo monocéntrico: conos de mercado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27620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4640" y="3429000"/>
            <a:ext cx="428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72440" y="3354480"/>
            <a:ext cx="309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1098720"/>
            <a:ext cx="26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3432240"/>
            <a:ext cx="1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2314440"/>
            <a:ext cx="2343240" cy="108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8960" y="2762280"/>
            <a:ext cx="377208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714760"/>
            <a:ext cx="0" cy="742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1050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5080" y="3571920"/>
            <a:ext cx="349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160" y="352584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75360" y="360216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1571760"/>
            <a:ext cx="1314360" cy="16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1752480"/>
            <a:ext cx="743040" cy="9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657520"/>
            <a:ext cx="914400" cy="399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2520" y="3029040"/>
            <a:ext cx="2114640" cy="3427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2840" y="2743200"/>
            <a:ext cx="21337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057400"/>
            <a:ext cx="3809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743200"/>
            <a:ext cx="19810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057400"/>
            <a:ext cx="3657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4290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6320" y="457200"/>
            <a:ext cx="79246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304560"/>
            <a:ext cx="76194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2057400"/>
            <a:ext cx="771516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lineal: La playa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441-C2DD-4E1E-B65D-2E2EBB6E9A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</a:t>
            </a:r>
            <a:r>
              <a:rPr b="0" lang="es-CL" sz="3200" spc="-1" strike="noStrike">
                <a:solidFill>
                  <a:srgbClr val="cc0000"/>
                </a:solidFill>
                <a:latin typeface="Times New Roman"/>
              </a:rPr>
              <a:t>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heladeros en la playa larg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9FD-54A4-40E2-99B2-3676788F7D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EQUILIB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B0FC-C04C-4405-A678-DC7F8FEB25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6-08-18T14:02:14Z</dcterms:modified>
  <cp:revision>93</cp:revision>
  <dc:subject/>
  <dc:title>General</dc:title>
</cp:coreProperties>
</file>