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EB3-0F0F-4055-8866-9534C607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6AF-9EA6-474D-B42F-B653836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6EB-28C8-43AE-BA02-2AF059DF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AE7-89D1-47AD-9590-5879BFA6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2CF-B18E-47F2-8D42-2CE57829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BB4-CD0C-4D05-9436-39C588A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65B-199D-4800-88C4-4D9F3980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A80-DED6-4DD1-B304-EB653A60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7C9-85BF-4EE8-A25C-94F07AE7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78E-93B8-4FE5-8B2A-B6D5E5B6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8F19-783D-467C-B99A-6C6A93CB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4FA-0023-4796-961E-0DF295BC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1C66D19-CB5F-41B1-9F11-621DE431DD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D66-B2D8-4164-B427-A0AAA628694D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2FD-998F-4394-A6D5-5DB8B1B47F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C62-A8B7-41C3-89DC-7470E930BB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6C9D-B4C6-4358-B67B-3273F67841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F15-1409-4725-AA56-9DF24A1AC8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6A05-F968-4AA4-BD66-EE2EC06C97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C16-001A-454B-9E39-B2214CFE7B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489-6F6A-47E1-93AF-927357463A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62120" y="2566080"/>
            <a:ext cx="3794760" cy="3300480"/>
            <a:chOff x="762120" y="2566080"/>
            <a:chExt cx="3794760" cy="3300480"/>
          </a:xfrm>
        </p:grpSpPr>
        <p:grpSp>
          <p:nvGrpSpPr>
            <p:cNvPr id="311" name=""/>
            <p:cNvGrpSpPr/>
            <p:nvPr/>
          </p:nvGrpSpPr>
          <p:grpSpPr>
            <a:xfrm>
              <a:off x="2546280" y="2566080"/>
              <a:ext cx="2010600" cy="1663200"/>
              <a:chOff x="2546280" y="2566080"/>
              <a:chExt cx="2010600" cy="1663200"/>
            </a:xfrm>
          </p:grpSpPr>
          <p:sp>
            <p:nvSpPr>
              <p:cNvPr id="312" name=""/>
              <p:cNvSpPr/>
              <p:nvPr/>
            </p:nvSpPr>
            <p:spPr>
              <a:xfrm>
                <a:off x="2546280" y="259236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438360" y="286488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04720" y="25660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240000" y="331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546280" y="4203720"/>
              <a:ext cx="2010600" cy="1662840"/>
              <a:chOff x="2546280" y="4203720"/>
              <a:chExt cx="2010600" cy="1662840"/>
            </a:xfrm>
          </p:grpSpPr>
          <p:sp>
            <p:nvSpPr>
              <p:cNvPr id="317" name=""/>
              <p:cNvSpPr/>
              <p:nvPr/>
            </p:nvSpPr>
            <p:spPr>
              <a:xfrm>
                <a:off x="2546280" y="422964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3438360" y="450216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04720" y="420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40000" y="495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762120" y="2566080"/>
              <a:ext cx="2010600" cy="1663200"/>
              <a:chOff x="762120" y="2566080"/>
              <a:chExt cx="2010600" cy="1663200"/>
            </a:xfrm>
          </p:grpSpPr>
          <p:sp>
            <p:nvSpPr>
              <p:cNvPr id="322" name=""/>
              <p:cNvSpPr/>
              <p:nvPr/>
            </p:nvSpPr>
            <p:spPr>
              <a:xfrm>
                <a:off x="762120" y="259236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1654200" y="286488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320560" y="256608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57640" y="3317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762120" y="4203720"/>
              <a:ext cx="2010600" cy="1662840"/>
              <a:chOff x="762120" y="4203720"/>
              <a:chExt cx="2010600" cy="1662840"/>
            </a:xfrm>
          </p:grpSpPr>
          <p:sp>
            <p:nvSpPr>
              <p:cNvPr id="327" name=""/>
              <p:cNvSpPr/>
              <p:nvPr/>
            </p:nvSpPr>
            <p:spPr>
              <a:xfrm>
                <a:off x="762120" y="4229640"/>
                <a:ext cx="1783800" cy="163692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1654200" y="4502160"/>
                <a:ext cx="685800" cy="54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320560" y="420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457640" y="4955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1" name=""/>
          <p:cNvGrpSpPr/>
          <p:nvPr/>
        </p:nvGrpSpPr>
        <p:grpSpPr>
          <a:xfrm>
            <a:off x="4876920" y="2133720"/>
            <a:ext cx="4188960" cy="3809880"/>
            <a:chOff x="4876920" y="2133720"/>
            <a:chExt cx="4188960" cy="3809880"/>
          </a:xfrm>
        </p:grpSpPr>
        <p:grpSp>
          <p:nvGrpSpPr>
            <p:cNvPr id="332" name=""/>
            <p:cNvGrpSpPr/>
            <p:nvPr/>
          </p:nvGrpSpPr>
          <p:grpSpPr>
            <a:xfrm>
              <a:off x="5105520" y="2133720"/>
              <a:ext cx="3960360" cy="2133360"/>
              <a:chOff x="5105520" y="2133720"/>
              <a:chExt cx="3960360" cy="213336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105520" y="2362320"/>
                <a:ext cx="3960360" cy="1904760"/>
                <a:chOff x="5105520" y="2362320"/>
                <a:chExt cx="3960360" cy="1904760"/>
              </a:xfrm>
            </p:grpSpPr>
            <p:grpSp>
              <p:nvGrpSpPr>
                <p:cNvPr id="334" name=""/>
                <p:cNvGrpSpPr/>
                <p:nvPr/>
              </p:nvGrpSpPr>
              <p:grpSpPr>
                <a:xfrm>
                  <a:off x="6858000" y="2437200"/>
                  <a:ext cx="2207880" cy="1829880"/>
                  <a:chOff x="6858000" y="2437200"/>
                  <a:chExt cx="2207880" cy="182988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858000" y="2438280"/>
                    <a:ext cx="1981080" cy="1828800"/>
                  </a:xfrm>
                  <a:prstGeom prst="ellipse">
                    <a:avLst/>
                  </a:prstGeom>
                  <a:solidFill>
                    <a:srgbClr val="c9cfcd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V="1">
                    <a:off x="7848720" y="2742840"/>
                    <a:ext cx="76176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8613720" y="2437200"/>
                    <a:ext cx="4521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7648920" y="32756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9" name=""/>
                <p:cNvSpPr/>
                <p:nvPr/>
              </p:nvSpPr>
              <p:spPr>
                <a:xfrm>
                  <a:off x="7740720" y="26668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510552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6095880" y="2742840"/>
                  <a:ext cx="76212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842160" y="2362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89644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521400" y="26668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6858000" y="2438280"/>
                  <a:ext cx="2073240" cy="1828800"/>
                  <a:chOff x="6858000" y="2438280"/>
                  <a:chExt cx="2073240" cy="182880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6858000" y="2438280"/>
                    <a:ext cx="1981080" cy="182880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7848720" y="2742840"/>
                    <a:ext cx="76176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8747280" y="2438280"/>
                    <a:ext cx="18396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648920" y="3275640"/>
                    <a:ext cx="349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_tradnl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 flipH="1">
                  <a:off x="6857640" y="304812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>
                  <a:off x="6857640" y="3200400"/>
                  <a:ext cx="228600" cy="30492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6933960" y="3429000"/>
                  <a:ext cx="152280" cy="228600"/>
                </a:xfrm>
                <a:prstGeom prst="line">
                  <a:avLst/>
                </a:prstGeom>
                <a:ln w="1260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934320" y="3124080"/>
                  <a:ext cx="152280" cy="1526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858000" y="3352680"/>
                  <a:ext cx="228600" cy="1526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858000" y="3581280"/>
                  <a:ext cx="152280" cy="763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6" name=""/>
              <p:cNvSpPr/>
              <p:nvPr/>
            </p:nvSpPr>
            <p:spPr>
              <a:xfrm flipH="1">
                <a:off x="7238880" y="2133720"/>
                <a:ext cx="1066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638680" y="2133720"/>
                <a:ext cx="1066320" cy="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858000" y="4113720"/>
              <a:ext cx="2207880" cy="1829880"/>
              <a:chOff x="6858000" y="4113720"/>
              <a:chExt cx="2207880" cy="1829880"/>
            </a:xfrm>
          </p:grpSpPr>
          <p:sp>
            <p:nvSpPr>
              <p:cNvPr id="359" name=""/>
              <p:cNvSpPr/>
              <p:nvPr/>
            </p:nvSpPr>
            <p:spPr>
              <a:xfrm>
                <a:off x="6858000" y="411480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848720" y="441936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613720" y="411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648920" y="495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7740720" y="4343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0552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6095880" y="4419360"/>
              <a:ext cx="76212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42160" y="4038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96440" y="4951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21400" y="43434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858000" y="4113720"/>
              <a:ext cx="2207880" cy="1829880"/>
              <a:chOff x="6858000" y="4113720"/>
              <a:chExt cx="2207880" cy="1829880"/>
            </a:xfrm>
          </p:grpSpPr>
          <p:sp>
            <p:nvSpPr>
              <p:cNvPr id="370" name=""/>
              <p:cNvSpPr/>
              <p:nvPr/>
            </p:nvSpPr>
            <p:spPr>
              <a:xfrm>
                <a:off x="6858000" y="4114800"/>
                <a:ext cx="1981080" cy="1828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7848720" y="4419360"/>
                <a:ext cx="76176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613720" y="41137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48920" y="4952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 flipH="1">
              <a:off x="6857640" y="472428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6857640" y="4876920"/>
              <a:ext cx="228600" cy="304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933960" y="5105520"/>
              <a:ext cx="152280" cy="2286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34320" y="4800600"/>
              <a:ext cx="15228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58000" y="5029200"/>
              <a:ext cx="22860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58000" y="5257800"/>
              <a:ext cx="152280" cy="76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876920" y="4343040"/>
              <a:ext cx="0" cy="121932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76920" y="2743200"/>
              <a:ext cx="0" cy="11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9E-B5D1-4DC0-83E4-4ED4038355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876920" y="2675880"/>
            <a:ext cx="4101840" cy="2833920"/>
            <a:chOff x="4876920" y="2675880"/>
            <a:chExt cx="410184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6327360" y="2675880"/>
                <a:ext cx="2651400" cy="2833920"/>
                <a:chOff x="6327360" y="2675880"/>
                <a:chExt cx="2651400" cy="2833920"/>
              </a:xfrm>
            </p:grpSpPr>
            <p:sp>
              <p:nvSpPr>
                <p:cNvPr id="478" name=""/>
                <p:cNvSpPr/>
                <p:nvPr/>
              </p:nvSpPr>
              <p:spPr>
                <a:xfrm rot="20128800">
                  <a:off x="7106760" y="446148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rot="20128800">
                  <a:off x="7784640" y="412956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rot="20128800">
                  <a:off x="7859880" y="3318120"/>
                  <a:ext cx="97920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rot="20128800">
                  <a:off x="7257600" y="283860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rot="20128800">
                  <a:off x="6541920" y="317052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rot="20128800">
                  <a:off x="6466680" y="401904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428880" y="444024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"/>
                <p:cNvGrpSpPr/>
                <p:nvPr/>
              </p:nvGrpSpPr>
              <p:grpSpPr>
                <a:xfrm>
                  <a:off x="6465240" y="4041360"/>
                  <a:ext cx="940320" cy="809280"/>
                  <a:chOff x="6465240" y="4041360"/>
                  <a:chExt cx="940320" cy="809280"/>
                </a:xfrm>
              </p:grpSpPr>
              <p:sp>
                <p:nvSpPr>
                  <p:cNvPr id="486" name=""/>
                  <p:cNvSpPr/>
                  <p:nvPr/>
                </p:nvSpPr>
                <p:spPr>
                  <a:xfrm flipV="1">
                    <a:off x="6465240" y="4041360"/>
                    <a:ext cx="28548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468480" y="441252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flipV="1">
                    <a:off x="6670080" y="4846320"/>
                    <a:ext cx="45324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9" name=""/>
                  <p:cNvGrpSpPr/>
                  <p:nvPr/>
                </p:nvGrpSpPr>
                <p:grpSpPr>
                  <a:xfrm>
                    <a:off x="6754320" y="4041360"/>
                    <a:ext cx="651240" cy="808920"/>
                    <a:chOff x="6754320" y="4041360"/>
                    <a:chExt cx="651240" cy="808920"/>
                  </a:xfrm>
                </p:grpSpPr>
                <p:sp>
                  <p:nvSpPr>
                    <p:cNvPr id="490" name=""/>
                    <p:cNvSpPr/>
                    <p:nvPr/>
                  </p:nvSpPr>
                  <p:spPr>
                    <a:xfrm flipH="1">
                      <a:off x="7119720" y="44780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H="1" flipV="1">
                      <a:off x="7207560" y="40413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H="1">
                      <a:off x="6754320" y="40413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93" name=""/>
                <p:cNvSpPr/>
                <p:nvPr/>
              </p:nvSpPr>
              <p:spPr>
                <a:xfrm rot="20128800">
                  <a:off x="7144560" y="3650040"/>
                  <a:ext cx="978840" cy="884880"/>
                </a:xfrm>
                <a:prstGeom prst="ellipse">
                  <a:avLst/>
                </a:prstGeom>
                <a:solidFill>
                  <a:srgbClr val="c9cf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144560" y="410832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7161840" y="3688200"/>
                  <a:ext cx="285120" cy="372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165080" y="4059360"/>
                  <a:ext cx="198720" cy="436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7366680" y="4493520"/>
                  <a:ext cx="452880" cy="4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7450920" y="3688200"/>
                  <a:ext cx="651240" cy="808920"/>
                  <a:chOff x="7450920" y="3688200"/>
                  <a:chExt cx="651240" cy="808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flipH="1">
                    <a:off x="7816320" y="4124880"/>
                    <a:ext cx="285840" cy="3722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flipH="1" flipV="1">
                    <a:off x="7904160" y="3688200"/>
                    <a:ext cx="197280" cy="436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flipH="1">
                    <a:off x="7450920" y="3688200"/>
                    <a:ext cx="452880" cy="28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" name=""/>
                <p:cNvSpPr/>
                <p:nvPr/>
              </p:nvSpPr>
              <p:spPr>
                <a:xfrm>
                  <a:off x="8048160" y="4919760"/>
                  <a:ext cx="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6555600" y="358740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6531120" y="3219480"/>
                    <a:ext cx="940320" cy="809640"/>
                    <a:chOff x="6531120" y="3219480"/>
                    <a:chExt cx="940320" cy="80964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6531120" y="321948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6735600" y="402480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08" name=""/>
                    <p:cNvGrpSpPr/>
                    <p:nvPr/>
                  </p:nvGrpSpPr>
                  <p:grpSpPr>
                    <a:xfrm>
                      <a:off x="6820200" y="3219480"/>
                      <a:ext cx="651240" cy="808920"/>
                      <a:chOff x="6820200" y="3219480"/>
                      <a:chExt cx="651240" cy="808920"/>
                    </a:xfrm>
                  </p:grpSpPr>
                  <p:sp>
                    <p:nvSpPr>
                      <p:cNvPr id="509" name=""/>
                      <p:cNvSpPr/>
                      <p:nvPr/>
                    </p:nvSpPr>
                    <p:spPr>
                      <a:xfrm flipH="1">
                        <a:off x="7185600" y="365616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0" name=""/>
                      <p:cNvSpPr/>
                      <p:nvPr/>
                    </p:nvSpPr>
                    <p:spPr>
                      <a:xfrm flipH="1" flipV="1">
                        <a:off x="7273440" y="321948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 flipH="1">
                        <a:off x="6820200" y="321948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7280280" y="325548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7255800" y="2887560"/>
                    <a:ext cx="940320" cy="809640"/>
                    <a:chOff x="7255800" y="2887560"/>
                    <a:chExt cx="940320" cy="80964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7255800" y="288756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7460640" y="369288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7" name=""/>
                    <p:cNvGrpSpPr/>
                    <p:nvPr/>
                  </p:nvGrpSpPr>
                  <p:grpSpPr>
                    <a:xfrm>
                      <a:off x="7544880" y="2887560"/>
                      <a:ext cx="651240" cy="808920"/>
                      <a:chOff x="7544880" y="2887560"/>
                      <a:chExt cx="651240" cy="808920"/>
                    </a:xfrm>
                  </p:grpSpPr>
                  <p:sp>
                    <p:nvSpPr>
                      <p:cNvPr id="518" name=""/>
                      <p:cNvSpPr/>
                      <p:nvPr/>
                    </p:nvSpPr>
                    <p:spPr>
                      <a:xfrm flipH="1">
                        <a:off x="7910280" y="332424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9" name=""/>
                      <p:cNvSpPr/>
                      <p:nvPr/>
                    </p:nvSpPr>
                    <p:spPr>
                      <a:xfrm flipH="1" flipV="1">
                        <a:off x="7998120" y="288756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0" name=""/>
                      <p:cNvSpPr/>
                      <p:nvPr/>
                    </p:nvSpPr>
                    <p:spPr>
                      <a:xfrm flipH="1">
                        <a:off x="7544880" y="288756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21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7911360" y="370836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7886880" y="3340440"/>
                    <a:ext cx="940320" cy="809640"/>
                    <a:chOff x="7886880" y="3340440"/>
                    <a:chExt cx="940320" cy="80964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7886880" y="334044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8091360" y="414576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8175960" y="3340440"/>
                      <a:ext cx="651240" cy="808920"/>
                      <a:chOff x="8175960" y="3340440"/>
                      <a:chExt cx="651240" cy="808920"/>
                    </a:xfrm>
                  </p:grpSpPr>
                  <p:sp>
                    <p:nvSpPr>
                      <p:cNvPr id="527" name=""/>
                      <p:cNvSpPr/>
                      <p:nvPr/>
                    </p:nvSpPr>
                    <p:spPr>
                      <a:xfrm flipH="1">
                        <a:off x="8541360" y="377712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8" name=""/>
                      <p:cNvSpPr/>
                      <p:nvPr/>
                    </p:nvSpPr>
                    <p:spPr>
                      <a:xfrm flipH="1" flipV="1">
                        <a:off x="8629200" y="334044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9" name=""/>
                      <p:cNvSpPr/>
                      <p:nvPr/>
                    </p:nvSpPr>
                    <p:spPr>
                      <a:xfrm flipH="1">
                        <a:off x="8175960" y="334044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0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>
                    <a:off x="7129800" y="487800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2" name=""/>
                  <p:cNvGrpSpPr/>
                  <p:nvPr/>
                </p:nvGrpSpPr>
                <p:grpSpPr>
                  <a:xfrm>
                    <a:off x="7105320" y="4510080"/>
                    <a:ext cx="940320" cy="809640"/>
                    <a:chOff x="7105320" y="4510080"/>
                    <a:chExt cx="940320" cy="809640"/>
                  </a:xfrm>
                </p:grpSpPr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7105320" y="451008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7309800" y="531540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5" name=""/>
                    <p:cNvGrpSpPr/>
                    <p:nvPr/>
                  </p:nvGrpSpPr>
                  <p:grpSpPr>
                    <a:xfrm>
                      <a:off x="7394400" y="4510080"/>
                      <a:ext cx="651240" cy="808920"/>
                      <a:chOff x="7394400" y="4510080"/>
                      <a:chExt cx="651240" cy="808920"/>
                    </a:xfrm>
                  </p:grpSpPr>
                  <p:sp>
                    <p:nvSpPr>
                      <p:cNvPr id="536" name=""/>
                      <p:cNvSpPr/>
                      <p:nvPr/>
                    </p:nvSpPr>
                    <p:spPr>
                      <a:xfrm flipH="1">
                        <a:off x="7759800" y="494676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7" name=""/>
                      <p:cNvSpPr/>
                      <p:nvPr/>
                    </p:nvSpPr>
                    <p:spPr>
                      <a:xfrm flipH="1" flipV="1">
                        <a:off x="7847640" y="451008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 flipH="1">
                        <a:off x="7394400" y="451008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39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7845120" y="4520160"/>
                    <a:ext cx="198720" cy="435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1" name=""/>
                  <p:cNvGrpSpPr/>
                  <p:nvPr/>
                </p:nvGrpSpPr>
                <p:grpSpPr>
                  <a:xfrm>
                    <a:off x="7820640" y="4152240"/>
                    <a:ext cx="940320" cy="809640"/>
                    <a:chOff x="7820640" y="4152240"/>
                    <a:chExt cx="940320" cy="809640"/>
                  </a:xfrm>
                </p:grpSpPr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7820640" y="4152240"/>
                      <a:ext cx="285120" cy="37296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8025480" y="4957560"/>
                      <a:ext cx="452880" cy="43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480" bIns="-42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4" name=""/>
                    <p:cNvGrpSpPr/>
                    <p:nvPr/>
                  </p:nvGrpSpPr>
                  <p:grpSpPr>
                    <a:xfrm>
                      <a:off x="8109720" y="4152240"/>
                      <a:ext cx="651240" cy="808920"/>
                      <a:chOff x="8109720" y="4152240"/>
                      <a:chExt cx="651240" cy="808920"/>
                    </a:xfrm>
                  </p:grpSpPr>
                  <p:sp>
                    <p:nvSpPr>
                      <p:cNvPr id="545" name=""/>
                      <p:cNvSpPr/>
                      <p:nvPr/>
                    </p:nvSpPr>
                    <p:spPr>
                      <a:xfrm flipH="1">
                        <a:off x="8475120" y="4588920"/>
                        <a:ext cx="285840" cy="37224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6" name=""/>
                      <p:cNvSpPr/>
                      <p:nvPr/>
                    </p:nvSpPr>
                    <p:spPr>
                      <a:xfrm flipH="1" flipV="1">
                        <a:off x="8562960" y="4152240"/>
                        <a:ext cx="197280" cy="4366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H="1">
                        <a:off x="8109720" y="4152240"/>
                        <a:ext cx="452880" cy="2880"/>
                      </a:xfrm>
                      <a:prstGeom prst="line">
                        <a:avLst/>
                      </a:prstGeom>
                      <a:ln w="57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548" name=""/>
              <p:cNvSpPr/>
              <p:nvPr/>
            </p:nvSpPr>
            <p:spPr>
              <a:xfrm>
                <a:off x="6993720" y="3576600"/>
                <a:ext cx="0" cy="8481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993720" y="4425120"/>
                <a:ext cx="602280" cy="51624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7596360" y="4535640"/>
                <a:ext cx="715320" cy="4053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311680" y="3724200"/>
                <a:ext cx="0" cy="81144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 flipV="1">
                <a:off x="7746480" y="3318480"/>
                <a:ext cx="564840" cy="4053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6993360" y="3318480"/>
                <a:ext cx="752760" cy="257760"/>
              </a:xfrm>
              <a:prstGeom prst="line">
                <a:avLst/>
              </a:prstGeom>
              <a:ln w="12600">
                <a:solidFill>
                  <a:srgbClr val="cc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955920" y="353988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955920" y="438804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558560" y="4904280"/>
                <a:ext cx="75240" cy="7380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274240" y="449892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274240" y="372420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09400" y="328176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96360" y="4056120"/>
                <a:ext cx="75240" cy="73440"/>
              </a:xfrm>
              <a:prstGeom prst="ellipse">
                <a:avLst/>
              </a:prstGeom>
              <a:solidFill>
                <a:srgbClr val="00b7a5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481160" y="402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590600" y="29948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8268480" y="35470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268480" y="43520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443000" y="48675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66560" y="42854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725160" y="3399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4876920" y="3276720"/>
              <a:ext cx="2895480" cy="7596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76920" y="4876920"/>
              <a:ext cx="2666880" cy="7596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3454-A951-4F68-9B61-DE22BB6375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3F3-C8FA-445E-9CD3-38EFD4EA5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8ED-5F0D-48CF-940D-959DECDC76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4E72-62D6-49E8-ADC0-0707148C4B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96EB-0274-4CB1-B141-92A05D6C84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8-18T14:02:14Z</dcterms:modified>
  <cp:revision>93</cp:revision>
  <dc:subject/>
  <dc:title>General</dc:title>
</cp:coreProperties>
</file>