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8E4-FDE1-4FD8-864F-A2848219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E0B-E8BA-4041-9E5D-B385F1E4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8A0-0906-428B-9C31-974DB00E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637-F204-43C4-939E-8908C4E9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45F-0A9C-4EB9-A1E3-99D1D71E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A4E-CF34-4163-9602-8BFB4303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3408-C0AB-499C-B5BA-4B308062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0079-7C54-4DB0-AE29-67838DE7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1B5-CDC5-4B0F-A39E-4FCBB1FA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901-FE36-45A9-A06C-978198C3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81E-33F3-48D1-8101-5684CF49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727-8C2F-4CAB-BE56-575C14B7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868C2C-2BF3-40DB-9119-B4C5DCCD8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D81-1861-410D-995C-758DC5D60D17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C329-7FFB-47B3-9B68-142ADC09E0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52B2-C87C-4F04-BF41-A8A3E227A5FF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C42-CFC5-42F1-9E1B-89938F5B0358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980-220B-40D5-A361-95B4D0EB2DA1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54B-9E0F-427E-9C93-EBECE219BED8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A40-B772-4A69-AAE2-E657A8CAADD7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EE2-8385-4E90-933D-E10CEAA7C99D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369-5615-4744-A09A-448C825A128D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2ED-1D0B-4984-9327-0EBBB299B3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9843-7F29-4E79-9F16-C2CBA7090B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362-6B78-4654-AA6E-DEEFB16C2F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2160" y="503280"/>
            <a:ext cx="56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76520" y="287964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11880" y="39625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ocial, cutural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49560" y="51055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ccesibilid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iene un potecial beneficio en e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352160" y="503280"/>
            <a:ext cx="535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80040" y="2895480"/>
            <a:ext cx="199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1280" y="403848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 poder de com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egocios, afec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81600" y="518148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tractiv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ransmite un potencial beneficio a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hay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C50-78D1-45D8-BBF8-20353D9233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57040" y="1829880"/>
            <a:ext cx="779148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Relación entre uso del suelo y transpor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individuo realiza muchas actividades que requieren interacción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viaj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be decidir cuales actividades realizar en su tiempo y recursos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ónde realizarlas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dest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n cada actividad obtiene un beneficio y paga un 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13A-B8EF-42C8-A652-D4DE328A0F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96040" y="405612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42400" y="60609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ESPA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4880" y="4056120"/>
            <a:ext cx="92448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39520" y="6060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18080" y="20574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27432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29200" y="373392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4800600"/>
            <a:ext cx="99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1080" y="53352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44200" y="60609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UN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560-159D-4593-95E5-107FA697C8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4D9-9248-45CA-87DE-A410A3C30F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5D2-9ED4-4EE7-A0E7-A04528E97902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1BE-AFF9-4C63-B9F8-A41398379D96}" type="slidenum">
              <a:t>30</a:t>
            </a:fld>
          </a:p>
        </p:txBody>
      </p:sp>
    </p:spTree>
  </p:cSld>
  <p:transition spd="med" advTm="1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2B13B66-94AF-4B11-B920-2D904407FFF1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019A06F-562F-4B34-B2D1-A2CE7DE0CB62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41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000680" y="2133720"/>
                <a:ext cx="4903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332160" y="5105520"/>
                <a:ext cx="31939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6C1B37-861A-4459-856E-CAA5DD7ADE0E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EF60A2-82DC-42FB-9B6F-913E8FCC754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Bookman Old Style"/>
              </a:rPr>
              <a:t>Beneficos de corto y largo plazo</a:t>
            </a:r>
            <a:br>
              <a:rPr sz="4400"/>
            </a:br>
            <a:br>
              <a:rPr sz="44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Martínez, F. y Araya, C. (2000).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Note on Trip Benefits in Spatial Interaction Models. </a:t>
            </a:r>
            <a:r>
              <a:rPr b="1" lang="es-CL" sz="3600" spc="-1" strike="noStrike">
                <a:solidFill>
                  <a:srgbClr val="ffffff"/>
                </a:solidFill>
                <a:latin typeface="Bookman Old Style"/>
              </a:rPr>
              <a:t>Journal of Regional Science 40(4)</a:t>
            </a: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, 789-796. </a:t>
            </a:r>
            <a:br>
              <a:rPr sz="3600"/>
            </a:b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517-3B07-463D-A2C0-A74F13D230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8E88CDB-1786-4FE0-839D-B895F5918EB5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828800" y="3809880"/>
                <a:ext cx="519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81296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2209680" y="5562720"/>
                <a:ext cx="561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9E23806-EC51-48C8-8EE2-390F29D99AEF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97120" y="4022640"/>
                <a:ext cx="6270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u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01920" y="5333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Times New Roman"/>
              </a:rPr>
              <a:t>Pseudo-Regla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CC810D7-2E4E-4936-948E-E382B24D1A1E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8FA18DA-8A64-45F8-9092-7648FD96173A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7DDF-44DB-4E1F-9980-FE67B80FB6AF}" type="slidenum">
              <a:t>4</a:t>
            </a:fld>
          </a:p>
        </p:txBody>
      </p:sp>
    </p:spTree>
  </p:cSld>
  <p:transition spd="med" advTm="1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096AA5-1F42-440E-8873-715E0D93C89B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96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503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6D3F29-2FD1-4919-B5A4-3C2E4BF7FB8F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2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523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530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545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9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0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6C3358B-E481-481C-9CF4-F3D8F073BA89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65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66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9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94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95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E026-35C7-4356-8EB0-7303DADAC7A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7A0-FF31-4EFF-9228-B2D70D667A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0C0-4CD0-483F-B808-FF28BCC54AB2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9DB-BC09-4E7F-800C-92078CE1BA95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BDF-594D-4E8F-8273-FB853812B2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DEC-D1B2-4B43-BA1A-51C7BD8A28C4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6-07-31T16:01:31Z</dcterms:modified>
  <cp:revision>83</cp:revision>
  <dc:subject/>
  <dc:title>General</dc:title>
</cp:coreProperties>
</file>