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5E41-210F-49DA-BAFF-8A7E795E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015-0351-40E4-BFE2-47127916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264B-2030-4E82-9F7E-712EAF47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4C61-2883-4586-81B9-850AED61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967E-0436-48E0-A40D-CF36A58B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5DD9-FB8B-4FB2-88FD-5D9DF2ED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9AFA-E1A9-4295-898A-B1EDD3DA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3853-7F70-4C5F-BCCF-11E01F07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86E-6D8C-4576-A6FB-BB5AD0B5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7758-4834-4CA1-9637-87A98E44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D774-B517-4F1B-B1AD-175E0083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EC6A-BAAF-467A-A912-1B5E1950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C1405D-4D5F-4AE3-99FB-F1C8D6DB7A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apítulo 2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Transporte &amp;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380880" y="5410080"/>
            <a:ext cx="7315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8E02-AD56-4FB4-B2CF-27EDCBCB06D8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016760" y="4197240"/>
            <a:ext cx="196848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97320" y="3786120"/>
            <a:ext cx="197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Fuentes móv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82840" y="3968640"/>
            <a:ext cx="250200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495680" y="1143000"/>
            <a:ext cx="52200" cy="380880"/>
            <a:chOff x="4495680" y="1143000"/>
            <a:chExt cx="52200" cy="380880"/>
          </a:xfrm>
        </p:grpSpPr>
        <p:sp>
          <p:nvSpPr>
            <p:cNvPr id="256" name=""/>
            <p:cNvSpPr/>
            <p:nvPr/>
          </p:nvSpPr>
          <p:spPr>
            <a:xfrm>
              <a:off x="4522680" y="1143000"/>
              <a:ext cx="0" cy="380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5680" y="1392120"/>
              <a:ext cx="2700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522320" y="1392120"/>
              <a:ext cx="2556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49600" y="1530360"/>
            <a:ext cx="208296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886200" y="2133360"/>
            <a:ext cx="76320" cy="914760"/>
            <a:chOff x="3886200" y="2133360"/>
            <a:chExt cx="76320" cy="914760"/>
          </a:xfrm>
        </p:grpSpPr>
        <p:sp>
          <p:nvSpPr>
            <p:cNvPr id="261" name=""/>
            <p:cNvSpPr/>
            <p:nvPr/>
          </p:nvSpPr>
          <p:spPr>
            <a:xfrm flipV="1">
              <a:off x="3924360" y="2133720"/>
              <a:ext cx="0" cy="9144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88620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392436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375160" y="2133720"/>
            <a:ext cx="111240" cy="914400"/>
            <a:chOff x="5375160" y="2133720"/>
            <a:chExt cx="111240" cy="914400"/>
          </a:xfrm>
        </p:grpSpPr>
        <p:sp>
          <p:nvSpPr>
            <p:cNvPr id="265" name=""/>
            <p:cNvSpPr/>
            <p:nvPr/>
          </p:nvSpPr>
          <p:spPr>
            <a:xfrm>
              <a:off x="5432400" y="2133720"/>
              <a:ext cx="0" cy="91440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75160" y="2747880"/>
              <a:ext cx="5724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432400" y="2747880"/>
              <a:ext cx="5400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625920" y="3089160"/>
            <a:ext cx="20826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270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74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6781680"/>
            <a:ext cx="34290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019920" y="284616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2819520"/>
            <a:ext cx="34290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590920" y="2819520"/>
            <a:ext cx="12189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791320" y="304560"/>
            <a:ext cx="0" cy="1904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28240"/>
            <a:ext cx="0" cy="198108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9424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92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96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300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304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89800" y="136440"/>
            <a:ext cx="2417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Y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      </a:t>
            </a: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(L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35880" y="2444760"/>
            <a:ext cx="2425680" cy="30351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6077520" y="363276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Ambi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4620000">
            <a:off x="767988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1905120"/>
            <a:ext cx="182880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67480" y="1905120"/>
            <a:ext cx="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18480" y="188928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10080" y="6095880"/>
            <a:ext cx="175284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162920" y="5334120"/>
            <a:ext cx="0" cy="761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07920" y="5546880"/>
            <a:ext cx="81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jm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763120" y="167616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638320" y="1676520"/>
            <a:ext cx="3124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90440" y="181296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6324480"/>
            <a:ext cx="33530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8763120" y="525744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13760" y="5699160"/>
            <a:ext cx="48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69040" y="2749680"/>
            <a:ext cx="1739880" cy="2919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44560" y="2697120"/>
            <a:ext cx="181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ij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64480" y="4883040"/>
            <a:ext cx="212076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45400" y="4906800"/>
            <a:ext cx="2220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óv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94800" y="3687840"/>
            <a:ext cx="1968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xposi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2496960" y="1042920"/>
            <a:ext cx="160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Uso de sue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228600"/>
            <a:ext cx="26672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080000">
            <a:off x="2190960" y="4547160"/>
            <a:ext cx="137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136440" y="447876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44960" y="2749680"/>
            <a:ext cx="1206360" cy="215640"/>
          </a:xfrm>
          <a:prstGeom prst="rect">
            <a:avLst/>
          </a:prstGeom>
          <a:noFill/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2819520"/>
            <a:ext cx="10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4FFF-C4B2-42B4-A9BA-3E89E34E7C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1007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Para qué sirve cada etapa del modelito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F0E0-F95A-4436-B06F-5340AAC7C7A2}" type="slidenum">
              <a:t>11</a:t>
            </a:fld>
          </a:p>
        </p:txBody>
      </p:sp>
    </p:spTree>
  </p:cSld>
  <p:transition spd="med" advTm="1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705720" y="1363680"/>
            <a:ext cx="925560" cy="1633680"/>
            <a:chOff x="6705720" y="1363680"/>
            <a:chExt cx="925560" cy="1633680"/>
          </a:xfrm>
        </p:grpSpPr>
        <p:grpSp>
          <p:nvGrpSpPr>
            <p:cNvPr id="343" name=""/>
            <p:cNvGrpSpPr/>
            <p:nvPr/>
          </p:nvGrpSpPr>
          <p:grpSpPr>
            <a:xfrm>
              <a:off x="6705720" y="1363680"/>
              <a:ext cx="925560" cy="1633680"/>
              <a:chOff x="6705720" y="1363680"/>
              <a:chExt cx="925560" cy="1633680"/>
            </a:xfrm>
          </p:grpSpPr>
          <p:sp>
            <p:nvSpPr>
              <p:cNvPr id="344" name=""/>
              <p:cNvSpPr/>
              <p:nvPr/>
            </p:nvSpPr>
            <p:spPr>
              <a:xfrm>
                <a:off x="6705720" y="1711440"/>
                <a:ext cx="925560" cy="233280"/>
              </a:xfrm>
              <a:custGeom>
                <a:avLst/>
                <a:gdLst/>
                <a:ahLst/>
                <a:rect l="l" t="t" r="r" b="b"/>
                <a:pathLst>
                  <a:path w="583" h="147">
                    <a:moveTo>
                      <a:pt x="431" y="146"/>
                    </a:moveTo>
                    <a:lnTo>
                      <a:pt x="582" y="68"/>
                    </a:lnTo>
                    <a:lnTo>
                      <a:pt x="162" y="0"/>
                    </a:lnTo>
                    <a:lnTo>
                      <a:pt x="0" y="80"/>
                    </a:lnTo>
                    <a:lnTo>
                      <a:pt x="431" y="14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751800" y="1363680"/>
                <a:ext cx="769680" cy="114120"/>
              </a:xfrm>
              <a:custGeom>
                <a:avLst/>
                <a:gdLst/>
                <a:ahLst/>
                <a:rect l="l" t="t" r="r" b="b"/>
                <a:pathLst>
                  <a:path w="485" h="72">
                    <a:moveTo>
                      <a:pt x="0" y="36"/>
                    </a:moveTo>
                    <a:lnTo>
                      <a:pt x="378" y="71"/>
                    </a:lnTo>
                    <a:lnTo>
                      <a:pt x="484" y="39"/>
                    </a:lnTo>
                    <a:lnTo>
                      <a:pt x="116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53360" y="1425600"/>
                <a:ext cx="169920" cy="476280"/>
              </a:xfrm>
              <a:custGeom>
                <a:avLst/>
                <a:gdLst/>
                <a:ahLst/>
                <a:rect l="l" t="t" r="r" b="b"/>
                <a:pathLst>
                  <a:path w="107" h="300">
                    <a:moveTo>
                      <a:pt x="0" y="31"/>
                    </a:moveTo>
                    <a:lnTo>
                      <a:pt x="106" y="0"/>
                    </a:lnTo>
                    <a:lnTo>
                      <a:pt x="106" y="249"/>
                    </a:lnTo>
                    <a:lnTo>
                      <a:pt x="0" y="299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50000" y="1420920"/>
                <a:ext cx="604800" cy="476280"/>
              </a:xfrm>
              <a:custGeom>
                <a:avLst/>
                <a:gdLst/>
                <a:ahLst/>
                <a:rect l="l" t="t" r="r" b="b"/>
                <a:pathLst>
                  <a:path w="381" h="300">
                    <a:moveTo>
                      <a:pt x="1" y="0"/>
                    </a:moveTo>
                    <a:lnTo>
                      <a:pt x="380" y="35"/>
                    </a:lnTo>
                    <a:lnTo>
                      <a:pt x="380" y="299"/>
                    </a:lnTo>
                    <a:lnTo>
                      <a:pt x="0" y="23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389720" y="1817640"/>
                <a:ext cx="241560" cy="1179720"/>
              </a:xfrm>
              <a:custGeom>
                <a:avLst/>
                <a:gdLst/>
                <a:ahLst/>
                <a:rect l="l" t="t" r="r" b="b"/>
                <a:pathLst>
                  <a:path w="152" h="743">
                    <a:moveTo>
                      <a:pt x="151" y="0"/>
                    </a:moveTo>
                    <a:lnTo>
                      <a:pt x="0" y="79"/>
                    </a:lnTo>
                    <a:lnTo>
                      <a:pt x="0" y="742"/>
                    </a:lnTo>
                    <a:lnTo>
                      <a:pt x="151" y="647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05720" y="1836720"/>
                <a:ext cx="687240" cy="1160640"/>
              </a:xfrm>
              <a:custGeom>
                <a:avLst/>
                <a:gdLst/>
                <a:ahLst/>
                <a:rect l="l" t="t" r="r" b="b"/>
                <a:pathLst>
                  <a:path w="433" h="731">
                    <a:moveTo>
                      <a:pt x="0" y="0"/>
                    </a:moveTo>
                    <a:lnTo>
                      <a:pt x="432" y="67"/>
                    </a:lnTo>
                    <a:lnTo>
                      <a:pt x="431" y="730"/>
                    </a:lnTo>
                    <a:lnTo>
                      <a:pt x="0" y="6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780240" y="1438200"/>
              <a:ext cx="582480" cy="692280"/>
              <a:chOff x="6780240" y="1438200"/>
              <a:chExt cx="582480" cy="692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780240" y="1438200"/>
                <a:ext cx="90360" cy="42840"/>
              </a:xfrm>
              <a:custGeom>
                <a:avLst/>
                <a:gdLst/>
                <a:ahLst/>
                <a:rect l="l" t="t" r="r" b="b"/>
                <a:pathLst>
                  <a:path w="57" h="27">
                    <a:moveTo>
                      <a:pt x="0" y="0"/>
                    </a:moveTo>
                    <a:lnTo>
                      <a:pt x="56" y="6"/>
                    </a:lnTo>
                    <a:lnTo>
                      <a:pt x="56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94360" y="1509840"/>
                <a:ext cx="90720" cy="4104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0" y="0"/>
                    </a:moveTo>
                    <a:lnTo>
                      <a:pt x="56" y="5"/>
                    </a:lnTo>
                    <a:lnTo>
                      <a:pt x="56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020000" y="146196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49960" y="147636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49960" y="1541520"/>
                <a:ext cx="92160" cy="4104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16760" y="160164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49960" y="167940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267680" y="1959120"/>
                <a:ext cx="91800" cy="4284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0" y="0"/>
                    </a:moveTo>
                    <a:lnTo>
                      <a:pt x="57" y="6"/>
                    </a:lnTo>
                    <a:lnTo>
                      <a:pt x="57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273800" y="2089080"/>
                <a:ext cx="88920" cy="41400"/>
              </a:xfrm>
              <a:custGeom>
                <a:avLst/>
                <a:gdLst/>
                <a:ahLst/>
                <a:rect l="l" t="t" r="r" b="b"/>
                <a:pathLst>
                  <a:path w="56" h="26">
                    <a:moveTo>
                      <a:pt x="0" y="0"/>
                    </a:moveTo>
                    <a:lnTo>
                      <a:pt x="55" y="5"/>
                    </a:lnTo>
                    <a:lnTo>
                      <a:pt x="55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7440480" y="1138320"/>
            <a:ext cx="1171800" cy="2282760"/>
            <a:chOff x="7440480" y="1138320"/>
            <a:chExt cx="1171800" cy="2282760"/>
          </a:xfrm>
        </p:grpSpPr>
        <p:grpSp>
          <p:nvGrpSpPr>
            <p:cNvPr id="361" name=""/>
            <p:cNvGrpSpPr/>
            <p:nvPr/>
          </p:nvGrpSpPr>
          <p:grpSpPr>
            <a:xfrm>
              <a:off x="7440480" y="1138320"/>
              <a:ext cx="1171800" cy="2282760"/>
              <a:chOff x="7440480" y="1138320"/>
              <a:chExt cx="1171800" cy="2282760"/>
            </a:xfrm>
          </p:grpSpPr>
          <p:sp>
            <p:nvSpPr>
              <p:cNvPr id="362" name=""/>
              <p:cNvSpPr/>
              <p:nvPr/>
            </p:nvSpPr>
            <p:spPr>
              <a:xfrm>
                <a:off x="7446960" y="1792440"/>
                <a:ext cx="1165320" cy="439560"/>
              </a:xfrm>
              <a:custGeom>
                <a:avLst/>
                <a:gdLst/>
                <a:ahLst/>
                <a:rect l="l" t="t" r="r" b="b"/>
                <a:pathLst>
                  <a:path w="734" h="277">
                    <a:moveTo>
                      <a:pt x="0" y="202"/>
                    </a:moveTo>
                    <a:lnTo>
                      <a:pt x="414" y="276"/>
                    </a:lnTo>
                    <a:lnTo>
                      <a:pt x="733" y="53"/>
                    </a:lnTo>
                    <a:lnTo>
                      <a:pt x="334" y="0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07160" y="1420920"/>
                <a:ext cx="486000" cy="745920"/>
              </a:xfrm>
              <a:custGeom>
                <a:avLst/>
                <a:gdLst/>
                <a:ahLst/>
                <a:rect l="l" t="t" r="r" b="b"/>
                <a:pathLst>
                  <a:path w="306" h="470">
                    <a:moveTo>
                      <a:pt x="0" y="0"/>
                    </a:moveTo>
                    <a:lnTo>
                      <a:pt x="305" y="23"/>
                    </a:lnTo>
                    <a:lnTo>
                      <a:pt x="305" y="469"/>
                    </a:lnTo>
                    <a:lnTo>
                      <a:pt x="0" y="4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085240" y="1297080"/>
                <a:ext cx="417240" cy="863640"/>
              </a:xfrm>
              <a:custGeom>
                <a:avLst/>
                <a:gdLst/>
                <a:ahLst/>
                <a:rect l="l" t="t" r="r" b="b"/>
                <a:pathLst>
                  <a:path w="263" h="544">
                    <a:moveTo>
                      <a:pt x="0" y="101"/>
                    </a:moveTo>
                    <a:lnTo>
                      <a:pt x="0" y="543"/>
                    </a:lnTo>
                    <a:lnTo>
                      <a:pt x="262" y="365"/>
                    </a:lnTo>
                    <a:lnTo>
                      <a:pt x="262" y="0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607160" y="1263600"/>
                <a:ext cx="895320" cy="195480"/>
              </a:xfrm>
              <a:custGeom>
                <a:avLst/>
                <a:gdLst/>
                <a:ahLst/>
                <a:rect l="l" t="t" r="r" b="b"/>
                <a:pathLst>
                  <a:path w="564" h="123">
                    <a:moveTo>
                      <a:pt x="0" y="99"/>
                    </a:moveTo>
                    <a:lnTo>
                      <a:pt x="300" y="122"/>
                    </a:lnTo>
                    <a:lnTo>
                      <a:pt x="563" y="21"/>
                    </a:lnTo>
                    <a:lnTo>
                      <a:pt x="300" y="0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721640" y="1138320"/>
                <a:ext cx="655560" cy="117360"/>
              </a:xfrm>
              <a:custGeom>
                <a:avLst/>
                <a:gdLst/>
                <a:ahLst/>
                <a:rect l="l" t="t" r="r" b="b"/>
                <a:pathLst>
                  <a:path w="413" h="74">
                    <a:moveTo>
                      <a:pt x="0" y="59"/>
                    </a:moveTo>
                    <a:lnTo>
                      <a:pt x="218" y="73"/>
                    </a:lnTo>
                    <a:lnTo>
                      <a:pt x="412" y="18"/>
                    </a:lnTo>
                    <a:lnTo>
                      <a:pt x="206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721640" y="1231920"/>
                <a:ext cx="344520" cy="179280"/>
              </a:xfrm>
              <a:custGeom>
                <a:avLst/>
                <a:gdLst/>
                <a:ahLst/>
                <a:rect l="l" t="t" r="r" b="b"/>
                <a:pathLst>
                  <a:path w="217" h="113">
                    <a:moveTo>
                      <a:pt x="0" y="0"/>
                    </a:moveTo>
                    <a:lnTo>
                      <a:pt x="216" y="13"/>
                    </a:lnTo>
                    <a:lnTo>
                      <a:pt x="216" y="112"/>
                    </a:lnTo>
                    <a:lnTo>
                      <a:pt x="0" y="9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064360" y="1166760"/>
                <a:ext cx="312840" cy="244440"/>
              </a:xfrm>
              <a:custGeom>
                <a:avLst/>
                <a:gdLst/>
                <a:ahLst/>
                <a:rect l="l" t="t" r="r" b="b"/>
                <a:pathLst>
                  <a:path w="197" h="154">
                    <a:moveTo>
                      <a:pt x="0" y="55"/>
                    </a:moveTo>
                    <a:lnTo>
                      <a:pt x="0" y="153"/>
                    </a:lnTo>
                    <a:lnTo>
                      <a:pt x="196" y="79"/>
                    </a:lnTo>
                    <a:lnTo>
                      <a:pt x="196" y="0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099280" y="1873080"/>
                <a:ext cx="513000" cy="1548000"/>
              </a:xfrm>
              <a:custGeom>
                <a:avLst/>
                <a:gdLst/>
                <a:ahLst/>
                <a:rect l="l" t="t" r="r" b="b"/>
                <a:pathLst>
                  <a:path w="323" h="975">
                    <a:moveTo>
                      <a:pt x="322" y="0"/>
                    </a:moveTo>
                    <a:lnTo>
                      <a:pt x="2" y="225"/>
                    </a:lnTo>
                    <a:lnTo>
                      <a:pt x="0" y="974"/>
                    </a:lnTo>
                    <a:lnTo>
                      <a:pt x="322" y="682"/>
                    </a:lnTo>
                    <a:lnTo>
                      <a:pt x="322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440480" y="2112840"/>
                <a:ext cx="663840" cy="1308240"/>
              </a:xfrm>
              <a:custGeom>
                <a:avLst/>
                <a:gdLst/>
                <a:ahLst/>
                <a:rect l="l" t="t" r="r" b="b"/>
                <a:pathLst>
                  <a:path w="418" h="824">
                    <a:moveTo>
                      <a:pt x="4" y="0"/>
                    </a:moveTo>
                    <a:lnTo>
                      <a:pt x="417" y="74"/>
                    </a:lnTo>
                    <a:lnTo>
                      <a:pt x="417" y="823"/>
                    </a:lnTo>
                    <a:lnTo>
                      <a:pt x="0" y="69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516800" y="1440000"/>
              <a:ext cx="522360" cy="973080"/>
              <a:chOff x="7516800" y="1440000"/>
              <a:chExt cx="522360" cy="97308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7639200" y="1440000"/>
                <a:ext cx="399960" cy="222120"/>
                <a:chOff x="7639200" y="1440000"/>
                <a:chExt cx="399960" cy="222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639200" y="1440000"/>
                  <a:ext cx="82440" cy="177840"/>
                </a:xfrm>
                <a:custGeom>
                  <a:avLst/>
                  <a:gdLst/>
                  <a:ahLst/>
                  <a:rect l="l" t="t" r="r" b="b"/>
                  <a:pathLst>
                    <a:path w="52" h="112">
                      <a:moveTo>
                        <a:pt x="0" y="0"/>
                      </a:moveTo>
                      <a:lnTo>
                        <a:pt x="51" y="5"/>
                      </a:lnTo>
                      <a:lnTo>
                        <a:pt x="51" y="111"/>
                      </a:lnTo>
                      <a:lnTo>
                        <a:pt x="1" y="1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745400" y="1454040"/>
                  <a:ext cx="81000" cy="177840"/>
                </a:xfrm>
                <a:custGeom>
                  <a:avLst/>
                  <a:gdLst/>
                  <a:ahLst/>
                  <a:rect l="l" t="t" r="r" b="b"/>
                  <a:pathLst>
                    <a:path w="51" h="112">
                      <a:moveTo>
                        <a:pt x="0" y="0"/>
                      </a:moveTo>
                      <a:lnTo>
                        <a:pt x="50" y="4"/>
                      </a:lnTo>
                      <a:lnTo>
                        <a:pt x="50" y="111"/>
                      </a:lnTo>
                      <a:lnTo>
                        <a:pt x="0" y="10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850160" y="1463760"/>
                  <a:ext cx="87480" cy="183960"/>
                </a:xfrm>
                <a:custGeom>
                  <a:avLst/>
                  <a:gdLst/>
                  <a:ahLst/>
                  <a:rect l="l" t="t" r="r" b="b"/>
                  <a:pathLst>
                    <a:path w="55" h="116">
                      <a:moveTo>
                        <a:pt x="0" y="0"/>
                      </a:moveTo>
                      <a:lnTo>
                        <a:pt x="54" y="5"/>
                      </a:lnTo>
                      <a:lnTo>
                        <a:pt x="51" y="115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958160" y="1473120"/>
                  <a:ext cx="81000" cy="189000"/>
                </a:xfrm>
                <a:custGeom>
                  <a:avLst/>
                  <a:gdLst/>
                  <a:ahLst/>
                  <a:rect l="l" t="t" r="r" b="b"/>
                  <a:pathLst>
                    <a:path w="51" h="119">
                      <a:moveTo>
                        <a:pt x="0" y="0"/>
                      </a:moveTo>
                      <a:lnTo>
                        <a:pt x="50" y="5"/>
                      </a:lnTo>
                      <a:lnTo>
                        <a:pt x="50" y="118"/>
                      </a:lnTo>
                      <a:lnTo>
                        <a:pt x="0" y="1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7637400" y="1649520"/>
                <a:ext cx="399960" cy="228600"/>
                <a:chOff x="7637400" y="1649520"/>
                <a:chExt cx="399960" cy="2286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637400" y="1649520"/>
                  <a:ext cx="82440" cy="182520"/>
                </a:xfrm>
                <a:custGeom>
                  <a:avLst/>
                  <a:gdLst/>
                  <a:ahLst/>
                  <a:rect l="l" t="t" r="r" b="b"/>
                  <a:pathLst>
                    <a:path w="52" h="115">
                      <a:moveTo>
                        <a:pt x="0" y="0"/>
                      </a:moveTo>
                      <a:lnTo>
                        <a:pt x="51" y="7"/>
                      </a:lnTo>
                      <a:lnTo>
                        <a:pt x="51" y="114"/>
                      </a:lnTo>
                      <a:lnTo>
                        <a:pt x="1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743960" y="1663560"/>
                  <a:ext cx="82440" cy="184320"/>
                </a:xfrm>
                <a:custGeom>
                  <a:avLst/>
                  <a:gdLst/>
                  <a:ahLst/>
                  <a:rect l="l" t="t" r="r" b="b"/>
                  <a:pathLst>
                    <a:path w="52" h="116">
                      <a:moveTo>
                        <a:pt x="1" y="0"/>
                      </a:moveTo>
                      <a:lnTo>
                        <a:pt x="51" y="10"/>
                      </a:lnTo>
                      <a:lnTo>
                        <a:pt x="49" y="115"/>
                      </a:lnTo>
                      <a:lnTo>
                        <a:pt x="0" y="10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848720" y="1681200"/>
                  <a:ext cx="87120" cy="179280"/>
                </a:xfrm>
                <a:custGeom>
                  <a:avLst/>
                  <a:gdLst/>
                  <a:ahLst/>
                  <a:rect l="l" t="t" r="r" b="b"/>
                  <a:pathLst>
                    <a:path w="55" h="113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1" y="112"/>
                      </a:lnTo>
                      <a:lnTo>
                        <a:pt x="0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956720" y="1695600"/>
                  <a:ext cx="80640" cy="182520"/>
                </a:xfrm>
                <a:custGeom>
                  <a:avLst/>
                  <a:gdLst/>
                  <a:ahLst/>
                  <a:rect l="l" t="t" r="r" b="b"/>
                  <a:pathLst>
                    <a:path w="51" h="115">
                      <a:moveTo>
                        <a:pt x="0" y="0"/>
                      </a:moveTo>
                      <a:lnTo>
                        <a:pt x="50" y="8"/>
                      </a:lnTo>
                      <a:lnTo>
                        <a:pt x="50" y="114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516800" y="2157480"/>
                <a:ext cx="501840" cy="255600"/>
                <a:chOff x="7516800" y="2157480"/>
                <a:chExt cx="501840" cy="25560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7516800" y="2157480"/>
                  <a:ext cx="501840" cy="164880"/>
                  <a:chOff x="7516800" y="2157480"/>
                  <a:chExt cx="501840" cy="16488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7642080" y="2182680"/>
                    <a:ext cx="1112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3">
                        <a:moveTo>
                          <a:pt x="1" y="0"/>
                        </a:moveTo>
                        <a:lnTo>
                          <a:pt x="69" y="13"/>
                        </a:lnTo>
                        <a:lnTo>
                          <a:pt x="69" y="52"/>
                        </a:lnTo>
                        <a:lnTo>
                          <a:pt x="0" y="39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777080" y="2206800"/>
                    <a:ext cx="10800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6">
                        <a:moveTo>
                          <a:pt x="0" y="0"/>
                        </a:moveTo>
                        <a:lnTo>
                          <a:pt x="67" y="13"/>
                        </a:lnTo>
                        <a:lnTo>
                          <a:pt x="67" y="55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908840" y="2232000"/>
                    <a:ext cx="1098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7">
                        <a:moveTo>
                          <a:pt x="0" y="0"/>
                        </a:moveTo>
                        <a:lnTo>
                          <a:pt x="68" y="14"/>
                        </a:lnTo>
                        <a:lnTo>
                          <a:pt x="68" y="56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7516800" y="215748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3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7516800" y="2249640"/>
                  <a:ext cx="501840" cy="163440"/>
                  <a:chOff x="7516800" y="2249640"/>
                  <a:chExt cx="501840" cy="1634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7642080" y="2274840"/>
                    <a:ext cx="1112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4">
                        <a:moveTo>
                          <a:pt x="2" y="0"/>
                        </a:moveTo>
                        <a:lnTo>
                          <a:pt x="69" y="12"/>
                        </a:lnTo>
                        <a:lnTo>
                          <a:pt x="69" y="53"/>
                        </a:lnTo>
                        <a:lnTo>
                          <a:pt x="0" y="4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7775640" y="2298600"/>
                    <a:ext cx="1080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4">
                        <a:moveTo>
                          <a:pt x="0" y="0"/>
                        </a:moveTo>
                        <a:lnTo>
                          <a:pt x="67" y="14"/>
                        </a:lnTo>
                        <a:lnTo>
                          <a:pt x="67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7908840" y="2327400"/>
                    <a:ext cx="109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5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7516800" y="224964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2"/>
                        </a:lnTo>
                        <a:lnTo>
                          <a:pt x="68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93" name=""/>
          <p:cNvGrpSpPr/>
          <p:nvPr/>
        </p:nvGrpSpPr>
        <p:grpSpPr>
          <a:xfrm>
            <a:off x="8174160" y="1959120"/>
            <a:ext cx="811080" cy="2068200"/>
            <a:chOff x="8174160" y="1959120"/>
            <a:chExt cx="811080" cy="2068200"/>
          </a:xfrm>
        </p:grpSpPr>
        <p:grpSp>
          <p:nvGrpSpPr>
            <p:cNvPr id="394" name=""/>
            <p:cNvGrpSpPr/>
            <p:nvPr/>
          </p:nvGrpSpPr>
          <p:grpSpPr>
            <a:xfrm>
              <a:off x="8174160" y="1959120"/>
              <a:ext cx="811080" cy="2068200"/>
              <a:chOff x="8174160" y="1959120"/>
              <a:chExt cx="811080" cy="2068200"/>
            </a:xfrm>
          </p:grpSpPr>
          <p:sp>
            <p:nvSpPr>
              <p:cNvPr id="395" name=""/>
              <p:cNvSpPr/>
              <p:nvPr/>
            </p:nvSpPr>
            <p:spPr>
              <a:xfrm>
                <a:off x="8325000" y="2027160"/>
                <a:ext cx="476280" cy="181080"/>
              </a:xfrm>
              <a:custGeom>
                <a:avLst/>
                <a:gdLst/>
                <a:ahLst/>
                <a:rect l="l" t="t" r="r" b="b"/>
                <a:pathLst>
                  <a:path w="300" h="114">
                    <a:moveTo>
                      <a:pt x="0" y="89"/>
                    </a:moveTo>
                    <a:lnTo>
                      <a:pt x="184" y="113"/>
                    </a:lnTo>
                    <a:lnTo>
                      <a:pt x="299" y="17"/>
                    </a:lnTo>
                    <a:lnTo>
                      <a:pt x="126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8400960" y="1959120"/>
                <a:ext cx="333360" cy="217440"/>
                <a:chOff x="8400960" y="1959120"/>
                <a:chExt cx="333360" cy="2174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8400960" y="2043000"/>
                  <a:ext cx="203400" cy="133560"/>
                </a:xfrm>
                <a:custGeom>
                  <a:avLst/>
                  <a:gdLst/>
                  <a:ahLst/>
                  <a:rect l="l" t="t" r="r" b="b"/>
                  <a:pathLst>
                    <a:path w="128" h="84">
                      <a:moveTo>
                        <a:pt x="1" y="0"/>
                      </a:moveTo>
                      <a:lnTo>
                        <a:pt x="127" y="14"/>
                      </a:lnTo>
                      <a:lnTo>
                        <a:pt x="127" y="83"/>
                      </a:lnTo>
                      <a:lnTo>
                        <a:pt x="0" y="6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602560" y="1978200"/>
                  <a:ext cx="131760" cy="198360"/>
                </a:xfrm>
                <a:custGeom>
                  <a:avLst/>
                  <a:gdLst/>
                  <a:ahLst/>
                  <a:rect l="l" t="t" r="r" b="b"/>
                  <a:pathLst>
                    <a:path w="83" h="125">
                      <a:moveTo>
                        <a:pt x="0" y="57"/>
                      </a:moveTo>
                      <a:lnTo>
                        <a:pt x="0" y="124"/>
                      </a:lnTo>
                      <a:lnTo>
                        <a:pt x="82" y="57"/>
                      </a:lnTo>
                      <a:lnTo>
                        <a:pt x="82" y="0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402760" y="1959120"/>
                  <a:ext cx="331560" cy="109440"/>
                </a:xfrm>
                <a:custGeom>
                  <a:avLst/>
                  <a:gdLst/>
                  <a:ahLst/>
                  <a:rect l="l" t="t" r="r" b="b"/>
                  <a:pathLst>
                    <a:path w="209" h="69">
                      <a:moveTo>
                        <a:pt x="0" y="53"/>
                      </a:moveTo>
                      <a:lnTo>
                        <a:pt x="126" y="68"/>
                      </a:lnTo>
                      <a:lnTo>
                        <a:pt x="208" y="12"/>
                      </a:lnTo>
                      <a:lnTo>
                        <a:pt x="85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8326440" y="2168640"/>
                <a:ext cx="290520" cy="714240"/>
              </a:xfrm>
              <a:custGeom>
                <a:avLst/>
                <a:gdLst/>
                <a:ahLst/>
                <a:rect l="l" t="t" r="r" b="b"/>
                <a:pathLst>
                  <a:path w="183" h="450">
                    <a:moveTo>
                      <a:pt x="0" y="0"/>
                    </a:moveTo>
                    <a:lnTo>
                      <a:pt x="182" y="23"/>
                    </a:lnTo>
                    <a:lnTo>
                      <a:pt x="182" y="449"/>
                    </a:lnTo>
                    <a:lnTo>
                      <a:pt x="0" y="40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615520" y="2055960"/>
                <a:ext cx="183960" cy="826920"/>
              </a:xfrm>
              <a:custGeom>
                <a:avLst/>
                <a:gdLst/>
                <a:ahLst/>
                <a:rect l="l" t="t" r="r" b="b"/>
                <a:pathLst>
                  <a:path w="116" h="521">
                    <a:moveTo>
                      <a:pt x="0" y="95"/>
                    </a:moveTo>
                    <a:lnTo>
                      <a:pt x="115" y="0"/>
                    </a:lnTo>
                    <a:lnTo>
                      <a:pt x="115" y="398"/>
                    </a:lnTo>
                    <a:lnTo>
                      <a:pt x="0" y="520"/>
                    </a:lnTo>
                    <a:lnTo>
                      <a:pt x="0" y="95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612280" y="2687760"/>
                <a:ext cx="372960" cy="588960"/>
              </a:xfrm>
              <a:custGeom>
                <a:avLst/>
                <a:gdLst/>
                <a:ahLst/>
                <a:rect l="l" t="t" r="r" b="b"/>
                <a:pathLst>
                  <a:path w="235" h="371">
                    <a:moveTo>
                      <a:pt x="117" y="0"/>
                    </a:moveTo>
                    <a:lnTo>
                      <a:pt x="0" y="121"/>
                    </a:lnTo>
                    <a:lnTo>
                      <a:pt x="44" y="370"/>
                    </a:lnTo>
                    <a:lnTo>
                      <a:pt x="234" y="136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174160" y="2809800"/>
                <a:ext cx="509400" cy="466920"/>
              </a:xfrm>
              <a:custGeom>
                <a:avLst/>
                <a:gdLst/>
                <a:ahLst/>
                <a:rect l="l" t="t" r="r" b="b"/>
                <a:pathLst>
                  <a:path w="321" h="294">
                    <a:moveTo>
                      <a:pt x="93" y="0"/>
                    </a:moveTo>
                    <a:lnTo>
                      <a:pt x="277" y="44"/>
                    </a:lnTo>
                    <a:lnTo>
                      <a:pt x="320" y="293"/>
                    </a:lnTo>
                    <a:lnTo>
                      <a:pt x="0" y="211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678880" y="2903400"/>
                <a:ext cx="304920" cy="1123920"/>
              </a:xfrm>
              <a:custGeom>
                <a:avLst/>
                <a:gdLst/>
                <a:ahLst/>
                <a:rect l="l" t="t" r="r" b="b"/>
                <a:pathLst>
                  <a:path w="192" h="708">
                    <a:moveTo>
                      <a:pt x="1" y="234"/>
                    </a:moveTo>
                    <a:lnTo>
                      <a:pt x="191" y="0"/>
                    </a:lnTo>
                    <a:lnTo>
                      <a:pt x="191" y="383"/>
                    </a:lnTo>
                    <a:lnTo>
                      <a:pt x="0" y="707"/>
                    </a:lnTo>
                    <a:lnTo>
                      <a:pt x="1" y="234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174160" y="3144960"/>
                <a:ext cx="507960" cy="879480"/>
              </a:xfrm>
              <a:custGeom>
                <a:avLst/>
                <a:gdLst/>
                <a:ahLst/>
                <a:rect l="l" t="t" r="r" b="b"/>
                <a:pathLst>
                  <a:path w="320" h="554">
                    <a:moveTo>
                      <a:pt x="0" y="0"/>
                    </a:moveTo>
                    <a:lnTo>
                      <a:pt x="319" y="81"/>
                    </a:lnTo>
                    <a:lnTo>
                      <a:pt x="319" y="553"/>
                    </a:lnTo>
                    <a:lnTo>
                      <a:pt x="0" y="4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8356680" y="2201760"/>
              <a:ext cx="218880" cy="462240"/>
              <a:chOff x="8356680" y="2201760"/>
              <a:chExt cx="218880" cy="46224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8356680" y="2201760"/>
                <a:ext cx="218880" cy="154080"/>
                <a:chOff x="8356680" y="2201760"/>
                <a:chExt cx="218880" cy="15408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8356680" y="2201760"/>
                  <a:ext cx="47520" cy="125640"/>
                </a:xfrm>
                <a:custGeom>
                  <a:avLst/>
                  <a:gdLst/>
                  <a:ahLst/>
                  <a:rect l="l" t="t" r="r" b="b"/>
                  <a:pathLst>
                    <a:path w="30" h="79">
                      <a:moveTo>
                        <a:pt x="0" y="0"/>
                      </a:moveTo>
                      <a:lnTo>
                        <a:pt x="29" y="3"/>
                      </a:lnTo>
                      <a:lnTo>
                        <a:pt x="29" y="78"/>
                      </a:lnTo>
                      <a:lnTo>
                        <a:pt x="0" y="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439120" y="221148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4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528040" y="22255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4"/>
                      </a:lnTo>
                      <a:lnTo>
                        <a:pt x="29" y="81"/>
                      </a:lnTo>
                      <a:lnTo>
                        <a:pt x="0" y="7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8356680" y="2347920"/>
                <a:ext cx="218880" cy="165240"/>
                <a:chOff x="8356680" y="2347920"/>
                <a:chExt cx="218880" cy="1652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8356680" y="23479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439120" y="2365200"/>
                  <a:ext cx="49320" cy="130320"/>
                </a:xfrm>
                <a:custGeom>
                  <a:avLst/>
                  <a:gdLst/>
                  <a:ahLst/>
                  <a:rect l="l" t="t" r="r" b="b"/>
                  <a:pathLst>
                    <a:path w="31" h="82">
                      <a:moveTo>
                        <a:pt x="0" y="0"/>
                      </a:moveTo>
                      <a:lnTo>
                        <a:pt x="30" y="6"/>
                      </a:lnTo>
                      <a:lnTo>
                        <a:pt x="30" y="81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528040" y="2381400"/>
                  <a:ext cx="47520" cy="13176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8356680" y="2496960"/>
                <a:ext cx="218880" cy="167040"/>
                <a:chOff x="8356680" y="2496960"/>
                <a:chExt cx="218880" cy="1670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8356680" y="2496960"/>
                  <a:ext cx="47520" cy="13212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439120" y="251604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5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528040" y="253368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9" name=""/>
          <p:cNvGrpSpPr/>
          <p:nvPr/>
        </p:nvGrpSpPr>
        <p:grpSpPr>
          <a:xfrm>
            <a:off x="6037200" y="1521000"/>
            <a:ext cx="1209600" cy="2525400"/>
            <a:chOff x="6037200" y="1521000"/>
            <a:chExt cx="1209600" cy="2525400"/>
          </a:xfrm>
        </p:grpSpPr>
        <p:sp>
          <p:nvSpPr>
            <p:cNvPr id="420" name=""/>
            <p:cNvSpPr/>
            <p:nvPr/>
          </p:nvSpPr>
          <p:spPr>
            <a:xfrm>
              <a:off x="6037200" y="1670040"/>
              <a:ext cx="1208160" cy="279360"/>
            </a:xfrm>
            <a:custGeom>
              <a:avLst/>
              <a:gdLst/>
              <a:ahLst/>
              <a:rect l="l" t="t" r="r" b="b"/>
              <a:pathLst>
                <a:path w="761" h="176">
                  <a:moveTo>
                    <a:pt x="0" y="104"/>
                  </a:moveTo>
                  <a:lnTo>
                    <a:pt x="433" y="175"/>
                  </a:lnTo>
                  <a:lnTo>
                    <a:pt x="760" y="52"/>
                  </a:lnTo>
                  <a:lnTo>
                    <a:pt x="361" y="0"/>
                  </a:lnTo>
                  <a:lnTo>
                    <a:pt x="0" y="104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37200" y="1832040"/>
              <a:ext cx="689040" cy="2212920"/>
            </a:xfrm>
            <a:custGeom>
              <a:avLst/>
              <a:gdLst/>
              <a:ahLst/>
              <a:rect l="l" t="t" r="r" b="b"/>
              <a:pathLst>
                <a:path w="434" h="1394">
                  <a:moveTo>
                    <a:pt x="0" y="0"/>
                  </a:moveTo>
                  <a:lnTo>
                    <a:pt x="433" y="72"/>
                  </a:lnTo>
                  <a:lnTo>
                    <a:pt x="433" y="1393"/>
                  </a:lnTo>
                  <a:lnTo>
                    <a:pt x="341" y="1363"/>
                  </a:lnTo>
                  <a:lnTo>
                    <a:pt x="342" y="1196"/>
                  </a:lnTo>
                  <a:lnTo>
                    <a:pt x="220" y="1148"/>
                  </a:lnTo>
                  <a:lnTo>
                    <a:pt x="220" y="1297"/>
                  </a:lnTo>
                  <a:lnTo>
                    <a:pt x="151" y="1266"/>
                  </a:lnTo>
                  <a:lnTo>
                    <a:pt x="151" y="1117"/>
                  </a:lnTo>
                  <a:lnTo>
                    <a:pt x="54" y="1073"/>
                  </a:lnTo>
                  <a:lnTo>
                    <a:pt x="54" y="1224"/>
                  </a:lnTo>
                  <a:lnTo>
                    <a:pt x="0" y="1200"/>
                  </a:lnTo>
                  <a:lnTo>
                    <a:pt x="0" y="0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6060960" y="1521000"/>
              <a:ext cx="1185840" cy="2525400"/>
              <a:chOff x="6060960" y="1521000"/>
              <a:chExt cx="1185840" cy="2525400"/>
            </a:xfrm>
          </p:grpSpPr>
          <p:sp>
            <p:nvSpPr>
              <p:cNvPr id="423" name=""/>
              <p:cNvSpPr/>
              <p:nvPr/>
            </p:nvSpPr>
            <p:spPr>
              <a:xfrm>
                <a:off x="6724800" y="1751040"/>
                <a:ext cx="522000" cy="2295360"/>
              </a:xfrm>
              <a:custGeom>
                <a:avLst/>
                <a:gdLst/>
                <a:ahLst/>
                <a:rect l="l" t="t" r="r" b="b"/>
                <a:pathLst>
                  <a:path w="329" h="1446">
                    <a:moveTo>
                      <a:pt x="0" y="122"/>
                    </a:moveTo>
                    <a:lnTo>
                      <a:pt x="324" y="0"/>
                    </a:lnTo>
                    <a:lnTo>
                      <a:pt x="328" y="1117"/>
                    </a:lnTo>
                    <a:lnTo>
                      <a:pt x="0" y="1445"/>
                    </a:lnTo>
                    <a:lnTo>
                      <a:pt x="0" y="122"/>
                    </a:lnTo>
                  </a:path>
                </a:pathLst>
              </a:cu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6386400" y="3645000"/>
                <a:ext cx="201600" cy="247680"/>
                <a:chOff x="6386400" y="3645000"/>
                <a:chExt cx="201600" cy="2476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497640" y="3692520"/>
                  <a:ext cx="90360" cy="173160"/>
                </a:xfrm>
                <a:custGeom>
                  <a:avLst/>
                  <a:gdLst/>
                  <a:ahLst/>
                  <a:rect l="l" t="t" r="r" b="b"/>
                  <a:pathLst>
                    <a:path w="57" h="109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56" y="108"/>
                      </a:lnTo>
                      <a:lnTo>
                        <a:pt x="56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386400" y="3645000"/>
                  <a:ext cx="117720" cy="247680"/>
                </a:xfrm>
                <a:custGeom>
                  <a:avLst/>
                  <a:gdLst/>
                  <a:ahLst/>
                  <a:rect l="l" t="t" r="r" b="b"/>
                  <a:pathLst>
                    <a:path w="74" h="156">
                      <a:moveTo>
                        <a:pt x="0" y="0"/>
                      </a:moveTo>
                      <a:lnTo>
                        <a:pt x="0" y="155"/>
                      </a:lnTo>
                      <a:lnTo>
                        <a:pt x="73" y="110"/>
                      </a:lnTo>
                      <a:lnTo>
                        <a:pt x="73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6121440" y="3527280"/>
                <a:ext cx="206280" cy="250920"/>
                <a:chOff x="6121440" y="3527280"/>
                <a:chExt cx="206280" cy="2509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6235560" y="357336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0"/>
                      </a:moveTo>
                      <a:lnTo>
                        <a:pt x="0" y="84"/>
                      </a:lnTo>
                      <a:lnTo>
                        <a:pt x="57" y="109"/>
                      </a:lnTo>
                      <a:lnTo>
                        <a:pt x="57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121440" y="3527280"/>
                  <a:ext cx="117360" cy="250920"/>
                </a:xfrm>
                <a:custGeom>
                  <a:avLst/>
                  <a:gdLst/>
                  <a:ahLst/>
                  <a:rect l="l" t="t" r="r" b="b"/>
                  <a:pathLst>
                    <a:path w="74" h="158">
                      <a:moveTo>
                        <a:pt x="0" y="0"/>
                      </a:moveTo>
                      <a:lnTo>
                        <a:pt x="0" y="157"/>
                      </a:lnTo>
                      <a:lnTo>
                        <a:pt x="73" y="113"/>
                      </a:lnTo>
                      <a:lnTo>
                        <a:pt x="73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6060960" y="1882800"/>
                <a:ext cx="619200" cy="1751040"/>
                <a:chOff x="6060960" y="1882800"/>
                <a:chExt cx="619200" cy="17510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084720" y="1887480"/>
                  <a:ext cx="563760" cy="1746360"/>
                </a:xfrm>
                <a:custGeom>
                  <a:avLst/>
                  <a:gdLst/>
                  <a:ahLst/>
                  <a:rect l="l" t="t" r="r" b="b"/>
                  <a:pathLst>
                    <a:path w="355" h="1100">
                      <a:moveTo>
                        <a:pt x="0" y="0"/>
                      </a:moveTo>
                      <a:lnTo>
                        <a:pt x="354" y="59"/>
                      </a:lnTo>
                      <a:lnTo>
                        <a:pt x="354" y="1099"/>
                      </a:lnTo>
                      <a:lnTo>
                        <a:pt x="2" y="9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6060960" y="1882800"/>
                  <a:ext cx="619200" cy="1712880"/>
                  <a:chOff x="6060960" y="1882800"/>
                  <a:chExt cx="619200" cy="17128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6066000" y="3193920"/>
                    <a:ext cx="614160" cy="2080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6060960" y="2973240"/>
                    <a:ext cx="614520" cy="17964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6073920" y="2747880"/>
                    <a:ext cx="601560" cy="1605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6068880" y="2513160"/>
                    <a:ext cx="601920" cy="14580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6080040" y="2287440"/>
                    <a:ext cx="590760" cy="120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060960" y="2079720"/>
                    <a:ext cx="603360" cy="102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203880" y="1882800"/>
                    <a:ext cx="0" cy="15955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6343560" y="1911240"/>
                    <a:ext cx="0" cy="16336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6492960" y="1933560"/>
                    <a:ext cx="0" cy="16621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2" name=""/>
              <p:cNvGrpSpPr/>
              <p:nvPr/>
            </p:nvGrpSpPr>
            <p:grpSpPr>
              <a:xfrm>
                <a:off x="6294600" y="1521000"/>
                <a:ext cx="722160" cy="357120"/>
                <a:chOff x="6294600" y="1521000"/>
                <a:chExt cx="722160" cy="357120"/>
              </a:xfrm>
            </p:grpSpPr>
            <p:grpSp>
              <p:nvGrpSpPr>
                <p:cNvPr id="443" name=""/>
                <p:cNvGrpSpPr/>
                <p:nvPr/>
              </p:nvGrpSpPr>
              <p:grpSpPr>
                <a:xfrm>
                  <a:off x="6294600" y="1521000"/>
                  <a:ext cx="722160" cy="357120"/>
                  <a:chOff x="6294600" y="1521000"/>
                  <a:chExt cx="722160" cy="3571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6294600" y="1521000"/>
                    <a:ext cx="7221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90">
                        <a:moveTo>
                          <a:pt x="0" y="58"/>
                        </a:moveTo>
                        <a:lnTo>
                          <a:pt x="264" y="89"/>
                        </a:lnTo>
                        <a:lnTo>
                          <a:pt x="454" y="30"/>
                        </a:lnTo>
                        <a:lnTo>
                          <a:pt x="197" y="0"/>
                        </a:lnTo>
                        <a:lnTo>
                          <a:pt x="0" y="58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711840" y="1568520"/>
                    <a:ext cx="30024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95">
                        <a:moveTo>
                          <a:pt x="0" y="59"/>
                        </a:moveTo>
                        <a:lnTo>
                          <a:pt x="188" y="0"/>
                        </a:lnTo>
                        <a:lnTo>
                          <a:pt x="188" y="123"/>
                        </a:lnTo>
                        <a:lnTo>
                          <a:pt x="0" y="194"/>
                        </a:lnTo>
                        <a:lnTo>
                          <a:pt x="0" y="59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6294600" y="1612800"/>
                    <a:ext cx="419040" cy="26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167">
                        <a:moveTo>
                          <a:pt x="263" y="31"/>
                        </a:moveTo>
                        <a:lnTo>
                          <a:pt x="263" y="166"/>
                        </a:lnTo>
                        <a:lnTo>
                          <a:pt x="0" y="128"/>
                        </a:lnTo>
                        <a:lnTo>
                          <a:pt x="0" y="0"/>
                        </a:lnTo>
                        <a:lnTo>
                          <a:pt x="263" y="31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7" name=""/>
                <p:cNvSpPr/>
                <p:nvPr/>
              </p:nvSpPr>
              <p:spPr>
                <a:xfrm>
                  <a:off x="6348240" y="1655640"/>
                  <a:ext cx="243000" cy="65160"/>
                </a:xfrm>
                <a:custGeom>
                  <a:avLst/>
                  <a:gdLst/>
                  <a:ahLst/>
                  <a:rect l="l" t="t" r="r" b="b"/>
                  <a:pathLst>
                    <a:path w="153" h="41">
                      <a:moveTo>
                        <a:pt x="1" y="0"/>
                      </a:moveTo>
                      <a:lnTo>
                        <a:pt x="152" y="16"/>
                      </a:lnTo>
                      <a:lnTo>
                        <a:pt x="152" y="40"/>
                      </a:lnTo>
                      <a:lnTo>
                        <a:pt x="0" y="2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8" name=""/>
          <p:cNvGrpSpPr/>
          <p:nvPr/>
        </p:nvGrpSpPr>
        <p:grpSpPr>
          <a:xfrm>
            <a:off x="6826320" y="2320920"/>
            <a:ext cx="1152360" cy="2022480"/>
            <a:chOff x="6826320" y="2320920"/>
            <a:chExt cx="1152360" cy="2022480"/>
          </a:xfrm>
        </p:grpSpPr>
        <p:grpSp>
          <p:nvGrpSpPr>
            <p:cNvPr id="449" name=""/>
            <p:cNvGrpSpPr/>
            <p:nvPr/>
          </p:nvGrpSpPr>
          <p:grpSpPr>
            <a:xfrm>
              <a:off x="6826320" y="2320920"/>
              <a:ext cx="1152360" cy="2022480"/>
              <a:chOff x="6826320" y="2320920"/>
              <a:chExt cx="1152360" cy="2022480"/>
            </a:xfrm>
          </p:grpSpPr>
          <p:sp>
            <p:nvSpPr>
              <p:cNvPr id="450" name=""/>
              <p:cNvSpPr/>
              <p:nvPr/>
            </p:nvSpPr>
            <p:spPr>
              <a:xfrm>
                <a:off x="6826320" y="2352600"/>
                <a:ext cx="1152360" cy="549360"/>
              </a:xfrm>
              <a:custGeom>
                <a:avLst/>
                <a:gdLst/>
                <a:ahLst/>
                <a:rect l="l" t="t" r="r" b="b"/>
                <a:pathLst>
                  <a:path w="726" h="346">
                    <a:moveTo>
                      <a:pt x="0" y="253"/>
                    </a:moveTo>
                    <a:lnTo>
                      <a:pt x="351" y="345"/>
                    </a:lnTo>
                    <a:lnTo>
                      <a:pt x="725" y="63"/>
                    </a:lnTo>
                    <a:lnTo>
                      <a:pt x="423" y="0"/>
                    </a:lnTo>
                    <a:lnTo>
                      <a:pt x="0" y="253"/>
                    </a:lnTo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826320" y="2754360"/>
                <a:ext cx="558720" cy="1589040"/>
              </a:xfrm>
              <a:custGeom>
                <a:avLst/>
                <a:gdLst/>
                <a:ahLst/>
                <a:rect l="l" t="t" r="r" b="b"/>
                <a:pathLst>
                  <a:path w="352" h="1001">
                    <a:moveTo>
                      <a:pt x="0" y="0"/>
                    </a:moveTo>
                    <a:lnTo>
                      <a:pt x="351" y="91"/>
                    </a:lnTo>
                    <a:lnTo>
                      <a:pt x="351" y="1000"/>
                    </a:lnTo>
                    <a:lnTo>
                      <a:pt x="0" y="8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380360" y="2452680"/>
                <a:ext cx="596880" cy="1890720"/>
              </a:xfrm>
              <a:custGeom>
                <a:avLst/>
                <a:gdLst/>
                <a:ahLst/>
                <a:rect l="l" t="t" r="r" b="b"/>
                <a:pathLst>
                  <a:path w="376" h="1191">
                    <a:moveTo>
                      <a:pt x="0" y="282"/>
                    </a:moveTo>
                    <a:lnTo>
                      <a:pt x="0" y="1190"/>
                    </a:lnTo>
                    <a:lnTo>
                      <a:pt x="375" y="759"/>
                    </a:lnTo>
                    <a:lnTo>
                      <a:pt x="375" y="0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6970680" y="2320920"/>
                <a:ext cx="878040" cy="501480"/>
                <a:chOff x="6970680" y="2320920"/>
                <a:chExt cx="878040" cy="5014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970680" y="2320920"/>
                  <a:ext cx="878040" cy="412920"/>
                </a:xfrm>
                <a:custGeom>
                  <a:avLst/>
                  <a:gdLst/>
                  <a:ahLst/>
                  <a:rect l="l" t="t" r="r" b="b"/>
                  <a:pathLst>
                    <a:path w="553" h="260">
                      <a:moveTo>
                        <a:pt x="0" y="194"/>
                      </a:moveTo>
                      <a:lnTo>
                        <a:pt x="251" y="259"/>
                      </a:lnTo>
                      <a:lnTo>
                        <a:pt x="552" y="43"/>
                      </a:lnTo>
                      <a:lnTo>
                        <a:pt x="329" y="0"/>
                      </a:lnTo>
                      <a:lnTo>
                        <a:pt x="0" y="194"/>
                      </a:lnTo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367760" y="2390760"/>
                  <a:ext cx="480960" cy="431640"/>
                </a:xfrm>
                <a:custGeom>
                  <a:avLst/>
                  <a:gdLst/>
                  <a:ahLst/>
                  <a:rect l="l" t="t" r="r" b="b"/>
                  <a:pathLst>
                    <a:path w="303" h="272">
                      <a:moveTo>
                        <a:pt x="0" y="215"/>
                      </a:moveTo>
                      <a:lnTo>
                        <a:pt x="302" y="0"/>
                      </a:lnTo>
                      <a:lnTo>
                        <a:pt x="302" y="51"/>
                      </a:lnTo>
                      <a:lnTo>
                        <a:pt x="0" y="271"/>
                      </a:lnTo>
                      <a:lnTo>
                        <a:pt x="0" y="215"/>
                      </a:lnTo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970680" y="2629080"/>
                  <a:ext cx="398520" cy="191880"/>
                </a:xfrm>
                <a:custGeom>
                  <a:avLst/>
                  <a:gdLst/>
                  <a:ahLst/>
                  <a:rect l="l" t="t" r="r" b="b"/>
                  <a:pathLst>
                    <a:path w="251" h="121">
                      <a:moveTo>
                        <a:pt x="250" y="64"/>
                      </a:moveTo>
                      <a:lnTo>
                        <a:pt x="250" y="120"/>
                      </a:lnTo>
                      <a:lnTo>
                        <a:pt x="0" y="53"/>
                      </a:lnTo>
                      <a:lnTo>
                        <a:pt x="0" y="0"/>
                      </a:lnTo>
                      <a:lnTo>
                        <a:pt x="250" y="64"/>
                      </a:lnTo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7" name=""/>
            <p:cNvGrpSpPr/>
            <p:nvPr/>
          </p:nvGrpSpPr>
          <p:grpSpPr>
            <a:xfrm>
              <a:off x="6854760" y="2806560"/>
              <a:ext cx="498600" cy="1470240"/>
              <a:chOff x="6854760" y="2806560"/>
              <a:chExt cx="498600" cy="1470240"/>
            </a:xfrm>
          </p:grpSpPr>
          <p:sp>
            <p:nvSpPr>
              <p:cNvPr id="458" name=""/>
              <p:cNvSpPr/>
              <p:nvPr/>
            </p:nvSpPr>
            <p:spPr>
              <a:xfrm>
                <a:off x="6854760" y="2806560"/>
                <a:ext cx="498600" cy="1470240"/>
              </a:xfrm>
              <a:custGeom>
                <a:avLst/>
                <a:gdLst/>
                <a:ahLst/>
                <a:rect l="l" t="t" r="r" b="b"/>
                <a:pathLst>
                  <a:path w="314" h="926">
                    <a:moveTo>
                      <a:pt x="0" y="0"/>
                    </a:moveTo>
                    <a:lnTo>
                      <a:pt x="313" y="82"/>
                    </a:lnTo>
                    <a:lnTo>
                      <a:pt x="313" y="925"/>
                    </a:lnTo>
                    <a:lnTo>
                      <a:pt x="0" y="7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24600" y="2822400"/>
                <a:ext cx="55800" cy="1301760"/>
              </a:xfrm>
              <a:custGeom>
                <a:avLst/>
                <a:gdLst/>
                <a:ahLst/>
                <a:rect l="l" t="t" r="r" b="b"/>
                <a:pathLst>
                  <a:path w="35" h="820">
                    <a:moveTo>
                      <a:pt x="1" y="0"/>
                    </a:moveTo>
                    <a:lnTo>
                      <a:pt x="0" y="807"/>
                    </a:lnTo>
                    <a:lnTo>
                      <a:pt x="33" y="819"/>
                    </a:lnTo>
                    <a:lnTo>
                      <a:pt x="34" y="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061040" y="2851200"/>
                <a:ext cx="59040" cy="1330200"/>
              </a:xfrm>
              <a:custGeom>
                <a:avLst/>
                <a:gdLst/>
                <a:ahLst/>
                <a:rect l="l" t="t" r="r" b="b"/>
                <a:pathLst>
                  <a:path w="37" h="838">
                    <a:moveTo>
                      <a:pt x="0" y="0"/>
                    </a:moveTo>
                    <a:lnTo>
                      <a:pt x="0" y="821"/>
                    </a:lnTo>
                    <a:lnTo>
                      <a:pt x="33" y="837"/>
                    </a:lnTo>
                    <a:lnTo>
                      <a:pt x="36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207200" y="2897280"/>
                <a:ext cx="58680" cy="1339920"/>
              </a:xfrm>
              <a:custGeom>
                <a:avLst/>
                <a:gdLst/>
                <a:ahLst/>
                <a:rect l="l" t="t" r="r" b="b"/>
                <a:pathLst>
                  <a:path w="37" h="844">
                    <a:moveTo>
                      <a:pt x="1" y="0"/>
                    </a:moveTo>
                    <a:lnTo>
                      <a:pt x="0" y="824"/>
                    </a:lnTo>
                    <a:lnTo>
                      <a:pt x="36" y="843"/>
                    </a:lnTo>
                    <a:lnTo>
                      <a:pt x="34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2" name=""/>
          <p:cNvGrpSpPr/>
          <p:nvPr/>
        </p:nvGrpSpPr>
        <p:grpSpPr>
          <a:xfrm>
            <a:off x="7624800" y="2419200"/>
            <a:ext cx="1073160" cy="2359080"/>
            <a:chOff x="7624800" y="2419200"/>
            <a:chExt cx="1073160" cy="2359080"/>
          </a:xfrm>
        </p:grpSpPr>
        <p:grpSp>
          <p:nvGrpSpPr>
            <p:cNvPr id="463" name=""/>
            <p:cNvGrpSpPr/>
            <p:nvPr/>
          </p:nvGrpSpPr>
          <p:grpSpPr>
            <a:xfrm>
              <a:off x="7624800" y="2419200"/>
              <a:ext cx="1073160" cy="2359080"/>
              <a:chOff x="7624800" y="2419200"/>
              <a:chExt cx="1073160" cy="235908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7745400" y="4197240"/>
                <a:ext cx="833400" cy="581040"/>
                <a:chOff x="7745400" y="4197240"/>
                <a:chExt cx="833400" cy="58104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745400" y="4416480"/>
                  <a:ext cx="534960" cy="361800"/>
                </a:xfrm>
                <a:custGeom>
                  <a:avLst/>
                  <a:gdLst/>
                  <a:ahLst/>
                  <a:rect l="l" t="t" r="r" b="b"/>
                  <a:pathLst>
                    <a:path w="337" h="228">
                      <a:moveTo>
                        <a:pt x="0" y="0"/>
                      </a:moveTo>
                      <a:lnTo>
                        <a:pt x="0" y="68"/>
                      </a:lnTo>
                      <a:lnTo>
                        <a:pt x="336" y="227"/>
                      </a:lnTo>
                      <a:lnTo>
                        <a:pt x="336" y="15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278920" y="4197240"/>
                  <a:ext cx="299880" cy="581040"/>
                </a:xfrm>
                <a:custGeom>
                  <a:avLst/>
                  <a:gdLst/>
                  <a:ahLst/>
                  <a:rect l="l" t="t" r="r" b="b"/>
                  <a:pathLst>
                    <a:path w="189" h="366">
                      <a:moveTo>
                        <a:pt x="0" y="294"/>
                      </a:moveTo>
                      <a:lnTo>
                        <a:pt x="0" y="365"/>
                      </a:lnTo>
                      <a:lnTo>
                        <a:pt x="188" y="58"/>
                      </a:lnTo>
                      <a:lnTo>
                        <a:pt x="188" y="0"/>
                      </a:lnTo>
                      <a:lnTo>
                        <a:pt x="0" y="294"/>
                      </a:lnTo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>
                <a:off x="7624800" y="3808440"/>
                <a:ext cx="1073160" cy="895320"/>
              </a:xfrm>
              <a:custGeom>
                <a:avLst/>
                <a:gdLst/>
                <a:ahLst/>
                <a:rect l="l" t="t" r="r" b="b"/>
                <a:pathLst>
                  <a:path w="676" h="564">
                    <a:moveTo>
                      <a:pt x="0" y="354"/>
                    </a:moveTo>
                    <a:lnTo>
                      <a:pt x="449" y="563"/>
                    </a:lnTo>
                    <a:lnTo>
                      <a:pt x="675" y="191"/>
                    </a:lnTo>
                    <a:lnTo>
                      <a:pt x="245" y="0"/>
                    </a:lnTo>
                    <a:lnTo>
                      <a:pt x="0" y="354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719840" y="3254400"/>
                <a:ext cx="847800" cy="507960"/>
              </a:xfrm>
              <a:custGeom>
                <a:avLst/>
                <a:gdLst/>
                <a:ahLst/>
                <a:rect l="l" t="t" r="r" b="b"/>
                <a:pathLst>
                  <a:path w="534" h="320">
                    <a:moveTo>
                      <a:pt x="351" y="319"/>
                    </a:moveTo>
                    <a:lnTo>
                      <a:pt x="533" y="111"/>
                    </a:lnTo>
                    <a:lnTo>
                      <a:pt x="201" y="0"/>
                    </a:lnTo>
                    <a:lnTo>
                      <a:pt x="0" y="204"/>
                    </a:lnTo>
                    <a:lnTo>
                      <a:pt x="351" y="319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145360" y="2424240"/>
                <a:ext cx="293760" cy="596880"/>
              </a:xfrm>
              <a:custGeom>
                <a:avLst/>
                <a:gdLst/>
                <a:ahLst/>
                <a:rect l="l" t="t" r="r" b="b"/>
                <a:pathLst>
                  <a:path w="185" h="376">
                    <a:moveTo>
                      <a:pt x="0" y="0"/>
                    </a:moveTo>
                    <a:lnTo>
                      <a:pt x="45" y="375"/>
                    </a:lnTo>
                    <a:lnTo>
                      <a:pt x="184" y="25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891560" y="2419200"/>
                <a:ext cx="326880" cy="601920"/>
              </a:xfrm>
              <a:custGeom>
                <a:avLst/>
                <a:gdLst/>
                <a:ahLst/>
                <a:rect l="l" t="t" r="r" b="b"/>
                <a:pathLst>
                  <a:path w="206" h="379">
                    <a:moveTo>
                      <a:pt x="161" y="0"/>
                    </a:moveTo>
                    <a:lnTo>
                      <a:pt x="205" y="378"/>
                    </a:lnTo>
                    <a:lnTo>
                      <a:pt x="0" y="338"/>
                    </a:lnTo>
                    <a:lnTo>
                      <a:pt x="161" y="0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891560" y="2955960"/>
                <a:ext cx="325440" cy="723960"/>
              </a:xfrm>
              <a:custGeom>
                <a:avLst/>
                <a:gdLst/>
                <a:ahLst/>
                <a:rect l="l" t="t" r="r" b="b"/>
                <a:pathLst>
                  <a:path w="205" h="456">
                    <a:moveTo>
                      <a:pt x="0" y="0"/>
                    </a:moveTo>
                    <a:lnTo>
                      <a:pt x="204" y="38"/>
                    </a:lnTo>
                    <a:lnTo>
                      <a:pt x="204" y="455"/>
                    </a:lnTo>
                    <a:lnTo>
                      <a:pt x="0" y="3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15200" y="2819520"/>
                <a:ext cx="222480" cy="861840"/>
              </a:xfrm>
              <a:custGeom>
                <a:avLst/>
                <a:gdLst/>
                <a:ahLst/>
                <a:rect l="l" t="t" r="r" b="b"/>
                <a:pathLst>
                  <a:path w="140" h="543">
                    <a:moveTo>
                      <a:pt x="0" y="124"/>
                    </a:moveTo>
                    <a:lnTo>
                      <a:pt x="139" y="0"/>
                    </a:lnTo>
                    <a:lnTo>
                      <a:pt x="139" y="388"/>
                    </a:lnTo>
                    <a:lnTo>
                      <a:pt x="0" y="542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719840" y="3578400"/>
                <a:ext cx="555840" cy="973080"/>
              </a:xfrm>
              <a:custGeom>
                <a:avLst/>
                <a:gdLst/>
                <a:ahLst/>
                <a:rect l="l" t="t" r="r" b="b"/>
                <a:pathLst>
                  <a:path w="350" h="613">
                    <a:moveTo>
                      <a:pt x="0" y="0"/>
                    </a:moveTo>
                    <a:lnTo>
                      <a:pt x="349" y="115"/>
                    </a:lnTo>
                    <a:lnTo>
                      <a:pt x="349" y="612"/>
                    </a:lnTo>
                    <a:lnTo>
                      <a:pt x="0" y="4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75680" y="3429000"/>
                <a:ext cx="291960" cy="1122480"/>
              </a:xfrm>
              <a:custGeom>
                <a:avLst/>
                <a:gdLst/>
                <a:ahLst/>
                <a:rect l="l" t="t" r="r" b="b"/>
                <a:pathLst>
                  <a:path w="184" h="707">
                    <a:moveTo>
                      <a:pt x="0" y="209"/>
                    </a:moveTo>
                    <a:lnTo>
                      <a:pt x="183" y="0"/>
                    </a:lnTo>
                    <a:lnTo>
                      <a:pt x="183" y="423"/>
                    </a:lnTo>
                    <a:lnTo>
                      <a:pt x="0" y="706"/>
                    </a:lnTo>
                    <a:lnTo>
                      <a:pt x="0" y="209"/>
                    </a:lnTo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7826400" y="3027240"/>
              <a:ext cx="342720" cy="1360440"/>
              <a:chOff x="7826400" y="3027240"/>
              <a:chExt cx="342720" cy="13604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994520" y="3027240"/>
                <a:ext cx="120600" cy="392400"/>
                <a:chOff x="7994520" y="3027240"/>
                <a:chExt cx="120600" cy="39240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017200" y="3032280"/>
                  <a:ext cx="97920" cy="38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6044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604420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994520" y="3027240"/>
                  <a:ext cx="89280" cy="38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" y="9585"/>
                      </a:moveTo>
                      <a:arcTo wR="10800" hR="10800" stAng="-10412362" swAng="48922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" y="9585"/>
                      </a:moveTo>
                      <a:arcTo wR="10800" hR="10800" stAng="-10412362" swAng="4892282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996320" y="3225960"/>
                  <a:ext cx="39600" cy="172800"/>
                </a:xfrm>
                <a:custGeom>
                  <a:avLst/>
                  <a:gdLst/>
                  <a:ahLst/>
                  <a:rect l="l" t="t" r="r" b="b"/>
                  <a:pathLst>
                    <a:path w="25" h="109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8"/>
                      </a:lnTo>
                      <a:lnTo>
                        <a:pt x="24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066160" y="3247920"/>
                  <a:ext cx="39600" cy="171720"/>
                </a:xfrm>
                <a:custGeom>
                  <a:avLst/>
                  <a:gdLst/>
                  <a:ahLst/>
                  <a:rect l="l" t="t" r="r" b="b"/>
                  <a:pathLst>
                    <a:path w="25" h="108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7"/>
                      </a:lnTo>
                      <a:lnTo>
                        <a:pt x="24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7826400" y="3786120"/>
                <a:ext cx="342720" cy="601560"/>
                <a:chOff x="7826400" y="3786120"/>
                <a:chExt cx="342720" cy="6015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7826400" y="3997440"/>
                  <a:ext cx="342720" cy="390240"/>
                </a:xfrm>
                <a:custGeom>
                  <a:avLst/>
                  <a:gdLst/>
                  <a:ahLst/>
                  <a:rect l="l" t="t" r="r" b="b"/>
                  <a:pathLst>
                    <a:path w="216" h="246">
                      <a:moveTo>
                        <a:pt x="0" y="0"/>
                      </a:moveTo>
                      <a:lnTo>
                        <a:pt x="0" y="153"/>
                      </a:lnTo>
                      <a:lnTo>
                        <a:pt x="215" y="245"/>
                      </a:lnTo>
                      <a:lnTo>
                        <a:pt x="215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831080" y="3786120"/>
                  <a:ext cx="324000" cy="295200"/>
                </a:xfrm>
                <a:custGeom>
                  <a:avLst/>
                  <a:gdLst/>
                  <a:ahLst/>
                  <a:rect l="l" t="t" r="r" b="b"/>
                  <a:pathLst>
                    <a:path w="204" h="186">
                      <a:moveTo>
                        <a:pt x="0" y="0"/>
                      </a:moveTo>
                      <a:lnTo>
                        <a:pt x="0" y="108"/>
                      </a:lnTo>
                      <a:lnTo>
                        <a:pt x="203" y="185"/>
                      </a:lnTo>
                      <a:lnTo>
                        <a:pt x="203" y="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2: Modelo de Localiz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00200" y="1523880"/>
            <a:ext cx="4100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edi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bicación de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Valor del suelo (renta) en cada local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terrenos y tipo de construcción utilizados por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volución de la oferta inmobilia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6039000" y="2201760"/>
          <a:ext cx="295092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9000" y="2201760"/>
                    <a:ext cx="295092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7222320" y="5699160"/>
            <a:ext cx="871200" cy="915120"/>
            <a:chOff x="7222320" y="5699160"/>
            <a:chExt cx="871200" cy="915120"/>
          </a:xfrm>
        </p:grpSpPr>
        <p:sp>
          <p:nvSpPr>
            <p:cNvPr id="489" name=""/>
            <p:cNvSpPr/>
            <p:nvPr/>
          </p:nvSpPr>
          <p:spPr>
            <a:xfrm>
              <a:off x="7222320" y="5851440"/>
              <a:ext cx="6512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56200" y="5699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5715000" y="403848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113440" y="3602160"/>
            <a:ext cx="1197000" cy="476280"/>
            <a:chOff x="5113440" y="3602160"/>
            <a:chExt cx="1197000" cy="476280"/>
          </a:xfrm>
        </p:grpSpPr>
        <p:graphicFrame>
          <p:nvGraphicFramePr>
            <p:cNvPr id="493" name=""/>
            <p:cNvGraphicFramePr/>
            <p:nvPr/>
          </p:nvGraphicFramePr>
          <p:xfrm>
            <a:off x="5113440" y="3602160"/>
            <a:ext cx="1197000" cy="47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13440" y="3602160"/>
                      <a:ext cx="119700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5180400" y="3720960"/>
              <a:ext cx="11102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tabLst>
                  <a:tab algn="l" pos="0"/>
                  <a:tab algn="l" pos="692280"/>
                  <a:tab algn="l" pos="1384200"/>
                  <a:tab algn="l" pos="2076480"/>
                  <a:tab algn="l" pos="2768760"/>
                  <a:tab algn="l" pos="3460680"/>
                  <a:tab algn="l" pos="4152960"/>
                  <a:tab algn="l" pos="4844880"/>
                  <a:tab algn="l" pos="5537160"/>
                  <a:tab algn="l" pos="6229440"/>
                  <a:tab algn="l" pos="6921360"/>
                  <a:tab algn="l" pos="7613640"/>
                  <a:tab algn="l" pos="8305920"/>
                  <a:tab algn="l" pos="8997840"/>
                  <a:tab algn="l" pos="9690120"/>
                  <a:tab algn="l" pos="10382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Times New Roman"/>
                </a:rPr>
                <a:t>Beaucheff/Blan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96" name=""/>
          <p:cNvGraphicFramePr/>
          <p:nvPr/>
        </p:nvGraphicFramePr>
        <p:xfrm>
          <a:off x="6170760" y="5638680"/>
          <a:ext cx="8254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0760" y="5638680"/>
                    <a:ext cx="8254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 flipV="1">
            <a:off x="7086600" y="5410080"/>
            <a:ext cx="7632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7162920" y="5410080"/>
            <a:ext cx="30456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355B-9929-4292-A67A-0C73B086698E}" type="slidenum">
              <a:t>12</a:t>
            </a:fld>
          </a:p>
        </p:txBody>
      </p:sp>
    </p:spTree>
  </p:cSld>
  <p:transition advTm="3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885000" y="2971800"/>
            <a:ext cx="355680" cy="992160"/>
            <a:chOff x="6885000" y="2971800"/>
            <a:chExt cx="355680" cy="992160"/>
          </a:xfrm>
        </p:grpSpPr>
        <p:sp>
          <p:nvSpPr>
            <p:cNvPr id="503" name=""/>
            <p:cNvSpPr/>
            <p:nvPr/>
          </p:nvSpPr>
          <p:spPr>
            <a:xfrm>
              <a:off x="6989760" y="2971800"/>
              <a:ext cx="230040" cy="216000"/>
            </a:xfrm>
            <a:custGeom>
              <a:avLst/>
              <a:gdLst/>
              <a:ahLst/>
              <a:rect l="l" t="t" r="r" b="b"/>
              <a:pathLst>
                <a:path w="145" h="136">
                  <a:moveTo>
                    <a:pt x="0" y="57"/>
                  </a:moveTo>
                  <a:lnTo>
                    <a:pt x="11" y="30"/>
                  </a:lnTo>
                  <a:lnTo>
                    <a:pt x="24" y="16"/>
                  </a:lnTo>
                  <a:lnTo>
                    <a:pt x="42" y="5"/>
                  </a:lnTo>
                  <a:lnTo>
                    <a:pt x="59" y="0"/>
                  </a:lnTo>
                  <a:lnTo>
                    <a:pt x="82" y="2"/>
                  </a:lnTo>
                  <a:lnTo>
                    <a:pt x="97" y="13"/>
                  </a:lnTo>
                  <a:lnTo>
                    <a:pt x="110" y="33"/>
                  </a:lnTo>
                  <a:lnTo>
                    <a:pt x="116" y="60"/>
                  </a:lnTo>
                  <a:lnTo>
                    <a:pt x="116" y="90"/>
                  </a:lnTo>
                  <a:lnTo>
                    <a:pt x="143" y="111"/>
                  </a:lnTo>
                  <a:lnTo>
                    <a:pt x="144" y="120"/>
                  </a:lnTo>
                  <a:lnTo>
                    <a:pt x="140" y="121"/>
                  </a:lnTo>
                  <a:lnTo>
                    <a:pt x="114" y="103"/>
                  </a:lnTo>
                  <a:lnTo>
                    <a:pt x="106" y="116"/>
                  </a:lnTo>
                  <a:lnTo>
                    <a:pt x="90" y="128"/>
                  </a:lnTo>
                  <a:lnTo>
                    <a:pt x="75" y="134"/>
                  </a:lnTo>
                  <a:lnTo>
                    <a:pt x="51" y="135"/>
                  </a:lnTo>
                  <a:lnTo>
                    <a:pt x="20" y="126"/>
                  </a:lnTo>
                  <a:lnTo>
                    <a:pt x="6" y="106"/>
                  </a:lnTo>
                  <a:lnTo>
                    <a:pt x="0" y="86"/>
                  </a:lnTo>
                  <a:lnTo>
                    <a:pt x="0" y="5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67440" y="3203640"/>
              <a:ext cx="204840" cy="345960"/>
            </a:xfrm>
            <a:custGeom>
              <a:avLst/>
              <a:gdLst/>
              <a:ahLst/>
              <a:rect l="l" t="t" r="r" b="b"/>
              <a:pathLst>
                <a:path w="129" h="218">
                  <a:moveTo>
                    <a:pt x="18" y="14"/>
                  </a:moveTo>
                  <a:lnTo>
                    <a:pt x="34" y="4"/>
                  </a:lnTo>
                  <a:lnTo>
                    <a:pt x="52" y="1"/>
                  </a:lnTo>
                  <a:lnTo>
                    <a:pt x="70" y="0"/>
                  </a:lnTo>
                  <a:lnTo>
                    <a:pt x="93" y="2"/>
                  </a:lnTo>
                  <a:lnTo>
                    <a:pt x="118" y="14"/>
                  </a:lnTo>
                  <a:lnTo>
                    <a:pt x="128" y="34"/>
                  </a:lnTo>
                  <a:lnTo>
                    <a:pt x="128" y="66"/>
                  </a:lnTo>
                  <a:lnTo>
                    <a:pt x="127" y="96"/>
                  </a:lnTo>
                  <a:lnTo>
                    <a:pt x="114" y="142"/>
                  </a:lnTo>
                  <a:lnTo>
                    <a:pt x="104" y="180"/>
                  </a:lnTo>
                  <a:lnTo>
                    <a:pt x="93" y="204"/>
                  </a:lnTo>
                  <a:lnTo>
                    <a:pt x="69" y="217"/>
                  </a:lnTo>
                  <a:lnTo>
                    <a:pt x="34" y="214"/>
                  </a:lnTo>
                  <a:lnTo>
                    <a:pt x="17" y="195"/>
                  </a:lnTo>
                  <a:lnTo>
                    <a:pt x="7" y="166"/>
                  </a:lnTo>
                  <a:lnTo>
                    <a:pt x="1" y="135"/>
                  </a:lnTo>
                  <a:lnTo>
                    <a:pt x="0" y="87"/>
                  </a:lnTo>
                  <a:lnTo>
                    <a:pt x="4" y="54"/>
                  </a:lnTo>
                  <a:lnTo>
                    <a:pt x="11" y="24"/>
                  </a:lnTo>
                  <a:lnTo>
                    <a:pt x="18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85000" y="3201840"/>
              <a:ext cx="122400" cy="427320"/>
            </a:xfrm>
            <a:custGeom>
              <a:avLst/>
              <a:gdLst/>
              <a:ahLst/>
              <a:rect l="l" t="t" r="r" b="b"/>
              <a:pathLst>
                <a:path w="77" h="269">
                  <a:moveTo>
                    <a:pt x="52" y="2"/>
                  </a:moveTo>
                  <a:lnTo>
                    <a:pt x="70" y="0"/>
                  </a:lnTo>
                  <a:lnTo>
                    <a:pt x="76" y="12"/>
                  </a:lnTo>
                  <a:lnTo>
                    <a:pt x="66" y="27"/>
                  </a:lnTo>
                  <a:lnTo>
                    <a:pt x="53" y="35"/>
                  </a:lnTo>
                  <a:lnTo>
                    <a:pt x="41" y="55"/>
                  </a:lnTo>
                  <a:lnTo>
                    <a:pt x="28" y="82"/>
                  </a:lnTo>
                  <a:lnTo>
                    <a:pt x="22" y="107"/>
                  </a:lnTo>
                  <a:lnTo>
                    <a:pt x="19" y="150"/>
                  </a:lnTo>
                  <a:lnTo>
                    <a:pt x="22" y="190"/>
                  </a:lnTo>
                  <a:lnTo>
                    <a:pt x="29" y="208"/>
                  </a:lnTo>
                  <a:lnTo>
                    <a:pt x="24" y="228"/>
                  </a:lnTo>
                  <a:lnTo>
                    <a:pt x="19" y="243"/>
                  </a:lnTo>
                  <a:lnTo>
                    <a:pt x="21" y="268"/>
                  </a:lnTo>
                  <a:lnTo>
                    <a:pt x="12" y="266"/>
                  </a:lnTo>
                  <a:lnTo>
                    <a:pt x="4" y="246"/>
                  </a:lnTo>
                  <a:lnTo>
                    <a:pt x="0" y="228"/>
                  </a:lnTo>
                  <a:lnTo>
                    <a:pt x="11" y="205"/>
                  </a:lnTo>
                  <a:lnTo>
                    <a:pt x="7" y="183"/>
                  </a:lnTo>
                  <a:lnTo>
                    <a:pt x="4" y="148"/>
                  </a:lnTo>
                  <a:lnTo>
                    <a:pt x="4" y="105"/>
                  </a:lnTo>
                  <a:lnTo>
                    <a:pt x="11" y="61"/>
                  </a:lnTo>
                  <a:lnTo>
                    <a:pt x="22" y="27"/>
                  </a:lnTo>
                  <a:lnTo>
                    <a:pt x="35" y="10"/>
                  </a:lnTo>
                  <a:lnTo>
                    <a:pt x="52" y="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47080" y="3213000"/>
              <a:ext cx="77760" cy="405000"/>
            </a:xfrm>
            <a:custGeom>
              <a:avLst/>
              <a:gdLst/>
              <a:ahLst/>
              <a:rect l="l" t="t" r="r" b="b"/>
              <a:pathLst>
                <a:path w="49" h="255">
                  <a:moveTo>
                    <a:pt x="1" y="1"/>
                  </a:moveTo>
                  <a:lnTo>
                    <a:pt x="21" y="0"/>
                  </a:lnTo>
                  <a:lnTo>
                    <a:pt x="34" y="20"/>
                  </a:lnTo>
                  <a:lnTo>
                    <a:pt x="48" y="75"/>
                  </a:lnTo>
                  <a:lnTo>
                    <a:pt x="48" y="139"/>
                  </a:lnTo>
                  <a:lnTo>
                    <a:pt x="41" y="193"/>
                  </a:lnTo>
                  <a:lnTo>
                    <a:pt x="48" y="212"/>
                  </a:lnTo>
                  <a:lnTo>
                    <a:pt x="48" y="237"/>
                  </a:lnTo>
                  <a:lnTo>
                    <a:pt x="41" y="254"/>
                  </a:lnTo>
                  <a:lnTo>
                    <a:pt x="32" y="238"/>
                  </a:lnTo>
                  <a:lnTo>
                    <a:pt x="27" y="214"/>
                  </a:lnTo>
                  <a:lnTo>
                    <a:pt x="17" y="196"/>
                  </a:lnTo>
                  <a:lnTo>
                    <a:pt x="29" y="179"/>
                  </a:lnTo>
                  <a:lnTo>
                    <a:pt x="36" y="139"/>
                  </a:lnTo>
                  <a:lnTo>
                    <a:pt x="36" y="101"/>
                  </a:lnTo>
                  <a:lnTo>
                    <a:pt x="29" y="64"/>
                  </a:lnTo>
                  <a:lnTo>
                    <a:pt x="15" y="36"/>
                  </a:lnTo>
                  <a:lnTo>
                    <a:pt x="0" y="23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67440" y="3478320"/>
              <a:ext cx="173160" cy="485640"/>
            </a:xfrm>
            <a:custGeom>
              <a:avLst/>
              <a:gdLst/>
              <a:ahLst/>
              <a:rect l="l" t="t" r="r" b="b"/>
              <a:pathLst>
                <a:path w="109" h="306">
                  <a:moveTo>
                    <a:pt x="10" y="0"/>
                  </a:moveTo>
                  <a:lnTo>
                    <a:pt x="23" y="13"/>
                  </a:lnTo>
                  <a:lnTo>
                    <a:pt x="28" y="26"/>
                  </a:lnTo>
                  <a:lnTo>
                    <a:pt x="33" y="70"/>
                  </a:lnTo>
                  <a:lnTo>
                    <a:pt x="35" y="100"/>
                  </a:lnTo>
                  <a:lnTo>
                    <a:pt x="35" y="150"/>
                  </a:lnTo>
                  <a:lnTo>
                    <a:pt x="35" y="198"/>
                  </a:lnTo>
                  <a:lnTo>
                    <a:pt x="30" y="236"/>
                  </a:lnTo>
                  <a:lnTo>
                    <a:pt x="26" y="248"/>
                  </a:lnTo>
                  <a:lnTo>
                    <a:pt x="52" y="254"/>
                  </a:lnTo>
                  <a:lnTo>
                    <a:pt x="74" y="262"/>
                  </a:lnTo>
                  <a:lnTo>
                    <a:pt x="105" y="277"/>
                  </a:lnTo>
                  <a:lnTo>
                    <a:pt x="108" y="284"/>
                  </a:lnTo>
                  <a:lnTo>
                    <a:pt x="105" y="295"/>
                  </a:lnTo>
                  <a:lnTo>
                    <a:pt x="90" y="305"/>
                  </a:lnTo>
                  <a:lnTo>
                    <a:pt x="85" y="300"/>
                  </a:lnTo>
                  <a:lnTo>
                    <a:pt x="79" y="287"/>
                  </a:lnTo>
                  <a:lnTo>
                    <a:pt x="65" y="276"/>
                  </a:lnTo>
                  <a:lnTo>
                    <a:pt x="41" y="264"/>
                  </a:lnTo>
                  <a:lnTo>
                    <a:pt x="25" y="262"/>
                  </a:lnTo>
                  <a:lnTo>
                    <a:pt x="6" y="262"/>
                  </a:lnTo>
                  <a:lnTo>
                    <a:pt x="6" y="252"/>
                  </a:lnTo>
                  <a:lnTo>
                    <a:pt x="15" y="241"/>
                  </a:lnTo>
                  <a:lnTo>
                    <a:pt x="23" y="207"/>
                  </a:lnTo>
                  <a:lnTo>
                    <a:pt x="26" y="172"/>
                  </a:lnTo>
                  <a:lnTo>
                    <a:pt x="25" y="140"/>
                  </a:lnTo>
                  <a:lnTo>
                    <a:pt x="23" y="100"/>
                  </a:lnTo>
                  <a:lnTo>
                    <a:pt x="18" y="65"/>
                  </a:lnTo>
                  <a:lnTo>
                    <a:pt x="7" y="39"/>
                  </a:lnTo>
                  <a:lnTo>
                    <a:pt x="0" y="16"/>
                  </a:lnTo>
                  <a:lnTo>
                    <a:pt x="2" y="8"/>
                  </a:lnTo>
                  <a:lnTo>
                    <a:pt x="1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081920" y="3479760"/>
              <a:ext cx="158760" cy="436680"/>
            </a:xfrm>
            <a:custGeom>
              <a:avLst/>
              <a:gdLst/>
              <a:ahLst/>
              <a:rect l="l" t="t" r="r" b="b"/>
              <a:pathLst>
                <a:path w="100" h="275">
                  <a:moveTo>
                    <a:pt x="0" y="21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37" y="10"/>
                  </a:lnTo>
                  <a:lnTo>
                    <a:pt x="40" y="19"/>
                  </a:lnTo>
                  <a:lnTo>
                    <a:pt x="37" y="39"/>
                  </a:lnTo>
                  <a:lnTo>
                    <a:pt x="30" y="64"/>
                  </a:lnTo>
                  <a:lnTo>
                    <a:pt x="26" y="102"/>
                  </a:lnTo>
                  <a:lnTo>
                    <a:pt x="24" y="127"/>
                  </a:lnTo>
                  <a:lnTo>
                    <a:pt x="24" y="132"/>
                  </a:lnTo>
                  <a:lnTo>
                    <a:pt x="27" y="167"/>
                  </a:lnTo>
                  <a:lnTo>
                    <a:pt x="33" y="187"/>
                  </a:lnTo>
                  <a:lnTo>
                    <a:pt x="37" y="202"/>
                  </a:lnTo>
                  <a:lnTo>
                    <a:pt x="36" y="209"/>
                  </a:lnTo>
                  <a:lnTo>
                    <a:pt x="51" y="227"/>
                  </a:lnTo>
                  <a:lnTo>
                    <a:pt x="67" y="239"/>
                  </a:lnTo>
                  <a:lnTo>
                    <a:pt x="84" y="250"/>
                  </a:lnTo>
                  <a:lnTo>
                    <a:pt x="99" y="255"/>
                  </a:lnTo>
                  <a:lnTo>
                    <a:pt x="99" y="264"/>
                  </a:lnTo>
                  <a:lnTo>
                    <a:pt x="91" y="272"/>
                  </a:lnTo>
                  <a:lnTo>
                    <a:pt x="72" y="274"/>
                  </a:lnTo>
                  <a:lnTo>
                    <a:pt x="58" y="269"/>
                  </a:lnTo>
                  <a:lnTo>
                    <a:pt x="58" y="262"/>
                  </a:lnTo>
                  <a:lnTo>
                    <a:pt x="46" y="239"/>
                  </a:lnTo>
                  <a:lnTo>
                    <a:pt x="27" y="227"/>
                  </a:lnTo>
                  <a:lnTo>
                    <a:pt x="13" y="214"/>
                  </a:lnTo>
                  <a:lnTo>
                    <a:pt x="3" y="207"/>
                  </a:lnTo>
                  <a:lnTo>
                    <a:pt x="6" y="199"/>
                  </a:lnTo>
                  <a:lnTo>
                    <a:pt x="12" y="177"/>
                  </a:lnTo>
                  <a:lnTo>
                    <a:pt x="12" y="134"/>
                  </a:lnTo>
                  <a:lnTo>
                    <a:pt x="10" y="104"/>
                  </a:lnTo>
                  <a:lnTo>
                    <a:pt x="10" y="74"/>
                  </a:lnTo>
                  <a:lnTo>
                    <a:pt x="9" y="41"/>
                  </a:lnTo>
                  <a:lnTo>
                    <a:pt x="0" y="2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553080" y="3029040"/>
            <a:ext cx="265320" cy="814320"/>
            <a:chOff x="6553080" y="3029040"/>
            <a:chExt cx="265320" cy="814320"/>
          </a:xfrm>
        </p:grpSpPr>
        <p:sp>
          <p:nvSpPr>
            <p:cNvPr id="510" name=""/>
            <p:cNvSpPr/>
            <p:nvPr/>
          </p:nvSpPr>
          <p:spPr>
            <a:xfrm>
              <a:off x="6630840" y="3029040"/>
              <a:ext cx="173160" cy="176040"/>
            </a:xfrm>
            <a:custGeom>
              <a:avLst/>
              <a:gdLst/>
              <a:ahLst/>
              <a:rect l="l" t="t" r="r" b="b"/>
              <a:pathLst>
                <a:path w="109" h="111">
                  <a:moveTo>
                    <a:pt x="0" y="46"/>
                  </a:moveTo>
                  <a:lnTo>
                    <a:pt x="7" y="24"/>
                  </a:lnTo>
                  <a:lnTo>
                    <a:pt x="18" y="12"/>
                  </a:lnTo>
                  <a:lnTo>
                    <a:pt x="31" y="4"/>
                  </a:lnTo>
                  <a:lnTo>
                    <a:pt x="44" y="0"/>
                  </a:lnTo>
                  <a:lnTo>
                    <a:pt x="61" y="1"/>
                  </a:lnTo>
                  <a:lnTo>
                    <a:pt x="72" y="10"/>
                  </a:lnTo>
                  <a:lnTo>
                    <a:pt x="83" y="26"/>
                  </a:lnTo>
                  <a:lnTo>
                    <a:pt x="87" y="48"/>
                  </a:lnTo>
                  <a:lnTo>
                    <a:pt x="87" y="73"/>
                  </a:lnTo>
                  <a:lnTo>
                    <a:pt x="108" y="90"/>
                  </a:lnTo>
                  <a:lnTo>
                    <a:pt x="108" y="97"/>
                  </a:lnTo>
                  <a:lnTo>
                    <a:pt x="105" y="98"/>
                  </a:lnTo>
                  <a:lnTo>
                    <a:pt x="85" y="83"/>
                  </a:lnTo>
                  <a:lnTo>
                    <a:pt x="79" y="94"/>
                  </a:lnTo>
                  <a:lnTo>
                    <a:pt x="67" y="104"/>
                  </a:lnTo>
                  <a:lnTo>
                    <a:pt x="56" y="108"/>
                  </a:lnTo>
                  <a:lnTo>
                    <a:pt x="38" y="110"/>
                  </a:lnTo>
                  <a:lnTo>
                    <a:pt x="15" y="102"/>
                  </a:lnTo>
                  <a:lnTo>
                    <a:pt x="4" y="86"/>
                  </a:lnTo>
                  <a:lnTo>
                    <a:pt x="0" y="69"/>
                  </a:lnTo>
                  <a:lnTo>
                    <a:pt x="0" y="4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13560" y="3218040"/>
              <a:ext cx="152280" cy="284040"/>
            </a:xfrm>
            <a:custGeom>
              <a:avLst/>
              <a:gdLst/>
              <a:ahLst/>
              <a:rect l="l" t="t" r="r" b="b"/>
              <a:pathLst>
                <a:path w="96" h="179">
                  <a:moveTo>
                    <a:pt x="14" y="11"/>
                  </a:moveTo>
                  <a:lnTo>
                    <a:pt x="26" y="4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9" y="2"/>
                  </a:lnTo>
                  <a:lnTo>
                    <a:pt x="88" y="11"/>
                  </a:lnTo>
                  <a:lnTo>
                    <a:pt x="95" y="29"/>
                  </a:lnTo>
                  <a:lnTo>
                    <a:pt x="95" y="55"/>
                  </a:lnTo>
                  <a:lnTo>
                    <a:pt x="95" y="79"/>
                  </a:lnTo>
                  <a:lnTo>
                    <a:pt x="85" y="117"/>
                  </a:lnTo>
                  <a:lnTo>
                    <a:pt x="78" y="148"/>
                  </a:lnTo>
                  <a:lnTo>
                    <a:pt x="69" y="168"/>
                  </a:lnTo>
                  <a:lnTo>
                    <a:pt x="51" y="178"/>
                  </a:lnTo>
                  <a:lnTo>
                    <a:pt x="26" y="176"/>
                  </a:lnTo>
                  <a:lnTo>
                    <a:pt x="13" y="160"/>
                  </a:lnTo>
                  <a:lnTo>
                    <a:pt x="6" y="137"/>
                  </a:lnTo>
                  <a:lnTo>
                    <a:pt x="1" y="111"/>
                  </a:lnTo>
                  <a:lnTo>
                    <a:pt x="0" y="72"/>
                  </a:lnTo>
                  <a:lnTo>
                    <a:pt x="4" y="44"/>
                  </a:lnTo>
                  <a:lnTo>
                    <a:pt x="9" y="20"/>
                  </a:lnTo>
                  <a:lnTo>
                    <a:pt x="14" y="1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53080" y="3218040"/>
              <a:ext cx="90720" cy="349200"/>
            </a:xfrm>
            <a:custGeom>
              <a:avLst/>
              <a:gdLst/>
              <a:ahLst/>
              <a:rect l="l" t="t" r="r" b="b"/>
              <a:pathLst>
                <a:path w="57" h="220">
                  <a:moveTo>
                    <a:pt x="38" y="1"/>
                  </a:moveTo>
                  <a:lnTo>
                    <a:pt x="52" y="0"/>
                  </a:lnTo>
                  <a:lnTo>
                    <a:pt x="56" y="10"/>
                  </a:lnTo>
                  <a:lnTo>
                    <a:pt x="49" y="22"/>
                  </a:lnTo>
                  <a:lnTo>
                    <a:pt x="39" y="29"/>
                  </a:lnTo>
                  <a:lnTo>
                    <a:pt x="31" y="45"/>
                  </a:lnTo>
                  <a:lnTo>
                    <a:pt x="20" y="67"/>
                  </a:lnTo>
                  <a:lnTo>
                    <a:pt x="16" y="88"/>
                  </a:lnTo>
                  <a:lnTo>
                    <a:pt x="13" y="123"/>
                  </a:lnTo>
                  <a:lnTo>
                    <a:pt x="16" y="156"/>
                  </a:lnTo>
                  <a:lnTo>
                    <a:pt x="21" y="171"/>
                  </a:lnTo>
                  <a:lnTo>
                    <a:pt x="18" y="187"/>
                  </a:lnTo>
                  <a:lnTo>
                    <a:pt x="13" y="199"/>
                  </a:lnTo>
                  <a:lnTo>
                    <a:pt x="15" y="219"/>
                  </a:lnTo>
                  <a:lnTo>
                    <a:pt x="8" y="218"/>
                  </a:lnTo>
                  <a:lnTo>
                    <a:pt x="3" y="201"/>
                  </a:lnTo>
                  <a:lnTo>
                    <a:pt x="0" y="187"/>
                  </a:lnTo>
                  <a:lnTo>
                    <a:pt x="8" y="168"/>
                  </a:lnTo>
                  <a:lnTo>
                    <a:pt x="5" y="150"/>
                  </a:lnTo>
                  <a:lnTo>
                    <a:pt x="3" y="121"/>
                  </a:lnTo>
                  <a:lnTo>
                    <a:pt x="3" y="86"/>
                  </a:lnTo>
                  <a:lnTo>
                    <a:pt x="8" y="49"/>
                  </a:lnTo>
                  <a:lnTo>
                    <a:pt x="16" y="22"/>
                  </a:lnTo>
                  <a:lnTo>
                    <a:pt x="25" y="8"/>
                  </a:lnTo>
                  <a:lnTo>
                    <a:pt x="3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50000" y="3225960"/>
              <a:ext cx="57240" cy="333360"/>
            </a:xfrm>
            <a:custGeom>
              <a:avLst/>
              <a:gdLst/>
              <a:ahLst/>
              <a:rect l="l" t="t" r="r" b="b"/>
              <a:pathLst>
                <a:path w="36" h="210">
                  <a:moveTo>
                    <a:pt x="0" y="1"/>
                  </a:moveTo>
                  <a:lnTo>
                    <a:pt x="15" y="0"/>
                  </a:lnTo>
                  <a:lnTo>
                    <a:pt x="25" y="17"/>
                  </a:lnTo>
                  <a:lnTo>
                    <a:pt x="35" y="62"/>
                  </a:lnTo>
                  <a:lnTo>
                    <a:pt x="35" y="114"/>
                  </a:lnTo>
                  <a:lnTo>
                    <a:pt x="30" y="158"/>
                  </a:lnTo>
                  <a:lnTo>
                    <a:pt x="35" y="173"/>
                  </a:lnTo>
                  <a:lnTo>
                    <a:pt x="35" y="194"/>
                  </a:lnTo>
                  <a:lnTo>
                    <a:pt x="30" y="209"/>
                  </a:lnTo>
                  <a:lnTo>
                    <a:pt x="23" y="195"/>
                  </a:lnTo>
                  <a:lnTo>
                    <a:pt x="20" y="175"/>
                  </a:lnTo>
                  <a:lnTo>
                    <a:pt x="12" y="160"/>
                  </a:lnTo>
                  <a:lnTo>
                    <a:pt x="21" y="147"/>
                  </a:lnTo>
                  <a:lnTo>
                    <a:pt x="26" y="114"/>
                  </a:lnTo>
                  <a:lnTo>
                    <a:pt x="26" y="83"/>
                  </a:lnTo>
                  <a:lnTo>
                    <a:pt x="21" y="52"/>
                  </a:lnTo>
                  <a:lnTo>
                    <a:pt x="10" y="30"/>
                  </a:lnTo>
                  <a:lnTo>
                    <a:pt x="0" y="19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15000" y="3444840"/>
              <a:ext cx="128880" cy="398520"/>
            </a:xfrm>
            <a:custGeom>
              <a:avLst/>
              <a:gdLst/>
              <a:ahLst/>
              <a:rect l="l" t="t" r="r" b="b"/>
              <a:pathLst>
                <a:path w="81" h="251">
                  <a:moveTo>
                    <a:pt x="7" y="0"/>
                  </a:moveTo>
                  <a:lnTo>
                    <a:pt x="17" y="10"/>
                  </a:lnTo>
                  <a:lnTo>
                    <a:pt x="20" y="21"/>
                  </a:lnTo>
                  <a:lnTo>
                    <a:pt x="24" y="57"/>
                  </a:lnTo>
                  <a:lnTo>
                    <a:pt x="26" y="81"/>
                  </a:lnTo>
                  <a:lnTo>
                    <a:pt x="26" y="123"/>
                  </a:lnTo>
                  <a:lnTo>
                    <a:pt x="25" y="162"/>
                  </a:lnTo>
                  <a:lnTo>
                    <a:pt x="22" y="194"/>
                  </a:lnTo>
                  <a:lnTo>
                    <a:pt x="19" y="203"/>
                  </a:lnTo>
                  <a:lnTo>
                    <a:pt x="38" y="208"/>
                  </a:lnTo>
                  <a:lnTo>
                    <a:pt x="55" y="215"/>
                  </a:lnTo>
                  <a:lnTo>
                    <a:pt x="77" y="227"/>
                  </a:lnTo>
                  <a:lnTo>
                    <a:pt x="80" y="233"/>
                  </a:lnTo>
                  <a:lnTo>
                    <a:pt x="78" y="242"/>
                  </a:lnTo>
                  <a:lnTo>
                    <a:pt x="67" y="250"/>
                  </a:lnTo>
                  <a:lnTo>
                    <a:pt x="62" y="246"/>
                  </a:lnTo>
                  <a:lnTo>
                    <a:pt x="59" y="235"/>
                  </a:lnTo>
                  <a:lnTo>
                    <a:pt x="48" y="227"/>
                  </a:lnTo>
                  <a:lnTo>
                    <a:pt x="30" y="217"/>
                  </a:lnTo>
                  <a:lnTo>
                    <a:pt x="18" y="215"/>
                  </a:lnTo>
                  <a:lnTo>
                    <a:pt x="4" y="215"/>
                  </a:lnTo>
                  <a:lnTo>
                    <a:pt x="4" y="207"/>
                  </a:lnTo>
                  <a:lnTo>
                    <a:pt x="10" y="198"/>
                  </a:lnTo>
                  <a:lnTo>
                    <a:pt x="17" y="170"/>
                  </a:lnTo>
                  <a:lnTo>
                    <a:pt x="19" y="140"/>
                  </a:lnTo>
                  <a:lnTo>
                    <a:pt x="18" y="115"/>
                  </a:lnTo>
                  <a:lnTo>
                    <a:pt x="17" y="81"/>
                  </a:lnTo>
                  <a:lnTo>
                    <a:pt x="13" y="53"/>
                  </a:lnTo>
                  <a:lnTo>
                    <a:pt x="5" y="32"/>
                  </a:lnTo>
                  <a:lnTo>
                    <a:pt x="0" y="13"/>
                  </a:lnTo>
                  <a:lnTo>
                    <a:pt x="1" y="6"/>
                  </a:lnTo>
                  <a:lnTo>
                    <a:pt x="7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699240" y="3444840"/>
              <a:ext cx="119160" cy="35892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0" y="18"/>
                  </a:moveTo>
                  <a:lnTo>
                    <a:pt x="0" y="3"/>
                  </a:lnTo>
                  <a:lnTo>
                    <a:pt x="8" y="0"/>
                  </a:lnTo>
                  <a:lnTo>
                    <a:pt x="19" y="0"/>
                  </a:lnTo>
                  <a:lnTo>
                    <a:pt x="28" y="8"/>
                  </a:lnTo>
                  <a:lnTo>
                    <a:pt x="30" y="16"/>
                  </a:lnTo>
                  <a:lnTo>
                    <a:pt x="28" y="32"/>
                  </a:lnTo>
                  <a:lnTo>
                    <a:pt x="22" y="53"/>
                  </a:lnTo>
                  <a:lnTo>
                    <a:pt x="19" y="84"/>
                  </a:lnTo>
                  <a:lnTo>
                    <a:pt x="18" y="105"/>
                  </a:lnTo>
                  <a:lnTo>
                    <a:pt x="18" y="108"/>
                  </a:lnTo>
                  <a:lnTo>
                    <a:pt x="20" y="137"/>
                  </a:lnTo>
                  <a:lnTo>
                    <a:pt x="25" y="153"/>
                  </a:lnTo>
                  <a:lnTo>
                    <a:pt x="28" y="166"/>
                  </a:lnTo>
                  <a:lnTo>
                    <a:pt x="27" y="172"/>
                  </a:lnTo>
                  <a:lnTo>
                    <a:pt x="38" y="187"/>
                  </a:lnTo>
                  <a:lnTo>
                    <a:pt x="50" y="197"/>
                  </a:lnTo>
                  <a:lnTo>
                    <a:pt x="63" y="205"/>
                  </a:lnTo>
                  <a:lnTo>
                    <a:pt x="74" y="210"/>
                  </a:lnTo>
                  <a:lnTo>
                    <a:pt x="74" y="217"/>
                  </a:lnTo>
                  <a:lnTo>
                    <a:pt x="69" y="223"/>
                  </a:lnTo>
                  <a:lnTo>
                    <a:pt x="54" y="225"/>
                  </a:lnTo>
                  <a:lnTo>
                    <a:pt x="43" y="221"/>
                  </a:lnTo>
                  <a:lnTo>
                    <a:pt x="43" y="216"/>
                  </a:lnTo>
                  <a:lnTo>
                    <a:pt x="35" y="197"/>
                  </a:lnTo>
                  <a:lnTo>
                    <a:pt x="20" y="186"/>
                  </a:lnTo>
                  <a:lnTo>
                    <a:pt x="10" y="176"/>
                  </a:lnTo>
                  <a:lnTo>
                    <a:pt x="2" y="171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9" y="110"/>
                  </a:lnTo>
                  <a:lnTo>
                    <a:pt x="8" y="86"/>
                  </a:lnTo>
                  <a:lnTo>
                    <a:pt x="8" y="61"/>
                  </a:lnTo>
                  <a:lnTo>
                    <a:pt x="7" y="34"/>
                  </a:lnTo>
                  <a:lnTo>
                    <a:pt x="0" y="18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070680" y="3198960"/>
            <a:ext cx="139680" cy="523800"/>
            <a:chOff x="6070680" y="3198960"/>
            <a:chExt cx="139680" cy="523800"/>
          </a:xfrm>
        </p:grpSpPr>
        <p:sp>
          <p:nvSpPr>
            <p:cNvPr id="517" name=""/>
            <p:cNvSpPr/>
            <p:nvPr/>
          </p:nvSpPr>
          <p:spPr>
            <a:xfrm>
              <a:off x="6110280" y="3198960"/>
              <a:ext cx="92160" cy="11268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0" y="30"/>
                  </a:moveTo>
                  <a:lnTo>
                    <a:pt x="4" y="15"/>
                  </a:lnTo>
                  <a:lnTo>
                    <a:pt x="9" y="7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38" y="6"/>
                  </a:lnTo>
                  <a:lnTo>
                    <a:pt x="43" y="17"/>
                  </a:lnTo>
                  <a:lnTo>
                    <a:pt x="45" y="31"/>
                  </a:lnTo>
                  <a:lnTo>
                    <a:pt x="45" y="47"/>
                  </a:lnTo>
                  <a:lnTo>
                    <a:pt x="56" y="58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44" y="53"/>
                  </a:lnTo>
                  <a:lnTo>
                    <a:pt x="41" y="60"/>
                  </a:lnTo>
                  <a:lnTo>
                    <a:pt x="35" y="66"/>
                  </a:lnTo>
                  <a:lnTo>
                    <a:pt x="29" y="70"/>
                  </a:lnTo>
                  <a:lnTo>
                    <a:pt x="20" y="70"/>
                  </a:lnTo>
                  <a:lnTo>
                    <a:pt x="7" y="66"/>
                  </a:lnTo>
                  <a:lnTo>
                    <a:pt x="2" y="55"/>
                  </a:lnTo>
                  <a:lnTo>
                    <a:pt x="0" y="44"/>
                  </a:lnTo>
                  <a:lnTo>
                    <a:pt x="0" y="3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02360" y="3321000"/>
              <a:ext cx="81000" cy="181080"/>
            </a:xfrm>
            <a:custGeom>
              <a:avLst/>
              <a:gdLst/>
              <a:ahLst/>
              <a:rect l="l" t="t" r="r" b="b"/>
              <a:pathLst>
                <a:path w="51" h="114">
                  <a:moveTo>
                    <a:pt x="7" y="7"/>
                  </a:moveTo>
                  <a:lnTo>
                    <a:pt x="13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6" y="7"/>
                  </a:lnTo>
                  <a:lnTo>
                    <a:pt x="50" y="18"/>
                  </a:lnTo>
                  <a:lnTo>
                    <a:pt x="50" y="35"/>
                  </a:lnTo>
                  <a:lnTo>
                    <a:pt x="50" y="50"/>
                  </a:lnTo>
                  <a:lnTo>
                    <a:pt x="45" y="75"/>
                  </a:lnTo>
                  <a:lnTo>
                    <a:pt x="41" y="94"/>
                  </a:lnTo>
                  <a:lnTo>
                    <a:pt x="36" y="107"/>
                  </a:lnTo>
                  <a:lnTo>
                    <a:pt x="27" y="113"/>
                  </a:lnTo>
                  <a:lnTo>
                    <a:pt x="13" y="112"/>
                  </a:lnTo>
                  <a:lnTo>
                    <a:pt x="6" y="102"/>
                  </a:lnTo>
                  <a:lnTo>
                    <a:pt x="2" y="87"/>
                  </a:lnTo>
                  <a:lnTo>
                    <a:pt x="0" y="71"/>
                  </a:lnTo>
                  <a:lnTo>
                    <a:pt x="0" y="46"/>
                  </a:lnTo>
                  <a:lnTo>
                    <a:pt x="2" y="28"/>
                  </a:lnTo>
                  <a:lnTo>
                    <a:pt x="4" y="12"/>
                  </a:lnTo>
                  <a:lnTo>
                    <a:pt x="7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70680" y="3321000"/>
              <a:ext cx="47520" cy="223920"/>
            </a:xfrm>
            <a:custGeom>
              <a:avLst/>
              <a:gdLst/>
              <a:ahLst/>
              <a:rect l="l" t="t" r="r" b="b"/>
              <a:pathLst>
                <a:path w="30" h="141">
                  <a:moveTo>
                    <a:pt x="20" y="1"/>
                  </a:moveTo>
                  <a:lnTo>
                    <a:pt x="26" y="0"/>
                  </a:lnTo>
                  <a:lnTo>
                    <a:pt x="29" y="6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9"/>
                  </a:lnTo>
                  <a:lnTo>
                    <a:pt x="10" y="43"/>
                  </a:lnTo>
                  <a:lnTo>
                    <a:pt x="8" y="56"/>
                  </a:lnTo>
                  <a:lnTo>
                    <a:pt x="7" y="78"/>
                  </a:lnTo>
                  <a:lnTo>
                    <a:pt x="8" y="99"/>
                  </a:lnTo>
                  <a:lnTo>
                    <a:pt x="11" y="109"/>
                  </a:lnTo>
                  <a:lnTo>
                    <a:pt x="9" y="120"/>
                  </a:lnTo>
                  <a:lnTo>
                    <a:pt x="7" y="128"/>
                  </a:lnTo>
                  <a:lnTo>
                    <a:pt x="7" y="140"/>
                  </a:lnTo>
                  <a:lnTo>
                    <a:pt x="4" y="139"/>
                  </a:lnTo>
                  <a:lnTo>
                    <a:pt x="1" y="129"/>
                  </a:lnTo>
                  <a:lnTo>
                    <a:pt x="0" y="120"/>
                  </a:lnTo>
                  <a:lnTo>
                    <a:pt x="4" y="107"/>
                  </a:lnTo>
                  <a:lnTo>
                    <a:pt x="2" y="96"/>
                  </a:lnTo>
                  <a:lnTo>
                    <a:pt x="1" y="77"/>
                  </a:lnTo>
                  <a:lnTo>
                    <a:pt x="1" y="55"/>
                  </a:lnTo>
                  <a:lnTo>
                    <a:pt x="4" y="31"/>
                  </a:lnTo>
                  <a:lnTo>
                    <a:pt x="8" y="14"/>
                  </a:lnTo>
                  <a:lnTo>
                    <a:pt x="13" y="5"/>
                  </a:lnTo>
                  <a:lnTo>
                    <a:pt x="2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73640" y="3324240"/>
              <a:ext cx="30240" cy="216000"/>
            </a:xfrm>
            <a:custGeom>
              <a:avLst/>
              <a:gdLst/>
              <a:ahLst/>
              <a:rect l="l" t="t" r="r" b="b"/>
              <a:pathLst>
                <a:path w="19" h="136">
                  <a:moveTo>
                    <a:pt x="0" y="1"/>
                  </a:moveTo>
                  <a:lnTo>
                    <a:pt x="7" y="0"/>
                  </a:lnTo>
                  <a:lnTo>
                    <a:pt x="12" y="11"/>
                  </a:lnTo>
                  <a:lnTo>
                    <a:pt x="18" y="40"/>
                  </a:lnTo>
                  <a:lnTo>
                    <a:pt x="18" y="74"/>
                  </a:lnTo>
                  <a:lnTo>
                    <a:pt x="15" y="102"/>
                  </a:lnTo>
                  <a:lnTo>
                    <a:pt x="18" y="112"/>
                  </a:lnTo>
                  <a:lnTo>
                    <a:pt x="18" y="125"/>
                  </a:lnTo>
                  <a:lnTo>
                    <a:pt x="15" y="135"/>
                  </a:lnTo>
                  <a:lnTo>
                    <a:pt x="11" y="126"/>
                  </a:lnTo>
                  <a:lnTo>
                    <a:pt x="10" y="113"/>
                  </a:lnTo>
                  <a:lnTo>
                    <a:pt x="6" y="104"/>
                  </a:lnTo>
                  <a:lnTo>
                    <a:pt x="10" y="95"/>
                  </a:lnTo>
                  <a:lnTo>
                    <a:pt x="13" y="74"/>
                  </a:lnTo>
                  <a:lnTo>
                    <a:pt x="13" y="54"/>
                  </a:lnTo>
                  <a:lnTo>
                    <a:pt x="10" y="34"/>
                  </a:lnTo>
                  <a:lnTo>
                    <a:pt x="5" y="19"/>
                  </a:lnTo>
                  <a:lnTo>
                    <a:pt x="0" y="12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02360" y="3465360"/>
              <a:ext cx="66600" cy="257400"/>
            </a:xfrm>
            <a:custGeom>
              <a:avLst/>
              <a:gdLst/>
              <a:ahLst/>
              <a:rect l="l" t="t" r="r" b="b"/>
              <a:pathLst>
                <a:path w="42" h="162">
                  <a:moveTo>
                    <a:pt x="4" y="0"/>
                  </a:moveTo>
                  <a:lnTo>
                    <a:pt x="9" y="7"/>
                  </a:lnTo>
                  <a:lnTo>
                    <a:pt x="10" y="13"/>
                  </a:lnTo>
                  <a:lnTo>
                    <a:pt x="12" y="37"/>
                  </a:lnTo>
                  <a:lnTo>
                    <a:pt x="13" y="53"/>
                  </a:lnTo>
                  <a:lnTo>
                    <a:pt x="13" y="79"/>
                  </a:lnTo>
                  <a:lnTo>
                    <a:pt x="13" y="105"/>
                  </a:lnTo>
                  <a:lnTo>
                    <a:pt x="11" y="125"/>
                  </a:lnTo>
                  <a:lnTo>
                    <a:pt x="9" y="131"/>
                  </a:lnTo>
                  <a:lnTo>
                    <a:pt x="20" y="134"/>
                  </a:lnTo>
                  <a:lnTo>
                    <a:pt x="28" y="138"/>
                  </a:lnTo>
                  <a:lnTo>
                    <a:pt x="40" y="147"/>
                  </a:lnTo>
                  <a:lnTo>
                    <a:pt x="41" y="150"/>
                  </a:lnTo>
                  <a:lnTo>
                    <a:pt x="40" y="156"/>
                  </a:lnTo>
                  <a:lnTo>
                    <a:pt x="34" y="161"/>
                  </a:lnTo>
                  <a:lnTo>
                    <a:pt x="32" y="158"/>
                  </a:lnTo>
                  <a:lnTo>
                    <a:pt x="30" y="152"/>
                  </a:lnTo>
                  <a:lnTo>
                    <a:pt x="25" y="146"/>
                  </a:lnTo>
                  <a:lnTo>
                    <a:pt x="15" y="140"/>
                  </a:lnTo>
                  <a:lnTo>
                    <a:pt x="9" y="138"/>
                  </a:lnTo>
                  <a:lnTo>
                    <a:pt x="2" y="138"/>
                  </a:lnTo>
                  <a:lnTo>
                    <a:pt x="2" y="133"/>
                  </a:lnTo>
                  <a:lnTo>
                    <a:pt x="5" y="127"/>
                  </a:lnTo>
                  <a:lnTo>
                    <a:pt x="9" y="110"/>
                  </a:lnTo>
                  <a:lnTo>
                    <a:pt x="9" y="91"/>
                  </a:lnTo>
                  <a:lnTo>
                    <a:pt x="9" y="74"/>
                  </a:lnTo>
                  <a:lnTo>
                    <a:pt x="9" y="53"/>
                  </a:lnTo>
                  <a:lnTo>
                    <a:pt x="7" y="34"/>
                  </a:lnTo>
                  <a:lnTo>
                    <a:pt x="3" y="21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46640" y="3465360"/>
              <a:ext cx="63720" cy="231840"/>
            </a:xfrm>
            <a:custGeom>
              <a:avLst/>
              <a:gdLst/>
              <a:ahLst/>
              <a:rect l="l" t="t" r="r" b="b"/>
              <a:pathLst>
                <a:path w="40" h="146">
                  <a:moveTo>
                    <a:pt x="0" y="1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6" y="10"/>
                  </a:lnTo>
                  <a:lnTo>
                    <a:pt x="15" y="21"/>
                  </a:lnTo>
                  <a:lnTo>
                    <a:pt x="12" y="34"/>
                  </a:lnTo>
                  <a:lnTo>
                    <a:pt x="10" y="54"/>
                  </a:lnTo>
                  <a:lnTo>
                    <a:pt x="9" y="67"/>
                  </a:lnTo>
                  <a:lnTo>
                    <a:pt x="9" y="69"/>
                  </a:lnTo>
                  <a:lnTo>
                    <a:pt x="11" y="88"/>
                  </a:lnTo>
                  <a:lnTo>
                    <a:pt x="13" y="99"/>
                  </a:lnTo>
                  <a:lnTo>
                    <a:pt x="15" y="107"/>
                  </a:lnTo>
                  <a:lnTo>
                    <a:pt x="14" y="110"/>
                  </a:lnTo>
                  <a:lnTo>
                    <a:pt x="20" y="120"/>
                  </a:lnTo>
                  <a:lnTo>
                    <a:pt x="26" y="126"/>
                  </a:lnTo>
                  <a:lnTo>
                    <a:pt x="33" y="132"/>
                  </a:lnTo>
                  <a:lnTo>
                    <a:pt x="39" y="134"/>
                  </a:lnTo>
                  <a:lnTo>
                    <a:pt x="39" y="139"/>
                  </a:lnTo>
                  <a:lnTo>
                    <a:pt x="35" y="143"/>
                  </a:lnTo>
                  <a:lnTo>
                    <a:pt x="28" y="145"/>
                  </a:lnTo>
                  <a:lnTo>
                    <a:pt x="22" y="142"/>
                  </a:lnTo>
                  <a:lnTo>
                    <a:pt x="22" y="138"/>
                  </a:lnTo>
                  <a:lnTo>
                    <a:pt x="18" y="126"/>
                  </a:lnTo>
                  <a:lnTo>
                    <a:pt x="11" y="120"/>
                  </a:lnTo>
                  <a:lnTo>
                    <a:pt x="5" y="113"/>
                  </a:lnTo>
                  <a:lnTo>
                    <a:pt x="1" y="109"/>
                  </a:lnTo>
                  <a:lnTo>
                    <a:pt x="3" y="105"/>
                  </a:lnTo>
                  <a:lnTo>
                    <a:pt x="5" y="93"/>
                  </a:lnTo>
                  <a:lnTo>
                    <a:pt x="5" y="71"/>
                  </a:lnTo>
                  <a:lnTo>
                    <a:pt x="4" y="55"/>
                  </a:lnTo>
                  <a:lnTo>
                    <a:pt x="4" y="39"/>
                  </a:lnTo>
                  <a:lnTo>
                    <a:pt x="3" y="22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273720" y="3087720"/>
            <a:ext cx="195480" cy="668160"/>
            <a:chOff x="6273720" y="3087720"/>
            <a:chExt cx="195480" cy="668160"/>
          </a:xfrm>
        </p:grpSpPr>
        <p:sp>
          <p:nvSpPr>
            <p:cNvPr id="524" name=""/>
            <p:cNvSpPr/>
            <p:nvPr/>
          </p:nvSpPr>
          <p:spPr>
            <a:xfrm>
              <a:off x="6330960" y="3087720"/>
              <a:ext cx="128520" cy="146160"/>
            </a:xfrm>
            <a:custGeom>
              <a:avLst/>
              <a:gdLst/>
              <a:ahLst/>
              <a:rect l="l" t="t" r="r" b="b"/>
              <a:pathLst>
                <a:path w="81" h="92">
                  <a:moveTo>
                    <a:pt x="0" y="39"/>
                  </a:moveTo>
                  <a:lnTo>
                    <a:pt x="6" y="20"/>
                  </a:lnTo>
                  <a:lnTo>
                    <a:pt x="13" y="10"/>
                  </a:lnTo>
                  <a:lnTo>
                    <a:pt x="23" y="4"/>
                  </a:lnTo>
                  <a:lnTo>
                    <a:pt x="32" y="0"/>
                  </a:lnTo>
                  <a:lnTo>
                    <a:pt x="45" y="1"/>
                  </a:lnTo>
                  <a:lnTo>
                    <a:pt x="53" y="9"/>
                  </a:lnTo>
                  <a:lnTo>
                    <a:pt x="61" y="22"/>
                  </a:lnTo>
                  <a:lnTo>
                    <a:pt x="64" y="40"/>
                  </a:lnTo>
                  <a:lnTo>
                    <a:pt x="64" y="61"/>
                  </a:lnTo>
                  <a:lnTo>
                    <a:pt x="79" y="75"/>
                  </a:lnTo>
                  <a:lnTo>
                    <a:pt x="80" y="81"/>
                  </a:lnTo>
                  <a:lnTo>
                    <a:pt x="77" y="81"/>
                  </a:lnTo>
                  <a:lnTo>
                    <a:pt x="63" y="69"/>
                  </a:lnTo>
                  <a:lnTo>
                    <a:pt x="58" y="78"/>
                  </a:lnTo>
                  <a:lnTo>
                    <a:pt x="49" y="86"/>
                  </a:lnTo>
                  <a:lnTo>
                    <a:pt x="41" y="90"/>
                  </a:lnTo>
                  <a:lnTo>
                    <a:pt x="28" y="91"/>
                  </a:lnTo>
                  <a:lnTo>
                    <a:pt x="11" y="85"/>
                  </a:lnTo>
                  <a:lnTo>
                    <a:pt x="3" y="71"/>
                  </a:lnTo>
                  <a:lnTo>
                    <a:pt x="0" y="58"/>
                  </a:lnTo>
                  <a:lnTo>
                    <a:pt x="0" y="3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19800" y="3243240"/>
              <a:ext cx="112680" cy="233280"/>
            </a:xfrm>
            <a:custGeom>
              <a:avLst/>
              <a:gdLst/>
              <a:ahLst/>
              <a:rect l="l" t="t" r="r" b="b"/>
              <a:pathLst>
                <a:path w="71" h="147">
                  <a:moveTo>
                    <a:pt x="10" y="10"/>
                  </a:moveTo>
                  <a:lnTo>
                    <a:pt x="19" y="4"/>
                  </a:lnTo>
                  <a:lnTo>
                    <a:pt x="29" y="1"/>
                  </a:lnTo>
                  <a:lnTo>
                    <a:pt x="38" y="0"/>
                  </a:lnTo>
                  <a:lnTo>
                    <a:pt x="51" y="2"/>
                  </a:lnTo>
                  <a:lnTo>
                    <a:pt x="64" y="10"/>
                  </a:lnTo>
                  <a:lnTo>
                    <a:pt x="70" y="24"/>
                  </a:lnTo>
                  <a:lnTo>
                    <a:pt x="70" y="45"/>
                  </a:lnTo>
                  <a:lnTo>
                    <a:pt x="69" y="65"/>
                  </a:lnTo>
                  <a:lnTo>
                    <a:pt x="63" y="96"/>
                  </a:lnTo>
                  <a:lnTo>
                    <a:pt x="57" y="121"/>
                  </a:lnTo>
                  <a:lnTo>
                    <a:pt x="51" y="138"/>
                  </a:lnTo>
                  <a:lnTo>
                    <a:pt x="37" y="146"/>
                  </a:lnTo>
                  <a:lnTo>
                    <a:pt x="19" y="144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1" y="91"/>
                  </a:lnTo>
                  <a:lnTo>
                    <a:pt x="0" y="59"/>
                  </a:lnTo>
                  <a:lnTo>
                    <a:pt x="3" y="37"/>
                  </a:lnTo>
                  <a:lnTo>
                    <a:pt x="6" y="16"/>
                  </a:lnTo>
                  <a:lnTo>
                    <a:pt x="10" y="1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73720" y="3243240"/>
              <a:ext cx="6840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28" y="1"/>
                  </a:moveTo>
                  <a:lnTo>
                    <a:pt x="39" y="0"/>
                  </a:lnTo>
                  <a:lnTo>
                    <a:pt x="42" y="8"/>
                  </a:lnTo>
                  <a:lnTo>
                    <a:pt x="37" y="18"/>
                  </a:lnTo>
                  <a:lnTo>
                    <a:pt x="29" y="24"/>
                  </a:lnTo>
                  <a:lnTo>
                    <a:pt x="23" y="37"/>
                  </a:lnTo>
                  <a:lnTo>
                    <a:pt x="15" y="55"/>
                  </a:lnTo>
                  <a:lnTo>
                    <a:pt x="12" y="72"/>
                  </a:lnTo>
                  <a:lnTo>
                    <a:pt x="10" y="101"/>
                  </a:lnTo>
                  <a:lnTo>
                    <a:pt x="12" y="128"/>
                  </a:lnTo>
                  <a:lnTo>
                    <a:pt x="16" y="140"/>
                  </a:lnTo>
                  <a:lnTo>
                    <a:pt x="14" y="154"/>
                  </a:lnTo>
                  <a:lnTo>
                    <a:pt x="10" y="164"/>
                  </a:lnTo>
                  <a:lnTo>
                    <a:pt x="12" y="180"/>
                  </a:lnTo>
                  <a:lnTo>
                    <a:pt x="6" y="179"/>
                  </a:lnTo>
                  <a:lnTo>
                    <a:pt x="2" y="165"/>
                  </a:lnTo>
                  <a:lnTo>
                    <a:pt x="0" y="154"/>
                  </a:lnTo>
                  <a:lnTo>
                    <a:pt x="6" y="138"/>
                  </a:lnTo>
                  <a:lnTo>
                    <a:pt x="4" y="123"/>
                  </a:lnTo>
                  <a:lnTo>
                    <a:pt x="2" y="100"/>
                  </a:lnTo>
                  <a:lnTo>
                    <a:pt x="2" y="71"/>
                  </a:lnTo>
                  <a:lnTo>
                    <a:pt x="6" y="41"/>
                  </a:lnTo>
                  <a:lnTo>
                    <a:pt x="12" y="18"/>
                  </a:lnTo>
                  <a:lnTo>
                    <a:pt x="19" y="6"/>
                  </a:lnTo>
                  <a:lnTo>
                    <a:pt x="2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19880" y="3251160"/>
              <a:ext cx="41400" cy="271440"/>
            </a:xfrm>
            <a:custGeom>
              <a:avLst/>
              <a:gdLst/>
              <a:ahLst/>
              <a:rect l="l" t="t" r="r" b="b"/>
              <a:pathLst>
                <a:path w="26" h="171">
                  <a:moveTo>
                    <a:pt x="0" y="0"/>
                  </a:moveTo>
                  <a:lnTo>
                    <a:pt x="11" y="0"/>
                  </a:lnTo>
                  <a:lnTo>
                    <a:pt x="18" y="13"/>
                  </a:lnTo>
                  <a:lnTo>
                    <a:pt x="25" y="50"/>
                  </a:lnTo>
                  <a:lnTo>
                    <a:pt x="25" y="93"/>
                  </a:lnTo>
                  <a:lnTo>
                    <a:pt x="22" y="129"/>
                  </a:lnTo>
                  <a:lnTo>
                    <a:pt x="25" y="141"/>
                  </a:lnTo>
                  <a:lnTo>
                    <a:pt x="25" y="158"/>
                  </a:lnTo>
                  <a:lnTo>
                    <a:pt x="22" y="170"/>
                  </a:lnTo>
                  <a:lnTo>
                    <a:pt x="17" y="159"/>
                  </a:lnTo>
                  <a:lnTo>
                    <a:pt x="14" y="143"/>
                  </a:lnTo>
                  <a:lnTo>
                    <a:pt x="9" y="131"/>
                  </a:lnTo>
                  <a:lnTo>
                    <a:pt x="15" y="119"/>
                  </a:lnTo>
                  <a:lnTo>
                    <a:pt x="18" y="93"/>
                  </a:lnTo>
                  <a:lnTo>
                    <a:pt x="18" y="68"/>
                  </a:lnTo>
                  <a:lnTo>
                    <a:pt x="15" y="42"/>
                  </a:lnTo>
                  <a:lnTo>
                    <a:pt x="8" y="24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19800" y="3429000"/>
              <a:ext cx="95400" cy="326880"/>
            </a:xfrm>
            <a:custGeom>
              <a:avLst/>
              <a:gdLst/>
              <a:ahLst/>
              <a:rect l="l" t="t" r="r" b="b"/>
              <a:pathLst>
                <a:path w="60" h="206">
                  <a:moveTo>
                    <a:pt x="6" y="0"/>
                  </a:moveTo>
                  <a:lnTo>
                    <a:pt x="13" y="9"/>
                  </a:lnTo>
                  <a:lnTo>
                    <a:pt x="15" y="17"/>
                  </a:lnTo>
                  <a:lnTo>
                    <a:pt x="18" y="47"/>
                  </a:lnTo>
                  <a:lnTo>
                    <a:pt x="19" y="67"/>
                  </a:lnTo>
                  <a:lnTo>
                    <a:pt x="19" y="101"/>
                  </a:lnTo>
                  <a:lnTo>
                    <a:pt x="19" y="133"/>
                  </a:lnTo>
                  <a:lnTo>
                    <a:pt x="16" y="159"/>
                  </a:lnTo>
                  <a:lnTo>
                    <a:pt x="14" y="167"/>
                  </a:lnTo>
                  <a:lnTo>
                    <a:pt x="28" y="171"/>
                  </a:lnTo>
                  <a:lnTo>
                    <a:pt x="40" y="176"/>
                  </a:lnTo>
                  <a:lnTo>
                    <a:pt x="57" y="187"/>
                  </a:lnTo>
                  <a:lnTo>
                    <a:pt x="59" y="191"/>
                  </a:lnTo>
                  <a:lnTo>
                    <a:pt x="57" y="199"/>
                  </a:lnTo>
                  <a:lnTo>
                    <a:pt x="49" y="205"/>
                  </a:lnTo>
                  <a:lnTo>
                    <a:pt x="46" y="201"/>
                  </a:lnTo>
                  <a:lnTo>
                    <a:pt x="43" y="193"/>
                  </a:lnTo>
                  <a:lnTo>
                    <a:pt x="36" y="186"/>
                  </a:lnTo>
                  <a:lnTo>
                    <a:pt x="22" y="178"/>
                  </a:lnTo>
                  <a:lnTo>
                    <a:pt x="13" y="176"/>
                  </a:lnTo>
                  <a:lnTo>
                    <a:pt x="3" y="176"/>
                  </a:lnTo>
                  <a:lnTo>
                    <a:pt x="3" y="170"/>
                  </a:lnTo>
                  <a:lnTo>
                    <a:pt x="8" y="162"/>
                  </a:lnTo>
                  <a:lnTo>
                    <a:pt x="13" y="140"/>
                  </a:lnTo>
                  <a:lnTo>
                    <a:pt x="14" y="115"/>
                  </a:lnTo>
                  <a:lnTo>
                    <a:pt x="13" y="94"/>
                  </a:lnTo>
                  <a:lnTo>
                    <a:pt x="13" y="67"/>
                  </a:lnTo>
                  <a:lnTo>
                    <a:pt x="10" y="44"/>
                  </a:lnTo>
                  <a:lnTo>
                    <a:pt x="4" y="26"/>
                  </a:lnTo>
                  <a:lnTo>
                    <a:pt x="0" y="11"/>
                  </a:lnTo>
                  <a:lnTo>
                    <a:pt x="1" y="5"/>
                  </a:lnTo>
                  <a:lnTo>
                    <a:pt x="6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80280" y="3430440"/>
              <a:ext cx="88920" cy="292320"/>
            </a:xfrm>
            <a:custGeom>
              <a:avLst/>
              <a:gdLst/>
              <a:ahLst/>
              <a:rect l="l" t="t" r="r" b="b"/>
              <a:pathLst>
                <a:path w="56" h="184">
                  <a:moveTo>
                    <a:pt x="0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5" y="0"/>
                  </a:lnTo>
                  <a:lnTo>
                    <a:pt x="21" y="6"/>
                  </a:lnTo>
                  <a:lnTo>
                    <a:pt x="22" y="12"/>
                  </a:lnTo>
                  <a:lnTo>
                    <a:pt x="21" y="26"/>
                  </a:lnTo>
                  <a:lnTo>
                    <a:pt x="17" y="43"/>
                  </a:lnTo>
                  <a:lnTo>
                    <a:pt x="15" y="68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6" y="111"/>
                  </a:lnTo>
                  <a:lnTo>
                    <a:pt x="19" y="125"/>
                  </a:lnTo>
                  <a:lnTo>
                    <a:pt x="21" y="135"/>
                  </a:lnTo>
                  <a:lnTo>
                    <a:pt x="21" y="140"/>
                  </a:lnTo>
                  <a:lnTo>
                    <a:pt x="29" y="152"/>
                  </a:lnTo>
                  <a:lnTo>
                    <a:pt x="38" y="160"/>
                  </a:lnTo>
                  <a:lnTo>
                    <a:pt x="47" y="167"/>
                  </a:lnTo>
                  <a:lnTo>
                    <a:pt x="55" y="170"/>
                  </a:lnTo>
                  <a:lnTo>
                    <a:pt x="55" y="177"/>
                  </a:lnTo>
                  <a:lnTo>
                    <a:pt x="51" y="182"/>
                  </a:lnTo>
                  <a:lnTo>
                    <a:pt x="40" y="183"/>
                  </a:lnTo>
                  <a:lnTo>
                    <a:pt x="33" y="180"/>
                  </a:lnTo>
                  <a:lnTo>
                    <a:pt x="33" y="175"/>
                  </a:lnTo>
                  <a:lnTo>
                    <a:pt x="26" y="160"/>
                  </a:lnTo>
                  <a:lnTo>
                    <a:pt x="16" y="151"/>
                  </a:lnTo>
                  <a:lnTo>
                    <a:pt x="8" y="143"/>
                  </a:lnTo>
                  <a:lnTo>
                    <a:pt x="2" y="139"/>
                  </a:lnTo>
                  <a:lnTo>
                    <a:pt x="5" y="133"/>
                  </a:lnTo>
                  <a:lnTo>
                    <a:pt x="8" y="118"/>
                  </a:lnTo>
                  <a:lnTo>
                    <a:pt x="8" y="89"/>
                  </a:lnTo>
                  <a:lnTo>
                    <a:pt x="6" y="69"/>
                  </a:lnTo>
                  <a:lnTo>
                    <a:pt x="6" y="49"/>
                  </a:lnTo>
                  <a:lnTo>
                    <a:pt x="6" y="27"/>
                  </a:lnTo>
                  <a:lnTo>
                    <a:pt x="0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54760" y="3270240"/>
            <a:ext cx="85680" cy="419040"/>
            <a:chOff x="5954760" y="3270240"/>
            <a:chExt cx="85680" cy="419040"/>
          </a:xfrm>
        </p:grpSpPr>
        <p:sp>
          <p:nvSpPr>
            <p:cNvPr id="531" name=""/>
            <p:cNvSpPr/>
            <p:nvPr/>
          </p:nvSpPr>
          <p:spPr>
            <a:xfrm>
              <a:off x="5975280" y="3270240"/>
              <a:ext cx="49320" cy="9216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0" y="24"/>
                  </a:moveTo>
                  <a:lnTo>
                    <a:pt x="3" y="13"/>
                  </a:lnTo>
                  <a:lnTo>
                    <a:pt x="5" y="7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1" y="6"/>
                  </a:lnTo>
                  <a:lnTo>
                    <a:pt x="23" y="14"/>
                  </a:lnTo>
                  <a:lnTo>
                    <a:pt x="25" y="25"/>
                  </a:lnTo>
                  <a:lnTo>
                    <a:pt x="25" y="38"/>
                  </a:lnTo>
                  <a:lnTo>
                    <a:pt x="30" y="47"/>
                  </a:lnTo>
                  <a:lnTo>
                    <a:pt x="30" y="51"/>
                  </a:lnTo>
                  <a:lnTo>
                    <a:pt x="24" y="43"/>
                  </a:lnTo>
                  <a:lnTo>
                    <a:pt x="22" y="49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1" y="57"/>
                  </a:lnTo>
                  <a:lnTo>
                    <a:pt x="5" y="53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70600" y="3368520"/>
              <a:ext cx="44280" cy="146160"/>
            </a:xfrm>
            <a:custGeom>
              <a:avLst/>
              <a:gdLst/>
              <a:ahLst/>
              <a:rect l="l" t="t" r="r" b="b"/>
              <a:pathLst>
                <a:path w="28" h="92">
                  <a:moveTo>
                    <a:pt x="4" y="6"/>
                  </a:moveTo>
                  <a:lnTo>
                    <a:pt x="7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6"/>
                  </a:lnTo>
                  <a:lnTo>
                    <a:pt x="27" y="14"/>
                  </a:lnTo>
                  <a:lnTo>
                    <a:pt x="27" y="28"/>
                  </a:lnTo>
                  <a:lnTo>
                    <a:pt x="27" y="40"/>
                  </a:lnTo>
                  <a:lnTo>
                    <a:pt x="25" y="60"/>
                  </a:lnTo>
                  <a:lnTo>
                    <a:pt x="22" y="75"/>
                  </a:lnTo>
                  <a:lnTo>
                    <a:pt x="20" y="85"/>
                  </a:lnTo>
                  <a:lnTo>
                    <a:pt x="15" y="91"/>
                  </a:lnTo>
                  <a:lnTo>
                    <a:pt x="7" y="90"/>
                  </a:lnTo>
                  <a:lnTo>
                    <a:pt x="4" y="82"/>
                  </a:lnTo>
                  <a:lnTo>
                    <a:pt x="2" y="7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1" y="22"/>
                  </a:lnTo>
                  <a:lnTo>
                    <a:pt x="3" y="10"/>
                  </a:lnTo>
                  <a:lnTo>
                    <a:pt x="4" y="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54760" y="3368520"/>
              <a:ext cx="30240" cy="179640"/>
            </a:xfrm>
            <a:custGeom>
              <a:avLst/>
              <a:gdLst/>
              <a:ahLst/>
              <a:rect l="l" t="t" r="r" b="b"/>
              <a:pathLst>
                <a:path w="19" h="113">
                  <a:moveTo>
                    <a:pt x="13" y="0"/>
                  </a:moveTo>
                  <a:lnTo>
                    <a:pt x="17" y="0"/>
                  </a:lnTo>
                  <a:lnTo>
                    <a:pt x="18" y="4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0" y="23"/>
                  </a:lnTo>
                  <a:lnTo>
                    <a:pt x="7" y="34"/>
                  </a:lnTo>
                  <a:lnTo>
                    <a:pt x="5" y="44"/>
                  </a:lnTo>
                  <a:lnTo>
                    <a:pt x="4" y="62"/>
                  </a:lnTo>
                  <a:lnTo>
                    <a:pt x="5" y="79"/>
                  </a:lnTo>
                  <a:lnTo>
                    <a:pt x="7" y="87"/>
                  </a:lnTo>
                  <a:lnTo>
                    <a:pt x="6" y="95"/>
                  </a:lnTo>
                  <a:lnTo>
                    <a:pt x="4" y="101"/>
                  </a:lnTo>
                  <a:lnTo>
                    <a:pt x="5" y="112"/>
                  </a:lnTo>
                  <a:lnTo>
                    <a:pt x="3" y="111"/>
                  </a:lnTo>
                  <a:lnTo>
                    <a:pt x="1" y="103"/>
                  </a:lnTo>
                  <a:lnTo>
                    <a:pt x="0" y="95"/>
                  </a:lnTo>
                  <a:lnTo>
                    <a:pt x="3" y="85"/>
                  </a:lnTo>
                  <a:lnTo>
                    <a:pt x="2" y="76"/>
                  </a:lnTo>
                  <a:lnTo>
                    <a:pt x="1" y="62"/>
                  </a:lnTo>
                  <a:lnTo>
                    <a:pt x="1" y="44"/>
                  </a:lnTo>
                  <a:lnTo>
                    <a:pt x="3" y="25"/>
                  </a:lnTo>
                  <a:lnTo>
                    <a:pt x="5" y="11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08760" y="3370320"/>
              <a:ext cx="31680" cy="173160"/>
            </a:xfrm>
            <a:custGeom>
              <a:avLst/>
              <a:gdLst/>
              <a:ahLst/>
              <a:rect l="l" t="t" r="r" b="b"/>
              <a:pathLst>
                <a:path w="20" h="109">
                  <a:moveTo>
                    <a:pt x="1" y="1"/>
                  </a:moveTo>
                  <a:lnTo>
                    <a:pt x="8" y="0"/>
                  </a:lnTo>
                  <a:lnTo>
                    <a:pt x="13" y="9"/>
                  </a:lnTo>
                  <a:lnTo>
                    <a:pt x="19" y="32"/>
                  </a:lnTo>
                  <a:lnTo>
                    <a:pt x="19" y="59"/>
                  </a:lnTo>
                  <a:lnTo>
                    <a:pt x="16" y="82"/>
                  </a:lnTo>
                  <a:lnTo>
                    <a:pt x="19" y="90"/>
                  </a:lnTo>
                  <a:lnTo>
                    <a:pt x="19" y="101"/>
                  </a:lnTo>
                  <a:lnTo>
                    <a:pt x="16" y="108"/>
                  </a:lnTo>
                  <a:lnTo>
                    <a:pt x="12" y="102"/>
                  </a:lnTo>
                  <a:lnTo>
                    <a:pt x="11" y="91"/>
                  </a:lnTo>
                  <a:lnTo>
                    <a:pt x="7" y="83"/>
                  </a:lnTo>
                  <a:lnTo>
                    <a:pt x="11" y="76"/>
                  </a:lnTo>
                  <a:lnTo>
                    <a:pt x="14" y="59"/>
                  </a:lnTo>
                  <a:lnTo>
                    <a:pt x="14" y="43"/>
                  </a:lnTo>
                  <a:lnTo>
                    <a:pt x="11" y="27"/>
                  </a:lnTo>
                  <a:lnTo>
                    <a:pt x="6" y="16"/>
                  </a:lnTo>
                  <a:lnTo>
                    <a:pt x="0" y="10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70600" y="3483000"/>
              <a:ext cx="38160" cy="206280"/>
            </a:xfrm>
            <a:custGeom>
              <a:avLst/>
              <a:gdLst/>
              <a:ahLst/>
              <a:rect l="l" t="t" r="r" b="b"/>
              <a:pathLst>
                <a:path w="24" h="130">
                  <a:moveTo>
                    <a:pt x="3" y="0"/>
                  </a:moveTo>
                  <a:lnTo>
                    <a:pt x="5" y="6"/>
                  </a:lnTo>
                  <a:lnTo>
                    <a:pt x="6" y="11"/>
                  </a:lnTo>
                  <a:lnTo>
                    <a:pt x="7" y="30"/>
                  </a:lnTo>
                  <a:lnTo>
                    <a:pt x="8" y="42"/>
                  </a:lnTo>
                  <a:lnTo>
                    <a:pt x="8" y="64"/>
                  </a:lnTo>
                  <a:lnTo>
                    <a:pt x="8" y="84"/>
                  </a:lnTo>
                  <a:lnTo>
                    <a:pt x="7" y="100"/>
                  </a:lnTo>
                  <a:lnTo>
                    <a:pt x="6" y="105"/>
                  </a:lnTo>
                  <a:lnTo>
                    <a:pt x="11" y="108"/>
                  </a:lnTo>
                  <a:lnTo>
                    <a:pt x="16" y="111"/>
                  </a:lnTo>
                  <a:lnTo>
                    <a:pt x="23" y="117"/>
                  </a:lnTo>
                  <a:lnTo>
                    <a:pt x="23" y="120"/>
                  </a:lnTo>
                  <a:lnTo>
                    <a:pt x="23" y="125"/>
                  </a:lnTo>
                  <a:lnTo>
                    <a:pt x="20" y="129"/>
                  </a:lnTo>
                  <a:lnTo>
                    <a:pt x="18" y="127"/>
                  </a:lnTo>
                  <a:lnTo>
                    <a:pt x="17" y="121"/>
                  </a:lnTo>
                  <a:lnTo>
                    <a:pt x="14" y="117"/>
                  </a:lnTo>
                  <a:lnTo>
                    <a:pt x="9" y="112"/>
                  </a:lnTo>
                  <a:lnTo>
                    <a:pt x="6" y="111"/>
                  </a:lnTo>
                  <a:lnTo>
                    <a:pt x="2" y="111"/>
                  </a:lnTo>
                  <a:lnTo>
                    <a:pt x="2" y="107"/>
                  </a:lnTo>
                  <a:lnTo>
                    <a:pt x="3" y="102"/>
                  </a:lnTo>
                  <a:lnTo>
                    <a:pt x="5" y="88"/>
                  </a:lnTo>
                  <a:lnTo>
                    <a:pt x="6" y="73"/>
                  </a:lnTo>
                  <a:lnTo>
                    <a:pt x="6" y="59"/>
                  </a:lnTo>
                  <a:lnTo>
                    <a:pt x="5" y="42"/>
                  </a:lnTo>
                  <a:lnTo>
                    <a:pt x="4" y="28"/>
                  </a:lnTo>
                  <a:lnTo>
                    <a:pt x="2" y="17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97600" y="3484440"/>
              <a:ext cx="33480" cy="184320"/>
            </a:xfrm>
            <a:custGeom>
              <a:avLst/>
              <a:gdLst/>
              <a:ahLst/>
              <a:rect l="l" t="t" r="r" b="b"/>
              <a:pathLst>
                <a:path w="21" h="116">
                  <a:moveTo>
                    <a:pt x="0" y="9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4"/>
                  </a:lnTo>
                  <a:lnTo>
                    <a:pt x="8" y="8"/>
                  </a:lnTo>
                  <a:lnTo>
                    <a:pt x="8" y="16"/>
                  </a:lnTo>
                  <a:lnTo>
                    <a:pt x="6" y="27"/>
                  </a:lnTo>
                  <a:lnTo>
                    <a:pt x="5" y="43"/>
                  </a:lnTo>
                  <a:lnTo>
                    <a:pt x="5" y="53"/>
                  </a:lnTo>
                  <a:lnTo>
                    <a:pt x="5" y="55"/>
                  </a:lnTo>
                  <a:lnTo>
                    <a:pt x="6" y="70"/>
                  </a:lnTo>
                  <a:lnTo>
                    <a:pt x="7" y="78"/>
                  </a:lnTo>
                  <a:lnTo>
                    <a:pt x="8" y="85"/>
                  </a:lnTo>
                  <a:lnTo>
                    <a:pt x="7" y="88"/>
                  </a:lnTo>
                  <a:lnTo>
                    <a:pt x="10" y="95"/>
                  </a:lnTo>
                  <a:lnTo>
                    <a:pt x="14" y="100"/>
                  </a:lnTo>
                  <a:lnTo>
                    <a:pt x="17" y="105"/>
                  </a:lnTo>
                  <a:lnTo>
                    <a:pt x="20" y="107"/>
                  </a:lnTo>
                  <a:lnTo>
                    <a:pt x="20" y="111"/>
                  </a:lnTo>
                  <a:lnTo>
                    <a:pt x="19" y="114"/>
                  </a:lnTo>
                  <a:lnTo>
                    <a:pt x="15" y="115"/>
                  </a:lnTo>
                  <a:lnTo>
                    <a:pt x="12" y="113"/>
                  </a:lnTo>
                  <a:lnTo>
                    <a:pt x="12" y="110"/>
                  </a:lnTo>
                  <a:lnTo>
                    <a:pt x="10" y="100"/>
                  </a:lnTo>
                  <a:lnTo>
                    <a:pt x="6" y="95"/>
                  </a:lnTo>
                  <a:lnTo>
                    <a:pt x="3" y="90"/>
                  </a:lnTo>
                  <a:lnTo>
                    <a:pt x="0" y="87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3" y="56"/>
                  </a:lnTo>
                  <a:lnTo>
                    <a:pt x="2" y="44"/>
                  </a:lnTo>
                  <a:lnTo>
                    <a:pt x="2" y="31"/>
                  </a:lnTo>
                  <a:lnTo>
                    <a:pt x="2" y="17"/>
                  </a:lnTo>
                  <a:lnTo>
                    <a:pt x="0" y="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857920" y="3338640"/>
            <a:ext cx="68040" cy="291960"/>
            <a:chOff x="5857920" y="3338640"/>
            <a:chExt cx="68040" cy="291960"/>
          </a:xfrm>
        </p:grpSpPr>
        <p:sp>
          <p:nvSpPr>
            <p:cNvPr id="538" name=""/>
            <p:cNvSpPr/>
            <p:nvPr/>
          </p:nvSpPr>
          <p:spPr>
            <a:xfrm>
              <a:off x="5872320" y="3338640"/>
              <a:ext cx="34920" cy="648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17"/>
                  </a:moveTo>
                  <a:lnTo>
                    <a:pt x="2" y="9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6" y="10"/>
                  </a:lnTo>
                  <a:lnTo>
                    <a:pt x="17" y="18"/>
                  </a:lnTo>
                  <a:lnTo>
                    <a:pt x="17" y="27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16" y="30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39"/>
                  </a:lnTo>
                  <a:lnTo>
                    <a:pt x="8" y="40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69080" y="3406680"/>
              <a:ext cx="33120" cy="10332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3" y="4"/>
                  </a:move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0" y="11"/>
                  </a:lnTo>
                  <a:lnTo>
                    <a:pt x="20" y="20"/>
                  </a:lnTo>
                  <a:lnTo>
                    <a:pt x="19" y="29"/>
                  </a:lnTo>
                  <a:lnTo>
                    <a:pt x="18" y="42"/>
                  </a:lnTo>
                  <a:lnTo>
                    <a:pt x="16" y="53"/>
                  </a:lnTo>
                  <a:lnTo>
                    <a:pt x="14" y="60"/>
                  </a:lnTo>
                  <a:lnTo>
                    <a:pt x="11" y="64"/>
                  </a:lnTo>
                  <a:lnTo>
                    <a:pt x="6" y="63"/>
                  </a:lnTo>
                  <a:lnTo>
                    <a:pt x="3" y="58"/>
                  </a:lnTo>
                  <a:lnTo>
                    <a:pt x="1" y="49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7"/>
                  </a:lnTo>
                  <a:lnTo>
                    <a:pt x="3" y="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57920" y="3406680"/>
              <a:ext cx="30240" cy="12564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13" y="0"/>
                  </a:moveTo>
                  <a:lnTo>
                    <a:pt x="17" y="0"/>
                  </a:lnTo>
                  <a:lnTo>
                    <a:pt x="18" y="3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6"/>
                  </a:lnTo>
                  <a:lnTo>
                    <a:pt x="7" y="24"/>
                  </a:lnTo>
                  <a:lnTo>
                    <a:pt x="5" y="31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7" y="61"/>
                  </a:lnTo>
                  <a:lnTo>
                    <a:pt x="6" y="66"/>
                  </a:lnTo>
                  <a:lnTo>
                    <a:pt x="4" y="71"/>
                  </a:lnTo>
                  <a:lnTo>
                    <a:pt x="5" y="78"/>
                  </a:lnTo>
                  <a:lnTo>
                    <a:pt x="3" y="78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3" y="60"/>
                  </a:lnTo>
                  <a:lnTo>
                    <a:pt x="2" y="53"/>
                  </a:lnTo>
                  <a:lnTo>
                    <a:pt x="1" y="43"/>
                  </a:lnTo>
                  <a:lnTo>
                    <a:pt x="1" y="31"/>
                  </a:lnTo>
                  <a:lnTo>
                    <a:pt x="3" y="17"/>
                  </a:lnTo>
                  <a:lnTo>
                    <a:pt x="5" y="8"/>
                  </a:lnTo>
                  <a:lnTo>
                    <a:pt x="8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96080" y="3409920"/>
              <a:ext cx="29880" cy="119160"/>
            </a:xfrm>
            <a:custGeom>
              <a:avLst/>
              <a:gdLst/>
              <a:ahLst/>
              <a:rect l="l" t="t" r="r" b="b"/>
              <a:pathLst>
                <a:path w="19" h="75">
                  <a:moveTo>
                    <a:pt x="1" y="0"/>
                  </a:moveTo>
                  <a:lnTo>
                    <a:pt x="8" y="0"/>
                  </a:lnTo>
                  <a:lnTo>
                    <a:pt x="13" y="6"/>
                  </a:lnTo>
                  <a:lnTo>
                    <a:pt x="18" y="22"/>
                  </a:lnTo>
                  <a:lnTo>
                    <a:pt x="18" y="40"/>
                  </a:lnTo>
                  <a:lnTo>
                    <a:pt x="16" y="56"/>
                  </a:lnTo>
                  <a:lnTo>
                    <a:pt x="18" y="62"/>
                  </a:lnTo>
                  <a:lnTo>
                    <a:pt x="18" y="69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11" y="62"/>
                  </a:lnTo>
                  <a:lnTo>
                    <a:pt x="7" y="57"/>
                  </a:lnTo>
                  <a:lnTo>
                    <a:pt x="11" y="52"/>
                  </a:lnTo>
                  <a:lnTo>
                    <a:pt x="14" y="40"/>
                  </a:lnTo>
                  <a:lnTo>
                    <a:pt x="14" y="29"/>
                  </a:lnTo>
                  <a:lnTo>
                    <a:pt x="11" y="18"/>
                  </a:lnTo>
                  <a:lnTo>
                    <a:pt x="6" y="10"/>
                  </a:lnTo>
                  <a:lnTo>
                    <a:pt x="0" y="6"/>
                  </a:lnTo>
                  <a:lnTo>
                    <a:pt x="1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69080" y="3487680"/>
              <a:ext cx="30240" cy="142920"/>
            </a:xfrm>
            <a:custGeom>
              <a:avLst/>
              <a:gdLst/>
              <a:ahLst/>
              <a:rect l="l" t="t" r="r" b="b"/>
              <a:pathLst>
                <a:path w="19" h="90">
                  <a:moveTo>
                    <a:pt x="2" y="0"/>
                  </a:moveTo>
                  <a:lnTo>
                    <a:pt x="4" y="4"/>
                  </a:lnTo>
                  <a:lnTo>
                    <a:pt x="5" y="8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6" y="44"/>
                  </a:lnTo>
                  <a:lnTo>
                    <a:pt x="6" y="58"/>
                  </a:lnTo>
                  <a:lnTo>
                    <a:pt x="5" y="69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3" y="76"/>
                  </a:lnTo>
                  <a:lnTo>
                    <a:pt x="18" y="81"/>
                  </a:lnTo>
                  <a:lnTo>
                    <a:pt x="18" y="83"/>
                  </a:lnTo>
                  <a:lnTo>
                    <a:pt x="18" y="86"/>
                  </a:lnTo>
                  <a:lnTo>
                    <a:pt x="15" y="89"/>
                  </a:lnTo>
                  <a:lnTo>
                    <a:pt x="14" y="88"/>
                  </a:lnTo>
                  <a:lnTo>
                    <a:pt x="14" y="84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4" y="76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3" y="70"/>
                  </a:lnTo>
                  <a:lnTo>
                    <a:pt x="4" y="61"/>
                  </a:lnTo>
                  <a:lnTo>
                    <a:pt x="5" y="50"/>
                  </a:lnTo>
                  <a:lnTo>
                    <a:pt x="4" y="41"/>
                  </a:lnTo>
                  <a:lnTo>
                    <a:pt x="4" y="29"/>
                  </a:lnTo>
                  <a:lnTo>
                    <a:pt x="3" y="19"/>
                  </a:lnTo>
                  <a:lnTo>
                    <a:pt x="1" y="11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86360" y="3487680"/>
              <a:ext cx="31680" cy="128520"/>
            </a:xfrm>
            <a:custGeom>
              <a:avLst/>
              <a:gdLst/>
              <a:ahLst/>
              <a:rect l="l" t="t" r="r" b="b"/>
              <a:pathLst>
                <a:path w="20" h="81">
                  <a:moveTo>
                    <a:pt x="0" y="7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8" y="6"/>
                  </a:lnTo>
                  <a:lnTo>
                    <a:pt x="8" y="11"/>
                  </a:lnTo>
                  <a:lnTo>
                    <a:pt x="6" y="19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6" y="49"/>
                  </a:lnTo>
                  <a:lnTo>
                    <a:pt x="7" y="55"/>
                  </a:lnTo>
                  <a:lnTo>
                    <a:pt x="8" y="59"/>
                  </a:lnTo>
                  <a:lnTo>
                    <a:pt x="7" y="61"/>
                  </a:lnTo>
                  <a:lnTo>
                    <a:pt x="10" y="67"/>
                  </a:lnTo>
                  <a:lnTo>
                    <a:pt x="13" y="70"/>
                  </a:lnTo>
                  <a:lnTo>
                    <a:pt x="17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8" y="80"/>
                  </a:lnTo>
                  <a:lnTo>
                    <a:pt x="14" y="80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9" y="70"/>
                  </a:lnTo>
                  <a:lnTo>
                    <a:pt x="6" y="67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3" y="39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2" y="12"/>
                  </a:lnTo>
                  <a:lnTo>
                    <a:pt x="0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791320" y="3378240"/>
            <a:ext cx="48960" cy="214200"/>
            <a:chOff x="5791320" y="3378240"/>
            <a:chExt cx="48960" cy="214200"/>
          </a:xfrm>
        </p:grpSpPr>
        <p:sp>
          <p:nvSpPr>
            <p:cNvPr id="545" name=""/>
            <p:cNvSpPr/>
            <p:nvPr/>
          </p:nvSpPr>
          <p:spPr>
            <a:xfrm>
              <a:off x="5799240" y="33782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12"/>
                  </a:move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7"/>
                  </a:lnTo>
                  <a:lnTo>
                    <a:pt x="14" y="13"/>
                  </a:lnTo>
                  <a:lnTo>
                    <a:pt x="14" y="19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4" y="21"/>
                  </a:lnTo>
                  <a:lnTo>
                    <a:pt x="13" y="24"/>
                  </a:lnTo>
                  <a:lnTo>
                    <a:pt x="11" y="27"/>
                  </a:lnTo>
                  <a:lnTo>
                    <a:pt x="9" y="28"/>
                  </a:lnTo>
                  <a:lnTo>
                    <a:pt x="6" y="28"/>
                  </a:lnTo>
                  <a:lnTo>
                    <a:pt x="2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96000" y="34275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3" y="3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4"/>
                  </a:lnTo>
                  <a:lnTo>
                    <a:pt x="19" y="21"/>
                  </a:lnTo>
                  <a:lnTo>
                    <a:pt x="17" y="30"/>
                  </a:lnTo>
                  <a:lnTo>
                    <a:pt x="15" y="39"/>
                  </a:lnTo>
                  <a:lnTo>
                    <a:pt x="14" y="44"/>
                  </a:lnTo>
                  <a:lnTo>
                    <a:pt x="10" y="46"/>
                  </a:lnTo>
                  <a:lnTo>
                    <a:pt x="5" y="46"/>
                  </a:lnTo>
                  <a:lnTo>
                    <a:pt x="3" y="42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2" y="5"/>
                  </a:lnTo>
                  <a:lnTo>
                    <a:pt x="3" y="3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91320" y="3427560"/>
              <a:ext cx="29880" cy="9180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13" y="0"/>
                  </a:moveTo>
                  <a:lnTo>
                    <a:pt x="17" y="0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11"/>
                  </a:lnTo>
                  <a:lnTo>
                    <a:pt x="7" y="17"/>
                  </a:lnTo>
                  <a:lnTo>
                    <a:pt x="5" y="23"/>
                  </a:lnTo>
                  <a:lnTo>
                    <a:pt x="4" y="32"/>
                  </a:lnTo>
                  <a:lnTo>
                    <a:pt x="5" y="41"/>
                  </a:lnTo>
                  <a:lnTo>
                    <a:pt x="7" y="45"/>
                  </a:lnTo>
                  <a:lnTo>
                    <a:pt x="6" y="49"/>
                  </a:lnTo>
                  <a:lnTo>
                    <a:pt x="4" y="52"/>
                  </a:lnTo>
                  <a:lnTo>
                    <a:pt x="5" y="57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9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1" y="31"/>
                  </a:lnTo>
                  <a:lnTo>
                    <a:pt x="1" y="22"/>
                  </a:lnTo>
                  <a:lnTo>
                    <a:pt x="2" y="13"/>
                  </a:lnTo>
                  <a:lnTo>
                    <a:pt x="5" y="5"/>
                  </a:lnTo>
                  <a:lnTo>
                    <a:pt x="8" y="2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10400" y="3429000"/>
              <a:ext cx="29880" cy="8892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1"/>
                  </a:moveTo>
                  <a:lnTo>
                    <a:pt x="7" y="0"/>
                  </a:lnTo>
                  <a:lnTo>
                    <a:pt x="12" y="4"/>
                  </a:lnTo>
                  <a:lnTo>
                    <a:pt x="18" y="16"/>
                  </a:lnTo>
                  <a:lnTo>
                    <a:pt x="18" y="30"/>
                  </a:lnTo>
                  <a:lnTo>
                    <a:pt x="15" y="42"/>
                  </a:lnTo>
                  <a:lnTo>
                    <a:pt x="18" y="45"/>
                  </a:lnTo>
                  <a:lnTo>
                    <a:pt x="18" y="51"/>
                  </a:lnTo>
                  <a:lnTo>
                    <a:pt x="15" y="55"/>
                  </a:lnTo>
                  <a:lnTo>
                    <a:pt x="12" y="51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10" y="39"/>
                  </a:lnTo>
                  <a:lnTo>
                    <a:pt x="13" y="30"/>
                  </a:lnTo>
                  <a:lnTo>
                    <a:pt x="13" y="22"/>
                  </a:lnTo>
                  <a:lnTo>
                    <a:pt x="10" y="14"/>
                  </a:lnTo>
                  <a:lnTo>
                    <a:pt x="5" y="8"/>
                  </a:lnTo>
                  <a:lnTo>
                    <a:pt x="0" y="5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96000" y="3486240"/>
              <a:ext cx="31680" cy="10620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" y="0"/>
                  </a:moveTo>
                  <a:lnTo>
                    <a:pt x="4" y="3"/>
                  </a:lnTo>
                  <a:lnTo>
                    <a:pt x="5" y="6"/>
                  </a:lnTo>
                  <a:lnTo>
                    <a:pt x="6" y="15"/>
                  </a:lnTo>
                  <a:lnTo>
                    <a:pt x="6" y="22"/>
                  </a:lnTo>
                  <a:lnTo>
                    <a:pt x="6" y="33"/>
                  </a:lnTo>
                  <a:lnTo>
                    <a:pt x="6" y="43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9" y="55"/>
                  </a:lnTo>
                  <a:lnTo>
                    <a:pt x="13" y="57"/>
                  </a:lnTo>
                  <a:lnTo>
                    <a:pt x="18" y="60"/>
                  </a:lnTo>
                  <a:lnTo>
                    <a:pt x="19" y="62"/>
                  </a:lnTo>
                  <a:lnTo>
                    <a:pt x="18" y="64"/>
                  </a:lnTo>
                  <a:lnTo>
                    <a:pt x="16" y="66"/>
                  </a:lnTo>
                  <a:lnTo>
                    <a:pt x="15" y="65"/>
                  </a:lnTo>
                  <a:lnTo>
                    <a:pt x="14" y="62"/>
                  </a:lnTo>
                  <a:lnTo>
                    <a:pt x="12" y="60"/>
                  </a:lnTo>
                  <a:lnTo>
                    <a:pt x="7" y="58"/>
                  </a:lnTo>
                  <a:lnTo>
                    <a:pt x="4" y="57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3" y="52"/>
                  </a:lnTo>
                  <a:lnTo>
                    <a:pt x="4" y="45"/>
                  </a:lnTo>
                  <a:lnTo>
                    <a:pt x="5" y="37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3" y="14"/>
                  </a:lnTo>
                  <a:lnTo>
                    <a:pt x="2" y="9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805360" y="348624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5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8" y="4"/>
                  </a:lnTo>
                  <a:lnTo>
                    <a:pt x="7" y="9"/>
                  </a:lnTo>
                  <a:lnTo>
                    <a:pt x="6" y="14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6"/>
                  </a:lnTo>
                  <a:lnTo>
                    <a:pt x="6" y="41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3" y="52"/>
                  </a:lnTo>
                  <a:lnTo>
                    <a:pt x="16" y="54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7" y="59"/>
                  </a:lnTo>
                  <a:lnTo>
                    <a:pt x="13" y="60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9" y="52"/>
                  </a:lnTo>
                  <a:lnTo>
                    <a:pt x="5" y="49"/>
                  </a:lnTo>
                  <a:lnTo>
                    <a:pt x="3" y="47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3" y="38"/>
                  </a:lnTo>
                  <a:lnTo>
                    <a:pt x="3" y="29"/>
                  </a:lnTo>
                  <a:lnTo>
                    <a:pt x="2" y="23"/>
                  </a:lnTo>
                  <a:lnTo>
                    <a:pt x="2" y="16"/>
                  </a:lnTo>
                  <a:lnTo>
                    <a:pt x="2" y="9"/>
                  </a:lnTo>
                  <a:lnTo>
                    <a:pt x="0" y="5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3: Modelo de Movil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un d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sale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llega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486400" y="1676520"/>
            <a:ext cx="3581280" cy="4800600"/>
            <a:chOff x="5486400" y="1676520"/>
            <a:chExt cx="3581280" cy="4800600"/>
          </a:xfrm>
        </p:grpSpPr>
        <p:sp>
          <p:nvSpPr>
            <p:cNvPr id="554" name=""/>
            <p:cNvSpPr/>
            <p:nvPr/>
          </p:nvSpPr>
          <p:spPr>
            <a:xfrm>
              <a:off x="5486400" y="2298600"/>
              <a:ext cx="1422360" cy="2694240"/>
            </a:xfrm>
            <a:custGeom>
              <a:avLst/>
              <a:gdLst/>
              <a:ahLst/>
              <a:rect l="l" t="t" r="r" b="b"/>
              <a:pathLst>
                <a:path w="896" h="1697">
                  <a:moveTo>
                    <a:pt x="197" y="0"/>
                  </a:moveTo>
                  <a:lnTo>
                    <a:pt x="338" y="120"/>
                  </a:lnTo>
                  <a:lnTo>
                    <a:pt x="226" y="372"/>
                  </a:lnTo>
                  <a:lnTo>
                    <a:pt x="243" y="372"/>
                  </a:lnTo>
                  <a:lnTo>
                    <a:pt x="243" y="368"/>
                  </a:lnTo>
                  <a:lnTo>
                    <a:pt x="261" y="368"/>
                  </a:lnTo>
                  <a:lnTo>
                    <a:pt x="261" y="372"/>
                  </a:lnTo>
                  <a:lnTo>
                    <a:pt x="268" y="372"/>
                  </a:lnTo>
                  <a:lnTo>
                    <a:pt x="268" y="376"/>
                  </a:lnTo>
                  <a:lnTo>
                    <a:pt x="269" y="376"/>
                  </a:lnTo>
                  <a:lnTo>
                    <a:pt x="271" y="378"/>
                  </a:lnTo>
                  <a:lnTo>
                    <a:pt x="271" y="383"/>
                  </a:lnTo>
                  <a:lnTo>
                    <a:pt x="285" y="383"/>
                  </a:lnTo>
                  <a:lnTo>
                    <a:pt x="285" y="385"/>
                  </a:lnTo>
                  <a:lnTo>
                    <a:pt x="288" y="387"/>
                  </a:lnTo>
                  <a:lnTo>
                    <a:pt x="289" y="387"/>
                  </a:lnTo>
                  <a:lnTo>
                    <a:pt x="289" y="392"/>
                  </a:lnTo>
                  <a:lnTo>
                    <a:pt x="295" y="392"/>
                  </a:lnTo>
                  <a:lnTo>
                    <a:pt x="295" y="396"/>
                  </a:lnTo>
                  <a:lnTo>
                    <a:pt x="295" y="394"/>
                  </a:lnTo>
                  <a:lnTo>
                    <a:pt x="297" y="394"/>
                  </a:lnTo>
                  <a:lnTo>
                    <a:pt x="299" y="396"/>
                  </a:lnTo>
                  <a:lnTo>
                    <a:pt x="302" y="396"/>
                  </a:lnTo>
                  <a:lnTo>
                    <a:pt x="302" y="401"/>
                  </a:lnTo>
                  <a:lnTo>
                    <a:pt x="323" y="401"/>
                  </a:lnTo>
                  <a:lnTo>
                    <a:pt x="327" y="396"/>
                  </a:lnTo>
                  <a:lnTo>
                    <a:pt x="327" y="392"/>
                  </a:lnTo>
                  <a:lnTo>
                    <a:pt x="331" y="387"/>
                  </a:lnTo>
                  <a:lnTo>
                    <a:pt x="338" y="387"/>
                  </a:lnTo>
                  <a:lnTo>
                    <a:pt x="338" y="383"/>
                  </a:lnTo>
                  <a:lnTo>
                    <a:pt x="338" y="385"/>
                  </a:lnTo>
                  <a:lnTo>
                    <a:pt x="339" y="383"/>
                  </a:lnTo>
                  <a:lnTo>
                    <a:pt x="342" y="383"/>
                  </a:lnTo>
                  <a:lnTo>
                    <a:pt x="344" y="383"/>
                  </a:lnTo>
                  <a:lnTo>
                    <a:pt x="344" y="376"/>
                  </a:lnTo>
                  <a:lnTo>
                    <a:pt x="355" y="376"/>
                  </a:lnTo>
                  <a:lnTo>
                    <a:pt x="355" y="372"/>
                  </a:lnTo>
                  <a:lnTo>
                    <a:pt x="355" y="375"/>
                  </a:lnTo>
                  <a:lnTo>
                    <a:pt x="356" y="375"/>
                  </a:lnTo>
                  <a:lnTo>
                    <a:pt x="359" y="372"/>
                  </a:lnTo>
                  <a:lnTo>
                    <a:pt x="363" y="372"/>
                  </a:lnTo>
                  <a:lnTo>
                    <a:pt x="363" y="368"/>
                  </a:lnTo>
                  <a:lnTo>
                    <a:pt x="386" y="368"/>
                  </a:lnTo>
                  <a:lnTo>
                    <a:pt x="386" y="372"/>
                  </a:lnTo>
                  <a:lnTo>
                    <a:pt x="397" y="372"/>
                  </a:lnTo>
                  <a:lnTo>
                    <a:pt x="397" y="376"/>
                  </a:lnTo>
                  <a:lnTo>
                    <a:pt x="407" y="376"/>
                  </a:lnTo>
                  <a:lnTo>
                    <a:pt x="407" y="383"/>
                  </a:lnTo>
                  <a:lnTo>
                    <a:pt x="418" y="383"/>
                  </a:lnTo>
                  <a:lnTo>
                    <a:pt x="418" y="376"/>
                  </a:lnTo>
                  <a:lnTo>
                    <a:pt x="426" y="376"/>
                  </a:lnTo>
                  <a:lnTo>
                    <a:pt x="426" y="372"/>
                  </a:lnTo>
                  <a:lnTo>
                    <a:pt x="427" y="372"/>
                  </a:lnTo>
                  <a:lnTo>
                    <a:pt x="429" y="372"/>
                  </a:lnTo>
                  <a:lnTo>
                    <a:pt x="429" y="368"/>
                  </a:lnTo>
                  <a:lnTo>
                    <a:pt x="439" y="368"/>
                  </a:lnTo>
                  <a:lnTo>
                    <a:pt x="439" y="362"/>
                  </a:lnTo>
                  <a:lnTo>
                    <a:pt x="453" y="362"/>
                  </a:lnTo>
                  <a:lnTo>
                    <a:pt x="453" y="383"/>
                  </a:lnTo>
                  <a:lnTo>
                    <a:pt x="456" y="383"/>
                  </a:lnTo>
                  <a:lnTo>
                    <a:pt x="459" y="383"/>
                  </a:lnTo>
                  <a:lnTo>
                    <a:pt x="463" y="383"/>
                  </a:lnTo>
                  <a:lnTo>
                    <a:pt x="467" y="383"/>
                  </a:lnTo>
                  <a:lnTo>
                    <a:pt x="471" y="383"/>
                  </a:lnTo>
                  <a:lnTo>
                    <a:pt x="475" y="383"/>
                  </a:lnTo>
                  <a:lnTo>
                    <a:pt x="480" y="383"/>
                  </a:lnTo>
                  <a:lnTo>
                    <a:pt x="485" y="383"/>
                  </a:lnTo>
                  <a:lnTo>
                    <a:pt x="490" y="385"/>
                  </a:lnTo>
                  <a:lnTo>
                    <a:pt x="494" y="385"/>
                  </a:lnTo>
                  <a:lnTo>
                    <a:pt x="499" y="385"/>
                  </a:lnTo>
                  <a:lnTo>
                    <a:pt x="503" y="385"/>
                  </a:lnTo>
                  <a:lnTo>
                    <a:pt x="508" y="383"/>
                  </a:lnTo>
                  <a:lnTo>
                    <a:pt x="512" y="383"/>
                  </a:lnTo>
                  <a:lnTo>
                    <a:pt x="514" y="383"/>
                  </a:lnTo>
                  <a:lnTo>
                    <a:pt x="517" y="383"/>
                  </a:lnTo>
                  <a:lnTo>
                    <a:pt x="517" y="376"/>
                  </a:lnTo>
                  <a:lnTo>
                    <a:pt x="520" y="376"/>
                  </a:lnTo>
                  <a:lnTo>
                    <a:pt x="522" y="376"/>
                  </a:lnTo>
                  <a:lnTo>
                    <a:pt x="526" y="376"/>
                  </a:lnTo>
                  <a:lnTo>
                    <a:pt x="531" y="376"/>
                  </a:lnTo>
                  <a:lnTo>
                    <a:pt x="535" y="378"/>
                  </a:lnTo>
                  <a:lnTo>
                    <a:pt x="539" y="379"/>
                  </a:lnTo>
                  <a:lnTo>
                    <a:pt x="542" y="378"/>
                  </a:lnTo>
                  <a:lnTo>
                    <a:pt x="544" y="376"/>
                  </a:lnTo>
                  <a:lnTo>
                    <a:pt x="544" y="372"/>
                  </a:lnTo>
                  <a:lnTo>
                    <a:pt x="546" y="371"/>
                  </a:lnTo>
                  <a:lnTo>
                    <a:pt x="550" y="371"/>
                  </a:lnTo>
                  <a:lnTo>
                    <a:pt x="552" y="372"/>
                  </a:lnTo>
                  <a:lnTo>
                    <a:pt x="558" y="372"/>
                  </a:lnTo>
                  <a:lnTo>
                    <a:pt x="560" y="372"/>
                  </a:lnTo>
                  <a:lnTo>
                    <a:pt x="564" y="372"/>
                  </a:lnTo>
                  <a:lnTo>
                    <a:pt x="568" y="372"/>
                  </a:lnTo>
                  <a:lnTo>
                    <a:pt x="569" y="372"/>
                  </a:lnTo>
                  <a:lnTo>
                    <a:pt x="569" y="368"/>
                  </a:lnTo>
                  <a:lnTo>
                    <a:pt x="580" y="368"/>
                  </a:lnTo>
                  <a:lnTo>
                    <a:pt x="580" y="362"/>
                  </a:lnTo>
                  <a:lnTo>
                    <a:pt x="590" y="362"/>
                  </a:lnTo>
                  <a:lnTo>
                    <a:pt x="593" y="358"/>
                  </a:lnTo>
                  <a:lnTo>
                    <a:pt x="593" y="354"/>
                  </a:lnTo>
                  <a:lnTo>
                    <a:pt x="597" y="348"/>
                  </a:lnTo>
                  <a:lnTo>
                    <a:pt x="608" y="348"/>
                  </a:lnTo>
                  <a:lnTo>
                    <a:pt x="608" y="344"/>
                  </a:lnTo>
                  <a:lnTo>
                    <a:pt x="626" y="344"/>
                  </a:lnTo>
                  <a:lnTo>
                    <a:pt x="626" y="340"/>
                  </a:lnTo>
                  <a:lnTo>
                    <a:pt x="637" y="340"/>
                  </a:lnTo>
                  <a:lnTo>
                    <a:pt x="637" y="334"/>
                  </a:lnTo>
                  <a:lnTo>
                    <a:pt x="646" y="334"/>
                  </a:lnTo>
                  <a:lnTo>
                    <a:pt x="646" y="330"/>
                  </a:lnTo>
                  <a:lnTo>
                    <a:pt x="646" y="332"/>
                  </a:lnTo>
                  <a:lnTo>
                    <a:pt x="647" y="330"/>
                  </a:lnTo>
                  <a:lnTo>
                    <a:pt x="650" y="330"/>
                  </a:lnTo>
                  <a:lnTo>
                    <a:pt x="652" y="330"/>
                  </a:lnTo>
                  <a:lnTo>
                    <a:pt x="652" y="325"/>
                  </a:lnTo>
                  <a:lnTo>
                    <a:pt x="655" y="325"/>
                  </a:lnTo>
                  <a:lnTo>
                    <a:pt x="656" y="325"/>
                  </a:lnTo>
                  <a:lnTo>
                    <a:pt x="657" y="327"/>
                  </a:lnTo>
                  <a:lnTo>
                    <a:pt x="660" y="327"/>
                  </a:lnTo>
                  <a:lnTo>
                    <a:pt x="661" y="327"/>
                  </a:lnTo>
                  <a:lnTo>
                    <a:pt x="663" y="325"/>
                  </a:lnTo>
                  <a:lnTo>
                    <a:pt x="664" y="324"/>
                  </a:lnTo>
                  <a:lnTo>
                    <a:pt x="664" y="320"/>
                  </a:lnTo>
                  <a:lnTo>
                    <a:pt x="895" y="513"/>
                  </a:lnTo>
                  <a:lnTo>
                    <a:pt x="843" y="546"/>
                  </a:lnTo>
                  <a:lnTo>
                    <a:pt x="843" y="606"/>
                  </a:lnTo>
                  <a:lnTo>
                    <a:pt x="766" y="611"/>
                  </a:lnTo>
                  <a:lnTo>
                    <a:pt x="762" y="681"/>
                  </a:lnTo>
                  <a:lnTo>
                    <a:pt x="846" y="686"/>
                  </a:lnTo>
                  <a:lnTo>
                    <a:pt x="822" y="982"/>
                  </a:lnTo>
                  <a:lnTo>
                    <a:pt x="793" y="977"/>
                  </a:lnTo>
                  <a:lnTo>
                    <a:pt x="626" y="1473"/>
                  </a:lnTo>
                  <a:lnTo>
                    <a:pt x="498" y="1398"/>
                  </a:lnTo>
                  <a:lnTo>
                    <a:pt x="433" y="1509"/>
                  </a:lnTo>
                  <a:lnTo>
                    <a:pt x="431" y="1512"/>
                  </a:lnTo>
                  <a:lnTo>
                    <a:pt x="429" y="1513"/>
                  </a:lnTo>
                  <a:lnTo>
                    <a:pt x="426" y="1515"/>
                  </a:lnTo>
                  <a:lnTo>
                    <a:pt x="423" y="1516"/>
                  </a:lnTo>
                  <a:lnTo>
                    <a:pt x="422" y="1519"/>
                  </a:lnTo>
                  <a:lnTo>
                    <a:pt x="421" y="1520"/>
                  </a:lnTo>
                  <a:lnTo>
                    <a:pt x="418" y="1523"/>
                  </a:lnTo>
                  <a:lnTo>
                    <a:pt x="418" y="1526"/>
                  </a:lnTo>
                  <a:lnTo>
                    <a:pt x="407" y="1526"/>
                  </a:lnTo>
                  <a:lnTo>
                    <a:pt x="407" y="1531"/>
                  </a:lnTo>
                  <a:lnTo>
                    <a:pt x="401" y="1531"/>
                  </a:lnTo>
                  <a:lnTo>
                    <a:pt x="397" y="1536"/>
                  </a:lnTo>
                  <a:lnTo>
                    <a:pt x="397" y="1540"/>
                  </a:lnTo>
                  <a:lnTo>
                    <a:pt x="393" y="1540"/>
                  </a:lnTo>
                  <a:lnTo>
                    <a:pt x="393" y="1545"/>
                  </a:lnTo>
                  <a:lnTo>
                    <a:pt x="391" y="1548"/>
                  </a:lnTo>
                  <a:lnTo>
                    <a:pt x="392" y="1548"/>
                  </a:lnTo>
                  <a:lnTo>
                    <a:pt x="391" y="1548"/>
                  </a:lnTo>
                  <a:lnTo>
                    <a:pt x="388" y="1548"/>
                  </a:lnTo>
                  <a:lnTo>
                    <a:pt x="385" y="1548"/>
                  </a:lnTo>
                  <a:lnTo>
                    <a:pt x="384" y="1548"/>
                  </a:lnTo>
                  <a:lnTo>
                    <a:pt x="380" y="1554"/>
                  </a:lnTo>
                  <a:lnTo>
                    <a:pt x="381" y="1552"/>
                  </a:lnTo>
                  <a:lnTo>
                    <a:pt x="381" y="1554"/>
                  </a:lnTo>
                  <a:lnTo>
                    <a:pt x="380" y="1557"/>
                  </a:lnTo>
                  <a:lnTo>
                    <a:pt x="380" y="1562"/>
                  </a:lnTo>
                  <a:lnTo>
                    <a:pt x="377" y="1568"/>
                  </a:lnTo>
                  <a:lnTo>
                    <a:pt x="373" y="1568"/>
                  </a:lnTo>
                  <a:lnTo>
                    <a:pt x="373" y="1573"/>
                  </a:lnTo>
                  <a:lnTo>
                    <a:pt x="369" y="1573"/>
                  </a:lnTo>
                  <a:lnTo>
                    <a:pt x="369" y="1578"/>
                  </a:lnTo>
                  <a:lnTo>
                    <a:pt x="367" y="1578"/>
                  </a:lnTo>
                  <a:lnTo>
                    <a:pt x="363" y="1582"/>
                  </a:lnTo>
                  <a:lnTo>
                    <a:pt x="364" y="1580"/>
                  </a:lnTo>
                  <a:lnTo>
                    <a:pt x="364" y="1582"/>
                  </a:lnTo>
                  <a:lnTo>
                    <a:pt x="363" y="1585"/>
                  </a:lnTo>
                  <a:lnTo>
                    <a:pt x="363" y="1592"/>
                  </a:lnTo>
                  <a:lnTo>
                    <a:pt x="359" y="1596"/>
                  </a:lnTo>
                  <a:lnTo>
                    <a:pt x="355" y="1596"/>
                  </a:lnTo>
                  <a:lnTo>
                    <a:pt x="352" y="1601"/>
                  </a:lnTo>
                  <a:lnTo>
                    <a:pt x="352" y="1609"/>
                  </a:lnTo>
                  <a:lnTo>
                    <a:pt x="348" y="1609"/>
                  </a:lnTo>
                  <a:lnTo>
                    <a:pt x="348" y="1620"/>
                  </a:lnTo>
                  <a:lnTo>
                    <a:pt x="338" y="1620"/>
                  </a:lnTo>
                  <a:lnTo>
                    <a:pt x="338" y="1634"/>
                  </a:lnTo>
                  <a:lnTo>
                    <a:pt x="334" y="1637"/>
                  </a:lnTo>
                  <a:lnTo>
                    <a:pt x="331" y="1637"/>
                  </a:lnTo>
                  <a:lnTo>
                    <a:pt x="331" y="1643"/>
                  </a:lnTo>
                  <a:lnTo>
                    <a:pt x="327" y="1643"/>
                  </a:lnTo>
                  <a:lnTo>
                    <a:pt x="323" y="1647"/>
                  </a:lnTo>
                  <a:lnTo>
                    <a:pt x="325" y="1644"/>
                  </a:lnTo>
                  <a:lnTo>
                    <a:pt x="325" y="1647"/>
                  </a:lnTo>
                  <a:lnTo>
                    <a:pt x="325" y="1650"/>
                  </a:lnTo>
                  <a:lnTo>
                    <a:pt x="323" y="1657"/>
                  </a:lnTo>
                  <a:lnTo>
                    <a:pt x="317" y="1657"/>
                  </a:lnTo>
                  <a:lnTo>
                    <a:pt x="317" y="1662"/>
                  </a:lnTo>
                  <a:lnTo>
                    <a:pt x="310" y="1662"/>
                  </a:lnTo>
                  <a:lnTo>
                    <a:pt x="309" y="1666"/>
                  </a:lnTo>
                  <a:lnTo>
                    <a:pt x="308" y="1666"/>
                  </a:lnTo>
                  <a:lnTo>
                    <a:pt x="308" y="1668"/>
                  </a:lnTo>
                  <a:lnTo>
                    <a:pt x="306" y="1671"/>
                  </a:lnTo>
                  <a:lnTo>
                    <a:pt x="295" y="1671"/>
                  </a:lnTo>
                  <a:lnTo>
                    <a:pt x="295" y="1675"/>
                  </a:lnTo>
                  <a:lnTo>
                    <a:pt x="294" y="1676"/>
                  </a:lnTo>
                  <a:lnTo>
                    <a:pt x="290" y="1678"/>
                  </a:lnTo>
                  <a:lnTo>
                    <a:pt x="284" y="1678"/>
                  </a:lnTo>
                  <a:lnTo>
                    <a:pt x="277" y="1678"/>
                  </a:lnTo>
                  <a:lnTo>
                    <a:pt x="272" y="1676"/>
                  </a:lnTo>
                  <a:lnTo>
                    <a:pt x="267" y="1676"/>
                  </a:lnTo>
                  <a:lnTo>
                    <a:pt x="261" y="1675"/>
                  </a:lnTo>
                  <a:lnTo>
                    <a:pt x="257" y="1675"/>
                  </a:lnTo>
                  <a:lnTo>
                    <a:pt x="256" y="1680"/>
                  </a:lnTo>
                  <a:lnTo>
                    <a:pt x="255" y="1682"/>
                  </a:lnTo>
                  <a:lnTo>
                    <a:pt x="253" y="1685"/>
                  </a:lnTo>
                  <a:lnTo>
                    <a:pt x="246" y="1685"/>
                  </a:lnTo>
                  <a:lnTo>
                    <a:pt x="246" y="1690"/>
                  </a:lnTo>
                  <a:lnTo>
                    <a:pt x="246" y="1689"/>
                  </a:lnTo>
                  <a:lnTo>
                    <a:pt x="243" y="1689"/>
                  </a:lnTo>
                  <a:lnTo>
                    <a:pt x="239" y="1690"/>
                  </a:lnTo>
                  <a:lnTo>
                    <a:pt x="239" y="1696"/>
                  </a:lnTo>
                  <a:lnTo>
                    <a:pt x="197" y="1696"/>
                  </a:lnTo>
                  <a:lnTo>
                    <a:pt x="197" y="1690"/>
                  </a:lnTo>
                  <a:lnTo>
                    <a:pt x="188" y="1690"/>
                  </a:lnTo>
                  <a:lnTo>
                    <a:pt x="188" y="1685"/>
                  </a:lnTo>
                  <a:lnTo>
                    <a:pt x="188" y="1687"/>
                  </a:lnTo>
                  <a:lnTo>
                    <a:pt x="186" y="1687"/>
                  </a:lnTo>
                  <a:lnTo>
                    <a:pt x="185" y="1685"/>
                  </a:lnTo>
                  <a:lnTo>
                    <a:pt x="181" y="1685"/>
                  </a:lnTo>
                  <a:lnTo>
                    <a:pt x="181" y="1680"/>
                  </a:lnTo>
                  <a:lnTo>
                    <a:pt x="170" y="1680"/>
                  </a:lnTo>
                  <a:lnTo>
                    <a:pt x="170" y="1675"/>
                  </a:lnTo>
                  <a:lnTo>
                    <a:pt x="156" y="1675"/>
                  </a:lnTo>
                  <a:lnTo>
                    <a:pt x="156" y="1671"/>
                  </a:lnTo>
                  <a:lnTo>
                    <a:pt x="155" y="1671"/>
                  </a:lnTo>
                  <a:lnTo>
                    <a:pt x="154" y="1671"/>
                  </a:lnTo>
                  <a:lnTo>
                    <a:pt x="154" y="1666"/>
                  </a:lnTo>
                  <a:lnTo>
                    <a:pt x="146" y="1666"/>
                  </a:lnTo>
                  <a:lnTo>
                    <a:pt x="146" y="1662"/>
                  </a:lnTo>
                  <a:lnTo>
                    <a:pt x="146" y="1664"/>
                  </a:lnTo>
                  <a:lnTo>
                    <a:pt x="143" y="1662"/>
                  </a:lnTo>
                  <a:lnTo>
                    <a:pt x="138" y="1662"/>
                  </a:lnTo>
                  <a:lnTo>
                    <a:pt x="138" y="1657"/>
                  </a:lnTo>
                  <a:lnTo>
                    <a:pt x="127" y="1657"/>
                  </a:lnTo>
                  <a:lnTo>
                    <a:pt x="127" y="1654"/>
                  </a:lnTo>
                  <a:lnTo>
                    <a:pt x="124" y="1654"/>
                  </a:lnTo>
                  <a:lnTo>
                    <a:pt x="121" y="1654"/>
                  </a:lnTo>
                  <a:lnTo>
                    <a:pt x="121" y="1647"/>
                  </a:lnTo>
                  <a:lnTo>
                    <a:pt x="114" y="1647"/>
                  </a:lnTo>
                  <a:lnTo>
                    <a:pt x="117" y="1647"/>
                  </a:lnTo>
                  <a:lnTo>
                    <a:pt x="116" y="1643"/>
                  </a:lnTo>
                  <a:lnTo>
                    <a:pt x="114" y="1637"/>
                  </a:lnTo>
                  <a:lnTo>
                    <a:pt x="117" y="1641"/>
                  </a:lnTo>
                  <a:lnTo>
                    <a:pt x="117" y="1643"/>
                  </a:lnTo>
                  <a:lnTo>
                    <a:pt x="117" y="1644"/>
                  </a:lnTo>
                  <a:lnTo>
                    <a:pt x="116" y="1644"/>
                  </a:lnTo>
                  <a:lnTo>
                    <a:pt x="114" y="1644"/>
                  </a:lnTo>
                  <a:lnTo>
                    <a:pt x="113" y="1643"/>
                  </a:lnTo>
                  <a:lnTo>
                    <a:pt x="110" y="1641"/>
                  </a:lnTo>
                  <a:lnTo>
                    <a:pt x="108" y="1637"/>
                  </a:lnTo>
                  <a:lnTo>
                    <a:pt x="104" y="1634"/>
                  </a:lnTo>
                  <a:lnTo>
                    <a:pt x="104" y="1623"/>
                  </a:lnTo>
                  <a:lnTo>
                    <a:pt x="99" y="1623"/>
                  </a:lnTo>
                  <a:lnTo>
                    <a:pt x="99" y="1609"/>
                  </a:lnTo>
                  <a:lnTo>
                    <a:pt x="97" y="1609"/>
                  </a:lnTo>
                  <a:lnTo>
                    <a:pt x="97" y="1601"/>
                  </a:lnTo>
                  <a:lnTo>
                    <a:pt x="97" y="1604"/>
                  </a:lnTo>
                  <a:lnTo>
                    <a:pt x="95" y="1604"/>
                  </a:lnTo>
                  <a:lnTo>
                    <a:pt x="94" y="1602"/>
                  </a:lnTo>
                  <a:lnTo>
                    <a:pt x="89" y="1601"/>
                  </a:lnTo>
                  <a:lnTo>
                    <a:pt x="89" y="1592"/>
                  </a:lnTo>
                  <a:lnTo>
                    <a:pt x="86" y="1592"/>
                  </a:lnTo>
                  <a:lnTo>
                    <a:pt x="82" y="1568"/>
                  </a:lnTo>
                  <a:lnTo>
                    <a:pt x="84" y="1534"/>
                  </a:lnTo>
                  <a:lnTo>
                    <a:pt x="85" y="1499"/>
                  </a:lnTo>
                  <a:lnTo>
                    <a:pt x="86" y="1475"/>
                  </a:lnTo>
                  <a:lnTo>
                    <a:pt x="89" y="1473"/>
                  </a:lnTo>
                  <a:lnTo>
                    <a:pt x="89" y="1471"/>
                  </a:lnTo>
                  <a:lnTo>
                    <a:pt x="90" y="1469"/>
                  </a:lnTo>
                  <a:lnTo>
                    <a:pt x="93" y="1469"/>
                  </a:lnTo>
                  <a:lnTo>
                    <a:pt x="93" y="1461"/>
                  </a:lnTo>
                  <a:lnTo>
                    <a:pt x="97" y="1461"/>
                  </a:lnTo>
                  <a:lnTo>
                    <a:pt x="94" y="1461"/>
                  </a:lnTo>
                  <a:lnTo>
                    <a:pt x="95" y="1459"/>
                  </a:lnTo>
                  <a:lnTo>
                    <a:pt x="95" y="1455"/>
                  </a:lnTo>
                  <a:lnTo>
                    <a:pt x="97" y="1451"/>
                  </a:lnTo>
                  <a:lnTo>
                    <a:pt x="99" y="1451"/>
                  </a:lnTo>
                  <a:lnTo>
                    <a:pt x="99" y="1431"/>
                  </a:lnTo>
                  <a:lnTo>
                    <a:pt x="104" y="1431"/>
                  </a:lnTo>
                  <a:lnTo>
                    <a:pt x="104" y="1429"/>
                  </a:lnTo>
                  <a:lnTo>
                    <a:pt x="104" y="1427"/>
                  </a:lnTo>
                  <a:lnTo>
                    <a:pt x="108" y="1427"/>
                  </a:lnTo>
                  <a:lnTo>
                    <a:pt x="106" y="1429"/>
                  </a:lnTo>
                  <a:lnTo>
                    <a:pt x="105" y="1427"/>
                  </a:lnTo>
                  <a:lnTo>
                    <a:pt x="104" y="1424"/>
                  </a:lnTo>
                  <a:lnTo>
                    <a:pt x="108" y="1419"/>
                  </a:lnTo>
                  <a:lnTo>
                    <a:pt x="110" y="1417"/>
                  </a:lnTo>
                  <a:lnTo>
                    <a:pt x="112" y="1415"/>
                  </a:lnTo>
                  <a:lnTo>
                    <a:pt x="112" y="1413"/>
                  </a:lnTo>
                  <a:lnTo>
                    <a:pt x="114" y="1413"/>
                  </a:lnTo>
                  <a:lnTo>
                    <a:pt x="114" y="1394"/>
                  </a:lnTo>
                  <a:lnTo>
                    <a:pt x="118" y="1394"/>
                  </a:lnTo>
                  <a:lnTo>
                    <a:pt x="118" y="1385"/>
                  </a:lnTo>
                  <a:lnTo>
                    <a:pt x="121" y="1380"/>
                  </a:lnTo>
                  <a:lnTo>
                    <a:pt x="124" y="1380"/>
                  </a:lnTo>
                  <a:lnTo>
                    <a:pt x="127" y="1377"/>
                  </a:lnTo>
                  <a:lnTo>
                    <a:pt x="127" y="1358"/>
                  </a:lnTo>
                  <a:lnTo>
                    <a:pt x="127" y="1363"/>
                  </a:lnTo>
                  <a:lnTo>
                    <a:pt x="128" y="1365"/>
                  </a:lnTo>
                  <a:lnTo>
                    <a:pt x="131" y="1361"/>
                  </a:lnTo>
                  <a:lnTo>
                    <a:pt x="135" y="1358"/>
                  </a:lnTo>
                  <a:lnTo>
                    <a:pt x="135" y="1348"/>
                  </a:lnTo>
                  <a:lnTo>
                    <a:pt x="138" y="1348"/>
                  </a:lnTo>
                  <a:lnTo>
                    <a:pt x="136" y="1348"/>
                  </a:lnTo>
                  <a:lnTo>
                    <a:pt x="136" y="1347"/>
                  </a:lnTo>
                  <a:lnTo>
                    <a:pt x="138" y="1344"/>
                  </a:lnTo>
                  <a:lnTo>
                    <a:pt x="138" y="1338"/>
                  </a:lnTo>
                  <a:lnTo>
                    <a:pt x="143" y="1338"/>
                  </a:lnTo>
                  <a:lnTo>
                    <a:pt x="143" y="1324"/>
                  </a:lnTo>
                  <a:lnTo>
                    <a:pt x="146" y="1323"/>
                  </a:lnTo>
                  <a:lnTo>
                    <a:pt x="146" y="1320"/>
                  </a:lnTo>
                  <a:lnTo>
                    <a:pt x="150" y="1319"/>
                  </a:lnTo>
                  <a:lnTo>
                    <a:pt x="148" y="1323"/>
                  </a:lnTo>
                  <a:lnTo>
                    <a:pt x="147" y="1320"/>
                  </a:lnTo>
                  <a:lnTo>
                    <a:pt x="146" y="1317"/>
                  </a:lnTo>
                  <a:lnTo>
                    <a:pt x="150" y="1310"/>
                  </a:lnTo>
                  <a:lnTo>
                    <a:pt x="152" y="1310"/>
                  </a:lnTo>
                  <a:lnTo>
                    <a:pt x="154" y="1308"/>
                  </a:lnTo>
                  <a:lnTo>
                    <a:pt x="154" y="1306"/>
                  </a:lnTo>
                  <a:lnTo>
                    <a:pt x="156" y="1305"/>
                  </a:lnTo>
                  <a:lnTo>
                    <a:pt x="156" y="1291"/>
                  </a:lnTo>
                  <a:lnTo>
                    <a:pt x="160" y="1291"/>
                  </a:lnTo>
                  <a:lnTo>
                    <a:pt x="158" y="1291"/>
                  </a:lnTo>
                  <a:lnTo>
                    <a:pt x="159" y="1291"/>
                  </a:lnTo>
                  <a:lnTo>
                    <a:pt x="159" y="1287"/>
                  </a:lnTo>
                  <a:lnTo>
                    <a:pt x="160" y="1282"/>
                  </a:lnTo>
                  <a:lnTo>
                    <a:pt x="163" y="1282"/>
                  </a:lnTo>
                  <a:lnTo>
                    <a:pt x="161" y="1282"/>
                  </a:lnTo>
                  <a:lnTo>
                    <a:pt x="161" y="1280"/>
                  </a:lnTo>
                  <a:lnTo>
                    <a:pt x="163" y="1278"/>
                  </a:lnTo>
                  <a:lnTo>
                    <a:pt x="163" y="1273"/>
                  </a:lnTo>
                  <a:lnTo>
                    <a:pt x="167" y="1273"/>
                  </a:lnTo>
                  <a:lnTo>
                    <a:pt x="168" y="1266"/>
                  </a:lnTo>
                  <a:lnTo>
                    <a:pt x="169" y="1259"/>
                  </a:lnTo>
                  <a:lnTo>
                    <a:pt x="168" y="1249"/>
                  </a:lnTo>
                  <a:lnTo>
                    <a:pt x="167" y="1240"/>
                  </a:lnTo>
                  <a:lnTo>
                    <a:pt x="165" y="1231"/>
                  </a:lnTo>
                  <a:lnTo>
                    <a:pt x="164" y="1223"/>
                  </a:lnTo>
                  <a:lnTo>
                    <a:pt x="165" y="1213"/>
                  </a:lnTo>
                  <a:lnTo>
                    <a:pt x="167" y="1206"/>
                  </a:lnTo>
                  <a:lnTo>
                    <a:pt x="170" y="1206"/>
                  </a:lnTo>
                  <a:lnTo>
                    <a:pt x="172" y="1196"/>
                  </a:lnTo>
                  <a:lnTo>
                    <a:pt x="170" y="1180"/>
                  </a:lnTo>
                  <a:lnTo>
                    <a:pt x="169" y="1166"/>
                  </a:lnTo>
                  <a:lnTo>
                    <a:pt x="170" y="1156"/>
                  </a:lnTo>
                  <a:lnTo>
                    <a:pt x="173" y="1156"/>
                  </a:lnTo>
                  <a:lnTo>
                    <a:pt x="172" y="1156"/>
                  </a:lnTo>
                  <a:lnTo>
                    <a:pt x="172" y="1154"/>
                  </a:lnTo>
                  <a:lnTo>
                    <a:pt x="173" y="1152"/>
                  </a:lnTo>
                  <a:lnTo>
                    <a:pt x="173" y="1147"/>
                  </a:lnTo>
                  <a:lnTo>
                    <a:pt x="177" y="1147"/>
                  </a:lnTo>
                  <a:lnTo>
                    <a:pt x="177" y="1131"/>
                  </a:lnTo>
                  <a:lnTo>
                    <a:pt x="181" y="1131"/>
                  </a:lnTo>
                  <a:lnTo>
                    <a:pt x="181" y="1085"/>
                  </a:lnTo>
                  <a:lnTo>
                    <a:pt x="177" y="1085"/>
                  </a:lnTo>
                  <a:lnTo>
                    <a:pt x="176" y="1072"/>
                  </a:lnTo>
                  <a:lnTo>
                    <a:pt x="177" y="1054"/>
                  </a:lnTo>
                  <a:lnTo>
                    <a:pt x="178" y="1038"/>
                  </a:lnTo>
                  <a:lnTo>
                    <a:pt x="177" y="1024"/>
                  </a:lnTo>
                  <a:lnTo>
                    <a:pt x="173" y="1024"/>
                  </a:lnTo>
                  <a:lnTo>
                    <a:pt x="173" y="996"/>
                  </a:lnTo>
                  <a:lnTo>
                    <a:pt x="170" y="996"/>
                  </a:lnTo>
                  <a:lnTo>
                    <a:pt x="169" y="986"/>
                  </a:lnTo>
                  <a:lnTo>
                    <a:pt x="170" y="972"/>
                  </a:lnTo>
                  <a:lnTo>
                    <a:pt x="172" y="960"/>
                  </a:lnTo>
                  <a:lnTo>
                    <a:pt x="170" y="949"/>
                  </a:lnTo>
                  <a:lnTo>
                    <a:pt x="167" y="949"/>
                  </a:lnTo>
                  <a:lnTo>
                    <a:pt x="168" y="949"/>
                  </a:lnTo>
                  <a:lnTo>
                    <a:pt x="168" y="947"/>
                  </a:lnTo>
                  <a:lnTo>
                    <a:pt x="167" y="946"/>
                  </a:lnTo>
                  <a:lnTo>
                    <a:pt x="167" y="941"/>
                  </a:lnTo>
                  <a:lnTo>
                    <a:pt x="163" y="941"/>
                  </a:lnTo>
                  <a:lnTo>
                    <a:pt x="163" y="931"/>
                  </a:lnTo>
                  <a:lnTo>
                    <a:pt x="160" y="930"/>
                  </a:lnTo>
                  <a:lnTo>
                    <a:pt x="160" y="928"/>
                  </a:lnTo>
                  <a:lnTo>
                    <a:pt x="159" y="927"/>
                  </a:lnTo>
                  <a:lnTo>
                    <a:pt x="156" y="927"/>
                  </a:lnTo>
                  <a:lnTo>
                    <a:pt x="156" y="893"/>
                  </a:lnTo>
                  <a:lnTo>
                    <a:pt x="154" y="893"/>
                  </a:lnTo>
                  <a:lnTo>
                    <a:pt x="154" y="892"/>
                  </a:lnTo>
                  <a:lnTo>
                    <a:pt x="154" y="889"/>
                  </a:lnTo>
                  <a:lnTo>
                    <a:pt x="154" y="884"/>
                  </a:lnTo>
                  <a:lnTo>
                    <a:pt x="150" y="884"/>
                  </a:lnTo>
                  <a:lnTo>
                    <a:pt x="150" y="874"/>
                  </a:lnTo>
                  <a:lnTo>
                    <a:pt x="146" y="874"/>
                  </a:lnTo>
                  <a:lnTo>
                    <a:pt x="146" y="872"/>
                  </a:lnTo>
                  <a:lnTo>
                    <a:pt x="146" y="870"/>
                  </a:lnTo>
                  <a:lnTo>
                    <a:pt x="143" y="870"/>
                  </a:lnTo>
                  <a:lnTo>
                    <a:pt x="143" y="851"/>
                  </a:lnTo>
                  <a:lnTo>
                    <a:pt x="138" y="846"/>
                  </a:lnTo>
                  <a:lnTo>
                    <a:pt x="135" y="846"/>
                  </a:lnTo>
                  <a:lnTo>
                    <a:pt x="131" y="842"/>
                  </a:lnTo>
                  <a:lnTo>
                    <a:pt x="131" y="832"/>
                  </a:lnTo>
                  <a:lnTo>
                    <a:pt x="127" y="832"/>
                  </a:lnTo>
                  <a:lnTo>
                    <a:pt x="127" y="823"/>
                  </a:lnTo>
                  <a:lnTo>
                    <a:pt x="124" y="818"/>
                  </a:lnTo>
                  <a:lnTo>
                    <a:pt x="121" y="818"/>
                  </a:lnTo>
                  <a:lnTo>
                    <a:pt x="121" y="814"/>
                  </a:lnTo>
                  <a:lnTo>
                    <a:pt x="118" y="814"/>
                  </a:lnTo>
                  <a:lnTo>
                    <a:pt x="114" y="809"/>
                  </a:lnTo>
                  <a:lnTo>
                    <a:pt x="114" y="795"/>
                  </a:lnTo>
                  <a:lnTo>
                    <a:pt x="114" y="800"/>
                  </a:lnTo>
                  <a:lnTo>
                    <a:pt x="113" y="800"/>
                  </a:lnTo>
                  <a:lnTo>
                    <a:pt x="112" y="796"/>
                  </a:lnTo>
                  <a:lnTo>
                    <a:pt x="108" y="795"/>
                  </a:lnTo>
                  <a:lnTo>
                    <a:pt x="104" y="789"/>
                  </a:lnTo>
                  <a:lnTo>
                    <a:pt x="99" y="786"/>
                  </a:lnTo>
                  <a:lnTo>
                    <a:pt x="102" y="786"/>
                  </a:lnTo>
                  <a:lnTo>
                    <a:pt x="101" y="782"/>
                  </a:lnTo>
                  <a:lnTo>
                    <a:pt x="99" y="775"/>
                  </a:lnTo>
                  <a:lnTo>
                    <a:pt x="101" y="781"/>
                  </a:lnTo>
                  <a:lnTo>
                    <a:pt x="102" y="782"/>
                  </a:lnTo>
                  <a:lnTo>
                    <a:pt x="101" y="785"/>
                  </a:lnTo>
                  <a:lnTo>
                    <a:pt x="99" y="782"/>
                  </a:lnTo>
                  <a:lnTo>
                    <a:pt x="97" y="782"/>
                  </a:lnTo>
                  <a:lnTo>
                    <a:pt x="95" y="779"/>
                  </a:lnTo>
                  <a:lnTo>
                    <a:pt x="93" y="775"/>
                  </a:lnTo>
                  <a:lnTo>
                    <a:pt x="91" y="772"/>
                  </a:lnTo>
                  <a:lnTo>
                    <a:pt x="91" y="768"/>
                  </a:lnTo>
                  <a:lnTo>
                    <a:pt x="90" y="765"/>
                  </a:lnTo>
                  <a:lnTo>
                    <a:pt x="89" y="761"/>
                  </a:lnTo>
                  <a:lnTo>
                    <a:pt x="86" y="756"/>
                  </a:lnTo>
                  <a:lnTo>
                    <a:pt x="82" y="756"/>
                  </a:lnTo>
                  <a:lnTo>
                    <a:pt x="82" y="753"/>
                  </a:lnTo>
                  <a:lnTo>
                    <a:pt x="79" y="753"/>
                  </a:lnTo>
                  <a:lnTo>
                    <a:pt x="76" y="748"/>
                  </a:lnTo>
                  <a:lnTo>
                    <a:pt x="77" y="749"/>
                  </a:lnTo>
                  <a:lnTo>
                    <a:pt x="76" y="746"/>
                  </a:lnTo>
                  <a:lnTo>
                    <a:pt x="76" y="739"/>
                  </a:lnTo>
                  <a:lnTo>
                    <a:pt x="73" y="739"/>
                  </a:lnTo>
                  <a:lnTo>
                    <a:pt x="72" y="735"/>
                  </a:lnTo>
                  <a:lnTo>
                    <a:pt x="68" y="734"/>
                  </a:lnTo>
                  <a:lnTo>
                    <a:pt x="69" y="735"/>
                  </a:lnTo>
                  <a:lnTo>
                    <a:pt x="71" y="735"/>
                  </a:lnTo>
                  <a:lnTo>
                    <a:pt x="72" y="730"/>
                  </a:lnTo>
                  <a:lnTo>
                    <a:pt x="68" y="725"/>
                  </a:lnTo>
                  <a:lnTo>
                    <a:pt x="65" y="720"/>
                  </a:lnTo>
                  <a:lnTo>
                    <a:pt x="67" y="721"/>
                  </a:lnTo>
                  <a:lnTo>
                    <a:pt x="65" y="721"/>
                  </a:lnTo>
                  <a:lnTo>
                    <a:pt x="64" y="721"/>
                  </a:lnTo>
                  <a:lnTo>
                    <a:pt x="63" y="721"/>
                  </a:lnTo>
                  <a:lnTo>
                    <a:pt x="60" y="720"/>
                  </a:lnTo>
                  <a:lnTo>
                    <a:pt x="59" y="720"/>
                  </a:lnTo>
                  <a:lnTo>
                    <a:pt x="59" y="700"/>
                  </a:lnTo>
                  <a:lnTo>
                    <a:pt x="55" y="697"/>
                  </a:lnTo>
                  <a:lnTo>
                    <a:pt x="51" y="697"/>
                  </a:lnTo>
                  <a:lnTo>
                    <a:pt x="47" y="692"/>
                  </a:lnTo>
                  <a:lnTo>
                    <a:pt x="47" y="683"/>
                  </a:lnTo>
                  <a:lnTo>
                    <a:pt x="44" y="683"/>
                  </a:lnTo>
                  <a:lnTo>
                    <a:pt x="44" y="668"/>
                  </a:lnTo>
                  <a:lnTo>
                    <a:pt x="40" y="664"/>
                  </a:lnTo>
                  <a:lnTo>
                    <a:pt x="38" y="664"/>
                  </a:lnTo>
                  <a:lnTo>
                    <a:pt x="34" y="660"/>
                  </a:lnTo>
                  <a:lnTo>
                    <a:pt x="35" y="660"/>
                  </a:lnTo>
                  <a:lnTo>
                    <a:pt x="35" y="657"/>
                  </a:lnTo>
                  <a:lnTo>
                    <a:pt x="34" y="650"/>
                  </a:lnTo>
                  <a:lnTo>
                    <a:pt x="30" y="650"/>
                  </a:lnTo>
                  <a:lnTo>
                    <a:pt x="30" y="646"/>
                  </a:lnTo>
                  <a:lnTo>
                    <a:pt x="26" y="644"/>
                  </a:lnTo>
                  <a:lnTo>
                    <a:pt x="27" y="646"/>
                  </a:lnTo>
                  <a:lnTo>
                    <a:pt x="30" y="646"/>
                  </a:lnTo>
                  <a:lnTo>
                    <a:pt x="30" y="643"/>
                  </a:lnTo>
                  <a:lnTo>
                    <a:pt x="26" y="636"/>
                  </a:lnTo>
                  <a:lnTo>
                    <a:pt x="23" y="630"/>
                  </a:lnTo>
                  <a:lnTo>
                    <a:pt x="19" y="630"/>
                  </a:lnTo>
                  <a:lnTo>
                    <a:pt x="15" y="627"/>
                  </a:lnTo>
                  <a:lnTo>
                    <a:pt x="15" y="613"/>
                  </a:lnTo>
                  <a:lnTo>
                    <a:pt x="12" y="613"/>
                  </a:lnTo>
                  <a:lnTo>
                    <a:pt x="14" y="613"/>
                  </a:lnTo>
                  <a:lnTo>
                    <a:pt x="14" y="611"/>
                  </a:lnTo>
                  <a:lnTo>
                    <a:pt x="12" y="607"/>
                  </a:lnTo>
                  <a:lnTo>
                    <a:pt x="12" y="603"/>
                  </a:lnTo>
                  <a:lnTo>
                    <a:pt x="8" y="603"/>
                  </a:lnTo>
                  <a:lnTo>
                    <a:pt x="8" y="588"/>
                  </a:lnTo>
                  <a:lnTo>
                    <a:pt x="6" y="588"/>
                  </a:lnTo>
                  <a:lnTo>
                    <a:pt x="6" y="574"/>
                  </a:lnTo>
                  <a:lnTo>
                    <a:pt x="2" y="574"/>
                  </a:lnTo>
                  <a:lnTo>
                    <a:pt x="0" y="550"/>
                  </a:lnTo>
                  <a:lnTo>
                    <a:pt x="0" y="503"/>
                  </a:lnTo>
                  <a:lnTo>
                    <a:pt x="0" y="455"/>
                  </a:lnTo>
                  <a:lnTo>
                    <a:pt x="2" y="430"/>
                  </a:lnTo>
                  <a:lnTo>
                    <a:pt x="6" y="430"/>
                  </a:lnTo>
                  <a:lnTo>
                    <a:pt x="6" y="406"/>
                  </a:lnTo>
                  <a:lnTo>
                    <a:pt x="8" y="406"/>
                  </a:lnTo>
                  <a:lnTo>
                    <a:pt x="8" y="387"/>
                  </a:lnTo>
                  <a:lnTo>
                    <a:pt x="12" y="387"/>
                  </a:lnTo>
                  <a:lnTo>
                    <a:pt x="12" y="369"/>
                  </a:lnTo>
                  <a:lnTo>
                    <a:pt x="15" y="369"/>
                  </a:lnTo>
                  <a:lnTo>
                    <a:pt x="15" y="344"/>
                  </a:lnTo>
                  <a:lnTo>
                    <a:pt x="18" y="344"/>
                  </a:lnTo>
                  <a:lnTo>
                    <a:pt x="21" y="340"/>
                  </a:lnTo>
                  <a:lnTo>
                    <a:pt x="22" y="334"/>
                  </a:lnTo>
                  <a:lnTo>
                    <a:pt x="23" y="330"/>
                  </a:lnTo>
                  <a:lnTo>
                    <a:pt x="26" y="330"/>
                  </a:lnTo>
                  <a:lnTo>
                    <a:pt x="26" y="329"/>
                  </a:lnTo>
                  <a:lnTo>
                    <a:pt x="27" y="327"/>
                  </a:lnTo>
                  <a:lnTo>
                    <a:pt x="30" y="327"/>
                  </a:lnTo>
                  <a:lnTo>
                    <a:pt x="30" y="308"/>
                  </a:lnTo>
                  <a:lnTo>
                    <a:pt x="34" y="304"/>
                  </a:lnTo>
                  <a:lnTo>
                    <a:pt x="38" y="304"/>
                  </a:lnTo>
                  <a:lnTo>
                    <a:pt x="38" y="297"/>
                  </a:lnTo>
                  <a:lnTo>
                    <a:pt x="40" y="297"/>
                  </a:lnTo>
                  <a:lnTo>
                    <a:pt x="40" y="294"/>
                  </a:lnTo>
                  <a:lnTo>
                    <a:pt x="44" y="294"/>
                  </a:lnTo>
                  <a:lnTo>
                    <a:pt x="44" y="289"/>
                  </a:lnTo>
                  <a:lnTo>
                    <a:pt x="47" y="289"/>
                  </a:lnTo>
                  <a:lnTo>
                    <a:pt x="47" y="283"/>
                  </a:lnTo>
                  <a:lnTo>
                    <a:pt x="51" y="283"/>
                  </a:lnTo>
                  <a:lnTo>
                    <a:pt x="51" y="280"/>
                  </a:lnTo>
                  <a:lnTo>
                    <a:pt x="55" y="280"/>
                  </a:lnTo>
                  <a:lnTo>
                    <a:pt x="55" y="275"/>
                  </a:lnTo>
                  <a:lnTo>
                    <a:pt x="59" y="269"/>
                  </a:lnTo>
                  <a:lnTo>
                    <a:pt x="68" y="269"/>
                  </a:lnTo>
                  <a:lnTo>
                    <a:pt x="72" y="266"/>
                  </a:lnTo>
                  <a:lnTo>
                    <a:pt x="71" y="268"/>
                  </a:lnTo>
                  <a:lnTo>
                    <a:pt x="71" y="266"/>
                  </a:lnTo>
                  <a:lnTo>
                    <a:pt x="72" y="262"/>
                  </a:lnTo>
                  <a:lnTo>
                    <a:pt x="72" y="255"/>
                  </a:lnTo>
                  <a:lnTo>
                    <a:pt x="76" y="251"/>
                  </a:lnTo>
                  <a:lnTo>
                    <a:pt x="86" y="251"/>
                  </a:lnTo>
                  <a:lnTo>
                    <a:pt x="86" y="247"/>
                  </a:lnTo>
                  <a:lnTo>
                    <a:pt x="87" y="247"/>
                  </a:lnTo>
                  <a:lnTo>
                    <a:pt x="89" y="244"/>
                  </a:lnTo>
                  <a:lnTo>
                    <a:pt x="89" y="241"/>
                  </a:lnTo>
                  <a:lnTo>
                    <a:pt x="87" y="243"/>
                  </a:lnTo>
                  <a:lnTo>
                    <a:pt x="89" y="244"/>
                  </a:lnTo>
                  <a:lnTo>
                    <a:pt x="90" y="244"/>
                  </a:lnTo>
                  <a:lnTo>
                    <a:pt x="91" y="244"/>
                  </a:lnTo>
                  <a:lnTo>
                    <a:pt x="94" y="244"/>
                  </a:lnTo>
                  <a:lnTo>
                    <a:pt x="97" y="241"/>
                  </a:lnTo>
                  <a:lnTo>
                    <a:pt x="97" y="237"/>
                  </a:lnTo>
                  <a:lnTo>
                    <a:pt x="98" y="237"/>
                  </a:lnTo>
                  <a:lnTo>
                    <a:pt x="99" y="236"/>
                  </a:lnTo>
                  <a:lnTo>
                    <a:pt x="99" y="233"/>
                  </a:lnTo>
                  <a:lnTo>
                    <a:pt x="112" y="233"/>
                  </a:lnTo>
                  <a:lnTo>
                    <a:pt x="114" y="229"/>
                  </a:lnTo>
                  <a:lnTo>
                    <a:pt x="113" y="230"/>
                  </a:lnTo>
                  <a:lnTo>
                    <a:pt x="113" y="229"/>
                  </a:lnTo>
                  <a:lnTo>
                    <a:pt x="114" y="226"/>
                  </a:lnTo>
                  <a:lnTo>
                    <a:pt x="114" y="219"/>
                  </a:lnTo>
                  <a:lnTo>
                    <a:pt x="121" y="219"/>
                  </a:lnTo>
                  <a:lnTo>
                    <a:pt x="121" y="213"/>
                  </a:lnTo>
                  <a:lnTo>
                    <a:pt x="127" y="213"/>
                  </a:lnTo>
                  <a:lnTo>
                    <a:pt x="128" y="210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0" y="204"/>
                  </a:lnTo>
                  <a:lnTo>
                    <a:pt x="130" y="206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2" y="208"/>
                  </a:lnTo>
                  <a:lnTo>
                    <a:pt x="134" y="208"/>
                  </a:lnTo>
                  <a:lnTo>
                    <a:pt x="136" y="208"/>
                  </a:lnTo>
                  <a:lnTo>
                    <a:pt x="138" y="204"/>
                  </a:lnTo>
                  <a:lnTo>
                    <a:pt x="139" y="201"/>
                  </a:lnTo>
                  <a:lnTo>
                    <a:pt x="140" y="199"/>
                  </a:lnTo>
                  <a:lnTo>
                    <a:pt x="142" y="199"/>
                  </a:lnTo>
                  <a:lnTo>
                    <a:pt x="143" y="196"/>
                  </a:lnTo>
                  <a:lnTo>
                    <a:pt x="154" y="196"/>
                  </a:lnTo>
                  <a:lnTo>
                    <a:pt x="156" y="190"/>
                  </a:lnTo>
                  <a:lnTo>
                    <a:pt x="156" y="176"/>
                  </a:lnTo>
                  <a:lnTo>
                    <a:pt x="156" y="182"/>
                  </a:lnTo>
                  <a:lnTo>
                    <a:pt x="158" y="182"/>
                  </a:lnTo>
                  <a:lnTo>
                    <a:pt x="159" y="179"/>
                  </a:lnTo>
                  <a:lnTo>
                    <a:pt x="163" y="176"/>
                  </a:lnTo>
                  <a:lnTo>
                    <a:pt x="167" y="172"/>
                  </a:lnTo>
                  <a:lnTo>
                    <a:pt x="167" y="162"/>
                  </a:lnTo>
                  <a:lnTo>
                    <a:pt x="170" y="162"/>
                  </a:lnTo>
                  <a:lnTo>
                    <a:pt x="172" y="152"/>
                  </a:lnTo>
                  <a:lnTo>
                    <a:pt x="170" y="136"/>
                  </a:lnTo>
                  <a:lnTo>
                    <a:pt x="169" y="122"/>
                  </a:lnTo>
                  <a:lnTo>
                    <a:pt x="170" y="112"/>
                  </a:lnTo>
                  <a:lnTo>
                    <a:pt x="173" y="112"/>
                  </a:lnTo>
                  <a:lnTo>
                    <a:pt x="173" y="96"/>
                  </a:lnTo>
                  <a:lnTo>
                    <a:pt x="177" y="96"/>
                  </a:lnTo>
                  <a:lnTo>
                    <a:pt x="177" y="83"/>
                  </a:lnTo>
                  <a:lnTo>
                    <a:pt x="181" y="83"/>
                  </a:lnTo>
                  <a:lnTo>
                    <a:pt x="181" y="65"/>
                  </a:lnTo>
                  <a:lnTo>
                    <a:pt x="184" y="65"/>
                  </a:lnTo>
                  <a:lnTo>
                    <a:pt x="184" y="36"/>
                  </a:lnTo>
                  <a:lnTo>
                    <a:pt x="188" y="36"/>
                  </a:lnTo>
                  <a:lnTo>
                    <a:pt x="188" y="17"/>
                  </a:lnTo>
                  <a:lnTo>
                    <a:pt x="192" y="17"/>
                  </a:lnTo>
                  <a:lnTo>
                    <a:pt x="189" y="17"/>
                  </a:lnTo>
                  <a:lnTo>
                    <a:pt x="191" y="15"/>
                  </a:lnTo>
                  <a:lnTo>
                    <a:pt x="191" y="13"/>
                  </a:lnTo>
                  <a:lnTo>
                    <a:pt x="192" y="8"/>
                  </a:lnTo>
                  <a:lnTo>
                    <a:pt x="195" y="8"/>
                  </a:lnTo>
                  <a:lnTo>
                    <a:pt x="197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81560" y="3857760"/>
              <a:ext cx="1314720" cy="2619360"/>
            </a:xfrm>
            <a:custGeom>
              <a:avLst/>
              <a:gdLst/>
              <a:ahLst/>
              <a:rect l="l" t="t" r="r" b="b"/>
              <a:pathLst>
                <a:path w="828" h="1650">
                  <a:moveTo>
                    <a:pt x="0" y="526"/>
                  </a:moveTo>
                  <a:lnTo>
                    <a:pt x="69" y="431"/>
                  </a:lnTo>
                  <a:lnTo>
                    <a:pt x="195" y="501"/>
                  </a:lnTo>
                  <a:lnTo>
                    <a:pt x="356" y="0"/>
                  </a:lnTo>
                  <a:lnTo>
                    <a:pt x="770" y="29"/>
                  </a:lnTo>
                  <a:lnTo>
                    <a:pt x="827" y="347"/>
                  </a:lnTo>
                  <a:lnTo>
                    <a:pt x="820" y="683"/>
                  </a:lnTo>
                  <a:lnTo>
                    <a:pt x="770" y="675"/>
                  </a:lnTo>
                  <a:lnTo>
                    <a:pt x="823" y="1203"/>
                  </a:lnTo>
                  <a:lnTo>
                    <a:pt x="685" y="1224"/>
                  </a:lnTo>
                  <a:lnTo>
                    <a:pt x="654" y="1486"/>
                  </a:lnTo>
                  <a:lnTo>
                    <a:pt x="653" y="1487"/>
                  </a:lnTo>
                  <a:lnTo>
                    <a:pt x="651" y="1490"/>
                  </a:lnTo>
                  <a:lnTo>
                    <a:pt x="648" y="1494"/>
                  </a:lnTo>
                  <a:lnTo>
                    <a:pt x="646" y="1496"/>
                  </a:lnTo>
                  <a:lnTo>
                    <a:pt x="645" y="1500"/>
                  </a:lnTo>
                  <a:lnTo>
                    <a:pt x="642" y="1503"/>
                  </a:lnTo>
                  <a:lnTo>
                    <a:pt x="641" y="1504"/>
                  </a:lnTo>
                  <a:lnTo>
                    <a:pt x="643" y="1501"/>
                  </a:lnTo>
                  <a:lnTo>
                    <a:pt x="645" y="1500"/>
                  </a:lnTo>
                  <a:lnTo>
                    <a:pt x="645" y="1497"/>
                  </a:lnTo>
                  <a:lnTo>
                    <a:pt x="643" y="1500"/>
                  </a:lnTo>
                  <a:lnTo>
                    <a:pt x="642" y="1501"/>
                  </a:lnTo>
                  <a:lnTo>
                    <a:pt x="639" y="1503"/>
                  </a:lnTo>
                  <a:lnTo>
                    <a:pt x="637" y="1504"/>
                  </a:lnTo>
                  <a:lnTo>
                    <a:pt x="634" y="1504"/>
                  </a:lnTo>
                  <a:lnTo>
                    <a:pt x="633" y="1508"/>
                  </a:lnTo>
                  <a:lnTo>
                    <a:pt x="632" y="1510"/>
                  </a:lnTo>
                  <a:lnTo>
                    <a:pt x="631" y="1510"/>
                  </a:lnTo>
                  <a:lnTo>
                    <a:pt x="631" y="1514"/>
                  </a:lnTo>
                  <a:lnTo>
                    <a:pt x="632" y="1514"/>
                  </a:lnTo>
                  <a:lnTo>
                    <a:pt x="632" y="1512"/>
                  </a:lnTo>
                  <a:lnTo>
                    <a:pt x="631" y="1510"/>
                  </a:lnTo>
                  <a:lnTo>
                    <a:pt x="629" y="1510"/>
                  </a:lnTo>
                  <a:lnTo>
                    <a:pt x="628" y="1510"/>
                  </a:lnTo>
                  <a:lnTo>
                    <a:pt x="625" y="1512"/>
                  </a:lnTo>
                  <a:lnTo>
                    <a:pt x="622" y="1514"/>
                  </a:lnTo>
                  <a:lnTo>
                    <a:pt x="622" y="1517"/>
                  </a:lnTo>
                  <a:lnTo>
                    <a:pt x="621" y="1519"/>
                  </a:lnTo>
                  <a:lnTo>
                    <a:pt x="620" y="1522"/>
                  </a:lnTo>
                  <a:lnTo>
                    <a:pt x="605" y="1522"/>
                  </a:lnTo>
                  <a:lnTo>
                    <a:pt x="605" y="1526"/>
                  </a:lnTo>
                  <a:lnTo>
                    <a:pt x="604" y="1528"/>
                  </a:lnTo>
                  <a:lnTo>
                    <a:pt x="603" y="1528"/>
                  </a:lnTo>
                  <a:lnTo>
                    <a:pt x="603" y="1533"/>
                  </a:lnTo>
                  <a:lnTo>
                    <a:pt x="603" y="1531"/>
                  </a:lnTo>
                  <a:lnTo>
                    <a:pt x="604" y="1531"/>
                  </a:lnTo>
                  <a:lnTo>
                    <a:pt x="604" y="1529"/>
                  </a:lnTo>
                  <a:lnTo>
                    <a:pt x="603" y="1529"/>
                  </a:lnTo>
                  <a:lnTo>
                    <a:pt x="601" y="1528"/>
                  </a:lnTo>
                  <a:lnTo>
                    <a:pt x="600" y="1528"/>
                  </a:lnTo>
                  <a:lnTo>
                    <a:pt x="597" y="1529"/>
                  </a:lnTo>
                  <a:lnTo>
                    <a:pt x="595" y="1533"/>
                  </a:lnTo>
                  <a:lnTo>
                    <a:pt x="595" y="1536"/>
                  </a:lnTo>
                  <a:lnTo>
                    <a:pt x="594" y="1536"/>
                  </a:lnTo>
                  <a:lnTo>
                    <a:pt x="592" y="1538"/>
                  </a:lnTo>
                  <a:lnTo>
                    <a:pt x="592" y="1542"/>
                  </a:lnTo>
                  <a:lnTo>
                    <a:pt x="577" y="1542"/>
                  </a:lnTo>
                  <a:lnTo>
                    <a:pt x="577" y="1547"/>
                  </a:lnTo>
                  <a:lnTo>
                    <a:pt x="571" y="1547"/>
                  </a:lnTo>
                  <a:lnTo>
                    <a:pt x="569" y="1550"/>
                  </a:lnTo>
                  <a:lnTo>
                    <a:pt x="567" y="1552"/>
                  </a:lnTo>
                  <a:lnTo>
                    <a:pt x="564" y="1555"/>
                  </a:lnTo>
                  <a:lnTo>
                    <a:pt x="563" y="1561"/>
                  </a:lnTo>
                  <a:lnTo>
                    <a:pt x="553" y="1561"/>
                  </a:lnTo>
                  <a:lnTo>
                    <a:pt x="550" y="1564"/>
                  </a:lnTo>
                  <a:lnTo>
                    <a:pt x="551" y="1564"/>
                  </a:lnTo>
                  <a:lnTo>
                    <a:pt x="550" y="1568"/>
                  </a:lnTo>
                  <a:lnTo>
                    <a:pt x="550" y="1575"/>
                  </a:lnTo>
                  <a:lnTo>
                    <a:pt x="542" y="1575"/>
                  </a:lnTo>
                  <a:lnTo>
                    <a:pt x="542" y="1580"/>
                  </a:lnTo>
                  <a:lnTo>
                    <a:pt x="535" y="1580"/>
                  </a:lnTo>
                  <a:lnTo>
                    <a:pt x="538" y="1580"/>
                  </a:lnTo>
                  <a:lnTo>
                    <a:pt x="538" y="1582"/>
                  </a:lnTo>
                  <a:lnTo>
                    <a:pt x="537" y="1583"/>
                  </a:lnTo>
                  <a:lnTo>
                    <a:pt x="535" y="1589"/>
                  </a:lnTo>
                  <a:lnTo>
                    <a:pt x="538" y="1586"/>
                  </a:lnTo>
                  <a:lnTo>
                    <a:pt x="538" y="1583"/>
                  </a:lnTo>
                  <a:lnTo>
                    <a:pt x="538" y="1582"/>
                  </a:lnTo>
                  <a:lnTo>
                    <a:pt x="535" y="1582"/>
                  </a:lnTo>
                  <a:lnTo>
                    <a:pt x="533" y="1583"/>
                  </a:lnTo>
                  <a:lnTo>
                    <a:pt x="531" y="1586"/>
                  </a:lnTo>
                  <a:lnTo>
                    <a:pt x="529" y="1589"/>
                  </a:lnTo>
                  <a:lnTo>
                    <a:pt x="528" y="1593"/>
                  </a:lnTo>
                  <a:lnTo>
                    <a:pt x="526" y="1594"/>
                  </a:lnTo>
                  <a:lnTo>
                    <a:pt x="525" y="1597"/>
                  </a:lnTo>
                  <a:lnTo>
                    <a:pt x="526" y="1597"/>
                  </a:lnTo>
                  <a:lnTo>
                    <a:pt x="526" y="1596"/>
                  </a:lnTo>
                  <a:lnTo>
                    <a:pt x="525" y="1594"/>
                  </a:lnTo>
                  <a:lnTo>
                    <a:pt x="522" y="1594"/>
                  </a:lnTo>
                  <a:lnTo>
                    <a:pt x="520" y="1596"/>
                  </a:lnTo>
                  <a:lnTo>
                    <a:pt x="517" y="1597"/>
                  </a:lnTo>
                  <a:lnTo>
                    <a:pt x="517" y="1601"/>
                  </a:lnTo>
                  <a:lnTo>
                    <a:pt x="516" y="1603"/>
                  </a:lnTo>
                  <a:lnTo>
                    <a:pt x="515" y="1603"/>
                  </a:lnTo>
                  <a:lnTo>
                    <a:pt x="515" y="1608"/>
                  </a:lnTo>
                  <a:lnTo>
                    <a:pt x="515" y="1607"/>
                  </a:lnTo>
                  <a:lnTo>
                    <a:pt x="516" y="1607"/>
                  </a:lnTo>
                  <a:lnTo>
                    <a:pt x="516" y="1604"/>
                  </a:lnTo>
                  <a:lnTo>
                    <a:pt x="515" y="1604"/>
                  </a:lnTo>
                  <a:lnTo>
                    <a:pt x="513" y="1603"/>
                  </a:lnTo>
                  <a:lnTo>
                    <a:pt x="512" y="1603"/>
                  </a:lnTo>
                  <a:lnTo>
                    <a:pt x="509" y="1604"/>
                  </a:lnTo>
                  <a:lnTo>
                    <a:pt x="506" y="1608"/>
                  </a:lnTo>
                  <a:lnTo>
                    <a:pt x="506" y="1611"/>
                  </a:lnTo>
                  <a:lnTo>
                    <a:pt x="505" y="1611"/>
                  </a:lnTo>
                  <a:lnTo>
                    <a:pt x="504" y="1611"/>
                  </a:lnTo>
                  <a:lnTo>
                    <a:pt x="504" y="1617"/>
                  </a:lnTo>
                  <a:lnTo>
                    <a:pt x="491" y="1617"/>
                  </a:lnTo>
                  <a:lnTo>
                    <a:pt x="491" y="1622"/>
                  </a:lnTo>
                  <a:lnTo>
                    <a:pt x="479" y="1622"/>
                  </a:lnTo>
                  <a:lnTo>
                    <a:pt x="479" y="1626"/>
                  </a:lnTo>
                  <a:lnTo>
                    <a:pt x="466" y="1626"/>
                  </a:lnTo>
                  <a:lnTo>
                    <a:pt x="466" y="1631"/>
                  </a:lnTo>
                  <a:lnTo>
                    <a:pt x="462" y="1633"/>
                  </a:lnTo>
                  <a:lnTo>
                    <a:pt x="458" y="1635"/>
                  </a:lnTo>
                  <a:lnTo>
                    <a:pt x="454" y="1636"/>
                  </a:lnTo>
                  <a:lnTo>
                    <a:pt x="449" y="1636"/>
                  </a:lnTo>
                  <a:lnTo>
                    <a:pt x="445" y="1636"/>
                  </a:lnTo>
                  <a:lnTo>
                    <a:pt x="440" y="1635"/>
                  </a:lnTo>
                  <a:lnTo>
                    <a:pt x="434" y="1635"/>
                  </a:lnTo>
                  <a:lnTo>
                    <a:pt x="429" y="1633"/>
                  </a:lnTo>
                  <a:lnTo>
                    <a:pt x="425" y="1633"/>
                  </a:lnTo>
                  <a:lnTo>
                    <a:pt x="419" y="1633"/>
                  </a:lnTo>
                  <a:lnTo>
                    <a:pt x="414" y="1631"/>
                  </a:lnTo>
                  <a:lnTo>
                    <a:pt x="409" y="1631"/>
                  </a:lnTo>
                  <a:lnTo>
                    <a:pt x="405" y="1631"/>
                  </a:lnTo>
                  <a:lnTo>
                    <a:pt x="401" y="1633"/>
                  </a:lnTo>
                  <a:lnTo>
                    <a:pt x="399" y="1633"/>
                  </a:lnTo>
                  <a:lnTo>
                    <a:pt x="396" y="1636"/>
                  </a:lnTo>
                  <a:lnTo>
                    <a:pt x="396" y="1640"/>
                  </a:lnTo>
                  <a:lnTo>
                    <a:pt x="385" y="1640"/>
                  </a:lnTo>
                  <a:lnTo>
                    <a:pt x="385" y="1645"/>
                  </a:lnTo>
                  <a:lnTo>
                    <a:pt x="381" y="1647"/>
                  </a:lnTo>
                  <a:lnTo>
                    <a:pt x="377" y="1647"/>
                  </a:lnTo>
                  <a:lnTo>
                    <a:pt x="372" y="1649"/>
                  </a:lnTo>
                  <a:lnTo>
                    <a:pt x="367" y="1649"/>
                  </a:lnTo>
                  <a:lnTo>
                    <a:pt x="360" y="1649"/>
                  </a:lnTo>
                  <a:lnTo>
                    <a:pt x="352" y="1649"/>
                  </a:lnTo>
                  <a:lnTo>
                    <a:pt x="346" y="1649"/>
                  </a:lnTo>
                  <a:lnTo>
                    <a:pt x="339" y="1649"/>
                  </a:lnTo>
                  <a:lnTo>
                    <a:pt x="332" y="1649"/>
                  </a:lnTo>
                  <a:lnTo>
                    <a:pt x="324" y="1647"/>
                  </a:lnTo>
                  <a:lnTo>
                    <a:pt x="317" y="1647"/>
                  </a:lnTo>
                  <a:lnTo>
                    <a:pt x="310" y="1647"/>
                  </a:lnTo>
                  <a:lnTo>
                    <a:pt x="304" y="1647"/>
                  </a:lnTo>
                  <a:lnTo>
                    <a:pt x="298" y="1645"/>
                  </a:lnTo>
                  <a:lnTo>
                    <a:pt x="293" y="1645"/>
                  </a:lnTo>
                  <a:lnTo>
                    <a:pt x="291" y="1645"/>
                  </a:lnTo>
                  <a:lnTo>
                    <a:pt x="285" y="1645"/>
                  </a:lnTo>
                  <a:lnTo>
                    <a:pt x="279" y="1645"/>
                  </a:lnTo>
                  <a:lnTo>
                    <a:pt x="272" y="1647"/>
                  </a:lnTo>
                  <a:lnTo>
                    <a:pt x="264" y="1647"/>
                  </a:lnTo>
                  <a:lnTo>
                    <a:pt x="257" y="1647"/>
                  </a:lnTo>
                  <a:lnTo>
                    <a:pt x="250" y="1647"/>
                  </a:lnTo>
                  <a:lnTo>
                    <a:pt x="244" y="1647"/>
                  </a:lnTo>
                  <a:lnTo>
                    <a:pt x="240" y="1645"/>
                  </a:lnTo>
                  <a:lnTo>
                    <a:pt x="240" y="1640"/>
                  </a:lnTo>
                  <a:lnTo>
                    <a:pt x="227" y="1640"/>
                  </a:lnTo>
                  <a:lnTo>
                    <a:pt x="227" y="1636"/>
                  </a:lnTo>
                  <a:lnTo>
                    <a:pt x="213" y="1636"/>
                  </a:lnTo>
                  <a:lnTo>
                    <a:pt x="213" y="1631"/>
                  </a:lnTo>
                  <a:lnTo>
                    <a:pt x="210" y="1631"/>
                  </a:lnTo>
                  <a:lnTo>
                    <a:pt x="209" y="1631"/>
                  </a:lnTo>
                  <a:lnTo>
                    <a:pt x="206" y="1631"/>
                  </a:lnTo>
                  <a:lnTo>
                    <a:pt x="205" y="1629"/>
                  </a:lnTo>
                  <a:lnTo>
                    <a:pt x="202" y="1629"/>
                  </a:lnTo>
                  <a:lnTo>
                    <a:pt x="201" y="1628"/>
                  </a:lnTo>
                  <a:lnTo>
                    <a:pt x="199" y="1626"/>
                  </a:lnTo>
                  <a:lnTo>
                    <a:pt x="198" y="1622"/>
                  </a:lnTo>
                  <a:lnTo>
                    <a:pt x="192" y="1622"/>
                  </a:lnTo>
                  <a:lnTo>
                    <a:pt x="192" y="1617"/>
                  </a:lnTo>
                  <a:lnTo>
                    <a:pt x="181" y="1617"/>
                  </a:lnTo>
                  <a:lnTo>
                    <a:pt x="181" y="1611"/>
                  </a:lnTo>
                  <a:lnTo>
                    <a:pt x="175" y="1611"/>
                  </a:lnTo>
                  <a:lnTo>
                    <a:pt x="173" y="1608"/>
                  </a:lnTo>
                  <a:lnTo>
                    <a:pt x="172" y="1607"/>
                  </a:lnTo>
                  <a:lnTo>
                    <a:pt x="171" y="1603"/>
                  </a:lnTo>
                  <a:lnTo>
                    <a:pt x="164" y="1603"/>
                  </a:lnTo>
                  <a:lnTo>
                    <a:pt x="164" y="1597"/>
                  </a:lnTo>
                  <a:lnTo>
                    <a:pt x="164" y="1600"/>
                  </a:lnTo>
                  <a:lnTo>
                    <a:pt x="163" y="1600"/>
                  </a:lnTo>
                  <a:lnTo>
                    <a:pt x="161" y="1597"/>
                  </a:lnTo>
                  <a:lnTo>
                    <a:pt x="156" y="1597"/>
                  </a:lnTo>
                  <a:lnTo>
                    <a:pt x="156" y="1594"/>
                  </a:lnTo>
                  <a:lnTo>
                    <a:pt x="143" y="1589"/>
                  </a:lnTo>
                  <a:lnTo>
                    <a:pt x="142" y="1586"/>
                  </a:lnTo>
                  <a:lnTo>
                    <a:pt x="142" y="1583"/>
                  </a:lnTo>
                  <a:lnTo>
                    <a:pt x="139" y="1583"/>
                  </a:lnTo>
                  <a:lnTo>
                    <a:pt x="139" y="1580"/>
                  </a:lnTo>
                  <a:lnTo>
                    <a:pt x="128" y="1580"/>
                  </a:lnTo>
                  <a:lnTo>
                    <a:pt x="128" y="1575"/>
                  </a:lnTo>
                  <a:lnTo>
                    <a:pt x="122" y="1575"/>
                  </a:lnTo>
                  <a:lnTo>
                    <a:pt x="118" y="1569"/>
                  </a:lnTo>
                  <a:lnTo>
                    <a:pt x="118" y="1564"/>
                  </a:lnTo>
                  <a:lnTo>
                    <a:pt x="115" y="1561"/>
                  </a:lnTo>
                  <a:lnTo>
                    <a:pt x="115" y="1562"/>
                  </a:lnTo>
                  <a:lnTo>
                    <a:pt x="114" y="1561"/>
                  </a:lnTo>
                  <a:lnTo>
                    <a:pt x="111" y="1561"/>
                  </a:lnTo>
                  <a:lnTo>
                    <a:pt x="110" y="1561"/>
                  </a:lnTo>
                  <a:lnTo>
                    <a:pt x="108" y="1561"/>
                  </a:lnTo>
                  <a:lnTo>
                    <a:pt x="104" y="1555"/>
                  </a:lnTo>
                  <a:lnTo>
                    <a:pt x="104" y="1550"/>
                  </a:lnTo>
                  <a:lnTo>
                    <a:pt x="100" y="1550"/>
                  </a:lnTo>
                  <a:lnTo>
                    <a:pt x="100" y="1547"/>
                  </a:lnTo>
                  <a:lnTo>
                    <a:pt x="97" y="1542"/>
                  </a:lnTo>
                  <a:lnTo>
                    <a:pt x="98" y="1543"/>
                  </a:lnTo>
                  <a:lnTo>
                    <a:pt x="97" y="1543"/>
                  </a:lnTo>
                  <a:lnTo>
                    <a:pt x="94" y="1543"/>
                  </a:lnTo>
                  <a:lnTo>
                    <a:pt x="92" y="1542"/>
                  </a:lnTo>
                  <a:lnTo>
                    <a:pt x="90" y="1542"/>
                  </a:lnTo>
                  <a:lnTo>
                    <a:pt x="86" y="1536"/>
                  </a:lnTo>
                  <a:lnTo>
                    <a:pt x="88" y="1540"/>
                  </a:lnTo>
                  <a:lnTo>
                    <a:pt x="88" y="1538"/>
                  </a:lnTo>
                  <a:lnTo>
                    <a:pt x="88" y="1533"/>
                  </a:lnTo>
                  <a:lnTo>
                    <a:pt x="86" y="1528"/>
                  </a:lnTo>
                  <a:lnTo>
                    <a:pt x="84" y="1522"/>
                  </a:lnTo>
                  <a:lnTo>
                    <a:pt x="80" y="1522"/>
                  </a:lnTo>
                  <a:lnTo>
                    <a:pt x="76" y="1519"/>
                  </a:lnTo>
                  <a:lnTo>
                    <a:pt x="76" y="1515"/>
                  </a:lnTo>
                  <a:lnTo>
                    <a:pt x="75" y="1512"/>
                  </a:lnTo>
                  <a:lnTo>
                    <a:pt x="73" y="1508"/>
                  </a:lnTo>
                  <a:lnTo>
                    <a:pt x="72" y="1504"/>
                  </a:lnTo>
                  <a:lnTo>
                    <a:pt x="69" y="1500"/>
                  </a:lnTo>
                  <a:lnTo>
                    <a:pt x="66" y="1500"/>
                  </a:lnTo>
                  <a:lnTo>
                    <a:pt x="62" y="1494"/>
                  </a:lnTo>
                  <a:lnTo>
                    <a:pt x="62" y="1490"/>
                  </a:lnTo>
                  <a:lnTo>
                    <a:pt x="60" y="1487"/>
                  </a:lnTo>
                  <a:lnTo>
                    <a:pt x="59" y="1483"/>
                  </a:lnTo>
                  <a:lnTo>
                    <a:pt x="59" y="1480"/>
                  </a:lnTo>
                  <a:lnTo>
                    <a:pt x="55" y="1480"/>
                  </a:lnTo>
                  <a:lnTo>
                    <a:pt x="55" y="1479"/>
                  </a:lnTo>
                  <a:lnTo>
                    <a:pt x="55" y="1476"/>
                  </a:lnTo>
                  <a:lnTo>
                    <a:pt x="51" y="1476"/>
                  </a:lnTo>
                  <a:lnTo>
                    <a:pt x="51" y="1473"/>
                  </a:lnTo>
                  <a:lnTo>
                    <a:pt x="49" y="1469"/>
                  </a:lnTo>
                  <a:lnTo>
                    <a:pt x="47" y="1468"/>
                  </a:lnTo>
                  <a:lnTo>
                    <a:pt x="44" y="1468"/>
                  </a:lnTo>
                  <a:lnTo>
                    <a:pt x="44" y="1452"/>
                  </a:lnTo>
                  <a:lnTo>
                    <a:pt x="40" y="1447"/>
                  </a:lnTo>
                  <a:lnTo>
                    <a:pt x="41" y="1448"/>
                  </a:lnTo>
                  <a:lnTo>
                    <a:pt x="43" y="1450"/>
                  </a:lnTo>
                  <a:lnTo>
                    <a:pt x="41" y="1450"/>
                  </a:lnTo>
                  <a:lnTo>
                    <a:pt x="40" y="1448"/>
                  </a:lnTo>
                  <a:lnTo>
                    <a:pt x="38" y="1448"/>
                  </a:lnTo>
                  <a:lnTo>
                    <a:pt x="36" y="1447"/>
                  </a:lnTo>
                  <a:lnTo>
                    <a:pt x="34" y="1447"/>
                  </a:lnTo>
                  <a:lnTo>
                    <a:pt x="34" y="1438"/>
                  </a:lnTo>
                  <a:lnTo>
                    <a:pt x="31" y="1438"/>
                  </a:lnTo>
                  <a:lnTo>
                    <a:pt x="31" y="1429"/>
                  </a:lnTo>
                  <a:lnTo>
                    <a:pt x="27" y="1429"/>
                  </a:lnTo>
                  <a:lnTo>
                    <a:pt x="27" y="1428"/>
                  </a:lnTo>
                  <a:lnTo>
                    <a:pt x="26" y="1426"/>
                  </a:lnTo>
                  <a:lnTo>
                    <a:pt x="23" y="1424"/>
                  </a:lnTo>
                  <a:lnTo>
                    <a:pt x="25" y="1428"/>
                  </a:lnTo>
                  <a:lnTo>
                    <a:pt x="26" y="1426"/>
                  </a:lnTo>
                  <a:lnTo>
                    <a:pt x="26" y="1421"/>
                  </a:lnTo>
                  <a:lnTo>
                    <a:pt x="23" y="1415"/>
                  </a:lnTo>
                  <a:lnTo>
                    <a:pt x="21" y="1414"/>
                  </a:lnTo>
                  <a:lnTo>
                    <a:pt x="19" y="1412"/>
                  </a:lnTo>
                  <a:lnTo>
                    <a:pt x="17" y="1410"/>
                  </a:lnTo>
                  <a:lnTo>
                    <a:pt x="17" y="1393"/>
                  </a:lnTo>
                  <a:lnTo>
                    <a:pt x="13" y="1393"/>
                  </a:lnTo>
                  <a:lnTo>
                    <a:pt x="15" y="1393"/>
                  </a:lnTo>
                  <a:lnTo>
                    <a:pt x="14" y="1390"/>
                  </a:lnTo>
                  <a:lnTo>
                    <a:pt x="14" y="1389"/>
                  </a:lnTo>
                  <a:lnTo>
                    <a:pt x="13" y="1382"/>
                  </a:lnTo>
                  <a:lnTo>
                    <a:pt x="10" y="1382"/>
                  </a:lnTo>
                  <a:lnTo>
                    <a:pt x="11" y="1382"/>
                  </a:lnTo>
                  <a:lnTo>
                    <a:pt x="10" y="1379"/>
                  </a:lnTo>
                  <a:lnTo>
                    <a:pt x="10" y="1373"/>
                  </a:lnTo>
                  <a:lnTo>
                    <a:pt x="6" y="1373"/>
                  </a:lnTo>
                  <a:lnTo>
                    <a:pt x="6" y="1354"/>
                  </a:lnTo>
                  <a:lnTo>
                    <a:pt x="2" y="1354"/>
                  </a:lnTo>
                  <a:lnTo>
                    <a:pt x="1" y="1331"/>
                  </a:lnTo>
                  <a:lnTo>
                    <a:pt x="0" y="1286"/>
                  </a:lnTo>
                  <a:lnTo>
                    <a:pt x="1" y="1241"/>
                  </a:lnTo>
                  <a:lnTo>
                    <a:pt x="2" y="1217"/>
                  </a:lnTo>
                  <a:lnTo>
                    <a:pt x="6" y="1217"/>
                  </a:lnTo>
                  <a:lnTo>
                    <a:pt x="6" y="1194"/>
                  </a:lnTo>
                  <a:lnTo>
                    <a:pt x="10" y="1194"/>
                  </a:lnTo>
                  <a:lnTo>
                    <a:pt x="7" y="1194"/>
                  </a:lnTo>
                  <a:lnTo>
                    <a:pt x="8" y="1194"/>
                  </a:lnTo>
                  <a:lnTo>
                    <a:pt x="8" y="1190"/>
                  </a:lnTo>
                  <a:lnTo>
                    <a:pt x="10" y="1186"/>
                  </a:lnTo>
                  <a:lnTo>
                    <a:pt x="13" y="1186"/>
                  </a:lnTo>
                  <a:lnTo>
                    <a:pt x="13" y="1166"/>
                  </a:lnTo>
                  <a:lnTo>
                    <a:pt x="17" y="1166"/>
                  </a:lnTo>
                  <a:lnTo>
                    <a:pt x="17" y="1129"/>
                  </a:lnTo>
                  <a:lnTo>
                    <a:pt x="21" y="1124"/>
                  </a:lnTo>
                  <a:lnTo>
                    <a:pt x="108" y="622"/>
                  </a:lnTo>
                  <a:lnTo>
                    <a:pt x="108" y="580"/>
                  </a:lnTo>
                  <a:lnTo>
                    <a:pt x="104" y="580"/>
                  </a:lnTo>
                  <a:lnTo>
                    <a:pt x="104" y="572"/>
                  </a:lnTo>
                  <a:lnTo>
                    <a:pt x="93" y="572"/>
                  </a:lnTo>
                  <a:lnTo>
                    <a:pt x="97" y="572"/>
                  </a:lnTo>
                  <a:lnTo>
                    <a:pt x="98" y="572"/>
                  </a:lnTo>
                  <a:lnTo>
                    <a:pt x="98" y="569"/>
                  </a:lnTo>
                  <a:lnTo>
                    <a:pt x="97" y="569"/>
                  </a:lnTo>
                  <a:lnTo>
                    <a:pt x="96" y="569"/>
                  </a:lnTo>
                  <a:lnTo>
                    <a:pt x="94" y="566"/>
                  </a:lnTo>
                  <a:lnTo>
                    <a:pt x="94" y="565"/>
                  </a:lnTo>
                  <a:lnTo>
                    <a:pt x="93" y="562"/>
                  </a:lnTo>
                  <a:lnTo>
                    <a:pt x="90" y="558"/>
                  </a:lnTo>
                  <a:lnTo>
                    <a:pt x="84" y="558"/>
                  </a:lnTo>
                  <a:lnTo>
                    <a:pt x="84" y="552"/>
                  </a:lnTo>
                  <a:lnTo>
                    <a:pt x="55" y="552"/>
                  </a:lnTo>
                  <a:lnTo>
                    <a:pt x="55" y="548"/>
                  </a:lnTo>
                  <a:lnTo>
                    <a:pt x="53" y="547"/>
                  </a:lnTo>
                  <a:lnTo>
                    <a:pt x="52" y="547"/>
                  </a:lnTo>
                  <a:lnTo>
                    <a:pt x="51" y="541"/>
                  </a:lnTo>
                  <a:lnTo>
                    <a:pt x="44" y="541"/>
                  </a:lnTo>
                  <a:lnTo>
                    <a:pt x="44" y="538"/>
                  </a:lnTo>
                  <a:lnTo>
                    <a:pt x="44" y="540"/>
                  </a:lnTo>
                  <a:lnTo>
                    <a:pt x="43" y="540"/>
                  </a:lnTo>
                  <a:lnTo>
                    <a:pt x="41" y="538"/>
                  </a:lnTo>
                  <a:lnTo>
                    <a:pt x="38" y="538"/>
                  </a:lnTo>
                  <a:lnTo>
                    <a:pt x="38" y="533"/>
                  </a:lnTo>
                  <a:lnTo>
                    <a:pt x="35" y="531"/>
                  </a:lnTo>
                  <a:lnTo>
                    <a:pt x="31" y="531"/>
                  </a:lnTo>
                  <a:lnTo>
                    <a:pt x="29" y="533"/>
                  </a:lnTo>
                  <a:lnTo>
                    <a:pt x="23" y="533"/>
                  </a:lnTo>
                  <a:lnTo>
                    <a:pt x="19" y="534"/>
                  </a:lnTo>
                  <a:lnTo>
                    <a:pt x="15" y="534"/>
                  </a:lnTo>
                  <a:lnTo>
                    <a:pt x="11" y="534"/>
                  </a:lnTo>
                  <a:lnTo>
                    <a:pt x="10" y="533"/>
                  </a:lnTo>
                  <a:lnTo>
                    <a:pt x="10" y="527"/>
                  </a:lnTo>
                  <a:lnTo>
                    <a:pt x="2" y="527"/>
                  </a:lnTo>
                  <a:lnTo>
                    <a:pt x="0" y="52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23040" y="3719520"/>
              <a:ext cx="1774800" cy="2508120"/>
            </a:xfrm>
            <a:custGeom>
              <a:avLst/>
              <a:gdLst/>
              <a:ahLst/>
              <a:rect l="l" t="t" r="r" b="b"/>
              <a:pathLst>
                <a:path w="1118" h="1580">
                  <a:moveTo>
                    <a:pt x="112" y="112"/>
                  </a:moveTo>
                  <a:lnTo>
                    <a:pt x="408" y="89"/>
                  </a:lnTo>
                  <a:lnTo>
                    <a:pt x="456" y="0"/>
                  </a:lnTo>
                  <a:lnTo>
                    <a:pt x="724" y="73"/>
                  </a:lnTo>
                  <a:lnTo>
                    <a:pt x="733" y="10"/>
                  </a:lnTo>
                  <a:lnTo>
                    <a:pt x="1045" y="44"/>
                  </a:lnTo>
                  <a:lnTo>
                    <a:pt x="1044" y="96"/>
                  </a:lnTo>
                  <a:lnTo>
                    <a:pt x="1044" y="84"/>
                  </a:lnTo>
                  <a:lnTo>
                    <a:pt x="1044" y="82"/>
                  </a:lnTo>
                  <a:lnTo>
                    <a:pt x="1046" y="89"/>
                  </a:lnTo>
                  <a:lnTo>
                    <a:pt x="1049" y="96"/>
                  </a:lnTo>
                  <a:lnTo>
                    <a:pt x="1049" y="106"/>
                  </a:lnTo>
                  <a:lnTo>
                    <a:pt x="1052" y="120"/>
                  </a:lnTo>
                  <a:lnTo>
                    <a:pt x="1053" y="136"/>
                  </a:lnTo>
                  <a:lnTo>
                    <a:pt x="1054" y="154"/>
                  </a:lnTo>
                  <a:lnTo>
                    <a:pt x="1056" y="172"/>
                  </a:lnTo>
                  <a:lnTo>
                    <a:pt x="1056" y="187"/>
                  </a:lnTo>
                  <a:lnTo>
                    <a:pt x="1054" y="201"/>
                  </a:lnTo>
                  <a:lnTo>
                    <a:pt x="1052" y="212"/>
                  </a:lnTo>
                  <a:lnTo>
                    <a:pt x="1049" y="212"/>
                  </a:lnTo>
                  <a:lnTo>
                    <a:pt x="1050" y="212"/>
                  </a:lnTo>
                  <a:lnTo>
                    <a:pt x="1050" y="213"/>
                  </a:lnTo>
                  <a:lnTo>
                    <a:pt x="1049" y="215"/>
                  </a:lnTo>
                  <a:lnTo>
                    <a:pt x="1049" y="219"/>
                  </a:lnTo>
                  <a:lnTo>
                    <a:pt x="1046" y="219"/>
                  </a:lnTo>
                  <a:lnTo>
                    <a:pt x="1048" y="219"/>
                  </a:lnTo>
                  <a:lnTo>
                    <a:pt x="1048" y="220"/>
                  </a:lnTo>
                  <a:lnTo>
                    <a:pt x="1046" y="222"/>
                  </a:lnTo>
                  <a:lnTo>
                    <a:pt x="1046" y="227"/>
                  </a:lnTo>
                  <a:lnTo>
                    <a:pt x="1044" y="227"/>
                  </a:lnTo>
                  <a:lnTo>
                    <a:pt x="1045" y="227"/>
                  </a:lnTo>
                  <a:lnTo>
                    <a:pt x="1044" y="229"/>
                  </a:lnTo>
                  <a:lnTo>
                    <a:pt x="1044" y="234"/>
                  </a:lnTo>
                  <a:lnTo>
                    <a:pt x="1041" y="234"/>
                  </a:lnTo>
                  <a:lnTo>
                    <a:pt x="1041" y="250"/>
                  </a:lnTo>
                  <a:lnTo>
                    <a:pt x="1039" y="250"/>
                  </a:lnTo>
                  <a:lnTo>
                    <a:pt x="1039" y="252"/>
                  </a:lnTo>
                  <a:lnTo>
                    <a:pt x="1039" y="254"/>
                  </a:lnTo>
                  <a:lnTo>
                    <a:pt x="1039" y="259"/>
                  </a:lnTo>
                  <a:lnTo>
                    <a:pt x="1035" y="259"/>
                  </a:lnTo>
                  <a:lnTo>
                    <a:pt x="1036" y="259"/>
                  </a:lnTo>
                  <a:lnTo>
                    <a:pt x="1035" y="261"/>
                  </a:lnTo>
                  <a:lnTo>
                    <a:pt x="1035" y="266"/>
                  </a:lnTo>
                  <a:lnTo>
                    <a:pt x="1032" y="266"/>
                  </a:lnTo>
                  <a:lnTo>
                    <a:pt x="1032" y="282"/>
                  </a:lnTo>
                  <a:lnTo>
                    <a:pt x="1028" y="282"/>
                  </a:lnTo>
                  <a:lnTo>
                    <a:pt x="1028" y="287"/>
                  </a:lnTo>
                  <a:lnTo>
                    <a:pt x="1028" y="298"/>
                  </a:lnTo>
                  <a:lnTo>
                    <a:pt x="1030" y="306"/>
                  </a:lnTo>
                  <a:lnTo>
                    <a:pt x="1028" y="313"/>
                  </a:lnTo>
                  <a:lnTo>
                    <a:pt x="1026" y="313"/>
                  </a:lnTo>
                  <a:lnTo>
                    <a:pt x="1026" y="323"/>
                  </a:lnTo>
                  <a:lnTo>
                    <a:pt x="1024" y="326"/>
                  </a:lnTo>
                  <a:lnTo>
                    <a:pt x="1023" y="327"/>
                  </a:lnTo>
                  <a:lnTo>
                    <a:pt x="1020" y="329"/>
                  </a:lnTo>
                  <a:lnTo>
                    <a:pt x="1020" y="340"/>
                  </a:lnTo>
                  <a:lnTo>
                    <a:pt x="1018" y="340"/>
                  </a:lnTo>
                  <a:lnTo>
                    <a:pt x="1018" y="359"/>
                  </a:lnTo>
                  <a:lnTo>
                    <a:pt x="1015" y="361"/>
                  </a:lnTo>
                  <a:lnTo>
                    <a:pt x="1013" y="362"/>
                  </a:lnTo>
                  <a:lnTo>
                    <a:pt x="1011" y="362"/>
                  </a:lnTo>
                  <a:lnTo>
                    <a:pt x="1012" y="362"/>
                  </a:lnTo>
                  <a:lnTo>
                    <a:pt x="1013" y="362"/>
                  </a:lnTo>
                  <a:lnTo>
                    <a:pt x="1013" y="366"/>
                  </a:lnTo>
                  <a:lnTo>
                    <a:pt x="1011" y="371"/>
                  </a:lnTo>
                  <a:lnTo>
                    <a:pt x="1009" y="371"/>
                  </a:lnTo>
                  <a:lnTo>
                    <a:pt x="1008" y="373"/>
                  </a:lnTo>
                  <a:lnTo>
                    <a:pt x="1008" y="374"/>
                  </a:lnTo>
                  <a:lnTo>
                    <a:pt x="1006" y="374"/>
                  </a:lnTo>
                  <a:lnTo>
                    <a:pt x="1006" y="390"/>
                  </a:lnTo>
                  <a:lnTo>
                    <a:pt x="1003" y="390"/>
                  </a:lnTo>
                  <a:lnTo>
                    <a:pt x="1003" y="392"/>
                  </a:lnTo>
                  <a:lnTo>
                    <a:pt x="1003" y="394"/>
                  </a:lnTo>
                  <a:lnTo>
                    <a:pt x="1000" y="394"/>
                  </a:lnTo>
                  <a:lnTo>
                    <a:pt x="1000" y="392"/>
                  </a:lnTo>
                  <a:lnTo>
                    <a:pt x="1003" y="394"/>
                  </a:lnTo>
                  <a:lnTo>
                    <a:pt x="1003" y="397"/>
                  </a:lnTo>
                  <a:lnTo>
                    <a:pt x="1000" y="401"/>
                  </a:lnTo>
                  <a:lnTo>
                    <a:pt x="998" y="402"/>
                  </a:lnTo>
                  <a:lnTo>
                    <a:pt x="998" y="405"/>
                  </a:lnTo>
                  <a:lnTo>
                    <a:pt x="997" y="405"/>
                  </a:lnTo>
                  <a:lnTo>
                    <a:pt x="994" y="405"/>
                  </a:lnTo>
                  <a:lnTo>
                    <a:pt x="994" y="422"/>
                  </a:lnTo>
                  <a:lnTo>
                    <a:pt x="994" y="416"/>
                  </a:lnTo>
                  <a:lnTo>
                    <a:pt x="994" y="415"/>
                  </a:lnTo>
                  <a:lnTo>
                    <a:pt x="991" y="419"/>
                  </a:lnTo>
                  <a:lnTo>
                    <a:pt x="989" y="422"/>
                  </a:lnTo>
                  <a:lnTo>
                    <a:pt x="986" y="426"/>
                  </a:lnTo>
                  <a:lnTo>
                    <a:pt x="982" y="429"/>
                  </a:lnTo>
                  <a:lnTo>
                    <a:pt x="985" y="427"/>
                  </a:lnTo>
                  <a:lnTo>
                    <a:pt x="983" y="429"/>
                  </a:lnTo>
                  <a:lnTo>
                    <a:pt x="983" y="433"/>
                  </a:lnTo>
                  <a:lnTo>
                    <a:pt x="982" y="436"/>
                  </a:lnTo>
                  <a:lnTo>
                    <a:pt x="979" y="441"/>
                  </a:lnTo>
                  <a:lnTo>
                    <a:pt x="977" y="441"/>
                  </a:lnTo>
                  <a:lnTo>
                    <a:pt x="974" y="445"/>
                  </a:lnTo>
                  <a:lnTo>
                    <a:pt x="974" y="443"/>
                  </a:lnTo>
                  <a:lnTo>
                    <a:pt x="974" y="445"/>
                  </a:lnTo>
                  <a:lnTo>
                    <a:pt x="974" y="447"/>
                  </a:lnTo>
                  <a:lnTo>
                    <a:pt x="974" y="452"/>
                  </a:lnTo>
                  <a:lnTo>
                    <a:pt x="970" y="455"/>
                  </a:lnTo>
                  <a:lnTo>
                    <a:pt x="967" y="455"/>
                  </a:lnTo>
                  <a:lnTo>
                    <a:pt x="965" y="459"/>
                  </a:lnTo>
                  <a:lnTo>
                    <a:pt x="966" y="459"/>
                  </a:lnTo>
                  <a:lnTo>
                    <a:pt x="965" y="462"/>
                  </a:lnTo>
                  <a:lnTo>
                    <a:pt x="965" y="467"/>
                  </a:lnTo>
                  <a:lnTo>
                    <a:pt x="966" y="462"/>
                  </a:lnTo>
                  <a:lnTo>
                    <a:pt x="965" y="460"/>
                  </a:lnTo>
                  <a:lnTo>
                    <a:pt x="962" y="462"/>
                  </a:lnTo>
                  <a:lnTo>
                    <a:pt x="960" y="467"/>
                  </a:lnTo>
                  <a:lnTo>
                    <a:pt x="960" y="476"/>
                  </a:lnTo>
                  <a:lnTo>
                    <a:pt x="956" y="476"/>
                  </a:lnTo>
                  <a:lnTo>
                    <a:pt x="956" y="483"/>
                  </a:lnTo>
                  <a:lnTo>
                    <a:pt x="948" y="483"/>
                  </a:lnTo>
                  <a:lnTo>
                    <a:pt x="948" y="495"/>
                  </a:lnTo>
                  <a:lnTo>
                    <a:pt x="945" y="499"/>
                  </a:lnTo>
                  <a:lnTo>
                    <a:pt x="936" y="499"/>
                  </a:lnTo>
                  <a:lnTo>
                    <a:pt x="936" y="509"/>
                  </a:lnTo>
                  <a:lnTo>
                    <a:pt x="933" y="509"/>
                  </a:lnTo>
                  <a:lnTo>
                    <a:pt x="933" y="511"/>
                  </a:lnTo>
                  <a:lnTo>
                    <a:pt x="933" y="513"/>
                  </a:lnTo>
                  <a:lnTo>
                    <a:pt x="930" y="513"/>
                  </a:lnTo>
                  <a:lnTo>
                    <a:pt x="930" y="522"/>
                  </a:lnTo>
                  <a:lnTo>
                    <a:pt x="928" y="522"/>
                  </a:lnTo>
                  <a:lnTo>
                    <a:pt x="928" y="523"/>
                  </a:lnTo>
                  <a:lnTo>
                    <a:pt x="928" y="526"/>
                  </a:lnTo>
                  <a:lnTo>
                    <a:pt x="928" y="530"/>
                  </a:lnTo>
                  <a:lnTo>
                    <a:pt x="924" y="530"/>
                  </a:lnTo>
                  <a:lnTo>
                    <a:pt x="924" y="544"/>
                  </a:lnTo>
                  <a:lnTo>
                    <a:pt x="921" y="544"/>
                  </a:lnTo>
                  <a:lnTo>
                    <a:pt x="923" y="544"/>
                  </a:lnTo>
                  <a:lnTo>
                    <a:pt x="923" y="546"/>
                  </a:lnTo>
                  <a:lnTo>
                    <a:pt x="921" y="548"/>
                  </a:lnTo>
                  <a:lnTo>
                    <a:pt x="921" y="553"/>
                  </a:lnTo>
                  <a:lnTo>
                    <a:pt x="918" y="553"/>
                  </a:lnTo>
                  <a:lnTo>
                    <a:pt x="920" y="553"/>
                  </a:lnTo>
                  <a:lnTo>
                    <a:pt x="919" y="555"/>
                  </a:lnTo>
                  <a:lnTo>
                    <a:pt x="919" y="557"/>
                  </a:lnTo>
                  <a:lnTo>
                    <a:pt x="918" y="560"/>
                  </a:lnTo>
                  <a:lnTo>
                    <a:pt x="915" y="560"/>
                  </a:lnTo>
                  <a:lnTo>
                    <a:pt x="916" y="560"/>
                  </a:lnTo>
                  <a:lnTo>
                    <a:pt x="916" y="562"/>
                  </a:lnTo>
                  <a:lnTo>
                    <a:pt x="916" y="564"/>
                  </a:lnTo>
                  <a:lnTo>
                    <a:pt x="915" y="569"/>
                  </a:lnTo>
                  <a:lnTo>
                    <a:pt x="912" y="569"/>
                  </a:lnTo>
                  <a:lnTo>
                    <a:pt x="912" y="595"/>
                  </a:lnTo>
                  <a:lnTo>
                    <a:pt x="907" y="627"/>
                  </a:lnTo>
                  <a:lnTo>
                    <a:pt x="907" y="637"/>
                  </a:lnTo>
                  <a:lnTo>
                    <a:pt x="908" y="634"/>
                  </a:lnTo>
                  <a:lnTo>
                    <a:pt x="912" y="623"/>
                  </a:lnTo>
                  <a:lnTo>
                    <a:pt x="915" y="611"/>
                  </a:lnTo>
                  <a:lnTo>
                    <a:pt x="916" y="601"/>
                  </a:lnTo>
                  <a:lnTo>
                    <a:pt x="914" y="599"/>
                  </a:lnTo>
                  <a:lnTo>
                    <a:pt x="907" y="611"/>
                  </a:lnTo>
                  <a:lnTo>
                    <a:pt x="904" y="611"/>
                  </a:lnTo>
                  <a:lnTo>
                    <a:pt x="904" y="623"/>
                  </a:lnTo>
                  <a:lnTo>
                    <a:pt x="901" y="623"/>
                  </a:lnTo>
                  <a:lnTo>
                    <a:pt x="901" y="639"/>
                  </a:lnTo>
                  <a:lnTo>
                    <a:pt x="897" y="639"/>
                  </a:lnTo>
                  <a:lnTo>
                    <a:pt x="897" y="658"/>
                  </a:lnTo>
                  <a:lnTo>
                    <a:pt x="895" y="658"/>
                  </a:lnTo>
                  <a:lnTo>
                    <a:pt x="893" y="666"/>
                  </a:lnTo>
                  <a:lnTo>
                    <a:pt x="892" y="676"/>
                  </a:lnTo>
                  <a:lnTo>
                    <a:pt x="893" y="688"/>
                  </a:lnTo>
                  <a:lnTo>
                    <a:pt x="895" y="701"/>
                  </a:lnTo>
                  <a:lnTo>
                    <a:pt x="897" y="713"/>
                  </a:lnTo>
                  <a:lnTo>
                    <a:pt x="897" y="725"/>
                  </a:lnTo>
                  <a:lnTo>
                    <a:pt x="897" y="736"/>
                  </a:lnTo>
                  <a:lnTo>
                    <a:pt x="895" y="744"/>
                  </a:lnTo>
                  <a:lnTo>
                    <a:pt x="892" y="744"/>
                  </a:lnTo>
                  <a:lnTo>
                    <a:pt x="892" y="794"/>
                  </a:lnTo>
                  <a:lnTo>
                    <a:pt x="895" y="794"/>
                  </a:lnTo>
                  <a:lnTo>
                    <a:pt x="895" y="809"/>
                  </a:lnTo>
                  <a:lnTo>
                    <a:pt x="897" y="809"/>
                  </a:lnTo>
                  <a:lnTo>
                    <a:pt x="897" y="829"/>
                  </a:lnTo>
                  <a:lnTo>
                    <a:pt x="901" y="829"/>
                  </a:lnTo>
                  <a:lnTo>
                    <a:pt x="901" y="835"/>
                  </a:lnTo>
                  <a:lnTo>
                    <a:pt x="901" y="846"/>
                  </a:lnTo>
                  <a:lnTo>
                    <a:pt x="900" y="856"/>
                  </a:lnTo>
                  <a:lnTo>
                    <a:pt x="901" y="863"/>
                  </a:lnTo>
                  <a:lnTo>
                    <a:pt x="904" y="863"/>
                  </a:lnTo>
                  <a:lnTo>
                    <a:pt x="906" y="869"/>
                  </a:lnTo>
                  <a:lnTo>
                    <a:pt x="907" y="877"/>
                  </a:lnTo>
                  <a:lnTo>
                    <a:pt x="908" y="888"/>
                  </a:lnTo>
                  <a:lnTo>
                    <a:pt x="910" y="895"/>
                  </a:lnTo>
                  <a:lnTo>
                    <a:pt x="912" y="895"/>
                  </a:lnTo>
                  <a:lnTo>
                    <a:pt x="912" y="918"/>
                  </a:lnTo>
                  <a:lnTo>
                    <a:pt x="915" y="918"/>
                  </a:lnTo>
                  <a:lnTo>
                    <a:pt x="915" y="930"/>
                  </a:lnTo>
                  <a:lnTo>
                    <a:pt x="918" y="930"/>
                  </a:lnTo>
                  <a:lnTo>
                    <a:pt x="919" y="932"/>
                  </a:lnTo>
                  <a:lnTo>
                    <a:pt x="919" y="934"/>
                  </a:lnTo>
                  <a:lnTo>
                    <a:pt x="921" y="934"/>
                  </a:lnTo>
                  <a:lnTo>
                    <a:pt x="921" y="946"/>
                  </a:lnTo>
                  <a:lnTo>
                    <a:pt x="924" y="946"/>
                  </a:lnTo>
                  <a:lnTo>
                    <a:pt x="925" y="952"/>
                  </a:lnTo>
                  <a:lnTo>
                    <a:pt x="924" y="963"/>
                  </a:lnTo>
                  <a:lnTo>
                    <a:pt x="923" y="972"/>
                  </a:lnTo>
                  <a:lnTo>
                    <a:pt x="924" y="981"/>
                  </a:lnTo>
                  <a:lnTo>
                    <a:pt x="928" y="981"/>
                  </a:lnTo>
                  <a:lnTo>
                    <a:pt x="928" y="1038"/>
                  </a:lnTo>
                  <a:lnTo>
                    <a:pt x="924" y="1038"/>
                  </a:lnTo>
                  <a:lnTo>
                    <a:pt x="923" y="1044"/>
                  </a:lnTo>
                  <a:lnTo>
                    <a:pt x="923" y="1051"/>
                  </a:lnTo>
                  <a:lnTo>
                    <a:pt x="923" y="1058"/>
                  </a:lnTo>
                  <a:lnTo>
                    <a:pt x="924" y="1065"/>
                  </a:lnTo>
                  <a:lnTo>
                    <a:pt x="925" y="1074"/>
                  </a:lnTo>
                  <a:lnTo>
                    <a:pt x="925" y="1081"/>
                  </a:lnTo>
                  <a:lnTo>
                    <a:pt x="925" y="1088"/>
                  </a:lnTo>
                  <a:lnTo>
                    <a:pt x="924" y="1093"/>
                  </a:lnTo>
                  <a:lnTo>
                    <a:pt x="921" y="1093"/>
                  </a:lnTo>
                  <a:lnTo>
                    <a:pt x="921" y="1116"/>
                  </a:lnTo>
                  <a:lnTo>
                    <a:pt x="918" y="1116"/>
                  </a:lnTo>
                  <a:lnTo>
                    <a:pt x="918" y="1135"/>
                  </a:lnTo>
                  <a:lnTo>
                    <a:pt x="915" y="1135"/>
                  </a:lnTo>
                  <a:lnTo>
                    <a:pt x="915" y="1148"/>
                  </a:lnTo>
                  <a:lnTo>
                    <a:pt x="915" y="1165"/>
                  </a:lnTo>
                  <a:lnTo>
                    <a:pt x="915" y="1184"/>
                  </a:lnTo>
                  <a:lnTo>
                    <a:pt x="915" y="1197"/>
                  </a:lnTo>
                  <a:lnTo>
                    <a:pt x="915" y="1172"/>
                  </a:lnTo>
                  <a:lnTo>
                    <a:pt x="918" y="1184"/>
                  </a:lnTo>
                  <a:lnTo>
                    <a:pt x="921" y="1197"/>
                  </a:lnTo>
                  <a:lnTo>
                    <a:pt x="921" y="1205"/>
                  </a:lnTo>
                  <a:lnTo>
                    <a:pt x="924" y="1205"/>
                  </a:lnTo>
                  <a:lnTo>
                    <a:pt x="924" y="1217"/>
                  </a:lnTo>
                  <a:lnTo>
                    <a:pt x="928" y="1217"/>
                  </a:lnTo>
                  <a:lnTo>
                    <a:pt x="928" y="1224"/>
                  </a:lnTo>
                  <a:lnTo>
                    <a:pt x="930" y="1228"/>
                  </a:lnTo>
                  <a:lnTo>
                    <a:pt x="933" y="1228"/>
                  </a:lnTo>
                  <a:lnTo>
                    <a:pt x="936" y="1233"/>
                  </a:lnTo>
                  <a:lnTo>
                    <a:pt x="934" y="1230"/>
                  </a:lnTo>
                  <a:lnTo>
                    <a:pt x="934" y="1231"/>
                  </a:lnTo>
                  <a:lnTo>
                    <a:pt x="936" y="1235"/>
                  </a:lnTo>
                  <a:lnTo>
                    <a:pt x="936" y="1240"/>
                  </a:lnTo>
                  <a:lnTo>
                    <a:pt x="938" y="1244"/>
                  </a:lnTo>
                  <a:lnTo>
                    <a:pt x="937" y="1242"/>
                  </a:lnTo>
                  <a:lnTo>
                    <a:pt x="938" y="1242"/>
                  </a:lnTo>
                  <a:lnTo>
                    <a:pt x="941" y="1244"/>
                  </a:lnTo>
                  <a:lnTo>
                    <a:pt x="945" y="1244"/>
                  </a:lnTo>
                  <a:lnTo>
                    <a:pt x="948" y="1247"/>
                  </a:lnTo>
                  <a:lnTo>
                    <a:pt x="948" y="1259"/>
                  </a:lnTo>
                  <a:lnTo>
                    <a:pt x="948" y="1255"/>
                  </a:lnTo>
                  <a:lnTo>
                    <a:pt x="949" y="1255"/>
                  </a:lnTo>
                  <a:lnTo>
                    <a:pt x="951" y="1258"/>
                  </a:lnTo>
                  <a:lnTo>
                    <a:pt x="953" y="1259"/>
                  </a:lnTo>
                  <a:lnTo>
                    <a:pt x="956" y="1265"/>
                  </a:lnTo>
                  <a:lnTo>
                    <a:pt x="960" y="1269"/>
                  </a:lnTo>
                  <a:lnTo>
                    <a:pt x="958" y="1266"/>
                  </a:lnTo>
                  <a:lnTo>
                    <a:pt x="958" y="1269"/>
                  </a:lnTo>
                  <a:lnTo>
                    <a:pt x="958" y="1270"/>
                  </a:lnTo>
                  <a:lnTo>
                    <a:pt x="960" y="1276"/>
                  </a:lnTo>
                  <a:lnTo>
                    <a:pt x="967" y="1276"/>
                  </a:lnTo>
                  <a:lnTo>
                    <a:pt x="969" y="1279"/>
                  </a:lnTo>
                  <a:lnTo>
                    <a:pt x="970" y="1279"/>
                  </a:lnTo>
                  <a:lnTo>
                    <a:pt x="970" y="1283"/>
                  </a:lnTo>
                  <a:lnTo>
                    <a:pt x="982" y="1283"/>
                  </a:lnTo>
                  <a:lnTo>
                    <a:pt x="982" y="1288"/>
                  </a:lnTo>
                  <a:lnTo>
                    <a:pt x="985" y="1288"/>
                  </a:lnTo>
                  <a:lnTo>
                    <a:pt x="987" y="1290"/>
                  </a:lnTo>
                  <a:lnTo>
                    <a:pt x="990" y="1288"/>
                  </a:lnTo>
                  <a:lnTo>
                    <a:pt x="995" y="1288"/>
                  </a:lnTo>
                  <a:lnTo>
                    <a:pt x="998" y="1286"/>
                  </a:lnTo>
                  <a:lnTo>
                    <a:pt x="1002" y="1286"/>
                  </a:lnTo>
                  <a:lnTo>
                    <a:pt x="1004" y="1286"/>
                  </a:lnTo>
                  <a:lnTo>
                    <a:pt x="1006" y="1288"/>
                  </a:lnTo>
                  <a:lnTo>
                    <a:pt x="1006" y="1291"/>
                  </a:lnTo>
                  <a:lnTo>
                    <a:pt x="1008" y="1291"/>
                  </a:lnTo>
                  <a:lnTo>
                    <a:pt x="1012" y="1291"/>
                  </a:lnTo>
                  <a:lnTo>
                    <a:pt x="1018" y="1291"/>
                  </a:lnTo>
                  <a:lnTo>
                    <a:pt x="1024" y="1291"/>
                  </a:lnTo>
                  <a:lnTo>
                    <a:pt x="1028" y="1290"/>
                  </a:lnTo>
                  <a:lnTo>
                    <a:pt x="1034" y="1290"/>
                  </a:lnTo>
                  <a:lnTo>
                    <a:pt x="1039" y="1290"/>
                  </a:lnTo>
                  <a:lnTo>
                    <a:pt x="1041" y="1291"/>
                  </a:lnTo>
                  <a:lnTo>
                    <a:pt x="1041" y="1295"/>
                  </a:lnTo>
                  <a:lnTo>
                    <a:pt x="1041" y="1293"/>
                  </a:lnTo>
                  <a:lnTo>
                    <a:pt x="1043" y="1295"/>
                  </a:lnTo>
                  <a:lnTo>
                    <a:pt x="1046" y="1295"/>
                  </a:lnTo>
                  <a:lnTo>
                    <a:pt x="1046" y="1298"/>
                  </a:lnTo>
                  <a:lnTo>
                    <a:pt x="1052" y="1298"/>
                  </a:lnTo>
                  <a:lnTo>
                    <a:pt x="1049" y="1298"/>
                  </a:lnTo>
                  <a:lnTo>
                    <a:pt x="1050" y="1298"/>
                  </a:lnTo>
                  <a:lnTo>
                    <a:pt x="1052" y="1302"/>
                  </a:lnTo>
                  <a:lnTo>
                    <a:pt x="1052" y="1305"/>
                  </a:lnTo>
                  <a:lnTo>
                    <a:pt x="1090" y="1305"/>
                  </a:lnTo>
                  <a:lnTo>
                    <a:pt x="1093" y="1310"/>
                  </a:lnTo>
                  <a:lnTo>
                    <a:pt x="1093" y="1314"/>
                  </a:lnTo>
                  <a:lnTo>
                    <a:pt x="1097" y="1314"/>
                  </a:lnTo>
                  <a:lnTo>
                    <a:pt x="1097" y="1319"/>
                  </a:lnTo>
                  <a:lnTo>
                    <a:pt x="1099" y="1323"/>
                  </a:lnTo>
                  <a:lnTo>
                    <a:pt x="1109" y="1323"/>
                  </a:lnTo>
                  <a:lnTo>
                    <a:pt x="1111" y="1326"/>
                  </a:lnTo>
                  <a:lnTo>
                    <a:pt x="1111" y="1337"/>
                  </a:lnTo>
                  <a:lnTo>
                    <a:pt x="1111" y="1333"/>
                  </a:lnTo>
                  <a:lnTo>
                    <a:pt x="1114" y="1337"/>
                  </a:lnTo>
                  <a:lnTo>
                    <a:pt x="1117" y="1337"/>
                  </a:lnTo>
                  <a:lnTo>
                    <a:pt x="1117" y="1352"/>
                  </a:lnTo>
                  <a:lnTo>
                    <a:pt x="1114" y="1352"/>
                  </a:lnTo>
                  <a:lnTo>
                    <a:pt x="1115" y="1352"/>
                  </a:lnTo>
                  <a:lnTo>
                    <a:pt x="1114" y="1354"/>
                  </a:lnTo>
                  <a:lnTo>
                    <a:pt x="1114" y="1356"/>
                  </a:lnTo>
                  <a:lnTo>
                    <a:pt x="1114" y="1362"/>
                  </a:lnTo>
                  <a:lnTo>
                    <a:pt x="1111" y="1362"/>
                  </a:lnTo>
                  <a:lnTo>
                    <a:pt x="1111" y="1372"/>
                  </a:lnTo>
                  <a:lnTo>
                    <a:pt x="1109" y="1373"/>
                  </a:lnTo>
                  <a:lnTo>
                    <a:pt x="1108" y="1376"/>
                  </a:lnTo>
                  <a:lnTo>
                    <a:pt x="1105" y="1377"/>
                  </a:lnTo>
                  <a:lnTo>
                    <a:pt x="1106" y="1373"/>
                  </a:lnTo>
                  <a:lnTo>
                    <a:pt x="1108" y="1376"/>
                  </a:lnTo>
                  <a:lnTo>
                    <a:pt x="1108" y="1379"/>
                  </a:lnTo>
                  <a:lnTo>
                    <a:pt x="1105" y="1384"/>
                  </a:lnTo>
                  <a:lnTo>
                    <a:pt x="1099" y="1384"/>
                  </a:lnTo>
                  <a:lnTo>
                    <a:pt x="1099" y="1387"/>
                  </a:lnTo>
                  <a:lnTo>
                    <a:pt x="1099" y="1386"/>
                  </a:lnTo>
                  <a:lnTo>
                    <a:pt x="1098" y="1387"/>
                  </a:lnTo>
                  <a:lnTo>
                    <a:pt x="1097" y="1387"/>
                  </a:lnTo>
                  <a:lnTo>
                    <a:pt x="1093" y="1387"/>
                  </a:lnTo>
                  <a:lnTo>
                    <a:pt x="1093" y="1391"/>
                  </a:lnTo>
                  <a:lnTo>
                    <a:pt x="1090" y="1391"/>
                  </a:lnTo>
                  <a:lnTo>
                    <a:pt x="1087" y="1391"/>
                  </a:lnTo>
                  <a:lnTo>
                    <a:pt x="1087" y="1394"/>
                  </a:lnTo>
                  <a:lnTo>
                    <a:pt x="1081" y="1394"/>
                  </a:lnTo>
                  <a:lnTo>
                    <a:pt x="1081" y="1391"/>
                  </a:lnTo>
                  <a:lnTo>
                    <a:pt x="1081" y="1393"/>
                  </a:lnTo>
                  <a:lnTo>
                    <a:pt x="1078" y="1393"/>
                  </a:lnTo>
                  <a:lnTo>
                    <a:pt x="1076" y="1391"/>
                  </a:lnTo>
                  <a:lnTo>
                    <a:pt x="1076" y="1387"/>
                  </a:lnTo>
                  <a:lnTo>
                    <a:pt x="1061" y="1387"/>
                  </a:lnTo>
                  <a:lnTo>
                    <a:pt x="1061" y="1391"/>
                  </a:lnTo>
                  <a:lnTo>
                    <a:pt x="1058" y="1393"/>
                  </a:lnTo>
                  <a:lnTo>
                    <a:pt x="1054" y="1393"/>
                  </a:lnTo>
                  <a:lnTo>
                    <a:pt x="1049" y="1393"/>
                  </a:lnTo>
                  <a:lnTo>
                    <a:pt x="1045" y="1391"/>
                  </a:lnTo>
                  <a:lnTo>
                    <a:pt x="1040" y="1391"/>
                  </a:lnTo>
                  <a:lnTo>
                    <a:pt x="1036" y="1391"/>
                  </a:lnTo>
                  <a:lnTo>
                    <a:pt x="1032" y="1391"/>
                  </a:lnTo>
                  <a:lnTo>
                    <a:pt x="1028" y="1391"/>
                  </a:lnTo>
                  <a:lnTo>
                    <a:pt x="1028" y="1394"/>
                  </a:lnTo>
                  <a:lnTo>
                    <a:pt x="1028" y="1396"/>
                  </a:lnTo>
                  <a:lnTo>
                    <a:pt x="1026" y="1396"/>
                  </a:lnTo>
                  <a:lnTo>
                    <a:pt x="1023" y="1398"/>
                  </a:lnTo>
                  <a:lnTo>
                    <a:pt x="1019" y="1398"/>
                  </a:lnTo>
                  <a:lnTo>
                    <a:pt x="1013" y="1398"/>
                  </a:lnTo>
                  <a:lnTo>
                    <a:pt x="1008" y="1398"/>
                  </a:lnTo>
                  <a:lnTo>
                    <a:pt x="1003" y="1398"/>
                  </a:lnTo>
                  <a:lnTo>
                    <a:pt x="998" y="1398"/>
                  </a:lnTo>
                  <a:lnTo>
                    <a:pt x="993" y="1398"/>
                  </a:lnTo>
                  <a:lnTo>
                    <a:pt x="987" y="1398"/>
                  </a:lnTo>
                  <a:lnTo>
                    <a:pt x="982" y="1398"/>
                  </a:lnTo>
                  <a:lnTo>
                    <a:pt x="978" y="1398"/>
                  </a:lnTo>
                  <a:lnTo>
                    <a:pt x="974" y="1398"/>
                  </a:lnTo>
                  <a:lnTo>
                    <a:pt x="971" y="1396"/>
                  </a:lnTo>
                  <a:lnTo>
                    <a:pt x="969" y="1396"/>
                  </a:lnTo>
                  <a:lnTo>
                    <a:pt x="967" y="1394"/>
                  </a:lnTo>
                  <a:lnTo>
                    <a:pt x="967" y="1391"/>
                  </a:lnTo>
                  <a:lnTo>
                    <a:pt x="936" y="1391"/>
                  </a:lnTo>
                  <a:lnTo>
                    <a:pt x="936" y="1394"/>
                  </a:lnTo>
                  <a:lnTo>
                    <a:pt x="933" y="1394"/>
                  </a:lnTo>
                  <a:lnTo>
                    <a:pt x="930" y="1394"/>
                  </a:lnTo>
                  <a:lnTo>
                    <a:pt x="930" y="1400"/>
                  </a:lnTo>
                  <a:lnTo>
                    <a:pt x="928" y="1402"/>
                  </a:lnTo>
                  <a:lnTo>
                    <a:pt x="923" y="1402"/>
                  </a:lnTo>
                  <a:lnTo>
                    <a:pt x="919" y="1402"/>
                  </a:lnTo>
                  <a:lnTo>
                    <a:pt x="914" y="1402"/>
                  </a:lnTo>
                  <a:lnTo>
                    <a:pt x="908" y="1402"/>
                  </a:lnTo>
                  <a:lnTo>
                    <a:pt x="904" y="1402"/>
                  </a:lnTo>
                  <a:lnTo>
                    <a:pt x="900" y="1402"/>
                  </a:lnTo>
                  <a:lnTo>
                    <a:pt x="897" y="1403"/>
                  </a:lnTo>
                  <a:lnTo>
                    <a:pt x="897" y="1406"/>
                  </a:lnTo>
                  <a:lnTo>
                    <a:pt x="887" y="1406"/>
                  </a:lnTo>
                  <a:lnTo>
                    <a:pt x="887" y="1412"/>
                  </a:lnTo>
                  <a:lnTo>
                    <a:pt x="887" y="1409"/>
                  </a:lnTo>
                  <a:lnTo>
                    <a:pt x="886" y="1410"/>
                  </a:lnTo>
                  <a:lnTo>
                    <a:pt x="884" y="1410"/>
                  </a:lnTo>
                  <a:lnTo>
                    <a:pt x="881" y="1412"/>
                  </a:lnTo>
                  <a:lnTo>
                    <a:pt x="881" y="1416"/>
                  </a:lnTo>
                  <a:lnTo>
                    <a:pt x="878" y="1416"/>
                  </a:lnTo>
                  <a:lnTo>
                    <a:pt x="875" y="1416"/>
                  </a:lnTo>
                  <a:lnTo>
                    <a:pt x="871" y="1416"/>
                  </a:lnTo>
                  <a:lnTo>
                    <a:pt x="867" y="1416"/>
                  </a:lnTo>
                  <a:lnTo>
                    <a:pt x="863" y="1413"/>
                  </a:lnTo>
                  <a:lnTo>
                    <a:pt x="861" y="1413"/>
                  </a:lnTo>
                  <a:lnTo>
                    <a:pt x="856" y="1413"/>
                  </a:lnTo>
                  <a:lnTo>
                    <a:pt x="854" y="1416"/>
                  </a:lnTo>
                  <a:lnTo>
                    <a:pt x="854" y="1419"/>
                  </a:lnTo>
                  <a:lnTo>
                    <a:pt x="842" y="1419"/>
                  </a:lnTo>
                  <a:lnTo>
                    <a:pt x="842" y="1423"/>
                  </a:lnTo>
                  <a:lnTo>
                    <a:pt x="842" y="1420"/>
                  </a:lnTo>
                  <a:lnTo>
                    <a:pt x="841" y="1423"/>
                  </a:lnTo>
                  <a:lnTo>
                    <a:pt x="837" y="1423"/>
                  </a:lnTo>
                  <a:lnTo>
                    <a:pt x="837" y="1426"/>
                  </a:lnTo>
                  <a:lnTo>
                    <a:pt x="837" y="1424"/>
                  </a:lnTo>
                  <a:lnTo>
                    <a:pt x="837" y="1426"/>
                  </a:lnTo>
                  <a:lnTo>
                    <a:pt x="834" y="1426"/>
                  </a:lnTo>
                  <a:lnTo>
                    <a:pt x="832" y="1426"/>
                  </a:lnTo>
                  <a:lnTo>
                    <a:pt x="832" y="1430"/>
                  </a:lnTo>
                  <a:lnTo>
                    <a:pt x="830" y="1431"/>
                  </a:lnTo>
                  <a:lnTo>
                    <a:pt x="826" y="1431"/>
                  </a:lnTo>
                  <a:lnTo>
                    <a:pt x="824" y="1431"/>
                  </a:lnTo>
                  <a:lnTo>
                    <a:pt x="820" y="1430"/>
                  </a:lnTo>
                  <a:lnTo>
                    <a:pt x="816" y="1430"/>
                  </a:lnTo>
                  <a:lnTo>
                    <a:pt x="812" y="1430"/>
                  </a:lnTo>
                  <a:lnTo>
                    <a:pt x="809" y="1430"/>
                  </a:lnTo>
                  <a:lnTo>
                    <a:pt x="808" y="1430"/>
                  </a:lnTo>
                  <a:lnTo>
                    <a:pt x="808" y="1435"/>
                  </a:lnTo>
                  <a:lnTo>
                    <a:pt x="808" y="1433"/>
                  </a:lnTo>
                  <a:lnTo>
                    <a:pt x="807" y="1433"/>
                  </a:lnTo>
                  <a:lnTo>
                    <a:pt x="805" y="1435"/>
                  </a:lnTo>
                  <a:lnTo>
                    <a:pt x="802" y="1435"/>
                  </a:lnTo>
                  <a:lnTo>
                    <a:pt x="802" y="1438"/>
                  </a:lnTo>
                  <a:lnTo>
                    <a:pt x="802" y="1437"/>
                  </a:lnTo>
                  <a:lnTo>
                    <a:pt x="799" y="1438"/>
                  </a:lnTo>
                  <a:lnTo>
                    <a:pt x="796" y="1438"/>
                  </a:lnTo>
                  <a:lnTo>
                    <a:pt x="796" y="1444"/>
                  </a:lnTo>
                  <a:lnTo>
                    <a:pt x="787" y="1444"/>
                  </a:lnTo>
                  <a:lnTo>
                    <a:pt x="787" y="1447"/>
                  </a:lnTo>
                  <a:lnTo>
                    <a:pt x="765" y="1447"/>
                  </a:lnTo>
                  <a:lnTo>
                    <a:pt x="765" y="1444"/>
                  </a:lnTo>
                  <a:lnTo>
                    <a:pt x="762" y="1442"/>
                  </a:lnTo>
                  <a:lnTo>
                    <a:pt x="758" y="1440"/>
                  </a:lnTo>
                  <a:lnTo>
                    <a:pt x="754" y="1440"/>
                  </a:lnTo>
                  <a:lnTo>
                    <a:pt x="750" y="1440"/>
                  </a:lnTo>
                  <a:lnTo>
                    <a:pt x="744" y="1438"/>
                  </a:lnTo>
                  <a:lnTo>
                    <a:pt x="740" y="1438"/>
                  </a:lnTo>
                  <a:lnTo>
                    <a:pt x="737" y="1438"/>
                  </a:lnTo>
                  <a:lnTo>
                    <a:pt x="734" y="1438"/>
                  </a:lnTo>
                  <a:lnTo>
                    <a:pt x="734" y="1442"/>
                  </a:lnTo>
                  <a:lnTo>
                    <a:pt x="733" y="1444"/>
                  </a:lnTo>
                  <a:lnTo>
                    <a:pt x="731" y="1447"/>
                  </a:lnTo>
                  <a:lnTo>
                    <a:pt x="724" y="1447"/>
                  </a:lnTo>
                  <a:lnTo>
                    <a:pt x="724" y="1449"/>
                  </a:lnTo>
                  <a:lnTo>
                    <a:pt x="714" y="1449"/>
                  </a:lnTo>
                  <a:lnTo>
                    <a:pt x="714" y="1454"/>
                  </a:lnTo>
                  <a:lnTo>
                    <a:pt x="706" y="1454"/>
                  </a:lnTo>
                  <a:lnTo>
                    <a:pt x="706" y="1458"/>
                  </a:lnTo>
                  <a:lnTo>
                    <a:pt x="702" y="1459"/>
                  </a:lnTo>
                  <a:lnTo>
                    <a:pt x="698" y="1459"/>
                  </a:lnTo>
                  <a:lnTo>
                    <a:pt x="693" y="1459"/>
                  </a:lnTo>
                  <a:lnTo>
                    <a:pt x="687" y="1459"/>
                  </a:lnTo>
                  <a:lnTo>
                    <a:pt x="682" y="1459"/>
                  </a:lnTo>
                  <a:lnTo>
                    <a:pt x="675" y="1458"/>
                  </a:lnTo>
                  <a:lnTo>
                    <a:pt x="671" y="1458"/>
                  </a:lnTo>
                  <a:lnTo>
                    <a:pt x="668" y="1458"/>
                  </a:lnTo>
                  <a:lnTo>
                    <a:pt x="665" y="1458"/>
                  </a:lnTo>
                  <a:lnTo>
                    <a:pt x="663" y="1459"/>
                  </a:lnTo>
                  <a:lnTo>
                    <a:pt x="660" y="1461"/>
                  </a:lnTo>
                  <a:lnTo>
                    <a:pt x="659" y="1461"/>
                  </a:lnTo>
                  <a:lnTo>
                    <a:pt x="645" y="1461"/>
                  </a:lnTo>
                  <a:lnTo>
                    <a:pt x="645" y="1465"/>
                  </a:lnTo>
                  <a:lnTo>
                    <a:pt x="613" y="1465"/>
                  </a:lnTo>
                  <a:lnTo>
                    <a:pt x="613" y="1461"/>
                  </a:lnTo>
                  <a:lnTo>
                    <a:pt x="612" y="1461"/>
                  </a:lnTo>
                  <a:lnTo>
                    <a:pt x="609" y="1459"/>
                  </a:lnTo>
                  <a:lnTo>
                    <a:pt x="606" y="1461"/>
                  </a:lnTo>
                  <a:lnTo>
                    <a:pt x="602" y="1461"/>
                  </a:lnTo>
                  <a:lnTo>
                    <a:pt x="600" y="1463"/>
                  </a:lnTo>
                  <a:lnTo>
                    <a:pt x="596" y="1463"/>
                  </a:lnTo>
                  <a:lnTo>
                    <a:pt x="594" y="1463"/>
                  </a:lnTo>
                  <a:lnTo>
                    <a:pt x="592" y="1461"/>
                  </a:lnTo>
                  <a:lnTo>
                    <a:pt x="592" y="1458"/>
                  </a:lnTo>
                  <a:lnTo>
                    <a:pt x="589" y="1456"/>
                  </a:lnTo>
                  <a:lnTo>
                    <a:pt x="586" y="1456"/>
                  </a:lnTo>
                  <a:lnTo>
                    <a:pt x="582" y="1456"/>
                  </a:lnTo>
                  <a:lnTo>
                    <a:pt x="577" y="1458"/>
                  </a:lnTo>
                  <a:lnTo>
                    <a:pt x="573" y="1459"/>
                  </a:lnTo>
                  <a:lnTo>
                    <a:pt x="569" y="1459"/>
                  </a:lnTo>
                  <a:lnTo>
                    <a:pt x="567" y="1459"/>
                  </a:lnTo>
                  <a:lnTo>
                    <a:pt x="564" y="1458"/>
                  </a:lnTo>
                  <a:lnTo>
                    <a:pt x="564" y="1454"/>
                  </a:lnTo>
                  <a:lnTo>
                    <a:pt x="559" y="1452"/>
                  </a:lnTo>
                  <a:lnTo>
                    <a:pt x="555" y="1452"/>
                  </a:lnTo>
                  <a:lnTo>
                    <a:pt x="548" y="1452"/>
                  </a:lnTo>
                  <a:lnTo>
                    <a:pt x="543" y="1454"/>
                  </a:lnTo>
                  <a:lnTo>
                    <a:pt x="536" y="1456"/>
                  </a:lnTo>
                  <a:lnTo>
                    <a:pt x="531" y="1456"/>
                  </a:lnTo>
                  <a:lnTo>
                    <a:pt x="526" y="1456"/>
                  </a:lnTo>
                  <a:lnTo>
                    <a:pt x="522" y="1454"/>
                  </a:lnTo>
                  <a:lnTo>
                    <a:pt x="522" y="1449"/>
                  </a:lnTo>
                  <a:lnTo>
                    <a:pt x="514" y="1449"/>
                  </a:lnTo>
                  <a:lnTo>
                    <a:pt x="514" y="1447"/>
                  </a:lnTo>
                  <a:lnTo>
                    <a:pt x="504" y="1447"/>
                  </a:lnTo>
                  <a:lnTo>
                    <a:pt x="504" y="1444"/>
                  </a:lnTo>
                  <a:lnTo>
                    <a:pt x="494" y="1444"/>
                  </a:lnTo>
                  <a:lnTo>
                    <a:pt x="494" y="1438"/>
                  </a:lnTo>
                  <a:lnTo>
                    <a:pt x="490" y="1437"/>
                  </a:lnTo>
                  <a:lnTo>
                    <a:pt x="486" y="1437"/>
                  </a:lnTo>
                  <a:lnTo>
                    <a:pt x="482" y="1437"/>
                  </a:lnTo>
                  <a:lnTo>
                    <a:pt x="475" y="1437"/>
                  </a:lnTo>
                  <a:lnTo>
                    <a:pt x="470" y="1437"/>
                  </a:lnTo>
                  <a:lnTo>
                    <a:pt x="465" y="1437"/>
                  </a:lnTo>
                  <a:lnTo>
                    <a:pt x="461" y="1437"/>
                  </a:lnTo>
                  <a:lnTo>
                    <a:pt x="459" y="1435"/>
                  </a:lnTo>
                  <a:lnTo>
                    <a:pt x="459" y="1430"/>
                  </a:lnTo>
                  <a:lnTo>
                    <a:pt x="455" y="1427"/>
                  </a:lnTo>
                  <a:lnTo>
                    <a:pt x="448" y="1427"/>
                  </a:lnTo>
                  <a:lnTo>
                    <a:pt x="441" y="1427"/>
                  </a:lnTo>
                  <a:lnTo>
                    <a:pt x="434" y="1430"/>
                  </a:lnTo>
                  <a:lnTo>
                    <a:pt x="428" y="1430"/>
                  </a:lnTo>
                  <a:lnTo>
                    <a:pt x="422" y="1430"/>
                  </a:lnTo>
                  <a:lnTo>
                    <a:pt x="416" y="1430"/>
                  </a:lnTo>
                  <a:lnTo>
                    <a:pt x="411" y="1426"/>
                  </a:lnTo>
                  <a:lnTo>
                    <a:pt x="411" y="1423"/>
                  </a:lnTo>
                  <a:lnTo>
                    <a:pt x="410" y="1423"/>
                  </a:lnTo>
                  <a:lnTo>
                    <a:pt x="407" y="1420"/>
                  </a:lnTo>
                  <a:lnTo>
                    <a:pt x="404" y="1423"/>
                  </a:lnTo>
                  <a:lnTo>
                    <a:pt x="400" y="1423"/>
                  </a:lnTo>
                  <a:lnTo>
                    <a:pt x="396" y="1423"/>
                  </a:lnTo>
                  <a:lnTo>
                    <a:pt x="392" y="1424"/>
                  </a:lnTo>
                  <a:lnTo>
                    <a:pt x="390" y="1423"/>
                  </a:lnTo>
                  <a:lnTo>
                    <a:pt x="388" y="1423"/>
                  </a:lnTo>
                  <a:lnTo>
                    <a:pt x="388" y="1419"/>
                  </a:lnTo>
                  <a:lnTo>
                    <a:pt x="379" y="1419"/>
                  </a:lnTo>
                  <a:lnTo>
                    <a:pt x="379" y="1416"/>
                  </a:lnTo>
                  <a:lnTo>
                    <a:pt x="377" y="1412"/>
                  </a:lnTo>
                  <a:lnTo>
                    <a:pt x="374" y="1412"/>
                  </a:lnTo>
                  <a:lnTo>
                    <a:pt x="370" y="1410"/>
                  </a:lnTo>
                  <a:lnTo>
                    <a:pt x="366" y="1410"/>
                  </a:lnTo>
                  <a:lnTo>
                    <a:pt x="362" y="1410"/>
                  </a:lnTo>
                  <a:lnTo>
                    <a:pt x="358" y="1410"/>
                  </a:lnTo>
                  <a:lnTo>
                    <a:pt x="353" y="1410"/>
                  </a:lnTo>
                  <a:lnTo>
                    <a:pt x="349" y="1410"/>
                  </a:lnTo>
                  <a:lnTo>
                    <a:pt x="345" y="1412"/>
                  </a:lnTo>
                  <a:lnTo>
                    <a:pt x="340" y="1412"/>
                  </a:lnTo>
                  <a:lnTo>
                    <a:pt x="337" y="1412"/>
                  </a:lnTo>
                  <a:lnTo>
                    <a:pt x="332" y="1412"/>
                  </a:lnTo>
                  <a:lnTo>
                    <a:pt x="329" y="1412"/>
                  </a:lnTo>
                  <a:lnTo>
                    <a:pt x="325" y="1410"/>
                  </a:lnTo>
                  <a:lnTo>
                    <a:pt x="321" y="1409"/>
                  </a:lnTo>
                  <a:lnTo>
                    <a:pt x="318" y="1406"/>
                  </a:lnTo>
                  <a:lnTo>
                    <a:pt x="318" y="1403"/>
                  </a:lnTo>
                  <a:lnTo>
                    <a:pt x="283" y="1403"/>
                  </a:lnTo>
                  <a:lnTo>
                    <a:pt x="283" y="1406"/>
                  </a:lnTo>
                  <a:lnTo>
                    <a:pt x="263" y="1406"/>
                  </a:lnTo>
                  <a:lnTo>
                    <a:pt x="260" y="1412"/>
                  </a:lnTo>
                  <a:lnTo>
                    <a:pt x="260" y="1416"/>
                  </a:lnTo>
                  <a:lnTo>
                    <a:pt x="258" y="1419"/>
                  </a:lnTo>
                  <a:lnTo>
                    <a:pt x="249" y="1419"/>
                  </a:lnTo>
                  <a:lnTo>
                    <a:pt x="249" y="1423"/>
                  </a:lnTo>
                  <a:lnTo>
                    <a:pt x="245" y="1423"/>
                  </a:lnTo>
                  <a:lnTo>
                    <a:pt x="239" y="1424"/>
                  </a:lnTo>
                  <a:lnTo>
                    <a:pt x="235" y="1423"/>
                  </a:lnTo>
                  <a:lnTo>
                    <a:pt x="230" y="1423"/>
                  </a:lnTo>
                  <a:lnTo>
                    <a:pt x="224" y="1423"/>
                  </a:lnTo>
                  <a:lnTo>
                    <a:pt x="220" y="1420"/>
                  </a:lnTo>
                  <a:lnTo>
                    <a:pt x="215" y="1423"/>
                  </a:lnTo>
                  <a:lnTo>
                    <a:pt x="210" y="1423"/>
                  </a:lnTo>
                  <a:lnTo>
                    <a:pt x="210" y="1426"/>
                  </a:lnTo>
                  <a:lnTo>
                    <a:pt x="205" y="1426"/>
                  </a:lnTo>
                  <a:lnTo>
                    <a:pt x="204" y="1430"/>
                  </a:lnTo>
                  <a:lnTo>
                    <a:pt x="202" y="1430"/>
                  </a:lnTo>
                  <a:lnTo>
                    <a:pt x="202" y="1431"/>
                  </a:lnTo>
                  <a:lnTo>
                    <a:pt x="201" y="1435"/>
                  </a:lnTo>
                  <a:lnTo>
                    <a:pt x="193" y="1435"/>
                  </a:lnTo>
                  <a:lnTo>
                    <a:pt x="193" y="1438"/>
                  </a:lnTo>
                  <a:lnTo>
                    <a:pt x="179" y="1438"/>
                  </a:lnTo>
                  <a:lnTo>
                    <a:pt x="179" y="1444"/>
                  </a:lnTo>
                  <a:lnTo>
                    <a:pt x="179" y="1440"/>
                  </a:lnTo>
                  <a:lnTo>
                    <a:pt x="178" y="1442"/>
                  </a:lnTo>
                  <a:lnTo>
                    <a:pt x="176" y="1442"/>
                  </a:lnTo>
                  <a:lnTo>
                    <a:pt x="172" y="1444"/>
                  </a:lnTo>
                  <a:lnTo>
                    <a:pt x="172" y="1447"/>
                  </a:lnTo>
                  <a:lnTo>
                    <a:pt x="172" y="1445"/>
                  </a:lnTo>
                  <a:lnTo>
                    <a:pt x="171" y="1445"/>
                  </a:lnTo>
                  <a:lnTo>
                    <a:pt x="167" y="1447"/>
                  </a:lnTo>
                  <a:lnTo>
                    <a:pt x="167" y="1449"/>
                  </a:lnTo>
                  <a:lnTo>
                    <a:pt x="164" y="1449"/>
                  </a:lnTo>
                  <a:lnTo>
                    <a:pt x="161" y="1449"/>
                  </a:lnTo>
                  <a:lnTo>
                    <a:pt x="161" y="1454"/>
                  </a:lnTo>
                  <a:lnTo>
                    <a:pt x="146" y="1454"/>
                  </a:lnTo>
                  <a:lnTo>
                    <a:pt x="146" y="1458"/>
                  </a:lnTo>
                  <a:lnTo>
                    <a:pt x="145" y="1458"/>
                  </a:lnTo>
                  <a:lnTo>
                    <a:pt x="143" y="1458"/>
                  </a:lnTo>
                  <a:lnTo>
                    <a:pt x="143" y="1461"/>
                  </a:lnTo>
                  <a:lnTo>
                    <a:pt x="138" y="1461"/>
                  </a:lnTo>
                  <a:lnTo>
                    <a:pt x="138" y="1465"/>
                  </a:lnTo>
                  <a:lnTo>
                    <a:pt x="138" y="1463"/>
                  </a:lnTo>
                  <a:lnTo>
                    <a:pt x="137" y="1463"/>
                  </a:lnTo>
                  <a:lnTo>
                    <a:pt x="135" y="1465"/>
                  </a:lnTo>
                  <a:lnTo>
                    <a:pt x="133" y="1465"/>
                  </a:lnTo>
                  <a:lnTo>
                    <a:pt x="133" y="1470"/>
                  </a:lnTo>
                  <a:lnTo>
                    <a:pt x="133" y="1466"/>
                  </a:lnTo>
                  <a:lnTo>
                    <a:pt x="131" y="1468"/>
                  </a:lnTo>
                  <a:lnTo>
                    <a:pt x="130" y="1468"/>
                  </a:lnTo>
                  <a:lnTo>
                    <a:pt x="126" y="1470"/>
                  </a:lnTo>
                  <a:lnTo>
                    <a:pt x="126" y="1473"/>
                  </a:lnTo>
                  <a:lnTo>
                    <a:pt x="121" y="1473"/>
                  </a:lnTo>
                  <a:lnTo>
                    <a:pt x="123" y="1473"/>
                  </a:lnTo>
                  <a:lnTo>
                    <a:pt x="121" y="1477"/>
                  </a:lnTo>
                  <a:lnTo>
                    <a:pt x="121" y="1480"/>
                  </a:lnTo>
                  <a:lnTo>
                    <a:pt x="118" y="1484"/>
                  </a:lnTo>
                  <a:lnTo>
                    <a:pt x="110" y="1484"/>
                  </a:lnTo>
                  <a:lnTo>
                    <a:pt x="110" y="1489"/>
                  </a:lnTo>
                  <a:lnTo>
                    <a:pt x="110" y="1487"/>
                  </a:lnTo>
                  <a:lnTo>
                    <a:pt x="109" y="1487"/>
                  </a:lnTo>
                  <a:lnTo>
                    <a:pt x="108" y="1487"/>
                  </a:lnTo>
                  <a:lnTo>
                    <a:pt x="105" y="1489"/>
                  </a:lnTo>
                  <a:lnTo>
                    <a:pt x="105" y="1492"/>
                  </a:lnTo>
                  <a:lnTo>
                    <a:pt x="98" y="1492"/>
                  </a:lnTo>
                  <a:lnTo>
                    <a:pt x="101" y="1492"/>
                  </a:lnTo>
                  <a:lnTo>
                    <a:pt x="101" y="1494"/>
                  </a:lnTo>
                  <a:lnTo>
                    <a:pt x="100" y="1496"/>
                  </a:lnTo>
                  <a:lnTo>
                    <a:pt x="98" y="1501"/>
                  </a:lnTo>
                  <a:lnTo>
                    <a:pt x="86" y="1501"/>
                  </a:lnTo>
                  <a:lnTo>
                    <a:pt x="90" y="1501"/>
                  </a:lnTo>
                  <a:lnTo>
                    <a:pt x="89" y="1505"/>
                  </a:lnTo>
                  <a:lnTo>
                    <a:pt x="86" y="1509"/>
                  </a:lnTo>
                  <a:lnTo>
                    <a:pt x="84" y="1512"/>
                  </a:lnTo>
                  <a:lnTo>
                    <a:pt x="81" y="1512"/>
                  </a:lnTo>
                  <a:lnTo>
                    <a:pt x="80" y="1513"/>
                  </a:lnTo>
                  <a:lnTo>
                    <a:pt x="77" y="1516"/>
                  </a:lnTo>
                  <a:lnTo>
                    <a:pt x="75" y="1516"/>
                  </a:lnTo>
                  <a:lnTo>
                    <a:pt x="77" y="1516"/>
                  </a:lnTo>
                  <a:lnTo>
                    <a:pt x="79" y="1516"/>
                  </a:lnTo>
                  <a:lnTo>
                    <a:pt x="77" y="1519"/>
                  </a:lnTo>
                  <a:lnTo>
                    <a:pt x="75" y="1524"/>
                  </a:lnTo>
                  <a:lnTo>
                    <a:pt x="72" y="1527"/>
                  </a:lnTo>
                  <a:lnTo>
                    <a:pt x="70" y="1531"/>
                  </a:lnTo>
                  <a:lnTo>
                    <a:pt x="71" y="1530"/>
                  </a:lnTo>
                  <a:lnTo>
                    <a:pt x="70" y="1530"/>
                  </a:lnTo>
                  <a:lnTo>
                    <a:pt x="67" y="1531"/>
                  </a:lnTo>
                  <a:lnTo>
                    <a:pt x="64" y="1531"/>
                  </a:lnTo>
                  <a:lnTo>
                    <a:pt x="63" y="1534"/>
                  </a:lnTo>
                  <a:lnTo>
                    <a:pt x="62" y="1534"/>
                  </a:lnTo>
                  <a:lnTo>
                    <a:pt x="62" y="1538"/>
                  </a:lnTo>
                  <a:lnTo>
                    <a:pt x="62" y="1537"/>
                  </a:lnTo>
                  <a:lnTo>
                    <a:pt x="59" y="1534"/>
                  </a:lnTo>
                  <a:lnTo>
                    <a:pt x="55" y="1538"/>
                  </a:lnTo>
                  <a:lnTo>
                    <a:pt x="55" y="1541"/>
                  </a:lnTo>
                  <a:lnTo>
                    <a:pt x="53" y="1541"/>
                  </a:lnTo>
                  <a:lnTo>
                    <a:pt x="52" y="1544"/>
                  </a:lnTo>
                  <a:lnTo>
                    <a:pt x="52" y="1547"/>
                  </a:lnTo>
                  <a:lnTo>
                    <a:pt x="45" y="1547"/>
                  </a:lnTo>
                  <a:lnTo>
                    <a:pt x="45" y="1551"/>
                  </a:lnTo>
                  <a:lnTo>
                    <a:pt x="40" y="1551"/>
                  </a:lnTo>
                  <a:lnTo>
                    <a:pt x="43" y="1551"/>
                  </a:lnTo>
                  <a:lnTo>
                    <a:pt x="43" y="1552"/>
                  </a:lnTo>
                  <a:lnTo>
                    <a:pt x="40" y="1554"/>
                  </a:lnTo>
                  <a:lnTo>
                    <a:pt x="40" y="1559"/>
                  </a:lnTo>
                  <a:lnTo>
                    <a:pt x="36" y="1563"/>
                  </a:lnTo>
                  <a:lnTo>
                    <a:pt x="29" y="1563"/>
                  </a:lnTo>
                  <a:lnTo>
                    <a:pt x="29" y="1566"/>
                  </a:lnTo>
                  <a:lnTo>
                    <a:pt x="29" y="1565"/>
                  </a:lnTo>
                  <a:lnTo>
                    <a:pt x="27" y="1565"/>
                  </a:lnTo>
                  <a:lnTo>
                    <a:pt x="26" y="1566"/>
                  </a:lnTo>
                  <a:lnTo>
                    <a:pt x="23" y="1566"/>
                  </a:lnTo>
                  <a:lnTo>
                    <a:pt x="23" y="1570"/>
                  </a:lnTo>
                  <a:lnTo>
                    <a:pt x="17" y="1570"/>
                  </a:lnTo>
                  <a:lnTo>
                    <a:pt x="17" y="1573"/>
                  </a:lnTo>
                  <a:lnTo>
                    <a:pt x="15" y="1573"/>
                  </a:lnTo>
                  <a:lnTo>
                    <a:pt x="14" y="1575"/>
                  </a:lnTo>
                  <a:lnTo>
                    <a:pt x="14" y="1579"/>
                  </a:lnTo>
                  <a:lnTo>
                    <a:pt x="0" y="1568"/>
                  </a:lnTo>
                  <a:lnTo>
                    <a:pt x="29" y="1314"/>
                  </a:lnTo>
                  <a:lnTo>
                    <a:pt x="165" y="1291"/>
                  </a:lnTo>
                  <a:lnTo>
                    <a:pt x="126" y="777"/>
                  </a:lnTo>
                  <a:lnTo>
                    <a:pt x="164" y="781"/>
                  </a:lnTo>
                  <a:lnTo>
                    <a:pt x="172" y="445"/>
                  </a:lnTo>
                  <a:lnTo>
                    <a:pt x="112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03920" y="1808280"/>
              <a:ext cx="2109600" cy="1446120"/>
            </a:xfrm>
            <a:custGeom>
              <a:avLst/>
              <a:gdLst/>
              <a:ahLst/>
              <a:rect l="l" t="t" r="r" b="b"/>
              <a:pathLst>
                <a:path w="1329" h="911">
                  <a:moveTo>
                    <a:pt x="0" y="300"/>
                  </a:moveTo>
                  <a:lnTo>
                    <a:pt x="150" y="434"/>
                  </a:lnTo>
                  <a:lnTo>
                    <a:pt x="26" y="683"/>
                  </a:lnTo>
                  <a:lnTo>
                    <a:pt x="30" y="683"/>
                  </a:lnTo>
                  <a:lnTo>
                    <a:pt x="35" y="683"/>
                  </a:lnTo>
                  <a:lnTo>
                    <a:pt x="42" y="683"/>
                  </a:lnTo>
                  <a:lnTo>
                    <a:pt x="48" y="685"/>
                  </a:lnTo>
                  <a:lnTo>
                    <a:pt x="58" y="686"/>
                  </a:lnTo>
                  <a:lnTo>
                    <a:pt x="67" y="690"/>
                  </a:lnTo>
                  <a:lnTo>
                    <a:pt x="75" y="692"/>
                  </a:lnTo>
                  <a:lnTo>
                    <a:pt x="85" y="695"/>
                  </a:lnTo>
                  <a:lnTo>
                    <a:pt x="95" y="697"/>
                  </a:lnTo>
                  <a:lnTo>
                    <a:pt x="103" y="700"/>
                  </a:lnTo>
                  <a:lnTo>
                    <a:pt x="112" y="703"/>
                  </a:lnTo>
                  <a:lnTo>
                    <a:pt x="121" y="704"/>
                  </a:lnTo>
                  <a:lnTo>
                    <a:pt x="127" y="704"/>
                  </a:lnTo>
                  <a:lnTo>
                    <a:pt x="134" y="704"/>
                  </a:lnTo>
                  <a:lnTo>
                    <a:pt x="140" y="703"/>
                  </a:lnTo>
                  <a:lnTo>
                    <a:pt x="145" y="700"/>
                  </a:lnTo>
                  <a:lnTo>
                    <a:pt x="145" y="692"/>
                  </a:lnTo>
                  <a:lnTo>
                    <a:pt x="170" y="692"/>
                  </a:lnTo>
                  <a:lnTo>
                    <a:pt x="170" y="683"/>
                  </a:lnTo>
                  <a:lnTo>
                    <a:pt x="172" y="681"/>
                  </a:lnTo>
                  <a:lnTo>
                    <a:pt x="175" y="681"/>
                  </a:lnTo>
                  <a:lnTo>
                    <a:pt x="179" y="681"/>
                  </a:lnTo>
                  <a:lnTo>
                    <a:pt x="183" y="681"/>
                  </a:lnTo>
                  <a:lnTo>
                    <a:pt x="187" y="681"/>
                  </a:lnTo>
                  <a:lnTo>
                    <a:pt x="191" y="681"/>
                  </a:lnTo>
                  <a:lnTo>
                    <a:pt x="196" y="683"/>
                  </a:lnTo>
                  <a:lnTo>
                    <a:pt x="201" y="683"/>
                  </a:lnTo>
                  <a:lnTo>
                    <a:pt x="205" y="685"/>
                  </a:lnTo>
                  <a:lnTo>
                    <a:pt x="209" y="685"/>
                  </a:lnTo>
                  <a:lnTo>
                    <a:pt x="215" y="685"/>
                  </a:lnTo>
                  <a:lnTo>
                    <a:pt x="219" y="686"/>
                  </a:lnTo>
                  <a:lnTo>
                    <a:pt x="223" y="686"/>
                  </a:lnTo>
                  <a:lnTo>
                    <a:pt x="227" y="685"/>
                  </a:lnTo>
                  <a:lnTo>
                    <a:pt x="229" y="685"/>
                  </a:lnTo>
                  <a:lnTo>
                    <a:pt x="232" y="683"/>
                  </a:lnTo>
                  <a:lnTo>
                    <a:pt x="232" y="674"/>
                  </a:lnTo>
                  <a:lnTo>
                    <a:pt x="264" y="674"/>
                  </a:lnTo>
                  <a:lnTo>
                    <a:pt x="264" y="683"/>
                  </a:lnTo>
                  <a:lnTo>
                    <a:pt x="364" y="683"/>
                  </a:lnTo>
                  <a:lnTo>
                    <a:pt x="364" y="674"/>
                  </a:lnTo>
                  <a:lnTo>
                    <a:pt x="413" y="650"/>
                  </a:lnTo>
                  <a:lnTo>
                    <a:pt x="414" y="643"/>
                  </a:lnTo>
                  <a:lnTo>
                    <a:pt x="417" y="641"/>
                  </a:lnTo>
                  <a:lnTo>
                    <a:pt x="418" y="639"/>
                  </a:lnTo>
                  <a:lnTo>
                    <a:pt x="419" y="632"/>
                  </a:lnTo>
                  <a:lnTo>
                    <a:pt x="439" y="632"/>
                  </a:lnTo>
                  <a:lnTo>
                    <a:pt x="439" y="625"/>
                  </a:lnTo>
                  <a:lnTo>
                    <a:pt x="469" y="625"/>
                  </a:lnTo>
                  <a:lnTo>
                    <a:pt x="688" y="808"/>
                  </a:lnTo>
                  <a:lnTo>
                    <a:pt x="914" y="910"/>
                  </a:lnTo>
                  <a:lnTo>
                    <a:pt x="1127" y="650"/>
                  </a:lnTo>
                  <a:lnTo>
                    <a:pt x="1234" y="282"/>
                  </a:lnTo>
                  <a:lnTo>
                    <a:pt x="1215" y="233"/>
                  </a:lnTo>
                  <a:lnTo>
                    <a:pt x="1328" y="149"/>
                  </a:lnTo>
                  <a:lnTo>
                    <a:pt x="1283" y="31"/>
                  </a:lnTo>
                  <a:lnTo>
                    <a:pt x="1280" y="31"/>
                  </a:lnTo>
                  <a:lnTo>
                    <a:pt x="1276" y="31"/>
                  </a:lnTo>
                  <a:lnTo>
                    <a:pt x="1272" y="31"/>
                  </a:lnTo>
                  <a:lnTo>
                    <a:pt x="1267" y="30"/>
                  </a:lnTo>
                  <a:lnTo>
                    <a:pt x="1261" y="30"/>
                  </a:lnTo>
                  <a:lnTo>
                    <a:pt x="1257" y="31"/>
                  </a:lnTo>
                  <a:lnTo>
                    <a:pt x="1255" y="31"/>
                  </a:lnTo>
                  <a:lnTo>
                    <a:pt x="1254" y="34"/>
                  </a:lnTo>
                  <a:lnTo>
                    <a:pt x="1202" y="48"/>
                  </a:lnTo>
                  <a:lnTo>
                    <a:pt x="1215" y="48"/>
                  </a:lnTo>
                  <a:lnTo>
                    <a:pt x="1223" y="48"/>
                  </a:lnTo>
                  <a:lnTo>
                    <a:pt x="1226" y="51"/>
                  </a:lnTo>
                  <a:lnTo>
                    <a:pt x="1226" y="52"/>
                  </a:lnTo>
                  <a:lnTo>
                    <a:pt x="1222" y="54"/>
                  </a:lnTo>
                  <a:lnTo>
                    <a:pt x="1215" y="56"/>
                  </a:lnTo>
                  <a:lnTo>
                    <a:pt x="1209" y="61"/>
                  </a:lnTo>
                  <a:lnTo>
                    <a:pt x="1202" y="66"/>
                  </a:lnTo>
                  <a:lnTo>
                    <a:pt x="1196" y="75"/>
                  </a:lnTo>
                  <a:lnTo>
                    <a:pt x="1190" y="82"/>
                  </a:lnTo>
                  <a:lnTo>
                    <a:pt x="1191" y="80"/>
                  </a:lnTo>
                  <a:lnTo>
                    <a:pt x="1193" y="79"/>
                  </a:lnTo>
                  <a:lnTo>
                    <a:pt x="1191" y="79"/>
                  </a:lnTo>
                  <a:lnTo>
                    <a:pt x="1190" y="79"/>
                  </a:lnTo>
                  <a:lnTo>
                    <a:pt x="1187" y="80"/>
                  </a:lnTo>
                  <a:lnTo>
                    <a:pt x="1185" y="82"/>
                  </a:lnTo>
                  <a:lnTo>
                    <a:pt x="1182" y="82"/>
                  </a:lnTo>
                  <a:lnTo>
                    <a:pt x="1177" y="82"/>
                  </a:lnTo>
                  <a:lnTo>
                    <a:pt x="1182" y="80"/>
                  </a:lnTo>
                  <a:lnTo>
                    <a:pt x="1187" y="79"/>
                  </a:lnTo>
                  <a:lnTo>
                    <a:pt x="1189" y="80"/>
                  </a:lnTo>
                  <a:lnTo>
                    <a:pt x="1189" y="82"/>
                  </a:lnTo>
                  <a:lnTo>
                    <a:pt x="1187" y="84"/>
                  </a:lnTo>
                  <a:lnTo>
                    <a:pt x="1185" y="89"/>
                  </a:lnTo>
                  <a:lnTo>
                    <a:pt x="1182" y="93"/>
                  </a:lnTo>
                  <a:lnTo>
                    <a:pt x="1177" y="99"/>
                  </a:lnTo>
                  <a:lnTo>
                    <a:pt x="1171" y="106"/>
                  </a:lnTo>
                  <a:lnTo>
                    <a:pt x="1164" y="116"/>
                  </a:lnTo>
                  <a:lnTo>
                    <a:pt x="1167" y="113"/>
                  </a:lnTo>
                  <a:lnTo>
                    <a:pt x="1167" y="112"/>
                  </a:lnTo>
                  <a:lnTo>
                    <a:pt x="1165" y="113"/>
                  </a:lnTo>
                  <a:lnTo>
                    <a:pt x="1164" y="113"/>
                  </a:lnTo>
                  <a:lnTo>
                    <a:pt x="1160" y="113"/>
                  </a:lnTo>
                  <a:lnTo>
                    <a:pt x="1156" y="116"/>
                  </a:lnTo>
                  <a:lnTo>
                    <a:pt x="1152" y="116"/>
                  </a:lnTo>
                  <a:lnTo>
                    <a:pt x="1145" y="124"/>
                  </a:lnTo>
                  <a:lnTo>
                    <a:pt x="1145" y="133"/>
                  </a:lnTo>
                  <a:lnTo>
                    <a:pt x="1140" y="133"/>
                  </a:lnTo>
                  <a:lnTo>
                    <a:pt x="1140" y="142"/>
                  </a:lnTo>
                  <a:lnTo>
                    <a:pt x="1134" y="142"/>
                  </a:lnTo>
                  <a:lnTo>
                    <a:pt x="1134" y="149"/>
                  </a:lnTo>
                  <a:lnTo>
                    <a:pt x="1127" y="149"/>
                  </a:lnTo>
                  <a:lnTo>
                    <a:pt x="1127" y="158"/>
                  </a:lnTo>
                  <a:lnTo>
                    <a:pt x="1120" y="158"/>
                  </a:lnTo>
                  <a:lnTo>
                    <a:pt x="1120" y="166"/>
                  </a:lnTo>
                  <a:lnTo>
                    <a:pt x="1115" y="166"/>
                  </a:lnTo>
                  <a:lnTo>
                    <a:pt x="1115" y="175"/>
                  </a:lnTo>
                  <a:lnTo>
                    <a:pt x="1108" y="175"/>
                  </a:lnTo>
                  <a:lnTo>
                    <a:pt x="1108" y="182"/>
                  </a:lnTo>
                  <a:lnTo>
                    <a:pt x="1102" y="182"/>
                  </a:lnTo>
                  <a:lnTo>
                    <a:pt x="1102" y="191"/>
                  </a:lnTo>
                  <a:lnTo>
                    <a:pt x="1095" y="199"/>
                  </a:lnTo>
                  <a:lnTo>
                    <a:pt x="1098" y="196"/>
                  </a:lnTo>
                  <a:lnTo>
                    <a:pt x="1097" y="196"/>
                  </a:lnTo>
                  <a:lnTo>
                    <a:pt x="1095" y="198"/>
                  </a:lnTo>
                  <a:lnTo>
                    <a:pt x="1091" y="198"/>
                  </a:lnTo>
                  <a:lnTo>
                    <a:pt x="1087" y="199"/>
                  </a:lnTo>
                  <a:lnTo>
                    <a:pt x="1083" y="199"/>
                  </a:lnTo>
                  <a:lnTo>
                    <a:pt x="1082" y="206"/>
                  </a:lnTo>
                  <a:lnTo>
                    <a:pt x="1079" y="209"/>
                  </a:lnTo>
                  <a:lnTo>
                    <a:pt x="1078" y="209"/>
                  </a:lnTo>
                  <a:lnTo>
                    <a:pt x="1077" y="217"/>
                  </a:lnTo>
                  <a:lnTo>
                    <a:pt x="1058" y="217"/>
                  </a:lnTo>
                  <a:lnTo>
                    <a:pt x="1052" y="224"/>
                  </a:lnTo>
                  <a:lnTo>
                    <a:pt x="1055" y="221"/>
                  </a:lnTo>
                  <a:lnTo>
                    <a:pt x="1055" y="224"/>
                  </a:lnTo>
                  <a:lnTo>
                    <a:pt x="1053" y="230"/>
                  </a:lnTo>
                  <a:lnTo>
                    <a:pt x="1052" y="242"/>
                  </a:lnTo>
                  <a:lnTo>
                    <a:pt x="1045" y="249"/>
                  </a:lnTo>
                  <a:lnTo>
                    <a:pt x="1026" y="249"/>
                  </a:lnTo>
                  <a:lnTo>
                    <a:pt x="1026" y="275"/>
                  </a:lnTo>
                  <a:lnTo>
                    <a:pt x="1021" y="282"/>
                  </a:lnTo>
                  <a:lnTo>
                    <a:pt x="1023" y="281"/>
                  </a:lnTo>
                  <a:lnTo>
                    <a:pt x="1023" y="279"/>
                  </a:lnTo>
                  <a:lnTo>
                    <a:pt x="1021" y="281"/>
                  </a:lnTo>
                  <a:lnTo>
                    <a:pt x="1020" y="281"/>
                  </a:lnTo>
                  <a:lnTo>
                    <a:pt x="1016" y="282"/>
                  </a:lnTo>
                  <a:lnTo>
                    <a:pt x="1012" y="282"/>
                  </a:lnTo>
                  <a:lnTo>
                    <a:pt x="1008" y="282"/>
                  </a:lnTo>
                  <a:lnTo>
                    <a:pt x="1007" y="291"/>
                  </a:lnTo>
                  <a:lnTo>
                    <a:pt x="1005" y="291"/>
                  </a:lnTo>
                  <a:lnTo>
                    <a:pt x="1003" y="292"/>
                  </a:lnTo>
                  <a:lnTo>
                    <a:pt x="1001" y="300"/>
                  </a:lnTo>
                  <a:lnTo>
                    <a:pt x="999" y="300"/>
                  </a:lnTo>
                  <a:lnTo>
                    <a:pt x="996" y="300"/>
                  </a:lnTo>
                  <a:lnTo>
                    <a:pt x="992" y="300"/>
                  </a:lnTo>
                  <a:lnTo>
                    <a:pt x="987" y="302"/>
                  </a:lnTo>
                  <a:lnTo>
                    <a:pt x="983" y="302"/>
                  </a:lnTo>
                  <a:lnTo>
                    <a:pt x="978" y="302"/>
                  </a:lnTo>
                  <a:lnTo>
                    <a:pt x="973" y="303"/>
                  </a:lnTo>
                  <a:lnTo>
                    <a:pt x="968" y="303"/>
                  </a:lnTo>
                  <a:lnTo>
                    <a:pt x="963" y="303"/>
                  </a:lnTo>
                  <a:lnTo>
                    <a:pt x="958" y="303"/>
                  </a:lnTo>
                  <a:lnTo>
                    <a:pt x="954" y="303"/>
                  </a:lnTo>
                  <a:lnTo>
                    <a:pt x="950" y="303"/>
                  </a:lnTo>
                  <a:lnTo>
                    <a:pt x="946" y="303"/>
                  </a:lnTo>
                  <a:lnTo>
                    <a:pt x="944" y="303"/>
                  </a:lnTo>
                  <a:lnTo>
                    <a:pt x="941" y="302"/>
                  </a:lnTo>
                  <a:lnTo>
                    <a:pt x="940" y="300"/>
                  </a:lnTo>
                  <a:lnTo>
                    <a:pt x="940" y="292"/>
                  </a:lnTo>
                  <a:lnTo>
                    <a:pt x="914" y="292"/>
                  </a:lnTo>
                  <a:lnTo>
                    <a:pt x="914" y="282"/>
                  </a:lnTo>
                  <a:lnTo>
                    <a:pt x="896" y="282"/>
                  </a:lnTo>
                  <a:lnTo>
                    <a:pt x="889" y="275"/>
                  </a:lnTo>
                  <a:lnTo>
                    <a:pt x="882" y="266"/>
                  </a:lnTo>
                  <a:lnTo>
                    <a:pt x="882" y="249"/>
                  </a:lnTo>
                  <a:lnTo>
                    <a:pt x="876" y="249"/>
                  </a:lnTo>
                  <a:lnTo>
                    <a:pt x="875" y="244"/>
                  </a:lnTo>
                  <a:lnTo>
                    <a:pt x="875" y="231"/>
                  </a:lnTo>
                  <a:lnTo>
                    <a:pt x="876" y="217"/>
                  </a:lnTo>
                  <a:lnTo>
                    <a:pt x="877" y="199"/>
                  </a:lnTo>
                  <a:lnTo>
                    <a:pt x="880" y="182"/>
                  </a:lnTo>
                  <a:lnTo>
                    <a:pt x="881" y="168"/>
                  </a:lnTo>
                  <a:lnTo>
                    <a:pt x="882" y="156"/>
                  </a:lnTo>
                  <a:lnTo>
                    <a:pt x="882" y="149"/>
                  </a:lnTo>
                  <a:lnTo>
                    <a:pt x="889" y="149"/>
                  </a:lnTo>
                  <a:lnTo>
                    <a:pt x="889" y="124"/>
                  </a:lnTo>
                  <a:lnTo>
                    <a:pt x="896" y="124"/>
                  </a:lnTo>
                  <a:lnTo>
                    <a:pt x="896" y="58"/>
                  </a:lnTo>
                  <a:lnTo>
                    <a:pt x="892" y="58"/>
                  </a:lnTo>
                  <a:lnTo>
                    <a:pt x="891" y="56"/>
                  </a:lnTo>
                  <a:lnTo>
                    <a:pt x="889" y="56"/>
                  </a:lnTo>
                  <a:lnTo>
                    <a:pt x="889" y="52"/>
                  </a:lnTo>
                  <a:lnTo>
                    <a:pt x="888" y="51"/>
                  </a:lnTo>
                  <a:lnTo>
                    <a:pt x="886" y="48"/>
                  </a:lnTo>
                  <a:lnTo>
                    <a:pt x="882" y="48"/>
                  </a:lnTo>
                  <a:lnTo>
                    <a:pt x="882" y="31"/>
                  </a:lnTo>
                  <a:lnTo>
                    <a:pt x="876" y="31"/>
                  </a:lnTo>
                  <a:lnTo>
                    <a:pt x="876" y="17"/>
                  </a:lnTo>
                  <a:lnTo>
                    <a:pt x="852" y="17"/>
                  </a:lnTo>
                  <a:lnTo>
                    <a:pt x="852" y="6"/>
                  </a:lnTo>
                  <a:lnTo>
                    <a:pt x="852" y="10"/>
                  </a:lnTo>
                  <a:lnTo>
                    <a:pt x="851" y="12"/>
                  </a:lnTo>
                  <a:lnTo>
                    <a:pt x="850" y="10"/>
                  </a:lnTo>
                  <a:lnTo>
                    <a:pt x="848" y="10"/>
                  </a:lnTo>
                  <a:lnTo>
                    <a:pt x="847" y="8"/>
                  </a:lnTo>
                  <a:lnTo>
                    <a:pt x="843" y="8"/>
                  </a:lnTo>
                  <a:lnTo>
                    <a:pt x="839" y="6"/>
                  </a:lnTo>
                  <a:lnTo>
                    <a:pt x="839" y="0"/>
                  </a:lnTo>
                  <a:lnTo>
                    <a:pt x="782" y="0"/>
                  </a:lnTo>
                  <a:lnTo>
                    <a:pt x="781" y="6"/>
                  </a:lnTo>
                  <a:lnTo>
                    <a:pt x="780" y="6"/>
                  </a:lnTo>
                  <a:lnTo>
                    <a:pt x="777" y="8"/>
                  </a:lnTo>
                  <a:lnTo>
                    <a:pt x="777" y="17"/>
                  </a:lnTo>
                  <a:lnTo>
                    <a:pt x="757" y="17"/>
                  </a:lnTo>
                  <a:lnTo>
                    <a:pt x="751" y="24"/>
                  </a:lnTo>
                  <a:lnTo>
                    <a:pt x="751" y="48"/>
                  </a:lnTo>
                  <a:lnTo>
                    <a:pt x="748" y="48"/>
                  </a:lnTo>
                  <a:lnTo>
                    <a:pt x="746" y="51"/>
                  </a:lnTo>
                  <a:lnTo>
                    <a:pt x="746" y="52"/>
                  </a:lnTo>
                  <a:lnTo>
                    <a:pt x="746" y="56"/>
                  </a:lnTo>
                  <a:lnTo>
                    <a:pt x="744" y="56"/>
                  </a:lnTo>
                  <a:lnTo>
                    <a:pt x="743" y="58"/>
                  </a:lnTo>
                  <a:lnTo>
                    <a:pt x="739" y="58"/>
                  </a:lnTo>
                  <a:lnTo>
                    <a:pt x="739" y="56"/>
                  </a:lnTo>
                  <a:lnTo>
                    <a:pt x="740" y="54"/>
                  </a:lnTo>
                  <a:lnTo>
                    <a:pt x="741" y="56"/>
                  </a:lnTo>
                  <a:lnTo>
                    <a:pt x="743" y="56"/>
                  </a:lnTo>
                  <a:lnTo>
                    <a:pt x="744" y="59"/>
                  </a:lnTo>
                  <a:lnTo>
                    <a:pt x="744" y="63"/>
                  </a:lnTo>
                  <a:lnTo>
                    <a:pt x="743" y="68"/>
                  </a:lnTo>
                  <a:lnTo>
                    <a:pt x="739" y="75"/>
                  </a:lnTo>
                  <a:lnTo>
                    <a:pt x="735" y="75"/>
                  </a:lnTo>
                  <a:lnTo>
                    <a:pt x="733" y="75"/>
                  </a:lnTo>
                  <a:lnTo>
                    <a:pt x="732" y="77"/>
                  </a:lnTo>
                  <a:lnTo>
                    <a:pt x="732" y="79"/>
                  </a:lnTo>
                  <a:lnTo>
                    <a:pt x="732" y="80"/>
                  </a:lnTo>
                  <a:lnTo>
                    <a:pt x="732" y="82"/>
                  </a:lnTo>
                  <a:lnTo>
                    <a:pt x="729" y="82"/>
                  </a:lnTo>
                  <a:lnTo>
                    <a:pt x="727" y="82"/>
                  </a:lnTo>
                  <a:lnTo>
                    <a:pt x="727" y="106"/>
                  </a:lnTo>
                  <a:lnTo>
                    <a:pt x="720" y="116"/>
                  </a:lnTo>
                  <a:lnTo>
                    <a:pt x="722" y="113"/>
                  </a:lnTo>
                  <a:lnTo>
                    <a:pt x="723" y="112"/>
                  </a:lnTo>
                  <a:lnTo>
                    <a:pt x="720" y="113"/>
                  </a:lnTo>
                  <a:lnTo>
                    <a:pt x="719" y="113"/>
                  </a:lnTo>
                  <a:lnTo>
                    <a:pt x="715" y="113"/>
                  </a:lnTo>
                  <a:lnTo>
                    <a:pt x="713" y="116"/>
                  </a:lnTo>
                  <a:lnTo>
                    <a:pt x="707" y="116"/>
                  </a:lnTo>
                  <a:lnTo>
                    <a:pt x="702" y="124"/>
                  </a:lnTo>
                  <a:lnTo>
                    <a:pt x="703" y="120"/>
                  </a:lnTo>
                  <a:lnTo>
                    <a:pt x="703" y="124"/>
                  </a:lnTo>
                  <a:lnTo>
                    <a:pt x="702" y="131"/>
                  </a:lnTo>
                  <a:lnTo>
                    <a:pt x="702" y="142"/>
                  </a:lnTo>
                  <a:lnTo>
                    <a:pt x="695" y="149"/>
                  </a:lnTo>
                  <a:lnTo>
                    <a:pt x="650" y="149"/>
                  </a:lnTo>
                  <a:lnTo>
                    <a:pt x="650" y="158"/>
                  </a:lnTo>
                  <a:lnTo>
                    <a:pt x="625" y="158"/>
                  </a:lnTo>
                  <a:lnTo>
                    <a:pt x="625" y="149"/>
                  </a:lnTo>
                  <a:lnTo>
                    <a:pt x="602" y="149"/>
                  </a:lnTo>
                  <a:lnTo>
                    <a:pt x="595" y="142"/>
                  </a:lnTo>
                  <a:lnTo>
                    <a:pt x="595" y="133"/>
                  </a:lnTo>
                  <a:lnTo>
                    <a:pt x="588" y="133"/>
                  </a:lnTo>
                  <a:lnTo>
                    <a:pt x="588" y="124"/>
                  </a:lnTo>
                  <a:lnTo>
                    <a:pt x="583" y="124"/>
                  </a:lnTo>
                  <a:lnTo>
                    <a:pt x="575" y="116"/>
                  </a:lnTo>
                  <a:lnTo>
                    <a:pt x="577" y="119"/>
                  </a:lnTo>
                  <a:lnTo>
                    <a:pt x="577" y="117"/>
                  </a:lnTo>
                  <a:lnTo>
                    <a:pt x="576" y="110"/>
                  </a:lnTo>
                  <a:lnTo>
                    <a:pt x="575" y="99"/>
                  </a:lnTo>
                  <a:lnTo>
                    <a:pt x="570" y="91"/>
                  </a:lnTo>
                  <a:lnTo>
                    <a:pt x="565" y="82"/>
                  </a:lnTo>
                  <a:lnTo>
                    <a:pt x="566" y="86"/>
                  </a:lnTo>
                  <a:lnTo>
                    <a:pt x="565" y="86"/>
                  </a:lnTo>
                  <a:lnTo>
                    <a:pt x="562" y="86"/>
                  </a:lnTo>
                  <a:lnTo>
                    <a:pt x="559" y="84"/>
                  </a:lnTo>
                  <a:lnTo>
                    <a:pt x="555" y="82"/>
                  </a:lnTo>
                  <a:lnTo>
                    <a:pt x="551" y="82"/>
                  </a:lnTo>
                  <a:lnTo>
                    <a:pt x="545" y="75"/>
                  </a:lnTo>
                  <a:lnTo>
                    <a:pt x="545" y="66"/>
                  </a:lnTo>
                  <a:lnTo>
                    <a:pt x="538" y="66"/>
                  </a:lnTo>
                  <a:lnTo>
                    <a:pt x="538" y="58"/>
                  </a:lnTo>
                  <a:lnTo>
                    <a:pt x="531" y="48"/>
                  </a:lnTo>
                  <a:lnTo>
                    <a:pt x="520" y="48"/>
                  </a:lnTo>
                  <a:lnTo>
                    <a:pt x="520" y="41"/>
                  </a:lnTo>
                  <a:lnTo>
                    <a:pt x="520" y="44"/>
                  </a:lnTo>
                  <a:lnTo>
                    <a:pt x="520" y="45"/>
                  </a:lnTo>
                  <a:lnTo>
                    <a:pt x="518" y="44"/>
                  </a:lnTo>
                  <a:lnTo>
                    <a:pt x="517" y="44"/>
                  </a:lnTo>
                  <a:lnTo>
                    <a:pt x="514" y="41"/>
                  </a:lnTo>
                  <a:lnTo>
                    <a:pt x="512" y="41"/>
                  </a:lnTo>
                  <a:lnTo>
                    <a:pt x="508" y="41"/>
                  </a:lnTo>
                  <a:lnTo>
                    <a:pt x="508" y="31"/>
                  </a:lnTo>
                  <a:lnTo>
                    <a:pt x="508" y="34"/>
                  </a:lnTo>
                  <a:lnTo>
                    <a:pt x="506" y="34"/>
                  </a:lnTo>
                  <a:lnTo>
                    <a:pt x="506" y="37"/>
                  </a:lnTo>
                  <a:lnTo>
                    <a:pt x="505" y="34"/>
                  </a:lnTo>
                  <a:lnTo>
                    <a:pt x="504" y="34"/>
                  </a:lnTo>
                  <a:lnTo>
                    <a:pt x="502" y="33"/>
                  </a:lnTo>
                  <a:lnTo>
                    <a:pt x="498" y="33"/>
                  </a:lnTo>
                  <a:lnTo>
                    <a:pt x="494" y="31"/>
                  </a:lnTo>
                  <a:lnTo>
                    <a:pt x="494" y="24"/>
                  </a:lnTo>
                  <a:lnTo>
                    <a:pt x="445" y="24"/>
                  </a:lnTo>
                  <a:lnTo>
                    <a:pt x="445" y="31"/>
                  </a:lnTo>
                  <a:lnTo>
                    <a:pt x="432" y="31"/>
                  </a:lnTo>
                  <a:lnTo>
                    <a:pt x="431" y="40"/>
                  </a:lnTo>
                  <a:lnTo>
                    <a:pt x="428" y="40"/>
                  </a:lnTo>
                  <a:lnTo>
                    <a:pt x="427" y="41"/>
                  </a:lnTo>
                  <a:lnTo>
                    <a:pt x="426" y="48"/>
                  </a:lnTo>
                  <a:lnTo>
                    <a:pt x="408" y="48"/>
                  </a:lnTo>
                  <a:lnTo>
                    <a:pt x="401" y="58"/>
                  </a:lnTo>
                  <a:lnTo>
                    <a:pt x="404" y="54"/>
                  </a:lnTo>
                  <a:lnTo>
                    <a:pt x="402" y="56"/>
                  </a:lnTo>
                  <a:lnTo>
                    <a:pt x="402" y="63"/>
                  </a:lnTo>
                  <a:lnTo>
                    <a:pt x="401" y="75"/>
                  </a:lnTo>
                  <a:lnTo>
                    <a:pt x="376" y="82"/>
                  </a:lnTo>
                  <a:lnTo>
                    <a:pt x="376" y="91"/>
                  </a:lnTo>
                  <a:lnTo>
                    <a:pt x="376" y="89"/>
                  </a:lnTo>
                  <a:lnTo>
                    <a:pt x="376" y="87"/>
                  </a:lnTo>
                  <a:lnTo>
                    <a:pt x="375" y="87"/>
                  </a:lnTo>
                  <a:lnTo>
                    <a:pt x="373" y="89"/>
                  </a:lnTo>
                  <a:lnTo>
                    <a:pt x="371" y="89"/>
                  </a:lnTo>
                  <a:lnTo>
                    <a:pt x="368" y="91"/>
                  </a:lnTo>
                  <a:lnTo>
                    <a:pt x="364" y="91"/>
                  </a:lnTo>
                  <a:lnTo>
                    <a:pt x="364" y="99"/>
                  </a:lnTo>
                  <a:lnTo>
                    <a:pt x="350" y="99"/>
                  </a:lnTo>
                  <a:lnTo>
                    <a:pt x="354" y="99"/>
                  </a:lnTo>
                  <a:lnTo>
                    <a:pt x="356" y="99"/>
                  </a:lnTo>
                  <a:lnTo>
                    <a:pt x="356" y="101"/>
                  </a:lnTo>
                  <a:lnTo>
                    <a:pt x="354" y="103"/>
                  </a:lnTo>
                  <a:lnTo>
                    <a:pt x="353" y="106"/>
                  </a:lnTo>
                  <a:lnTo>
                    <a:pt x="352" y="110"/>
                  </a:lnTo>
                  <a:lnTo>
                    <a:pt x="350" y="116"/>
                  </a:lnTo>
                  <a:lnTo>
                    <a:pt x="344" y="116"/>
                  </a:lnTo>
                  <a:lnTo>
                    <a:pt x="336" y="116"/>
                  </a:lnTo>
                  <a:lnTo>
                    <a:pt x="328" y="113"/>
                  </a:lnTo>
                  <a:lnTo>
                    <a:pt x="318" y="113"/>
                  </a:lnTo>
                  <a:lnTo>
                    <a:pt x="307" y="112"/>
                  </a:lnTo>
                  <a:lnTo>
                    <a:pt x="297" y="112"/>
                  </a:lnTo>
                  <a:lnTo>
                    <a:pt x="285" y="110"/>
                  </a:lnTo>
                  <a:lnTo>
                    <a:pt x="272" y="110"/>
                  </a:lnTo>
                  <a:lnTo>
                    <a:pt x="262" y="109"/>
                  </a:lnTo>
                  <a:lnTo>
                    <a:pt x="250" y="109"/>
                  </a:lnTo>
                  <a:lnTo>
                    <a:pt x="240" y="109"/>
                  </a:lnTo>
                  <a:lnTo>
                    <a:pt x="230" y="109"/>
                  </a:lnTo>
                  <a:lnTo>
                    <a:pt x="221" y="110"/>
                  </a:lnTo>
                  <a:lnTo>
                    <a:pt x="212" y="110"/>
                  </a:lnTo>
                  <a:lnTo>
                    <a:pt x="205" y="113"/>
                  </a:lnTo>
                  <a:lnTo>
                    <a:pt x="200" y="116"/>
                  </a:lnTo>
                  <a:lnTo>
                    <a:pt x="200" y="124"/>
                  </a:lnTo>
                  <a:lnTo>
                    <a:pt x="200" y="123"/>
                  </a:lnTo>
                  <a:lnTo>
                    <a:pt x="200" y="120"/>
                  </a:lnTo>
                  <a:lnTo>
                    <a:pt x="199" y="120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8" y="124"/>
                  </a:lnTo>
                  <a:lnTo>
                    <a:pt x="188" y="133"/>
                  </a:lnTo>
                  <a:lnTo>
                    <a:pt x="188" y="131"/>
                  </a:lnTo>
                  <a:lnTo>
                    <a:pt x="188" y="130"/>
                  </a:lnTo>
                  <a:lnTo>
                    <a:pt x="187" y="130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1" y="133"/>
                  </a:lnTo>
                  <a:lnTo>
                    <a:pt x="175" y="133"/>
                  </a:lnTo>
                  <a:lnTo>
                    <a:pt x="175" y="142"/>
                  </a:lnTo>
                  <a:lnTo>
                    <a:pt x="156" y="142"/>
                  </a:lnTo>
                  <a:lnTo>
                    <a:pt x="156" y="149"/>
                  </a:lnTo>
                  <a:lnTo>
                    <a:pt x="118" y="149"/>
                  </a:lnTo>
                  <a:lnTo>
                    <a:pt x="118" y="158"/>
                  </a:lnTo>
                  <a:lnTo>
                    <a:pt x="107" y="158"/>
                  </a:lnTo>
                  <a:lnTo>
                    <a:pt x="100" y="166"/>
                  </a:lnTo>
                  <a:lnTo>
                    <a:pt x="103" y="163"/>
                  </a:lnTo>
                  <a:lnTo>
                    <a:pt x="103" y="165"/>
                  </a:lnTo>
                  <a:lnTo>
                    <a:pt x="101" y="172"/>
                  </a:lnTo>
                  <a:lnTo>
                    <a:pt x="100" y="182"/>
                  </a:lnTo>
                  <a:lnTo>
                    <a:pt x="81" y="182"/>
                  </a:lnTo>
                  <a:lnTo>
                    <a:pt x="75" y="191"/>
                  </a:lnTo>
                  <a:lnTo>
                    <a:pt x="77" y="188"/>
                  </a:lnTo>
                  <a:lnTo>
                    <a:pt x="77" y="189"/>
                  </a:lnTo>
                  <a:lnTo>
                    <a:pt x="76" y="196"/>
                  </a:lnTo>
                  <a:lnTo>
                    <a:pt x="75" y="209"/>
                  </a:lnTo>
                  <a:lnTo>
                    <a:pt x="70" y="217"/>
                  </a:lnTo>
                  <a:lnTo>
                    <a:pt x="51" y="217"/>
                  </a:lnTo>
                  <a:lnTo>
                    <a:pt x="56" y="217"/>
                  </a:lnTo>
                  <a:lnTo>
                    <a:pt x="59" y="217"/>
                  </a:lnTo>
                  <a:lnTo>
                    <a:pt x="58" y="219"/>
                  </a:lnTo>
                  <a:lnTo>
                    <a:pt x="55" y="221"/>
                  </a:lnTo>
                  <a:lnTo>
                    <a:pt x="54" y="224"/>
                  </a:lnTo>
                  <a:lnTo>
                    <a:pt x="51" y="228"/>
                  </a:lnTo>
                  <a:lnTo>
                    <a:pt x="51" y="233"/>
                  </a:lnTo>
                  <a:lnTo>
                    <a:pt x="44" y="242"/>
                  </a:lnTo>
                  <a:lnTo>
                    <a:pt x="45" y="240"/>
                  </a:lnTo>
                  <a:lnTo>
                    <a:pt x="45" y="238"/>
                  </a:lnTo>
                  <a:lnTo>
                    <a:pt x="44" y="238"/>
                  </a:lnTo>
                  <a:lnTo>
                    <a:pt x="43" y="240"/>
                  </a:lnTo>
                  <a:lnTo>
                    <a:pt x="39" y="240"/>
                  </a:lnTo>
                  <a:lnTo>
                    <a:pt x="35" y="240"/>
                  </a:lnTo>
                  <a:lnTo>
                    <a:pt x="31" y="242"/>
                  </a:lnTo>
                  <a:lnTo>
                    <a:pt x="26" y="249"/>
                  </a:lnTo>
                  <a:lnTo>
                    <a:pt x="26" y="258"/>
                  </a:lnTo>
                  <a:lnTo>
                    <a:pt x="19" y="258"/>
                  </a:lnTo>
                  <a:lnTo>
                    <a:pt x="19" y="266"/>
                  </a:lnTo>
                  <a:lnTo>
                    <a:pt x="13" y="266"/>
                  </a:lnTo>
                  <a:lnTo>
                    <a:pt x="13" y="275"/>
                  </a:lnTo>
                  <a:lnTo>
                    <a:pt x="6" y="275"/>
                  </a:lnTo>
                  <a:lnTo>
                    <a:pt x="0" y="282"/>
                  </a:lnTo>
                  <a:lnTo>
                    <a:pt x="2" y="281"/>
                  </a:lnTo>
                  <a:lnTo>
                    <a:pt x="2" y="282"/>
                  </a:lnTo>
                  <a:lnTo>
                    <a:pt x="1" y="289"/>
                  </a:lnTo>
                  <a:lnTo>
                    <a:pt x="0" y="30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53280" y="1676520"/>
              <a:ext cx="1814400" cy="2209680"/>
            </a:xfrm>
            <a:custGeom>
              <a:avLst/>
              <a:gdLst/>
              <a:ahLst/>
              <a:rect l="l" t="t" r="r" b="b"/>
              <a:pathLst>
                <a:path w="1143" h="1392">
                  <a:moveTo>
                    <a:pt x="369" y="112"/>
                  </a:moveTo>
                  <a:lnTo>
                    <a:pt x="447" y="110"/>
                  </a:lnTo>
                  <a:lnTo>
                    <a:pt x="448" y="110"/>
                  </a:lnTo>
                  <a:lnTo>
                    <a:pt x="449" y="108"/>
                  </a:lnTo>
                  <a:lnTo>
                    <a:pt x="451" y="108"/>
                  </a:lnTo>
                  <a:lnTo>
                    <a:pt x="452" y="106"/>
                  </a:lnTo>
                  <a:lnTo>
                    <a:pt x="453" y="106"/>
                  </a:lnTo>
                  <a:lnTo>
                    <a:pt x="455" y="106"/>
                  </a:lnTo>
                  <a:lnTo>
                    <a:pt x="456" y="105"/>
                  </a:lnTo>
                  <a:lnTo>
                    <a:pt x="460" y="103"/>
                  </a:lnTo>
                  <a:lnTo>
                    <a:pt x="460" y="98"/>
                  </a:lnTo>
                  <a:lnTo>
                    <a:pt x="462" y="98"/>
                  </a:lnTo>
                  <a:lnTo>
                    <a:pt x="462" y="94"/>
                  </a:lnTo>
                  <a:lnTo>
                    <a:pt x="465" y="92"/>
                  </a:lnTo>
                  <a:lnTo>
                    <a:pt x="463" y="92"/>
                  </a:lnTo>
                  <a:lnTo>
                    <a:pt x="466" y="92"/>
                  </a:lnTo>
                  <a:lnTo>
                    <a:pt x="470" y="92"/>
                  </a:lnTo>
                  <a:lnTo>
                    <a:pt x="473" y="87"/>
                  </a:lnTo>
                  <a:lnTo>
                    <a:pt x="473" y="86"/>
                  </a:lnTo>
                  <a:lnTo>
                    <a:pt x="476" y="80"/>
                  </a:lnTo>
                  <a:lnTo>
                    <a:pt x="481" y="80"/>
                  </a:lnTo>
                  <a:lnTo>
                    <a:pt x="481" y="76"/>
                  </a:lnTo>
                  <a:lnTo>
                    <a:pt x="481" y="79"/>
                  </a:lnTo>
                  <a:lnTo>
                    <a:pt x="484" y="76"/>
                  </a:lnTo>
                  <a:lnTo>
                    <a:pt x="486" y="76"/>
                  </a:lnTo>
                  <a:lnTo>
                    <a:pt x="486" y="73"/>
                  </a:lnTo>
                  <a:lnTo>
                    <a:pt x="491" y="73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1" y="66"/>
                  </a:lnTo>
                  <a:lnTo>
                    <a:pt x="493" y="66"/>
                  </a:lnTo>
                  <a:lnTo>
                    <a:pt x="494" y="66"/>
                  </a:lnTo>
                  <a:lnTo>
                    <a:pt x="497" y="66"/>
                  </a:lnTo>
                  <a:lnTo>
                    <a:pt x="498" y="65"/>
                  </a:lnTo>
                  <a:lnTo>
                    <a:pt x="499" y="65"/>
                  </a:lnTo>
                  <a:lnTo>
                    <a:pt x="502" y="62"/>
                  </a:lnTo>
                  <a:lnTo>
                    <a:pt x="503" y="62"/>
                  </a:lnTo>
                  <a:lnTo>
                    <a:pt x="504" y="62"/>
                  </a:lnTo>
                  <a:lnTo>
                    <a:pt x="504" y="59"/>
                  </a:lnTo>
                  <a:lnTo>
                    <a:pt x="510" y="59"/>
                  </a:lnTo>
                  <a:lnTo>
                    <a:pt x="510" y="55"/>
                  </a:lnTo>
                  <a:lnTo>
                    <a:pt x="511" y="55"/>
                  </a:lnTo>
                  <a:lnTo>
                    <a:pt x="512" y="55"/>
                  </a:lnTo>
                  <a:lnTo>
                    <a:pt x="512" y="52"/>
                  </a:lnTo>
                  <a:lnTo>
                    <a:pt x="521" y="52"/>
                  </a:lnTo>
                  <a:lnTo>
                    <a:pt x="521" y="48"/>
                  </a:lnTo>
                  <a:lnTo>
                    <a:pt x="536" y="48"/>
                  </a:lnTo>
                  <a:lnTo>
                    <a:pt x="536" y="45"/>
                  </a:lnTo>
                  <a:lnTo>
                    <a:pt x="544" y="45"/>
                  </a:lnTo>
                  <a:lnTo>
                    <a:pt x="544" y="41"/>
                  </a:lnTo>
                  <a:lnTo>
                    <a:pt x="555" y="41"/>
                  </a:lnTo>
                  <a:lnTo>
                    <a:pt x="555" y="38"/>
                  </a:lnTo>
                  <a:lnTo>
                    <a:pt x="563" y="38"/>
                  </a:lnTo>
                  <a:lnTo>
                    <a:pt x="563" y="34"/>
                  </a:lnTo>
                  <a:lnTo>
                    <a:pt x="567" y="33"/>
                  </a:lnTo>
                  <a:lnTo>
                    <a:pt x="571" y="33"/>
                  </a:lnTo>
                  <a:lnTo>
                    <a:pt x="576" y="34"/>
                  </a:lnTo>
                  <a:lnTo>
                    <a:pt x="581" y="34"/>
                  </a:lnTo>
                  <a:lnTo>
                    <a:pt x="586" y="36"/>
                  </a:lnTo>
                  <a:lnTo>
                    <a:pt x="592" y="36"/>
                  </a:lnTo>
                  <a:lnTo>
                    <a:pt x="596" y="36"/>
                  </a:lnTo>
                  <a:lnTo>
                    <a:pt x="600" y="34"/>
                  </a:lnTo>
                  <a:lnTo>
                    <a:pt x="600" y="31"/>
                  </a:lnTo>
                  <a:lnTo>
                    <a:pt x="607" y="31"/>
                  </a:lnTo>
                  <a:lnTo>
                    <a:pt x="607" y="27"/>
                  </a:lnTo>
                  <a:lnTo>
                    <a:pt x="615" y="27"/>
                  </a:lnTo>
                  <a:lnTo>
                    <a:pt x="615" y="24"/>
                  </a:lnTo>
                  <a:lnTo>
                    <a:pt x="626" y="24"/>
                  </a:lnTo>
                  <a:lnTo>
                    <a:pt x="626" y="20"/>
                  </a:lnTo>
                  <a:lnTo>
                    <a:pt x="627" y="20"/>
                  </a:lnTo>
                  <a:lnTo>
                    <a:pt x="631" y="20"/>
                  </a:lnTo>
                  <a:lnTo>
                    <a:pt x="635" y="19"/>
                  </a:lnTo>
                  <a:lnTo>
                    <a:pt x="641" y="19"/>
                  </a:lnTo>
                  <a:lnTo>
                    <a:pt x="647" y="19"/>
                  </a:lnTo>
                  <a:lnTo>
                    <a:pt x="653" y="19"/>
                  </a:lnTo>
                  <a:lnTo>
                    <a:pt x="661" y="17"/>
                  </a:lnTo>
                  <a:lnTo>
                    <a:pt x="668" y="17"/>
                  </a:lnTo>
                  <a:lnTo>
                    <a:pt x="676" y="17"/>
                  </a:lnTo>
                  <a:lnTo>
                    <a:pt x="683" y="19"/>
                  </a:lnTo>
                  <a:lnTo>
                    <a:pt x="690" y="19"/>
                  </a:lnTo>
                  <a:lnTo>
                    <a:pt x="696" y="19"/>
                  </a:lnTo>
                  <a:lnTo>
                    <a:pt x="701" y="19"/>
                  </a:lnTo>
                  <a:lnTo>
                    <a:pt x="706" y="20"/>
                  </a:lnTo>
                  <a:lnTo>
                    <a:pt x="709" y="20"/>
                  </a:lnTo>
                  <a:lnTo>
                    <a:pt x="712" y="20"/>
                  </a:lnTo>
                  <a:lnTo>
                    <a:pt x="712" y="24"/>
                  </a:lnTo>
                  <a:lnTo>
                    <a:pt x="712" y="22"/>
                  </a:lnTo>
                  <a:lnTo>
                    <a:pt x="713" y="24"/>
                  </a:lnTo>
                  <a:lnTo>
                    <a:pt x="716" y="24"/>
                  </a:lnTo>
                  <a:lnTo>
                    <a:pt x="716" y="27"/>
                  </a:lnTo>
                  <a:lnTo>
                    <a:pt x="723" y="27"/>
                  </a:lnTo>
                  <a:lnTo>
                    <a:pt x="723" y="31"/>
                  </a:lnTo>
                  <a:lnTo>
                    <a:pt x="726" y="33"/>
                  </a:lnTo>
                  <a:lnTo>
                    <a:pt x="730" y="33"/>
                  </a:lnTo>
                  <a:lnTo>
                    <a:pt x="735" y="34"/>
                  </a:lnTo>
                  <a:lnTo>
                    <a:pt x="741" y="34"/>
                  </a:lnTo>
                  <a:lnTo>
                    <a:pt x="746" y="36"/>
                  </a:lnTo>
                  <a:lnTo>
                    <a:pt x="751" y="36"/>
                  </a:lnTo>
                  <a:lnTo>
                    <a:pt x="755" y="38"/>
                  </a:lnTo>
                  <a:lnTo>
                    <a:pt x="758" y="38"/>
                  </a:lnTo>
                  <a:lnTo>
                    <a:pt x="763" y="38"/>
                  </a:lnTo>
                  <a:lnTo>
                    <a:pt x="767" y="40"/>
                  </a:lnTo>
                  <a:lnTo>
                    <a:pt x="772" y="40"/>
                  </a:lnTo>
                  <a:lnTo>
                    <a:pt x="776" y="40"/>
                  </a:lnTo>
                  <a:lnTo>
                    <a:pt x="780" y="40"/>
                  </a:lnTo>
                  <a:lnTo>
                    <a:pt x="786" y="40"/>
                  </a:lnTo>
                  <a:lnTo>
                    <a:pt x="788" y="38"/>
                  </a:lnTo>
                  <a:lnTo>
                    <a:pt x="788" y="34"/>
                  </a:lnTo>
                  <a:lnTo>
                    <a:pt x="791" y="33"/>
                  </a:lnTo>
                  <a:lnTo>
                    <a:pt x="796" y="33"/>
                  </a:lnTo>
                  <a:lnTo>
                    <a:pt x="801" y="33"/>
                  </a:lnTo>
                  <a:lnTo>
                    <a:pt x="808" y="33"/>
                  </a:lnTo>
                  <a:lnTo>
                    <a:pt x="814" y="34"/>
                  </a:lnTo>
                  <a:lnTo>
                    <a:pt x="820" y="34"/>
                  </a:lnTo>
                  <a:lnTo>
                    <a:pt x="825" y="33"/>
                  </a:lnTo>
                  <a:lnTo>
                    <a:pt x="829" y="31"/>
                  </a:lnTo>
                  <a:lnTo>
                    <a:pt x="829" y="27"/>
                  </a:lnTo>
                  <a:lnTo>
                    <a:pt x="832" y="27"/>
                  </a:lnTo>
                  <a:lnTo>
                    <a:pt x="833" y="27"/>
                  </a:lnTo>
                  <a:lnTo>
                    <a:pt x="836" y="27"/>
                  </a:lnTo>
                  <a:lnTo>
                    <a:pt x="838" y="27"/>
                  </a:lnTo>
                  <a:lnTo>
                    <a:pt x="842" y="27"/>
                  </a:lnTo>
                  <a:lnTo>
                    <a:pt x="845" y="29"/>
                  </a:lnTo>
                  <a:lnTo>
                    <a:pt x="846" y="29"/>
                  </a:lnTo>
                  <a:lnTo>
                    <a:pt x="847" y="27"/>
                  </a:lnTo>
                  <a:lnTo>
                    <a:pt x="847" y="24"/>
                  </a:lnTo>
                  <a:lnTo>
                    <a:pt x="863" y="24"/>
                  </a:lnTo>
                  <a:lnTo>
                    <a:pt x="863" y="20"/>
                  </a:lnTo>
                  <a:lnTo>
                    <a:pt x="869" y="19"/>
                  </a:lnTo>
                  <a:lnTo>
                    <a:pt x="874" y="19"/>
                  </a:lnTo>
                  <a:lnTo>
                    <a:pt x="880" y="20"/>
                  </a:lnTo>
                  <a:lnTo>
                    <a:pt x="887" y="20"/>
                  </a:lnTo>
                  <a:lnTo>
                    <a:pt x="892" y="22"/>
                  </a:lnTo>
                  <a:lnTo>
                    <a:pt x="899" y="22"/>
                  </a:lnTo>
                  <a:lnTo>
                    <a:pt x="904" y="22"/>
                  </a:lnTo>
                  <a:lnTo>
                    <a:pt x="910" y="20"/>
                  </a:lnTo>
                  <a:lnTo>
                    <a:pt x="910" y="17"/>
                  </a:lnTo>
                  <a:lnTo>
                    <a:pt x="910" y="19"/>
                  </a:lnTo>
                  <a:lnTo>
                    <a:pt x="911" y="17"/>
                  </a:lnTo>
                  <a:lnTo>
                    <a:pt x="913" y="17"/>
                  </a:lnTo>
                  <a:lnTo>
                    <a:pt x="913" y="13"/>
                  </a:lnTo>
                  <a:lnTo>
                    <a:pt x="925" y="13"/>
                  </a:lnTo>
                  <a:lnTo>
                    <a:pt x="925" y="10"/>
                  </a:lnTo>
                  <a:lnTo>
                    <a:pt x="933" y="10"/>
                  </a:lnTo>
                  <a:lnTo>
                    <a:pt x="933" y="6"/>
                  </a:lnTo>
                  <a:lnTo>
                    <a:pt x="936" y="5"/>
                  </a:lnTo>
                  <a:lnTo>
                    <a:pt x="939" y="5"/>
                  </a:lnTo>
                  <a:lnTo>
                    <a:pt x="943" y="3"/>
                  </a:lnTo>
                  <a:lnTo>
                    <a:pt x="946" y="3"/>
                  </a:lnTo>
                  <a:lnTo>
                    <a:pt x="950" y="5"/>
                  </a:lnTo>
                  <a:lnTo>
                    <a:pt x="955" y="5"/>
                  </a:lnTo>
                  <a:lnTo>
                    <a:pt x="959" y="6"/>
                  </a:lnTo>
                  <a:lnTo>
                    <a:pt x="965" y="6"/>
                  </a:lnTo>
                  <a:lnTo>
                    <a:pt x="969" y="6"/>
                  </a:lnTo>
                  <a:lnTo>
                    <a:pt x="974" y="8"/>
                  </a:lnTo>
                  <a:lnTo>
                    <a:pt x="978" y="10"/>
                  </a:lnTo>
                  <a:lnTo>
                    <a:pt x="982" y="10"/>
                  </a:lnTo>
                  <a:lnTo>
                    <a:pt x="987" y="10"/>
                  </a:lnTo>
                  <a:lnTo>
                    <a:pt x="990" y="8"/>
                  </a:lnTo>
                  <a:lnTo>
                    <a:pt x="994" y="8"/>
                  </a:lnTo>
                  <a:lnTo>
                    <a:pt x="996" y="6"/>
                  </a:lnTo>
                  <a:lnTo>
                    <a:pt x="996" y="3"/>
                  </a:lnTo>
                  <a:lnTo>
                    <a:pt x="1007" y="3"/>
                  </a:lnTo>
                  <a:lnTo>
                    <a:pt x="1007" y="0"/>
                  </a:lnTo>
                  <a:lnTo>
                    <a:pt x="1041" y="0"/>
                  </a:lnTo>
                  <a:lnTo>
                    <a:pt x="1041" y="3"/>
                  </a:lnTo>
                  <a:lnTo>
                    <a:pt x="1049" y="3"/>
                  </a:lnTo>
                  <a:lnTo>
                    <a:pt x="1049" y="6"/>
                  </a:lnTo>
                  <a:lnTo>
                    <a:pt x="1057" y="6"/>
                  </a:lnTo>
                  <a:lnTo>
                    <a:pt x="1060" y="10"/>
                  </a:lnTo>
                  <a:lnTo>
                    <a:pt x="1060" y="22"/>
                  </a:lnTo>
                  <a:lnTo>
                    <a:pt x="1060" y="40"/>
                  </a:lnTo>
                  <a:lnTo>
                    <a:pt x="1061" y="55"/>
                  </a:lnTo>
                  <a:lnTo>
                    <a:pt x="1060" y="66"/>
                  </a:lnTo>
                  <a:lnTo>
                    <a:pt x="1057" y="66"/>
                  </a:lnTo>
                  <a:lnTo>
                    <a:pt x="1057" y="80"/>
                  </a:lnTo>
                  <a:lnTo>
                    <a:pt x="1055" y="80"/>
                  </a:lnTo>
                  <a:lnTo>
                    <a:pt x="1051" y="94"/>
                  </a:lnTo>
                  <a:lnTo>
                    <a:pt x="1051" y="110"/>
                  </a:lnTo>
                  <a:lnTo>
                    <a:pt x="1052" y="129"/>
                  </a:lnTo>
                  <a:lnTo>
                    <a:pt x="1055" y="148"/>
                  </a:lnTo>
                  <a:lnTo>
                    <a:pt x="1057" y="168"/>
                  </a:lnTo>
                  <a:lnTo>
                    <a:pt x="1057" y="187"/>
                  </a:lnTo>
                  <a:lnTo>
                    <a:pt x="1057" y="203"/>
                  </a:lnTo>
                  <a:lnTo>
                    <a:pt x="1055" y="216"/>
                  </a:lnTo>
                  <a:lnTo>
                    <a:pt x="1052" y="216"/>
                  </a:lnTo>
                  <a:lnTo>
                    <a:pt x="1052" y="234"/>
                  </a:lnTo>
                  <a:lnTo>
                    <a:pt x="1055" y="234"/>
                  </a:lnTo>
                  <a:lnTo>
                    <a:pt x="1055" y="257"/>
                  </a:lnTo>
                  <a:lnTo>
                    <a:pt x="1057" y="257"/>
                  </a:lnTo>
                  <a:lnTo>
                    <a:pt x="1057" y="261"/>
                  </a:lnTo>
                  <a:lnTo>
                    <a:pt x="1057" y="269"/>
                  </a:lnTo>
                  <a:lnTo>
                    <a:pt x="1056" y="278"/>
                  </a:lnTo>
                  <a:lnTo>
                    <a:pt x="1057" y="283"/>
                  </a:lnTo>
                  <a:lnTo>
                    <a:pt x="1060" y="283"/>
                  </a:lnTo>
                  <a:lnTo>
                    <a:pt x="1061" y="290"/>
                  </a:lnTo>
                  <a:lnTo>
                    <a:pt x="1061" y="299"/>
                  </a:lnTo>
                  <a:lnTo>
                    <a:pt x="1061" y="308"/>
                  </a:lnTo>
                  <a:lnTo>
                    <a:pt x="1060" y="318"/>
                  </a:lnTo>
                  <a:lnTo>
                    <a:pt x="1059" y="329"/>
                  </a:lnTo>
                  <a:lnTo>
                    <a:pt x="1057" y="340"/>
                  </a:lnTo>
                  <a:lnTo>
                    <a:pt x="1057" y="348"/>
                  </a:lnTo>
                  <a:lnTo>
                    <a:pt x="1060" y="354"/>
                  </a:lnTo>
                  <a:lnTo>
                    <a:pt x="1062" y="354"/>
                  </a:lnTo>
                  <a:lnTo>
                    <a:pt x="1062" y="369"/>
                  </a:lnTo>
                  <a:lnTo>
                    <a:pt x="1065" y="369"/>
                  </a:lnTo>
                  <a:lnTo>
                    <a:pt x="1065" y="371"/>
                  </a:lnTo>
                  <a:lnTo>
                    <a:pt x="1068" y="371"/>
                  </a:lnTo>
                  <a:lnTo>
                    <a:pt x="1066" y="371"/>
                  </a:lnTo>
                  <a:lnTo>
                    <a:pt x="1065" y="371"/>
                  </a:lnTo>
                  <a:lnTo>
                    <a:pt x="1065" y="375"/>
                  </a:lnTo>
                  <a:lnTo>
                    <a:pt x="1068" y="380"/>
                  </a:lnTo>
                  <a:lnTo>
                    <a:pt x="1070" y="383"/>
                  </a:lnTo>
                  <a:lnTo>
                    <a:pt x="1073" y="383"/>
                  </a:lnTo>
                  <a:lnTo>
                    <a:pt x="1073" y="387"/>
                  </a:lnTo>
                  <a:lnTo>
                    <a:pt x="1075" y="387"/>
                  </a:lnTo>
                  <a:lnTo>
                    <a:pt x="1078" y="389"/>
                  </a:lnTo>
                  <a:lnTo>
                    <a:pt x="1077" y="387"/>
                  </a:lnTo>
                  <a:lnTo>
                    <a:pt x="1077" y="389"/>
                  </a:lnTo>
                  <a:lnTo>
                    <a:pt x="1077" y="392"/>
                  </a:lnTo>
                  <a:lnTo>
                    <a:pt x="1078" y="397"/>
                  </a:lnTo>
                  <a:lnTo>
                    <a:pt x="1077" y="390"/>
                  </a:lnTo>
                  <a:lnTo>
                    <a:pt x="1078" y="390"/>
                  </a:lnTo>
                  <a:lnTo>
                    <a:pt x="1079" y="392"/>
                  </a:lnTo>
                  <a:lnTo>
                    <a:pt x="1083" y="397"/>
                  </a:lnTo>
                  <a:lnTo>
                    <a:pt x="1083" y="408"/>
                  </a:lnTo>
                  <a:lnTo>
                    <a:pt x="1086" y="411"/>
                  </a:lnTo>
                  <a:lnTo>
                    <a:pt x="1094" y="411"/>
                  </a:lnTo>
                  <a:lnTo>
                    <a:pt x="1090" y="411"/>
                  </a:lnTo>
                  <a:lnTo>
                    <a:pt x="1092" y="411"/>
                  </a:lnTo>
                  <a:lnTo>
                    <a:pt x="1093" y="413"/>
                  </a:lnTo>
                  <a:lnTo>
                    <a:pt x="1094" y="418"/>
                  </a:lnTo>
                  <a:lnTo>
                    <a:pt x="1097" y="422"/>
                  </a:lnTo>
                  <a:lnTo>
                    <a:pt x="1099" y="425"/>
                  </a:lnTo>
                  <a:lnTo>
                    <a:pt x="1098" y="423"/>
                  </a:lnTo>
                  <a:lnTo>
                    <a:pt x="1099" y="423"/>
                  </a:lnTo>
                  <a:lnTo>
                    <a:pt x="1101" y="423"/>
                  </a:lnTo>
                  <a:lnTo>
                    <a:pt x="1105" y="425"/>
                  </a:lnTo>
                  <a:lnTo>
                    <a:pt x="1107" y="429"/>
                  </a:lnTo>
                  <a:lnTo>
                    <a:pt x="1107" y="432"/>
                  </a:lnTo>
                  <a:lnTo>
                    <a:pt x="1110" y="432"/>
                  </a:lnTo>
                  <a:lnTo>
                    <a:pt x="1110" y="436"/>
                  </a:lnTo>
                  <a:lnTo>
                    <a:pt x="1112" y="436"/>
                  </a:lnTo>
                  <a:lnTo>
                    <a:pt x="1112" y="439"/>
                  </a:lnTo>
                  <a:lnTo>
                    <a:pt x="1115" y="439"/>
                  </a:lnTo>
                  <a:lnTo>
                    <a:pt x="1115" y="443"/>
                  </a:lnTo>
                  <a:lnTo>
                    <a:pt x="1118" y="443"/>
                  </a:lnTo>
                  <a:lnTo>
                    <a:pt x="1118" y="446"/>
                  </a:lnTo>
                  <a:lnTo>
                    <a:pt x="1120" y="446"/>
                  </a:lnTo>
                  <a:lnTo>
                    <a:pt x="1120" y="450"/>
                  </a:lnTo>
                  <a:lnTo>
                    <a:pt x="1123" y="450"/>
                  </a:lnTo>
                  <a:lnTo>
                    <a:pt x="1126" y="454"/>
                  </a:lnTo>
                  <a:lnTo>
                    <a:pt x="1124" y="451"/>
                  </a:lnTo>
                  <a:lnTo>
                    <a:pt x="1124" y="454"/>
                  </a:lnTo>
                  <a:lnTo>
                    <a:pt x="1126" y="455"/>
                  </a:lnTo>
                  <a:lnTo>
                    <a:pt x="1126" y="461"/>
                  </a:lnTo>
                  <a:lnTo>
                    <a:pt x="1128" y="464"/>
                  </a:lnTo>
                  <a:lnTo>
                    <a:pt x="1131" y="468"/>
                  </a:lnTo>
                  <a:lnTo>
                    <a:pt x="1130" y="465"/>
                  </a:lnTo>
                  <a:lnTo>
                    <a:pt x="1131" y="465"/>
                  </a:lnTo>
                  <a:lnTo>
                    <a:pt x="1133" y="468"/>
                  </a:lnTo>
                  <a:lnTo>
                    <a:pt x="1136" y="468"/>
                  </a:lnTo>
                  <a:lnTo>
                    <a:pt x="1136" y="478"/>
                  </a:lnTo>
                  <a:lnTo>
                    <a:pt x="1139" y="478"/>
                  </a:lnTo>
                  <a:lnTo>
                    <a:pt x="1139" y="479"/>
                  </a:lnTo>
                  <a:lnTo>
                    <a:pt x="1142" y="482"/>
                  </a:lnTo>
                  <a:lnTo>
                    <a:pt x="1142" y="492"/>
                  </a:lnTo>
                  <a:lnTo>
                    <a:pt x="1139" y="492"/>
                  </a:lnTo>
                  <a:lnTo>
                    <a:pt x="1140" y="492"/>
                  </a:lnTo>
                  <a:lnTo>
                    <a:pt x="1140" y="494"/>
                  </a:lnTo>
                  <a:lnTo>
                    <a:pt x="1139" y="495"/>
                  </a:lnTo>
                  <a:lnTo>
                    <a:pt x="1139" y="499"/>
                  </a:lnTo>
                  <a:lnTo>
                    <a:pt x="1136" y="499"/>
                  </a:lnTo>
                  <a:lnTo>
                    <a:pt x="1136" y="523"/>
                  </a:lnTo>
                  <a:lnTo>
                    <a:pt x="1134" y="526"/>
                  </a:lnTo>
                  <a:lnTo>
                    <a:pt x="1131" y="526"/>
                  </a:lnTo>
                  <a:lnTo>
                    <a:pt x="1131" y="530"/>
                  </a:lnTo>
                  <a:lnTo>
                    <a:pt x="1128" y="530"/>
                  </a:lnTo>
                  <a:lnTo>
                    <a:pt x="1128" y="534"/>
                  </a:lnTo>
                  <a:lnTo>
                    <a:pt x="1126" y="537"/>
                  </a:lnTo>
                  <a:lnTo>
                    <a:pt x="1107" y="537"/>
                  </a:lnTo>
                  <a:lnTo>
                    <a:pt x="1107" y="541"/>
                  </a:lnTo>
                  <a:lnTo>
                    <a:pt x="1092" y="541"/>
                  </a:lnTo>
                  <a:lnTo>
                    <a:pt x="1092" y="544"/>
                  </a:lnTo>
                  <a:lnTo>
                    <a:pt x="1083" y="544"/>
                  </a:lnTo>
                  <a:lnTo>
                    <a:pt x="1083" y="548"/>
                  </a:lnTo>
                  <a:lnTo>
                    <a:pt x="1082" y="548"/>
                  </a:lnTo>
                  <a:lnTo>
                    <a:pt x="1081" y="548"/>
                  </a:lnTo>
                  <a:lnTo>
                    <a:pt x="1081" y="551"/>
                  </a:lnTo>
                  <a:lnTo>
                    <a:pt x="1082" y="551"/>
                  </a:lnTo>
                  <a:lnTo>
                    <a:pt x="1081" y="550"/>
                  </a:lnTo>
                  <a:lnTo>
                    <a:pt x="1078" y="548"/>
                  </a:lnTo>
                  <a:lnTo>
                    <a:pt x="1075" y="551"/>
                  </a:lnTo>
                  <a:lnTo>
                    <a:pt x="1075" y="565"/>
                  </a:lnTo>
                  <a:lnTo>
                    <a:pt x="1073" y="565"/>
                  </a:lnTo>
                  <a:lnTo>
                    <a:pt x="1073" y="572"/>
                  </a:lnTo>
                  <a:lnTo>
                    <a:pt x="1075" y="572"/>
                  </a:lnTo>
                  <a:lnTo>
                    <a:pt x="1075" y="579"/>
                  </a:lnTo>
                  <a:lnTo>
                    <a:pt x="1078" y="579"/>
                  </a:lnTo>
                  <a:lnTo>
                    <a:pt x="1078" y="581"/>
                  </a:lnTo>
                  <a:lnTo>
                    <a:pt x="1078" y="583"/>
                  </a:lnTo>
                  <a:lnTo>
                    <a:pt x="1081" y="583"/>
                  </a:lnTo>
                  <a:lnTo>
                    <a:pt x="1081" y="590"/>
                  </a:lnTo>
                  <a:lnTo>
                    <a:pt x="1083" y="590"/>
                  </a:lnTo>
                  <a:lnTo>
                    <a:pt x="1083" y="600"/>
                  </a:lnTo>
                  <a:lnTo>
                    <a:pt x="1086" y="600"/>
                  </a:lnTo>
                  <a:lnTo>
                    <a:pt x="1086" y="607"/>
                  </a:lnTo>
                  <a:lnTo>
                    <a:pt x="1086" y="605"/>
                  </a:lnTo>
                  <a:lnTo>
                    <a:pt x="1088" y="607"/>
                  </a:lnTo>
                  <a:lnTo>
                    <a:pt x="1092" y="607"/>
                  </a:lnTo>
                  <a:lnTo>
                    <a:pt x="1092" y="615"/>
                  </a:lnTo>
                  <a:lnTo>
                    <a:pt x="1094" y="615"/>
                  </a:lnTo>
                  <a:lnTo>
                    <a:pt x="1094" y="629"/>
                  </a:lnTo>
                  <a:lnTo>
                    <a:pt x="1097" y="629"/>
                  </a:lnTo>
                  <a:lnTo>
                    <a:pt x="1097" y="636"/>
                  </a:lnTo>
                  <a:lnTo>
                    <a:pt x="1097" y="633"/>
                  </a:lnTo>
                  <a:lnTo>
                    <a:pt x="1098" y="633"/>
                  </a:lnTo>
                  <a:lnTo>
                    <a:pt x="1099" y="633"/>
                  </a:lnTo>
                  <a:lnTo>
                    <a:pt x="1102" y="636"/>
                  </a:lnTo>
                  <a:lnTo>
                    <a:pt x="1105" y="639"/>
                  </a:lnTo>
                  <a:lnTo>
                    <a:pt x="1105" y="653"/>
                  </a:lnTo>
                  <a:lnTo>
                    <a:pt x="1106" y="655"/>
                  </a:lnTo>
                  <a:lnTo>
                    <a:pt x="1107" y="655"/>
                  </a:lnTo>
                  <a:lnTo>
                    <a:pt x="1107" y="657"/>
                  </a:lnTo>
                  <a:lnTo>
                    <a:pt x="1110" y="658"/>
                  </a:lnTo>
                  <a:lnTo>
                    <a:pt x="1108" y="657"/>
                  </a:lnTo>
                  <a:lnTo>
                    <a:pt x="1107" y="657"/>
                  </a:lnTo>
                  <a:lnTo>
                    <a:pt x="1107" y="660"/>
                  </a:lnTo>
                  <a:lnTo>
                    <a:pt x="1110" y="665"/>
                  </a:lnTo>
                  <a:lnTo>
                    <a:pt x="1111" y="665"/>
                  </a:lnTo>
                  <a:lnTo>
                    <a:pt x="1112" y="665"/>
                  </a:lnTo>
                  <a:lnTo>
                    <a:pt x="1112" y="667"/>
                  </a:lnTo>
                  <a:lnTo>
                    <a:pt x="1115" y="669"/>
                  </a:lnTo>
                  <a:lnTo>
                    <a:pt x="1115" y="693"/>
                  </a:lnTo>
                  <a:lnTo>
                    <a:pt x="1118" y="693"/>
                  </a:lnTo>
                  <a:lnTo>
                    <a:pt x="1118" y="702"/>
                  </a:lnTo>
                  <a:lnTo>
                    <a:pt x="1120" y="702"/>
                  </a:lnTo>
                  <a:lnTo>
                    <a:pt x="1120" y="721"/>
                  </a:lnTo>
                  <a:lnTo>
                    <a:pt x="1118" y="721"/>
                  </a:lnTo>
                  <a:lnTo>
                    <a:pt x="1116" y="730"/>
                  </a:lnTo>
                  <a:lnTo>
                    <a:pt x="1118" y="744"/>
                  </a:lnTo>
                  <a:lnTo>
                    <a:pt x="1119" y="757"/>
                  </a:lnTo>
                  <a:lnTo>
                    <a:pt x="1118" y="767"/>
                  </a:lnTo>
                  <a:lnTo>
                    <a:pt x="1115" y="767"/>
                  </a:lnTo>
                  <a:lnTo>
                    <a:pt x="1115" y="778"/>
                  </a:lnTo>
                  <a:lnTo>
                    <a:pt x="1112" y="778"/>
                  </a:lnTo>
                  <a:lnTo>
                    <a:pt x="1112" y="788"/>
                  </a:lnTo>
                  <a:lnTo>
                    <a:pt x="1110" y="788"/>
                  </a:lnTo>
                  <a:lnTo>
                    <a:pt x="1111" y="788"/>
                  </a:lnTo>
                  <a:lnTo>
                    <a:pt x="1110" y="788"/>
                  </a:lnTo>
                  <a:lnTo>
                    <a:pt x="1110" y="790"/>
                  </a:lnTo>
                  <a:lnTo>
                    <a:pt x="1110" y="795"/>
                  </a:lnTo>
                  <a:lnTo>
                    <a:pt x="1107" y="795"/>
                  </a:lnTo>
                  <a:lnTo>
                    <a:pt x="1107" y="805"/>
                  </a:lnTo>
                  <a:lnTo>
                    <a:pt x="1105" y="805"/>
                  </a:lnTo>
                  <a:lnTo>
                    <a:pt x="1105" y="819"/>
                  </a:lnTo>
                  <a:lnTo>
                    <a:pt x="1102" y="819"/>
                  </a:lnTo>
                  <a:lnTo>
                    <a:pt x="1103" y="819"/>
                  </a:lnTo>
                  <a:lnTo>
                    <a:pt x="1102" y="823"/>
                  </a:lnTo>
                  <a:lnTo>
                    <a:pt x="1102" y="826"/>
                  </a:lnTo>
                  <a:lnTo>
                    <a:pt x="1099" y="826"/>
                  </a:lnTo>
                  <a:lnTo>
                    <a:pt x="1099" y="833"/>
                  </a:lnTo>
                  <a:lnTo>
                    <a:pt x="1097" y="833"/>
                  </a:lnTo>
                  <a:lnTo>
                    <a:pt x="1097" y="835"/>
                  </a:lnTo>
                  <a:lnTo>
                    <a:pt x="1097" y="837"/>
                  </a:lnTo>
                  <a:lnTo>
                    <a:pt x="1094" y="837"/>
                  </a:lnTo>
                  <a:lnTo>
                    <a:pt x="1096" y="835"/>
                  </a:lnTo>
                  <a:lnTo>
                    <a:pt x="1096" y="837"/>
                  </a:lnTo>
                  <a:lnTo>
                    <a:pt x="1097" y="840"/>
                  </a:lnTo>
                  <a:lnTo>
                    <a:pt x="1094" y="844"/>
                  </a:lnTo>
                  <a:lnTo>
                    <a:pt x="1092" y="847"/>
                  </a:lnTo>
                  <a:lnTo>
                    <a:pt x="1086" y="847"/>
                  </a:lnTo>
                  <a:lnTo>
                    <a:pt x="1086" y="851"/>
                  </a:lnTo>
                  <a:lnTo>
                    <a:pt x="1081" y="851"/>
                  </a:lnTo>
                  <a:lnTo>
                    <a:pt x="1078" y="854"/>
                  </a:lnTo>
                  <a:lnTo>
                    <a:pt x="1078" y="858"/>
                  </a:lnTo>
                  <a:lnTo>
                    <a:pt x="1075" y="858"/>
                  </a:lnTo>
                  <a:lnTo>
                    <a:pt x="1073" y="861"/>
                  </a:lnTo>
                  <a:lnTo>
                    <a:pt x="1073" y="879"/>
                  </a:lnTo>
                  <a:lnTo>
                    <a:pt x="1070" y="879"/>
                  </a:lnTo>
                  <a:lnTo>
                    <a:pt x="1070" y="889"/>
                  </a:lnTo>
                  <a:lnTo>
                    <a:pt x="1068" y="889"/>
                  </a:lnTo>
                  <a:lnTo>
                    <a:pt x="1069" y="889"/>
                  </a:lnTo>
                  <a:lnTo>
                    <a:pt x="1069" y="891"/>
                  </a:lnTo>
                  <a:lnTo>
                    <a:pt x="1068" y="893"/>
                  </a:lnTo>
                  <a:lnTo>
                    <a:pt x="1068" y="896"/>
                  </a:lnTo>
                  <a:lnTo>
                    <a:pt x="1065" y="896"/>
                  </a:lnTo>
                  <a:lnTo>
                    <a:pt x="1065" y="918"/>
                  </a:lnTo>
                  <a:lnTo>
                    <a:pt x="1062" y="918"/>
                  </a:lnTo>
                  <a:lnTo>
                    <a:pt x="1062" y="933"/>
                  </a:lnTo>
                  <a:lnTo>
                    <a:pt x="1060" y="933"/>
                  </a:lnTo>
                  <a:lnTo>
                    <a:pt x="1060" y="935"/>
                  </a:lnTo>
                  <a:lnTo>
                    <a:pt x="1057" y="935"/>
                  </a:lnTo>
                  <a:lnTo>
                    <a:pt x="1057" y="939"/>
                  </a:lnTo>
                  <a:lnTo>
                    <a:pt x="1055" y="942"/>
                  </a:lnTo>
                  <a:lnTo>
                    <a:pt x="1053" y="946"/>
                  </a:lnTo>
                  <a:lnTo>
                    <a:pt x="1052" y="946"/>
                  </a:lnTo>
                  <a:lnTo>
                    <a:pt x="1052" y="960"/>
                  </a:lnTo>
                  <a:lnTo>
                    <a:pt x="1049" y="961"/>
                  </a:lnTo>
                  <a:lnTo>
                    <a:pt x="1048" y="963"/>
                  </a:lnTo>
                  <a:lnTo>
                    <a:pt x="1047" y="963"/>
                  </a:lnTo>
                  <a:lnTo>
                    <a:pt x="1045" y="967"/>
                  </a:lnTo>
                  <a:lnTo>
                    <a:pt x="1044" y="970"/>
                  </a:lnTo>
                  <a:lnTo>
                    <a:pt x="1042" y="974"/>
                  </a:lnTo>
                  <a:lnTo>
                    <a:pt x="1041" y="974"/>
                  </a:lnTo>
                  <a:lnTo>
                    <a:pt x="1041" y="986"/>
                  </a:lnTo>
                  <a:lnTo>
                    <a:pt x="1040" y="996"/>
                  </a:lnTo>
                  <a:lnTo>
                    <a:pt x="1038" y="1007"/>
                  </a:lnTo>
                  <a:lnTo>
                    <a:pt x="1038" y="1015"/>
                  </a:lnTo>
                  <a:lnTo>
                    <a:pt x="1031" y="1015"/>
                  </a:lnTo>
                  <a:lnTo>
                    <a:pt x="1031" y="1032"/>
                  </a:lnTo>
                  <a:lnTo>
                    <a:pt x="1028" y="1032"/>
                  </a:lnTo>
                  <a:lnTo>
                    <a:pt x="1028" y="1033"/>
                  </a:lnTo>
                  <a:lnTo>
                    <a:pt x="1026" y="1035"/>
                  </a:lnTo>
                  <a:lnTo>
                    <a:pt x="1026" y="1040"/>
                  </a:lnTo>
                  <a:lnTo>
                    <a:pt x="1023" y="1040"/>
                  </a:lnTo>
                  <a:lnTo>
                    <a:pt x="1023" y="1053"/>
                  </a:lnTo>
                  <a:lnTo>
                    <a:pt x="1023" y="1074"/>
                  </a:lnTo>
                  <a:lnTo>
                    <a:pt x="1020" y="1074"/>
                  </a:lnTo>
                  <a:lnTo>
                    <a:pt x="1020" y="1084"/>
                  </a:lnTo>
                  <a:lnTo>
                    <a:pt x="1018" y="1084"/>
                  </a:lnTo>
                  <a:lnTo>
                    <a:pt x="1019" y="1084"/>
                  </a:lnTo>
                  <a:lnTo>
                    <a:pt x="1018" y="1084"/>
                  </a:lnTo>
                  <a:lnTo>
                    <a:pt x="1018" y="1088"/>
                  </a:lnTo>
                  <a:lnTo>
                    <a:pt x="1018" y="1091"/>
                  </a:lnTo>
                  <a:lnTo>
                    <a:pt x="1015" y="1091"/>
                  </a:lnTo>
                  <a:lnTo>
                    <a:pt x="1012" y="1098"/>
                  </a:lnTo>
                  <a:lnTo>
                    <a:pt x="1012" y="1107"/>
                  </a:lnTo>
                  <a:lnTo>
                    <a:pt x="1012" y="1117"/>
                  </a:lnTo>
                  <a:lnTo>
                    <a:pt x="1015" y="1128"/>
                  </a:lnTo>
                  <a:lnTo>
                    <a:pt x="1016" y="1138"/>
                  </a:lnTo>
                  <a:lnTo>
                    <a:pt x="1016" y="1147"/>
                  </a:lnTo>
                  <a:lnTo>
                    <a:pt x="1016" y="1156"/>
                  </a:lnTo>
                  <a:lnTo>
                    <a:pt x="1015" y="1164"/>
                  </a:lnTo>
                  <a:lnTo>
                    <a:pt x="1012" y="1164"/>
                  </a:lnTo>
                  <a:lnTo>
                    <a:pt x="1012" y="1214"/>
                  </a:lnTo>
                  <a:lnTo>
                    <a:pt x="1015" y="1214"/>
                  </a:lnTo>
                  <a:lnTo>
                    <a:pt x="1015" y="1228"/>
                  </a:lnTo>
                  <a:lnTo>
                    <a:pt x="1018" y="1228"/>
                  </a:lnTo>
                  <a:lnTo>
                    <a:pt x="1018" y="1238"/>
                  </a:lnTo>
                  <a:lnTo>
                    <a:pt x="1020" y="1238"/>
                  </a:lnTo>
                  <a:lnTo>
                    <a:pt x="1020" y="1249"/>
                  </a:lnTo>
                  <a:lnTo>
                    <a:pt x="1020" y="1261"/>
                  </a:lnTo>
                  <a:lnTo>
                    <a:pt x="1019" y="1275"/>
                  </a:lnTo>
                  <a:lnTo>
                    <a:pt x="1020" y="1284"/>
                  </a:lnTo>
                  <a:lnTo>
                    <a:pt x="1023" y="1284"/>
                  </a:lnTo>
                  <a:lnTo>
                    <a:pt x="1023" y="1310"/>
                  </a:lnTo>
                  <a:lnTo>
                    <a:pt x="1024" y="1310"/>
                  </a:lnTo>
                  <a:lnTo>
                    <a:pt x="1026" y="1310"/>
                  </a:lnTo>
                  <a:lnTo>
                    <a:pt x="1026" y="1314"/>
                  </a:lnTo>
                  <a:lnTo>
                    <a:pt x="1028" y="1314"/>
                  </a:lnTo>
                  <a:lnTo>
                    <a:pt x="1028" y="1325"/>
                  </a:lnTo>
                  <a:lnTo>
                    <a:pt x="712" y="1287"/>
                  </a:lnTo>
                  <a:lnTo>
                    <a:pt x="700" y="1346"/>
                  </a:lnTo>
                  <a:lnTo>
                    <a:pt x="428" y="1273"/>
                  </a:lnTo>
                  <a:lnTo>
                    <a:pt x="391" y="1366"/>
                  </a:lnTo>
                  <a:lnTo>
                    <a:pt x="99" y="1391"/>
                  </a:lnTo>
                  <a:lnTo>
                    <a:pt x="33" y="998"/>
                  </a:lnTo>
                  <a:lnTo>
                    <a:pt x="0" y="991"/>
                  </a:lnTo>
                  <a:lnTo>
                    <a:pt x="213" y="725"/>
                  </a:lnTo>
                  <a:lnTo>
                    <a:pt x="323" y="368"/>
                  </a:lnTo>
                  <a:lnTo>
                    <a:pt x="303" y="318"/>
                  </a:lnTo>
                  <a:lnTo>
                    <a:pt x="411" y="229"/>
                  </a:lnTo>
                  <a:lnTo>
                    <a:pt x="369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705720" y="3103560"/>
              <a:ext cx="706320" cy="797040"/>
            </a:xfrm>
            <a:custGeom>
              <a:avLst/>
              <a:gdLst/>
              <a:ahLst/>
              <a:rect l="l" t="t" r="r" b="b"/>
              <a:pathLst>
                <a:path w="445" h="502">
                  <a:moveTo>
                    <a:pt x="131" y="0"/>
                  </a:moveTo>
                  <a:lnTo>
                    <a:pt x="348" y="89"/>
                  </a:lnTo>
                  <a:lnTo>
                    <a:pt x="373" y="103"/>
                  </a:lnTo>
                  <a:lnTo>
                    <a:pt x="444" y="501"/>
                  </a:lnTo>
                  <a:lnTo>
                    <a:pt x="62" y="476"/>
                  </a:lnTo>
                  <a:lnTo>
                    <a:pt x="78" y="173"/>
                  </a:lnTo>
                  <a:lnTo>
                    <a:pt x="0" y="169"/>
                  </a:lnTo>
                  <a:lnTo>
                    <a:pt x="0" y="107"/>
                  </a:lnTo>
                  <a:lnTo>
                    <a:pt x="72" y="107"/>
                  </a:lnTo>
                  <a:lnTo>
                    <a:pt x="76" y="43"/>
                  </a:lnTo>
                  <a:lnTo>
                    <a:pt x="131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43560" y="2050920"/>
              <a:ext cx="806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806600" y="2193840"/>
              <a:ext cx="1044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540040" y="3343320"/>
              <a:ext cx="109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PONIEN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676920" y="3238560"/>
              <a:ext cx="943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CEN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75040" y="5013360"/>
              <a:ext cx="55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95720" y="4199040"/>
              <a:ext cx="102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475-18E6-4B3F-A762-6339B629BEA5}" type="slidenum">
              <a:t>13</a:t>
            </a:fld>
          </a:p>
        </p:txBody>
      </p:sp>
    </p:spTree>
  </p:cSld>
  <p:transition advTm="2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4: Modelo de Distribu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ómo se distribuyen los viajes, es decir origen y destino de cada via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ejemplo:   ¿Cuantas personas viajan desde La Florida al Centro de Santiago en la mañan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410080" y="1980720"/>
            <a:ext cx="3390480" cy="3886200"/>
            <a:chOff x="5410080" y="1980720"/>
            <a:chExt cx="3390480" cy="3886200"/>
          </a:xfrm>
        </p:grpSpPr>
        <p:sp>
          <p:nvSpPr>
            <p:cNvPr id="571" name=""/>
            <p:cNvSpPr/>
            <p:nvPr/>
          </p:nvSpPr>
          <p:spPr>
            <a:xfrm flipH="1" flipV="1">
              <a:off x="6251400" y="5374800"/>
              <a:ext cx="43200" cy="49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251400" y="4700520"/>
              <a:ext cx="49320" cy="67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532480" y="5148000"/>
              <a:ext cx="88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5621400" y="3998520"/>
              <a:ext cx="654120" cy="114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6378480" y="516384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6378480" y="4506840"/>
              <a:ext cx="358920" cy="65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6737400" y="3963960"/>
              <a:ext cx="982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16880" y="5259240"/>
              <a:ext cx="33120" cy="51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101000" y="5524200"/>
              <a:ext cx="39600" cy="2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140600" y="5374800"/>
              <a:ext cx="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flipV="1">
              <a:off x="7097400" y="4749480"/>
              <a:ext cx="42840" cy="62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7053120" y="4479840"/>
              <a:ext cx="44640" cy="27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7004160" y="4021200"/>
              <a:ext cx="48960" cy="45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70800" y="4878360"/>
              <a:ext cx="460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7515360" y="4551120"/>
              <a:ext cx="56880" cy="33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7189560" y="4483080"/>
              <a:ext cx="52200" cy="2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>
              <a:off x="7183440" y="44175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>
              <a:off x="7149600" y="4330800"/>
              <a:ext cx="334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149960" y="4232160"/>
              <a:ext cx="0" cy="9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7119720" y="4016160"/>
              <a:ext cx="29880" cy="21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7854840" y="4551480"/>
              <a:ext cx="79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54840" y="4627440"/>
              <a:ext cx="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7840440" y="4734000"/>
              <a:ext cx="1404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840800" y="47941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7776720" y="4667400"/>
              <a:ext cx="716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7708680" y="4554360"/>
              <a:ext cx="68040" cy="11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592760" y="4202280"/>
              <a:ext cx="106200" cy="35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5822640" y="409212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5819400" y="3936960"/>
              <a:ext cx="32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819760" y="3860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819760" y="3828960"/>
              <a:ext cx="36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856120" y="3556080"/>
              <a:ext cx="150840" cy="27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006960" y="3507840"/>
              <a:ext cx="525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059520" y="3375000"/>
              <a:ext cx="20160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6261120" y="3369960"/>
              <a:ext cx="619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6323040" y="3357360"/>
              <a:ext cx="2160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5902200" y="4196880"/>
              <a:ext cx="50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907240" y="4098600"/>
              <a:ext cx="9180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5999040" y="3887280"/>
              <a:ext cx="572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6056280" y="3800520"/>
              <a:ext cx="10332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159600" y="3654360"/>
              <a:ext cx="21420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6175440" y="3882600"/>
              <a:ext cx="1252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6154560" y="3865680"/>
              <a:ext cx="2088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154560" y="3808080"/>
              <a:ext cx="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6141600" y="371484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141960" y="3555720"/>
              <a:ext cx="1764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6159600" y="3448080"/>
              <a:ext cx="1634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323040" y="3433680"/>
              <a:ext cx="46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6369120" y="3358800"/>
              <a:ext cx="10800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6477120" y="3321000"/>
              <a:ext cx="792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6556320" y="3305160"/>
              <a:ext cx="11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6567480" y="3265560"/>
              <a:ext cx="32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7378560" y="3816000"/>
              <a:ext cx="222480" cy="40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6988320" y="3860280"/>
              <a:ext cx="15840" cy="163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 flipV="1">
              <a:off x="6959520" y="3605040"/>
              <a:ext cx="2880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6507000" y="3525840"/>
              <a:ext cx="8100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6378480" y="3613320"/>
              <a:ext cx="1335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512040" y="3595320"/>
              <a:ext cx="1537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665760" y="3586320"/>
              <a:ext cx="1587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6829560" y="3575160"/>
              <a:ext cx="93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6829560" y="3249720"/>
              <a:ext cx="11592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86560" y="3357720"/>
              <a:ext cx="6516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6651720" y="3336840"/>
              <a:ext cx="14112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5410080" y="3196800"/>
              <a:ext cx="2001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6156360" y="3173400"/>
              <a:ext cx="9360" cy="1396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6312960" y="1980720"/>
              <a:ext cx="4932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6474960" y="2108160"/>
              <a:ext cx="18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75320" y="2131920"/>
              <a:ext cx="144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89720" y="2195640"/>
              <a:ext cx="414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531120" y="2281320"/>
              <a:ext cx="14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32560" y="2314440"/>
              <a:ext cx="493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81880" y="23875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86560" y="2441520"/>
              <a:ext cx="252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11760" y="2508120"/>
              <a:ext cx="32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15000" y="2516040"/>
              <a:ext cx="763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691320" y="2668680"/>
              <a:ext cx="316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23000" y="2755800"/>
              <a:ext cx="1908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6636960" y="2868480"/>
              <a:ext cx="10476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581880" y="2392200"/>
              <a:ext cx="5400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35880" y="2484360"/>
              <a:ext cx="507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86640" y="2557440"/>
              <a:ext cx="7308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759720" y="2652840"/>
              <a:ext cx="5544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15160" y="2851200"/>
              <a:ext cx="25200" cy="12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6643800" y="2860560"/>
              <a:ext cx="96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6740640" y="2849040"/>
              <a:ext cx="745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15160" y="2849400"/>
              <a:ext cx="1522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6976800" y="2581200"/>
              <a:ext cx="9684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973560" y="2765520"/>
              <a:ext cx="32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973920" y="27892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970320" y="28098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6967080" y="28116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67440" y="28116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967440" y="281772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967440" y="281772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6966000" y="2824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66000" y="282420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6962400" y="28353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962760" y="2835360"/>
              <a:ext cx="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962760" y="285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966000" y="28576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966000" y="28623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67440" y="2862360"/>
              <a:ext cx="32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70680" y="28782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681960" y="2903400"/>
              <a:ext cx="28872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6967440" y="2017800"/>
              <a:ext cx="85680" cy="3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35760" y="263052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937200" y="272412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6916680" y="2789280"/>
              <a:ext cx="158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6856200" y="2871720"/>
              <a:ext cx="60120" cy="27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077240" y="2571480"/>
              <a:ext cx="9972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76960" y="2571840"/>
              <a:ext cx="64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83440" y="257976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86680" y="25858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89920" y="258588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7192440" y="25891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92800" y="258912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94600" y="2592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194600" y="25934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94600" y="259380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99280" y="259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99280" y="26002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01080" y="26002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01080" y="26049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203960" y="2606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05760" y="260676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05760" y="2614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07200" y="26146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205760" y="2635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05760" y="26352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203600" y="264312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7201080" y="264492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201080" y="26449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7198920" y="26528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7197840" y="26557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7194240" y="2655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94600" y="26575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94600" y="266220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94600" y="26622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7189560" y="26668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89920" y="2666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186320" y="26701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86680" y="2670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7176600" y="2671920"/>
              <a:ext cx="97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75520" y="26798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7169040" y="2676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7165440" y="26744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71658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7155000" y="267192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550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151400" y="2674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7149600" y="26748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49960" y="2676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143480" y="267984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43840" y="2679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14024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40600" y="2687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713700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37360" y="268776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7135920" y="2698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35920" y="269892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89920" y="2784600"/>
              <a:ext cx="34920" cy="11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7221240" y="3171960"/>
              <a:ext cx="1522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7179840" y="3174840"/>
              <a:ext cx="414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6973560" y="3174840"/>
              <a:ext cx="20628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02440" y="3043080"/>
              <a:ext cx="63360" cy="2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165800" y="3277800"/>
              <a:ext cx="114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062840" y="3060720"/>
              <a:ext cx="612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062480" y="3124080"/>
              <a:ext cx="6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62840" y="3135240"/>
              <a:ext cx="4140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81720" y="3279600"/>
              <a:ext cx="34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16640" y="3289320"/>
              <a:ext cx="51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67760" y="3300480"/>
              <a:ext cx="123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491240" y="3297240"/>
              <a:ext cx="651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556400" y="3287880"/>
              <a:ext cx="55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7612200" y="3274920"/>
              <a:ext cx="612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18320" y="3274920"/>
              <a:ext cx="399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7658280" y="3260880"/>
              <a:ext cx="1141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7772400" y="3234960"/>
              <a:ext cx="139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12080" y="3235320"/>
              <a:ext cx="24120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373880" y="3165480"/>
              <a:ext cx="18756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7316640" y="248076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321680" y="24811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321680" y="24829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7321680" y="24764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321680" y="247644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321680" y="24811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321680" y="2476080"/>
              <a:ext cx="61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327800" y="24728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327800" y="246816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27800" y="24685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332840" y="2449080"/>
              <a:ext cx="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7332840" y="24458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34280" y="2446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7335720" y="24447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35720" y="2444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7337520" y="2441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337520" y="24415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7342200" y="2440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7342200" y="2436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42200" y="24368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7342200" y="2436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7345440" y="24354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7346880" y="2431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7346880" y="2428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350120" y="2428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353360" y="24267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53360" y="2427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358040" y="24256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362720" y="2419200"/>
              <a:ext cx="18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64520" y="241920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7370640" y="241272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7373880" y="2410920"/>
              <a:ext cx="79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376760" y="24112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7377120" y="240336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7381800" y="240192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7385040" y="2400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85040" y="2400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85040" y="2400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7388280" y="239040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388280" y="23907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7389720" y="23907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7394400" y="2381400"/>
              <a:ext cx="1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396200" y="2381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7396200" y="23792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7399440" y="237600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7405560" y="23713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405560" y="23716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7410600" y="2368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10600" y="23684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13480" y="236844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413480" y="2363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13480" y="23637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7423200" y="2355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423200" y="2352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7429680" y="23490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429680" y="23493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7429680" y="234648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429680" y="234288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432560" y="234108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7437600" y="233856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439040" y="2338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439040" y="2340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7439040" y="233208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7439040" y="23299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744228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744192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7442280" y="23252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445520" y="232200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48400" y="23223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450200" y="2320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0200" y="2320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451640" y="2317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51640" y="231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454880" y="231408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454880" y="2314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454880" y="2311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7456320" y="23094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7459560" y="2306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459560" y="23065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7459560" y="230616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7461000" y="23065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461360" y="230004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7464600" y="22982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66040" y="22986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466040" y="22986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7470720" y="2297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7470720" y="22950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72520" y="22953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7477200" y="2293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477200" y="229392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477200" y="2293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7480440" y="2288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480440" y="2289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7488360" y="2287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7488360" y="228600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494480" y="228600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05640" y="22874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521480" y="2284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521480" y="22845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7529400" y="228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529400" y="228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7535880" y="22777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35880" y="2278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535880" y="22780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539120" y="2276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53912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55496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7570800" y="2274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7570800" y="22712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7572240" y="2266560"/>
              <a:ext cx="399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612200" y="226332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761364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15080" y="2262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7615080" y="22622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7618320" y="2260080"/>
              <a:ext cx="255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638840" y="22604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7626240" y="2262240"/>
              <a:ext cx="129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flipV="1">
              <a:off x="762480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624800" y="2260080"/>
              <a:ext cx="64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631280" y="2255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63128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63920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47120" y="2255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64712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7655040" y="2252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655040" y="2252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62960" y="22525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7672320" y="2251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672320" y="22510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7677000" y="224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77000" y="22478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684920" y="2244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684920" y="22446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89960" y="224460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7697880" y="2243160"/>
              <a:ext cx="14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7711920" y="224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711920" y="22417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7718400" y="2238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718400" y="223848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718400" y="2238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7723080" y="2234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723080" y="2235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7728120" y="2233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728120" y="223344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773748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737480" y="223056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75476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754760" y="223344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7773840" y="223308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779292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7792920" y="2228400"/>
              <a:ext cx="97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7802640" y="222516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808760" y="2225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7816680" y="22190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816680" y="2219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7819920" y="221724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7821720" y="22161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823160" y="2216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78278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827840" y="221472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837560" y="2214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845480" y="22096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78501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850160" y="22082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785484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854840" y="22068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861320" y="2203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7861320" y="2201400"/>
              <a:ext cx="93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870680" y="22017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886880" y="2201760"/>
              <a:ext cx="252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912080" y="22035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91352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913520" y="22082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9167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916760" y="2209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92000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7920000" y="2208240"/>
              <a:ext cx="270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947000" y="220824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961400" y="220824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97256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972560" y="22147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9772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977240" y="221616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989840" y="2216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89840" y="22176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96320" y="22176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96320" y="2219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8021520" y="2217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021520" y="221760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059600" y="327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067520" y="32767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7083360" y="3274560"/>
              <a:ext cx="6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089840" y="32749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7094520" y="3269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94520" y="3270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102440" y="327024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108920" y="3271680"/>
              <a:ext cx="1116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120080" y="327672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34120" y="3292560"/>
              <a:ext cx="3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819920" y="3535200"/>
              <a:ext cx="1447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5538960" y="2844720"/>
              <a:ext cx="3960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5568480" y="2660400"/>
              <a:ext cx="972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5568840" y="2217240"/>
              <a:ext cx="366840" cy="44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935680" y="2217600"/>
              <a:ext cx="3049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6240600" y="2111400"/>
              <a:ext cx="12384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364440" y="2111400"/>
              <a:ext cx="16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24640" y="2111400"/>
              <a:ext cx="4078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932520" y="2311560"/>
              <a:ext cx="27936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7211880" y="2523600"/>
              <a:ext cx="34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7246800" y="2476440"/>
              <a:ext cx="144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7261200" y="2426760"/>
              <a:ext cx="414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7302600" y="2416320"/>
              <a:ext cx="31680" cy="10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334280" y="2416320"/>
              <a:ext cx="522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7920000" y="2365200"/>
              <a:ext cx="3960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7876800" y="2460600"/>
              <a:ext cx="428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7821720" y="2478240"/>
              <a:ext cx="5544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7795800" y="2548080"/>
              <a:ext cx="2556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7726320" y="2608200"/>
              <a:ext cx="69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7659360" y="2662200"/>
              <a:ext cx="666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618320" y="2987640"/>
              <a:ext cx="972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628040" y="3071880"/>
              <a:ext cx="410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669080" y="3116160"/>
              <a:ext cx="648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675560" y="3138480"/>
              <a:ext cx="9216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767720" y="3236760"/>
              <a:ext cx="95040" cy="17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862760" y="3416400"/>
              <a:ext cx="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7821720" y="3457440"/>
              <a:ext cx="4104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7792920" y="3546360"/>
              <a:ext cx="2880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7783560" y="3611520"/>
              <a:ext cx="9360" cy="43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83560" y="4049640"/>
              <a:ext cx="414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824960" y="4205160"/>
              <a:ext cx="6120" cy="17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831080" y="4381560"/>
              <a:ext cx="3492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7432560" y="4059360"/>
              <a:ext cx="5076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7483320" y="4001760"/>
              <a:ext cx="972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7493040" y="3920760"/>
              <a:ext cx="12600" cy="8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7505640" y="3747600"/>
              <a:ext cx="69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7575480" y="3485880"/>
              <a:ext cx="2556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7601040" y="3288960"/>
              <a:ext cx="540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 flipV="1">
              <a:off x="7627680" y="3073320"/>
              <a:ext cx="27000" cy="21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 flipV="1">
              <a:off x="7579800" y="3040200"/>
              <a:ext cx="478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flipV="1">
              <a:off x="7543440" y="3032280"/>
              <a:ext cx="363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 flipV="1">
              <a:off x="7516440" y="2984040"/>
              <a:ext cx="270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394400" y="2430360"/>
              <a:ext cx="702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464600" y="2484360"/>
              <a:ext cx="219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486560" y="2532240"/>
              <a:ext cx="1800" cy="6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186680" y="2766960"/>
              <a:ext cx="493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7236000" y="2773440"/>
              <a:ext cx="60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296120" y="2773440"/>
              <a:ext cx="54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50120" y="2809800"/>
              <a:ext cx="98280" cy="1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448400" y="2921040"/>
              <a:ext cx="684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flipV="1">
              <a:off x="7611840" y="2927160"/>
              <a:ext cx="612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7525800" y="2809440"/>
              <a:ext cx="86040" cy="11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526160" y="27846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7486560" y="2652840"/>
              <a:ext cx="3960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486560" y="2611080"/>
              <a:ext cx="6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7600680" y="2671920"/>
              <a:ext cx="680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7569360" y="2711520"/>
              <a:ext cx="3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7502400" y="2711520"/>
              <a:ext cx="669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7349760" y="2752560"/>
              <a:ext cx="152280" cy="558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7306920" y="2808360"/>
              <a:ext cx="42840" cy="23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224840" y="2917800"/>
              <a:ext cx="648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89640" y="3073320"/>
              <a:ext cx="27000" cy="23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57880" y="3387600"/>
              <a:ext cx="14940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07280" y="3395520"/>
              <a:ext cx="554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62720" y="3430440"/>
              <a:ext cx="1540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516800" y="3443400"/>
              <a:ext cx="842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601040" y="3487680"/>
              <a:ext cx="21888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7534080" y="3487680"/>
              <a:ext cx="66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 flipV="1">
              <a:off x="7492680" y="3535200"/>
              <a:ext cx="414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7480080" y="3535200"/>
              <a:ext cx="126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7140600" y="3548160"/>
              <a:ext cx="3398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942240" y="3124080"/>
              <a:ext cx="12996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72200" y="3666960"/>
              <a:ext cx="28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101000" y="3687840"/>
              <a:ext cx="759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176960" y="3718080"/>
              <a:ext cx="288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483320" y="4024440"/>
              <a:ext cx="1177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601040" y="4040280"/>
              <a:ext cx="109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7710480" y="4052880"/>
              <a:ext cx="730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7396200" y="4156200"/>
              <a:ext cx="39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7349760" y="4200480"/>
              <a:ext cx="4428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7280280" y="4287960"/>
              <a:ext cx="6984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7093080" y="4454640"/>
              <a:ext cx="18720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flipV="1">
              <a:off x="6759720" y="4420800"/>
              <a:ext cx="3333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 flipV="1">
              <a:off x="6586200" y="4341960"/>
              <a:ext cx="1731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6586560" y="3587400"/>
              <a:ext cx="237960" cy="754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824520" y="3587760"/>
              <a:ext cx="590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883560" y="3595680"/>
              <a:ext cx="838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6967440" y="3595680"/>
              <a:ext cx="921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7059600" y="3568320"/>
              <a:ext cx="8100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718320" y="3913200"/>
              <a:ext cx="28584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004160" y="4011480"/>
              <a:ext cx="255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 flipV="1">
              <a:off x="7175520" y="3713040"/>
              <a:ext cx="144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074000" y="3673440"/>
              <a:ext cx="61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080120" y="3746520"/>
              <a:ext cx="7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088040" y="3855960"/>
              <a:ext cx="320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250040" y="4021200"/>
              <a:ext cx="243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7302240" y="3314880"/>
              <a:ext cx="1116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302600" y="340524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302600" y="3557520"/>
              <a:ext cx="46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307280" y="3757680"/>
              <a:ext cx="1260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7313400" y="3790800"/>
              <a:ext cx="612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7267680" y="3968640"/>
              <a:ext cx="4608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6842160" y="3622320"/>
              <a:ext cx="4140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 flipV="1">
              <a:off x="6967440" y="361116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359400" y="2114640"/>
              <a:ext cx="101880" cy="27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461280" y="2390760"/>
              <a:ext cx="237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485040" y="2482920"/>
              <a:ext cx="7776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562800" y="2635200"/>
              <a:ext cx="2232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85120" y="2816280"/>
              <a:ext cx="6336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648480" y="2919240"/>
              <a:ext cx="11592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6362280" y="2317680"/>
              <a:ext cx="7164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362640" y="2503440"/>
              <a:ext cx="6192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424560" y="2671920"/>
              <a:ext cx="3492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6438600" y="2825640"/>
              <a:ext cx="2052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438960" y="3014640"/>
              <a:ext cx="324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6434280" y="3102120"/>
              <a:ext cx="792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34280" y="3205080"/>
              <a:ext cx="190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53360" y="3294000"/>
              <a:ext cx="3492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488280" y="3406680"/>
              <a:ext cx="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488280" y="3467160"/>
              <a:ext cx="1404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7072200" y="248616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flipV="1">
              <a:off x="6843240" y="2519280"/>
              <a:ext cx="228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6694560" y="2519280"/>
              <a:ext cx="1490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6627600" y="2544840"/>
              <a:ext cx="66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6540120" y="2592360"/>
              <a:ext cx="87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6464160" y="26020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 flipV="1">
              <a:off x="6441840" y="2589120"/>
              <a:ext cx="219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6399000" y="2589120"/>
              <a:ext cx="42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6349680" y="2590920"/>
              <a:ext cx="4932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6318360" y="2624040"/>
              <a:ext cx="316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6311880" y="2682720"/>
              <a:ext cx="6480" cy="23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297480" y="2921040"/>
              <a:ext cx="14400" cy="23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297480" y="3152880"/>
              <a:ext cx="64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303960" y="3236760"/>
              <a:ext cx="19080" cy="11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23040" y="3352680"/>
              <a:ext cx="1116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334200" y="35193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340320" y="3602160"/>
              <a:ext cx="428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383160" y="3664080"/>
              <a:ext cx="5580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6438960" y="3708000"/>
              <a:ext cx="46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485040" y="3708360"/>
              <a:ext cx="10476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589800" y="3814920"/>
              <a:ext cx="777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667560" y="3894120"/>
              <a:ext cx="58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464160" y="2844720"/>
              <a:ext cx="604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24640" y="2892600"/>
              <a:ext cx="420840" cy="19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7016760" y="3033360"/>
              <a:ext cx="586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7075440" y="2974680"/>
              <a:ext cx="367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7112160" y="2887200"/>
              <a:ext cx="2196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7134120" y="2811240"/>
              <a:ext cx="1584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7149960" y="2771280"/>
              <a:ext cx="3672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7186680" y="2720520"/>
              <a:ext cx="58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7245360" y="2687760"/>
              <a:ext cx="302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7132320" y="2857680"/>
              <a:ext cx="106200" cy="79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7099200" y="2992320"/>
              <a:ext cx="30240" cy="61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906960" y="3044880"/>
              <a:ext cx="204840" cy="106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6383160" y="3566880"/>
              <a:ext cx="1144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497640" y="3525480"/>
              <a:ext cx="87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6585120" y="3265200"/>
              <a:ext cx="6120" cy="260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 flipV="1">
              <a:off x="6576840" y="3231720"/>
              <a:ext cx="1440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 flipV="1">
              <a:off x="6562440" y="2976480"/>
              <a:ext cx="1404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6562800" y="2943360"/>
              <a:ext cx="111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6573960" y="2930400"/>
              <a:ext cx="237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802560" y="3330720"/>
              <a:ext cx="792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810480" y="3467160"/>
              <a:ext cx="61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816600" y="3505320"/>
              <a:ext cx="1908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6589800" y="3503520"/>
              <a:ext cx="226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502320" y="3573360"/>
              <a:ext cx="190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6465960" y="3621240"/>
              <a:ext cx="554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6350040" y="3832200"/>
              <a:ext cx="11592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350040" y="4178160"/>
              <a:ext cx="1094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459480" y="4282920"/>
              <a:ext cx="12384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6540120" y="4341960"/>
              <a:ext cx="4284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5935680" y="4119120"/>
              <a:ext cx="14760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083280" y="3992040"/>
              <a:ext cx="193680" cy="12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6276960" y="3952800"/>
              <a:ext cx="2376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6300720" y="3654000"/>
              <a:ext cx="79560" cy="29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329160" y="4178160"/>
              <a:ext cx="2052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329520" y="42861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6311520" y="4332240"/>
              <a:ext cx="176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6300360" y="4390920"/>
              <a:ext cx="11160" cy="30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6300720" y="4495320"/>
              <a:ext cx="236520" cy="20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5832360" y="422928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5438520" y="4303800"/>
              <a:ext cx="3934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 flipV="1">
              <a:off x="6318000" y="415584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 flipV="1">
              <a:off x="6192360" y="4127400"/>
              <a:ext cx="12564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 flipV="1">
              <a:off x="6156000" y="4070520"/>
              <a:ext cx="36360" cy="5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6132600" y="4022280"/>
              <a:ext cx="237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 flipV="1">
              <a:off x="5985000" y="3960720"/>
              <a:ext cx="14760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5886360" y="3765600"/>
              <a:ext cx="98640" cy="19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851080" y="3660480"/>
              <a:ext cx="3492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 flipV="1">
              <a:off x="5783040" y="3546360"/>
              <a:ext cx="6804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 flipV="1">
              <a:off x="5743080" y="3411000"/>
              <a:ext cx="3996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>
              <a:off x="5740560" y="3366720"/>
              <a:ext cx="288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 flipV="1">
              <a:off x="5624640" y="3257640"/>
              <a:ext cx="115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 flipV="1">
              <a:off x="5603760" y="3215880"/>
              <a:ext cx="208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03760" y="3216240"/>
              <a:ext cx="66204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6226200" y="3300120"/>
              <a:ext cx="239760" cy="73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 flipV="1">
              <a:off x="5543280" y="3094200"/>
              <a:ext cx="601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 flipV="1">
              <a:off x="5538600" y="2989080"/>
              <a:ext cx="468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7954920" y="2328480"/>
              <a:ext cx="936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8048520" y="2269800"/>
              <a:ext cx="270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7205760" y="2832120"/>
              <a:ext cx="10152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7119720" y="2916360"/>
              <a:ext cx="28440" cy="98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 flipV="1">
              <a:off x="6156360" y="3296880"/>
              <a:ext cx="84240" cy="88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6453360" y="3143160"/>
              <a:ext cx="474480" cy="162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770520" y="2852640"/>
              <a:ext cx="165240" cy="2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33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33898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6757920" y="4114800"/>
              <a:ext cx="52560" cy="3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6945120" y="2336760"/>
              <a:ext cx="2196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6935400" y="2392200"/>
              <a:ext cx="1116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 flipV="1">
              <a:off x="6781320" y="2987640"/>
              <a:ext cx="101880" cy="635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6808680" y="3618000"/>
              <a:ext cx="76320" cy="503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 flipV="1">
              <a:off x="7392960" y="4187880"/>
              <a:ext cx="1224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7280280" y="2487600"/>
              <a:ext cx="3816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137360" y="2673360"/>
              <a:ext cx="1011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135920" y="2701800"/>
              <a:ext cx="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6599160" y="290520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flipV="1">
              <a:off x="7094160" y="3328920"/>
              <a:ext cx="572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528520" y="404964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77120" y="305100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89680" y="3087720"/>
              <a:ext cx="63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834880" y="2562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01840" y="222876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20120" y="28224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877440" y="22096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539840" y="212256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01560" y="258120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826760" y="30272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01160" y="331776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81000" y="36529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919920" y="37018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 flipV="1">
              <a:off x="7323120" y="3804840"/>
              <a:ext cx="46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535520" y="425304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121880" y="296532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16720" y="5423040"/>
              <a:ext cx="889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918840" y="520056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489360" y="49528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539760" y="368928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21600" y="4087800"/>
              <a:ext cx="765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44320" y="391320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147000" y="339264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254720" y="4022640"/>
              <a:ext cx="141480" cy="1810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192800" y="3732120"/>
              <a:ext cx="60480" cy="2872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142040" y="3571920"/>
              <a:ext cx="50760" cy="1602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105680" y="3487680"/>
              <a:ext cx="36360" cy="874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016760" y="3070080"/>
              <a:ext cx="87480" cy="417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7107120" y="2738520"/>
            <a:ext cx="1581120" cy="1606320"/>
            <a:chOff x="7107120" y="2738520"/>
            <a:chExt cx="1581120" cy="1606320"/>
          </a:xfrm>
        </p:grpSpPr>
        <p:grpSp>
          <p:nvGrpSpPr>
            <p:cNvPr id="1195" name=""/>
            <p:cNvGrpSpPr/>
            <p:nvPr/>
          </p:nvGrpSpPr>
          <p:grpSpPr>
            <a:xfrm>
              <a:off x="7877160" y="2746440"/>
              <a:ext cx="674640" cy="1355760"/>
              <a:chOff x="7877160" y="2746440"/>
              <a:chExt cx="674640" cy="1355760"/>
            </a:xfrm>
          </p:grpSpPr>
          <p:sp>
            <p:nvSpPr>
              <p:cNvPr id="1196" name=""/>
              <p:cNvSpPr/>
              <p:nvPr/>
            </p:nvSpPr>
            <p:spPr>
              <a:xfrm>
                <a:off x="7902720" y="3274920"/>
                <a:ext cx="417240" cy="822240"/>
              </a:xfrm>
              <a:custGeom>
                <a:avLst/>
                <a:gdLst/>
                <a:ahLst/>
                <a:rect l="l" t="t" r="r" b="b"/>
                <a:pathLst>
                  <a:path w="263" h="518">
                    <a:moveTo>
                      <a:pt x="3" y="517"/>
                    </a:moveTo>
                    <a:lnTo>
                      <a:pt x="28" y="513"/>
                    </a:lnTo>
                    <a:lnTo>
                      <a:pt x="30" y="478"/>
                    </a:lnTo>
                    <a:lnTo>
                      <a:pt x="33" y="447"/>
                    </a:lnTo>
                    <a:lnTo>
                      <a:pt x="38" y="417"/>
                    </a:lnTo>
                    <a:lnTo>
                      <a:pt x="42" y="386"/>
                    </a:lnTo>
                    <a:lnTo>
                      <a:pt x="49" y="361"/>
                    </a:lnTo>
                    <a:lnTo>
                      <a:pt x="55" y="339"/>
                    </a:lnTo>
                    <a:lnTo>
                      <a:pt x="60" y="318"/>
                    </a:lnTo>
                    <a:lnTo>
                      <a:pt x="68" y="294"/>
                    </a:lnTo>
                    <a:lnTo>
                      <a:pt x="77" y="273"/>
                    </a:lnTo>
                    <a:lnTo>
                      <a:pt x="92" y="250"/>
                    </a:lnTo>
                    <a:lnTo>
                      <a:pt x="103" y="228"/>
                    </a:lnTo>
                    <a:lnTo>
                      <a:pt x="114" y="208"/>
                    </a:lnTo>
                    <a:lnTo>
                      <a:pt x="127" y="190"/>
                    </a:lnTo>
                    <a:lnTo>
                      <a:pt x="142" y="167"/>
                    </a:lnTo>
                    <a:lnTo>
                      <a:pt x="161" y="140"/>
                    </a:lnTo>
                    <a:lnTo>
                      <a:pt x="176" y="125"/>
                    </a:lnTo>
                    <a:lnTo>
                      <a:pt x="190" y="109"/>
                    </a:lnTo>
                    <a:lnTo>
                      <a:pt x="204" y="92"/>
                    </a:lnTo>
                    <a:lnTo>
                      <a:pt x="220" y="79"/>
                    </a:lnTo>
                    <a:lnTo>
                      <a:pt x="242" y="59"/>
                    </a:lnTo>
                    <a:lnTo>
                      <a:pt x="262" y="48"/>
                    </a:lnTo>
                    <a:lnTo>
                      <a:pt x="247" y="0"/>
                    </a:lnTo>
                    <a:lnTo>
                      <a:pt x="215" y="23"/>
                    </a:lnTo>
                    <a:lnTo>
                      <a:pt x="182" y="53"/>
                    </a:lnTo>
                    <a:lnTo>
                      <a:pt x="154" y="82"/>
                    </a:lnTo>
                    <a:lnTo>
                      <a:pt x="127" y="119"/>
                    </a:lnTo>
                    <a:lnTo>
                      <a:pt x="85" y="172"/>
                    </a:lnTo>
                    <a:lnTo>
                      <a:pt x="52" y="227"/>
                    </a:lnTo>
                    <a:lnTo>
                      <a:pt x="26" y="283"/>
                    </a:lnTo>
                    <a:lnTo>
                      <a:pt x="14" y="333"/>
                    </a:lnTo>
                    <a:lnTo>
                      <a:pt x="0" y="392"/>
                    </a:lnTo>
                    <a:lnTo>
                      <a:pt x="0" y="440"/>
                    </a:lnTo>
                    <a:lnTo>
                      <a:pt x="3" y="51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123400" y="2746440"/>
                <a:ext cx="428400" cy="352440"/>
              </a:xfrm>
              <a:custGeom>
                <a:avLst/>
                <a:gdLst/>
                <a:ahLst/>
                <a:rect l="l" t="t" r="r" b="b"/>
                <a:pathLst>
                  <a:path w="270" h="222">
                    <a:moveTo>
                      <a:pt x="214" y="219"/>
                    </a:moveTo>
                    <a:lnTo>
                      <a:pt x="269" y="211"/>
                    </a:lnTo>
                    <a:lnTo>
                      <a:pt x="253" y="202"/>
                    </a:lnTo>
                    <a:lnTo>
                      <a:pt x="237" y="194"/>
                    </a:lnTo>
                    <a:lnTo>
                      <a:pt x="221" y="181"/>
                    </a:lnTo>
                    <a:lnTo>
                      <a:pt x="202" y="167"/>
                    </a:lnTo>
                    <a:lnTo>
                      <a:pt x="181" y="152"/>
                    </a:lnTo>
                    <a:lnTo>
                      <a:pt x="162" y="139"/>
                    </a:lnTo>
                    <a:lnTo>
                      <a:pt x="146" y="124"/>
                    </a:lnTo>
                    <a:lnTo>
                      <a:pt x="128" y="112"/>
                    </a:lnTo>
                    <a:lnTo>
                      <a:pt x="116" y="98"/>
                    </a:lnTo>
                    <a:lnTo>
                      <a:pt x="101" y="83"/>
                    </a:lnTo>
                    <a:lnTo>
                      <a:pt x="87" y="66"/>
                    </a:lnTo>
                    <a:lnTo>
                      <a:pt x="74" y="49"/>
                    </a:lnTo>
                    <a:lnTo>
                      <a:pt x="62" y="31"/>
                    </a:lnTo>
                    <a:lnTo>
                      <a:pt x="50" y="13"/>
                    </a:lnTo>
                    <a:lnTo>
                      <a:pt x="41" y="0"/>
                    </a:lnTo>
                    <a:lnTo>
                      <a:pt x="0" y="6"/>
                    </a:lnTo>
                    <a:lnTo>
                      <a:pt x="12" y="33"/>
                    </a:lnTo>
                    <a:lnTo>
                      <a:pt x="36" y="66"/>
                    </a:lnTo>
                    <a:lnTo>
                      <a:pt x="66" y="112"/>
                    </a:lnTo>
                    <a:lnTo>
                      <a:pt x="97" y="144"/>
                    </a:lnTo>
                    <a:lnTo>
                      <a:pt x="136" y="172"/>
                    </a:lnTo>
                    <a:lnTo>
                      <a:pt x="171" y="201"/>
                    </a:lnTo>
                    <a:lnTo>
                      <a:pt x="203" y="221"/>
                    </a:lnTo>
                    <a:lnTo>
                      <a:pt x="267" y="211"/>
                    </a:lnTo>
                    <a:lnTo>
                      <a:pt x="214" y="21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380440" y="3078000"/>
                <a:ext cx="166680" cy="497160"/>
              </a:xfrm>
              <a:custGeom>
                <a:avLst/>
                <a:gdLst/>
                <a:ahLst/>
                <a:rect l="l" t="t" r="r" b="b"/>
                <a:pathLst>
                  <a:path w="105" h="313">
                    <a:moveTo>
                      <a:pt x="4" y="312"/>
                    </a:moveTo>
                    <a:lnTo>
                      <a:pt x="48" y="305"/>
                    </a:lnTo>
                    <a:lnTo>
                      <a:pt x="50" y="285"/>
                    </a:lnTo>
                    <a:lnTo>
                      <a:pt x="50" y="265"/>
                    </a:lnTo>
                    <a:lnTo>
                      <a:pt x="53" y="247"/>
                    </a:lnTo>
                    <a:lnTo>
                      <a:pt x="55" y="227"/>
                    </a:lnTo>
                    <a:lnTo>
                      <a:pt x="58" y="205"/>
                    </a:lnTo>
                    <a:lnTo>
                      <a:pt x="59" y="180"/>
                    </a:lnTo>
                    <a:lnTo>
                      <a:pt x="66" y="149"/>
                    </a:lnTo>
                    <a:lnTo>
                      <a:pt x="69" y="119"/>
                    </a:lnTo>
                    <a:lnTo>
                      <a:pt x="74" y="101"/>
                    </a:lnTo>
                    <a:lnTo>
                      <a:pt x="80" y="76"/>
                    </a:lnTo>
                    <a:lnTo>
                      <a:pt x="85" y="51"/>
                    </a:lnTo>
                    <a:lnTo>
                      <a:pt x="92" y="26"/>
                    </a:lnTo>
                    <a:lnTo>
                      <a:pt x="100" y="9"/>
                    </a:lnTo>
                    <a:lnTo>
                      <a:pt x="104" y="0"/>
                    </a:lnTo>
                    <a:lnTo>
                      <a:pt x="50" y="8"/>
                    </a:lnTo>
                    <a:lnTo>
                      <a:pt x="39" y="29"/>
                    </a:lnTo>
                    <a:lnTo>
                      <a:pt x="26" y="68"/>
                    </a:lnTo>
                    <a:lnTo>
                      <a:pt x="14" y="114"/>
                    </a:lnTo>
                    <a:lnTo>
                      <a:pt x="7" y="154"/>
                    </a:lnTo>
                    <a:lnTo>
                      <a:pt x="1" y="200"/>
                    </a:lnTo>
                    <a:lnTo>
                      <a:pt x="0" y="243"/>
                    </a:lnTo>
                    <a:lnTo>
                      <a:pt x="1" y="275"/>
                    </a:lnTo>
                    <a:lnTo>
                      <a:pt x="4" y="31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877160" y="2760840"/>
                <a:ext cx="588960" cy="1341360"/>
              </a:xfrm>
              <a:custGeom>
                <a:avLst/>
                <a:gdLst/>
                <a:ahLst/>
                <a:rect l="l" t="t" r="r" b="b"/>
                <a:pathLst>
                  <a:path w="371" h="845">
                    <a:moveTo>
                      <a:pt x="22" y="844"/>
                    </a:moveTo>
                    <a:lnTo>
                      <a:pt x="12" y="801"/>
                    </a:lnTo>
                    <a:lnTo>
                      <a:pt x="9" y="777"/>
                    </a:lnTo>
                    <a:lnTo>
                      <a:pt x="4" y="751"/>
                    </a:lnTo>
                    <a:lnTo>
                      <a:pt x="3" y="726"/>
                    </a:lnTo>
                    <a:lnTo>
                      <a:pt x="1" y="701"/>
                    </a:lnTo>
                    <a:lnTo>
                      <a:pt x="0" y="677"/>
                    </a:lnTo>
                    <a:lnTo>
                      <a:pt x="1" y="654"/>
                    </a:lnTo>
                    <a:lnTo>
                      <a:pt x="3" y="627"/>
                    </a:lnTo>
                    <a:lnTo>
                      <a:pt x="7" y="599"/>
                    </a:lnTo>
                    <a:lnTo>
                      <a:pt x="12" y="569"/>
                    </a:lnTo>
                    <a:lnTo>
                      <a:pt x="17" y="543"/>
                    </a:lnTo>
                    <a:lnTo>
                      <a:pt x="23" y="513"/>
                    </a:lnTo>
                    <a:lnTo>
                      <a:pt x="33" y="485"/>
                    </a:lnTo>
                    <a:lnTo>
                      <a:pt x="41" y="457"/>
                    </a:lnTo>
                    <a:lnTo>
                      <a:pt x="50" y="432"/>
                    </a:lnTo>
                    <a:lnTo>
                      <a:pt x="58" y="406"/>
                    </a:lnTo>
                    <a:lnTo>
                      <a:pt x="66" y="383"/>
                    </a:lnTo>
                    <a:lnTo>
                      <a:pt x="79" y="358"/>
                    </a:lnTo>
                    <a:lnTo>
                      <a:pt x="90" y="333"/>
                    </a:lnTo>
                    <a:lnTo>
                      <a:pt x="103" y="305"/>
                    </a:lnTo>
                    <a:lnTo>
                      <a:pt x="114" y="284"/>
                    </a:lnTo>
                    <a:lnTo>
                      <a:pt x="130" y="257"/>
                    </a:lnTo>
                    <a:lnTo>
                      <a:pt x="144" y="236"/>
                    </a:lnTo>
                    <a:lnTo>
                      <a:pt x="158" y="213"/>
                    </a:lnTo>
                    <a:lnTo>
                      <a:pt x="174" y="194"/>
                    </a:lnTo>
                    <a:lnTo>
                      <a:pt x="190" y="180"/>
                    </a:lnTo>
                    <a:lnTo>
                      <a:pt x="204" y="165"/>
                    </a:lnTo>
                    <a:lnTo>
                      <a:pt x="155" y="0"/>
                    </a:lnTo>
                    <a:lnTo>
                      <a:pt x="173" y="21"/>
                    </a:lnTo>
                    <a:lnTo>
                      <a:pt x="188" y="47"/>
                    </a:lnTo>
                    <a:lnTo>
                      <a:pt x="203" y="67"/>
                    </a:lnTo>
                    <a:lnTo>
                      <a:pt x="214" y="84"/>
                    </a:lnTo>
                    <a:lnTo>
                      <a:pt x="227" y="99"/>
                    </a:lnTo>
                    <a:lnTo>
                      <a:pt x="239" y="112"/>
                    </a:lnTo>
                    <a:lnTo>
                      <a:pt x="252" y="123"/>
                    </a:lnTo>
                    <a:lnTo>
                      <a:pt x="265" y="137"/>
                    </a:lnTo>
                    <a:lnTo>
                      <a:pt x="279" y="148"/>
                    </a:lnTo>
                    <a:lnTo>
                      <a:pt x="298" y="163"/>
                    </a:lnTo>
                    <a:lnTo>
                      <a:pt x="316" y="175"/>
                    </a:lnTo>
                    <a:lnTo>
                      <a:pt x="333" y="188"/>
                    </a:lnTo>
                    <a:lnTo>
                      <a:pt x="352" y="201"/>
                    </a:lnTo>
                    <a:lnTo>
                      <a:pt x="370" y="211"/>
                    </a:lnTo>
                    <a:lnTo>
                      <a:pt x="365" y="226"/>
                    </a:lnTo>
                    <a:lnTo>
                      <a:pt x="358" y="239"/>
                    </a:lnTo>
                    <a:lnTo>
                      <a:pt x="354" y="256"/>
                    </a:lnTo>
                    <a:lnTo>
                      <a:pt x="349" y="274"/>
                    </a:lnTo>
                    <a:lnTo>
                      <a:pt x="344" y="290"/>
                    </a:lnTo>
                    <a:lnTo>
                      <a:pt x="341" y="308"/>
                    </a:lnTo>
                    <a:lnTo>
                      <a:pt x="339" y="323"/>
                    </a:lnTo>
                    <a:lnTo>
                      <a:pt x="335" y="343"/>
                    </a:lnTo>
                    <a:lnTo>
                      <a:pt x="333" y="361"/>
                    </a:lnTo>
                    <a:lnTo>
                      <a:pt x="331" y="379"/>
                    </a:lnTo>
                    <a:lnTo>
                      <a:pt x="328" y="398"/>
                    </a:lnTo>
                    <a:lnTo>
                      <a:pt x="327" y="416"/>
                    </a:lnTo>
                    <a:lnTo>
                      <a:pt x="327" y="434"/>
                    </a:lnTo>
                    <a:lnTo>
                      <a:pt x="325" y="450"/>
                    </a:lnTo>
                    <a:lnTo>
                      <a:pt x="323" y="469"/>
                    </a:lnTo>
                    <a:lnTo>
                      <a:pt x="322" y="488"/>
                    </a:lnTo>
                    <a:lnTo>
                      <a:pt x="322" y="513"/>
                    </a:lnTo>
                    <a:lnTo>
                      <a:pt x="263" y="345"/>
                    </a:lnTo>
                    <a:lnTo>
                      <a:pt x="239" y="360"/>
                    </a:lnTo>
                    <a:lnTo>
                      <a:pt x="223" y="376"/>
                    </a:lnTo>
                    <a:lnTo>
                      <a:pt x="190" y="407"/>
                    </a:lnTo>
                    <a:lnTo>
                      <a:pt x="177" y="426"/>
                    </a:lnTo>
                    <a:lnTo>
                      <a:pt x="163" y="442"/>
                    </a:lnTo>
                    <a:lnTo>
                      <a:pt x="141" y="474"/>
                    </a:lnTo>
                    <a:lnTo>
                      <a:pt x="128" y="492"/>
                    </a:lnTo>
                    <a:lnTo>
                      <a:pt x="112" y="513"/>
                    </a:lnTo>
                    <a:lnTo>
                      <a:pt x="101" y="533"/>
                    </a:lnTo>
                    <a:lnTo>
                      <a:pt x="88" y="550"/>
                    </a:lnTo>
                    <a:lnTo>
                      <a:pt x="80" y="566"/>
                    </a:lnTo>
                    <a:lnTo>
                      <a:pt x="69" y="586"/>
                    </a:lnTo>
                    <a:lnTo>
                      <a:pt x="60" y="607"/>
                    </a:lnTo>
                    <a:lnTo>
                      <a:pt x="53" y="627"/>
                    </a:lnTo>
                    <a:lnTo>
                      <a:pt x="46" y="647"/>
                    </a:lnTo>
                    <a:lnTo>
                      <a:pt x="39" y="673"/>
                    </a:lnTo>
                    <a:lnTo>
                      <a:pt x="34" y="697"/>
                    </a:lnTo>
                    <a:lnTo>
                      <a:pt x="33" y="721"/>
                    </a:lnTo>
                    <a:lnTo>
                      <a:pt x="30" y="746"/>
                    </a:lnTo>
                    <a:lnTo>
                      <a:pt x="26" y="772"/>
                    </a:lnTo>
                    <a:lnTo>
                      <a:pt x="25" y="799"/>
                    </a:lnTo>
                    <a:lnTo>
                      <a:pt x="22" y="844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7375680" y="2738520"/>
              <a:ext cx="582480" cy="1377720"/>
              <a:chOff x="7375680" y="2738520"/>
              <a:chExt cx="582480" cy="1377720"/>
            </a:xfrm>
          </p:grpSpPr>
          <p:sp>
            <p:nvSpPr>
              <p:cNvPr id="1201" name=""/>
              <p:cNvSpPr/>
              <p:nvPr/>
            </p:nvSpPr>
            <p:spPr>
              <a:xfrm>
                <a:off x="7446960" y="2760840"/>
                <a:ext cx="511200" cy="1355400"/>
              </a:xfrm>
              <a:custGeom>
                <a:avLst/>
                <a:gdLst/>
                <a:ahLst/>
                <a:rect l="l" t="t" r="r" b="b"/>
                <a:pathLst>
                  <a:path w="322" h="854">
                    <a:moveTo>
                      <a:pt x="274" y="853"/>
                    </a:moveTo>
                    <a:lnTo>
                      <a:pt x="290" y="810"/>
                    </a:lnTo>
                    <a:lnTo>
                      <a:pt x="297" y="788"/>
                    </a:lnTo>
                    <a:lnTo>
                      <a:pt x="303" y="763"/>
                    </a:lnTo>
                    <a:lnTo>
                      <a:pt x="308" y="739"/>
                    </a:lnTo>
                    <a:lnTo>
                      <a:pt x="313" y="716"/>
                    </a:lnTo>
                    <a:lnTo>
                      <a:pt x="316" y="691"/>
                    </a:lnTo>
                    <a:lnTo>
                      <a:pt x="317" y="666"/>
                    </a:lnTo>
                    <a:lnTo>
                      <a:pt x="321" y="641"/>
                    </a:lnTo>
                    <a:lnTo>
                      <a:pt x="321" y="612"/>
                    </a:lnTo>
                    <a:lnTo>
                      <a:pt x="317" y="582"/>
                    </a:lnTo>
                    <a:lnTo>
                      <a:pt x="316" y="556"/>
                    </a:lnTo>
                    <a:lnTo>
                      <a:pt x="313" y="526"/>
                    </a:lnTo>
                    <a:lnTo>
                      <a:pt x="308" y="498"/>
                    </a:lnTo>
                    <a:lnTo>
                      <a:pt x="301" y="468"/>
                    </a:lnTo>
                    <a:lnTo>
                      <a:pt x="295" y="442"/>
                    </a:lnTo>
                    <a:lnTo>
                      <a:pt x="290" y="415"/>
                    </a:lnTo>
                    <a:lnTo>
                      <a:pt x="284" y="391"/>
                    </a:lnTo>
                    <a:lnTo>
                      <a:pt x="276" y="364"/>
                    </a:lnTo>
                    <a:lnTo>
                      <a:pt x="266" y="338"/>
                    </a:lnTo>
                    <a:lnTo>
                      <a:pt x="257" y="308"/>
                    </a:lnTo>
                    <a:lnTo>
                      <a:pt x="247" y="285"/>
                    </a:lnTo>
                    <a:lnTo>
                      <a:pt x="234" y="257"/>
                    </a:lnTo>
                    <a:lnTo>
                      <a:pt x="223" y="234"/>
                    </a:lnTo>
                    <a:lnTo>
                      <a:pt x="210" y="209"/>
                    </a:lnTo>
                    <a:lnTo>
                      <a:pt x="196" y="189"/>
                    </a:lnTo>
                    <a:lnTo>
                      <a:pt x="183" y="173"/>
                    </a:lnTo>
                    <a:lnTo>
                      <a:pt x="169" y="156"/>
                    </a:lnTo>
                    <a:lnTo>
                      <a:pt x="237" y="0"/>
                    </a:lnTo>
                    <a:lnTo>
                      <a:pt x="218" y="21"/>
                    </a:lnTo>
                    <a:lnTo>
                      <a:pt x="202" y="37"/>
                    </a:lnTo>
                    <a:lnTo>
                      <a:pt x="185" y="59"/>
                    </a:lnTo>
                    <a:lnTo>
                      <a:pt x="167" y="74"/>
                    </a:lnTo>
                    <a:lnTo>
                      <a:pt x="154" y="85"/>
                    </a:lnTo>
                    <a:lnTo>
                      <a:pt x="140" y="97"/>
                    </a:lnTo>
                    <a:lnTo>
                      <a:pt x="126" y="107"/>
                    </a:lnTo>
                    <a:lnTo>
                      <a:pt x="111" y="118"/>
                    </a:lnTo>
                    <a:lnTo>
                      <a:pt x="95" y="128"/>
                    </a:lnTo>
                    <a:lnTo>
                      <a:pt x="76" y="140"/>
                    </a:lnTo>
                    <a:lnTo>
                      <a:pt x="55" y="153"/>
                    </a:lnTo>
                    <a:lnTo>
                      <a:pt x="38" y="163"/>
                    </a:lnTo>
                    <a:lnTo>
                      <a:pt x="17" y="173"/>
                    </a:lnTo>
                    <a:lnTo>
                      <a:pt x="0" y="181"/>
                    </a:lnTo>
                    <a:lnTo>
                      <a:pt x="1" y="196"/>
                    </a:lnTo>
                    <a:lnTo>
                      <a:pt x="4" y="211"/>
                    </a:lnTo>
                    <a:lnTo>
                      <a:pt x="7" y="226"/>
                    </a:lnTo>
                    <a:lnTo>
                      <a:pt x="11" y="244"/>
                    </a:lnTo>
                    <a:lnTo>
                      <a:pt x="14" y="262"/>
                    </a:lnTo>
                    <a:lnTo>
                      <a:pt x="15" y="280"/>
                    </a:lnTo>
                    <a:lnTo>
                      <a:pt x="15" y="296"/>
                    </a:lnTo>
                    <a:lnTo>
                      <a:pt x="17" y="315"/>
                    </a:lnTo>
                    <a:lnTo>
                      <a:pt x="15" y="333"/>
                    </a:lnTo>
                    <a:lnTo>
                      <a:pt x="17" y="353"/>
                    </a:lnTo>
                    <a:lnTo>
                      <a:pt x="17" y="371"/>
                    </a:lnTo>
                    <a:lnTo>
                      <a:pt x="17" y="387"/>
                    </a:lnTo>
                    <a:lnTo>
                      <a:pt x="15" y="407"/>
                    </a:lnTo>
                    <a:lnTo>
                      <a:pt x="15" y="424"/>
                    </a:lnTo>
                    <a:lnTo>
                      <a:pt x="14" y="442"/>
                    </a:lnTo>
                    <a:lnTo>
                      <a:pt x="14" y="460"/>
                    </a:lnTo>
                    <a:lnTo>
                      <a:pt x="9" y="486"/>
                    </a:lnTo>
                    <a:lnTo>
                      <a:pt x="91" y="326"/>
                    </a:lnTo>
                    <a:lnTo>
                      <a:pt x="111" y="344"/>
                    </a:lnTo>
                    <a:lnTo>
                      <a:pt x="127" y="362"/>
                    </a:lnTo>
                    <a:lnTo>
                      <a:pt x="154" y="399"/>
                    </a:lnTo>
                    <a:lnTo>
                      <a:pt x="166" y="417"/>
                    </a:lnTo>
                    <a:lnTo>
                      <a:pt x="180" y="435"/>
                    </a:lnTo>
                    <a:lnTo>
                      <a:pt x="198" y="470"/>
                    </a:lnTo>
                    <a:lnTo>
                      <a:pt x="210" y="490"/>
                    </a:lnTo>
                    <a:lnTo>
                      <a:pt x="220" y="513"/>
                    </a:lnTo>
                    <a:lnTo>
                      <a:pt x="228" y="534"/>
                    </a:lnTo>
                    <a:lnTo>
                      <a:pt x="234" y="551"/>
                    </a:lnTo>
                    <a:lnTo>
                      <a:pt x="241" y="567"/>
                    </a:lnTo>
                    <a:lnTo>
                      <a:pt x="247" y="589"/>
                    </a:lnTo>
                    <a:lnTo>
                      <a:pt x="255" y="612"/>
                    </a:lnTo>
                    <a:lnTo>
                      <a:pt x="260" y="631"/>
                    </a:lnTo>
                    <a:lnTo>
                      <a:pt x="263" y="648"/>
                    </a:lnTo>
                    <a:lnTo>
                      <a:pt x="265" y="676"/>
                    </a:lnTo>
                    <a:lnTo>
                      <a:pt x="265" y="697"/>
                    </a:lnTo>
                    <a:lnTo>
                      <a:pt x="263" y="725"/>
                    </a:lnTo>
                    <a:lnTo>
                      <a:pt x="263" y="749"/>
                    </a:lnTo>
                    <a:lnTo>
                      <a:pt x="260" y="775"/>
                    </a:lnTo>
                    <a:lnTo>
                      <a:pt x="244" y="844"/>
                    </a:lnTo>
                    <a:lnTo>
                      <a:pt x="274" y="85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394400" y="3255840"/>
                <a:ext cx="184320" cy="276480"/>
              </a:xfrm>
              <a:custGeom>
                <a:avLst/>
                <a:gdLst/>
                <a:ahLst/>
                <a:rect l="l" t="t" r="r" b="b"/>
                <a:pathLst>
                  <a:path w="116" h="174">
                    <a:moveTo>
                      <a:pt x="41" y="173"/>
                    </a:moveTo>
                    <a:lnTo>
                      <a:pt x="0" y="161"/>
                    </a:lnTo>
                    <a:lnTo>
                      <a:pt x="79" y="0"/>
                    </a:lnTo>
                    <a:lnTo>
                      <a:pt x="99" y="9"/>
                    </a:lnTo>
                    <a:lnTo>
                      <a:pt x="115" y="26"/>
                    </a:lnTo>
                    <a:lnTo>
                      <a:pt x="41" y="17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637400" y="2738520"/>
                <a:ext cx="184320" cy="266760"/>
              </a:xfrm>
              <a:custGeom>
                <a:avLst/>
                <a:gdLst/>
                <a:ahLst/>
                <a:rect l="l" t="t" r="r" b="b"/>
                <a:pathLst>
                  <a:path w="116" h="168">
                    <a:moveTo>
                      <a:pt x="115" y="11"/>
                    </a:moveTo>
                    <a:lnTo>
                      <a:pt x="75" y="0"/>
                    </a:lnTo>
                    <a:lnTo>
                      <a:pt x="0" y="152"/>
                    </a:lnTo>
                    <a:lnTo>
                      <a:pt x="47" y="167"/>
                    </a:lnTo>
                    <a:lnTo>
                      <a:pt x="115" y="11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375680" y="2738520"/>
                <a:ext cx="527040" cy="1363680"/>
              </a:xfrm>
              <a:custGeom>
                <a:avLst/>
                <a:gdLst/>
                <a:ahLst/>
                <a:rect l="l" t="t" r="r" b="b"/>
                <a:pathLst>
                  <a:path w="332" h="859">
                    <a:moveTo>
                      <a:pt x="286" y="858"/>
                    </a:moveTo>
                    <a:lnTo>
                      <a:pt x="300" y="815"/>
                    </a:lnTo>
                    <a:lnTo>
                      <a:pt x="307" y="795"/>
                    </a:lnTo>
                    <a:lnTo>
                      <a:pt x="315" y="767"/>
                    </a:lnTo>
                    <a:lnTo>
                      <a:pt x="319" y="743"/>
                    </a:lnTo>
                    <a:lnTo>
                      <a:pt x="324" y="719"/>
                    </a:lnTo>
                    <a:lnTo>
                      <a:pt x="327" y="694"/>
                    </a:lnTo>
                    <a:lnTo>
                      <a:pt x="329" y="672"/>
                    </a:lnTo>
                    <a:lnTo>
                      <a:pt x="331" y="646"/>
                    </a:lnTo>
                    <a:lnTo>
                      <a:pt x="331" y="616"/>
                    </a:lnTo>
                    <a:lnTo>
                      <a:pt x="327" y="586"/>
                    </a:lnTo>
                    <a:lnTo>
                      <a:pt x="327" y="560"/>
                    </a:lnTo>
                    <a:lnTo>
                      <a:pt x="323" y="529"/>
                    </a:lnTo>
                    <a:lnTo>
                      <a:pt x="316" y="500"/>
                    </a:lnTo>
                    <a:lnTo>
                      <a:pt x="311" y="471"/>
                    </a:lnTo>
                    <a:lnTo>
                      <a:pt x="305" y="446"/>
                    </a:lnTo>
                    <a:lnTo>
                      <a:pt x="299" y="416"/>
                    </a:lnTo>
                    <a:lnTo>
                      <a:pt x="291" y="395"/>
                    </a:lnTo>
                    <a:lnTo>
                      <a:pt x="284" y="367"/>
                    </a:lnTo>
                    <a:lnTo>
                      <a:pt x="275" y="340"/>
                    </a:lnTo>
                    <a:lnTo>
                      <a:pt x="262" y="312"/>
                    </a:lnTo>
                    <a:lnTo>
                      <a:pt x="254" y="287"/>
                    </a:lnTo>
                    <a:lnTo>
                      <a:pt x="240" y="261"/>
                    </a:lnTo>
                    <a:lnTo>
                      <a:pt x="229" y="234"/>
                    </a:lnTo>
                    <a:lnTo>
                      <a:pt x="216" y="209"/>
                    </a:lnTo>
                    <a:lnTo>
                      <a:pt x="200" y="190"/>
                    </a:lnTo>
                    <a:lnTo>
                      <a:pt x="189" y="173"/>
                    </a:lnTo>
                    <a:lnTo>
                      <a:pt x="173" y="158"/>
                    </a:lnTo>
                    <a:lnTo>
                      <a:pt x="241" y="0"/>
                    </a:lnTo>
                    <a:lnTo>
                      <a:pt x="222" y="21"/>
                    </a:lnTo>
                    <a:lnTo>
                      <a:pt x="206" y="38"/>
                    </a:lnTo>
                    <a:lnTo>
                      <a:pt x="187" y="59"/>
                    </a:lnTo>
                    <a:lnTo>
                      <a:pt x="171" y="72"/>
                    </a:lnTo>
                    <a:lnTo>
                      <a:pt x="157" y="85"/>
                    </a:lnTo>
                    <a:lnTo>
                      <a:pt x="144" y="97"/>
                    </a:lnTo>
                    <a:lnTo>
                      <a:pt x="128" y="109"/>
                    </a:lnTo>
                    <a:lnTo>
                      <a:pt x="114" y="119"/>
                    </a:lnTo>
                    <a:lnTo>
                      <a:pt x="98" y="130"/>
                    </a:lnTo>
                    <a:lnTo>
                      <a:pt x="77" y="142"/>
                    </a:lnTo>
                    <a:lnTo>
                      <a:pt x="57" y="152"/>
                    </a:lnTo>
                    <a:lnTo>
                      <a:pt x="39" y="163"/>
                    </a:lnTo>
                    <a:lnTo>
                      <a:pt x="19" y="173"/>
                    </a:lnTo>
                    <a:lnTo>
                      <a:pt x="0" y="180"/>
                    </a:lnTo>
                    <a:lnTo>
                      <a:pt x="1" y="195"/>
                    </a:lnTo>
                    <a:lnTo>
                      <a:pt x="6" y="209"/>
                    </a:lnTo>
                    <a:lnTo>
                      <a:pt x="9" y="226"/>
                    </a:lnTo>
                    <a:lnTo>
                      <a:pt x="12" y="244"/>
                    </a:lnTo>
                    <a:lnTo>
                      <a:pt x="14" y="264"/>
                    </a:lnTo>
                    <a:lnTo>
                      <a:pt x="17" y="279"/>
                    </a:lnTo>
                    <a:lnTo>
                      <a:pt x="17" y="295"/>
                    </a:lnTo>
                    <a:lnTo>
                      <a:pt x="19" y="315"/>
                    </a:lnTo>
                    <a:lnTo>
                      <a:pt x="19" y="333"/>
                    </a:lnTo>
                    <a:lnTo>
                      <a:pt x="20" y="353"/>
                    </a:lnTo>
                    <a:lnTo>
                      <a:pt x="20" y="371"/>
                    </a:lnTo>
                    <a:lnTo>
                      <a:pt x="20" y="388"/>
                    </a:lnTo>
                    <a:lnTo>
                      <a:pt x="19" y="408"/>
                    </a:lnTo>
                    <a:lnTo>
                      <a:pt x="19" y="424"/>
                    </a:lnTo>
                    <a:lnTo>
                      <a:pt x="17" y="441"/>
                    </a:lnTo>
                    <a:lnTo>
                      <a:pt x="15" y="462"/>
                    </a:lnTo>
                    <a:lnTo>
                      <a:pt x="12" y="487"/>
                    </a:lnTo>
                    <a:lnTo>
                      <a:pt x="93" y="327"/>
                    </a:lnTo>
                    <a:lnTo>
                      <a:pt x="116" y="345"/>
                    </a:lnTo>
                    <a:lnTo>
                      <a:pt x="130" y="365"/>
                    </a:lnTo>
                    <a:lnTo>
                      <a:pt x="160" y="400"/>
                    </a:lnTo>
                    <a:lnTo>
                      <a:pt x="173" y="419"/>
                    </a:lnTo>
                    <a:lnTo>
                      <a:pt x="184" y="438"/>
                    </a:lnTo>
                    <a:lnTo>
                      <a:pt x="205" y="472"/>
                    </a:lnTo>
                    <a:lnTo>
                      <a:pt x="216" y="492"/>
                    </a:lnTo>
                    <a:lnTo>
                      <a:pt x="232" y="515"/>
                    </a:lnTo>
                    <a:lnTo>
                      <a:pt x="241" y="537"/>
                    </a:lnTo>
                    <a:lnTo>
                      <a:pt x="249" y="555"/>
                    </a:lnTo>
                    <a:lnTo>
                      <a:pt x="259" y="573"/>
                    </a:lnTo>
                    <a:lnTo>
                      <a:pt x="267" y="595"/>
                    </a:lnTo>
                    <a:lnTo>
                      <a:pt x="275" y="616"/>
                    </a:lnTo>
                    <a:lnTo>
                      <a:pt x="278" y="638"/>
                    </a:lnTo>
                    <a:lnTo>
                      <a:pt x="286" y="659"/>
                    </a:lnTo>
                    <a:lnTo>
                      <a:pt x="289" y="686"/>
                    </a:lnTo>
                    <a:lnTo>
                      <a:pt x="291" y="709"/>
                    </a:lnTo>
                    <a:lnTo>
                      <a:pt x="291" y="734"/>
                    </a:lnTo>
                    <a:lnTo>
                      <a:pt x="292" y="758"/>
                    </a:lnTo>
                    <a:lnTo>
                      <a:pt x="291" y="786"/>
                    </a:lnTo>
                    <a:lnTo>
                      <a:pt x="289" y="813"/>
                    </a:lnTo>
                    <a:lnTo>
                      <a:pt x="286" y="858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7875720" y="3056040"/>
              <a:ext cx="812520" cy="1279440"/>
              <a:chOff x="7875720" y="3056040"/>
              <a:chExt cx="812520" cy="1279440"/>
            </a:xfrm>
          </p:grpSpPr>
          <p:sp>
            <p:nvSpPr>
              <p:cNvPr id="1206" name=""/>
              <p:cNvSpPr/>
              <p:nvPr/>
            </p:nvSpPr>
            <p:spPr>
              <a:xfrm>
                <a:off x="7877160" y="3606840"/>
                <a:ext cx="536760" cy="728640"/>
              </a:xfrm>
              <a:custGeom>
                <a:avLst/>
                <a:gdLst/>
                <a:ahLst/>
                <a:rect l="l" t="t" r="r" b="b"/>
                <a:pathLst>
                  <a:path w="338" h="459">
                    <a:moveTo>
                      <a:pt x="0" y="456"/>
                    </a:moveTo>
                    <a:lnTo>
                      <a:pt x="23" y="458"/>
                    </a:lnTo>
                    <a:lnTo>
                      <a:pt x="30" y="423"/>
                    </a:lnTo>
                    <a:lnTo>
                      <a:pt x="39" y="391"/>
                    </a:lnTo>
                    <a:lnTo>
                      <a:pt x="49" y="365"/>
                    </a:lnTo>
                    <a:lnTo>
                      <a:pt x="60" y="337"/>
                    </a:lnTo>
                    <a:lnTo>
                      <a:pt x="71" y="312"/>
                    </a:lnTo>
                    <a:lnTo>
                      <a:pt x="81" y="291"/>
                    </a:lnTo>
                    <a:lnTo>
                      <a:pt x="90" y="272"/>
                    </a:lnTo>
                    <a:lnTo>
                      <a:pt x="103" y="251"/>
                    </a:lnTo>
                    <a:lnTo>
                      <a:pt x="116" y="233"/>
                    </a:lnTo>
                    <a:lnTo>
                      <a:pt x="133" y="209"/>
                    </a:lnTo>
                    <a:lnTo>
                      <a:pt x="147" y="193"/>
                    </a:lnTo>
                    <a:lnTo>
                      <a:pt x="162" y="176"/>
                    </a:lnTo>
                    <a:lnTo>
                      <a:pt x="179" y="160"/>
                    </a:lnTo>
                    <a:lnTo>
                      <a:pt x="198" y="140"/>
                    </a:lnTo>
                    <a:lnTo>
                      <a:pt x="222" y="119"/>
                    </a:lnTo>
                    <a:lnTo>
                      <a:pt x="240" y="107"/>
                    </a:lnTo>
                    <a:lnTo>
                      <a:pt x="255" y="94"/>
                    </a:lnTo>
                    <a:lnTo>
                      <a:pt x="273" y="81"/>
                    </a:lnTo>
                    <a:lnTo>
                      <a:pt x="290" y="71"/>
                    </a:lnTo>
                    <a:lnTo>
                      <a:pt x="316" y="56"/>
                    </a:lnTo>
                    <a:lnTo>
                      <a:pt x="337" y="47"/>
                    </a:lnTo>
                    <a:lnTo>
                      <a:pt x="332" y="0"/>
                    </a:lnTo>
                    <a:lnTo>
                      <a:pt x="297" y="13"/>
                    </a:lnTo>
                    <a:lnTo>
                      <a:pt x="257" y="36"/>
                    </a:lnTo>
                    <a:lnTo>
                      <a:pt x="225" y="59"/>
                    </a:lnTo>
                    <a:lnTo>
                      <a:pt x="190" y="92"/>
                    </a:lnTo>
                    <a:lnTo>
                      <a:pt x="141" y="133"/>
                    </a:lnTo>
                    <a:lnTo>
                      <a:pt x="100" y="181"/>
                    </a:lnTo>
                    <a:lnTo>
                      <a:pt x="63" y="231"/>
                    </a:lnTo>
                    <a:lnTo>
                      <a:pt x="41" y="276"/>
                    </a:lnTo>
                    <a:lnTo>
                      <a:pt x="19" y="333"/>
                    </a:lnTo>
                    <a:lnTo>
                      <a:pt x="9" y="380"/>
                    </a:lnTo>
                    <a:lnTo>
                      <a:pt x="0" y="456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331120" y="3056040"/>
                <a:ext cx="357120" cy="399960"/>
              </a:xfrm>
              <a:custGeom>
                <a:avLst/>
                <a:gdLst/>
                <a:ahLst/>
                <a:rect l="l" t="t" r="r" b="b"/>
                <a:pathLst>
                  <a:path w="225" h="252">
                    <a:moveTo>
                      <a:pt x="171" y="249"/>
                    </a:moveTo>
                    <a:lnTo>
                      <a:pt x="224" y="251"/>
                    </a:lnTo>
                    <a:lnTo>
                      <a:pt x="211" y="241"/>
                    </a:lnTo>
                    <a:lnTo>
                      <a:pt x="198" y="231"/>
                    </a:lnTo>
                    <a:lnTo>
                      <a:pt x="184" y="216"/>
                    </a:lnTo>
                    <a:lnTo>
                      <a:pt x="166" y="196"/>
                    </a:lnTo>
                    <a:lnTo>
                      <a:pt x="150" y="179"/>
                    </a:lnTo>
                    <a:lnTo>
                      <a:pt x="133" y="160"/>
                    </a:lnTo>
                    <a:lnTo>
                      <a:pt x="120" y="143"/>
                    </a:lnTo>
                    <a:lnTo>
                      <a:pt x="108" y="128"/>
                    </a:lnTo>
                    <a:lnTo>
                      <a:pt x="95" y="112"/>
                    </a:lnTo>
                    <a:lnTo>
                      <a:pt x="85" y="94"/>
                    </a:lnTo>
                    <a:lnTo>
                      <a:pt x="73" y="74"/>
                    </a:lnTo>
                    <a:lnTo>
                      <a:pt x="63" y="56"/>
                    </a:lnTo>
                    <a:lnTo>
                      <a:pt x="57" y="37"/>
                    </a:lnTo>
                    <a:lnTo>
                      <a:pt x="47" y="18"/>
                    </a:lnTo>
                    <a:lnTo>
                      <a:pt x="41" y="1"/>
                    </a:lnTo>
                    <a:lnTo>
                      <a:pt x="0" y="0"/>
                    </a:lnTo>
                    <a:lnTo>
                      <a:pt x="7" y="28"/>
                    </a:lnTo>
                    <a:lnTo>
                      <a:pt x="23" y="67"/>
                    </a:lnTo>
                    <a:lnTo>
                      <a:pt x="46" y="118"/>
                    </a:lnTo>
                    <a:lnTo>
                      <a:pt x="68" y="155"/>
                    </a:lnTo>
                    <a:lnTo>
                      <a:pt x="103" y="189"/>
                    </a:lnTo>
                    <a:lnTo>
                      <a:pt x="131" y="222"/>
                    </a:lnTo>
                    <a:lnTo>
                      <a:pt x="158" y="249"/>
                    </a:lnTo>
                    <a:lnTo>
                      <a:pt x="224" y="251"/>
                    </a:lnTo>
                    <a:lnTo>
                      <a:pt x="222" y="251"/>
                    </a:lnTo>
                    <a:lnTo>
                      <a:pt x="171" y="24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442360" y="3456000"/>
                <a:ext cx="245880" cy="461880"/>
              </a:xfrm>
              <a:custGeom>
                <a:avLst/>
                <a:gdLst/>
                <a:ahLst/>
                <a:rect l="l" t="t" r="r" b="b"/>
                <a:pathLst>
                  <a:path w="155" h="291">
                    <a:moveTo>
                      <a:pt x="0" y="288"/>
                    </a:moveTo>
                    <a:lnTo>
                      <a:pt x="44" y="290"/>
                    </a:lnTo>
                    <a:lnTo>
                      <a:pt x="49" y="270"/>
                    </a:lnTo>
                    <a:lnTo>
                      <a:pt x="52" y="251"/>
                    </a:lnTo>
                    <a:lnTo>
                      <a:pt x="57" y="233"/>
                    </a:lnTo>
                    <a:lnTo>
                      <a:pt x="63" y="215"/>
                    </a:lnTo>
                    <a:lnTo>
                      <a:pt x="69" y="193"/>
                    </a:lnTo>
                    <a:lnTo>
                      <a:pt x="77" y="170"/>
                    </a:lnTo>
                    <a:lnTo>
                      <a:pt x="87" y="140"/>
                    </a:lnTo>
                    <a:lnTo>
                      <a:pt x="98" y="112"/>
                    </a:lnTo>
                    <a:lnTo>
                      <a:pt x="104" y="92"/>
                    </a:lnTo>
                    <a:lnTo>
                      <a:pt x="115" y="72"/>
                    </a:lnTo>
                    <a:lnTo>
                      <a:pt x="127" y="48"/>
                    </a:lnTo>
                    <a:lnTo>
                      <a:pt x="138" y="26"/>
                    </a:lnTo>
                    <a:lnTo>
                      <a:pt x="147" y="9"/>
                    </a:lnTo>
                    <a:lnTo>
                      <a:pt x="154" y="1"/>
                    </a:lnTo>
                    <a:lnTo>
                      <a:pt x="98" y="0"/>
                    </a:lnTo>
                    <a:lnTo>
                      <a:pt x="84" y="18"/>
                    </a:lnTo>
                    <a:lnTo>
                      <a:pt x="63" y="53"/>
                    </a:lnTo>
                    <a:lnTo>
                      <a:pt x="42" y="96"/>
                    </a:lnTo>
                    <a:lnTo>
                      <a:pt x="30" y="134"/>
                    </a:lnTo>
                    <a:lnTo>
                      <a:pt x="17" y="177"/>
                    </a:lnTo>
                    <a:lnTo>
                      <a:pt x="6" y="220"/>
                    </a:lnTo>
                    <a:lnTo>
                      <a:pt x="1" y="251"/>
                    </a:lnTo>
                    <a:lnTo>
                      <a:pt x="0" y="28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875720" y="3060720"/>
                <a:ext cx="728640" cy="1274760"/>
              </a:xfrm>
              <a:custGeom>
                <a:avLst/>
                <a:gdLst/>
                <a:ahLst/>
                <a:rect l="l" t="t" r="r" b="b"/>
                <a:pathLst>
                  <a:path w="459" h="803">
                    <a:moveTo>
                      <a:pt x="3" y="802"/>
                    </a:moveTo>
                    <a:lnTo>
                      <a:pt x="0" y="757"/>
                    </a:lnTo>
                    <a:lnTo>
                      <a:pt x="1" y="735"/>
                    </a:lnTo>
                    <a:lnTo>
                      <a:pt x="1" y="709"/>
                    </a:lnTo>
                    <a:lnTo>
                      <a:pt x="4" y="682"/>
                    </a:lnTo>
                    <a:lnTo>
                      <a:pt x="7" y="659"/>
                    </a:lnTo>
                    <a:lnTo>
                      <a:pt x="11" y="634"/>
                    </a:lnTo>
                    <a:lnTo>
                      <a:pt x="17" y="613"/>
                    </a:lnTo>
                    <a:lnTo>
                      <a:pt x="22" y="588"/>
                    </a:lnTo>
                    <a:lnTo>
                      <a:pt x="31" y="558"/>
                    </a:lnTo>
                    <a:lnTo>
                      <a:pt x="41" y="532"/>
                    </a:lnTo>
                    <a:lnTo>
                      <a:pt x="50" y="507"/>
                    </a:lnTo>
                    <a:lnTo>
                      <a:pt x="62" y="481"/>
                    </a:lnTo>
                    <a:lnTo>
                      <a:pt x="76" y="454"/>
                    </a:lnTo>
                    <a:lnTo>
                      <a:pt x="89" y="426"/>
                    </a:lnTo>
                    <a:lnTo>
                      <a:pt x="103" y="406"/>
                    </a:lnTo>
                    <a:lnTo>
                      <a:pt x="116" y="381"/>
                    </a:lnTo>
                    <a:lnTo>
                      <a:pt x="130" y="360"/>
                    </a:lnTo>
                    <a:lnTo>
                      <a:pt x="144" y="337"/>
                    </a:lnTo>
                    <a:lnTo>
                      <a:pt x="160" y="314"/>
                    </a:lnTo>
                    <a:lnTo>
                      <a:pt x="178" y="291"/>
                    </a:lnTo>
                    <a:lnTo>
                      <a:pt x="194" y="269"/>
                    </a:lnTo>
                    <a:lnTo>
                      <a:pt x="213" y="249"/>
                    </a:lnTo>
                    <a:lnTo>
                      <a:pt x="232" y="228"/>
                    </a:lnTo>
                    <a:lnTo>
                      <a:pt x="251" y="211"/>
                    </a:lnTo>
                    <a:lnTo>
                      <a:pt x="270" y="195"/>
                    </a:lnTo>
                    <a:lnTo>
                      <a:pt x="287" y="183"/>
                    </a:lnTo>
                    <a:lnTo>
                      <a:pt x="305" y="173"/>
                    </a:lnTo>
                    <a:lnTo>
                      <a:pt x="287" y="0"/>
                    </a:lnTo>
                    <a:lnTo>
                      <a:pt x="298" y="26"/>
                    </a:lnTo>
                    <a:lnTo>
                      <a:pt x="310" y="54"/>
                    </a:lnTo>
                    <a:lnTo>
                      <a:pt x="321" y="76"/>
                    </a:lnTo>
                    <a:lnTo>
                      <a:pt x="330" y="92"/>
                    </a:lnTo>
                    <a:lnTo>
                      <a:pt x="338" y="112"/>
                    </a:lnTo>
                    <a:lnTo>
                      <a:pt x="348" y="127"/>
                    </a:lnTo>
                    <a:lnTo>
                      <a:pt x="359" y="142"/>
                    </a:lnTo>
                    <a:lnTo>
                      <a:pt x="370" y="155"/>
                    </a:lnTo>
                    <a:lnTo>
                      <a:pt x="381" y="171"/>
                    </a:lnTo>
                    <a:lnTo>
                      <a:pt x="397" y="188"/>
                    </a:lnTo>
                    <a:lnTo>
                      <a:pt x="413" y="205"/>
                    </a:lnTo>
                    <a:lnTo>
                      <a:pt x="426" y="221"/>
                    </a:lnTo>
                    <a:lnTo>
                      <a:pt x="443" y="238"/>
                    </a:lnTo>
                    <a:lnTo>
                      <a:pt x="458" y="249"/>
                    </a:lnTo>
                    <a:lnTo>
                      <a:pt x="451" y="264"/>
                    </a:lnTo>
                    <a:lnTo>
                      <a:pt x="443" y="277"/>
                    </a:lnTo>
                    <a:lnTo>
                      <a:pt x="434" y="291"/>
                    </a:lnTo>
                    <a:lnTo>
                      <a:pt x="427" y="307"/>
                    </a:lnTo>
                    <a:lnTo>
                      <a:pt x="419" y="324"/>
                    </a:lnTo>
                    <a:lnTo>
                      <a:pt x="411" y="338"/>
                    </a:lnTo>
                    <a:lnTo>
                      <a:pt x="407" y="355"/>
                    </a:lnTo>
                    <a:lnTo>
                      <a:pt x="402" y="372"/>
                    </a:lnTo>
                    <a:lnTo>
                      <a:pt x="395" y="390"/>
                    </a:lnTo>
                    <a:lnTo>
                      <a:pt x="389" y="408"/>
                    </a:lnTo>
                    <a:lnTo>
                      <a:pt x="384" y="426"/>
                    </a:lnTo>
                    <a:lnTo>
                      <a:pt x="378" y="443"/>
                    </a:lnTo>
                    <a:lnTo>
                      <a:pt x="375" y="461"/>
                    </a:lnTo>
                    <a:lnTo>
                      <a:pt x="368" y="477"/>
                    </a:lnTo>
                    <a:lnTo>
                      <a:pt x="365" y="492"/>
                    </a:lnTo>
                    <a:lnTo>
                      <a:pt x="360" y="512"/>
                    </a:lnTo>
                    <a:lnTo>
                      <a:pt x="356" y="539"/>
                    </a:lnTo>
                    <a:lnTo>
                      <a:pt x="329" y="358"/>
                    </a:lnTo>
                    <a:lnTo>
                      <a:pt x="303" y="372"/>
                    </a:lnTo>
                    <a:lnTo>
                      <a:pt x="283" y="383"/>
                    </a:lnTo>
                    <a:lnTo>
                      <a:pt x="248" y="408"/>
                    </a:lnTo>
                    <a:lnTo>
                      <a:pt x="230" y="421"/>
                    </a:lnTo>
                    <a:lnTo>
                      <a:pt x="213" y="436"/>
                    </a:lnTo>
                    <a:lnTo>
                      <a:pt x="186" y="461"/>
                    </a:lnTo>
                    <a:lnTo>
                      <a:pt x="168" y="477"/>
                    </a:lnTo>
                    <a:lnTo>
                      <a:pt x="149" y="497"/>
                    </a:lnTo>
                    <a:lnTo>
                      <a:pt x="135" y="512"/>
                    </a:lnTo>
                    <a:lnTo>
                      <a:pt x="120" y="527"/>
                    </a:lnTo>
                    <a:lnTo>
                      <a:pt x="108" y="542"/>
                    </a:lnTo>
                    <a:lnTo>
                      <a:pt x="95" y="558"/>
                    </a:lnTo>
                    <a:lnTo>
                      <a:pt x="81" y="578"/>
                    </a:lnTo>
                    <a:lnTo>
                      <a:pt x="71" y="596"/>
                    </a:lnTo>
                    <a:lnTo>
                      <a:pt x="58" y="616"/>
                    </a:lnTo>
                    <a:lnTo>
                      <a:pt x="49" y="638"/>
                    </a:lnTo>
                    <a:lnTo>
                      <a:pt x="41" y="659"/>
                    </a:lnTo>
                    <a:lnTo>
                      <a:pt x="33" y="684"/>
                    </a:lnTo>
                    <a:lnTo>
                      <a:pt x="25" y="709"/>
                    </a:lnTo>
                    <a:lnTo>
                      <a:pt x="19" y="734"/>
                    </a:lnTo>
                    <a:lnTo>
                      <a:pt x="12" y="760"/>
                    </a:lnTo>
                    <a:lnTo>
                      <a:pt x="3" y="8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7107120" y="3051000"/>
              <a:ext cx="779760" cy="1293840"/>
              <a:chOff x="7107120" y="3051000"/>
              <a:chExt cx="779760" cy="1293840"/>
            </a:xfrm>
          </p:grpSpPr>
          <p:sp>
            <p:nvSpPr>
              <p:cNvPr id="1211" name=""/>
              <p:cNvSpPr/>
              <p:nvPr/>
            </p:nvSpPr>
            <p:spPr>
              <a:xfrm>
                <a:off x="7259760" y="3624120"/>
                <a:ext cx="120600" cy="277920"/>
              </a:xfrm>
              <a:custGeom>
                <a:avLst/>
                <a:gdLst/>
                <a:ahLst/>
                <a:rect l="l" t="t" r="r" b="b"/>
                <a:pathLst>
                  <a:path w="76" h="175">
                    <a:moveTo>
                      <a:pt x="43" y="174"/>
                    </a:moveTo>
                    <a:lnTo>
                      <a:pt x="0" y="174"/>
                    </a:lnTo>
                    <a:lnTo>
                      <a:pt x="33" y="0"/>
                    </a:lnTo>
                    <a:lnTo>
                      <a:pt x="54" y="3"/>
                    </a:lnTo>
                    <a:lnTo>
                      <a:pt x="75" y="14"/>
                    </a:lnTo>
                    <a:lnTo>
                      <a:pt x="43" y="17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350120" y="3054240"/>
                <a:ext cx="114480" cy="270000"/>
              </a:xfrm>
              <a:custGeom>
                <a:avLst/>
                <a:gdLst/>
                <a:ahLst/>
                <a:rect l="l" t="t" r="r" b="b"/>
                <a:pathLst>
                  <a:path w="72" h="170">
                    <a:moveTo>
                      <a:pt x="71" y="0"/>
                    </a:moveTo>
                    <a:lnTo>
                      <a:pt x="31" y="1"/>
                    </a:lnTo>
                    <a:lnTo>
                      <a:pt x="0" y="169"/>
                    </a:lnTo>
                    <a:lnTo>
                      <a:pt x="50" y="169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3" name=""/>
              <p:cNvGrpSpPr/>
              <p:nvPr/>
            </p:nvGrpSpPr>
            <p:grpSpPr>
              <a:xfrm>
                <a:off x="7107120" y="3051000"/>
                <a:ext cx="779760" cy="1293840"/>
                <a:chOff x="7107120" y="3051000"/>
                <a:chExt cx="779760" cy="129384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7180200" y="3051000"/>
                  <a:ext cx="706680" cy="1293840"/>
                </a:xfrm>
                <a:custGeom>
                  <a:avLst/>
                  <a:gdLst/>
                  <a:ahLst/>
                  <a:rect l="l" t="t" r="r" b="b"/>
                  <a:pathLst>
                    <a:path w="445" h="815">
                      <a:moveTo>
                        <a:pt x="442" y="812"/>
                      </a:moveTo>
                      <a:lnTo>
                        <a:pt x="444" y="767"/>
                      </a:lnTo>
                      <a:lnTo>
                        <a:pt x="444" y="746"/>
                      </a:lnTo>
                      <a:lnTo>
                        <a:pt x="444" y="718"/>
                      </a:lnTo>
                      <a:lnTo>
                        <a:pt x="444" y="693"/>
                      </a:lnTo>
                      <a:lnTo>
                        <a:pt x="442" y="668"/>
                      </a:lnTo>
                      <a:lnTo>
                        <a:pt x="439" y="643"/>
                      </a:lnTo>
                      <a:lnTo>
                        <a:pt x="434" y="622"/>
                      </a:lnTo>
                      <a:lnTo>
                        <a:pt x="429" y="597"/>
                      </a:lnTo>
                      <a:lnTo>
                        <a:pt x="421" y="567"/>
                      </a:lnTo>
                      <a:lnTo>
                        <a:pt x="410" y="541"/>
                      </a:lnTo>
                      <a:lnTo>
                        <a:pt x="402" y="514"/>
                      </a:lnTo>
                      <a:lnTo>
                        <a:pt x="391" y="486"/>
                      </a:lnTo>
                      <a:lnTo>
                        <a:pt x="378" y="459"/>
                      </a:lnTo>
                      <a:lnTo>
                        <a:pt x="366" y="433"/>
                      </a:lnTo>
                      <a:lnTo>
                        <a:pt x="353" y="411"/>
                      </a:lnTo>
                      <a:lnTo>
                        <a:pt x="340" y="385"/>
                      </a:lnTo>
                      <a:lnTo>
                        <a:pt x="327" y="365"/>
                      </a:lnTo>
                      <a:lnTo>
                        <a:pt x="313" y="340"/>
                      </a:lnTo>
                      <a:lnTo>
                        <a:pt x="297" y="317"/>
                      </a:lnTo>
                      <a:lnTo>
                        <a:pt x="280" y="294"/>
                      </a:lnTo>
                      <a:lnTo>
                        <a:pt x="265" y="272"/>
                      </a:lnTo>
                      <a:lnTo>
                        <a:pt x="245" y="251"/>
                      </a:lnTo>
                      <a:lnTo>
                        <a:pt x="227" y="229"/>
                      </a:lnTo>
                      <a:lnTo>
                        <a:pt x="210" y="211"/>
                      </a:lnTo>
                      <a:lnTo>
                        <a:pt x="190" y="195"/>
                      </a:lnTo>
                      <a:lnTo>
                        <a:pt x="173" y="181"/>
                      </a:lnTo>
                      <a:lnTo>
                        <a:pt x="155" y="172"/>
                      </a:lnTo>
                      <a:lnTo>
                        <a:pt x="179" y="0"/>
                      </a:lnTo>
                      <a:lnTo>
                        <a:pt x="167" y="26"/>
                      </a:lnTo>
                      <a:lnTo>
                        <a:pt x="155" y="47"/>
                      </a:lnTo>
                      <a:lnTo>
                        <a:pt x="144" y="72"/>
                      </a:lnTo>
                      <a:lnTo>
                        <a:pt x="132" y="90"/>
                      </a:lnTo>
                      <a:lnTo>
                        <a:pt x="122" y="107"/>
                      </a:lnTo>
                      <a:lnTo>
                        <a:pt x="112" y="122"/>
                      </a:lnTo>
                      <a:lnTo>
                        <a:pt x="101" y="137"/>
                      </a:lnTo>
                      <a:lnTo>
                        <a:pt x="90" y="150"/>
                      </a:lnTo>
                      <a:lnTo>
                        <a:pt x="77" y="167"/>
                      </a:lnTo>
                      <a:lnTo>
                        <a:pt x="62" y="183"/>
                      </a:lnTo>
                      <a:lnTo>
                        <a:pt x="46" y="201"/>
                      </a:lnTo>
                      <a:lnTo>
                        <a:pt x="31" y="215"/>
                      </a:lnTo>
                      <a:lnTo>
                        <a:pt x="14" y="231"/>
                      </a:lnTo>
                      <a:lnTo>
                        <a:pt x="0" y="243"/>
                      </a:lnTo>
                      <a:lnTo>
                        <a:pt x="4" y="256"/>
                      </a:lnTo>
                      <a:lnTo>
                        <a:pt x="12" y="269"/>
                      </a:lnTo>
                      <a:lnTo>
                        <a:pt x="19" y="284"/>
                      </a:lnTo>
                      <a:lnTo>
                        <a:pt x="27" y="301"/>
                      </a:lnTo>
                      <a:lnTo>
                        <a:pt x="35" y="319"/>
                      </a:lnTo>
                      <a:lnTo>
                        <a:pt x="41" y="334"/>
                      </a:lnTo>
                      <a:lnTo>
                        <a:pt x="46" y="349"/>
                      </a:lnTo>
                      <a:lnTo>
                        <a:pt x="52" y="367"/>
                      </a:lnTo>
                      <a:lnTo>
                        <a:pt x="55" y="385"/>
                      </a:lnTo>
                      <a:lnTo>
                        <a:pt x="62" y="403"/>
                      </a:lnTo>
                      <a:lnTo>
                        <a:pt x="66" y="421"/>
                      </a:lnTo>
                      <a:lnTo>
                        <a:pt x="71" y="438"/>
                      </a:lnTo>
                      <a:lnTo>
                        <a:pt x="74" y="456"/>
                      </a:lnTo>
                      <a:lnTo>
                        <a:pt x="79" y="473"/>
                      </a:lnTo>
                      <a:lnTo>
                        <a:pt x="82" y="489"/>
                      </a:lnTo>
                      <a:lnTo>
                        <a:pt x="87" y="509"/>
                      </a:lnTo>
                      <a:lnTo>
                        <a:pt x="90" y="536"/>
                      </a:lnTo>
                      <a:lnTo>
                        <a:pt x="125" y="357"/>
                      </a:lnTo>
                      <a:lnTo>
                        <a:pt x="151" y="368"/>
                      </a:lnTo>
                      <a:lnTo>
                        <a:pt x="170" y="382"/>
                      </a:lnTo>
                      <a:lnTo>
                        <a:pt x="206" y="408"/>
                      </a:lnTo>
                      <a:lnTo>
                        <a:pt x="222" y="423"/>
                      </a:lnTo>
                      <a:lnTo>
                        <a:pt x="240" y="438"/>
                      </a:lnTo>
                      <a:lnTo>
                        <a:pt x="259" y="458"/>
                      </a:lnTo>
                      <a:lnTo>
                        <a:pt x="283" y="481"/>
                      </a:lnTo>
                      <a:lnTo>
                        <a:pt x="299" y="502"/>
                      </a:lnTo>
                      <a:lnTo>
                        <a:pt x="321" y="532"/>
                      </a:lnTo>
                      <a:lnTo>
                        <a:pt x="335" y="557"/>
                      </a:lnTo>
                      <a:lnTo>
                        <a:pt x="350" y="582"/>
                      </a:lnTo>
                      <a:lnTo>
                        <a:pt x="361" y="602"/>
                      </a:lnTo>
                      <a:lnTo>
                        <a:pt x="367" y="617"/>
                      </a:lnTo>
                      <a:lnTo>
                        <a:pt x="377" y="643"/>
                      </a:lnTo>
                      <a:lnTo>
                        <a:pt x="385" y="666"/>
                      </a:lnTo>
                      <a:lnTo>
                        <a:pt x="394" y="693"/>
                      </a:lnTo>
                      <a:lnTo>
                        <a:pt x="401" y="731"/>
                      </a:lnTo>
                      <a:lnTo>
                        <a:pt x="405" y="759"/>
                      </a:lnTo>
                      <a:lnTo>
                        <a:pt x="407" y="814"/>
                      </a:lnTo>
                      <a:lnTo>
                        <a:pt x="442" y="81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7107120" y="3056040"/>
                  <a:ext cx="728640" cy="1288800"/>
                </a:xfrm>
                <a:custGeom>
                  <a:avLst/>
                  <a:gdLst/>
                  <a:ahLst/>
                  <a:rect l="l" t="t" r="r" b="b"/>
                  <a:pathLst>
                    <a:path w="459" h="812">
                      <a:moveTo>
                        <a:pt x="454" y="811"/>
                      </a:moveTo>
                      <a:lnTo>
                        <a:pt x="458" y="766"/>
                      </a:lnTo>
                      <a:lnTo>
                        <a:pt x="458" y="744"/>
                      </a:lnTo>
                      <a:lnTo>
                        <a:pt x="458" y="718"/>
                      </a:lnTo>
                      <a:lnTo>
                        <a:pt x="456" y="692"/>
                      </a:lnTo>
                      <a:lnTo>
                        <a:pt x="454" y="668"/>
                      </a:lnTo>
                      <a:lnTo>
                        <a:pt x="451" y="642"/>
                      </a:lnTo>
                      <a:lnTo>
                        <a:pt x="446" y="621"/>
                      </a:lnTo>
                      <a:lnTo>
                        <a:pt x="442" y="596"/>
                      </a:lnTo>
                      <a:lnTo>
                        <a:pt x="434" y="566"/>
                      </a:lnTo>
                      <a:lnTo>
                        <a:pt x="423" y="540"/>
                      </a:lnTo>
                      <a:lnTo>
                        <a:pt x="415" y="515"/>
                      </a:lnTo>
                      <a:lnTo>
                        <a:pt x="403" y="487"/>
                      </a:lnTo>
                      <a:lnTo>
                        <a:pt x="389" y="460"/>
                      </a:lnTo>
                      <a:lnTo>
                        <a:pt x="376" y="432"/>
                      </a:lnTo>
                      <a:lnTo>
                        <a:pt x="362" y="411"/>
                      </a:lnTo>
                      <a:lnTo>
                        <a:pt x="349" y="384"/>
                      </a:lnTo>
                      <a:lnTo>
                        <a:pt x="337" y="365"/>
                      </a:lnTo>
                      <a:lnTo>
                        <a:pt x="322" y="341"/>
                      </a:lnTo>
                      <a:lnTo>
                        <a:pt x="306" y="317"/>
                      </a:lnTo>
                      <a:lnTo>
                        <a:pt x="287" y="294"/>
                      </a:lnTo>
                      <a:lnTo>
                        <a:pt x="273" y="272"/>
                      </a:lnTo>
                      <a:lnTo>
                        <a:pt x="252" y="251"/>
                      </a:lnTo>
                      <a:lnTo>
                        <a:pt x="235" y="229"/>
                      </a:lnTo>
                      <a:lnTo>
                        <a:pt x="216" y="211"/>
                      </a:lnTo>
                      <a:lnTo>
                        <a:pt x="195" y="194"/>
                      </a:lnTo>
                      <a:lnTo>
                        <a:pt x="179" y="181"/>
                      </a:lnTo>
                      <a:lnTo>
                        <a:pt x="160" y="171"/>
                      </a:lnTo>
                      <a:lnTo>
                        <a:pt x="184" y="0"/>
                      </a:lnTo>
                      <a:lnTo>
                        <a:pt x="171" y="26"/>
                      </a:lnTo>
                      <a:lnTo>
                        <a:pt x="160" y="47"/>
                      </a:lnTo>
                      <a:lnTo>
                        <a:pt x="147" y="72"/>
                      </a:lnTo>
                      <a:lnTo>
                        <a:pt x="136" y="92"/>
                      </a:lnTo>
                      <a:lnTo>
                        <a:pt x="125" y="107"/>
                      </a:lnTo>
                      <a:lnTo>
                        <a:pt x="117" y="122"/>
                      </a:lnTo>
                      <a:lnTo>
                        <a:pt x="104" y="137"/>
                      </a:lnTo>
                      <a:lnTo>
                        <a:pt x="93" y="151"/>
                      </a:lnTo>
                      <a:lnTo>
                        <a:pt x="81" y="166"/>
                      </a:lnTo>
                      <a:lnTo>
                        <a:pt x="65" y="183"/>
                      </a:lnTo>
                      <a:lnTo>
                        <a:pt x="49" y="201"/>
                      </a:lnTo>
                      <a:lnTo>
                        <a:pt x="33" y="214"/>
                      </a:lnTo>
                      <a:lnTo>
                        <a:pt x="15" y="231"/>
                      </a:lnTo>
                      <a:lnTo>
                        <a:pt x="0" y="244"/>
                      </a:lnTo>
                      <a:lnTo>
                        <a:pt x="4" y="257"/>
                      </a:lnTo>
                      <a:lnTo>
                        <a:pt x="14" y="270"/>
                      </a:lnTo>
                      <a:lnTo>
                        <a:pt x="20" y="284"/>
                      </a:lnTo>
                      <a:lnTo>
                        <a:pt x="28" y="300"/>
                      </a:lnTo>
                      <a:lnTo>
                        <a:pt x="36" y="318"/>
                      </a:lnTo>
                      <a:lnTo>
                        <a:pt x="42" y="333"/>
                      </a:lnTo>
                      <a:lnTo>
                        <a:pt x="47" y="350"/>
                      </a:lnTo>
                      <a:lnTo>
                        <a:pt x="54" y="366"/>
                      </a:lnTo>
                      <a:lnTo>
                        <a:pt x="58" y="384"/>
                      </a:lnTo>
                      <a:lnTo>
                        <a:pt x="65" y="404"/>
                      </a:lnTo>
                      <a:lnTo>
                        <a:pt x="69" y="421"/>
                      </a:lnTo>
                      <a:lnTo>
                        <a:pt x="74" y="437"/>
                      </a:lnTo>
                      <a:lnTo>
                        <a:pt x="77" y="455"/>
                      </a:lnTo>
                      <a:lnTo>
                        <a:pt x="82" y="474"/>
                      </a:lnTo>
                      <a:lnTo>
                        <a:pt x="85" y="488"/>
                      </a:lnTo>
                      <a:lnTo>
                        <a:pt x="90" y="508"/>
                      </a:lnTo>
                      <a:lnTo>
                        <a:pt x="93" y="533"/>
                      </a:lnTo>
                      <a:lnTo>
                        <a:pt x="128" y="356"/>
                      </a:lnTo>
                      <a:lnTo>
                        <a:pt x="155" y="369"/>
                      </a:lnTo>
                      <a:lnTo>
                        <a:pt x="174" y="383"/>
                      </a:lnTo>
                      <a:lnTo>
                        <a:pt x="211" y="407"/>
                      </a:lnTo>
                      <a:lnTo>
                        <a:pt x="230" y="422"/>
                      </a:lnTo>
                      <a:lnTo>
                        <a:pt x="246" y="437"/>
                      </a:lnTo>
                      <a:lnTo>
                        <a:pt x="275" y="464"/>
                      </a:lnTo>
                      <a:lnTo>
                        <a:pt x="291" y="480"/>
                      </a:lnTo>
                      <a:lnTo>
                        <a:pt x="311" y="500"/>
                      </a:lnTo>
                      <a:lnTo>
                        <a:pt x="327" y="518"/>
                      </a:lnTo>
                      <a:lnTo>
                        <a:pt x="340" y="531"/>
                      </a:lnTo>
                      <a:lnTo>
                        <a:pt x="353" y="546"/>
                      </a:lnTo>
                      <a:lnTo>
                        <a:pt x="365" y="564"/>
                      </a:lnTo>
                      <a:lnTo>
                        <a:pt x="380" y="584"/>
                      </a:lnTo>
                      <a:lnTo>
                        <a:pt x="389" y="602"/>
                      </a:lnTo>
                      <a:lnTo>
                        <a:pt x="402" y="622"/>
                      </a:lnTo>
                      <a:lnTo>
                        <a:pt x="411" y="645"/>
                      </a:lnTo>
                      <a:lnTo>
                        <a:pt x="419" y="668"/>
                      </a:lnTo>
                      <a:lnTo>
                        <a:pt x="426" y="692"/>
                      </a:lnTo>
                      <a:lnTo>
                        <a:pt x="434" y="716"/>
                      </a:lnTo>
                      <a:lnTo>
                        <a:pt x="440" y="741"/>
                      </a:lnTo>
                      <a:lnTo>
                        <a:pt x="445" y="769"/>
                      </a:lnTo>
                      <a:lnTo>
                        <a:pt x="454" y="811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F35E-E254-4C34-BD41-1353E115025E}" type="slidenum">
              <a:t>14</a:t>
            </a:fld>
          </a:p>
        </p:txBody>
      </p:sp>
    </p:spTree>
  </p:cSld>
  <p:transition advTm="31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5: Modelo de Partición Mod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cada mod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eat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Automó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e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 Cole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0" name=""/>
          <p:cNvGraphicFramePr/>
          <p:nvPr/>
        </p:nvGraphicFramePr>
        <p:xfrm>
          <a:off x="5246640" y="2502000"/>
          <a:ext cx="369432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6640" y="2502000"/>
                    <a:ext cx="3694320" cy="3671640"/>
                  </a:xfrm>
                  <a:prstGeom prst="rect">
                    <a:avLst/>
                  </a:prstGeom>
                  <a:ln w="507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209-C998-4AAD-A1AC-FBD8CDD5BB2A}" type="slidenum">
              <a:t>15</a:t>
            </a:fld>
          </a:p>
        </p:txBody>
      </p:sp>
    </p:spTree>
  </p:cSld>
  <p:transition advTm="31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6: Modelo de Asignación a Ruta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cuáles calles se realizan los viaj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les son las vías más congestionadas y en consecuencia en las que se generan más contamin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5105520" y="2438280"/>
            <a:ext cx="4037040" cy="2449800"/>
            <a:chOff x="5105520" y="2438280"/>
            <a:chExt cx="4037040" cy="2449800"/>
          </a:xfrm>
        </p:grpSpPr>
        <p:sp>
          <p:nvSpPr>
            <p:cNvPr id="1227" name=""/>
            <p:cNvSpPr/>
            <p:nvPr/>
          </p:nvSpPr>
          <p:spPr>
            <a:xfrm>
              <a:off x="6681960" y="3597120"/>
              <a:ext cx="1747800" cy="108432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0"/>
                  </a:moveTo>
                  <a:lnTo>
                    <a:pt x="46" y="0"/>
                  </a:lnTo>
                  <a:lnTo>
                    <a:pt x="86" y="1"/>
                  </a:lnTo>
                  <a:lnTo>
                    <a:pt x="129" y="4"/>
                  </a:lnTo>
                  <a:lnTo>
                    <a:pt x="172" y="6"/>
                  </a:lnTo>
                  <a:lnTo>
                    <a:pt x="220" y="11"/>
                  </a:lnTo>
                  <a:lnTo>
                    <a:pt x="266" y="18"/>
                  </a:lnTo>
                  <a:lnTo>
                    <a:pt x="307" y="23"/>
                  </a:lnTo>
                  <a:lnTo>
                    <a:pt x="353" y="30"/>
                  </a:lnTo>
                  <a:lnTo>
                    <a:pt x="394" y="38"/>
                  </a:lnTo>
                  <a:lnTo>
                    <a:pt x="432" y="45"/>
                  </a:lnTo>
                  <a:lnTo>
                    <a:pt x="476" y="55"/>
                  </a:lnTo>
                  <a:lnTo>
                    <a:pt x="528" y="70"/>
                  </a:lnTo>
                  <a:lnTo>
                    <a:pt x="574" y="83"/>
                  </a:lnTo>
                  <a:lnTo>
                    <a:pt x="625" y="101"/>
                  </a:lnTo>
                  <a:lnTo>
                    <a:pt x="678" y="121"/>
                  </a:lnTo>
                  <a:lnTo>
                    <a:pt x="727" y="141"/>
                  </a:lnTo>
                  <a:lnTo>
                    <a:pt x="766" y="161"/>
                  </a:lnTo>
                  <a:lnTo>
                    <a:pt x="815" y="187"/>
                  </a:lnTo>
                  <a:lnTo>
                    <a:pt x="856" y="212"/>
                  </a:lnTo>
                  <a:lnTo>
                    <a:pt x="892" y="234"/>
                  </a:lnTo>
                  <a:lnTo>
                    <a:pt x="922" y="260"/>
                  </a:lnTo>
                  <a:lnTo>
                    <a:pt x="951" y="283"/>
                  </a:lnTo>
                  <a:lnTo>
                    <a:pt x="974" y="305"/>
                  </a:lnTo>
                  <a:lnTo>
                    <a:pt x="994" y="325"/>
                  </a:lnTo>
                  <a:lnTo>
                    <a:pt x="1015" y="351"/>
                  </a:lnTo>
                  <a:lnTo>
                    <a:pt x="1036" y="376"/>
                  </a:lnTo>
                  <a:lnTo>
                    <a:pt x="1053" y="402"/>
                  </a:lnTo>
                  <a:lnTo>
                    <a:pt x="1076" y="449"/>
                  </a:lnTo>
                  <a:lnTo>
                    <a:pt x="1091" y="490"/>
                  </a:lnTo>
                  <a:lnTo>
                    <a:pt x="1094" y="508"/>
                  </a:lnTo>
                  <a:lnTo>
                    <a:pt x="1100" y="542"/>
                  </a:lnTo>
                  <a:lnTo>
                    <a:pt x="1100" y="571"/>
                  </a:lnTo>
                  <a:lnTo>
                    <a:pt x="1100" y="682"/>
                  </a:lnTo>
                  <a:lnTo>
                    <a:pt x="1055" y="628"/>
                  </a:lnTo>
                  <a:lnTo>
                    <a:pt x="835" y="384"/>
                  </a:lnTo>
                  <a:lnTo>
                    <a:pt x="517" y="254"/>
                  </a:lnTo>
                  <a:lnTo>
                    <a:pt x="188" y="187"/>
                  </a:lnTo>
                  <a:lnTo>
                    <a:pt x="0" y="171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983360" y="4452840"/>
              <a:ext cx="59544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981920" y="4675320"/>
              <a:ext cx="595440" cy="212760"/>
            </a:xfrm>
            <a:custGeom>
              <a:avLst/>
              <a:gdLst/>
              <a:ahLst/>
              <a:rect l="l" t="t" r="r" b="b"/>
              <a:pathLst>
                <a:path w="375" h="134">
                  <a:moveTo>
                    <a:pt x="0" y="0"/>
                  </a:moveTo>
                  <a:lnTo>
                    <a:pt x="374" y="0"/>
                  </a:lnTo>
                  <a:lnTo>
                    <a:pt x="187" y="133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681960" y="3843360"/>
              <a:ext cx="1746000" cy="833400"/>
            </a:xfrm>
            <a:custGeom>
              <a:avLst/>
              <a:gdLst/>
              <a:ahLst/>
              <a:rect l="l" t="t" r="r" b="b"/>
              <a:pathLst>
                <a:path w="1100" h="525">
                  <a:moveTo>
                    <a:pt x="0" y="83"/>
                  </a:moveTo>
                  <a:lnTo>
                    <a:pt x="29" y="83"/>
                  </a:lnTo>
                  <a:lnTo>
                    <a:pt x="66" y="83"/>
                  </a:lnTo>
                  <a:lnTo>
                    <a:pt x="95" y="84"/>
                  </a:lnTo>
                  <a:lnTo>
                    <a:pt x="124" y="86"/>
                  </a:lnTo>
                  <a:lnTo>
                    <a:pt x="157" y="88"/>
                  </a:lnTo>
                  <a:lnTo>
                    <a:pt x="187" y="91"/>
                  </a:lnTo>
                  <a:lnTo>
                    <a:pt x="221" y="94"/>
                  </a:lnTo>
                  <a:lnTo>
                    <a:pt x="248" y="98"/>
                  </a:lnTo>
                  <a:lnTo>
                    <a:pt x="283" y="103"/>
                  </a:lnTo>
                  <a:lnTo>
                    <a:pt x="316" y="108"/>
                  </a:lnTo>
                  <a:lnTo>
                    <a:pt x="352" y="115"/>
                  </a:lnTo>
                  <a:lnTo>
                    <a:pt x="382" y="121"/>
                  </a:lnTo>
                  <a:lnTo>
                    <a:pt x="410" y="127"/>
                  </a:lnTo>
                  <a:lnTo>
                    <a:pt x="442" y="134"/>
                  </a:lnTo>
                  <a:lnTo>
                    <a:pt x="488" y="147"/>
                  </a:lnTo>
                  <a:lnTo>
                    <a:pt x="530" y="160"/>
                  </a:lnTo>
                  <a:lnTo>
                    <a:pt x="580" y="178"/>
                  </a:lnTo>
                  <a:lnTo>
                    <a:pt x="613" y="192"/>
                  </a:lnTo>
                  <a:lnTo>
                    <a:pt x="634" y="201"/>
                  </a:lnTo>
                  <a:lnTo>
                    <a:pt x="675" y="220"/>
                  </a:lnTo>
                  <a:lnTo>
                    <a:pt x="714" y="241"/>
                  </a:lnTo>
                  <a:lnTo>
                    <a:pt x="743" y="258"/>
                  </a:lnTo>
                  <a:lnTo>
                    <a:pt x="765" y="272"/>
                  </a:lnTo>
                  <a:lnTo>
                    <a:pt x="788" y="290"/>
                  </a:lnTo>
                  <a:lnTo>
                    <a:pt x="809" y="307"/>
                  </a:lnTo>
                  <a:lnTo>
                    <a:pt x="826" y="322"/>
                  </a:lnTo>
                  <a:lnTo>
                    <a:pt x="845" y="342"/>
                  </a:lnTo>
                  <a:lnTo>
                    <a:pt x="862" y="360"/>
                  </a:lnTo>
                  <a:lnTo>
                    <a:pt x="876" y="379"/>
                  </a:lnTo>
                  <a:lnTo>
                    <a:pt x="889" y="396"/>
                  </a:lnTo>
                  <a:lnTo>
                    <a:pt x="899" y="413"/>
                  </a:lnTo>
                  <a:lnTo>
                    <a:pt x="906" y="428"/>
                  </a:lnTo>
                  <a:lnTo>
                    <a:pt x="913" y="445"/>
                  </a:lnTo>
                  <a:lnTo>
                    <a:pt x="918" y="460"/>
                  </a:lnTo>
                  <a:lnTo>
                    <a:pt x="922" y="473"/>
                  </a:lnTo>
                  <a:lnTo>
                    <a:pt x="926" y="491"/>
                  </a:lnTo>
                  <a:lnTo>
                    <a:pt x="927" y="508"/>
                  </a:lnTo>
                  <a:lnTo>
                    <a:pt x="928" y="524"/>
                  </a:lnTo>
                  <a:lnTo>
                    <a:pt x="1099" y="524"/>
                  </a:lnTo>
                  <a:lnTo>
                    <a:pt x="1098" y="497"/>
                  </a:lnTo>
                  <a:lnTo>
                    <a:pt x="1095" y="474"/>
                  </a:lnTo>
                  <a:lnTo>
                    <a:pt x="1090" y="455"/>
                  </a:lnTo>
                  <a:lnTo>
                    <a:pt x="1085" y="439"/>
                  </a:lnTo>
                  <a:lnTo>
                    <a:pt x="1079" y="422"/>
                  </a:lnTo>
                  <a:lnTo>
                    <a:pt x="1070" y="404"/>
                  </a:lnTo>
                  <a:lnTo>
                    <a:pt x="1062" y="389"/>
                  </a:lnTo>
                  <a:lnTo>
                    <a:pt x="1049" y="369"/>
                  </a:lnTo>
                  <a:lnTo>
                    <a:pt x="1037" y="351"/>
                  </a:lnTo>
                  <a:lnTo>
                    <a:pt x="1024" y="334"/>
                  </a:lnTo>
                  <a:lnTo>
                    <a:pt x="1008" y="316"/>
                  </a:lnTo>
                  <a:lnTo>
                    <a:pt x="995" y="301"/>
                  </a:lnTo>
                  <a:lnTo>
                    <a:pt x="972" y="280"/>
                  </a:lnTo>
                  <a:lnTo>
                    <a:pt x="951" y="261"/>
                  </a:lnTo>
                  <a:lnTo>
                    <a:pt x="918" y="236"/>
                  </a:lnTo>
                  <a:lnTo>
                    <a:pt x="886" y="215"/>
                  </a:lnTo>
                  <a:lnTo>
                    <a:pt x="853" y="194"/>
                  </a:lnTo>
                  <a:lnTo>
                    <a:pt x="823" y="178"/>
                  </a:lnTo>
                  <a:lnTo>
                    <a:pt x="782" y="156"/>
                  </a:lnTo>
                  <a:lnTo>
                    <a:pt x="734" y="134"/>
                  </a:lnTo>
                  <a:lnTo>
                    <a:pt x="687" y="116"/>
                  </a:lnTo>
                  <a:lnTo>
                    <a:pt x="643" y="101"/>
                  </a:lnTo>
                  <a:lnTo>
                    <a:pt x="614" y="91"/>
                  </a:lnTo>
                  <a:lnTo>
                    <a:pt x="577" y="79"/>
                  </a:lnTo>
                  <a:lnTo>
                    <a:pt x="551" y="71"/>
                  </a:lnTo>
                  <a:lnTo>
                    <a:pt x="521" y="64"/>
                  </a:lnTo>
                  <a:lnTo>
                    <a:pt x="490" y="56"/>
                  </a:lnTo>
                  <a:lnTo>
                    <a:pt x="460" y="50"/>
                  </a:lnTo>
                  <a:lnTo>
                    <a:pt x="421" y="41"/>
                  </a:lnTo>
                  <a:lnTo>
                    <a:pt x="386" y="35"/>
                  </a:lnTo>
                  <a:lnTo>
                    <a:pt x="349" y="29"/>
                  </a:lnTo>
                  <a:lnTo>
                    <a:pt x="305" y="22"/>
                  </a:lnTo>
                  <a:lnTo>
                    <a:pt x="261" y="16"/>
                  </a:lnTo>
                  <a:lnTo>
                    <a:pt x="225" y="12"/>
                  </a:lnTo>
                  <a:lnTo>
                    <a:pt x="184" y="8"/>
                  </a:lnTo>
                  <a:lnTo>
                    <a:pt x="141" y="6"/>
                  </a:lnTo>
                  <a:lnTo>
                    <a:pt x="82" y="2"/>
                  </a:lnTo>
                  <a:lnTo>
                    <a:pt x="29" y="1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681960" y="2776680"/>
              <a:ext cx="1747800" cy="108396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682"/>
                  </a:moveTo>
                  <a:lnTo>
                    <a:pt x="46" y="682"/>
                  </a:lnTo>
                  <a:lnTo>
                    <a:pt x="85" y="680"/>
                  </a:lnTo>
                  <a:lnTo>
                    <a:pt x="128" y="677"/>
                  </a:lnTo>
                  <a:lnTo>
                    <a:pt x="172" y="675"/>
                  </a:lnTo>
                  <a:lnTo>
                    <a:pt x="220" y="670"/>
                  </a:lnTo>
                  <a:lnTo>
                    <a:pt x="265" y="664"/>
                  </a:lnTo>
                  <a:lnTo>
                    <a:pt x="306" y="659"/>
                  </a:lnTo>
                  <a:lnTo>
                    <a:pt x="352" y="651"/>
                  </a:lnTo>
                  <a:lnTo>
                    <a:pt x="393" y="644"/>
                  </a:lnTo>
                  <a:lnTo>
                    <a:pt x="431" y="636"/>
                  </a:lnTo>
                  <a:lnTo>
                    <a:pt x="475" y="626"/>
                  </a:lnTo>
                  <a:lnTo>
                    <a:pt x="528" y="611"/>
                  </a:lnTo>
                  <a:lnTo>
                    <a:pt x="574" y="598"/>
                  </a:lnTo>
                  <a:lnTo>
                    <a:pt x="625" y="581"/>
                  </a:lnTo>
                  <a:lnTo>
                    <a:pt x="677" y="560"/>
                  </a:lnTo>
                  <a:lnTo>
                    <a:pt x="726" y="540"/>
                  </a:lnTo>
                  <a:lnTo>
                    <a:pt x="766" y="520"/>
                  </a:lnTo>
                  <a:lnTo>
                    <a:pt x="815" y="495"/>
                  </a:lnTo>
                  <a:lnTo>
                    <a:pt x="855" y="469"/>
                  </a:lnTo>
                  <a:lnTo>
                    <a:pt x="891" y="447"/>
                  </a:lnTo>
                  <a:lnTo>
                    <a:pt x="921" y="422"/>
                  </a:lnTo>
                  <a:lnTo>
                    <a:pt x="951" y="399"/>
                  </a:lnTo>
                  <a:lnTo>
                    <a:pt x="974" y="376"/>
                  </a:lnTo>
                  <a:lnTo>
                    <a:pt x="993" y="356"/>
                  </a:lnTo>
                  <a:lnTo>
                    <a:pt x="1015" y="330"/>
                  </a:lnTo>
                  <a:lnTo>
                    <a:pt x="1036" y="305"/>
                  </a:lnTo>
                  <a:lnTo>
                    <a:pt x="1052" y="280"/>
                  </a:lnTo>
                  <a:lnTo>
                    <a:pt x="1075" y="232"/>
                  </a:lnTo>
                  <a:lnTo>
                    <a:pt x="1090" y="191"/>
                  </a:lnTo>
                  <a:lnTo>
                    <a:pt x="1093" y="174"/>
                  </a:lnTo>
                  <a:lnTo>
                    <a:pt x="1100" y="139"/>
                  </a:lnTo>
                  <a:lnTo>
                    <a:pt x="1100" y="111"/>
                  </a:lnTo>
                  <a:lnTo>
                    <a:pt x="1100" y="0"/>
                  </a:lnTo>
                  <a:lnTo>
                    <a:pt x="1054" y="53"/>
                  </a:lnTo>
                  <a:lnTo>
                    <a:pt x="834" y="298"/>
                  </a:lnTo>
                  <a:lnTo>
                    <a:pt x="516" y="427"/>
                  </a:lnTo>
                  <a:lnTo>
                    <a:pt x="187" y="495"/>
                  </a:lnTo>
                  <a:lnTo>
                    <a:pt x="0" y="510"/>
                  </a:lnTo>
                  <a:lnTo>
                    <a:pt x="0" y="682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83360" y="2779560"/>
              <a:ext cx="59400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981920" y="2568600"/>
              <a:ext cx="593640" cy="212760"/>
            </a:xfrm>
            <a:custGeom>
              <a:avLst/>
              <a:gdLst/>
              <a:ahLst/>
              <a:rect l="l" t="t" r="r" b="b"/>
              <a:pathLst>
                <a:path w="374" h="134">
                  <a:moveTo>
                    <a:pt x="0" y="133"/>
                  </a:moveTo>
                  <a:lnTo>
                    <a:pt x="373" y="133"/>
                  </a:lnTo>
                  <a:lnTo>
                    <a:pt x="186" y="0"/>
                  </a:lnTo>
                  <a:lnTo>
                    <a:pt x="0" y="13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681960" y="2779560"/>
              <a:ext cx="1746000" cy="835200"/>
            </a:xfrm>
            <a:custGeom>
              <a:avLst/>
              <a:gdLst/>
              <a:ahLst/>
              <a:rect l="l" t="t" r="r" b="b"/>
              <a:pathLst>
                <a:path w="1100" h="526">
                  <a:moveTo>
                    <a:pt x="0" y="443"/>
                  </a:moveTo>
                  <a:lnTo>
                    <a:pt x="29" y="442"/>
                  </a:lnTo>
                  <a:lnTo>
                    <a:pt x="65" y="441"/>
                  </a:lnTo>
                  <a:lnTo>
                    <a:pt x="94" y="440"/>
                  </a:lnTo>
                  <a:lnTo>
                    <a:pt x="124" y="438"/>
                  </a:lnTo>
                  <a:lnTo>
                    <a:pt x="157" y="436"/>
                  </a:lnTo>
                  <a:lnTo>
                    <a:pt x="186" y="433"/>
                  </a:lnTo>
                  <a:lnTo>
                    <a:pt x="220" y="430"/>
                  </a:lnTo>
                  <a:lnTo>
                    <a:pt x="248" y="427"/>
                  </a:lnTo>
                  <a:lnTo>
                    <a:pt x="282" y="421"/>
                  </a:lnTo>
                  <a:lnTo>
                    <a:pt x="316" y="416"/>
                  </a:lnTo>
                  <a:lnTo>
                    <a:pt x="352" y="410"/>
                  </a:lnTo>
                  <a:lnTo>
                    <a:pt x="382" y="403"/>
                  </a:lnTo>
                  <a:lnTo>
                    <a:pt x="409" y="397"/>
                  </a:lnTo>
                  <a:lnTo>
                    <a:pt x="441" y="390"/>
                  </a:lnTo>
                  <a:lnTo>
                    <a:pt x="487" y="378"/>
                  </a:lnTo>
                  <a:lnTo>
                    <a:pt x="529" y="364"/>
                  </a:lnTo>
                  <a:lnTo>
                    <a:pt x="579" y="346"/>
                  </a:lnTo>
                  <a:lnTo>
                    <a:pt x="613" y="333"/>
                  </a:lnTo>
                  <a:lnTo>
                    <a:pt x="634" y="323"/>
                  </a:lnTo>
                  <a:lnTo>
                    <a:pt x="675" y="304"/>
                  </a:lnTo>
                  <a:lnTo>
                    <a:pt x="714" y="283"/>
                  </a:lnTo>
                  <a:lnTo>
                    <a:pt x="742" y="266"/>
                  </a:lnTo>
                  <a:lnTo>
                    <a:pt x="764" y="252"/>
                  </a:lnTo>
                  <a:lnTo>
                    <a:pt x="788" y="234"/>
                  </a:lnTo>
                  <a:lnTo>
                    <a:pt x="808" y="217"/>
                  </a:lnTo>
                  <a:lnTo>
                    <a:pt x="825" y="202"/>
                  </a:lnTo>
                  <a:lnTo>
                    <a:pt x="844" y="182"/>
                  </a:lnTo>
                  <a:lnTo>
                    <a:pt x="862" y="164"/>
                  </a:lnTo>
                  <a:lnTo>
                    <a:pt x="876" y="145"/>
                  </a:lnTo>
                  <a:lnTo>
                    <a:pt x="888" y="128"/>
                  </a:lnTo>
                  <a:lnTo>
                    <a:pt x="898" y="112"/>
                  </a:lnTo>
                  <a:lnTo>
                    <a:pt x="906" y="96"/>
                  </a:lnTo>
                  <a:lnTo>
                    <a:pt x="912" y="80"/>
                  </a:lnTo>
                  <a:lnTo>
                    <a:pt x="918" y="64"/>
                  </a:lnTo>
                  <a:lnTo>
                    <a:pt x="921" y="51"/>
                  </a:lnTo>
                  <a:lnTo>
                    <a:pt x="925" y="33"/>
                  </a:lnTo>
                  <a:lnTo>
                    <a:pt x="927" y="17"/>
                  </a:lnTo>
                  <a:lnTo>
                    <a:pt x="927" y="0"/>
                  </a:lnTo>
                  <a:lnTo>
                    <a:pt x="1099" y="0"/>
                  </a:lnTo>
                  <a:lnTo>
                    <a:pt x="1097" y="27"/>
                  </a:lnTo>
                  <a:lnTo>
                    <a:pt x="1094" y="50"/>
                  </a:lnTo>
                  <a:lnTo>
                    <a:pt x="1089" y="70"/>
                  </a:lnTo>
                  <a:lnTo>
                    <a:pt x="1084" y="85"/>
                  </a:lnTo>
                  <a:lnTo>
                    <a:pt x="1078" y="102"/>
                  </a:lnTo>
                  <a:lnTo>
                    <a:pt x="1069" y="121"/>
                  </a:lnTo>
                  <a:lnTo>
                    <a:pt x="1061" y="135"/>
                  </a:lnTo>
                  <a:lnTo>
                    <a:pt x="1049" y="155"/>
                  </a:lnTo>
                  <a:lnTo>
                    <a:pt x="1036" y="173"/>
                  </a:lnTo>
                  <a:lnTo>
                    <a:pt x="1023" y="191"/>
                  </a:lnTo>
                  <a:lnTo>
                    <a:pt x="1008" y="209"/>
                  </a:lnTo>
                  <a:lnTo>
                    <a:pt x="994" y="223"/>
                  </a:lnTo>
                  <a:lnTo>
                    <a:pt x="972" y="244"/>
                  </a:lnTo>
                  <a:lnTo>
                    <a:pt x="950" y="264"/>
                  </a:lnTo>
                  <a:lnTo>
                    <a:pt x="917" y="288"/>
                  </a:lnTo>
                  <a:lnTo>
                    <a:pt x="885" y="310"/>
                  </a:lnTo>
                  <a:lnTo>
                    <a:pt x="852" y="330"/>
                  </a:lnTo>
                  <a:lnTo>
                    <a:pt x="823" y="347"/>
                  </a:lnTo>
                  <a:lnTo>
                    <a:pt x="782" y="368"/>
                  </a:lnTo>
                  <a:lnTo>
                    <a:pt x="734" y="390"/>
                  </a:lnTo>
                  <a:lnTo>
                    <a:pt x="686" y="408"/>
                  </a:lnTo>
                  <a:lnTo>
                    <a:pt x="643" y="423"/>
                  </a:lnTo>
                  <a:lnTo>
                    <a:pt x="614" y="433"/>
                  </a:lnTo>
                  <a:lnTo>
                    <a:pt x="577" y="445"/>
                  </a:lnTo>
                  <a:lnTo>
                    <a:pt x="550" y="453"/>
                  </a:lnTo>
                  <a:lnTo>
                    <a:pt x="520" y="460"/>
                  </a:lnTo>
                  <a:lnTo>
                    <a:pt x="489" y="468"/>
                  </a:lnTo>
                  <a:lnTo>
                    <a:pt x="460" y="475"/>
                  </a:lnTo>
                  <a:lnTo>
                    <a:pt x="421" y="483"/>
                  </a:lnTo>
                  <a:lnTo>
                    <a:pt x="386" y="489"/>
                  </a:lnTo>
                  <a:lnTo>
                    <a:pt x="349" y="496"/>
                  </a:lnTo>
                  <a:lnTo>
                    <a:pt x="305" y="502"/>
                  </a:lnTo>
                  <a:lnTo>
                    <a:pt x="260" y="508"/>
                  </a:lnTo>
                  <a:lnTo>
                    <a:pt x="224" y="512"/>
                  </a:lnTo>
                  <a:lnTo>
                    <a:pt x="184" y="516"/>
                  </a:lnTo>
                  <a:lnTo>
                    <a:pt x="140" y="519"/>
                  </a:lnTo>
                  <a:lnTo>
                    <a:pt x="82" y="522"/>
                  </a:lnTo>
                  <a:lnTo>
                    <a:pt x="29" y="523"/>
                  </a:lnTo>
                  <a:lnTo>
                    <a:pt x="0" y="525"/>
                  </a:lnTo>
                  <a:lnTo>
                    <a:pt x="0" y="44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35" name=""/>
            <p:cNvGrpSpPr/>
            <p:nvPr/>
          </p:nvGrpSpPr>
          <p:grpSpPr>
            <a:xfrm>
              <a:off x="6683400" y="3247920"/>
              <a:ext cx="2459160" cy="963720"/>
              <a:chOff x="6683400" y="3247920"/>
              <a:chExt cx="2459160" cy="963720"/>
            </a:xfrm>
          </p:grpSpPr>
          <p:sp>
            <p:nvSpPr>
              <p:cNvPr id="1236" name=""/>
              <p:cNvSpPr/>
              <p:nvPr/>
            </p:nvSpPr>
            <p:spPr>
              <a:xfrm>
                <a:off x="8809200" y="3247920"/>
                <a:ext cx="83880" cy="963720"/>
              </a:xfrm>
              <a:custGeom>
                <a:avLst/>
                <a:gdLst/>
                <a:ahLst/>
                <a:rect l="l" t="t" r="r" b="b"/>
                <a:pathLst>
                  <a:path w="53" h="607">
                    <a:moveTo>
                      <a:pt x="52" y="0"/>
                    </a:moveTo>
                    <a:lnTo>
                      <a:pt x="52" y="606"/>
                    </a:lnTo>
                    <a:lnTo>
                      <a:pt x="0" y="444"/>
                    </a:lnTo>
                    <a:lnTo>
                      <a:pt x="0" y="16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683400" y="3247920"/>
                <a:ext cx="2459160" cy="963720"/>
              </a:xfrm>
              <a:custGeom>
                <a:avLst/>
                <a:gdLst/>
                <a:ahLst/>
                <a:rect l="l" t="t" r="r" b="b"/>
                <a:pathLst>
                  <a:path w="1549" h="607">
                    <a:moveTo>
                      <a:pt x="1391" y="201"/>
                    </a:moveTo>
                    <a:lnTo>
                      <a:pt x="1391" y="0"/>
                    </a:lnTo>
                    <a:lnTo>
                      <a:pt x="1548" y="323"/>
                    </a:lnTo>
                    <a:lnTo>
                      <a:pt x="1391" y="606"/>
                    </a:lnTo>
                    <a:lnTo>
                      <a:pt x="1391" y="404"/>
                    </a:lnTo>
                    <a:lnTo>
                      <a:pt x="0" y="404"/>
                    </a:lnTo>
                    <a:lnTo>
                      <a:pt x="0" y="201"/>
                    </a:lnTo>
                    <a:lnTo>
                      <a:pt x="1391" y="20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38" name=""/>
            <p:cNvGraphicFramePr/>
            <p:nvPr/>
          </p:nvGraphicFramePr>
          <p:xfrm>
            <a:off x="5105520" y="3403440"/>
            <a:ext cx="1447560" cy="55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3403440"/>
                      <a:ext cx="144756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0" name=""/>
            <p:cNvGraphicFramePr/>
            <p:nvPr/>
          </p:nvGraphicFramePr>
          <p:xfrm>
            <a:off x="6553080" y="2438280"/>
            <a:ext cx="53352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438280"/>
                      <a:ext cx="5335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8CCD-5425-443C-9442-FCEBB43B2B5C}" type="slidenum">
              <a:t>16</a:t>
            </a:fld>
          </a:p>
        </p:txBody>
      </p:sp>
    </p:spTree>
  </p:cSld>
  <p:transition advTm="31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6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ACCESO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Qué es 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Hábleme clar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0DCD-4ED6-4EBF-B4A5-780EA9EF6327}" type="slidenum">
              <a:t>17</a:t>
            </a:fld>
          </a:p>
        </p:txBody>
      </p:sp>
    </p:spTree>
  </p:cSld>
  <p:transition spd="med" advTm="16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2 Interacción vía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tributo importante de las decisiones de localización, luego afecta al desarrollo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l sistema de transporte es percibido en una noción sintética conocida como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visitar una actividad leja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bién existe la noción de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ser visit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n un viaje ocurren ambos efectos: acc,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pendiendo del tipo de actividad se enfatiza acc o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61680" y="837000"/>
            <a:ext cx="601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Martínez, F.J., 1995. Access: the transport-land use link,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ransp. Res. 29,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6, 457-4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9943-DD2E-49C4-9E62-5B50D972C9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3 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157040" y="1371600"/>
            <a:ext cx="779148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de ser visitado (ej. comercio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ff66"/>
                </a:solidFill>
                <a:latin typeface="Times New Roman"/>
              </a:rPr>
              <a:t>Medida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se obtienen de la definición del excedente del consumidor.En la práctica se obtienen de parámetros de los modelos de distrubución de viajes: factores de balance, niveles de ut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6D49-C4CD-47D9-BAFF-6F8BEF2718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2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765-98C3-432F-87CC-FB20E77EFF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1352160" y="503280"/>
            <a:ext cx="5624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676520" y="287964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411880" y="3962520"/>
            <a:ext cx="322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tividad económ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ocial, cutural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249560" y="5105520"/>
            <a:ext cx="76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Accesibilida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Cada viaje tiene un potecial beneficio en el destino </a:t>
            </a: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visitado</a:t>
            </a: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pero también un costo para obtener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1352160" y="503280"/>
            <a:ext cx="5354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tractiv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080040" y="2895480"/>
            <a:ext cx="1997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601280" y="403848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s: poder de comp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egocios, afecto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281600" y="5181480"/>
            <a:ext cx="793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Atractividad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Cada viaje transmite un potencial beneficio al destino </a:t>
            </a: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visitado</a:t>
            </a: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pero también hay un costo para obtener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1354320" y="503280"/>
            <a:ext cx="6194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147080" y="166068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602000" y="403848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021360" y="411480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127880" y="556164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isten beneficios en ambos extremos del viaj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9A7C-7898-42A9-B48F-C0C0EADDAE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157040" y="1829880"/>
            <a:ext cx="7791480" cy="44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ACCESIBILIDAD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ATRACTIVIDAD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de ser visitado (ej. comercio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Times New Roman"/>
              </a:rPr>
              <a:t>Relación entre uso del suelo y transport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individuo realiza muchas actividades que requieren interacción: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viaje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be decidir cuales actividades realizar en su tiempo y recursos: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ropósi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ónde realizarlas: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desti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En cada actividad obtiene un beneficio y paga un co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EBEE-8F0A-4120-AA49-F7A3A6B8EE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362320" y="251136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6066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9500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736640" y="226692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156360" y="226692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362320" y="258768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26040" y="3127320"/>
            <a:ext cx="735120" cy="74952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172200" y="32734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102360" y="4270320"/>
            <a:ext cx="735120" cy="749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308640" y="440064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172200" y="533088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48520" y="548316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362320" y="2664000"/>
            <a:ext cx="3733560" cy="1904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286000" y="273996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98040" y="1978200"/>
            <a:ext cx="121824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5640000">
            <a:off x="5370840" y="4285440"/>
            <a:ext cx="308520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316640" y="2945160"/>
            <a:ext cx="1148040" cy="13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4740000">
            <a:off x="7473960" y="416736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8096040" y="4056120"/>
            <a:ext cx="1049400" cy="559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42400" y="6060960"/>
            <a:ext cx="39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ESPA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2362320" y="251136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6066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9500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736640" y="226692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156360" y="226692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362320" y="258768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026040" y="3127320"/>
            <a:ext cx="735120" cy="74952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172200" y="32734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02360" y="4270320"/>
            <a:ext cx="735120" cy="749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308640" y="440064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172200" y="533088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248520" y="548316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362320" y="2664000"/>
            <a:ext cx="3733560" cy="1904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286000" y="273996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098040" y="1978200"/>
            <a:ext cx="121824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5640000">
            <a:off x="5370840" y="4285440"/>
            <a:ext cx="308520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316640" y="2945160"/>
            <a:ext cx="1148040" cy="13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rot="4740000">
            <a:off x="7473960" y="416736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084880" y="4056120"/>
            <a:ext cx="924480" cy="559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39520" y="606096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PROPÓ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718080" y="2057400"/>
            <a:ext cx="853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trabaj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327560" y="2743200"/>
            <a:ext cx="853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estu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029200" y="3733920"/>
            <a:ext cx="1066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029200" y="4800600"/>
            <a:ext cx="99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156360" y="181296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336840" y="188928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232680" y="280368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41452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m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308640" y="3946680"/>
            <a:ext cx="39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178680" y="4883040"/>
            <a:ext cx="734760" cy="7495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384960" y="5013360"/>
            <a:ext cx="39672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174560" y="310824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327200" y="37180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098040" y="1523880"/>
            <a:ext cx="121824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rot="5640000">
            <a:off x="5370480" y="3831120"/>
            <a:ext cx="308592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316640" y="2490480"/>
            <a:ext cx="1148040" cy="132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rot="4740000">
            <a:off x="7473960" y="371340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073720" y="3602160"/>
            <a:ext cx="99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351080" y="533520"/>
            <a:ext cx="642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744200" y="6060960"/>
            <a:ext cx="48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UNIDAD 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1350360" y="503280"/>
            <a:ext cx="7142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TRACTIVIDAD...para una activ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019920" y="181296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66840" y="4479840"/>
            <a:ext cx="2681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048120" y="1066680"/>
            <a:ext cx="175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172200" y="281952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308640" y="39466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172200" y="487692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248520" y="502920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617120" y="2895480"/>
            <a:ext cx="90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tt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F40-8AA3-4FB5-ABB8-3187B04273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/>
          <p:nvPr/>
        </p:nvSpPr>
        <p:spPr>
          <a:xfrm>
            <a:off x="1353240" y="503280"/>
            <a:ext cx="4074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O....V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447920" y="2166840"/>
            <a:ext cx="7010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acceso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= (acc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,att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692000" y="4115520"/>
            <a:ext cx="58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Cada localización tiene asocia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un vector de acces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CA9-1EA7-4365-B201-760235F6E61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0D1C-1C4F-4E76-9206-EAF8014DE4EC}" type="slidenum">
              <a:t>3</a:t>
            </a:fld>
          </a:p>
        </p:txBody>
      </p:sp>
    </p:spTree>
  </p:cSld>
  <p:transition spd="med" advTm="18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0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Palabras...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Cómo puedo medir esto del acc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1AE-5723-416D-A11A-AAD6FEFA081C}" type="slidenum">
              <a:t>30</a:t>
            </a:fld>
          </a:p>
        </p:txBody>
      </p:sp>
    </p:spTree>
  </p:cSld>
  <p:transition spd="med" advTm="16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04B2F51-0495-42B3-B877-3FFD84A29A05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br>
              <a:rPr sz="4800"/>
            </a:b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Martínez (TR, 1995)</a:t>
            </a: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1916280" y="4132440"/>
                <a:ext cx="417960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sub>
                      <m: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7" name=""/>
          <p:cNvSpPr/>
          <p:nvPr/>
        </p:nvSpPr>
        <p:spPr>
          <a:xfrm>
            <a:off x="4343400" y="1600200"/>
            <a:ext cx="1676520" cy="609480"/>
          </a:xfrm>
          <a:prstGeom prst="wedgeRectCallout">
            <a:avLst>
              <a:gd name="adj1" fmla="val -160416"/>
              <a:gd name="adj2" fmla="val 119532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225520" y="2514600"/>
            <a:ext cx="0" cy="99072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225520" y="3505320"/>
            <a:ext cx="167652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225520" y="2819520"/>
            <a:ext cx="4572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225520" y="3200400"/>
            <a:ext cx="1143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760040" y="25146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775880" y="30481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736080" y="354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648320" y="2590920"/>
            <a:ext cx="1676160" cy="609480"/>
          </a:xfrm>
          <a:prstGeom prst="wedgeRectCallout">
            <a:avLst>
              <a:gd name="adj1" fmla="val -172916"/>
              <a:gd name="adj2" fmla="val 19532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Exced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438280" y="259092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0"/>
                </a:moveTo>
                <a:cubicBezTo>
                  <a:pt x="56" y="68"/>
                  <a:pt x="112" y="136"/>
                  <a:pt x="192" y="192"/>
                </a:cubicBezTo>
                <a:cubicBezTo>
                  <a:pt x="272" y="248"/>
                  <a:pt x="368" y="296"/>
                  <a:pt x="480" y="336"/>
                </a:cubicBezTo>
                <a:cubicBezTo>
                  <a:pt x="592" y="376"/>
                  <a:pt x="800" y="416"/>
                  <a:pt x="864" y="432"/>
                </a:cubicBezTo>
              </a:path>
            </a:pathLst>
          </a:custGeom>
          <a:noFill/>
          <a:ln w="3816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134080" y="5759640"/>
            <a:ext cx="55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02097"/>
                </a:solidFill>
                <a:latin typeface="Times New Roman"/>
              </a:rPr>
              <a:t>Observación : Demanda depende sól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02097"/>
                </a:solidFill>
                <a:latin typeface="Times New Roman"/>
              </a:rPr>
              <a:t>costos de transporte (bienes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18D3AA9-8870-4825-8344-D2655BD98031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112400" y="30456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Acceso transporte pasajeros</a:t>
            </a:r>
            <a:br>
              <a:rPr sz="4800"/>
            </a:b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emanda depende de beneficios menos cost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1397160" y="3743280"/>
                <a:ext cx="713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413" name=""/>
          <p:cNvGrpSpPr/>
          <p:nvPr/>
        </p:nvGrpSpPr>
        <p:grpSpPr>
          <a:xfrm>
            <a:off x="1072800" y="1905120"/>
            <a:ext cx="3063600" cy="1678680"/>
            <a:chOff x="1072800" y="1905120"/>
            <a:chExt cx="3063600" cy="1678680"/>
          </a:xfrm>
        </p:grpSpPr>
        <p:sp>
          <p:nvSpPr>
            <p:cNvPr id="1414" name=""/>
            <p:cNvSpPr/>
            <p:nvPr/>
          </p:nvSpPr>
          <p:spPr>
            <a:xfrm>
              <a:off x="2225520" y="2093760"/>
              <a:ext cx="0" cy="99036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225520" y="3084480"/>
              <a:ext cx="1676520" cy="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225520" y="2398680"/>
              <a:ext cx="457200" cy="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25520" y="2779560"/>
              <a:ext cx="1143000" cy="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072800" y="190512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cc0000"/>
                  </a:solidFill>
                  <a:latin typeface="Arial"/>
                </a:rPr>
                <a:t>(a,p,c)</a:t>
              </a:r>
              <a:r>
                <a:rPr b="1" lang="es-CL" sz="1800" spc="-1" strike="noStrike" baseline="30000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072800" y="255096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cc0000"/>
                  </a:solidFill>
                  <a:latin typeface="Arial"/>
                </a:rPr>
                <a:t>(a,p,c)</a:t>
              </a:r>
              <a:r>
                <a:rPr b="1" lang="es-CL" sz="1800" spc="-1" strike="noStrike" baseline="30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736080" y="3124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438280" y="2170080"/>
              <a:ext cx="1371600" cy="685440"/>
            </a:xfrm>
            <a:custGeom>
              <a:avLst/>
              <a:gdLst/>
              <a:ahLst/>
              <a:rect l="l" t="t" r="r" b="b"/>
              <a:pathLst>
                <a:path w="864" h="432">
                  <a:moveTo>
                    <a:pt x="0" y="0"/>
                  </a:moveTo>
                  <a:cubicBezTo>
                    <a:pt x="56" y="68"/>
                    <a:pt x="112" y="136"/>
                    <a:pt x="192" y="192"/>
                  </a:cubicBezTo>
                  <a:cubicBezTo>
                    <a:pt x="272" y="248"/>
                    <a:pt x="368" y="296"/>
                    <a:pt x="480" y="336"/>
                  </a:cubicBezTo>
                  <a:cubicBezTo>
                    <a:pt x="592" y="376"/>
                    <a:pt x="800" y="416"/>
                    <a:pt x="864" y="432"/>
                  </a:cubicBezTo>
                </a:path>
              </a:pathLst>
            </a:custGeom>
            <a:noFill/>
            <a:ln w="38160">
              <a:solidFill>
                <a:srgbClr val="ff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2514600" y="1397160"/>
            <a:ext cx="609588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4000680" y="2133720"/>
                <a:ext cx="490356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t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t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3332160" y="5105520"/>
                <a:ext cx="319392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25" name=""/>
          <p:cNvSpPr/>
          <p:nvPr/>
        </p:nvSpPr>
        <p:spPr>
          <a:xfrm>
            <a:off x="1069920" y="510444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Observ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B06450-9137-4180-BDA8-8CF3394A5A4F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Ejemplo: Demanda transporte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 modelo distribución entrópico doblemente acotado (corto plaz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523880" y="15238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2514600" y="2209680"/>
                <a:ext cx="556272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1523880" y="4495680"/>
                <a:ext cx="3429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5410080" y="4572000"/>
                <a:ext cx="3353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4" name=""/>
          <p:cNvSpPr/>
          <p:nvPr/>
        </p:nvSpPr>
        <p:spPr>
          <a:xfrm>
            <a:off x="685800" y="5715000"/>
            <a:ext cx="1752480" cy="762120"/>
          </a:xfrm>
          <a:prstGeom prst="wedgeRectCallout">
            <a:avLst>
              <a:gd name="adj1" fmla="val 6342"/>
              <a:gd name="adj2" fmla="val -144791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Facto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de balan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4495680" y="579132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7010280" y="5791320"/>
                <a:ext cx="1905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3200400" y="556272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imes New Roman"/>
              </a:rPr>
              <a:t>No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3124080" y="3276720"/>
                <a:ext cx="3733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76AC98-E019-4A78-B2BE-D50EB9E7B330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 desagregado por cluster</a:t>
            </a:r>
            <a:br>
              <a:rPr sz="4400"/>
            </a:b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rto plazo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1752480" y="3124080"/>
                <a:ext cx="67550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2133720" y="4800600"/>
                <a:ext cx="4203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5" name=""/>
              <p:cNvSpPr txBox="1"/>
              <p:nvPr/>
            </p:nvSpPr>
            <p:spPr>
              <a:xfrm>
                <a:off x="2057400" y="5562720"/>
                <a:ext cx="4246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6" name=""/>
          <p:cNvSpPr/>
          <p:nvPr/>
        </p:nvSpPr>
        <p:spPr>
          <a:xfrm>
            <a:off x="1283400" y="1895400"/>
            <a:ext cx="45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lusters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tipo de usu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modo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Bookman Old Style"/>
              </a:rPr>
              <a:t>Beneficos de corto y largo plazo</a:t>
            </a:r>
            <a:br>
              <a:rPr sz="4400"/>
            </a:br>
            <a:br>
              <a:rPr sz="44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Martínez, F. y Araya, C. (2000).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Note on Trip Benefits in Spatial Interaction Models. </a:t>
            </a:r>
            <a:r>
              <a:rPr b="1" lang="es-CL" sz="3600" spc="-1" strike="noStrike">
                <a:solidFill>
                  <a:srgbClr val="ffffff"/>
                </a:solidFill>
                <a:latin typeface="Bookman Old Style"/>
              </a:rPr>
              <a:t>Journal of Regional Science 40(4)</a:t>
            </a: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, 789-796. </a:t>
            </a:r>
            <a:br>
              <a:rPr sz="3600"/>
            </a:b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7F6-D77B-4446-B415-9D3B57493B1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554C47-5949-4029-ABCB-DE1D143FB934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: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rto plazo</a:t>
            </a:r>
            <a:br>
              <a:rPr sz="40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676520" y="2362320"/>
                <a:ext cx="649584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828800" y="3809880"/>
                <a:ext cx="51944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4" name=""/>
          <p:cNvSpPr/>
          <p:nvPr/>
        </p:nvSpPr>
        <p:spPr>
          <a:xfrm>
            <a:off x="1812960" y="579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2209680" y="5562720"/>
                <a:ext cx="56134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α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FA77DF-37EC-4A40-95AD-9A1B208D36E7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 por viaje</a:t>
            </a:r>
            <a:br>
              <a:rPr sz="40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797120" y="4022640"/>
                <a:ext cx="62704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  <m:r>
                                  <m:t xml:space="preserve">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u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814400" y="2209680"/>
                <a:ext cx="277812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but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2" name=""/>
          <p:cNvSpPr/>
          <p:nvPr/>
        </p:nvSpPr>
        <p:spPr>
          <a:xfrm>
            <a:off x="4760640" y="2437200"/>
            <a:ext cx="40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Beneficio (absoluto) por vi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484640" y="586620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TAREA: Estudiar beneficios de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501920" y="53330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Times New Roman"/>
              </a:rPr>
              <a:t>Pseudo-Regla del me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6387462-A557-4A13-9E44-4602D76E6059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ccesibilidad: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beneficio de visitar 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1498680" y="3500280"/>
                <a:ext cx="6443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1533600" y="5780160"/>
                <a:ext cx="63961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2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tractividad: beneficio de ser visi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343400" y="2514600"/>
            <a:ext cx="2057400" cy="533520"/>
          </a:xfrm>
          <a:prstGeom prst="wedgeRectCallout">
            <a:avLst>
              <a:gd name="adj1" fmla="val -8180"/>
              <a:gd name="adj2" fmla="val 13898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trac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858000" y="2514600"/>
            <a:ext cx="1752480" cy="457200"/>
          </a:xfrm>
          <a:prstGeom prst="wedgeRectCallout">
            <a:avLst>
              <a:gd name="adj1" fmla="val -45560"/>
              <a:gd name="adj2" fmla="val 178125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143000" y="2438280"/>
            <a:ext cx="2057400" cy="533520"/>
          </a:xfrm>
          <a:prstGeom prst="wedgeRectCallout">
            <a:avLst>
              <a:gd name="adj1" fmla="val -4708"/>
              <a:gd name="adj2" fmla="val 16518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419720" y="5105520"/>
            <a:ext cx="2057400" cy="533160"/>
          </a:xfrm>
          <a:prstGeom prst="wedgeRectCallout">
            <a:avLst>
              <a:gd name="adj1" fmla="val -14736"/>
              <a:gd name="adj2" fmla="val 8512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ccesibil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934320" y="5181480"/>
            <a:ext cx="1752480" cy="457200"/>
          </a:xfrm>
          <a:prstGeom prst="wedgeRectCallout">
            <a:avLst>
              <a:gd name="adj1" fmla="val -54259"/>
              <a:gd name="adj2" fmla="val 9097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9320" y="5257800"/>
            <a:ext cx="2057400" cy="380880"/>
          </a:xfrm>
          <a:prstGeom prst="wedgeRectCallout">
            <a:avLst>
              <a:gd name="adj1" fmla="val -23532"/>
              <a:gd name="adj2" fmla="val 13416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D6E3C90-4125-4388-8319-BFC170985C51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Beneficio asociado al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2271600" y="3505320"/>
                <a:ext cx="48420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85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343400" y="2438280"/>
            <a:ext cx="2057400" cy="838440"/>
          </a:xfrm>
          <a:prstGeom prst="wedgeRectCallout">
            <a:avLst>
              <a:gd name="adj1" fmla="val -36111"/>
              <a:gd name="adj2" fmla="val 8996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</a:t>
            </a:r>
            <a:r>
              <a:rPr b="1" lang="es-ES" sz="1600" spc="-1" strike="noStrike">
                <a:solidFill>
                  <a:srgbClr val="cc0000"/>
                </a:solidFill>
                <a:latin typeface="Times New Roman"/>
              </a:rPr>
              <a:t>absoluto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de beneficio ne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600200" y="2438280"/>
            <a:ext cx="2057400" cy="533520"/>
          </a:xfrm>
          <a:prstGeom prst="wedgeRectCallout">
            <a:avLst>
              <a:gd name="adj1" fmla="val -12884"/>
              <a:gd name="adj2" fmla="val 17887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por vi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4100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Veamos cómo se las arregla con la interacción entre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A16-D276-4BF7-B527-CFC5EC37892B}" type="slidenum">
              <a:t>4</a:t>
            </a:fld>
          </a:p>
        </p:txBody>
      </p:sp>
    </p:spTree>
  </p:cSld>
  <p:transition spd="med" advTm="16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489A1CA-88DD-471C-8550-3AA79ED0665E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164040" y="624852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3429000" y="2178000"/>
                <a:ext cx="2362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609480" y="3809880"/>
                <a:ext cx="853452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95" name=""/>
          <p:cNvGrpSpPr/>
          <p:nvPr/>
        </p:nvGrpSpPr>
        <p:grpSpPr>
          <a:xfrm>
            <a:off x="8381880" y="1905120"/>
            <a:ext cx="507600" cy="2029680"/>
            <a:chOff x="8381880" y="1905120"/>
            <a:chExt cx="507600" cy="2029680"/>
          </a:xfrm>
        </p:grpSpPr>
        <p:grpSp>
          <p:nvGrpSpPr>
            <p:cNvPr id="1496" name=""/>
            <p:cNvGrpSpPr/>
            <p:nvPr/>
          </p:nvGrpSpPr>
          <p:grpSpPr>
            <a:xfrm>
              <a:off x="8538840" y="1905120"/>
              <a:ext cx="277920" cy="357480"/>
              <a:chOff x="8538840" y="1905120"/>
              <a:chExt cx="277920" cy="357480"/>
            </a:xfrm>
          </p:grpSpPr>
          <p:sp>
            <p:nvSpPr>
              <p:cNvPr id="1497" name=""/>
              <p:cNvSpPr/>
              <p:nvPr/>
            </p:nvSpPr>
            <p:spPr>
              <a:xfrm>
                <a:off x="8623080" y="20437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8747280" y="20314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8717040" y="19242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626680" y="19051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538840" y="19688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8381880" y="2026080"/>
              <a:ext cx="507600" cy="1908720"/>
              <a:chOff x="8381880" y="2026080"/>
              <a:chExt cx="507600" cy="1908720"/>
            </a:xfrm>
          </p:grpSpPr>
          <p:sp>
            <p:nvSpPr>
              <p:cNvPr id="1503" name=""/>
              <p:cNvSpPr/>
              <p:nvPr/>
            </p:nvSpPr>
            <p:spPr>
              <a:xfrm>
                <a:off x="8542800" y="23414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8387640" y="20260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8683560" y="27104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8529840" y="26899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8632800" y="31374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8381880" y="31374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9" name=""/>
          <p:cNvSpPr/>
          <p:nvPr/>
        </p:nvSpPr>
        <p:spPr>
          <a:xfrm>
            <a:off x="1341360" y="914400"/>
            <a:ext cx="5815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EXCEDENTE MARSHALIANO DEL CONSUMID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199160" y="1447920"/>
            <a:ext cx="7712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Demanda : Modelo de distribución entrópico doblemente acot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103760" y="5713920"/>
            <a:ext cx="76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TAREA: Estudiar derivación de beneficios de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6F53161-E11B-43C9-B07E-95D81306B989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164040" y="508320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175040" y="1368360"/>
            <a:ext cx="408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3366"/>
                </a:solidFill>
                <a:latin typeface="Arial"/>
              </a:rPr>
              <a:t>Bajo mismo supuesto de William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1496880" y="2057400"/>
                <a:ext cx="58737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049400" y="3733920"/>
                <a:ext cx="80946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verge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5403960" y="1295280"/>
                <a:ext cx="2749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22" name=""/>
          <p:cNvGrpSpPr/>
          <p:nvPr/>
        </p:nvGrpSpPr>
        <p:grpSpPr>
          <a:xfrm>
            <a:off x="112680" y="3313080"/>
            <a:ext cx="838080" cy="3362040"/>
            <a:chOff x="112680" y="3313080"/>
            <a:chExt cx="838080" cy="3362040"/>
          </a:xfrm>
        </p:grpSpPr>
        <p:sp>
          <p:nvSpPr>
            <p:cNvPr id="1523" name=""/>
            <p:cNvSpPr/>
            <p:nvPr/>
          </p:nvSpPr>
          <p:spPr>
            <a:xfrm>
              <a:off x="380160" y="3313080"/>
              <a:ext cx="248040" cy="700560"/>
            </a:xfrm>
            <a:custGeom>
              <a:avLst/>
              <a:gdLst/>
              <a:ahLst/>
              <a:rect l="l" t="t" r="r" b="b"/>
              <a:pathLst>
                <a:path w="215" h="515">
                  <a:moveTo>
                    <a:pt x="106" y="0"/>
                  </a:moveTo>
                  <a:lnTo>
                    <a:pt x="133" y="7"/>
                  </a:lnTo>
                  <a:lnTo>
                    <a:pt x="146" y="46"/>
                  </a:lnTo>
                  <a:lnTo>
                    <a:pt x="152" y="123"/>
                  </a:lnTo>
                  <a:lnTo>
                    <a:pt x="148" y="219"/>
                  </a:lnTo>
                  <a:lnTo>
                    <a:pt x="138" y="277"/>
                  </a:lnTo>
                  <a:lnTo>
                    <a:pt x="126" y="352"/>
                  </a:lnTo>
                  <a:lnTo>
                    <a:pt x="197" y="447"/>
                  </a:lnTo>
                  <a:lnTo>
                    <a:pt x="214" y="481"/>
                  </a:lnTo>
                  <a:lnTo>
                    <a:pt x="204" y="514"/>
                  </a:lnTo>
                  <a:lnTo>
                    <a:pt x="169" y="447"/>
                  </a:lnTo>
                  <a:lnTo>
                    <a:pt x="115" y="399"/>
                  </a:lnTo>
                  <a:lnTo>
                    <a:pt x="90" y="458"/>
                  </a:lnTo>
                  <a:lnTo>
                    <a:pt x="62" y="500"/>
                  </a:lnTo>
                  <a:lnTo>
                    <a:pt x="40" y="504"/>
                  </a:lnTo>
                  <a:lnTo>
                    <a:pt x="18" y="500"/>
                  </a:lnTo>
                  <a:lnTo>
                    <a:pt x="9" y="466"/>
                  </a:lnTo>
                  <a:lnTo>
                    <a:pt x="0" y="388"/>
                  </a:lnTo>
                  <a:lnTo>
                    <a:pt x="0" y="301"/>
                  </a:lnTo>
                  <a:lnTo>
                    <a:pt x="9" y="234"/>
                  </a:lnTo>
                  <a:lnTo>
                    <a:pt x="39" y="127"/>
                  </a:lnTo>
                  <a:lnTo>
                    <a:pt x="72" y="57"/>
                  </a:lnTo>
                  <a:lnTo>
                    <a:pt x="94" y="19"/>
                  </a:lnTo>
                  <a:lnTo>
                    <a:pt x="115" y="7"/>
                  </a:lnTo>
                  <a:lnTo>
                    <a:pt x="10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41720" y="4141440"/>
              <a:ext cx="509040" cy="612360"/>
            </a:xfrm>
            <a:custGeom>
              <a:avLst/>
              <a:gdLst/>
              <a:ahLst/>
              <a:rect l="l" t="t" r="r" b="b"/>
              <a:pathLst>
                <a:path w="441" h="450">
                  <a:moveTo>
                    <a:pt x="4" y="0"/>
                  </a:moveTo>
                  <a:lnTo>
                    <a:pt x="47" y="12"/>
                  </a:lnTo>
                  <a:lnTo>
                    <a:pt x="123" y="91"/>
                  </a:lnTo>
                  <a:lnTo>
                    <a:pt x="187" y="154"/>
                  </a:lnTo>
                  <a:lnTo>
                    <a:pt x="260" y="209"/>
                  </a:lnTo>
                  <a:lnTo>
                    <a:pt x="312" y="266"/>
                  </a:lnTo>
                  <a:lnTo>
                    <a:pt x="384" y="331"/>
                  </a:lnTo>
                  <a:lnTo>
                    <a:pt x="440" y="389"/>
                  </a:lnTo>
                  <a:lnTo>
                    <a:pt x="437" y="412"/>
                  </a:lnTo>
                  <a:lnTo>
                    <a:pt x="421" y="424"/>
                  </a:lnTo>
                  <a:lnTo>
                    <a:pt x="369" y="361"/>
                  </a:lnTo>
                  <a:lnTo>
                    <a:pt x="366" y="401"/>
                  </a:lnTo>
                  <a:lnTo>
                    <a:pt x="353" y="435"/>
                  </a:lnTo>
                  <a:lnTo>
                    <a:pt x="334" y="449"/>
                  </a:lnTo>
                  <a:lnTo>
                    <a:pt x="314" y="420"/>
                  </a:lnTo>
                  <a:lnTo>
                    <a:pt x="298" y="385"/>
                  </a:lnTo>
                  <a:lnTo>
                    <a:pt x="300" y="331"/>
                  </a:lnTo>
                  <a:lnTo>
                    <a:pt x="304" y="303"/>
                  </a:lnTo>
                  <a:lnTo>
                    <a:pt x="255" y="247"/>
                  </a:lnTo>
                  <a:lnTo>
                    <a:pt x="233" y="236"/>
                  </a:lnTo>
                  <a:lnTo>
                    <a:pt x="187" y="212"/>
                  </a:lnTo>
                  <a:lnTo>
                    <a:pt x="127" y="162"/>
                  </a:lnTo>
                  <a:lnTo>
                    <a:pt x="77" y="107"/>
                  </a:lnTo>
                  <a:lnTo>
                    <a:pt x="43" y="82"/>
                  </a:lnTo>
                  <a:lnTo>
                    <a:pt x="4" y="91"/>
                  </a:lnTo>
                  <a:lnTo>
                    <a:pt x="0" y="31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03120" y="4129560"/>
              <a:ext cx="168480" cy="1311480"/>
            </a:xfrm>
            <a:custGeom>
              <a:avLst/>
              <a:gdLst/>
              <a:ahLst/>
              <a:rect l="l" t="t" r="r" b="b"/>
              <a:pathLst>
                <a:path w="146" h="964">
                  <a:moveTo>
                    <a:pt x="84" y="0"/>
                  </a:moveTo>
                  <a:lnTo>
                    <a:pt x="104" y="0"/>
                  </a:lnTo>
                  <a:lnTo>
                    <a:pt x="119" y="20"/>
                  </a:lnTo>
                  <a:lnTo>
                    <a:pt x="138" y="80"/>
                  </a:lnTo>
                  <a:lnTo>
                    <a:pt x="142" y="153"/>
                  </a:lnTo>
                  <a:lnTo>
                    <a:pt x="145" y="338"/>
                  </a:lnTo>
                  <a:lnTo>
                    <a:pt x="142" y="495"/>
                  </a:lnTo>
                  <a:lnTo>
                    <a:pt x="128" y="657"/>
                  </a:lnTo>
                  <a:lnTo>
                    <a:pt x="111" y="820"/>
                  </a:lnTo>
                  <a:lnTo>
                    <a:pt x="90" y="920"/>
                  </a:lnTo>
                  <a:lnTo>
                    <a:pt x="62" y="963"/>
                  </a:lnTo>
                  <a:lnTo>
                    <a:pt x="40" y="963"/>
                  </a:lnTo>
                  <a:lnTo>
                    <a:pt x="14" y="920"/>
                  </a:lnTo>
                  <a:lnTo>
                    <a:pt x="5" y="856"/>
                  </a:lnTo>
                  <a:lnTo>
                    <a:pt x="0" y="743"/>
                  </a:lnTo>
                  <a:lnTo>
                    <a:pt x="5" y="600"/>
                  </a:lnTo>
                  <a:lnTo>
                    <a:pt x="17" y="424"/>
                  </a:lnTo>
                  <a:lnTo>
                    <a:pt x="35" y="209"/>
                  </a:lnTo>
                  <a:lnTo>
                    <a:pt x="58" y="44"/>
                  </a:lnTo>
                  <a:lnTo>
                    <a:pt x="71" y="20"/>
                  </a:lnTo>
                  <a:lnTo>
                    <a:pt x="8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28880" y="4061160"/>
              <a:ext cx="237600" cy="1204200"/>
            </a:xfrm>
            <a:custGeom>
              <a:avLst/>
              <a:gdLst/>
              <a:ahLst/>
              <a:rect l="l" t="t" r="r" b="b"/>
              <a:pathLst>
                <a:path w="206" h="885">
                  <a:moveTo>
                    <a:pt x="157" y="35"/>
                  </a:moveTo>
                  <a:lnTo>
                    <a:pt x="179" y="0"/>
                  </a:lnTo>
                  <a:lnTo>
                    <a:pt x="194" y="0"/>
                  </a:lnTo>
                  <a:lnTo>
                    <a:pt x="205" y="27"/>
                  </a:lnTo>
                  <a:lnTo>
                    <a:pt x="200" y="82"/>
                  </a:lnTo>
                  <a:lnTo>
                    <a:pt x="186" y="117"/>
                  </a:lnTo>
                  <a:lnTo>
                    <a:pt x="161" y="151"/>
                  </a:lnTo>
                  <a:lnTo>
                    <a:pt x="113" y="203"/>
                  </a:lnTo>
                  <a:lnTo>
                    <a:pt x="50" y="294"/>
                  </a:lnTo>
                  <a:lnTo>
                    <a:pt x="26" y="297"/>
                  </a:lnTo>
                  <a:lnTo>
                    <a:pt x="39" y="380"/>
                  </a:lnTo>
                  <a:lnTo>
                    <a:pt x="66" y="470"/>
                  </a:lnTo>
                  <a:lnTo>
                    <a:pt x="88" y="580"/>
                  </a:lnTo>
                  <a:lnTo>
                    <a:pt x="98" y="693"/>
                  </a:lnTo>
                  <a:lnTo>
                    <a:pt x="94" y="730"/>
                  </a:lnTo>
                  <a:lnTo>
                    <a:pt x="79" y="753"/>
                  </a:lnTo>
                  <a:lnTo>
                    <a:pt x="61" y="768"/>
                  </a:lnTo>
                  <a:lnTo>
                    <a:pt x="44" y="803"/>
                  </a:lnTo>
                  <a:lnTo>
                    <a:pt x="36" y="839"/>
                  </a:lnTo>
                  <a:lnTo>
                    <a:pt x="32" y="884"/>
                  </a:lnTo>
                  <a:lnTo>
                    <a:pt x="20" y="884"/>
                  </a:lnTo>
                  <a:lnTo>
                    <a:pt x="14" y="851"/>
                  </a:lnTo>
                  <a:lnTo>
                    <a:pt x="24" y="800"/>
                  </a:lnTo>
                  <a:lnTo>
                    <a:pt x="48" y="765"/>
                  </a:lnTo>
                  <a:lnTo>
                    <a:pt x="64" y="730"/>
                  </a:lnTo>
                  <a:lnTo>
                    <a:pt x="76" y="710"/>
                  </a:lnTo>
                  <a:lnTo>
                    <a:pt x="81" y="674"/>
                  </a:lnTo>
                  <a:lnTo>
                    <a:pt x="76" y="580"/>
                  </a:lnTo>
                  <a:lnTo>
                    <a:pt x="54" y="509"/>
                  </a:lnTo>
                  <a:lnTo>
                    <a:pt x="36" y="446"/>
                  </a:lnTo>
                  <a:lnTo>
                    <a:pt x="14" y="376"/>
                  </a:lnTo>
                  <a:lnTo>
                    <a:pt x="0" y="310"/>
                  </a:lnTo>
                  <a:lnTo>
                    <a:pt x="0" y="270"/>
                  </a:lnTo>
                  <a:lnTo>
                    <a:pt x="13" y="250"/>
                  </a:lnTo>
                  <a:lnTo>
                    <a:pt x="58" y="181"/>
                  </a:lnTo>
                  <a:lnTo>
                    <a:pt x="103" y="117"/>
                  </a:lnTo>
                  <a:lnTo>
                    <a:pt x="147" y="57"/>
                  </a:lnTo>
                  <a:lnTo>
                    <a:pt x="157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4960" y="5324040"/>
              <a:ext cx="159120" cy="1305000"/>
            </a:xfrm>
            <a:custGeom>
              <a:avLst/>
              <a:gdLst/>
              <a:ahLst/>
              <a:rect l="l" t="t" r="r" b="b"/>
              <a:pathLst>
                <a:path w="138" h="959">
                  <a:moveTo>
                    <a:pt x="27" y="110"/>
                  </a:moveTo>
                  <a:lnTo>
                    <a:pt x="9" y="47"/>
                  </a:lnTo>
                  <a:lnTo>
                    <a:pt x="14" y="0"/>
                  </a:lnTo>
                  <a:lnTo>
                    <a:pt x="32" y="0"/>
                  </a:lnTo>
                  <a:lnTo>
                    <a:pt x="53" y="50"/>
                  </a:lnTo>
                  <a:lnTo>
                    <a:pt x="79" y="157"/>
                  </a:lnTo>
                  <a:lnTo>
                    <a:pt x="94" y="260"/>
                  </a:lnTo>
                  <a:lnTo>
                    <a:pt x="107" y="357"/>
                  </a:lnTo>
                  <a:lnTo>
                    <a:pt x="112" y="446"/>
                  </a:lnTo>
                  <a:lnTo>
                    <a:pt x="111" y="495"/>
                  </a:lnTo>
                  <a:lnTo>
                    <a:pt x="97" y="553"/>
                  </a:lnTo>
                  <a:lnTo>
                    <a:pt x="75" y="710"/>
                  </a:lnTo>
                  <a:lnTo>
                    <a:pt x="50" y="800"/>
                  </a:lnTo>
                  <a:lnTo>
                    <a:pt x="43" y="840"/>
                  </a:lnTo>
                  <a:lnTo>
                    <a:pt x="68" y="848"/>
                  </a:lnTo>
                  <a:lnTo>
                    <a:pt x="100" y="848"/>
                  </a:lnTo>
                  <a:lnTo>
                    <a:pt x="137" y="884"/>
                  </a:lnTo>
                  <a:lnTo>
                    <a:pt x="134" y="911"/>
                  </a:lnTo>
                  <a:lnTo>
                    <a:pt x="129" y="942"/>
                  </a:lnTo>
                  <a:lnTo>
                    <a:pt x="116" y="958"/>
                  </a:lnTo>
                  <a:lnTo>
                    <a:pt x="93" y="934"/>
                  </a:lnTo>
                  <a:lnTo>
                    <a:pt x="68" y="900"/>
                  </a:lnTo>
                  <a:lnTo>
                    <a:pt x="32" y="895"/>
                  </a:lnTo>
                  <a:lnTo>
                    <a:pt x="10" y="907"/>
                  </a:lnTo>
                  <a:lnTo>
                    <a:pt x="0" y="887"/>
                  </a:lnTo>
                  <a:lnTo>
                    <a:pt x="0" y="859"/>
                  </a:lnTo>
                  <a:lnTo>
                    <a:pt x="13" y="827"/>
                  </a:lnTo>
                  <a:lnTo>
                    <a:pt x="32" y="777"/>
                  </a:lnTo>
                  <a:lnTo>
                    <a:pt x="65" y="648"/>
                  </a:lnTo>
                  <a:lnTo>
                    <a:pt x="80" y="533"/>
                  </a:lnTo>
                  <a:lnTo>
                    <a:pt x="85" y="424"/>
                  </a:lnTo>
                  <a:lnTo>
                    <a:pt x="85" y="365"/>
                  </a:lnTo>
                  <a:lnTo>
                    <a:pt x="72" y="260"/>
                  </a:lnTo>
                  <a:lnTo>
                    <a:pt x="40" y="145"/>
                  </a:lnTo>
                  <a:lnTo>
                    <a:pt x="18" y="87"/>
                  </a:lnTo>
                  <a:lnTo>
                    <a:pt x="27" y="1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12680" y="5235840"/>
              <a:ext cx="231840" cy="1439280"/>
            </a:xfrm>
            <a:custGeom>
              <a:avLst/>
              <a:gdLst/>
              <a:ahLst/>
              <a:rect l="l" t="t" r="r" b="b"/>
              <a:pathLst>
                <a:path w="201" h="1058">
                  <a:moveTo>
                    <a:pt x="117" y="184"/>
                  </a:moveTo>
                  <a:lnTo>
                    <a:pt x="148" y="82"/>
                  </a:lnTo>
                  <a:lnTo>
                    <a:pt x="174" y="0"/>
                  </a:lnTo>
                  <a:lnTo>
                    <a:pt x="193" y="7"/>
                  </a:lnTo>
                  <a:lnTo>
                    <a:pt x="200" y="44"/>
                  </a:lnTo>
                  <a:lnTo>
                    <a:pt x="200" y="107"/>
                  </a:lnTo>
                  <a:lnTo>
                    <a:pt x="185" y="141"/>
                  </a:lnTo>
                  <a:lnTo>
                    <a:pt x="156" y="187"/>
                  </a:lnTo>
                  <a:lnTo>
                    <a:pt x="134" y="247"/>
                  </a:lnTo>
                  <a:lnTo>
                    <a:pt x="109" y="325"/>
                  </a:lnTo>
                  <a:lnTo>
                    <a:pt x="99" y="384"/>
                  </a:lnTo>
                  <a:lnTo>
                    <a:pt x="87" y="457"/>
                  </a:lnTo>
                  <a:lnTo>
                    <a:pt x="80" y="549"/>
                  </a:lnTo>
                  <a:lnTo>
                    <a:pt x="80" y="637"/>
                  </a:lnTo>
                  <a:lnTo>
                    <a:pt x="87" y="742"/>
                  </a:lnTo>
                  <a:lnTo>
                    <a:pt x="102" y="845"/>
                  </a:lnTo>
                  <a:lnTo>
                    <a:pt x="116" y="903"/>
                  </a:lnTo>
                  <a:lnTo>
                    <a:pt x="126" y="941"/>
                  </a:lnTo>
                  <a:lnTo>
                    <a:pt x="126" y="974"/>
                  </a:lnTo>
                  <a:lnTo>
                    <a:pt x="116" y="985"/>
                  </a:lnTo>
                  <a:lnTo>
                    <a:pt x="95" y="985"/>
                  </a:lnTo>
                  <a:lnTo>
                    <a:pt x="64" y="1001"/>
                  </a:lnTo>
                  <a:lnTo>
                    <a:pt x="39" y="1025"/>
                  </a:lnTo>
                  <a:lnTo>
                    <a:pt x="24" y="1057"/>
                  </a:lnTo>
                  <a:lnTo>
                    <a:pt x="10" y="1045"/>
                  </a:lnTo>
                  <a:lnTo>
                    <a:pt x="0" y="1001"/>
                  </a:lnTo>
                  <a:lnTo>
                    <a:pt x="2" y="965"/>
                  </a:lnTo>
                  <a:lnTo>
                    <a:pt x="28" y="938"/>
                  </a:lnTo>
                  <a:lnTo>
                    <a:pt x="68" y="930"/>
                  </a:lnTo>
                  <a:lnTo>
                    <a:pt x="104" y="930"/>
                  </a:lnTo>
                  <a:lnTo>
                    <a:pt x="90" y="883"/>
                  </a:lnTo>
                  <a:lnTo>
                    <a:pt x="83" y="826"/>
                  </a:lnTo>
                  <a:lnTo>
                    <a:pt x="72" y="742"/>
                  </a:lnTo>
                  <a:lnTo>
                    <a:pt x="61" y="656"/>
                  </a:lnTo>
                  <a:lnTo>
                    <a:pt x="61" y="553"/>
                  </a:lnTo>
                  <a:lnTo>
                    <a:pt x="64" y="457"/>
                  </a:lnTo>
                  <a:lnTo>
                    <a:pt x="76" y="365"/>
                  </a:lnTo>
                  <a:lnTo>
                    <a:pt x="99" y="247"/>
                  </a:lnTo>
                  <a:lnTo>
                    <a:pt x="117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8229600" y="1219320"/>
            <a:ext cx="507600" cy="2029680"/>
            <a:chOff x="8229600" y="1219320"/>
            <a:chExt cx="507600" cy="2029680"/>
          </a:xfrm>
        </p:grpSpPr>
        <p:grpSp>
          <p:nvGrpSpPr>
            <p:cNvPr id="1530" name=""/>
            <p:cNvGrpSpPr/>
            <p:nvPr/>
          </p:nvGrpSpPr>
          <p:grpSpPr>
            <a:xfrm>
              <a:off x="8386560" y="1219320"/>
              <a:ext cx="277920" cy="357480"/>
              <a:chOff x="8386560" y="1219320"/>
              <a:chExt cx="277920" cy="357480"/>
            </a:xfrm>
          </p:grpSpPr>
          <p:sp>
            <p:nvSpPr>
              <p:cNvPr id="1531" name=""/>
              <p:cNvSpPr/>
              <p:nvPr/>
            </p:nvSpPr>
            <p:spPr>
              <a:xfrm>
                <a:off x="8470800" y="13579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8595000" y="13456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564760" y="12384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474400" y="12193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8386560" y="12830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8229600" y="1340280"/>
              <a:ext cx="507600" cy="1908720"/>
              <a:chOff x="8229600" y="1340280"/>
              <a:chExt cx="507600" cy="1908720"/>
            </a:xfrm>
          </p:grpSpPr>
          <p:sp>
            <p:nvSpPr>
              <p:cNvPr id="1537" name=""/>
              <p:cNvSpPr/>
              <p:nvPr/>
            </p:nvSpPr>
            <p:spPr>
              <a:xfrm>
                <a:off x="8390520" y="16556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8235360" y="13402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8531280" y="20246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8377560" y="20041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8480520" y="24516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8229600" y="24516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3" name=""/>
          <p:cNvSpPr/>
          <p:nvPr/>
        </p:nvSpPr>
        <p:spPr>
          <a:xfrm>
            <a:off x="920880" y="4495680"/>
            <a:ext cx="7918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anchor="t">
            <a:spAutoFit/>
          </a:bodyPr>
          <a:p>
            <a:pPr>
              <a:lnSpc>
                <a:spcPct val="100000"/>
              </a:lnSpc>
              <a:buClr>
                <a:srgbClr val="0066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,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  son valores relativos ;  (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 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) son valores absolut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611640" y="5037120"/>
            <a:ext cx="8252280" cy="755640"/>
            <a:chOff x="611640" y="5037120"/>
            <a:chExt cx="8252280" cy="755640"/>
          </a:xfrm>
        </p:grpSpPr>
        <p:sp>
          <p:nvSpPr>
            <p:cNvPr id="1545" name=""/>
            <p:cNvSpPr/>
            <p:nvPr/>
          </p:nvSpPr>
          <p:spPr>
            <a:xfrm>
              <a:off x="611640" y="5045040"/>
              <a:ext cx="305172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66cc"/>
                </a:buClr>
                <a:buFont typeface="Arial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Beneficios localizado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(Williams &amp; Senior, 1978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67040" y="5121360"/>
              <a:ext cx="36032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Origen          Usuarios Transp.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Destino         Renta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755480" y="5121360"/>
              <a:ext cx="11084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Job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Seeker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4765680" y="5635440"/>
              <a:ext cx="442800" cy="324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9" name=""/>
                <p:cNvSpPr txBox="1"/>
                <p:nvPr/>
              </p:nvSpPr>
              <p:spPr>
                <a:xfrm>
                  <a:off x="7377120" y="5037120"/>
                  <a:ext cx="38088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50" name=""/>
            <p:cNvSpPr/>
            <p:nvPr/>
          </p:nvSpPr>
          <p:spPr>
            <a:xfrm>
              <a:off x="4711680" y="5308560"/>
              <a:ext cx="496800" cy="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7C3A74-A4B2-4A86-805C-0E28CBBF1F24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652400" y="255600"/>
            <a:ext cx="5743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3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3700" spc="-1" strike="noStrike">
                <a:solidFill>
                  <a:srgbClr val="003366"/>
                </a:solidFill>
                <a:latin typeface="Arial"/>
              </a:rPr>
              <a:t>Medidas de acc, att y bu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2670120" y="1109520"/>
                <a:ext cx="2511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2716200" y="2678040"/>
                <a:ext cx="24652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2732040" y="4309920"/>
                <a:ext cx="3921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59" name=""/>
          <p:cNvSpPr/>
          <p:nvPr/>
        </p:nvSpPr>
        <p:spPr>
          <a:xfrm>
            <a:off x="459000" y="1436760"/>
            <a:ext cx="174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ibil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43520" y="3070080"/>
            <a:ext cx="159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tractib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795040" y="5421240"/>
            <a:ext cx="42033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r>
              <a:rPr b="1" i="1" lang="es-ES_tradnl" sz="1900" spc="-1" strike="noStrike" baseline="30000">
                <a:solidFill>
                  <a:srgbClr val="0066cc"/>
                </a:solidFill>
                <a:latin typeface="Arial"/>
              </a:rPr>
              <a:t>n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atrón de viajes del individuo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p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k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ropósito del viaje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i, 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: zonas de origen y destin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92040" y="4506840"/>
            <a:ext cx="2197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o agreg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3" name="" descr=""/>
          <p:cNvPicPr/>
          <p:nvPr/>
        </p:nvPicPr>
        <p:blipFill>
          <a:blip r:embed="rId1"/>
          <a:stretch/>
        </p:blipFill>
        <p:spPr>
          <a:xfrm>
            <a:off x="6415200" y="2023920"/>
            <a:ext cx="1633320" cy="1724040"/>
          </a:xfrm>
          <a:prstGeom prst="rect">
            <a:avLst/>
          </a:prstGeom>
          <a:ln w="0">
            <a:noFill/>
          </a:ln>
        </p:spPr>
      </p:pic>
      <p:grpSp>
        <p:nvGrpSpPr>
          <p:cNvPr id="1564" name=""/>
          <p:cNvGrpSpPr/>
          <p:nvPr/>
        </p:nvGrpSpPr>
        <p:grpSpPr>
          <a:xfrm>
            <a:off x="7148520" y="914400"/>
            <a:ext cx="1798200" cy="1338120"/>
            <a:chOff x="7148520" y="914400"/>
            <a:chExt cx="1798200" cy="1338120"/>
          </a:xfrm>
        </p:grpSpPr>
        <p:grpSp>
          <p:nvGrpSpPr>
            <p:cNvPr id="1565" name=""/>
            <p:cNvGrpSpPr/>
            <p:nvPr/>
          </p:nvGrpSpPr>
          <p:grpSpPr>
            <a:xfrm>
              <a:off x="7647480" y="914400"/>
              <a:ext cx="1299240" cy="1338120"/>
              <a:chOff x="7647480" y="914400"/>
              <a:chExt cx="1299240" cy="1338120"/>
            </a:xfrm>
          </p:grpSpPr>
          <p:sp>
            <p:nvSpPr>
              <p:cNvPr id="1566" name=""/>
              <p:cNvSpPr/>
              <p:nvPr/>
            </p:nvSpPr>
            <p:spPr>
              <a:xfrm>
                <a:off x="812520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812520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821000" y="97020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734240" y="164196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647480" y="136188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95132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8690040" y="19213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851616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74" name=""/>
              <p:cNvGrpSpPr/>
              <p:nvPr/>
            </p:nvGrpSpPr>
            <p:grpSpPr>
              <a:xfrm>
                <a:off x="7647480" y="970200"/>
                <a:ext cx="1299240" cy="1282320"/>
                <a:chOff x="7647480" y="970200"/>
                <a:chExt cx="1299240" cy="1282320"/>
              </a:xfrm>
            </p:grpSpPr>
            <p:sp>
              <p:nvSpPr>
                <p:cNvPr id="1575" name=""/>
                <p:cNvSpPr/>
                <p:nvPr/>
              </p:nvSpPr>
              <p:spPr>
                <a:xfrm>
                  <a:off x="7647480" y="10818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6" name=""/>
                <p:cNvGrpSpPr/>
                <p:nvPr/>
              </p:nvGrpSpPr>
              <p:grpSpPr>
                <a:xfrm>
                  <a:off x="7753320" y="1194120"/>
                  <a:ext cx="758880" cy="946440"/>
                  <a:chOff x="7753320" y="1194120"/>
                  <a:chExt cx="758880" cy="946440"/>
                </a:xfrm>
              </p:grpSpPr>
              <p:sp>
                <p:nvSpPr>
                  <p:cNvPr id="1577" name=""/>
                  <p:cNvSpPr/>
                  <p:nvPr/>
                </p:nvSpPr>
                <p:spPr>
                  <a:xfrm>
                    <a:off x="7777440" y="1194120"/>
                    <a:ext cx="734760" cy="946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7753320" y="130500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9" name=""/>
                <p:cNvSpPr/>
                <p:nvPr/>
              </p:nvSpPr>
              <p:spPr>
                <a:xfrm>
                  <a:off x="8038440" y="1306080"/>
                  <a:ext cx="734760" cy="946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8690040" y="147348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8603280" y="1977120"/>
                  <a:ext cx="169920" cy="219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8603280" y="136188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8646840" y="169776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864560" y="9702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8255520" y="10818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8082000" y="9702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951680" y="1585080"/>
                  <a:ext cx="387000" cy="4996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870680" y="1055880"/>
                  <a:ext cx="968040" cy="107208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8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994520" y="1310040"/>
                <a:ext cx="639720" cy="712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0" name=""/>
            <p:cNvSpPr/>
            <p:nvPr/>
          </p:nvSpPr>
          <p:spPr>
            <a:xfrm>
              <a:off x="7148520" y="16984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314840" y="1567440"/>
              <a:ext cx="110880" cy="13068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481160" y="15022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3" name=""/>
          <p:cNvGrpSpPr/>
          <p:nvPr/>
        </p:nvGrpSpPr>
        <p:grpSpPr>
          <a:xfrm>
            <a:off x="5099040" y="979560"/>
            <a:ext cx="1797120" cy="1338120"/>
            <a:chOff x="5099040" y="979560"/>
            <a:chExt cx="1797120" cy="1338120"/>
          </a:xfrm>
        </p:grpSpPr>
        <p:grpSp>
          <p:nvGrpSpPr>
            <p:cNvPr id="1594" name=""/>
            <p:cNvGrpSpPr/>
            <p:nvPr/>
          </p:nvGrpSpPr>
          <p:grpSpPr>
            <a:xfrm>
              <a:off x="5099040" y="979560"/>
              <a:ext cx="1797120" cy="1338120"/>
              <a:chOff x="5099040" y="979560"/>
              <a:chExt cx="1797120" cy="1338120"/>
            </a:xfrm>
          </p:grpSpPr>
          <p:sp>
            <p:nvSpPr>
              <p:cNvPr id="1595" name=""/>
              <p:cNvSpPr/>
              <p:nvPr/>
            </p:nvSpPr>
            <p:spPr>
              <a:xfrm flipH="1">
                <a:off x="570600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H="1">
                <a:off x="57060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6098040" y="1035360"/>
                <a:ext cx="126720" cy="1630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>
                <a:off x="6184440" y="1707840"/>
                <a:ext cx="126720" cy="161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>
                <a:off x="6184440" y="1427400"/>
                <a:ext cx="21312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>
                <a:off x="58806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>
                <a:off x="5142960" y="1986840"/>
                <a:ext cx="212040" cy="274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H="1">
                <a:off x="531576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03" name=""/>
              <p:cNvGrpSpPr/>
              <p:nvPr/>
            </p:nvGrpSpPr>
            <p:grpSpPr>
              <a:xfrm>
                <a:off x="5099040" y="1035360"/>
                <a:ext cx="1298520" cy="1281600"/>
                <a:chOff x="5099040" y="1035360"/>
                <a:chExt cx="1298520" cy="1281600"/>
              </a:xfrm>
            </p:grpSpPr>
            <p:sp>
              <p:nvSpPr>
                <p:cNvPr id="1604" name=""/>
                <p:cNvSpPr/>
                <p:nvPr/>
              </p:nvSpPr>
              <p:spPr>
                <a:xfrm flipH="1">
                  <a:off x="601020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5" name=""/>
                <p:cNvGrpSpPr/>
                <p:nvPr/>
              </p:nvGrpSpPr>
              <p:grpSpPr>
                <a:xfrm>
                  <a:off x="5533920" y="1259280"/>
                  <a:ext cx="758160" cy="946080"/>
                  <a:chOff x="5533920" y="1259280"/>
                  <a:chExt cx="758160" cy="94608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 flipH="1">
                    <a:off x="5533560" y="1259280"/>
                    <a:ext cx="734040" cy="946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 flipH="1">
                    <a:off x="6140160" y="137016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8" name=""/>
                <p:cNvSpPr/>
                <p:nvPr/>
              </p:nvSpPr>
              <p:spPr>
                <a:xfrm flipH="1">
                  <a:off x="5272560" y="1370880"/>
                  <a:ext cx="734040" cy="9460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H="1">
                  <a:off x="5098680" y="153864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H="1">
                  <a:off x="5272560" y="2041920"/>
                  <a:ext cx="169920" cy="2192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H="1">
                  <a:off x="5272560" y="142704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H="1">
                  <a:off x="5142240" y="176292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flipH="1">
                  <a:off x="579348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H="1">
                  <a:off x="540252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H="1">
                  <a:off x="557604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flipH="1">
                  <a:off x="5706360" y="1650240"/>
                  <a:ext cx="387000" cy="4993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H="1">
                  <a:off x="5206680" y="1121040"/>
                  <a:ext cx="967320" cy="107172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8" name=""/>
              <p:cNvSpPr/>
              <p:nvPr/>
            </p:nvSpPr>
            <p:spPr>
              <a:xfrm flipH="1">
                <a:off x="6785280" y="176328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H="1">
                <a:off x="6619320" y="1632960"/>
                <a:ext cx="110520" cy="13032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H="1">
                <a:off x="6453000" y="156744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6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175400"/>
              <a:ext cx="536760" cy="71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2" name="" descr=""/>
            <p:cNvPicPr/>
            <p:nvPr/>
          </p:nvPicPr>
          <p:blipFill>
            <a:blip r:embed="rId4"/>
            <a:stretch/>
          </p:blipFill>
          <p:spPr>
            <a:xfrm>
              <a:off x="5320440" y="1828800"/>
              <a:ext cx="484560" cy="221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3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234120" y="1203480"/>
            <a:ext cx="214632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me perdí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ARE, P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44FE-9270-4232-904A-7B6308CBEE0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1. MEGA MODELO US&amp;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ODELO DE 6 ETAP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TERACCIÓN CON EL MEDIO AMB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0FB6-3C80-4702-8077-F469A2C6B8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754240" y="5978520"/>
            <a:ext cx="44604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4120" y="1155600"/>
            <a:ext cx="1714320" cy="7642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l número d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Hogares y firm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21320" y="2036880"/>
            <a:ext cx="155520" cy="199800"/>
            <a:chOff x="4621320" y="2036880"/>
            <a:chExt cx="155520" cy="199800"/>
          </a:xfrm>
        </p:grpSpPr>
        <p:sp>
          <p:nvSpPr>
            <p:cNvPr id="97" name=""/>
            <p:cNvSpPr/>
            <p:nvPr/>
          </p:nvSpPr>
          <p:spPr>
            <a:xfrm>
              <a:off x="4699080" y="2036880"/>
              <a:ext cx="0" cy="1998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2132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69908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011120" y="2362320"/>
            <a:ext cx="13086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302000" y="2817360"/>
            <a:ext cx="154080" cy="198360"/>
            <a:chOff x="4302000" y="2817360"/>
            <a:chExt cx="154080" cy="198360"/>
          </a:xfrm>
        </p:grpSpPr>
        <p:sp>
          <p:nvSpPr>
            <p:cNvPr id="102" name=""/>
            <p:cNvSpPr/>
            <p:nvPr/>
          </p:nvSpPr>
          <p:spPr>
            <a:xfrm flipV="1">
              <a:off x="4379760" y="2817360"/>
              <a:ext cx="0" cy="198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302000" y="2817360"/>
              <a:ext cx="7776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379760" y="2817360"/>
              <a:ext cx="7632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842000" y="3146400"/>
            <a:ext cx="155520" cy="198360"/>
            <a:chOff x="4842000" y="3146400"/>
            <a:chExt cx="155520" cy="198360"/>
          </a:xfrm>
        </p:grpSpPr>
        <p:sp>
          <p:nvSpPr>
            <p:cNvPr id="106" name=""/>
            <p:cNvSpPr/>
            <p:nvPr/>
          </p:nvSpPr>
          <p:spPr>
            <a:xfrm>
              <a:off x="4921200" y="3146400"/>
              <a:ext cx="0" cy="198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42000" y="3279600"/>
              <a:ext cx="7920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921200" y="3279600"/>
              <a:ext cx="763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081680" y="3394080"/>
            <a:ext cx="10422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42000" y="3738600"/>
            <a:ext cx="155520" cy="196920"/>
            <a:chOff x="4842000" y="3738600"/>
            <a:chExt cx="155520" cy="196920"/>
          </a:xfrm>
        </p:grpSpPr>
        <p:sp>
          <p:nvSpPr>
            <p:cNvPr id="111" name=""/>
            <p:cNvSpPr/>
            <p:nvPr/>
          </p:nvSpPr>
          <p:spPr>
            <a:xfrm>
              <a:off x="4921200" y="373860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42000" y="3871800"/>
              <a:ext cx="7920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21200" y="3871800"/>
              <a:ext cx="7632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302000" y="3738240"/>
            <a:ext cx="154080" cy="196920"/>
            <a:chOff x="4302000" y="3738240"/>
            <a:chExt cx="154080" cy="196920"/>
          </a:xfrm>
        </p:grpSpPr>
        <p:sp>
          <p:nvSpPr>
            <p:cNvPr id="115" name=""/>
            <p:cNvSpPr/>
            <p:nvPr/>
          </p:nvSpPr>
          <p:spPr>
            <a:xfrm flipV="1">
              <a:off x="4379760" y="373824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302000" y="3738240"/>
              <a:ext cx="7776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379760" y="3738240"/>
              <a:ext cx="7632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002120" y="3986280"/>
            <a:ext cx="13287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71840" y="4593960"/>
            <a:ext cx="696600" cy="195480"/>
            <a:chOff x="4371840" y="4593960"/>
            <a:chExt cx="696600" cy="195480"/>
          </a:xfrm>
        </p:grpSpPr>
        <p:grpSp>
          <p:nvGrpSpPr>
            <p:cNvPr id="120" name=""/>
            <p:cNvGrpSpPr/>
            <p:nvPr/>
          </p:nvGrpSpPr>
          <p:grpSpPr>
            <a:xfrm>
              <a:off x="4371840" y="4593960"/>
              <a:ext cx="155880" cy="195480"/>
              <a:chOff x="4371840" y="4593960"/>
              <a:chExt cx="155880" cy="195480"/>
            </a:xfrm>
          </p:grpSpPr>
          <p:sp>
            <p:nvSpPr>
              <p:cNvPr id="121" name=""/>
              <p:cNvSpPr/>
              <p:nvPr/>
            </p:nvSpPr>
            <p:spPr>
              <a:xfrm flipV="1">
                <a:off x="445140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4371840" y="4593960"/>
                <a:ext cx="7956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flipV="1">
                <a:off x="4451400" y="4593960"/>
                <a:ext cx="7632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913280" y="4594320"/>
              <a:ext cx="155160" cy="195120"/>
              <a:chOff x="4913280" y="4594320"/>
              <a:chExt cx="155160" cy="195120"/>
            </a:xfrm>
          </p:grpSpPr>
          <p:sp>
            <p:nvSpPr>
              <p:cNvPr id="125" name=""/>
              <p:cNvSpPr/>
              <p:nvPr/>
            </p:nvSpPr>
            <p:spPr>
              <a:xfrm>
                <a:off x="499284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13280" y="4726080"/>
                <a:ext cx="795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4992480" y="4726080"/>
                <a:ext cx="759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3927240" y="4840200"/>
            <a:ext cx="15937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los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371840" y="5449680"/>
            <a:ext cx="696600" cy="198720"/>
            <a:chOff x="4371840" y="5449680"/>
            <a:chExt cx="696600" cy="198720"/>
          </a:xfrm>
        </p:grpSpPr>
        <p:grpSp>
          <p:nvGrpSpPr>
            <p:cNvPr id="130" name=""/>
            <p:cNvGrpSpPr/>
            <p:nvPr/>
          </p:nvGrpSpPr>
          <p:grpSpPr>
            <a:xfrm>
              <a:off x="4371840" y="5449680"/>
              <a:ext cx="155880" cy="198360"/>
              <a:chOff x="4371840" y="5449680"/>
              <a:chExt cx="155880" cy="19836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4451400" y="544968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4371840" y="544968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4451400" y="5449680"/>
                <a:ext cx="7632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913280" y="5450040"/>
              <a:ext cx="155160" cy="198360"/>
              <a:chOff x="4913280" y="5450040"/>
              <a:chExt cx="155160" cy="198360"/>
            </a:xfrm>
          </p:grpSpPr>
          <p:sp>
            <p:nvSpPr>
              <p:cNvPr id="135" name=""/>
              <p:cNvSpPr/>
              <p:nvPr/>
            </p:nvSpPr>
            <p:spPr>
              <a:xfrm>
                <a:off x="4992840" y="545004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13280" y="558180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992480" y="5581800"/>
                <a:ext cx="759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3851640" y="5697360"/>
            <a:ext cx="17949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Asignación de l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viajes a la r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6520" y="5827680"/>
            <a:ext cx="27871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Infraestructura de transport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Oferta de transporte público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67480" y="5910120"/>
            <a:ext cx="75960" cy="684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67480" y="5978520"/>
            <a:ext cx="75960" cy="63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9760" y="3146400"/>
            <a:ext cx="0" cy="19836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46760" y="2809800"/>
            <a:ext cx="0" cy="13500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276720"/>
            <a:ext cx="13716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48040" y="3092400"/>
            <a:ext cx="2034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460840" y="2422080"/>
            <a:ext cx="619200" cy="130680"/>
            <a:chOff x="5460840" y="2422080"/>
            <a:chExt cx="619200" cy="130680"/>
          </a:xfrm>
        </p:grpSpPr>
        <p:sp>
          <p:nvSpPr>
            <p:cNvPr id="147" name=""/>
            <p:cNvSpPr/>
            <p:nvPr/>
          </p:nvSpPr>
          <p:spPr>
            <a:xfrm flipH="1">
              <a:off x="5460840" y="2487600"/>
              <a:ext cx="619200" cy="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460840" y="242208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0840" y="248760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249960" y="2103480"/>
            <a:ext cx="2747520" cy="6606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aracterísticas de  la ciu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Normas de uso de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ostos del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4880" y="2487600"/>
            <a:ext cx="230400" cy="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38640" y="3076560"/>
            <a:ext cx="0" cy="33559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38640" y="6432480"/>
            <a:ext cx="2682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019920" y="3076560"/>
            <a:ext cx="1440" cy="3324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14960" y="3076560"/>
            <a:ext cx="8064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338280" y="3076560"/>
            <a:ext cx="8031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38640" y="28764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02136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352680" y="9907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9800" y="9986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33864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10680" y="1349280"/>
            <a:ext cx="222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Información </a:t>
            </a: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necesa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3680" y="1235160"/>
            <a:ext cx="460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743200"/>
            <a:ext cx="1676160" cy="685800"/>
          </a:xfrm>
          <a:prstGeom prst="leftArrow">
            <a:avLst>
              <a:gd name="adj1" fmla="val 50000"/>
              <a:gd name="adj2" fmla="val 122193"/>
            </a:avLst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43000" y="47847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43000" y="135720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43000" y="2346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43000" y="34131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43000" y="402264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36760" y="90360"/>
            <a:ext cx="413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MODELO DE 6 ETAP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43000" y="5775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51600" y="849240"/>
            <a:ext cx="870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6600" y="2895480"/>
            <a:ext cx="1091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6F2-91CD-4532-8A74-D3C38A6BBCE4}" type="slidenum">
              <a:t>6</a:t>
            </a:fld>
          </a:p>
        </p:txBody>
      </p:sp>
    </p:spTree>
  </p:cSld>
  <p:transition spd="med" advTm="3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!Grafiquitos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Cómo fluye la información es lo que quiero saber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8AB7-2CE0-4922-A7FB-EF00C60FB81A}" type="slidenum">
              <a:t>7</a:t>
            </a:fld>
          </a:p>
        </p:txBody>
      </p:sp>
    </p:spTree>
  </p:cSld>
  <p:transition spd="med" advTm="1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130560" y="3968640"/>
            <a:ext cx="288288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419720" y="1143000"/>
            <a:ext cx="128160" cy="560520"/>
            <a:chOff x="4419720" y="1143000"/>
            <a:chExt cx="128160" cy="560520"/>
          </a:xfrm>
        </p:grpSpPr>
        <p:sp>
          <p:nvSpPr>
            <p:cNvPr id="183" name=""/>
            <p:cNvSpPr/>
            <p:nvPr/>
          </p:nvSpPr>
          <p:spPr>
            <a:xfrm>
              <a:off x="4484520" y="1143000"/>
              <a:ext cx="0" cy="560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19720" y="1511280"/>
              <a:ext cx="6480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484160" y="1511280"/>
              <a:ext cx="6372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782520" y="1676520"/>
            <a:ext cx="16898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86200" y="2055960"/>
            <a:ext cx="112680" cy="992160"/>
            <a:chOff x="3886200" y="2055960"/>
            <a:chExt cx="112680" cy="992160"/>
          </a:xfrm>
        </p:grpSpPr>
        <p:sp>
          <p:nvSpPr>
            <p:cNvPr id="188" name=""/>
            <p:cNvSpPr/>
            <p:nvPr/>
          </p:nvSpPr>
          <p:spPr>
            <a:xfrm flipV="1">
              <a:off x="3943440" y="2055960"/>
              <a:ext cx="0" cy="992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86200" y="2055960"/>
              <a:ext cx="572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943440" y="2055960"/>
              <a:ext cx="554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146560" y="2133720"/>
            <a:ext cx="187560" cy="982440"/>
            <a:chOff x="5146560" y="2133720"/>
            <a:chExt cx="187560" cy="982440"/>
          </a:xfrm>
        </p:grpSpPr>
        <p:sp>
          <p:nvSpPr>
            <p:cNvPr id="192" name=""/>
            <p:cNvSpPr/>
            <p:nvPr/>
          </p:nvSpPr>
          <p:spPr>
            <a:xfrm>
              <a:off x="5241960" y="2133720"/>
              <a:ext cx="0" cy="98244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46560" y="2793960"/>
              <a:ext cx="9540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241960" y="2793960"/>
              <a:ext cx="9216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625920" y="3089160"/>
            <a:ext cx="17780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197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01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95480" y="6781680"/>
            <a:ext cx="3276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172200" y="284760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7621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895480" y="2819520"/>
            <a:ext cx="106704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791320" y="541440"/>
            <a:ext cx="1440" cy="1668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124080" y="5335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21200" y="5414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124080" y="533520"/>
            <a:ext cx="0" cy="1676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69280" y="334800"/>
            <a:ext cx="110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84400" y="12034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H,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4196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18280" y="3489480"/>
            <a:ext cx="87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18280" y="4556160"/>
            <a:ext cx="5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4600" y="5622840"/>
            <a:ext cx="68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32640" y="5699160"/>
            <a:ext cx="69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60880" y="4556160"/>
            <a:ext cx="51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56320" y="356544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29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33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237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241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90520" y="136440"/>
            <a:ext cx="2417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        </a:t>
            </a: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&amp;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6B16-2FEF-4AB7-9C11-19BB109F99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 el medio ambient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a nadie le importa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662F-3F14-4A3E-98A9-D17A8F5B9E2D}" type="slidenum">
              <a:t>9</a:t>
            </a:fld>
          </a:p>
        </p:txBody>
      </p:sp>
    </p:spTree>
  </p:cSld>
  <p:transition spd="med" advTm="1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6-07-31T16:01:31Z</dcterms:modified>
  <cp:revision>83</cp:revision>
  <dc:subject/>
  <dc:title>General</dc:title>
</cp:coreProperties>
</file>