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19D-8353-4702-8B5D-2597AED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3B1-D87B-41FD-9DB0-27FBAF3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883-DEB7-4B63-B861-6BDD1D83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5C8-C720-4F4C-BA95-C47711F6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80D-2399-4FC5-BEAE-5C3B55EC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40E-C780-4E19-A78E-8A76FDAF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8D53-FAC0-407B-B124-9799719F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A038-3EC5-438D-8AD3-1C675E8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114-E9C9-464D-8176-66B955C9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8D6-FC4B-40F4-9690-A11E73C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6EB-69E7-42A7-8DAF-BB21B79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47D-41F4-4E4B-8E76-D369EB4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183B-60CF-42B8-ABF0-8B2135A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80F-9200-4679-AC7F-AABBCC1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9E2-DD92-4DE3-9528-0180D9F2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A5EC-7983-4883-A438-A5C3A45A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38D-B061-432E-B098-966484D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6C0-B185-4788-8FD6-69A77CEA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512-5B09-44E7-8EC7-1916724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929-38FF-410D-BF63-CC02D6B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103-CC9A-4B1E-AB40-5579041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DA9-7D55-4C79-803A-A6E36AC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4F3-D5FE-4DEF-BC6B-7063265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AE7-74B7-407B-BAE8-E54806B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3365-7D1D-4A2F-969B-F51E3D9448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237-B0FE-4C51-AB80-F16CA9A9A1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507" t="0" r="0" b="0"/>
          <a:stretch/>
        </p:blipFill>
        <p:spPr>
          <a:xfrm>
            <a:off x="324000" y="2924280"/>
            <a:ext cx="4176720" cy="3201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ase Introductoria Taludes de Enrocad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62560" y="6093000"/>
            <a:ext cx="2881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cimo Fre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032000" cy="310500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1 Parámetros de Oleaj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leaje rompiente, limitado por profundidad Hb=f(d,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M, CEM, God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Diseño con Hb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Hindcasting oleaje limitado por fetch (ej: ACES) + estadística de viento local = Hso f(Tr, Di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/ Shoal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stadística de oleaje de largo plazo (ej: OCEANO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 hacia aguas someras: Hs’= Ka*Hso, Di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odelos numéricos (SWAN, Mike2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étodos gráficos (SPM’84, rutina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Coeficientes de refracción / agitación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2 Batimetría y Fondo Mari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ntar con Batimetría local / secciones transversa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Influye en diseño de secciones transversales y layout de la solu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Puede determinar oleaje rompiente, limitado por fond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erido al NRS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ipo de fondo marino: rocoso? Pendiente fuerte? Arena? Fang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Determina el tipo de pie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rena= socavación. Filtro y geotext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= estabilidad? Pie fundado en zarp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ango= puede requerir tratamiento de sub base (San Vicente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3 Constructibilid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ta del núcleo: determinado por clima de oleaje y mare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cho del coronamiento del núcleo (para rompeolas) determinado por equip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ponibilidad de unidades de coraz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: canteras, recole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Unidades de hormigón: patio de fragu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locación de unidades de coraza. Estricto control topográfic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30102" t="0" r="0" b="3935"/>
          <a:stretch/>
        </p:blipFill>
        <p:spPr>
          <a:xfrm>
            <a:off x="478944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316480" cy="398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35640" y="2421000"/>
            <a:ext cx="28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tio de fraguado rompeolas de Unalaska, Canada. </a:t>
            </a: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www.core-lo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4 Funcionalidad de la Ob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de Diseño Cla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ivel de Riesgo Aceptable: Tr y d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ño potencial a vidas humanas o estructuras aledañ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gitación máxima permitida en zona de abrig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i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cesos para su repar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fectos de la Estructura en el Medi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e longitudinal de sedi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084560" cy="2530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1 Consideraciones Previ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2 Tipos de Rompeo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3 Tipos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4 Peso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5 Rango de W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6 Espesor y Densidad de Cap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7 Socavación y Pie de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1 Consideraciones Prev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eño en base a ecuaciones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Prediseño, estudio de factibi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ecesidad de un modelo fís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 Simple 2-D (económico, permite reducir co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s 3-D para estructuras complejas o de importanc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isitas a terreno. Revisar estructuras aledañas. Estudio de Canteras, etc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1825" t="25454" r="0" b="0"/>
          <a:stretch/>
        </p:blipFill>
        <p:spPr>
          <a:xfrm>
            <a:off x="5076720" y="21337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29906" r="7409" b="-4362"/>
          <a:stretch/>
        </p:blipFill>
        <p:spPr>
          <a:xfrm>
            <a:off x="2198520" y="5219640"/>
            <a:ext cx="5715000" cy="166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69704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lticapas con parape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Tipo “S</a:t>
            </a: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21078" r="0" b="0"/>
          <a:stretch/>
        </p:blipFill>
        <p:spPr>
          <a:xfrm>
            <a:off x="1982880" y="2556000"/>
            <a:ext cx="6019560" cy="1996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6531" r="13634" b="0"/>
          <a:stretch/>
        </p:blipFill>
        <p:spPr>
          <a:xfrm>
            <a:off x="684360" y="2492280"/>
            <a:ext cx="3852720" cy="2198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155736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De caj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1818" r="0" b="0"/>
          <a:stretch/>
        </p:blipFill>
        <p:spPr>
          <a:xfrm>
            <a:off x="4859280" y="2492280"/>
            <a:ext cx="4056120" cy="1987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18947" r="4321" b="0"/>
          <a:stretch/>
        </p:blipFill>
        <p:spPr>
          <a:xfrm>
            <a:off x="755640" y="5030640"/>
            <a:ext cx="4197240" cy="182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22868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umergido, Espig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lo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2987640" y="2282760"/>
            <a:ext cx="5727600" cy="1506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3164040" cy="2621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125360"/>
            <a:ext cx="6056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1. 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2. Aplic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 Parámetros de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1 Parámetros Relevantes del Olea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2 Batimetría y fond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3 Construct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4 Funcionalidad de la Ob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 Diseño y Cálculo de Estructu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1 Consideraciones Previ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4 Peso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5 Rango de W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6 Espesor y Densidad de Cap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7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Otras Consid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5. Ejemplo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3105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a clase se mostrara el diseño de diques en talud (espigones o rompeolas de escoller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312920"/>
            <a:ext cx="64008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Roca de cant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Unidades prefabricadas de hormig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315200" cy="4013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Est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19280" y="1650960"/>
            <a:ext cx="6624720" cy="5207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05264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Kd SPM’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8274" r="0" b="0"/>
          <a:stretch/>
        </p:blipFill>
        <p:spPr>
          <a:xfrm>
            <a:off x="1944720" y="1628640"/>
            <a:ext cx="7199280" cy="5411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413000"/>
            <a:ext cx="6400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5 Rango de W50 (Graduac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PM ’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15920" y="2197080"/>
            <a:ext cx="7042320" cy="46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6 Filtr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ción del filtro: Objetivo es evitar el lavado de materi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2259" t="0" r="12672" b="84716"/>
          <a:stretch/>
        </p:blipFill>
        <p:spPr>
          <a:xfrm>
            <a:off x="1332000" y="2349360"/>
            <a:ext cx="5111640" cy="1252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417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7 Espesor y Densidad de Cap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567240" y="1319040"/>
            <a:ext cx="3035160" cy="889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9240" y="1319040"/>
            <a:ext cx="1689120" cy="87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16000" y="2254320"/>
            <a:ext cx="6842160" cy="4559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7086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Zonas Más Expuestas Según Tipo de E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Cerca del cabez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En cambios de alineación debido a corrientes de retorno (underto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Otros según figura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279" t="1701" r="0" b="3239"/>
          <a:stretch/>
        </p:blipFill>
        <p:spPr>
          <a:xfrm>
            <a:off x="3132000" y="2349360"/>
            <a:ext cx="4176720" cy="4021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n 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3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vertopp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Peligro para personas y estructura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rosión de la explanada y compromiso de la estabilidad de la defensa o rompeol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ransmisión de oleaje en dársen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Límites de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No necesariamente deberá minimizar el sobrepaso: berma, porosidad, cost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iseñar parapeto, vías de evacuación del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9179" t="3259" r="2324" b="10987"/>
          <a:stretch/>
        </p:blipFill>
        <p:spPr>
          <a:xfrm>
            <a:off x="4788000" y="1628640"/>
            <a:ext cx="362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- 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olos de Abrigo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Funcionalidad: Protección del ole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Geometría: Planta (layout) variable, secciones típ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ementos: Compuestos por un núcleo, filtro (s) y coraza/ muros verticales/ gaviones,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Dinámica: Estabilidad, sobrepaso, transmisión, reflexión, socavación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- Ejemplo Rompe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826920" y="1916280"/>
            <a:ext cx="7493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17840" y="189000"/>
            <a:ext cx="572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674"/>
          <a:stretch/>
        </p:blipFill>
        <p:spPr>
          <a:xfrm>
            <a:off x="3564000" y="260280"/>
            <a:ext cx="5580000" cy="6597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4200" y="189000"/>
            <a:ext cx="54198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987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- APLICACION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comerciale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pesquero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leta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inas deportiv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ptaciones y descargas de agua de m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48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618" b="0"/>
          <a:stretch/>
        </p:blipFill>
        <p:spPr>
          <a:xfrm>
            <a:off x="5076720" y="2349360"/>
            <a:ext cx="3821040" cy="450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765" t="22602" r="8850" b="0"/>
          <a:stretch/>
        </p:blipFill>
        <p:spPr>
          <a:xfrm>
            <a:off x="468360" y="476280"/>
            <a:ext cx="43927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2360" y="105264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lanta Nuclear de Koeberg. Ciudad del Cabo,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724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aleta y marina deportiva de Port San Francis.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- PARÁMETROS DE DISE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1 Parámetros Relevantes del Olea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2 Batimetría y fondo mari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3 Constructibil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4 Funcionalidad de la Ob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05:08Z</dcterms:created>
  <dc:creator>Zocimo Fredes</dc:creator>
  <dc:description/>
  <dc:language>en-US</dc:language>
  <cp:lastModifiedBy>ZF</cp:lastModifiedBy>
  <dcterms:modified xsi:type="dcterms:W3CDTF">2007-08-22T07:05:51Z</dcterms:modified>
  <cp:revision>19</cp:revision>
  <dc:subject/>
  <dc:title>Clase Introductoria y Cálculo de Taludes de Enrocado </dc:title>
</cp:coreProperties>
</file>