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B5D-01F3-4542-ADA9-72DB413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0C6-9D7F-4D75-B238-C25BA216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5F9-26F2-4573-A7DF-6BE75B73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682-A45B-45A2-970C-A1FF18E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1586-D6B7-4A61-9C4C-8D703F5B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B273-2451-4109-8266-CD79D5E9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834-AC7F-49AC-8614-EA5260D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3660-D91A-45DC-9B8D-961D29D7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7D71-7618-4524-821C-98865926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727D-3D2F-4359-A4C6-654D785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3E6F-D6B5-4AEA-AE07-5B48AC2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DCB-94BE-4224-B274-B0A036B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2AC-E447-448F-90C0-3EEB14A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2A6-6865-4303-8E55-EC26C34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80DE-C696-4C42-AA24-3FE8A22C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8117-BE6E-4B03-85E2-58C222FF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B42E-720D-4E69-9DFF-F6AD7113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EBC-15F7-4E8B-8639-661B016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648-B441-4368-A161-2298CC6D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971-CA8B-4E03-BD8A-356B7055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76F-4050-4D3A-97C4-777E3725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553-002E-4915-A5CD-0C7CA141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10B-6A62-4081-A3F2-5D92A2F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9EB-3E69-4C09-9AB1-382BF9F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542D-3C69-47D1-8F11-4ADF7CADD2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6125-A56B-4E95-97C9-4BE0628B93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507" t="0" r="0" b="0"/>
          <a:stretch/>
        </p:blipFill>
        <p:spPr>
          <a:xfrm>
            <a:off x="324000" y="2924280"/>
            <a:ext cx="4176720" cy="3201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ase Introductoria Taludes de Enrocado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62560" y="6093000"/>
            <a:ext cx="2881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cimo Fre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032000" cy="310500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1 Parámetros de Oleaj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Oleaje rompiente, limitado por profundidad Hb=f(d,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M, CEM, Goda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Diseño con Hb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Hindcasting oleaje limitado por fetch (ej: ACES) + estadística de viento local = Hso f(Tr, Di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/ Shoal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stadística de oleaje de largo plazo (ej: OCEANO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 hacia aguas someras: Hs’= Ka*Hso, Di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odelos numéricos (SWAN, Mike2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étodos gráficos (SPM’84, rutinas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Coeficientes de refracción / agitación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2 Batimetría y Fondo Mari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ntar con Batimetría local / secciones transversa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Influye en diseño de secciones transversales y layout de la solu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Puede determinar oleaje rompiente, limitado por fond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erido al NRS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ipo de fondo marino: rocoso? Pendiente fuerte? Arena? Fango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Determina el tipo de pie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rena= socavación. Filtro y geotext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= estabilidad? Pie fundado en zarp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ango= puede requerir tratamiento de sub base (San Vicente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3 Constructibilid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ta del núcleo: determinado por clima de oleaje y mare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ncho del coronamiento del núcleo (para rompeolas) determinado por equip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ponibilidad de unidades de coraz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: canteras, recolec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Unidades de hormigón: patio de fraguad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locación de unidades de coraza. Estricto control topográfic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30102" t="0" r="0" b="3935"/>
          <a:stretch/>
        </p:blipFill>
        <p:spPr>
          <a:xfrm>
            <a:off x="478944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316480" cy="398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35640" y="2421000"/>
            <a:ext cx="28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atio de fraguado rompeolas de Unalaska, Canada. </a:t>
            </a: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www.core-lo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.4 Funcionalidad de la Ob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de Diseño Cla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ivel de Riesgo Aceptable: Tr y d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año potencial a vidas humanas o estructuras aledañ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gitación máxima permitida en zona de abrig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teni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cesos para su repar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fectos de la Estructura en el Medi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e longitudinal de sedi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084560" cy="2530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1 Consideraciones Previa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2 Tipos de Rompeol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3 Tipos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4 Peso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5 Rango de W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6 Espesor y Densidad de Cap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7 Socavación y Pie de Apo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4.1 Consideraciones Prev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iseño en base a ecuaciones</a:t>
            </a:r>
            <a:r>
              <a:rPr b="0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Prediseño, estudio de factibi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ecesidad de un modelo físic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 Simple 2-D (económico, permite reducir cost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s 3-D para estructuras complejas o de importanc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Visitas a terreno. Revisar estructuras aledañas. Estudio de Canteras, etc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1825" t="25454" r="0" b="0"/>
          <a:stretch/>
        </p:blipFill>
        <p:spPr>
          <a:xfrm>
            <a:off x="5076720" y="2133720"/>
            <a:ext cx="39229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29906" r="7409" b="-4362"/>
          <a:stretch/>
        </p:blipFill>
        <p:spPr>
          <a:xfrm>
            <a:off x="2198520" y="5219640"/>
            <a:ext cx="5715000" cy="1665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69704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lticapas con parape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Tipo “S</a:t>
            </a: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21078" r="0" b="0"/>
          <a:stretch/>
        </p:blipFill>
        <p:spPr>
          <a:xfrm>
            <a:off x="1982880" y="2556000"/>
            <a:ext cx="6019560" cy="1996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16531" r="13634" b="0"/>
          <a:stretch/>
        </p:blipFill>
        <p:spPr>
          <a:xfrm>
            <a:off x="684360" y="2492280"/>
            <a:ext cx="3852720" cy="2198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1557360"/>
            <a:ext cx="28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De caj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1818" r="0" b="0"/>
          <a:stretch/>
        </p:blipFill>
        <p:spPr>
          <a:xfrm>
            <a:off x="4859280" y="2492280"/>
            <a:ext cx="4056120" cy="1987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0" t="18947" r="4321" b="0"/>
          <a:stretch/>
        </p:blipFill>
        <p:spPr>
          <a:xfrm>
            <a:off x="755640" y="5030640"/>
            <a:ext cx="4197240" cy="182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22868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umergido, Espig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lota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2987640" y="2282760"/>
            <a:ext cx="5727600" cy="1506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3164040" cy="2621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125360"/>
            <a:ext cx="6056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1. 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2. Aplic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 Parámetros de Dis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1 Parámetros Relevantes del Olea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2 Batimetría y fond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3 Construct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4 Funcionalidad de la Ob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 Diseño y Cálculo de Estructu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1 Consideraciones Previ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4 Peso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5 Rango de W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6 Espesor y Densidad de Cap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7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Otras Consid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5. Ejemplo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3105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a clase se mostrara el diseño de diques en talud (espigones o rompeolas de escoller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312920"/>
            <a:ext cx="64008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Roca de cant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Unidades prefabricadas de hormig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315200" cy="4013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Est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19280" y="1650960"/>
            <a:ext cx="6624720" cy="5207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05264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Kd SPM’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8274" r="0" b="0"/>
          <a:stretch/>
        </p:blipFill>
        <p:spPr>
          <a:xfrm>
            <a:off x="1944720" y="1628640"/>
            <a:ext cx="7199280" cy="5411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413000"/>
            <a:ext cx="6400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5 Rango de W50 (Graduac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PM ’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15920" y="2197080"/>
            <a:ext cx="7042320" cy="46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6 Filtr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ción del filtro: Objetivo es evitar el lavado de materi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12259" t="0" r="12672" b="84716"/>
          <a:stretch/>
        </p:blipFill>
        <p:spPr>
          <a:xfrm>
            <a:off x="1332000" y="2349360"/>
            <a:ext cx="5111640" cy="1252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907920"/>
            <a:ext cx="417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7 Espesor y Densidad de Cap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567240" y="1319040"/>
            <a:ext cx="3035160" cy="889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9240" y="1319040"/>
            <a:ext cx="1689120" cy="87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116000" y="2254320"/>
            <a:ext cx="6842160" cy="4559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7086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Zonas Más Expuestas Según Tipo de E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Cerca del cabez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En cambios de alineación debido a corrientes de retorno (underto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Otros según figura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279" t="1701" r="0" b="3239"/>
          <a:stretch/>
        </p:blipFill>
        <p:spPr>
          <a:xfrm>
            <a:off x="3132000" y="2349360"/>
            <a:ext cx="4176720" cy="4021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31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un 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3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vertopp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Peligro para personas y estructura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Erosión de la explanada y compromiso de la estabilidad de la defensa o rompeol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Transmisión de oleaje en dársen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Límites de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No necesariamente deberá minimizar el sobrepaso: berma, porosidad, cost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iseñar parapeto, vías de evacuación del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9179" t="3259" r="2324" b="10987"/>
          <a:stretch/>
        </p:blipFill>
        <p:spPr>
          <a:xfrm>
            <a:off x="4788000" y="1628640"/>
            <a:ext cx="362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- 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olos de Abrigo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Funcionalidad: Protección del ole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Geometría: Planta (layout) variable, secciones típ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ementos: Compuestos por un núcleo, filtro (s) y coraza/ muros verticales/ gaviones,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Dinámica: Estabilidad, sobrepaso, transmisión, reflexión, socavación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- Ejemplo Rompeo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826920" y="1916280"/>
            <a:ext cx="7493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277920"/>
            <a:ext cx="82296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17840" y="189000"/>
            <a:ext cx="572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674"/>
          <a:stretch/>
        </p:blipFill>
        <p:spPr>
          <a:xfrm>
            <a:off x="3564000" y="260280"/>
            <a:ext cx="5580000" cy="6597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24200" y="189000"/>
            <a:ext cx="54198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2987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- APLICACION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6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comerciale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pesquero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leta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inas deportiv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ptaciones y descargas de agua de m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48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4618" b="0"/>
          <a:stretch/>
        </p:blipFill>
        <p:spPr>
          <a:xfrm>
            <a:off x="5076720" y="2349360"/>
            <a:ext cx="3821040" cy="450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765" t="22602" r="8850" b="0"/>
          <a:stretch/>
        </p:blipFill>
        <p:spPr>
          <a:xfrm>
            <a:off x="468360" y="476280"/>
            <a:ext cx="43927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2360" y="105264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lanta Nuclear de Koeberg. Ciudad del Cabo,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724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aleta y marina deportiva de Port San Francis.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- PARÁMETROS DE DISEÑ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0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1 Parámetros Relevantes del Olea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2 Batimetría y fondo mari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3 Constructibil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4 Funcionalidad de la Ob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05:08Z</dcterms:created>
  <dc:creator>Zocimo Fredes</dc:creator>
  <dc:description/>
  <dc:language>en-US</dc:language>
  <cp:lastModifiedBy>ZF</cp:lastModifiedBy>
  <dcterms:modified xsi:type="dcterms:W3CDTF">2007-08-22T07:05:51Z</dcterms:modified>
  <cp:revision>19</cp:revision>
  <dc:subject/>
  <dc:title>Clase Introductoria y Cálculo de Taludes de Enrocado </dc:title>
</cp:coreProperties>
</file>