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9CE-51B3-4CA3-96A0-73D54260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9F3-1E55-416C-8202-32CA8065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1CC-539E-4EB7-BA34-61C50558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6AE-3954-4A09-91BB-F9F784FE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1597-CC94-42DD-A794-E17EDC9A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51B7-AF30-4999-A57F-9184CCE3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76F5-01BE-4FBB-BB6B-AB16793D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4D97-FF23-4917-B29E-F2AD703E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99D2-BC12-404E-93A6-99451E4A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26EA-410C-4839-A0BE-994CDC5A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E7C4-B3EB-49F2-AE85-27160FB7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BDF-398F-4B98-BD76-31B5413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1344-E58A-4CAC-92F0-78D7B54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FDA0-D065-4338-B558-DDC0BE85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7963-B861-4453-BBDA-B9F8D9AE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72AF-341D-4B09-9B7E-79D9EEAB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20D8-DA22-4763-8183-1F14ECA9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B14-8024-478C-9764-0CF1F1A8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431-8B7B-44B5-B604-6D8E09CF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BF7-8F7A-4157-BFD3-BEAD49AC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F2E-2AF0-40EB-A83B-749581AB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FA5-1F04-4B2D-900A-0FF31D5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720-9E37-4135-867E-5BEF024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428-964D-4172-906D-6511D2B3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1739-090D-44F9-9429-50E0D1289B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59AE-00E7-414B-86D2-B27082922A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16507" t="0" r="0" b="0"/>
          <a:stretch/>
        </p:blipFill>
        <p:spPr>
          <a:xfrm>
            <a:off x="324000" y="2924280"/>
            <a:ext cx="4176720" cy="3201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ase Introductoria Taludes de Enrocado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62560" y="6093000"/>
            <a:ext cx="2881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cimo Fre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032000" cy="310500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1 Parámetros de Oleaj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Oleaje rompiente, limitado por profundidad Hb=f(d,T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PM, CEM, Goda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Diseño con Hb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lima de oleaj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Hindcasting oleaje limitado por fetch (ej: ACES) + estadística de viento local = Hso f(Tr, Di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racción/ Shoal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Tablas de incidencia, rosas de oleaje, H=f(T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lima de oleaj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Estadística de oleaje de largo plazo (ej: OCEANO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racción hacia aguas someras: Hs’= Ka*Hso, Di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Modelos numéricos (SWAN, Mike2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Métodos gráficos (SPM’84, rutinas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Coeficientes de refracción / agitación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Tablas de incidencia, rosas de oleaje, H=f(T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2 Batimetría y Fondo Marin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ntar con Batimetría local / secciones transversa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Influye en diseño de secciones transversales y layout de la solu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Puede determinar oleaje rompiente, limitado por fond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erido al NRS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Tipo de fondo marino: rocoso? Pendiente fuerte? Arena? Fango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Determina el tipo de pie de apoyo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rena= socavación. Filtro y geotext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oca= estabilidad? Pie fundado en zarp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ango= puede requerir tratamiento de sub base (San Vicente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3 Constructibilida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ta del núcleo: determinado por clima de oleaje y mare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ncho del coronamiento del núcleo (para rompeolas) determinado por equip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isponibilidad de unidades de coraz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oca: canteras, recolec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Unidades de hormigón: patio de fraguad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locación de unidades de coraza. Estricto control topográfic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30102" t="0" r="0" b="3935"/>
          <a:stretch/>
        </p:blipFill>
        <p:spPr>
          <a:xfrm>
            <a:off x="4789440" y="1600200"/>
            <a:ext cx="375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316480" cy="3987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35640" y="2421000"/>
            <a:ext cx="28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atio de fraguado rompeolas de Unalaska, Canada. </a:t>
            </a: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www.core-lo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1300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.4 Funcionalidad de la Ob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de Diseño Cla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ivel de Riesgo Aceptable: Tr y d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año potencial a vidas humanas o estructuras aledañ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gitación máxima permitida en zona de abrig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antenimi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ccesos para su repar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fectos de la Estructura en el Medio Mar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rte longitudinal de sedi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4084560" cy="2530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1 Consideraciones Previa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2 Tipos de Rompeol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3 Tipos de Unidades de Cora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4 Peso de Unidades de Cora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5 Rango de W5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6 Espesor y Densidad de Cap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7 Socavación y Pie de Apo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8 Otras Consid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4.1 Consideraciones Prev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iseño en base a ecuaciones</a:t>
            </a:r>
            <a:r>
              <a:rPr b="0" lang="es-E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Prediseño, estudio de factibil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ecesidad de un modelo físic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odelo Simple 2-D (económico, permite reducir cost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odelos 3-D para estructuras complejas o de importanc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Visitas a terreno. Revisar estructuras aledañas. Estudio de Canteras, etc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1825" t="25454" r="0" b="0"/>
          <a:stretch/>
        </p:blipFill>
        <p:spPr>
          <a:xfrm>
            <a:off x="5076720" y="2133720"/>
            <a:ext cx="39229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29906" r="7409" b="-4362"/>
          <a:stretch/>
        </p:blipFill>
        <p:spPr>
          <a:xfrm>
            <a:off x="2198520" y="5219640"/>
            <a:ext cx="5715000" cy="1665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697040"/>
            <a:ext cx="640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.2 Tipos de Rompeol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lticapas con parape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Tipo “S</a:t>
            </a: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21078" r="0" b="0"/>
          <a:stretch/>
        </p:blipFill>
        <p:spPr>
          <a:xfrm>
            <a:off x="1982880" y="2556000"/>
            <a:ext cx="6019560" cy="1996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16531" r="13634" b="0"/>
          <a:stretch/>
        </p:blipFill>
        <p:spPr>
          <a:xfrm>
            <a:off x="684360" y="2492280"/>
            <a:ext cx="3852720" cy="2198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1557360"/>
            <a:ext cx="288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2 Tipos de Rompeo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De caj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0" t="11818" r="0" b="0"/>
          <a:stretch/>
        </p:blipFill>
        <p:spPr>
          <a:xfrm>
            <a:off x="4859280" y="2492280"/>
            <a:ext cx="4056120" cy="1987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0" t="18947" r="4321" b="0"/>
          <a:stretch/>
        </p:blipFill>
        <p:spPr>
          <a:xfrm>
            <a:off x="755640" y="5030640"/>
            <a:ext cx="4197240" cy="182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228680"/>
            <a:ext cx="640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2 Tipos de Rompeo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umergido, Espig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lota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26149" r="0" b="0"/>
          <a:stretch/>
        </p:blipFill>
        <p:spPr>
          <a:xfrm>
            <a:off x="2987640" y="2282760"/>
            <a:ext cx="5727600" cy="1506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95640" y="3933720"/>
            <a:ext cx="3164040" cy="26211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125360"/>
            <a:ext cx="6056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1. Int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2. Aplic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 Parámetros de Dis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1 Parámetros Relevantes del Olea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2 Batimetría y fondo mar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3 Construct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4 Funcionalidad de la Ob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 Diseño y Cálculo de Estructur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1 Consideraciones Previ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2 Tipos de Rompeol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3 Tipos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4 Peso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5 Rango de W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6 Espesor y Densidad de Cap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7 Socavación y Pie de Apo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8 Otras Conside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5. Ejemplo de Rompeol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032000" cy="3105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esta clase se mostrara el diseño de diques en talud (espigones o rompeolas de escoller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1312920"/>
            <a:ext cx="64008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3 Tipos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Roca de cant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Unidades prefabricadas de hormig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315200" cy="4013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90792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4 Peso de Unidades de Cora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udson: Estabi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19280" y="1650960"/>
            <a:ext cx="6624720" cy="52070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105264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4 Peso de Unidades de Cora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udson: Kd SPM’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8274" r="0" b="0"/>
          <a:stretch/>
        </p:blipFill>
        <p:spPr>
          <a:xfrm>
            <a:off x="1944720" y="1628640"/>
            <a:ext cx="7199280" cy="5411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413000"/>
            <a:ext cx="6400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5 Rango de W50 (Graduac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PM ’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15920" y="2197080"/>
            <a:ext cx="7042320" cy="46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6 Filtr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Graduación del filtro: Objetivo es evitar el lavado de materi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12259" t="0" r="12672" b="84716"/>
          <a:stretch/>
        </p:blipFill>
        <p:spPr>
          <a:xfrm>
            <a:off x="1332000" y="2349360"/>
            <a:ext cx="5111640" cy="1252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907920"/>
            <a:ext cx="417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7 Espesor y Densidad de Cap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567240" y="1319040"/>
            <a:ext cx="3035160" cy="889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9240" y="1319040"/>
            <a:ext cx="1689120" cy="876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116000" y="2254320"/>
            <a:ext cx="6842160" cy="4559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836640"/>
            <a:ext cx="7086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8 Socavación y Pie de Apo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Zonas Más Expuestas Según Tipo de Estru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Cerca del cabez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En cambios de alineación debido a corrientes de retorno (underto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Otros según figura 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279" t="1701" r="0" b="3239"/>
          <a:stretch/>
        </p:blipFill>
        <p:spPr>
          <a:xfrm>
            <a:off x="3132000" y="2349360"/>
            <a:ext cx="4176720" cy="4021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312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.8 Otras Consideracion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un U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34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vertopp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onsecuenci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Peligro para personas y estructuras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Erosión de la explanada y compromiso de la estabilidad de la defensa o rompeol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Transmisión de oleaje en dársen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Límites de caud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No necesariamente deberá minimizar el sobrepaso: berma, porosidad, cost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Diseñar parapeto, vías de evacuación del caud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9179" t="3259" r="2324" b="10987"/>
          <a:stretch/>
        </p:blipFill>
        <p:spPr>
          <a:xfrm>
            <a:off x="4788000" y="1628640"/>
            <a:ext cx="3620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- 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Molos de Abrigo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Funcionalidad: Protección del olea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Geometría: Planta (layout) variable, secciones típ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ementos: Compuestos por un núcleo, filtro (s) y coraza/ muros verticales/ gaviones, et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Dinámica: Estabilidad, sobrepaso, transmisión, reflexión, socavación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- Ejemplo Rompeo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0" t="26149" r="0" b="0"/>
          <a:stretch/>
        </p:blipFill>
        <p:spPr>
          <a:xfrm>
            <a:off x="826920" y="1916280"/>
            <a:ext cx="7493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296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277920"/>
            <a:ext cx="82296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2000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98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17840" y="189000"/>
            <a:ext cx="5726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0" b="674"/>
          <a:stretch/>
        </p:blipFill>
        <p:spPr>
          <a:xfrm>
            <a:off x="3564000" y="260280"/>
            <a:ext cx="5580000" cy="6597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298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24200" y="189000"/>
            <a:ext cx="541980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29876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- APLICACION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6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uertos comerciale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uertos pesquero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aleta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rinas deportiv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aptaciones y descargas de agua de m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067280" y="4076640"/>
            <a:ext cx="4824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4618" b="0"/>
          <a:stretch/>
        </p:blipFill>
        <p:spPr>
          <a:xfrm>
            <a:off x="5076720" y="2349360"/>
            <a:ext cx="3821040" cy="4508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9765" t="22602" r="8850" b="0"/>
          <a:stretch/>
        </p:blipFill>
        <p:spPr>
          <a:xfrm>
            <a:off x="468360" y="476280"/>
            <a:ext cx="4392720" cy="2708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32360" y="105264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lanta Nuclear de Koeberg. Ciudad del Cabo, Sudáfr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7242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Caleta y marina deportiva de Port San Francis. Sudáfr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3.- PARÁMETROS DE DISEÑ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02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1 Parámetros Relevantes del Oleaj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2 Batimetría y fondo mari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3 Constructibili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4 Funcionalidad de la Ob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21:05:08Z</dcterms:created>
  <dc:creator>Zocimo Fredes</dc:creator>
  <dc:description/>
  <dc:language>en-US</dc:language>
  <cp:lastModifiedBy>ZF</cp:lastModifiedBy>
  <dcterms:modified xsi:type="dcterms:W3CDTF">2007-08-22T07:05:51Z</dcterms:modified>
  <cp:revision>19</cp:revision>
  <dc:subject/>
  <dc:title>Clase Introductoria y Cálculo de Taludes de Enrocado </dc:title>
</cp:coreProperties>
</file>