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2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35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4DE1-8E9F-407E-A286-B8722E123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225-50D3-414C-A74B-DC10B94D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ADA6-2E92-41FA-8154-69E889D1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49F-E024-4D33-B7F4-2DCE90DC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FB81-54DB-43CD-B2A0-B2B38529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CD3D-101D-483A-ACF1-7E91443B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9E2A-FD42-4F56-9E00-97934EBC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7D0D-5988-4E87-8DE5-0AC81CBF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1D1A-FB8F-4276-A646-A4E1E2A8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2132-6CAF-470C-8247-496BDC17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E5C4-4964-48F7-8AA5-B5BBAF52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13E-BFCC-44B4-B180-7BB465D71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22D2-CEFF-4779-B87D-22008DD0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638F-DE42-4AEC-B01E-155922FC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FCAA-DAFD-4222-9D01-6AA56510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6FFE-9C83-4532-BA10-E7AF3E4A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7CCA-AF45-432A-86DA-DB45E541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A3DC-C81D-4910-98AE-57AF0875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4AE-7E70-496B-A10E-99E2653E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152-8E4E-4692-A8AC-F5D3F96D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D3E-1C71-4E3F-B465-2C9A99E7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57B-069B-4242-A7FB-5509709C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4A5-1469-452C-ABCD-BAD2A43E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B946-9CF9-48F6-84C1-D5CDD7D4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ECC1-B6FF-48CA-9E72-C066DFE5ED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B4BB-9F1D-45CF-BA88-B7483E14A99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rcRect l="16507" t="0" r="0" b="0"/>
          <a:stretch/>
        </p:blipFill>
        <p:spPr>
          <a:xfrm>
            <a:off x="324000" y="2924280"/>
            <a:ext cx="4176720" cy="32018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ase Introductoria Taludes de Enrocado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262560" y="6093000"/>
            <a:ext cx="28814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ocimo Fred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88000" y="2924280"/>
            <a:ext cx="4032000" cy="310500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1 Parámetros de Oleaj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Oleaje rompiente, limitado por profundidad Hb=f(d,T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SPM, CEM, Goda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Diseño con Hb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Hindcasting oleaje limitado por fetch (ej: ACES) + estadística de viento local = Hso f(Tr, Di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/ Shoaling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lima de oleaj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Estadística de oleaje de largo plazo (ej: OCEANO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racción hacia aguas someras: Hs’= Ka*Hso, Dir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odelos numéricos (SWAN, Mike21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Métodos gráficos (SPM’84, rutinas)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esultado: Coeficientes de refracción / agitación,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ablas de incidencia, rosas de oleaje, H=f(Tr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2 Batimetría y Fondo Marin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ntar con Batimetría local / secciones transversale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Influye en diseño de secciones transversales y layout de la solu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Puede determinar oleaje rompiente, limitado por fond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Referido al NRS loc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Tipo de fondo marino: rocoso? Pendiente fuerte? Arena? Fango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- Determina el tipo de pie de apoyo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rena= socavación. Filtro y geotexti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= estabilidad? Pie fundado en zarp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ango= puede requerir tratamiento de sub base (San Vicente)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3.3 Constructibilidad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ta del núcleo: determinado por clima de oleaje y mare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Ancho del coronamiento del núcleo (para rompeolas) determinado por equipo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Disponibilidad de unidades de coraza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Roca: canteras, recolección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Unidades de hormigón: patio de fraguado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Colocación de unidades de coraza. Estricto control topográfico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rcRect l="30102" t="0" r="0" b="3935"/>
          <a:stretch/>
        </p:blipFill>
        <p:spPr>
          <a:xfrm>
            <a:off x="4789440" y="1600200"/>
            <a:ext cx="3754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316480" cy="3987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435640" y="2421000"/>
            <a:ext cx="2879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Patio de fraguado rompeolas de Unalaska, Canada. </a:t>
            </a:r>
            <a:r>
              <a:rPr b="0" lang="es-MX" sz="1400" spc="-1" strike="noStrike">
                <a:solidFill>
                  <a:srgbClr val="0000cc"/>
                </a:solidFill>
                <a:latin typeface="Arial"/>
              </a:rPr>
              <a:t>www.core-loc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41300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3.4 Funcionalidad de la Ob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de Diseño Clar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ivel de Riesgo Aceptable: Tr y d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Daño potencial a vidas humanas o estructuras aledañ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gitación máxima permitida en zona de abrig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antenimient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Accesos para su repar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fectos de la Estructura en el Medi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rte longitudinal de sediment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4084560" cy="2530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- Parámetros de Diseño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1 Consideraciones Previa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2 Tipos de Rompeol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3 Tipos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4 Peso de Unidades de Cora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5 Rango de W5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6 Espesor y Densidad de Cap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7 Socavación y Pie de Apo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4.1 Consideraciones Previ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Diseño en base a ecuaciones</a:t>
            </a:r>
            <a:r>
              <a:rPr b="0" lang="es-E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Prediseño, estudio de factibil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ecesidad de un modelo físic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 Simple 2-D (económico, permite reducir costos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Modelos 3-D para estructuras complejas o de importancia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Visitas a terreno. Revisar estructuras aledañas. Estudio de Canteras, etc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21825" t="25454" r="0" b="0"/>
          <a:stretch/>
        </p:blipFill>
        <p:spPr>
          <a:xfrm>
            <a:off x="5076720" y="2133720"/>
            <a:ext cx="39229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rcRect l="0" t="29906" r="7409" b="-4362"/>
          <a:stretch/>
        </p:blipFill>
        <p:spPr>
          <a:xfrm>
            <a:off x="2198520" y="5219640"/>
            <a:ext cx="5715000" cy="1665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169704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lticapas con parape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Tipo “S</a:t>
            </a:r>
            <a:r>
              <a:rPr b="0" lang="es-ES_tradnl" sz="1400" spc="-1" strike="noStrike">
                <a:solidFill>
                  <a:srgbClr val="000080"/>
                </a:solidFill>
                <a:latin typeface="Swis721 BT"/>
                <a:ea typeface="Times New Roman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21078" r="0" b="0"/>
          <a:stretch/>
        </p:blipFill>
        <p:spPr>
          <a:xfrm>
            <a:off x="1982880" y="2556000"/>
            <a:ext cx="6019560" cy="1996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16531" r="13634" b="0"/>
          <a:stretch/>
        </p:blipFill>
        <p:spPr>
          <a:xfrm>
            <a:off x="684360" y="2492280"/>
            <a:ext cx="3852720" cy="21988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1557360"/>
            <a:ext cx="288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De caj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1818" r="0" b="0"/>
          <a:stretch/>
        </p:blipFill>
        <p:spPr>
          <a:xfrm>
            <a:off x="4859280" y="2492280"/>
            <a:ext cx="4056120" cy="1987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rcRect l="0" t="18947" r="4321" b="0"/>
          <a:stretch/>
        </p:blipFill>
        <p:spPr>
          <a:xfrm>
            <a:off x="755640" y="5030640"/>
            <a:ext cx="4197240" cy="182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9640" y="1228680"/>
            <a:ext cx="6400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2 Tipos de Rompeol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umergido, Espig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Flota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2987640" y="2282760"/>
            <a:ext cx="5727600" cy="1506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995640" y="3933720"/>
            <a:ext cx="3164040" cy="26211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1125360"/>
            <a:ext cx="6056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1. Introduc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2. Aplic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 Parámetros de Diseñ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1 Parámetros Relevantes del Olea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2 Batimetría y fondo marin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3 Constructibilid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3.4 Funcionalidad de la Obr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 Diseño y Cálculo de Estructur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1 Consideraciones Previa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2 Tipos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4 Peso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5 Rango de W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6 Espesor y Densidad de Cap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7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Otras Consider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5. Ejemplo de Rompeol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00720" y="1268280"/>
            <a:ext cx="4032000" cy="3105360"/>
          </a:xfrm>
          <a:prstGeom prst="rect">
            <a:avLst/>
          </a:prstGeom>
          <a:ln w="76320">
            <a:solidFill>
              <a:srgbClr val="0066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En esta clase se mostrara el diseño de diques en talud (espigones o rompeolas de escoller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312920"/>
            <a:ext cx="64008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3 Tipos de Unidades de Coraz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Roca de cant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Unidades prefabricadas de hormig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7315200" cy="40132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90792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Estabi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519280" y="1650960"/>
            <a:ext cx="6624720" cy="5207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105264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4 Peso de Unidades de Cora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Hudson: Kd SPM’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8274" r="0" b="0"/>
          <a:stretch/>
        </p:blipFill>
        <p:spPr>
          <a:xfrm>
            <a:off x="1944720" y="1628640"/>
            <a:ext cx="7199280" cy="5411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413000"/>
            <a:ext cx="6400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5 Rango de W50 (Graduac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SPM ’8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15920" y="2197080"/>
            <a:ext cx="7042320" cy="46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6 Filtr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Graduación del filtro: Objetivo es evitar el lavado de materia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rcRect l="12259" t="0" r="12672" b="84716"/>
          <a:stretch/>
        </p:blipFill>
        <p:spPr>
          <a:xfrm>
            <a:off x="1332000" y="2349360"/>
            <a:ext cx="5111640" cy="1252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907920"/>
            <a:ext cx="4170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4.7 Espesor y Densidad de Cap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567240" y="1319040"/>
            <a:ext cx="3035160" cy="889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9240" y="1319040"/>
            <a:ext cx="1689120" cy="876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116000" y="2254320"/>
            <a:ext cx="6842160" cy="45594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85760" y="-207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836640"/>
            <a:ext cx="7086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4.8 Socavación y Pie de Apoy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Zonas Más Expuestas Según Tipo de Estructu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Cerca del cabez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En cambios de alineación debido a corrientes de retorno (underto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cc0000"/>
              </a:buClr>
              <a:buFont typeface="Swis721 B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Swis721 BT"/>
                <a:ea typeface="Times New Roman"/>
              </a:rPr>
              <a:t>Otros según figura siguien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1279" t="1701" r="0" b="3239"/>
          <a:stretch/>
        </p:blipFill>
        <p:spPr>
          <a:xfrm>
            <a:off x="3132000" y="2349360"/>
            <a:ext cx="4176720" cy="40212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0312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.8 Otras Consideracion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un Up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4.-Diseño y Cálculo de Estructura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7234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vertopp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onsecuenci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Peligro para personas y estructuras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Erosión de la explanada y compromiso de la estabilidad de la defensa o rompeol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Transmisión de oleaje en dársena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Límites de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No necesariamente deberá minimizar el sobrepaso: berma, porosidad, costo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Diseñar parapeto, vías de evacuación del cauda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9179" t="3259" r="2324" b="10987"/>
          <a:stretch/>
        </p:blipFill>
        <p:spPr>
          <a:xfrm>
            <a:off x="4788000" y="1628640"/>
            <a:ext cx="36208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- INTRODUC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Molos de Abrigo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Funcionalidad: Protección del oleaj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Geometría: Planta (layout) variable, secciones típic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Elementos: Compuestos por un núcleo, filtro (s) y coraza/ muros verticales/ gaviones,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Dinámica: Estabilidad, sobrepaso, transmisión, reflexión, socavación</a:t>
            </a:r>
            <a:r>
              <a:rPr b="0" lang="es-ES_trad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- Ejemplo Rompeo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rcRect l="0" t="26149" r="0" b="0"/>
          <a:stretch/>
        </p:blipFill>
        <p:spPr>
          <a:xfrm>
            <a:off x="826920" y="1916280"/>
            <a:ext cx="7493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82296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277920"/>
            <a:ext cx="822960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2000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17840" y="189000"/>
            <a:ext cx="5726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0" r="0" b="674"/>
          <a:stretch/>
        </p:blipFill>
        <p:spPr>
          <a:xfrm>
            <a:off x="3564000" y="260280"/>
            <a:ext cx="5580000" cy="6597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298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24200" y="189000"/>
            <a:ext cx="5419800" cy="666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298764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jemplo de rompeolas típi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- APLICACIONE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956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comerciale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uertos pesquero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letas,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rinas deportiv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aptaciones y descargas de agua de m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067280" y="4076640"/>
            <a:ext cx="482436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0" t="0" r="4618" b="0"/>
          <a:stretch/>
        </p:blipFill>
        <p:spPr>
          <a:xfrm>
            <a:off x="5076720" y="2349360"/>
            <a:ext cx="3821040" cy="45086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rcRect l="9765" t="22602" r="8850" b="0"/>
          <a:stretch/>
        </p:blipFill>
        <p:spPr>
          <a:xfrm>
            <a:off x="468360" y="476280"/>
            <a:ext cx="4392720" cy="2708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932360" y="105264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Planta Nuclear de Koeberg. Ciudad del Cabo,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7242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Caleta y marina deportiva de Port San Francis. Sudáfric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3.- PARÁMETROS DE DISEÑ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80028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1 Parámetros Relevantes del Oleaj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2 Batimetría y fondo marin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3 Constructibilid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3.4 Funcionalidad de la Obra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05:08Z</dcterms:created>
  <dc:creator>Zocimo Fredes</dc:creator>
  <dc:description/>
  <dc:language>en-US</dc:language>
  <cp:lastModifiedBy>ZF</cp:lastModifiedBy>
  <dcterms:modified xsi:type="dcterms:W3CDTF">2007-08-22T07:05:51Z</dcterms:modified>
  <cp:revision>19</cp:revision>
  <dc:subject/>
  <dc:title>Clase Introductoria y Cálculo de Taludes de Enrocado </dc:title>
</cp:coreProperties>
</file>