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109728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1F7A-B18B-46CE-B9E4-8DE0310674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C917-16C1-4B60-8E0F-2E414A1072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tilice esta plantilla para crear páginas Web de intranet para un grupo de trabajo o proyecto. Puede modificar el contenido de muestra para incluir la información que desee e incluso puede cambiar la estructura del sitio Web agregando y quitando diapositivas. Los controles de desplazamiento están en el patrón de diapositivas. Para cambiarlos,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e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, seleccione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y, a continuación,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 Para agregar o quitar hipervínculos en el texto o los objetos, o para cambiar los hipervínculos existentes, seleccione el texto o el objeto y elija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Hipervíncul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en el menú 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Insertar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ando termine de personalizar la presentación, elimine estas notas para ahorrar espacio en los archivos HTML fi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a obtener más información, consulte en el Asistente para Ayuda los siguientes tem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trón de diaposi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ipervín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5503-7B4D-4CB4-A458-7363614F96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EA96-C48F-44B5-B611-8124B5354F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45FD-17CC-409A-A683-E960189B02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2935-61E7-447A-92CD-68ED9B375E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7CB8-06AD-402C-A94D-39EF8BC8B2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5F9A-3C1E-44C1-9371-E2F5D4637D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71DA-7E17-45EA-BD48-BBF6AC2218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E9D4-7CB6-4C65-9E02-AF30A2A7D3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1D45-40D3-4997-94F6-2B0FAE815F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EDEA-E4D7-4232-A6F0-42E8E58237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649D-FE32-4042-AA7D-06F577790A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E314-6B09-4C69-BFCF-627DAB15EA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52EA-338F-45A6-B189-C5B9088029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D148-FE4C-4CCE-92F5-E17778CA5A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D279-A32C-496B-9B92-375C8D5D38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BED7-E605-40E4-8D36-42653E05D5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F630-DDDC-4084-9F42-C082BFA0A5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331D-75F2-45B3-A5FE-50C628B1EE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EA45-6F96-4231-BACF-3737EB4A97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397B-F992-4E2C-AA72-CFBD4F5A36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42F7-656B-4825-911D-65F0756DB1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EFC5-23EB-4342-BEC8-964DB40EE9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0399-3A59-4FDC-A9D2-D5C4A2E777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1504-C4AC-4C8A-AAEE-E7AE7AD13F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CA14-FF6F-4D21-9EE4-D257A04E4F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0103-1EF6-4E01-9F60-EDE3255DF8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690B-2EBA-4B53-8301-7FA0352BF8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6C52-EEAC-4907-9B58-6071C9B9EF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6ACD-E09E-4D9D-AFDF-888D59BEEF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4503-EDCA-4B49-8DD5-E56E3000F3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3114-A0D3-4752-B5BD-5A3D690AC4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880-D127-4988-8B96-E3C4478B3F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165-64BE-4667-B305-A8ACA915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3BC-A341-4B47-8F14-737658AB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743E8-5A27-461A-901F-77A2A7ED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99E09-490A-4717-8A48-55C92D41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E742B-7695-41A6-8B3A-365131C3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6645E-703B-4087-95CA-07F5293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B6EF0-1902-4EAF-BA93-92DA6140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42A2E-782F-4C4D-8411-C6C5ACB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C3BF5-93BE-4131-954D-74923C10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18DCF-8E8F-45AF-ADF9-FE5F0B9A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46408-66D2-445E-8CA1-097C67A4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02E11-D7B2-4288-8E19-06A073B6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D26-BA02-4F58-A70F-77134FBF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FA6E2-97FA-4921-A060-F9F7002A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1F99A-F3E4-442A-844E-9C750E30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4E9B8-24F6-4BEE-9ED3-11C6D104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B0B72-75A7-41F4-8C76-C335E600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D539A-D938-4778-AE3E-6CBACE2A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8E6BE-85E6-43E8-9C0C-E2984EAE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6E205-FA93-4B01-A1ED-A1B99CAF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B41C0-CE1C-4AE7-843F-C97E18A2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719DE-06D2-4411-8297-A782D5F1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7CF5A-0340-461B-ACA2-C1DB47C0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8C2-A999-4D45-8A34-9849C8D6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B2C1F-F0A3-4382-9846-D3C64579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4E01E-07C7-4B5C-B040-A80D2640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45638-E110-46E1-8FCA-2E13BFA2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C7914-F39F-43D2-9908-F30A4364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A767D-AD7B-4B3E-AE6B-E2C64A68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12B99-B61E-4578-A51E-50D9F895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A24C4-0F5D-422D-8D86-BD730533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F194D-C629-4115-A430-CD00AA60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A4BED-99E7-4545-8A13-9CE2D912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9EC5B-898D-4BBC-A256-02098519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51B7-1220-4588-8CC4-9EA87C01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8E0E0-B69D-40AE-8A87-E07E9EC6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A46DC-73BE-4B56-B29C-2E037C96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B5BDE-C700-4D3A-9788-0A8FA30E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9A704-808B-427F-8C4C-10C668AA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7AFD6-14E3-477D-864B-4B103BBA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BCC82-48AF-4806-B5E6-FA75C7B2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DF3E3-836A-4B03-A91E-0DDB6B64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671A9-FCFB-4E83-83E4-64A7C2EA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8F140-45C6-4BB7-8429-FF6F4F31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77D68-DCB6-45E4-B16A-FDFA427D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CCE8-8200-4359-851A-A802512D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F9722-E4B9-470B-90EF-C15BFF86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52905-62F5-443F-AF25-E9087D86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EB7A5-B7A1-4354-8B3E-3D76B1D6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D2F5A-A40B-4E96-9B5F-4B5656EA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4653E-FB23-4270-87C8-31022889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495A-241D-4E60-A128-30FC1967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7DA7-87FE-4C30-BA7B-597B015D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7016-E7AD-42AF-B977-8B360709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1313-0A79-4B35-A690-3F4366D6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EB6E-A211-41D6-9DEF-73DB4FC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135-3DF9-4FDA-A527-59A6CB93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A8C8-FEC4-49C4-8EE8-57685294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3399-559A-4712-8CFF-A25540AF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C099-287B-407E-868E-01CFD52B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1567-4BA8-4DFD-8D9A-6CCAE7C6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97AF-3D24-4A11-813F-DD17E189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F860-DA66-451B-B337-DF33FCC8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9B2F-2199-4C8A-92B9-71E8983C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2951-FE6F-4AC7-8E16-9B7D3B0F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E3A9-9F47-4722-82A0-11E9EA4D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2A21-4F8C-4CF2-9AF8-26E7BDFC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B84-DB9C-411E-93DE-AECB06F7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2BF9-BD0C-4FB3-B5BB-993EA903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B705B-F64D-4CA6-A542-BDA606FB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182E-7553-4ACE-899E-2FA89D4E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FD662-48C6-46AA-9ACB-84D760E5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81EC-D955-4E02-B508-A6301B9E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4F49-8986-4348-8323-8E496A70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5A34-09B7-4053-9E47-CCC80EB3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EF615-0476-4E7C-B23E-3030A772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37BBB-8A3B-4824-8D30-73F4B9AC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14DF9-74D4-4512-9AEB-728092F7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549-C9DA-4165-9570-8E68FF21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CE349-51A6-437E-8612-63282232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997D2-CEF8-4845-A3F1-800C2D34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0CE76-1DE8-48F5-BBE2-65F28B1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B7B31-18A7-4DD7-A1C4-7A013A46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90090-60AC-4386-AC90-B91C0E63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A6B8-18FD-4CB3-AE21-BB666F97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9C63D-F124-4B3D-891B-0EB526B2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F6213-EBD8-4246-9B31-452D12E5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7468-0652-4677-AC9C-F126ED62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3649-CDFA-4A90-8092-0718EC5D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781-B273-45A0-8F87-58DC2BD4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079B1-749D-40F5-A0C7-F87AA913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3823C-AFC7-4312-BCC0-A81B42C2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7BBFA-9E45-4891-80C2-06E5AD32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C16FE-9FE6-4E1B-BF84-56D8E0EF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42B4A-C704-4381-9788-69A8DACA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4A99F-87B7-4E69-AF0F-89F91B28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49D5F-9EF6-42BA-BB83-67CD6FBB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107C5-2F25-46AC-8D74-76407C95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3B7F6-B58B-4304-8DC1-A351A6AF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E38D1-2429-4F98-963F-3658B227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985-9A46-4A88-BB89-8C3FD7F1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2CF81-4339-4E18-BE3B-0AED8F71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B7E87-A1E4-48AE-8B8F-9644BA25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C2C8E-FA5F-4FF2-B74C-654149DA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5BC30-CDDF-4FE4-9BB5-E2B16206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BC846-F348-44EC-AC96-E5A80818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FB0E2-665E-4D8F-9CA0-49B8782D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EC15-C0EA-4033-8F24-8EF4CAC8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0D19F-F329-49F6-9399-B48F6F62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5EC79-99EA-45CF-A7A9-697DBD41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14E0A-42EA-407F-8B00-F8EA3B7C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2E9-D092-46FA-A145-16564287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66703-9199-4DB8-BEC4-CEA0464C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4F41A-0E2C-483E-951B-67FFE69A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2A1D6-BEE8-4B27-B2CD-6304F9C1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6DB49-A4C3-4D40-B944-CB6EDB66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6E536-F534-4CF2-9984-562F30A3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B81C3-78D5-4760-834A-901326EF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2DCFF-E465-4C7A-BE1D-4D6FCEB3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302E7-129A-4051-802D-7858C2B8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858A5-8C9C-4C62-AF4B-1BC5F375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BDFD7-6211-462B-B152-ED938614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697-83AE-4107-BD62-8EDB071A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55835-CD20-40DB-BD17-CFBEDDFE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DEEAC-A5AC-4714-A4C2-44D7B4A1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16762-6FC2-4D3F-814D-5D8EF2D0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BB322-2231-4CF3-92B6-A95BC9FE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213EC-4971-480D-839A-FCEA0F19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EFBDD-C9AA-4A85-A1D1-120E6200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5720-E938-4C3E-8BB8-3C4BFD8A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04AEE-D59A-4714-A7F5-FEA567E5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185E-B63C-44B0-B8E9-3687FE0D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DB473-A432-40D2-BF46-E7E0A194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E57-8658-474F-918B-131C38F8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3200040" y="474840"/>
            <a:ext cx="75438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15FE2-F99F-48C7-A27D-7A26CE9C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C798F-F3EA-431D-9CC6-B9EED0E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B8AC8-5EBB-48FC-B10F-8274A440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4F5B2-9D9E-4938-B524-367E5540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182400" y="420732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52639-AAAE-422B-8BB6-02C70E3D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048080" y="16999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18240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7048080" y="420732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4EEB1-4E14-4E3F-869A-32803D79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73300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83960" y="16999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31824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573300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8283960" y="420732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EFF02-5181-4B03-960E-EFADA727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20020-9111-44B6-9B89-7BC53805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74A9E-3447-412E-B00D-3C807738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AB3DC-D1BC-4EB1-B97F-D871E71F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2.xml"/><Relationship Id="rId7" Type="http://schemas.openxmlformats.org/officeDocument/2006/relationships/slide" Target="slide1.xml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7150-EE17-453C-826B-61A01532377D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1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512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8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9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0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D1A5-7E84-4705-BFC3-3F97606A9D74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568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1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2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3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8968-16C8-413B-A2ED-1D29A11335E7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624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3893-14EC-4B14-BF35-7091872B213F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64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08AC-AF09-48F0-85F2-F45B7F06DDF6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20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F847-580C-4B1B-B342-2F5777A4C7A3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176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ADA4-8459-46F1-B484-CAED086E9C8E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232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6B38-05C7-4548-9A7B-757EAA965C03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288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7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8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7059-EB40-4AF4-B234-AAE90FB9FF7E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344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9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0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1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1BAA-69AA-469C-8AC3-DBFAE65C40DD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400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2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3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4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9E78-A5C1-4AF2-B6E0-4786F3F15736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0" y="304920"/>
            <a:ext cx="297180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0" y="6629400"/>
            <a:ext cx="297180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0" y="0"/>
            <a:ext cx="297180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2971800" y="0"/>
            <a:ext cx="799956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2971800" y="6627960"/>
            <a:ext cx="800100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>
            <a:hlinkClick r:id="rId2" action="ppaction://hlinksldjump"/>
          </p:cNvPr>
          <p:cNvSpPr/>
          <p:nvPr/>
        </p:nvSpPr>
        <p:spPr>
          <a:xfrm>
            <a:off x="152280" y="457200"/>
            <a:ext cx="2667240" cy="838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Facultad de Ciencias Fí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y Matemá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6"/>
          <p:cNvSpPr/>
          <p:nvPr/>
        </p:nvSpPr>
        <p:spPr>
          <a:xfrm>
            <a:off x="3200400" y="0"/>
            <a:ext cx="777240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cc"/>
                </a:solidFill>
                <a:latin typeface="Times New Roman"/>
              </a:rPr>
              <a:t>Débora Riquelm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40"/>
          <p:cNvGrpSpPr/>
          <p:nvPr/>
        </p:nvGrpSpPr>
        <p:grpSpPr>
          <a:xfrm>
            <a:off x="3048120" y="1347840"/>
            <a:ext cx="7924680" cy="100080"/>
            <a:chOff x="3048120" y="1347840"/>
            <a:chExt cx="7924680" cy="100080"/>
          </a:xfrm>
        </p:grpSpPr>
        <p:sp>
          <p:nvSpPr>
            <p:cNvPr id="456" name="Rectangle 38"/>
            <p:cNvSpPr/>
            <p:nvPr/>
          </p:nvSpPr>
          <p:spPr>
            <a:xfrm>
              <a:off x="3048120" y="1347840"/>
              <a:ext cx="7924680" cy="76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39"/>
            <p:cNvSpPr/>
            <p:nvPr/>
          </p:nvSpPr>
          <p:spPr>
            <a:xfrm>
              <a:off x="3048120" y="1371600"/>
              <a:ext cx="792468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AutoShape 47">
            <a:hlinkClick r:id="rId3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Geomet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48">
            <a:hlinkClick r:id="rId4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49">
            <a:hlinkClick r:id="rId5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Modelo M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52">
            <a:hlinkClick r:id="rId6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cc00"/>
                </a:solidFill>
                <a:latin typeface="Times New Roman"/>
              </a:rPr>
              <a:t>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53">
            <a:hlinkClick r:id="rId7" action="ppaction://hlinksldjump"/>
          </p:cNvPr>
          <p:cNvSpPr/>
          <p:nvPr/>
        </p:nvSpPr>
        <p:spPr>
          <a:xfrm>
            <a:off x="-380880" y="144792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99cc00"/>
                </a:solidFill>
                <a:latin typeface="Times New Roman"/>
              </a:rPr>
              <a:t>Estructu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00040" y="47484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3182400" y="1699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8305920" y="662904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6"/>
          </p:nvPr>
        </p:nvSpPr>
        <p:spPr>
          <a:xfrm>
            <a:off x="2971440" y="662904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7"/>
          </p:nvPr>
        </p:nvSpPr>
        <p:spPr>
          <a:xfrm>
            <a:off x="10591920" y="6629040"/>
            <a:ext cx="38088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A2F2-72AC-4858-BFB2-5B768AD92A91}" type="slidenum">
              <a:rPr b="0" lang="es-ES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Defini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1028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l muelle transparente, consiste en una estructuración en base a pilotes tubulares de acero, vigas transversales principales, vigas longitudinales secundarias, losa de hormigón, losa de transición y muro L de contención de la expla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uelle Transpar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69"/>
          <p:cNvSpPr/>
          <p:nvPr/>
        </p:nvSpPr>
        <p:spPr>
          <a:xfrm>
            <a:off x="-378000" y="1455840"/>
            <a:ext cx="3200400" cy="53316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070"/>
          <p:cNvSpPr/>
          <p:nvPr/>
        </p:nvSpPr>
        <p:spPr>
          <a:xfrm>
            <a:off x="2971800" y="6629400"/>
            <a:ext cx="8001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Última actualización: </a:t>
            </a:r>
            <a:fld id="{41C43DF0-5169-49F1-B7C8-6C900DDBDDE5}" type="datetime3">
              <a:rPr b="0" i="1" lang="es-ES" sz="1400" spc="-1" strike="noStrike">
                <a:solidFill>
                  <a:srgbClr val="ffffcc"/>
                </a:solidFill>
                <a:latin typeface="Times New Roman"/>
              </a:rPr>
              <a:t>29 de julio de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071"/>
          <p:cNvSpPr/>
          <p:nvPr/>
        </p:nvSpPr>
        <p:spPr>
          <a:xfrm>
            <a:off x="3048120" y="0"/>
            <a:ext cx="792468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oeficiente de Balas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S COFICIENTES DE BALASTO HORIZONTALES Kh DE UN SUELO PARA EL CALCULO DE LA RESISTENCIA HORIZONTAL DE LOS PILOTES DEL MUELLE SE CALCULAN EN BASE A PRUEBAS DE CARGA HORIZONTALES, CUANDOS ESTAS NO SE POSEAN SE PUEDE UTILIZAR LA SIGUIENTE EXPRE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Kh = 0.15 N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[Kg/cm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Kh : Coeficiente de Balasto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   : Nspt del Suelo desde la superficie a una profundidad cercana a 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Punto de Empotramiento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5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: PROFUNDIDAD DESDE LA SUPERFICIE DE SUELO VIRTUAL DEL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Exterior o Ancho Pilote [c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Diámetro Interior Pilote [cm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En el diseño se debe considerar el efecto de la corrosión sobre el espesor del pilo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Módulo de Elasticidad 2100000 [Kgf/cm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 Inercia Pilotes Tubulares [cm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0"/>
              <p:cNvSpPr txBox="1"/>
              <p:nvPr/>
            </p:nvSpPr>
            <p:spPr>
              <a:xfrm>
                <a:off x="7358040" y="2276640"/>
                <a:ext cx="1257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49" name="Rectangle 9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1"/>
              <p:cNvSpPr txBox="1"/>
              <p:nvPr/>
            </p:nvSpPr>
            <p:spPr>
              <a:xfrm>
                <a:off x="7358040" y="5589720"/>
                <a:ext cx="1590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unto de Empotramiento Virt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0" y="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0" y="3166920"/>
            <a:ext cx="1097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10" descr="MUELLE"/>
          <p:cNvPicPr/>
          <p:nvPr/>
        </p:nvPicPr>
        <p:blipFill>
          <a:blip r:embed="rId1"/>
          <a:srcRect l="8041" t="0" r="6479" b="0"/>
          <a:stretch/>
        </p:blipFill>
        <p:spPr>
          <a:xfrm>
            <a:off x="5991120" y="1557360"/>
            <a:ext cx="4751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4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5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Times New Roman"/>
              </a:rPr>
              <a:t>Estructura de Hormigón Armado - Tabl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24">
            <a:hlinkClick r:id="rId1" action="ppaction://hlinksldjump"/>
          </p:cNvPr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68"/>
          <p:cNvSpPr/>
          <p:nvPr/>
        </p:nvSpPr>
        <p:spPr>
          <a:xfrm>
            <a:off x="6062760" y="1557360"/>
            <a:ext cx="468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   :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1  : SOBRE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    : ACCION SI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2: GRUA PORTACONTEN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3: OTROS EQUIPOS (TOPLIFTER, ETC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3325680" y="3284640"/>
          <a:ext cx="7256520" cy="3049560"/>
        </p:xfrm>
        <a:graphic>
          <a:graphicData uri="http://schemas.openxmlformats.org/drawingml/2006/table">
            <a:tbl>
              <a:tblPr/>
              <a:tblGrid>
                <a:gridCol w="1038240"/>
                <a:gridCol w="1035000"/>
                <a:gridCol w="1038240"/>
                <a:gridCol w="1033560"/>
                <a:gridCol w="1038240"/>
                <a:gridCol w="1035000"/>
                <a:gridCol w="103824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ADOS DE CAR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RM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SM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4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5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Pilotes de Ace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ILOTES DE ACERO SE DISEÑAN CON EL METODO DE LAS TENSIONES ADMISIBLES RECOMENDADAS POR LA NORMA 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ombinaciones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5"/>
          <p:cNvSpPr/>
          <p:nvPr/>
        </p:nvSpPr>
        <p:spPr>
          <a:xfrm>
            <a:off x="-228600" y="30448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24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31" descr=""/>
          <p:cNvPicPr/>
          <p:nvPr/>
        </p:nvPicPr>
        <p:blipFill>
          <a:blip r:embed="rId2"/>
          <a:srcRect l="0" t="0" r="0" b="3426"/>
          <a:stretch/>
        </p:blipFill>
        <p:spPr>
          <a:xfrm>
            <a:off x="3038400" y="1486080"/>
            <a:ext cx="7561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4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5" descr=""/>
          <p:cNvPicPr/>
          <p:nvPr/>
        </p:nvPicPr>
        <p:blipFill>
          <a:blip r:embed="rId2"/>
          <a:srcRect l="0" t="0" r="0" b="4002"/>
          <a:stretch/>
        </p:blipFill>
        <p:spPr>
          <a:xfrm>
            <a:off x="3038400" y="144468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4">
            <a:hlinkClick r:id="rId1" action="ppaction://hlinksldjump"/>
          </p:cNvPr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Picture 5" descr=""/>
          <p:cNvPicPr/>
          <p:nvPr/>
        </p:nvPicPr>
        <p:blipFill>
          <a:blip r:embed="rId2"/>
          <a:srcRect l="0" t="0" r="0" b="4120"/>
          <a:stretch/>
        </p:blipFill>
        <p:spPr>
          <a:xfrm>
            <a:off x="3110040" y="1387440"/>
            <a:ext cx="74898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5" descr=""/>
          <p:cNvPicPr/>
          <p:nvPr/>
        </p:nvPicPr>
        <p:blipFill>
          <a:blip r:embed="rId1"/>
          <a:srcRect l="0" t="0" r="0" b="3780"/>
          <a:stretch/>
        </p:blipFill>
        <p:spPr>
          <a:xfrm>
            <a:off x="3038400" y="1420920"/>
            <a:ext cx="741672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5" descr=""/>
          <p:cNvPicPr/>
          <p:nvPr/>
        </p:nvPicPr>
        <p:blipFill>
          <a:blip r:embed="rId1"/>
          <a:srcRect l="0" t="0" r="0" b="4312"/>
          <a:stretch/>
        </p:blipFill>
        <p:spPr>
          <a:xfrm>
            <a:off x="3117960" y="1413000"/>
            <a:ext cx="74088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una Obra Portuaria debe ser diseñada para las siguientes carg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. Peso Prop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. Sobrecarga Uniforme Normal y Sí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3. Cargas Sís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4. Cargas de Equipos Pesados en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. Cargas de Equipos Pesados, Acciones Diná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7. Cargas de V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8. Impacto en el Atraque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9. Tirones de B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0. Empujes de Tierra y Agua 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1. Efectos Producidos por Variación de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2. Retracción de Fragu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24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5" descr=""/>
          <p:cNvPicPr/>
          <p:nvPr/>
        </p:nvPicPr>
        <p:blipFill>
          <a:blip r:embed="rId1"/>
          <a:srcRect l="0" t="0" r="0" b="3967"/>
          <a:stretch/>
        </p:blipFill>
        <p:spPr>
          <a:xfrm>
            <a:off x="3110040" y="1413000"/>
            <a:ext cx="741672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5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82760" y="1413000"/>
            <a:ext cx="7417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Picture 5" descr=""/>
          <p:cNvPicPr/>
          <p:nvPr/>
        </p:nvPicPr>
        <p:blipFill>
          <a:blip r:embed="rId1"/>
          <a:srcRect l="0" t="0" r="0" b="3997"/>
          <a:stretch/>
        </p:blipFill>
        <p:spPr>
          <a:xfrm>
            <a:off x="3110040" y="1413000"/>
            <a:ext cx="7416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8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1300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8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41440"/>
            <a:ext cx="70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Sobrecarga Uniformemente Distribu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1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NORMAL : 2.5 T/m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BRECARGA SISMICA : 1.25 T/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Modelo Muel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4"/>
          <p:cNvSpPr/>
          <p:nvPr/>
        </p:nvSpPr>
        <p:spPr>
          <a:xfrm>
            <a:off x="-228600" y="35020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Picture 5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3182760" y="1433520"/>
            <a:ext cx="73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3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4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2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Times New Roman"/>
              </a:rPr>
              <a:t>Preguntas?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 Grúa Portaconten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LE2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l Tipo de Grúa Portacontenedores a Utilizar, se modela la acción sísmica de éstas como un sistema de fuerzas equivalentes vertical y horizon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EMPLO: VALPARAISO SITIOS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OCHA: 24.38m (80’ 0’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PACIDAD: 5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RIEL: A-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ESO TOTAL: 800 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AC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rmal Máxima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ísm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25 +/- 5 T/m RIEL, LADO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20 +/- 5 T/m RIEL, LADO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5 T/m RIEL, Dependiendo de la solución de apoyo adop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argas Sís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(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pendiendo de la Zona Sísmica, Suelo y Tipo de Análisis (Modal Espectral, Time History), usar Registro de Aceleraciones, o Espectro de Aceleraciones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: PARA VALPARAISO SITIO 3,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lt;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5 (Tn x To) / (Tn2 + To2 ) To &lt; Tn &l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/g = 0.2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n &gt; 3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: 0.30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n: PERIODO NATURAL DE VIBRACION DEL MOD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/g: ACELERACION ESPEC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Referencia de Coeficientes Sísmicos en Estructuras Portuari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PO DE ESTRUC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UELLE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QUIPOS FIJO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UA PORTACONTENEDORES: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ORIZONTAL C = 0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RTICAL       C = 0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TRUCTURAS DE CONTENCION TRANSITORIAS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 = 0.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actor de Impac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SUAL 20-30% SOBRE CARGAS DE RUEDAS PARA EL DISEÑO DE ELEMENTOS ESTRUCTURALES DE TABLERO DE HORMIGON AR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NO SE EMPLEA FACTOR DE IMPACTO PARA LA CARGA MAXIMA DE LA GRUA MOVIL CUANDO ESTE OPERANDO SOBRE SUS APOY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5">
            <a:hlinkClick r:id="rId1" action="ppaction://hlinksldjump"/>
          </p:cNvPr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Fuerza de Atra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GENERAL LAS FUERZAS EJERCIDAS POR LAS NAVES ATRACADAS SON FUNCION DE LOS SIGUIENTES PARAMETR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RRIENTES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 VELOCIDAD, DIRECC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LA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ALTURA EN EL INTERIOR DE LA POZA, DIRECCION, PERI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ELOCIDAD DE APROXIMACION DE LAS N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LEVACION DEL PUNTO DE APLICACIÓN DEL IMPA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5"/>
          <p:cNvSpPr/>
          <p:nvPr/>
        </p:nvSpPr>
        <p:spPr>
          <a:xfrm>
            <a:off x="-228600" y="21304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2 Marcador de fecha"/>
          <p:cNvSpPr/>
          <p:nvPr/>
        </p:nvSpPr>
        <p:spPr>
          <a:xfrm>
            <a:off x="8305920" y="6629400"/>
            <a:ext cx="228600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3 Marcador de pie de página"/>
          <p:cNvSpPr/>
          <p:nvPr/>
        </p:nvSpPr>
        <p:spPr>
          <a:xfrm>
            <a:off x="2971800" y="6629400"/>
            <a:ext cx="5334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3200400" y="1447920"/>
            <a:ext cx="259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"/>
              </a:rPr>
              <a:t>Cálculo Longitud de Empotramiento Equival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5791320" y="1447920"/>
            <a:ext cx="4952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EL PREDISEÑO DE UN MUELLE TRANSPARENTE CON PILOTES VERTICALES, LA RESISTENCIA LATERAL, FLEXION, CARGA AXIAL EN PILOTES, FLEXION Y CORTE EN LA SUPERESTRUCTURA PUEDE SER CALCULADA DE ACUERDO A UNOS PUNTOS DE EMPOTRAMIENTOS VIRT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200040" y="914040"/>
            <a:ext cx="754380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Geometrí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25">
            <a:hlinkClick r:id="rId1" action="ppaction://hlinksldjump"/>
          </p:cNvPr>
          <p:cNvSpPr/>
          <p:nvPr/>
        </p:nvSpPr>
        <p:spPr>
          <a:xfrm>
            <a:off x="-228600" y="2587680"/>
            <a:ext cx="304812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3:00:37Z</dcterms:created>
  <dc:creator>pc</dc:creator>
  <dc:description/>
  <dc:language>en-US</dc:language>
  <cp:lastModifiedBy>Debora</cp:lastModifiedBy>
  <dcterms:modified xsi:type="dcterms:W3CDTF">2007-09-26T13:58:45Z</dcterms:modified>
  <cp:revision>20</cp:revision>
  <dc:subject/>
  <dc:title>&lt;Nombre del grupo de trabajo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