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CBB5-C3A3-49C2-B3C7-A47B34D171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C703-B13E-49CA-9C51-A437E89B88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ce esta plantilla para crear páginas Web de intranet para un grupo de trabajo o proyecto. Puede modificar el contenido de muestra para incluir la información que desee e incluso puede cambiar la estructura del sitio Web agregando y quitando diapositivas. Los controles de desplazamiento están en el patrón de diapositivas. Para cambiarlos,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seleccion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y, a continuación,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Para agregar o quitar hipervínculos en el texto o los objetos, o para cambiar los hipervínculos existentes, seleccione el texto o el objeto y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ipervíncul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serta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ando termine de personalizar la presentación, elimine estas notas para ahorrar espacio en los archivos HTML fi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obtener más información, consulte en el Asistente para Ayuda los siguientes tem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413-BAEF-4549-A158-13108E8CA3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CA57-CB41-4B38-A588-CC426BA98E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D9F1-B945-4776-8B63-BC7E374DE6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4488-9EEC-46BE-95B0-9DABFB147F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D4E9-048B-4571-A316-32327BB8D8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EC20-40EA-4266-807E-F5EA7CECBF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7FE8-6108-47E8-AE9C-1EFF601C28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9848-DAEF-478D-8A71-4018345F48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96AA-523B-4F73-86B8-676E9C09C0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069B-6A1B-4A9F-A5B3-7A895E43C0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6217-68B1-4B88-9384-A8C12B32F8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4B36-7143-4E40-9BC3-3A740B480D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4FB3-5AA4-4496-8589-BE1102AFB4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4B5-B5F2-4B7F-B22D-A43D4C835A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0BB9-CDA0-4559-99B5-4CD9ED8A99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267D-2258-41C9-B928-CA7E1C3878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57A-D266-48A8-9F5C-80AB175DD3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D606-0D0D-4975-A3DC-04926EB106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A797-63C3-436E-8320-9DCA4D347D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91FA-59DB-4CE9-826C-EB6455D3D7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FC06-50A3-4047-A423-F86D1AB782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6D97-53CA-44B1-A7F3-58E9DB10F1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1A23-9DE2-4B2E-B123-49C895E750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BE0D-52A4-492A-9183-A3F69509B2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18EA-6477-4CEC-88EB-C5FCC681D7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0F8D-11FA-458F-BF91-E510B0DAB7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9186-64BC-4584-A81D-999744AFC5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4975-604D-4FF4-938D-2FB5B65B35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A696-AD01-447D-990C-51B229A36C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678F-962A-4913-AE12-DCBB0805FD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8AB6-1131-4B4D-BD5C-A83C15278F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AE77-F34B-4410-8618-74D993FFEA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8FA-0E20-4596-A8F3-B1C83CAB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777-E99D-4714-AD15-280C8AD2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6E8DB-5AAB-4088-AE8A-36B81BE3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70C61-088D-420C-AF3D-3D439F81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D8544-0DDE-410C-B37C-6D202E4A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57406-C981-4484-87E2-6687FB6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242B9-E18D-4974-B80E-B802C146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38BED-EED2-475E-AE06-BB1B13F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8687E-CF8C-42F1-9593-00BBCD8F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0E7F3-F6BD-4B02-8008-CDB7E7B1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BD1E3-191A-4C29-B83E-F10C9FDF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57590-4B06-443D-A3EF-7C3154F1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6A1-9984-4628-9342-BF46E604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12943-5F6D-42D0-B13C-59507D43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BB7B2-100A-45C2-8C54-24D063F7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4A79C-4B3B-4416-9687-06DA7B60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B1556-4F54-4E56-AD10-8A080FB7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AF135-9E09-45EB-B356-17668532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98FF6-C663-407C-8455-16122D9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E9BDC-28D6-4E72-BC11-1EA58D74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819E7-DCFF-4201-B4E2-D9BDD4DE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D1E4B-ADC0-4815-947E-3F674BF5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41CD9-1BC9-40CA-A552-59420C0A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87B-CE31-4E96-A431-1CBC0E1C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ED9F6-73B7-4AAF-BD43-9309B4F0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9C0CE-1451-4E85-8836-26311D5C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249CF-9ECC-4709-A23A-859A5144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2F1C7-A46A-4BFA-BE0B-B8D2E31E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5D821-82BE-49F2-B73E-6CBDDD13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4BDB7-3FB0-4877-BB97-A8D3B4C9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4F98C-A98A-4145-8760-030B28EF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13C6-9B86-4302-9F9D-6D53E93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BF5FB-490D-429C-BB60-3E0802A3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6C34B-200C-4159-B82D-A9D68F07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A266-BF60-4C32-91A6-51B50FA9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E75B9-3C2B-4440-A7B2-90D290BC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9DB79-20AF-4C6C-9B1F-4546E15C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49B28-7FB5-4D8C-94A2-7F4FF51B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B5529-9F2B-4B9E-9014-8898381E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2B057-BA43-48CB-A122-CEB1C6B3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65901-3EBA-4DC6-9175-B5F52CA5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9BF58-44BD-4BEC-8F14-6326940B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8DE93-0226-4052-9067-E917DAAB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892C0-152B-4CB6-BAE1-7F66FC4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15340-8BBD-425C-838C-3A7F6A6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D58C-DA67-4E20-8BB7-320068E1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9CA20-76BC-4E2E-B91A-3904703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88AAE-DA25-4B8D-A280-2321610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9A230-5505-400D-AB91-4DF7CCEF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92DC6-061E-495E-A650-69C56993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717E9-7EC3-48AA-BABE-1CBDD9D9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5260-175C-44F5-8321-9FF7C524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9786-9F4A-48E8-BEDD-F3901C43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F0C1-FF2A-4B3B-9589-1FED643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2B8E-7191-4283-AC74-D3F82399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07AB-8271-4C31-B55C-F6E20A6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EA0-8FC2-4ECD-98B4-C05C3604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560A-5F28-4474-82A0-68EC7228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6B2D-1C54-4E5D-983E-11D09E87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D7E0-2656-4CF3-A73A-3B5D85A0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7F68-F6A4-4960-94E5-17CCF0E9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49FA-D5BF-46A3-9CA9-40AEF615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B75B-EF81-41C9-A252-1725AFC9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987D-576E-4E16-B488-CBB041DE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3672D-157E-4238-8E7D-DE22DDDA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27A0-500F-43C4-A54D-404B3F35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42D4-F308-4330-8469-0248278F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0A5-B89C-41C5-BD73-3298B777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597D-055D-4BF0-A4A5-88936C58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52452-5D0D-4A2B-929B-7DF885E3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2146-F285-489C-AA11-81AFB87D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1E4C-5678-4C1F-9DAB-05D3E9FE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A522-8EB1-437C-8535-85737763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A22E-2951-4D9F-A134-C5312636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AB01-DBAF-4A82-9100-8DD00867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A4666-B66D-417B-A741-9EB8D223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47C3-EF13-406A-ADAB-2DB747B1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2AAA-C357-463B-BAF5-4DBA7571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E25-15BC-4C56-96A1-46715271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E9032-C7C8-49F1-A74F-930CF6C9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9D58-7534-4E28-A589-749DD233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5C1A-93CE-4779-A559-90BB3E7F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8A1C4-DCF0-4E25-8D5A-C3373C00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B04F-C84F-4435-8089-CAC120A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C927-6E8C-496E-8599-5777667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B767-611C-4EFA-AB98-1BEA493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6E92-EDDD-4EC9-A620-292A1163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0813-A4C7-49BF-A6CB-96EA7826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6A0B2-4C55-498B-B8E1-B2B264D5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369-DA8D-4B39-8E7F-D9A4DB3A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05179-BEDB-4CA5-BA5A-B4AB5357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04C9-4290-4F2E-B22F-D2BF26A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E665-360A-4871-AFF2-9F13E924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DB923-C7DC-485F-8444-F2C7248B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C856C-D6AB-4C23-B407-E2AFA76B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E91B-DF39-4387-9110-BFB11C97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ECE8-563D-403F-A730-DFF1F48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5D768-643C-4387-BA3B-30160A67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4B5CE-CCD5-4B79-8B64-30D3A3D5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2D46E-5C7A-4DA6-A206-EEAE1E77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4C4-F3C1-4439-AC06-AE9A9F0C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E5945-53D4-459E-8063-6DFC3F35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6D996-AE0C-4778-A5BC-3D2E2E0F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98451-FD52-4699-B8CA-6C337E7E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C918-7C45-422B-8A9C-4B95BAE6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D0889-91B3-4702-B077-0AF1D601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1053E-7840-497F-AB29-44C6FC04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05CF7-5C6D-424A-93ED-6D1C04E2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F5319-2BFF-452C-A1EC-8553A716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448D9-2CBD-480D-A415-8C10D24E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47C0-959D-42C5-A463-9A72149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F7E-C98F-4632-8EE0-1D0E5BA6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57892-BA29-4CE7-BA4A-6BE19094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1EF6C-F438-4872-AE4B-BDAB2182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4F591-95AF-4750-B826-7801273F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B2EA7-8AFA-4B13-AEB2-676CC38A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33898-98C3-4D05-820E-2258BB8C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16130-B4B2-4622-B62B-65259377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A97A1-053F-4B21-AE95-4DDD4074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F7609-834F-4B5E-9E5B-11C79BB9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FAC35-40AB-47B8-BE0D-6F53579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914FB-68F6-4F71-9D63-4443D007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904-48F5-4B5A-BD6C-A4A61151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26C18-DD21-4480-9062-C4296FA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8577F-54F9-4C09-A685-61CE399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938A-A2C9-4169-9B1E-EA2CDD1D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CAD76-2967-4F6F-9638-36C40CEC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FCDD1-8EE4-449D-AA73-75C63A2E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15C96-255E-4BAF-8D33-CD8C69D2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1C0C6-E75E-43C9-A338-250459B1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ACD8C-D67A-446C-A1DE-5A976217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41CD0-C912-44A7-890C-42369330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E2BF5-22A3-4960-8F48-25034F91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42F-A444-4FA8-BC6E-BE0CF06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9B41C-E630-4584-834B-4D7D1A01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9C6F2-2103-487A-8E19-A9F3FAD0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7A3B9-ADFF-4AEC-A943-DBF4CF7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7934-E4D6-4EE9-B3D3-4C4533E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936A5-C10F-4BC9-9CAA-283631BC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09ED5-838F-4CC3-8111-84402835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3C2AF-0B28-49C4-A236-090BC579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25C8F-A6EE-46AE-8FAC-5DA033B7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BB1D3-F8E9-4203-A1CA-348D9E26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A5959-0880-4914-A274-6ABDCCA5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A2D3-5CE1-42F9-AB5B-A015A8FAC9E0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1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512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ABCA-4B5F-4155-B5CA-752AD42B158E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568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F811-1A31-4A7B-A96A-2F05D7AFC55F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624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AEFC-EAC4-43B6-8ECF-7041F39BB639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64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BC1C-C9D2-4778-9DD2-EE0AB5A8CCA1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20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0EB3-5CBA-4F93-9BAC-3FDA8002D21C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76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AEE-0C90-4E4F-933B-7FC8C3CEF53B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232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2BA3-7BC6-4137-9343-687F787DA119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288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7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8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7CC-B2FD-4795-A168-55F4D1692EF7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344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9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0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1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EE5F-51AE-4B49-A5B9-7B0A106350AA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400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2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3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4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B999-5E29-4583-9CC3-76E00EAB3442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456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D21A-B03D-4D9E-A114-B36A50A6B55E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muelle transparente, consiste en una estructuración en base a pilotes tubulares de acero, vigas transversales principales, vigas longitudinales secundarias, losa de hormigón, losa de transición y muro L de contención de la expla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uelle Transpar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69"/>
          <p:cNvSpPr/>
          <p:nvPr/>
        </p:nvSpPr>
        <p:spPr>
          <a:xfrm>
            <a:off x="-378000" y="145584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070"/>
          <p:cNvSpPr/>
          <p:nvPr/>
        </p:nvSpPr>
        <p:spPr>
          <a:xfrm>
            <a:off x="2971800" y="6629400"/>
            <a:ext cx="8001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Última actualización: </a:t>
            </a:r>
            <a:fld id="{102F3E30-89F8-4B96-9E7E-D03CC7DBC60B}" type="datetime3"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31 de julio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71"/>
          <p:cNvSpPr/>
          <p:nvPr/>
        </p:nvSpPr>
        <p:spPr>
          <a:xfrm>
            <a:off x="3048120" y="0"/>
            <a:ext cx="792468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oeficiente de Balas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COFICIENTES DE BALASTO HORIZONTALES Kh DE UN SUELO PARA EL CALCULO DE LA RESISTENCIA HORIZONTAL DE LOS PILOTES DEL MUELLE SE CALCULAN EN BASE A PRUEBAS DE CARGA HORIZONTALES, CUANDOS ESTAS NO SE POSEAN SE PUEDE UTILIZAR LA SIGUIENTE EXPRE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Kh = 0.15 N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[Kg/cm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h : Coeficiente de Balasto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   : Nspt del Suelo desde la superficie a una profundidad cercana a 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Punto de Empotramient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5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: PROFUNDIDAD DESDE LA SUPERFICIE DE SUELO VIRTUAL DEL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Exterior o Ancho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Interior Pilote [cm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En el diseño se debe considerar el efecto de la corrosión sobre el espesor del pilo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Módulo de Elasticidad 2100000 [Kgf/cm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Inercia Pilotes Tubulares [cm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0"/>
              <p:cNvSpPr txBox="1"/>
              <p:nvPr/>
            </p:nvSpPr>
            <p:spPr>
              <a:xfrm>
                <a:off x="7358040" y="2276640"/>
                <a:ext cx="12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9" name="Rectangle 9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1"/>
              <p:cNvSpPr txBox="1"/>
              <p:nvPr/>
            </p:nvSpPr>
            <p:spPr>
              <a:xfrm>
                <a:off x="7358040" y="5589720"/>
                <a:ext cx="1590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10" descr="MUELLE"/>
          <p:cNvPicPr/>
          <p:nvPr/>
        </p:nvPicPr>
        <p:blipFill>
          <a:blip r:embed="rId1"/>
          <a:srcRect l="8041" t="0" r="6479" b="0"/>
          <a:stretch/>
        </p:blipFill>
        <p:spPr>
          <a:xfrm>
            <a:off x="5991120" y="1557360"/>
            <a:ext cx="4751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4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5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Times New Roman"/>
              </a:rPr>
              <a:t>Estructura de Hormigón Armado - Tabl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24">
            <a:hlinkClick r:id="rId1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68"/>
          <p:cNvSpPr/>
          <p:nvPr/>
        </p:nvSpPr>
        <p:spPr>
          <a:xfrm>
            <a:off x="6062760" y="1557360"/>
            <a:ext cx="468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   :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1  : SOBRE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  : ACCION SI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2: GRUA PORTACONTEN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3: OTROS EQUIPOS (TOPLIFTER, ET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3325680" y="3284640"/>
          <a:ext cx="7256520" cy="3049560"/>
        </p:xfrm>
        <a:graphic>
          <a:graphicData uri="http://schemas.openxmlformats.org/drawingml/2006/table">
            <a:tbl>
              <a:tblPr/>
              <a:tblGrid>
                <a:gridCol w="1038240"/>
                <a:gridCol w="1035000"/>
                <a:gridCol w="1038240"/>
                <a:gridCol w="1033560"/>
                <a:gridCol w="1038240"/>
                <a:gridCol w="1035000"/>
                <a:gridCol w="103824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ADOS DE CAR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S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4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5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ilotes de Ac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ILOTES DE ACERO SE DISEÑAN CON EL METODO DE LAS TENSIONES ADMISIBLES RECOMENDADAS POR LA NORMA 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5"/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24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31" descr=""/>
          <p:cNvPicPr/>
          <p:nvPr/>
        </p:nvPicPr>
        <p:blipFill>
          <a:blip r:embed="rId2"/>
          <a:srcRect l="0" t="0" r="0" b="3426"/>
          <a:stretch/>
        </p:blipFill>
        <p:spPr>
          <a:xfrm>
            <a:off x="3038400" y="1486080"/>
            <a:ext cx="7561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4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5" descr=""/>
          <p:cNvPicPr/>
          <p:nvPr/>
        </p:nvPicPr>
        <p:blipFill>
          <a:blip r:embed="rId2"/>
          <a:srcRect l="0" t="0" r="0" b="4002"/>
          <a:stretch/>
        </p:blipFill>
        <p:spPr>
          <a:xfrm>
            <a:off x="3038400" y="144468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4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5" descr=""/>
          <p:cNvPicPr/>
          <p:nvPr/>
        </p:nvPicPr>
        <p:blipFill>
          <a:blip r:embed="rId2"/>
          <a:srcRect l="0" t="0" r="0" b="4120"/>
          <a:stretch/>
        </p:blipFill>
        <p:spPr>
          <a:xfrm>
            <a:off x="3110040" y="1387440"/>
            <a:ext cx="7489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5" descr=""/>
          <p:cNvPicPr/>
          <p:nvPr/>
        </p:nvPicPr>
        <p:blipFill>
          <a:blip r:embed="rId1"/>
          <a:srcRect l="0" t="0" r="0" b="3780"/>
          <a:stretch/>
        </p:blipFill>
        <p:spPr>
          <a:xfrm>
            <a:off x="3038400" y="1420920"/>
            <a:ext cx="74167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5" descr=""/>
          <p:cNvPicPr/>
          <p:nvPr/>
        </p:nvPicPr>
        <p:blipFill>
          <a:blip r:embed="rId1"/>
          <a:srcRect l="0" t="0" r="0" b="4312"/>
          <a:stretch/>
        </p:blipFill>
        <p:spPr>
          <a:xfrm>
            <a:off x="3117960" y="1413000"/>
            <a:ext cx="74088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una Obra Portuaria debe ser diseñada para las siguientes carg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.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. Sobrecarga Uniforme Normal y Sí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3. Cargas Sís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4. Cargas de Equipos Pesados en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. Cargas de Equipos Pesados, Acciones Diná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7. Cargas de V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8. Impacto en el Atraque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9. Tirones de B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0. Empujes de Tierra y Agua 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1. Efectos Producidos por Vari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2. Retracción de Fragu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24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5" descr=""/>
          <p:cNvPicPr/>
          <p:nvPr/>
        </p:nvPicPr>
        <p:blipFill>
          <a:blip r:embed="rId1"/>
          <a:srcRect l="0" t="0" r="0" b="3967"/>
          <a:stretch/>
        </p:blipFill>
        <p:spPr>
          <a:xfrm>
            <a:off x="3110040" y="1413000"/>
            <a:ext cx="741672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82760" y="1413000"/>
            <a:ext cx="7417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Picture 5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10040" y="141300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8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13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8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Sobrecarga Uniformemente Distrib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NORMAL : 2.5 T/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SISMICA : 1.25 T/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Preguntas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 Grúa Portaconten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E2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l Tipo de Grúa Portacontenedores a Utilizar, se modela la acción sísmica de éstas como un sistema de fuerzas equivalentes vertical y horizo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EMPLO: VALPARAISO SITIOS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CHA: 24.38m (80’ 0’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: 5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RIEL: A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 TOTAL: 80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A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rmal Máxima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ísm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25 +/- 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+/- 5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 T/m RIEL, Dependiendo de la solución de apoyo adop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Sís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 la Zona Sísmica, Suelo y Tipo de Análisis (Modal Espectral, Time History), usar Registro de Aceleraciones, o Espectro de Aceleraciones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: PARA VALPARAISO SITIO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lt;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5 (Tn x To) / (Tn2 + To2 ) To &lt; Tn &l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g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: 0.30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n: PERIODO NATURAL DE VIBRACION DEL MOD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/g: ACELERACION ESPEC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Referencia de Coeficientes Sísmicos en Estructuras Portuar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UELL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QUIPOS FIJO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UA PORTACONTENEDORES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 C =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       C = 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RUCTURAS DE CONTENCION TRANSITORIA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actor de Impac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SUAL 20-30% SOBRE CARGAS DE RUEDAS PARA EL DISEÑO DE ELEMENTOS ESTRUCTURALES DE TABLERO DE HORMIGON AR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NO SE EMPLEA FACTOR DE IMPACTO PARA LA CARGA MAXIMA DE LA GRUA MOVIL CUANDO ESTE OPERANDO SOBRE SUS APOY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uerza de Atra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LAS FUERZAS EJERCIDAS POR LAS NAVES ATRACADAS SON FUNCION DE LOS SIGUIENTES PARAMETR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RRIENTES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 VELOCIDAD, DIRECC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LA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LTURA EN EL INTERIOR DE LA POZA, DIRECCION,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LOCIDAD DE APROXIMACION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LEVACION DEL PUNTO DE APLICACIÓN DEL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5"/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álculo Longitud de Empotramiento Equival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EL PREDISEÑO DE UN MUELLE TRANSPARENTE CON PILOTES VERTICALES, LA RESISTENCIA LATERAL, FLEXION, CARGA AXIAL EN PILOTES, FLEXION Y CORTE EN LA SUPERESTRUCTURA PUEDE SER CALCULADA DE ACUERDO A UNOS PUNTOS DE EMPOTRAMIENTOS VIRT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25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3:00:37Z</dcterms:created>
  <dc:creator>pc</dc:creator>
  <dc:description/>
  <dc:language>en-US</dc:language>
  <cp:lastModifiedBy>Debora</cp:lastModifiedBy>
  <dcterms:modified xsi:type="dcterms:W3CDTF">2007-09-26T13:58:45Z</dcterms:modified>
  <cp:revision>20</cp:revision>
  <dc:subject/>
  <dc:title>&lt;Nombre del grupo de trabajo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