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109728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B8AF-BC8F-4199-92C2-0F2DFC5B7D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FEDF-662F-44D8-B71A-8B620D8EEF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tilice esta plantilla para crear páginas Web de intranet para un grupo de trabajo o proyecto. Puede modificar el contenido de muestra para incluir la información que desee e incluso puede cambiar la estructura del sitio Web agregando y quitando diapositivas. Los controles de desplazamiento están en el patrón de diapositivas. Para cambiarlos,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seleccion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y, a continuación,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Para agregar o quitar hipervínculos en el texto o los objetos, o para cambiar los hipervínculos existentes, seleccione el texto o el objeto y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Hipervíncul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serta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ando termine de personalizar la presentación, elimine estas notas para ahorrar espacio en los archivos HTML fi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a obtener más información, consulte en el Asistente para Ayuda los siguientes tem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0174-DCC7-48C1-9122-36F8A4EA71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2C4B-1359-4108-A95A-E2A4E446D1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E1BF-D711-4E65-9B85-E2B7B2D477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F390-6800-4304-802E-17043A80B0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E55D-F729-4C96-94FB-B7C4FD8A24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563B-C3CB-4FD6-A488-2CD5D2151C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738A-4FD2-414F-B1E0-4F0576BABC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A29F-79E7-4B0F-8DE7-D60DA2D8A8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34BE-70D1-42CA-866F-FD69CF2EB5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2DB7-CA36-4D60-BBC7-D42561C82EE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ADFC-84D2-492D-B3FF-408FF7C34B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DC4A-837F-41F9-BB0F-466FDCB20B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383E-6EA9-45F4-8C79-6671E627FB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20B-84C8-4516-86A3-BE87303DDA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57BF-27B5-4BD0-B467-9C7E2AD10A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910F-E535-44E7-AF5C-A38FCC16B4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8049-8665-4EF7-B92F-9F7209D4CD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527C-10F3-4E19-A7E5-0AE9CD7351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57DD-D76C-476E-882D-660E4ECBE1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395E-6201-461C-B8C5-AA0921EA52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5239-158A-4EB2-B285-DE5C7E5E59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A25C-1868-49A9-8040-0B23B01ED4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9F3C-89D2-4C18-A553-CB81D32142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20A0-9924-473A-A8EA-08726AC9B7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D403-09AE-4BF6-9CFB-38A66B1D57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5779-6EE5-464F-8CEA-5AEA8D4758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8640-E5C6-4659-8104-9D9A95260A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4546-A33C-45CF-AF25-3ECDE3DB15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64C7-2F41-45DA-AB2E-CF3BA817A1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8645-B972-4FE9-88C3-04D60D8099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88A0-0DFF-485A-A5AD-D020D9F786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8A6D-37BC-47B7-9782-73158F137F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19A-FCBC-41F3-8306-C4FCEA45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776-58E2-4970-AF68-BD28BD1B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80752-9C97-40D0-B745-E6231AD6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83F42-BC84-4308-B7F5-2D6CEF05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683FA-3FCF-46A0-B073-83D95406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EBD61-9BEB-409F-985B-B18FB5F5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8022D-611E-4D6C-B585-5664DA78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F3AC1-02F1-449F-BE69-C0682C2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62727-15B3-4F85-A0FB-4D852B6B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E8125-4756-4E17-945C-A9B0C549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39A95-A374-4EB3-8C0E-16FC518F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4E996-A751-4AB2-AA97-21AB1397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DC1-E471-4E8E-8DE6-935C53DC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51F7F-A6E7-4692-965C-5A688413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EAE8F-1253-4461-8504-03DFD6EB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EADB8-6372-4313-A7CA-53C2D7E8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2EDC5-856A-4EBB-9906-2DA4D6E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DF6ED-7FD9-4C3B-B440-845C6289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42CC3-87A4-4AAD-928A-E5BA00FE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7B127-D334-405A-8525-5F16E714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FFEC8-B9F5-45DF-9AAE-964DEE8E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68A65-51D0-49FF-8985-7C9C1D4A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99EED-159D-41D9-8678-F5DE857D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051-15C1-4969-B981-CD91D29B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0CBC0-66B6-4DFA-BD3A-3DF5B023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4E6C5-BF88-417D-9EDD-1DA4BE9D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E2A3E-BE05-4CB9-97C8-BF94BA6B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F6732-2A82-4FEA-9E71-DF04F5A0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66F83-0790-4312-BACD-53D020DB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0C002-8A99-4AE6-9B80-62CF708C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34AEF-9F4C-42DA-B077-6FA51E22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D7EFA-C6B5-49AA-A191-A5F325E7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3F022-961C-424F-8918-CD238275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95112-3682-4E38-A722-EFFFBD7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DC51-3FFC-49E0-BBEE-54698EC2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BCD12-CE35-4FE5-AD89-AB6475CC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DC090-EAF2-4ABC-A14C-084D7057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FCA88-0E29-41AB-82C3-79528EA8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0704C-350D-429F-8EC8-956B5C46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A8902-49A4-4B65-9244-622118CF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A6A9E-590F-4BB1-8570-6D90F20E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1765E-61A9-4755-A77D-7AA1A9D4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845DE-80FE-4A84-8456-D926BC24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4EC27-7167-4DC7-A679-7C9EB9CA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F1B5D-2638-42B4-82D4-FFBA5504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95CE-7DDD-4569-A77E-7375F211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0485B-D103-4DD5-A448-2704321B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99240-B307-4B60-9AF6-223108CF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008AC-B804-4064-AE57-8CB5F224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F5552-2309-4D0D-BED6-4966A0AE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7F4A9-6383-4D15-A015-384C9C2A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D7CC-C2E1-4310-92AB-95506317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5970-70B7-4BA9-BB7C-D4AC17BA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B7CE-DFC7-4BD4-A8E0-28A11232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7330-A837-402F-8133-007D623E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49E0-F805-4E42-B9FD-1B28599E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089-2457-49FD-BE29-C2409FBD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89B1-4A30-4512-BCEF-6C75CE08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E0D9-D015-455E-B66C-841E254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DB12-00EB-47D0-A484-01CD3B0C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B36F-425A-4CC3-817B-102DE845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72F4-43ED-4B49-BEAA-C1F41463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C43A-3219-4ED5-B954-6ED970D5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B9BF-60FF-4130-A679-BE2C26F8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9B90-63F3-48A4-99FC-0CD51593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6AF9-618D-42C6-8FC5-D57F2DE5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C3BFC-CC6A-46F6-A07E-8434BC01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785-8A28-4888-B7F6-CA411456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2D3A-9581-4045-90DB-B21CF22C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1562-B931-4C3E-A515-1AD518D4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552F4-7B30-4F94-B8A7-235E50B4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34AE-61FA-43C1-9A99-2772E471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EAD0-4766-4E27-A13D-C28F64BB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2E00-B8EA-462D-933F-66940A61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B5ED-D87F-48AB-8EFA-0A02CF30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6D6BC-4214-427F-8F7A-93C882F3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C91FD-AC67-46F9-9B20-355A89AC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F490B-AD73-44A4-9BDE-336AED0F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0FA-BBA0-49DB-85AF-FECFCAF1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137C8-DE6A-4428-9A6B-2D31B239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5C25-9F0E-436B-B0AD-DEB847A6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9D57-BB60-49E6-8B46-51386864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51DB-1DC8-45E6-8871-D621916A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5FD61-D2CF-4C65-9C6A-4F43FD86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CD10-6010-42C1-A66B-E0CF9032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6326-6BE1-43DD-8A65-BBB8B259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B696-B916-43B2-B986-DFE37FAE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5282-F4EE-42CE-82FE-36A8B67C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E275E-70D7-4862-80A9-19D55B2E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EA2-5B5B-48ED-B66C-021D2E2F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8521-54C6-411E-BB11-49384932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A0705-2F89-4E82-B711-9135786F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630DB-6A3B-4035-AE1B-FEE78C02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7DCEA-2738-4606-AB4E-45434FC0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FC12-776B-48AE-A74D-85930B6F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89247-6191-40E4-81E3-BC15C7D4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3E8DF-609C-4B3E-83B2-09B11EB8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696E2-2DE1-4302-BCEB-E283EC75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CDEE-D257-4F04-B8C2-BF617DD8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BC02-834C-438C-A8B3-03261024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92A-281E-421C-96AB-EE70BB16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F24D7-502B-4F09-9631-4CD551D5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1C325-F57E-48E3-8735-AEADE90A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AF64A-4174-4192-B137-DDE5CD30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44273-8BA0-49E0-90FA-4C0AC1F7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5B5D5-5988-411B-90D1-C604974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1F35C-23EF-4861-AEE0-C3E9D37B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CD80C-3EEE-4D3B-98C9-5A3BDF91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B1168-2C4F-4D9A-8C0E-38F7048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E0FB6-9D90-4C86-9697-78082523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9C61D-133C-4BFB-BF12-D31D33C7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7F2-81F6-4398-B4CE-F590D82F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DEC9D-C906-4374-8706-538B59B8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63912-09D2-4557-A5F6-D981F091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C0B3E-60EC-460E-BBEF-ACB5E24A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A45AA-2B11-4C2D-BA27-42CFC0B0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CC096-DD51-421E-984B-5825A4E1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98652-BC34-445A-A4F7-F42A8FC6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C0582-397E-4B27-95C9-071749C8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F329E-7C0E-495B-A4C5-0DB85EB3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7DE60-91D8-4638-9164-D45EF8D9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3945-0734-4AC9-BA7C-E3EE445D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A14-DF51-4E8C-A917-05C254AB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1B74E-F8B0-4909-8A44-B2773D3D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DF4B9-9E86-4778-9131-0BC954A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758D1-25EA-4CE2-9241-11A4D830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2B8EA-76AD-4D24-97AB-1BDA9302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3663D-70C9-428B-BE52-C4AA93C3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65AD3-A317-4EE3-B644-61EDE186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D65E1-CC76-46CC-B6AF-D16CA548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F9CFA-2952-4C36-BC9B-B3D0B107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6DA37-283F-4F31-9460-F20C8293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B9F6A-4F3E-445F-8EDA-676A0D61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3FA-43ED-45DF-B83A-3C932DBD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4039A-C131-4DF9-A012-054A5290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12BFE-186C-4F6C-A12B-77BD4EF0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09962-FA12-4C7B-A187-A05177B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C5B1B-C13B-41B5-9105-2374F47E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664D9-7EA5-40F9-B079-F05AABA3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BAA6F-C4C3-41A9-9E79-3D2C1304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74BCF-4A00-4C20-905F-BF41AD3F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0978B-03BC-4460-A992-E2A69A5C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C8E25-A51D-4D88-B852-28FCFE93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99EEE-1568-4B55-AD6F-84E3902A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DBF1-B94E-41F1-B89A-3F32181EE8D7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1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512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8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9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0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A17-1371-4A94-A89F-CE8BCFAE6C00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568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E368-8DFA-41C7-AF01-B225F487BD47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624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17CC-21E1-4A06-AC53-CCA53B3F2EBF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64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DC0D-A088-49D5-8312-F6DBCD06B96B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20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8438-9D8F-4002-B58C-FA3419BAA5D8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76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1CC9-539F-403D-84C8-CA61CD660E20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232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3CB0-06ED-4397-8CB3-DC6E208D6450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288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7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8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334F-2ED1-4851-B48F-D8B1E4CA5820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344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9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0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1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CFC5-6115-4148-9CB6-66CEBAEA7269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400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2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3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4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A3D1-EB27-4B22-A3EC-98D47B2CC458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456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FCEB-2CE9-41C0-BC25-670C85DC597C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1028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muelle transparente, consiste en una estructuración en base a pilotes tubulares de acero, vigas transversales principales, vigas longitudinales secundarias, losa de hormigón, losa de transición y muro L de contención de la expla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uelle Transpar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69"/>
          <p:cNvSpPr/>
          <p:nvPr/>
        </p:nvSpPr>
        <p:spPr>
          <a:xfrm>
            <a:off x="-378000" y="145584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070"/>
          <p:cNvSpPr/>
          <p:nvPr/>
        </p:nvSpPr>
        <p:spPr>
          <a:xfrm>
            <a:off x="2971800" y="6629400"/>
            <a:ext cx="8001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Última actualización: </a:t>
            </a:r>
            <a:fld id="{9E8D5CD3-2A7C-4F4E-BC2B-DE56336681A3}" type="datetime3"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31 de julio de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071"/>
          <p:cNvSpPr/>
          <p:nvPr/>
        </p:nvSpPr>
        <p:spPr>
          <a:xfrm>
            <a:off x="3048120" y="0"/>
            <a:ext cx="792468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oeficiente de Balas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S COFICIENTES DE BALASTO HORIZONTALES Kh DE UN SUELO PARA EL CALCULO DE LA RESISTENCIA HORIZONTAL DE LOS PILOTES DEL MUELLE SE CALCULAN EN BASE A PRUEBAS DE CARGA HORIZONTALES, CUANDOS ESTAS NO SE POSEAN SE PUEDE UTILIZAR LA SIGUIENTE EXPRE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Kh = 0.15 N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[Kg/cm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Kh : Coeficiente de Balasto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   : Nspt del Suelo desde la superficie a una profundidad cercana a 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Punto de Empotramiento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5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: PROFUNDIDAD DESDE LA SUPERFICIE DE SUELO VIRTUAL DEL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Exterior o Ancho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Interior Pilote [cm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En el diseño se debe considerar el efecto de la corrosión sobre el espesor del pilo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Módulo de Elasticidad 2100000 [Kgf/cm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Inercia Pilotes Tubulares [cm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0"/>
              <p:cNvSpPr txBox="1"/>
              <p:nvPr/>
            </p:nvSpPr>
            <p:spPr>
              <a:xfrm>
                <a:off x="7358040" y="2276640"/>
                <a:ext cx="1257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49" name="Rectangle 9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1"/>
              <p:cNvSpPr txBox="1"/>
              <p:nvPr/>
            </p:nvSpPr>
            <p:spPr>
              <a:xfrm>
                <a:off x="7358040" y="5589720"/>
                <a:ext cx="1590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10" descr="MUELLE"/>
          <p:cNvPicPr/>
          <p:nvPr/>
        </p:nvPicPr>
        <p:blipFill>
          <a:blip r:embed="rId1"/>
          <a:srcRect l="8041" t="0" r="6479" b="0"/>
          <a:stretch/>
        </p:blipFill>
        <p:spPr>
          <a:xfrm>
            <a:off x="5991120" y="1557360"/>
            <a:ext cx="4751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4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5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Times New Roman"/>
              </a:rPr>
              <a:t>Estructura de Hormigón Armado - Tabl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24">
            <a:hlinkClick r:id="rId1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68"/>
          <p:cNvSpPr/>
          <p:nvPr/>
        </p:nvSpPr>
        <p:spPr>
          <a:xfrm>
            <a:off x="6062760" y="1557360"/>
            <a:ext cx="468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   :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1  : SOBRE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  : ACCION SI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2: GRUA PORTACONTEN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3: OTROS EQUIPOS (TOPLIFTER, ETC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3325680" y="3284640"/>
          <a:ext cx="7256520" cy="3049560"/>
        </p:xfrm>
        <a:graphic>
          <a:graphicData uri="http://schemas.openxmlformats.org/drawingml/2006/table">
            <a:tbl>
              <a:tblPr/>
              <a:tblGrid>
                <a:gridCol w="1038240"/>
                <a:gridCol w="1035000"/>
                <a:gridCol w="1038240"/>
                <a:gridCol w="1033560"/>
                <a:gridCol w="1038240"/>
                <a:gridCol w="1035000"/>
                <a:gridCol w="103824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ADOS DE CAR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SM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4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5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ilotes de Ace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ILOTES DE ACERO SE DISEÑAN CON EL METODO DE LAS TENSIONES ADMISIBLES RECOMENDADAS POR LA NORMA 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5"/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24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31" descr=""/>
          <p:cNvPicPr/>
          <p:nvPr/>
        </p:nvPicPr>
        <p:blipFill>
          <a:blip r:embed="rId2"/>
          <a:srcRect l="0" t="0" r="0" b="3426"/>
          <a:stretch/>
        </p:blipFill>
        <p:spPr>
          <a:xfrm>
            <a:off x="3038400" y="1486080"/>
            <a:ext cx="7561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4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5" descr=""/>
          <p:cNvPicPr/>
          <p:nvPr/>
        </p:nvPicPr>
        <p:blipFill>
          <a:blip r:embed="rId2"/>
          <a:srcRect l="0" t="0" r="0" b="4002"/>
          <a:stretch/>
        </p:blipFill>
        <p:spPr>
          <a:xfrm>
            <a:off x="3038400" y="144468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4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Picture 5" descr=""/>
          <p:cNvPicPr/>
          <p:nvPr/>
        </p:nvPicPr>
        <p:blipFill>
          <a:blip r:embed="rId2"/>
          <a:srcRect l="0" t="0" r="0" b="4120"/>
          <a:stretch/>
        </p:blipFill>
        <p:spPr>
          <a:xfrm>
            <a:off x="3110040" y="1387440"/>
            <a:ext cx="7489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5" descr=""/>
          <p:cNvPicPr/>
          <p:nvPr/>
        </p:nvPicPr>
        <p:blipFill>
          <a:blip r:embed="rId1"/>
          <a:srcRect l="0" t="0" r="0" b="3780"/>
          <a:stretch/>
        </p:blipFill>
        <p:spPr>
          <a:xfrm>
            <a:off x="3038400" y="1420920"/>
            <a:ext cx="74167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5" descr=""/>
          <p:cNvPicPr/>
          <p:nvPr/>
        </p:nvPicPr>
        <p:blipFill>
          <a:blip r:embed="rId1"/>
          <a:srcRect l="0" t="0" r="0" b="4312"/>
          <a:stretch/>
        </p:blipFill>
        <p:spPr>
          <a:xfrm>
            <a:off x="3117960" y="1413000"/>
            <a:ext cx="74088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una Obra Portuaria debe ser diseñada para las siguientes carg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.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. Sobrecarga Uniforme Normal y Sí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3. Cargas Sís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4. Cargas de Equipos Pesados en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. Cargas de Equipos Pesados, Acciones Diná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7. Cargas de V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8. Impacto en el Atraque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9. Tirones de B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0. Empujes de Tierra y Agua 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1. Efectos Producidos por Vari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2. Retracción de Fragu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24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5" descr=""/>
          <p:cNvPicPr/>
          <p:nvPr/>
        </p:nvPicPr>
        <p:blipFill>
          <a:blip r:embed="rId1"/>
          <a:srcRect l="0" t="0" r="0" b="3967"/>
          <a:stretch/>
        </p:blipFill>
        <p:spPr>
          <a:xfrm>
            <a:off x="3110040" y="1413000"/>
            <a:ext cx="741672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82760" y="1413000"/>
            <a:ext cx="7417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Picture 5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10040" y="141300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8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1300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8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Sobrecarga Uniformemente Distrib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1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NORMAL : 2.5 T/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SISMICA : 1.25 T/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Preguntas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 Grúa Portaconten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E2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l Tipo de Grúa Portacontenedores a Utilizar, se modela la acción sísmica de éstas como un sistema de fuerzas equivalentes vertical y horizon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EMPLO: VALPARAISO SITIOS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CHA: 24.38m (80’ 0’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PACIDAD: 5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RIEL: A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ESO TOTAL: 80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A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rmal Máxima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ísm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25 +/- 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+/- 5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 T/m RIEL, Dependiendo de la solución de apoyo adop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Sís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 la Zona Sísmica, Suelo y Tipo de Análisis (Modal Espectral, Time History), usar Registro de Aceleraciones, o Espectro de Aceleraciones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: PARA VALPARAISO SITIO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lt;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5 (Tn x To) / (Tn2 + To2 ) To &lt; Tn &l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g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: 0.30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n: PERIODO NATURAL DE VIBRACION DEL MOD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/g: ACELERACION ESPEC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Referencia de Coeficientes Sísmicos en Estructuras Portuar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UELL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QUIPOS FIJO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UA PORTACONTENEDORES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 C = 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       C = 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TRUCTURAS DE CONTENCION TRANSITORIA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actor de Impac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SUAL 20-30% SOBRE CARGAS DE RUEDAS PARA EL DISEÑO DE ELEMENTOS ESTRUCTURALES DE TABLERO DE HORMIGON AR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NO SE EMPLEA FACTOR DE IMPACTO PARA LA CARGA MAXIMA DE LA GRUA MOVIL CUANDO ESTE OPERANDO SOBRE SUS APOY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uerza de Atra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LAS FUERZAS EJERCIDAS POR LAS NAVES ATRACADAS SON FUNCION DE LOS SIGUIENTES PARAMETR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RRIENTES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 VELOCIDAD, DIRECC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LA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ALTURA EN EL INTERIOR DE LA POZA, DIRECCION,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LOCIDAD DE APROXIMACION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LEVACION DEL PUNTO DE APLICACIÓN DEL 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5"/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álculo Longitud de Empotramiento Equival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EL PREDISEÑO DE UN MUELLE TRANSPARENTE CON PILOTES VERTICALES, LA RESISTENCIA LATERAL, FLEXION, CARGA AXIAL EN PILOTES, FLEXION Y CORTE EN LA SUPERESTRUCTURA PUEDE SER CALCULADA DE ACUERDO A UNOS PUNTOS DE EMPOTRAMIENTOS VIRT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25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3:00:37Z</dcterms:created>
  <dc:creator>pc</dc:creator>
  <dc:description/>
  <dc:language>en-US</dc:language>
  <cp:lastModifiedBy>Debora</cp:lastModifiedBy>
  <dcterms:modified xsi:type="dcterms:W3CDTF">2007-09-26T13:58:45Z</dcterms:modified>
  <cp:revision>20</cp:revision>
  <dc:subject/>
  <dc:title>&lt;Nombre del grupo de trabajo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