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9.png" ContentType="image/png"/>
  <Override PartName="/ppt/media/image39.png" ContentType="image/png"/>
  <Override PartName="/ppt/media/image22.jpeg" ContentType="image/jpeg"/>
  <Override PartName="/ppt/media/image8.jpeg" ContentType="image/jpeg"/>
  <Override PartName="/ppt/media/image13.jpeg" ContentType="image/jpeg"/>
  <Override PartName="/ppt/media/image31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7.png" ContentType="image/png"/>
  <Override PartName="/ppt/media/image37.png" ContentType="image/png"/>
  <Override PartName="/ppt/media/image11.jpeg" ContentType="image/jpeg"/>
  <Override PartName="/ppt/media/image36.wmf" ContentType="image/x-wmf"/>
  <Override PartName="/ppt/media/image16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04C-5943-49D6-ACAB-C2C0F20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C22-4A68-4EC2-B996-900798A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769-790B-4827-9F47-BD697F54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CE1-D26E-49DD-A1A1-66D7F8C0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D02-BB06-49ED-9E51-0151922C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38E-6732-43C9-B2B3-E80671E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674-B13F-4B95-9A2F-DA47369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16C5-357D-4063-A42B-F03A6BF8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D65C-6098-4ED2-AEF9-FB1B6E4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3EE9-C485-4B05-AED3-3A655043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1FB-2B7C-4FB6-A8B4-923ACA3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4FB-18D8-4B0E-87B6-33976F1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28E-8B2D-4D75-87F3-EE1CCB1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CF0-96BB-4E4E-AD23-2C797ED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CDF-99B8-4C9B-8A64-6C9FF1F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D4D2-3446-4A56-92FA-EB28602F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7C8E-8236-4583-8DB9-8406DDEA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81F6-B07A-4132-9958-3B9E68D5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E1D6-4EC1-4D57-BE78-6083817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675B-2A12-4BA1-A4D0-BB298F2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579A-6932-4747-AC23-153710D5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990E-4183-484E-A724-DF74EC6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57A-9793-4A87-AF6A-5181D527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E4D9-4306-4F0A-9243-49977D90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CAA1-BDBD-486B-8EF1-2CFE1468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5C09-B52A-44A3-8877-0D2AD34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88AB-D03D-419E-9243-1FA0FDD1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303B-11D9-49AD-AE7B-CBABD4AA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AB75-E638-4320-A350-928284EF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EFAA-1175-4907-B8DE-D6EB044B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BEA3-2060-4F0F-BDC1-6F6EAB40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BE6A-39A2-42B7-8D90-202950E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39C3-3EE7-4B8D-9CB7-AFA8F83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636-8DD6-4ABA-8A7B-27D7611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A27C-E4C4-44FE-9110-84774A9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1827-9C04-4D73-967E-46157D5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00A5-A214-4354-979B-64F46C9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60E3-5F12-4F57-B3E9-4DADD21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55BD-7234-49EB-934F-58F1407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7930-E80A-49F7-BD87-B517DE7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CF6E-962F-448A-899E-7D42D16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8D7D-29F8-4C63-B6BE-1516F14A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3804-F024-4F40-851C-09C77E2A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910-CE89-4B8C-9A77-42CB5B9B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C95-D353-43D9-942E-BB43D10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4E3-5643-4EA5-B6FC-643804D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F2B-7BB5-48A1-B437-55B4FD5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E71-BC16-470F-B09F-4AD1EBC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946-50AC-4CB2-97F2-BEAEC71D98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EAF-7B43-456B-9899-4196CE25F9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881-2817-41AA-93E9-8423A388E2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CB6-30E6-499F-8CE6-EB7C170809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357440"/>
            <a:ext cx="7854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nstantia"/>
              </a:rPr>
              <a:t>CI-62B DISEÑO DE OBRAS PORTUARIA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nstantia"/>
              </a:rPr>
              <a:t>Débora Riquelme Valencia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Swis721 BT"/>
              </a:rPr>
              <a:t>CARACTERÍSTICAS GENERALES DE LAS OBRAS MARÍTIMA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on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de alto cos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millones de US$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u construcción es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compleja</a:t>
            </a: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experiencia, equip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e proyectan en un ambiente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agresivo</a:t>
            </a: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 y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desconoci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“Pacífico” S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u necesidad es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crecien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nuestro litoral es un enorme recur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0000"/>
                </a:solidFill>
                <a:latin typeface="Swis721 BT"/>
              </a:rPr>
              <a:t>ADEMÁS ... CHILE ES UN PAÍS SÍSMICO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12" descr="C:\Publicaciones\Present JVA\SnAntonio terremoto.jpg"/>
          <p:cNvPicPr/>
          <p:nvPr/>
        </p:nvPicPr>
        <p:blipFill>
          <a:blip r:embed="rId2"/>
          <a:stretch/>
        </p:blipFill>
        <p:spPr>
          <a:xfrm>
            <a:off x="714240" y="1359000"/>
            <a:ext cx="72867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Swis721 BT"/>
              </a:rPr>
              <a:t>PERO A PESAR DE ESTO..... LAS OBRAS MARÍTIMAS SON UN LINDO DESAFÍO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13" descr="\\Anton\0project\psf1.JPG"/>
          <p:cNvPicPr/>
          <p:nvPr/>
        </p:nvPicPr>
        <p:blipFill>
          <a:blip r:embed="rId2"/>
          <a:srcRect l="0" t="0" r="4618" b="0"/>
          <a:stretch/>
        </p:blipFill>
        <p:spPr>
          <a:xfrm>
            <a:off x="2684520" y="1160640"/>
            <a:ext cx="574524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estudian los efectos que condicionan  la propagación del oleaje desde aguas profundas hacia aguas poco profundas (o someras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define OLEAJE EN AGUAS POCO PROFUNDAS (shoaling waters) aquel que se propaga donde la profundidad no es constante y varía en forma suave de manera que no ocurra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Reflexión para olas de corto perío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 afecte la mecánica del oleaje, localmente a una cierta profundid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sto implica que pueden usarse las ecuaciones para el fondo plan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general, estos requerimientos se cumplen en gran parte de los casos, especialmente aquellos conformados por aren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problema a resolver es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CONOCIDAS LAS CONDICIONES DEL OLEAJE A UNA PROFUNDIDAD, ¿CÓMO SE DETERMINAN LAS CONDICIONES DEL MISMO CUANDO SE PROPAGA A OTRA PROFUNDIDAD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problema generalmente se reduce a calcular la propagación desde aguas profundas hacia la cost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wis721 BT"/>
                <a:ea typeface="Times New Roman"/>
              </a:rPr>
              <a:t>Ho, T, Dir (en aguas profundas) </a:t>
            </a:r>
            <a:r>
              <a:rPr b="1" lang="es-ES_trad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s-ES_tradnl" sz="1600" spc="-1" strike="noStrike">
                <a:solidFill>
                  <a:srgbClr val="ff0000"/>
                </a:solidFill>
                <a:latin typeface="Swis721 BT"/>
                <a:ea typeface="Times New Roman"/>
              </a:rPr>
              <a:t>  H, T, Dir (en la costa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primer lugar se establece que el </a:t>
            </a: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período permanece constante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 esta manera, como la batimetría i.e. La profundidad se conoce, entonces se conoce la longitud y celeridad del oleaje en cualquier punt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86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el oleaje se propaga hacia aguas poco profundas, es sometido a dos efect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SHOAL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Una onda que se propaga disminuye gradualmente su celeridad y longitud de onda e incrementa su altura, deformándose. Según la TLO hasta infinito, pero antes la ola romperá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RE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Relaciona la celeridad con la dirección de propagación de la on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a onda se aproxima en sentido oblicuo a los veriles, las secciones del frente de ola “sienten” el fondo y experimentan una desviación progresiva que tiende a alinear al frente con los verile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47862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l arribar a la costa, el oleaje experimenta además efectos de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DI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fecto por el que la energía se transmite a lo largo del frente producto de obstáculos naturales en el sentido de propagación. Caso típico en molos de abrig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RESONANCI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genera cuando un oleaje de período similar al de oscilación de una bahía, puerto o cuerpo de agua semiconfinado, excita a la masa de agua, generando una amplificación en forma de ondas estacionaria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También se presentan efectos de : reflexión, disipación, transferencias no-lineales, gener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ETERMINACIÓN DE LA ALTURA DE OND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Un concepto fundamental para la teoría clásica de la refracción y shoaling, es que la energía no se propaga a través de las ortogonales. Para esto se requiere qu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Olas sean de cresta larg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ltura de ola no varíe a lo largo del frente de o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rvaturas del frente sean pequeñas y no afecte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a velocidad de propagación (ó cálculo de L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 existan corrientes transversal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2"/>
          <a:srcRect l="25896" t="18503" r="20251" b="21332"/>
          <a:stretch/>
        </p:blipFill>
        <p:spPr>
          <a:xfrm>
            <a:off x="5262480" y="3483000"/>
            <a:ext cx="3618000" cy="3032280"/>
          </a:xfrm>
          <a:prstGeom prst="rect">
            <a:avLst/>
          </a:prstGeom>
          <a:ln w="0">
            <a:noFill/>
          </a:ln>
        </p:spPr>
      </p:pic>
      <p:sp>
        <p:nvSpPr>
          <p:cNvPr id="238" name="4 Rectángulo"/>
          <p:cNvSpPr/>
          <p:nvPr/>
        </p:nvSpPr>
        <p:spPr>
          <a:xfrm>
            <a:off x="785880" y="4500720"/>
            <a:ext cx="307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n estos supuestos, se utiliza el principio de conservación del flujo de energía que se transmite entre las ortogonales. Con esto se puede calcular la altura de ola 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ETERMINACIÓN DE LA ALTURA DE OND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27147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puede asumir que la ganancia de energía (por viento) es menor si la distancia entre 1 y 2 es menor a 50–100 longitudes de on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i 1 y 2 se separan a menos de 20 longitudes de onda, las pérdidas son despreciabl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asume que no hay rompimiento ni “white caps”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Bajo estos supuesto se llega 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714240" y="4000680"/>
                <a:ext cx="2365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d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42" name="Picture 2" descr=""/>
          <p:cNvPicPr/>
          <p:nvPr/>
        </p:nvPicPr>
        <p:blipFill>
          <a:blip r:embed="rId2"/>
          <a:srcRect l="25896" t="18503" r="20251" b="21332"/>
          <a:stretch/>
        </p:blipFill>
        <p:spPr>
          <a:xfrm>
            <a:off x="5262480" y="3483000"/>
            <a:ext cx="3618000" cy="303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14240" y="4929120"/>
                <a:ext cx="189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714240" y="5869080"/>
                <a:ext cx="932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00"/>
                </a:solidFill>
                <a:latin typeface="Swis721 Ex BT"/>
              </a:rPr>
              <a:t>CLASE DE HIDRÁULICA MARITIMA</a:t>
            </a:r>
            <a:br>
              <a:rPr sz="54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1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2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Propagación del Oleaj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3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Ejercicio Práct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4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Trabajo en Grup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 (ASOMERAMIENTO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6" name="Group 13"/>
          <p:cNvGrpSpPr/>
          <p:nvPr/>
        </p:nvGrpSpPr>
        <p:grpSpPr>
          <a:xfrm>
            <a:off x="5214960" y="1357200"/>
            <a:ext cx="3501360" cy="5038200"/>
            <a:chOff x="5214960" y="1357200"/>
            <a:chExt cx="3501360" cy="5038200"/>
          </a:xfrm>
        </p:grpSpPr>
        <p:grpSp>
          <p:nvGrpSpPr>
            <p:cNvPr id="247" name="Group 14"/>
            <p:cNvGrpSpPr/>
            <p:nvPr/>
          </p:nvGrpSpPr>
          <p:grpSpPr>
            <a:xfrm>
              <a:off x="5214960" y="1357200"/>
              <a:ext cx="3501360" cy="5038200"/>
              <a:chOff x="5214960" y="1357200"/>
              <a:chExt cx="3501360" cy="5038200"/>
            </a:xfrm>
          </p:grpSpPr>
          <p:pic>
            <p:nvPicPr>
              <p:cNvPr id="248" name="Picture 15" descr="C:\BuzónPWG\Propagación\Refracción 5.jpg"/>
              <p:cNvPicPr/>
              <p:nvPr/>
            </p:nvPicPr>
            <p:blipFill>
              <a:blip r:embed="rId2"/>
              <a:srcRect l="41966" t="3288" r="2189" b="4252"/>
              <a:stretch/>
            </p:blipFill>
            <p:spPr>
              <a:xfrm>
                <a:off x="5214960" y="1357200"/>
                <a:ext cx="3501360" cy="50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16"/>
              <p:cNvSpPr/>
              <p:nvPr/>
            </p:nvSpPr>
            <p:spPr>
              <a:xfrm>
                <a:off x="6491880" y="211176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0" name="Text Box 17"/>
              <p:cNvSpPr/>
              <p:nvPr/>
            </p:nvSpPr>
            <p:spPr>
              <a:xfrm>
                <a:off x="6698520" y="245160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1" name="Text Box 18"/>
              <p:cNvSpPr/>
              <p:nvPr/>
            </p:nvSpPr>
            <p:spPr>
              <a:xfrm>
                <a:off x="5792040" y="1577520"/>
                <a:ext cx="8784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2" name="Text Box 19"/>
              <p:cNvSpPr/>
              <p:nvPr/>
            </p:nvSpPr>
            <p:spPr>
              <a:xfrm>
                <a:off x="6949080" y="354132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3" name="Text Box 20"/>
              <p:cNvSpPr/>
              <p:nvPr/>
            </p:nvSpPr>
            <p:spPr>
              <a:xfrm>
                <a:off x="6086520" y="361764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4" name="Text Box 21"/>
              <p:cNvSpPr/>
              <p:nvPr/>
            </p:nvSpPr>
            <p:spPr>
              <a:xfrm>
                <a:off x="7008120" y="382608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5" name="Text Box 22"/>
              <p:cNvSpPr/>
              <p:nvPr/>
            </p:nvSpPr>
            <p:spPr>
              <a:xfrm>
                <a:off x="7354440" y="383976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56" name="Line 23"/>
            <p:cNvSpPr/>
            <p:nvPr/>
          </p:nvSpPr>
          <p:spPr>
            <a:xfrm flipV="1">
              <a:off x="6609960" y="1462680"/>
              <a:ext cx="0" cy="411372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 flipV="1">
              <a:off x="8003520" y="1476720"/>
              <a:ext cx="0" cy="411408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8" name="Text Box 6"/>
          <p:cNvSpPr/>
          <p:nvPr/>
        </p:nvSpPr>
        <p:spPr>
          <a:xfrm>
            <a:off x="642960" y="1285920"/>
            <a:ext cx="3247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el caso especial de veriles rectos y paralelos al frente incidente (sólo shoalin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1536840" y="3625920"/>
                <a:ext cx="10508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714240" y="2154240"/>
                <a:ext cx="11527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Text Box 10"/>
          <p:cNvSpPr/>
          <p:nvPr/>
        </p:nvSpPr>
        <p:spPr>
          <a:xfrm>
            <a:off x="642960" y="3568680"/>
            <a:ext cx="310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642960" y="4297320"/>
            <a:ext cx="310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SHOALING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714240" y="4857840"/>
                <a:ext cx="18399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5" name="Group 19"/>
          <p:cNvGrpSpPr/>
          <p:nvPr/>
        </p:nvGrpSpPr>
        <p:grpSpPr>
          <a:xfrm>
            <a:off x="5700600" y="1785960"/>
            <a:ext cx="3016440" cy="4610160"/>
            <a:chOff x="5700600" y="1785960"/>
            <a:chExt cx="3016440" cy="4610160"/>
          </a:xfrm>
        </p:grpSpPr>
        <p:pic>
          <p:nvPicPr>
            <p:cNvPr id="266" name="Picture 11" descr="C:\BuzónPWG\Propagación\Refracción 5.jpg"/>
            <p:cNvPicPr/>
            <p:nvPr/>
          </p:nvPicPr>
          <p:blipFill>
            <a:blip r:embed="rId2"/>
            <a:srcRect l="41966" t="3288" r="2189" b="4252"/>
            <a:stretch/>
          </p:blipFill>
          <p:spPr>
            <a:xfrm>
              <a:off x="5700600" y="1785960"/>
              <a:ext cx="301644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2"/>
            <p:cNvSpPr/>
            <p:nvPr/>
          </p:nvSpPr>
          <p:spPr>
            <a:xfrm>
              <a:off x="6800760" y="247644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6978600" y="278748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6197760" y="1987560"/>
              <a:ext cx="759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Text Box 15"/>
            <p:cNvSpPr/>
            <p:nvPr/>
          </p:nvSpPr>
          <p:spPr>
            <a:xfrm>
              <a:off x="7194600" y="378468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Text Box 16"/>
            <p:cNvSpPr/>
            <p:nvPr/>
          </p:nvSpPr>
          <p:spPr>
            <a:xfrm>
              <a:off x="6451560" y="385452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Text Box 17"/>
            <p:cNvSpPr/>
            <p:nvPr/>
          </p:nvSpPr>
          <p:spPr>
            <a:xfrm>
              <a:off x="7245360" y="404496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Text Box 18"/>
            <p:cNvSpPr/>
            <p:nvPr/>
          </p:nvSpPr>
          <p:spPr>
            <a:xfrm>
              <a:off x="7543800" y="405756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4" name="Text Box 7"/>
          <p:cNvSpPr/>
          <p:nvPr/>
        </p:nvSpPr>
        <p:spPr>
          <a:xfrm>
            <a:off x="714240" y="1285920"/>
            <a:ext cx="3571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el caso de veriles rect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1500120" y="3695760"/>
                <a:ext cx="14400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Text Box 20"/>
          <p:cNvSpPr/>
          <p:nvPr/>
        </p:nvSpPr>
        <p:spPr>
          <a:xfrm>
            <a:off x="709560" y="3638520"/>
            <a:ext cx="3105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04880" y="2585880"/>
            <a:ext cx="365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REFRACCIÓ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833400" y="2959200"/>
                <a:ext cx="857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790560" y="1643040"/>
                <a:ext cx="2814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Text Box 27"/>
          <p:cNvSpPr/>
          <p:nvPr/>
        </p:nvSpPr>
        <p:spPr>
          <a:xfrm>
            <a:off x="703440" y="4221000"/>
            <a:ext cx="3105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 veces se us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814320" y="4633920"/>
                <a:ext cx="1119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Text Box 30"/>
          <p:cNvSpPr/>
          <p:nvPr/>
        </p:nvSpPr>
        <p:spPr>
          <a:xfrm>
            <a:off x="698400" y="5299200"/>
            <a:ext cx="3802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Swis721 BT"/>
                <a:ea typeface="Times New Roman"/>
              </a:rPr>
              <a:t>Ho’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: altura de ola correspondiente a </a:t>
            </a:r>
            <a:r>
              <a:rPr b="1" i="1" lang="es-ES_tradnl" sz="1600" spc="-1" strike="noStrike">
                <a:solidFill>
                  <a:srgbClr val="000000"/>
                </a:solidFill>
                <a:latin typeface="Swis721 BT"/>
                <a:ea typeface="Times New Roman"/>
              </a:rPr>
              <a:t>Ho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cuando hay efecto de fondo sin refra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Text Box 1031"/>
          <p:cNvSpPr/>
          <p:nvPr/>
        </p:nvSpPr>
        <p:spPr>
          <a:xfrm>
            <a:off x="642960" y="1214280"/>
            <a:ext cx="6350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i los veriles son rectos y paralel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85880" y="1857240"/>
                <a:ext cx="1087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6" name="Group 1055"/>
          <p:cNvGrpSpPr/>
          <p:nvPr/>
        </p:nvGrpSpPr>
        <p:grpSpPr>
          <a:xfrm>
            <a:off x="5264280" y="1357200"/>
            <a:ext cx="3450600" cy="5133600"/>
            <a:chOff x="5264280" y="1357200"/>
            <a:chExt cx="3450600" cy="5133600"/>
          </a:xfrm>
        </p:grpSpPr>
        <p:pic>
          <p:nvPicPr>
            <p:cNvPr id="287" name="Picture 1040" descr="C:\BuzónPWG\Propagación\Refracción 5.jpg"/>
            <p:cNvPicPr/>
            <p:nvPr/>
          </p:nvPicPr>
          <p:blipFill>
            <a:blip r:embed="rId2"/>
            <a:srcRect l="41966" t="3288" r="2189" b="11093"/>
            <a:stretch/>
          </p:blipFill>
          <p:spPr>
            <a:xfrm>
              <a:off x="5264280" y="1410120"/>
              <a:ext cx="3450600" cy="50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043"/>
            <p:cNvSpPr/>
            <p:nvPr/>
          </p:nvSpPr>
          <p:spPr>
            <a:xfrm>
              <a:off x="5725440" y="1357200"/>
              <a:ext cx="253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Text Box 1048"/>
            <p:cNvSpPr/>
            <p:nvPr/>
          </p:nvSpPr>
          <p:spPr>
            <a:xfrm>
              <a:off x="5848920" y="3753360"/>
              <a:ext cx="2538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Rectangle 1049"/>
            <p:cNvSpPr/>
            <p:nvPr/>
          </p:nvSpPr>
          <p:spPr>
            <a:xfrm>
              <a:off x="6927840" y="4010040"/>
              <a:ext cx="544680" cy="24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Line 1050"/>
            <p:cNvSpPr/>
            <p:nvPr/>
          </p:nvSpPr>
          <p:spPr>
            <a:xfrm>
              <a:off x="6440760" y="4123440"/>
              <a:ext cx="1307520" cy="0"/>
            </a:xfrm>
            <a:prstGeom prst="line">
              <a:avLst/>
            </a:prstGeom>
            <a:ln w="1260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Rectangle 1051"/>
            <p:cNvSpPr/>
            <p:nvPr/>
          </p:nvSpPr>
          <p:spPr>
            <a:xfrm>
              <a:off x="6520680" y="2513520"/>
              <a:ext cx="544680" cy="24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Line 1052"/>
            <p:cNvSpPr/>
            <p:nvPr/>
          </p:nvSpPr>
          <p:spPr>
            <a:xfrm>
              <a:off x="6033960" y="2626560"/>
              <a:ext cx="1307520" cy="0"/>
            </a:xfrm>
            <a:prstGeom prst="line">
              <a:avLst/>
            </a:prstGeom>
            <a:ln w="1260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Text Box 1053"/>
            <p:cNvSpPr/>
            <p:nvPr/>
          </p:nvSpPr>
          <p:spPr>
            <a:xfrm>
              <a:off x="6931440" y="389664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Text Box 1054"/>
            <p:cNvSpPr/>
            <p:nvPr/>
          </p:nvSpPr>
          <p:spPr>
            <a:xfrm>
              <a:off x="6466320" y="240012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6" name="Text Box 1057"/>
          <p:cNvSpPr/>
          <p:nvPr/>
        </p:nvSpPr>
        <p:spPr>
          <a:xfrm>
            <a:off x="714240" y="2643120"/>
            <a:ext cx="3786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Nota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: Para construcción gráfica de diagramas de refracción revisar Shore Protection Manu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OPAGACION DEL OLEAJ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Picture 6" descr="C:\SEMIPUERTOS\fig4.jpg"/>
          <p:cNvPicPr/>
          <p:nvPr/>
        </p:nvPicPr>
        <p:blipFill>
          <a:blip r:embed="rId2"/>
          <a:srcRect l="5034" t="8196" r="0" b="0"/>
          <a:stretch/>
        </p:blipFill>
        <p:spPr>
          <a:xfrm>
            <a:off x="3629160" y="1339920"/>
            <a:ext cx="4733640" cy="5030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"/>
          <p:cNvSpPr/>
          <p:nvPr/>
        </p:nvSpPr>
        <p:spPr>
          <a:xfrm>
            <a:off x="5888160" y="2487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227640" y="37735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DI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753000" y="55864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LEX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OPAGACION DEL OLEAJ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7" descr="C:\SEMIPUERTOS\fig5.jpg"/>
          <p:cNvPicPr/>
          <p:nvPr/>
        </p:nvPicPr>
        <p:blipFill>
          <a:blip r:embed="rId2">
            <a:lum contrast="-20000"/>
          </a:blip>
          <a:srcRect l="0" t="7818" r="0" b="3596"/>
          <a:stretch/>
        </p:blipFill>
        <p:spPr>
          <a:xfrm>
            <a:off x="3659040" y="1363680"/>
            <a:ext cx="4249800" cy="50878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4011480" y="3151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16360" y="48164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DI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441680" y="1878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OMPIMI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Proceso por el cual la energía del oleaje se transfiere lateralmente, en forma perpendicular a la dirección de propagación del mism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fenómeno se aprecia cuando una ola llega al extremo de un molo de abrigo. Es fundamental en el diseño de obras portuarias y defensas coster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representa mediante un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DI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8" descr="C:\BuzónPWG\Propagación\Difracción.jpg"/>
          <p:cNvPicPr/>
          <p:nvPr/>
        </p:nvPicPr>
        <p:blipFill>
          <a:blip r:embed="rId2"/>
          <a:srcRect l="0" t="7860" r="0" b="0"/>
          <a:stretch/>
        </p:blipFill>
        <p:spPr>
          <a:xfrm>
            <a:off x="5027760" y="3605040"/>
            <a:ext cx="3801960" cy="293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714240" y="4000680"/>
                <a:ext cx="1154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Text Box 11"/>
          <p:cNvSpPr/>
          <p:nvPr/>
        </p:nvSpPr>
        <p:spPr>
          <a:xfrm>
            <a:off x="642960" y="5286240"/>
            <a:ext cx="385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ta: Kr puede calcularse teóricamente pero en la práctica se recurre a datos empíricos o modelación numéric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7" descr="C:\BuzónPWG\Propagación\Difracción 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928800" y="1143000"/>
            <a:ext cx="7875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12" descr="C:\BuzónPWG\Propagación\Difracción 5.jpg"/>
          <p:cNvPicPr/>
          <p:nvPr/>
        </p:nvPicPr>
        <p:blipFill>
          <a:blip r:embed="rId2"/>
          <a:stretch/>
        </p:blipFill>
        <p:spPr>
          <a:xfrm>
            <a:off x="714240" y="1643040"/>
            <a:ext cx="5803920" cy="5170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BuzónPWG\Propagación\Difracción 3.jpg"/>
          <p:cNvPicPr/>
          <p:nvPr/>
        </p:nvPicPr>
        <p:blipFill>
          <a:blip r:embed="rId3">
            <a:lum contrast="10000"/>
          </a:blip>
          <a:srcRect l="12248" t="0" r="3014" b="0"/>
          <a:stretch/>
        </p:blipFill>
        <p:spPr>
          <a:xfrm>
            <a:off x="4164120" y="1279440"/>
            <a:ext cx="3408120" cy="252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2 Marcador de texto"/>
          <p:cNvSpPr/>
          <p:nvPr/>
        </p:nvSpPr>
        <p:spPr>
          <a:xfrm>
            <a:off x="685800" y="1428840"/>
            <a:ext cx="78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as Obras de Abrigo se ubicarán orientadas según el oleaje predominante del Sur – Weste, de tal manera que las olas que se obtengan producto de la refracción y difracción dentro de la dársena estén comprendidas en un rango de 30 a 50 cm de altur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2 Marcador de texto"/>
          <p:cNvSpPr/>
          <p:nvPr/>
        </p:nvSpPr>
        <p:spPr>
          <a:xfrm>
            <a:off x="685800" y="1285920"/>
            <a:ext cx="78868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parte desde aguas profundad (H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 perfiles rectos y paralelo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terminación del Coeficiente de Disminución de Fondo (K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3068640"/>
          <a:ext cx="7848720" cy="31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068640"/>
                    <a:ext cx="78487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2 Marcador de texto"/>
          <p:cNvSpPr/>
          <p:nvPr/>
        </p:nvSpPr>
        <p:spPr>
          <a:xfrm>
            <a:off x="685800" y="1285920"/>
            <a:ext cx="7886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26920" y="1773360"/>
          <a:ext cx="7848720" cy="33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78487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texto"/>
          <p:cNvSpPr/>
          <p:nvPr/>
        </p:nvSpPr>
        <p:spPr>
          <a:xfrm>
            <a:off x="685800" y="1285920"/>
            <a:ext cx="7886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cambio en la dirección de la ola y el coeficiente de refracción puede ser calculado usando la siguiente ecu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00000" y="2708280"/>
          <a:ext cx="7920000" cy="31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708280"/>
                    <a:ext cx="792000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2 Marcador de texto"/>
          <p:cNvSpPr/>
          <p:nvPr/>
        </p:nvSpPr>
        <p:spPr>
          <a:xfrm>
            <a:off x="685800" y="1285920"/>
            <a:ext cx="7886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ángulo de inclinación del molo de 120° respecto al frente de ol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primer tramo del molo de abrigo de 170 m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segundo tramo de molo de abrigo orientado a 150° respecto al frente de olas y de 150 m de longitu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rcRect l="0" t="2475" r="0" b="3481"/>
          <a:stretch/>
        </p:blipFill>
        <p:spPr>
          <a:xfrm>
            <a:off x="71280" y="1071720"/>
            <a:ext cx="8928360" cy="57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179280" y="189000"/>
          <a:ext cx="309744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30974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61920" y="1066680"/>
            <a:ext cx="902016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250920" y="981000"/>
          <a:ext cx="676908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981000"/>
                    <a:ext cx="6769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42920" y="1000080"/>
            <a:ext cx="8929800" cy="580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0" y="0"/>
          <a:ext cx="644364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texto"/>
          <p:cNvSpPr/>
          <p:nvPr/>
        </p:nvSpPr>
        <p:spPr>
          <a:xfrm>
            <a:off x="685800" y="1285920"/>
            <a:ext cx="7886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Ancho de la Dársena entre malecones (b):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Malecones // que se sitúan frente a frent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ncho considerado como condicione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tamaño de los buqu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n° de sitios de atraqu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uso de remolcador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 malecón tiene 3 o menos sitios de atraque b=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 malecón tiene 4 o más sitios de atraque b=1,5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714240" y="752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COMENDACIONES SOBRE PLANIFICACIÓN DE LA DÁRSE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2 Marcador de texto"/>
          <p:cNvSpPr/>
          <p:nvPr/>
        </p:nvSpPr>
        <p:spPr>
          <a:xfrm>
            <a:off x="685800" y="1285920"/>
            <a:ext cx="7886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Área para maniobras de Naves: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área de maniobra para viraje de proa de una nave, deberá exceder el área de un círculo de radio R=1,5 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n remolcadores y en dársenas tranquilas se puede reducir el área del círculo a R=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Largo de Atraque (L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largo de atraque deberá ser obtenida agregando la manga de construcción del buque a la eslora de la nave. L= Eslora + Mang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largo L se deberá estimar de modo tal que permita un atraque y zarpe de los barcos en forma cómoda y segur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Profundidad de la Dársena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berá ser de 1,1 veces el calado a plena carga bajo el NR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1 Título"/>
          <p:cNvSpPr/>
          <p:nvPr/>
        </p:nvSpPr>
        <p:spPr>
          <a:xfrm>
            <a:off x="714240" y="752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COMENDACIONES SOBRE PLANIFICACIÓN DE LA DÁRSE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L MEDIO AMBIENTE COSTERO ES UN MEDIO DINÁMICO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19238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origen tienen los sedimentos costero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transportan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dinámica tiene la morfología del borde costero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es son escalas espaciales y temporal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2" descr="C:\BuzónPWG\S024-2 Coronel aéreo.jpg"/>
          <p:cNvPicPr/>
          <p:nvPr/>
        </p:nvPicPr>
        <p:blipFill>
          <a:blip r:embed="rId2"/>
          <a:stretch/>
        </p:blipFill>
        <p:spPr>
          <a:xfrm>
            <a:off x="3470400" y="1643040"/>
            <a:ext cx="5530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L CLIMA DE OLEAJE ES COMPLEJO</a:t>
            </a:r>
            <a:r>
              <a:rPr b="0" lang="es-ES_tradnl" sz="1400" spc="-1" strike="noStrike">
                <a:solidFill>
                  <a:srgbClr val="cc0000"/>
                </a:solidFill>
                <a:latin typeface="Swis721 Ex BT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138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dónde se genera el oleaje que llega a nuestro litoral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propaga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penetra en los puerto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9" descr="C:\PRDWIng\Prop\S0-040 Valparaíso - Barón Pier\UKMO\chile5.gif"/>
          <p:cNvPicPr/>
          <p:nvPr/>
        </p:nvPicPr>
        <p:blipFill>
          <a:blip r:embed="rId2"/>
          <a:stretch/>
        </p:blipFill>
        <p:spPr>
          <a:xfrm>
            <a:off x="384480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/>
          <p:cNvPicPr/>
          <p:nvPr/>
        </p:nvPicPr>
        <p:blipFill>
          <a:blip r:embed="rId3"/>
          <a:srcRect l="0" t="0" r="24935" b="0"/>
          <a:stretch/>
        </p:blipFill>
        <p:spPr>
          <a:xfrm>
            <a:off x="2500200" y="3214800"/>
            <a:ext cx="1879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INTERACCIÓN CON OBRAS PORTUARIAS O COSTERA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43320" cy="117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modifica el oleaje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respuesta morfológica se puede esperar?...embanque? ... Socavación al pie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 es el layout óptimo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9" descr="..\..\PRDW ing\Closed Projects\S0499 San Antonio - Defensa costera\SanAntonio-brochure.jpg"/>
          <p:cNvPicPr/>
          <p:nvPr/>
        </p:nvPicPr>
        <p:blipFill>
          <a:blip r:embed="rId2">
            <a:lum bright="10000"/>
          </a:blip>
          <a:srcRect l="0" t="-423" r="18545" b="0"/>
          <a:stretch/>
        </p:blipFill>
        <p:spPr>
          <a:xfrm>
            <a:off x="1981080" y="2895480"/>
            <a:ext cx="7010640" cy="37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STUDIOS </a:t>
            </a:r>
            <a:br>
              <a:rPr sz="2000"/>
            </a:b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OCEANOGRÁFICO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se requiere de medicion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medir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4" descr="C:\PRDW\Imágenes\Otros\Instrumentos de medición.bmp"/>
          <p:cNvPicPr/>
          <p:nvPr/>
        </p:nvPicPr>
        <p:blipFill>
          <a:blip r:embed="rId2"/>
          <a:stretch/>
        </p:blipFill>
        <p:spPr>
          <a:xfrm>
            <a:off x="4094280" y="1676520"/>
            <a:ext cx="407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BT"/>
              </a:rPr>
              <a:t>RECORDANDO LOS INICIOS DE NUESTROS PUERTO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4" descr="C:\Publicaciones\Present JVA\Valpo1853.jpg"/>
          <p:cNvPicPr/>
          <p:nvPr/>
        </p:nvPicPr>
        <p:blipFill>
          <a:blip r:embed="rId2"/>
          <a:stretch/>
        </p:blipFill>
        <p:spPr>
          <a:xfrm>
            <a:off x="304920" y="1752480"/>
            <a:ext cx="415764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5" descr="C:\Publicaciones\Present JVA\Coronel.jpg"/>
          <p:cNvPicPr/>
          <p:nvPr/>
        </p:nvPicPr>
        <p:blipFill>
          <a:blip r:embed="rId3"/>
          <a:stretch/>
        </p:blipFill>
        <p:spPr>
          <a:xfrm>
            <a:off x="4648320" y="1676520"/>
            <a:ext cx="42861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BT"/>
              </a:rPr>
              <a:t>EN LOS TIEMPOS ACTUALES…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10" descr="C:\Publicaciones\Present JVA\carguero lt.jpg"/>
          <p:cNvPicPr/>
          <p:nvPr/>
        </p:nvPicPr>
        <p:blipFill>
          <a:blip r:embed="rId2"/>
          <a:stretch/>
        </p:blipFill>
        <p:spPr>
          <a:xfrm>
            <a:off x="428760" y="1857240"/>
            <a:ext cx="3438360" cy="415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:\Publicaciones\Present JVA\porta-contenedor.jpg"/>
          <p:cNvPicPr/>
          <p:nvPr/>
        </p:nvPicPr>
        <p:blipFill>
          <a:blip r:embed="rId3"/>
          <a:stretch/>
        </p:blipFill>
        <p:spPr>
          <a:xfrm>
            <a:off x="5143680" y="1643040"/>
            <a:ext cx="3276360" cy="223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C:\Publicaciones\Present JVA\Terminal-granelero.jpg"/>
          <p:cNvPicPr/>
          <p:nvPr/>
        </p:nvPicPr>
        <p:blipFill>
          <a:blip r:embed="rId4"/>
          <a:stretch/>
        </p:blipFill>
        <p:spPr>
          <a:xfrm>
            <a:off x="5143680" y="3929040"/>
            <a:ext cx="35049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1:21:37Z</dcterms:created>
  <dc:creator>debora riquelme</dc:creator>
  <dc:description/>
  <dc:language>en-US</dc:language>
  <cp:lastModifiedBy>debora riquelme</cp:lastModifiedBy>
  <dcterms:modified xsi:type="dcterms:W3CDTF">2007-08-22T21:27:20Z</dcterms:modified>
  <cp:revision>1</cp:revision>
  <dc:subject/>
  <dc:title>Diapositiva 1</dc:title>
</cp:coreProperties>
</file>