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9.png" ContentType="image/png"/>
  <Override PartName="/ppt/media/image39.png" ContentType="image/png"/>
  <Override PartName="/ppt/media/image22.jpeg" ContentType="image/jpeg"/>
  <Override PartName="/ppt/media/image8.jpeg" ContentType="image/jpeg"/>
  <Override PartName="/ppt/media/image13.jpeg" ContentType="image/jpeg"/>
  <Override PartName="/ppt/media/image31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7.png" ContentType="image/png"/>
  <Override PartName="/ppt/media/image37.png" ContentType="image/png"/>
  <Override PartName="/ppt/media/image11.jpeg" ContentType="image/jpeg"/>
  <Override PartName="/ppt/media/image36.wmf" ContentType="image/x-wmf"/>
  <Override PartName="/ppt/media/image16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64A-79BF-46E6-A67A-E6CC1B43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D6A-FEA6-402B-AD2B-1457177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E96-7132-48F6-BF16-7617035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2B3-8F6E-462E-AD86-3D31BA85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3B5-C382-449B-B88E-0387F08F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421-8878-49E4-8467-7CEFE62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613D-F291-4FCC-9DCE-D2AAE3E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500-290E-40EA-B576-DF48CA7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FD2-CADA-4207-BDAC-7C04EAB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E60B-CB17-4738-9E07-B54AC86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03F-98B1-4F2D-BF18-128B678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1CE-4D4C-4321-869F-F11F91D9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29E-547F-40D1-BC13-8744EB9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D7E-D199-4DDA-B45F-BAC855E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A6F-0D5F-46DA-8D90-C838B13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FDC-2227-4535-9052-CDE01A31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419B-8B4C-441A-B840-9A8EC1C6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102F-FE13-4DCA-BA2A-21E6BEF1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2C92-4527-4CFA-824D-297BF217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C88E-59BF-4BE4-B817-EC93F6E0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CA2F-5421-44C4-ABDC-0A342B8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7FA3-A942-4AF4-8509-C046EFA3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AAA-EC96-42B0-B242-E68F6EE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6ABE-ACD1-4305-881F-87D34D57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8850-DA4A-43A8-8D81-31353B6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511D-AE30-4660-8452-434B77E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9D70-C4A4-4B8C-BD47-02F8E9F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6484-35ED-4035-B4F2-1F0D0F0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DB4F-F775-41BF-B454-498E37DC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A281-E5CE-4AF4-8928-C4B5ABAC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47D5-DF19-43FF-836B-E7D1589A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53D3-A0F2-47C2-B889-52B2579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E95D-53B3-430D-9FA0-915D2C9B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967-155D-4DF1-A3F8-8E7CF67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CD14-616B-40EC-842E-E1764F88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8D59-945B-4AEB-A6DE-674F2152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D277-E624-4C1E-B75E-6087592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7E90-573B-44EB-BF3A-24DE417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9F28-BFF8-4998-87BD-3747333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DE8B-D5B4-44C6-AB21-A250FB1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22F5-0737-46BA-9A38-854A245C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2A26-F720-44A6-B0FE-1D1EBBF6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4233-BED3-40C1-A27A-6BFA01B5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73A-5694-4EC8-9356-C6F9B55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A80-84AE-41DC-9D14-AB25E06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620-E2F8-48B8-8640-78E7476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A75-D48C-4CB6-B751-9EC295E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A7B-E47C-4052-B4A0-3E8012D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9AE-6C9D-40C0-95AB-1E4F08EB38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5E0-7A4E-4A7E-A9BB-16FAB77B1D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D40F-8AE7-4064-A119-526FF4B856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16C-B16D-4991-BA14-CF882A296F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357440"/>
            <a:ext cx="7854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nstantia"/>
              </a:rPr>
              <a:t>CI-62B DISEÑO DE OBRAS PORTUARIA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nstantia"/>
              </a:rPr>
              <a:t>Débora Riquelme Valencia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Swis721 BT"/>
              </a:rPr>
              <a:t>CARACTERÍSTICAS GENERALES DE LAS OBRAS MARÍTIMA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on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de alto cos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millones de US$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u construcción es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compleja</a:t>
            </a: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experiencia, equip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e proyectan en un ambiente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agresivo</a:t>
            </a: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 y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desconoci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“Pacífico” S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217188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su necesidad es </a:t>
            </a:r>
            <a:r>
              <a:rPr b="1" lang="es-ES" sz="1800" spc="-1" strike="noStrike" u="sng">
                <a:solidFill>
                  <a:srgbClr val="000066"/>
                </a:solidFill>
                <a:uFillTx/>
                <a:latin typeface="Swis721 BT"/>
              </a:rPr>
              <a:t>crecien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333440" indent="-3808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Swis721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Swis721 BT"/>
              </a:rPr>
              <a:t>... nuestro litoral es un enorme recur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0000"/>
                </a:solidFill>
                <a:latin typeface="Swis721 BT"/>
              </a:rPr>
              <a:t>ADEMÁS ... CHILE ES UN PAÍS SÍSMICO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12" descr="C:\Publicaciones\Present JVA\SnAntonio terremoto.jpg"/>
          <p:cNvPicPr/>
          <p:nvPr/>
        </p:nvPicPr>
        <p:blipFill>
          <a:blip r:embed="rId2"/>
          <a:stretch/>
        </p:blipFill>
        <p:spPr>
          <a:xfrm>
            <a:off x="714240" y="1359000"/>
            <a:ext cx="72867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Swis721 BT"/>
              </a:rPr>
              <a:t>PERO A PESAR DE ESTO..... LAS OBRAS MARÍTIMAS SON UN LINDO DESAFÍO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13" descr="\\Anton\0project\psf1.JPG"/>
          <p:cNvPicPr/>
          <p:nvPr/>
        </p:nvPicPr>
        <p:blipFill>
          <a:blip r:embed="rId2"/>
          <a:srcRect l="0" t="0" r="4618" b="0"/>
          <a:stretch/>
        </p:blipFill>
        <p:spPr>
          <a:xfrm>
            <a:off x="2684520" y="1160640"/>
            <a:ext cx="574524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estudian los efectos que condicionan  la propagación del oleaje desde aguas profundas hacia aguas poco profundas (o someras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define OLEAJE EN AGUAS POCO PROFUNDAS (shoaling waters) aquel que se propaga donde la profundidad no es constante y varía en forma suave de manera que no ocurra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Reflexión para olas de corto perío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 afecte la mecánica del oleaje, localmente a una cierta profundid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sto implica que pueden usarse las ecuaciones para el fondo plan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general, estos requerimientos se cumplen en gran parte de los casos, especialmente aquellos conformados por aren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problema a resolver es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CONOCIDAS LAS CONDICIONES DEL OLEAJE A UNA PROFUNDIDAD, ¿CÓMO SE DETERMINAN LAS CONDICIONES DEL MISMO CUANDO SE PROPAGA A OTRA PROFUNDIDAD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problema generalmente se reduce a calcular la propagación desde aguas profundas hacia la cost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wis721 BT"/>
                <a:ea typeface="Times New Roman"/>
              </a:rPr>
              <a:t>Ho, T, Dir (en aguas profundas) </a:t>
            </a:r>
            <a:r>
              <a:rPr b="1" lang="es-ES_trad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s-ES_tradnl" sz="1600" spc="-1" strike="noStrike">
                <a:solidFill>
                  <a:srgbClr val="ff0000"/>
                </a:solidFill>
                <a:latin typeface="Swis721 BT"/>
                <a:ea typeface="Times New Roman"/>
              </a:rPr>
              <a:t>  H, T, Dir (en la costa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primer lugar se establece que el </a:t>
            </a: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período permanece constante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 esta manera, como la batimetría i.e. La profundidad se conoce, entonces se conoce la longitud y celeridad del oleaje en cualquier punt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86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el oleaje se propaga hacia aguas poco profundas, es sometido a dos efect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SHOAL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Una onda que se propaga disminuye gradualmente su celeridad y longitud de onda e incrementa su altura, deformándose. Según la TLO hasta infinito, pero antes la ola romperá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RE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Relaciona la celeridad con la dirección de propagación de la on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a onda se aproxima en sentido oblicuo a los veriles, las secciones del frente de ola “sienten” el fondo y experimentan una desviación progresiva que tiende a alinear al frente con los verile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GENERALIDAD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47862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l arribar a la costa, el oleaje experimenta además efectos de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DI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fecto por el que la energía se transmite a lo largo del frente producto de obstáculos naturales en el sentido de propagación. Caso típico en molos de abrig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Swis721 BT"/>
                <a:ea typeface="Times New Roman"/>
              </a:rPr>
              <a:t>RESONANCI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genera cuando un oleaje de período similar al de oscilación de una bahía, puerto o cuerpo de agua semiconfinado, excita a la masa de agua, generando una amplificación en forma de ondas estacionaria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También se presentan efectos de : reflexión, disipación, transferencias no-lineales, gener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ETERMINACIÓN DE LA ALTURA DE OND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Un concepto fundamental para la teoría clásica de la refracción y shoaling, es que la energía no se propaga a través de las ortogonales. Para esto se requiere qu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Olas sean de cresta larg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ltura de ola no varíe a lo largo del frente de o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rvaturas del frente sean pequeñas y no afecte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a velocidad de propagación (ó cálculo de L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 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 existan corrientes transversal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2"/>
          <a:srcRect l="25896" t="18503" r="20251" b="21332"/>
          <a:stretch/>
        </p:blipFill>
        <p:spPr>
          <a:xfrm>
            <a:off x="5262480" y="3483000"/>
            <a:ext cx="3618000" cy="3032280"/>
          </a:xfrm>
          <a:prstGeom prst="rect">
            <a:avLst/>
          </a:prstGeom>
          <a:ln w="0">
            <a:noFill/>
          </a:ln>
        </p:spPr>
      </p:pic>
      <p:sp>
        <p:nvSpPr>
          <p:cNvPr id="238" name="4 Rectángulo"/>
          <p:cNvSpPr/>
          <p:nvPr/>
        </p:nvSpPr>
        <p:spPr>
          <a:xfrm>
            <a:off x="785880" y="4500720"/>
            <a:ext cx="307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n estos supuestos, se utiliza el principio de conservación del flujo de energía que se transmite entre las ortogonales. Con esto se puede calcular la altura de ola 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ETERMINACIÓN DE LA ALTURA DE OND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27147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puede asumir que la ganancia de energía (por viento) es menor si la distancia entre 1 y 2 es menor a 50–100 longitudes de on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i 1 y 2 se separan a menos de 20 longitudes de onda, las pérdidas son despreciabl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asume que no hay rompimiento ni “white caps”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Bajo estos supuesto se llega 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714240" y="4000680"/>
                <a:ext cx="2365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d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42" name="Picture 2" descr=""/>
          <p:cNvPicPr/>
          <p:nvPr/>
        </p:nvPicPr>
        <p:blipFill>
          <a:blip r:embed="rId2"/>
          <a:srcRect l="25896" t="18503" r="20251" b="21332"/>
          <a:stretch/>
        </p:blipFill>
        <p:spPr>
          <a:xfrm>
            <a:off x="5262480" y="3483000"/>
            <a:ext cx="3618000" cy="303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14240" y="4929120"/>
                <a:ext cx="189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714240" y="5869080"/>
                <a:ext cx="932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00"/>
                </a:solidFill>
                <a:latin typeface="Swis721 Ex BT"/>
              </a:rPr>
              <a:t>CLASE DE HIDRÁULICA MARITIMA</a:t>
            </a:r>
            <a:br>
              <a:rPr sz="54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1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2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Propagación del Oleaj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3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Ejercicio Práct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Swis721 Ex BT"/>
              </a:rPr>
              <a:t>Parte 4: </a:t>
            </a: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Swis721 Ex BT"/>
              </a:rPr>
              <a:t>Trabajo en Grup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 (ASOMERAMIENTO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6" name="Group 13"/>
          <p:cNvGrpSpPr/>
          <p:nvPr/>
        </p:nvGrpSpPr>
        <p:grpSpPr>
          <a:xfrm>
            <a:off x="5214960" y="1357200"/>
            <a:ext cx="3501360" cy="5038200"/>
            <a:chOff x="5214960" y="1357200"/>
            <a:chExt cx="3501360" cy="5038200"/>
          </a:xfrm>
        </p:grpSpPr>
        <p:grpSp>
          <p:nvGrpSpPr>
            <p:cNvPr id="247" name="Group 14"/>
            <p:cNvGrpSpPr/>
            <p:nvPr/>
          </p:nvGrpSpPr>
          <p:grpSpPr>
            <a:xfrm>
              <a:off x="5214960" y="1357200"/>
              <a:ext cx="3501360" cy="5038200"/>
              <a:chOff x="5214960" y="1357200"/>
              <a:chExt cx="3501360" cy="5038200"/>
            </a:xfrm>
          </p:grpSpPr>
          <p:pic>
            <p:nvPicPr>
              <p:cNvPr id="248" name="Picture 15" descr="C:\BuzónPWG\Propagación\Refracción 5.jpg"/>
              <p:cNvPicPr/>
              <p:nvPr/>
            </p:nvPicPr>
            <p:blipFill>
              <a:blip r:embed="rId2"/>
              <a:srcRect l="41966" t="3288" r="2189" b="4252"/>
              <a:stretch/>
            </p:blipFill>
            <p:spPr>
              <a:xfrm>
                <a:off x="5214960" y="1357200"/>
                <a:ext cx="3501360" cy="50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16"/>
              <p:cNvSpPr/>
              <p:nvPr/>
            </p:nvSpPr>
            <p:spPr>
              <a:xfrm>
                <a:off x="6491880" y="211176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0" name="Text Box 17"/>
              <p:cNvSpPr/>
              <p:nvPr/>
            </p:nvSpPr>
            <p:spPr>
              <a:xfrm>
                <a:off x="6698520" y="245160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1" name="Text Box 18"/>
              <p:cNvSpPr/>
              <p:nvPr/>
            </p:nvSpPr>
            <p:spPr>
              <a:xfrm>
                <a:off x="5792040" y="1577520"/>
                <a:ext cx="8784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2" name="Text Box 19"/>
              <p:cNvSpPr/>
              <p:nvPr/>
            </p:nvSpPr>
            <p:spPr>
              <a:xfrm>
                <a:off x="6949080" y="354132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3" name="Text Box 20"/>
              <p:cNvSpPr/>
              <p:nvPr/>
            </p:nvSpPr>
            <p:spPr>
              <a:xfrm>
                <a:off x="6086520" y="361764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4" name="Text Box 21"/>
              <p:cNvSpPr/>
              <p:nvPr/>
            </p:nvSpPr>
            <p:spPr>
              <a:xfrm>
                <a:off x="7008120" y="382608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5" name="Text Box 22"/>
              <p:cNvSpPr/>
              <p:nvPr/>
            </p:nvSpPr>
            <p:spPr>
              <a:xfrm>
                <a:off x="7354440" y="3839760"/>
                <a:ext cx="88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56" name="Line 23"/>
            <p:cNvSpPr/>
            <p:nvPr/>
          </p:nvSpPr>
          <p:spPr>
            <a:xfrm flipV="1">
              <a:off x="6609960" y="1462680"/>
              <a:ext cx="0" cy="411372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 flipV="1">
              <a:off x="8003520" y="1476720"/>
              <a:ext cx="0" cy="411408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8" name="Text Box 6"/>
          <p:cNvSpPr/>
          <p:nvPr/>
        </p:nvSpPr>
        <p:spPr>
          <a:xfrm>
            <a:off x="642960" y="1285920"/>
            <a:ext cx="3247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el caso especial de veriles rectos y paralelos al frente incidente (sólo shoalin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1536840" y="3625920"/>
                <a:ext cx="10508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714240" y="2154240"/>
                <a:ext cx="11527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Text Box 10"/>
          <p:cNvSpPr/>
          <p:nvPr/>
        </p:nvSpPr>
        <p:spPr>
          <a:xfrm>
            <a:off x="642960" y="3568680"/>
            <a:ext cx="310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642960" y="4297320"/>
            <a:ext cx="310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SHOALING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714240" y="4857840"/>
                <a:ext cx="18399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5" name="Group 19"/>
          <p:cNvGrpSpPr/>
          <p:nvPr/>
        </p:nvGrpSpPr>
        <p:grpSpPr>
          <a:xfrm>
            <a:off x="5700600" y="1785960"/>
            <a:ext cx="3016440" cy="4610160"/>
            <a:chOff x="5700600" y="1785960"/>
            <a:chExt cx="3016440" cy="4610160"/>
          </a:xfrm>
        </p:grpSpPr>
        <p:pic>
          <p:nvPicPr>
            <p:cNvPr id="266" name="Picture 11" descr="C:\BuzónPWG\Propagación\Refracción 5.jpg"/>
            <p:cNvPicPr/>
            <p:nvPr/>
          </p:nvPicPr>
          <p:blipFill>
            <a:blip r:embed="rId2"/>
            <a:srcRect l="41966" t="3288" r="2189" b="4252"/>
            <a:stretch/>
          </p:blipFill>
          <p:spPr>
            <a:xfrm>
              <a:off x="5700600" y="1785960"/>
              <a:ext cx="301644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2"/>
            <p:cNvSpPr/>
            <p:nvPr/>
          </p:nvSpPr>
          <p:spPr>
            <a:xfrm>
              <a:off x="6800760" y="247644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6978600" y="278748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6197760" y="1987560"/>
              <a:ext cx="759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Text Box 15"/>
            <p:cNvSpPr/>
            <p:nvPr/>
          </p:nvSpPr>
          <p:spPr>
            <a:xfrm>
              <a:off x="7194600" y="378468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Text Box 16"/>
            <p:cNvSpPr/>
            <p:nvPr/>
          </p:nvSpPr>
          <p:spPr>
            <a:xfrm>
              <a:off x="6451560" y="385452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Text Box 17"/>
            <p:cNvSpPr/>
            <p:nvPr/>
          </p:nvSpPr>
          <p:spPr>
            <a:xfrm>
              <a:off x="7245360" y="404496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Text Box 18"/>
            <p:cNvSpPr/>
            <p:nvPr/>
          </p:nvSpPr>
          <p:spPr>
            <a:xfrm>
              <a:off x="7543800" y="4057560"/>
              <a:ext cx="763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4" name="Text Box 7"/>
          <p:cNvSpPr/>
          <p:nvPr/>
        </p:nvSpPr>
        <p:spPr>
          <a:xfrm>
            <a:off x="714240" y="1285920"/>
            <a:ext cx="3571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n el caso de veriles rect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1500120" y="3695760"/>
                <a:ext cx="14400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Text Box 20"/>
          <p:cNvSpPr/>
          <p:nvPr/>
        </p:nvSpPr>
        <p:spPr>
          <a:xfrm>
            <a:off x="709560" y="3638520"/>
            <a:ext cx="3105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04880" y="2585880"/>
            <a:ext cx="365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REFRACCIÓ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833400" y="2959200"/>
                <a:ext cx="857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790560" y="1643040"/>
                <a:ext cx="2814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d</m:t>
                                </m:r>
                              </m:e>
                            </m:d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Text Box 27"/>
          <p:cNvSpPr/>
          <p:nvPr/>
        </p:nvSpPr>
        <p:spPr>
          <a:xfrm>
            <a:off x="703440" y="4221000"/>
            <a:ext cx="3105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 veces se us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814320" y="4633920"/>
                <a:ext cx="1119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Text Box 30"/>
          <p:cNvSpPr/>
          <p:nvPr/>
        </p:nvSpPr>
        <p:spPr>
          <a:xfrm>
            <a:off x="698400" y="5299200"/>
            <a:ext cx="3802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Swis721 BT"/>
                <a:ea typeface="Times New Roman"/>
              </a:rPr>
              <a:t>Ho’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: altura de ola correspondiente a </a:t>
            </a:r>
            <a:r>
              <a:rPr b="1" i="1" lang="es-ES_tradnl" sz="1600" spc="-1" strike="noStrike">
                <a:solidFill>
                  <a:srgbClr val="000000"/>
                </a:solidFill>
                <a:latin typeface="Swis721 BT"/>
                <a:ea typeface="Times New Roman"/>
              </a:rPr>
              <a:t>Ho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cuando hay efecto de fondo sin refra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Text Box 1031"/>
          <p:cNvSpPr/>
          <p:nvPr/>
        </p:nvSpPr>
        <p:spPr>
          <a:xfrm>
            <a:off x="642960" y="1214280"/>
            <a:ext cx="6350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i los veriles son rectos y paralel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85880" y="1857240"/>
                <a:ext cx="1087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6" name="Group 1055"/>
          <p:cNvGrpSpPr/>
          <p:nvPr/>
        </p:nvGrpSpPr>
        <p:grpSpPr>
          <a:xfrm>
            <a:off x="5264280" y="1357200"/>
            <a:ext cx="3450600" cy="5133600"/>
            <a:chOff x="5264280" y="1357200"/>
            <a:chExt cx="3450600" cy="5133600"/>
          </a:xfrm>
        </p:grpSpPr>
        <p:pic>
          <p:nvPicPr>
            <p:cNvPr id="287" name="Picture 1040" descr="C:\BuzónPWG\Propagación\Refracción 5.jpg"/>
            <p:cNvPicPr/>
            <p:nvPr/>
          </p:nvPicPr>
          <p:blipFill>
            <a:blip r:embed="rId2"/>
            <a:srcRect l="41966" t="3288" r="2189" b="11093"/>
            <a:stretch/>
          </p:blipFill>
          <p:spPr>
            <a:xfrm>
              <a:off x="5264280" y="1410120"/>
              <a:ext cx="3450600" cy="50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043"/>
            <p:cNvSpPr/>
            <p:nvPr/>
          </p:nvSpPr>
          <p:spPr>
            <a:xfrm>
              <a:off x="5725440" y="1357200"/>
              <a:ext cx="253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Text Box 1048"/>
            <p:cNvSpPr/>
            <p:nvPr/>
          </p:nvSpPr>
          <p:spPr>
            <a:xfrm>
              <a:off x="5848920" y="3753360"/>
              <a:ext cx="2538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Rectangle 1049"/>
            <p:cNvSpPr/>
            <p:nvPr/>
          </p:nvSpPr>
          <p:spPr>
            <a:xfrm>
              <a:off x="6927840" y="4010040"/>
              <a:ext cx="544680" cy="24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Line 1050"/>
            <p:cNvSpPr/>
            <p:nvPr/>
          </p:nvSpPr>
          <p:spPr>
            <a:xfrm>
              <a:off x="6440760" y="4123440"/>
              <a:ext cx="1307520" cy="0"/>
            </a:xfrm>
            <a:prstGeom prst="line">
              <a:avLst/>
            </a:prstGeom>
            <a:ln w="1260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Rectangle 1051"/>
            <p:cNvSpPr/>
            <p:nvPr/>
          </p:nvSpPr>
          <p:spPr>
            <a:xfrm>
              <a:off x="6520680" y="2513520"/>
              <a:ext cx="544680" cy="24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Line 1052"/>
            <p:cNvSpPr/>
            <p:nvPr/>
          </p:nvSpPr>
          <p:spPr>
            <a:xfrm>
              <a:off x="6033960" y="2626560"/>
              <a:ext cx="1307520" cy="0"/>
            </a:xfrm>
            <a:prstGeom prst="line">
              <a:avLst/>
            </a:prstGeom>
            <a:ln w="1260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Text Box 1053"/>
            <p:cNvSpPr/>
            <p:nvPr/>
          </p:nvSpPr>
          <p:spPr>
            <a:xfrm>
              <a:off x="6931440" y="389664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Text Box 1054"/>
            <p:cNvSpPr/>
            <p:nvPr/>
          </p:nvSpPr>
          <p:spPr>
            <a:xfrm>
              <a:off x="6466320" y="240012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6" name="Text Box 1057"/>
          <p:cNvSpPr/>
          <p:nvPr/>
        </p:nvSpPr>
        <p:spPr>
          <a:xfrm>
            <a:off x="714240" y="2643120"/>
            <a:ext cx="3786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Nota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: Para construcción gráfica de diagramas de refracción revisar Shore Protection Manu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OPAGACION DEL OLEAJ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Picture 6" descr="C:\SEMIPUERTOS\fig4.jpg"/>
          <p:cNvPicPr/>
          <p:nvPr/>
        </p:nvPicPr>
        <p:blipFill>
          <a:blip r:embed="rId2"/>
          <a:srcRect l="5034" t="8196" r="0" b="0"/>
          <a:stretch/>
        </p:blipFill>
        <p:spPr>
          <a:xfrm>
            <a:off x="3629160" y="1339920"/>
            <a:ext cx="4733640" cy="5030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"/>
          <p:cNvSpPr/>
          <p:nvPr/>
        </p:nvSpPr>
        <p:spPr>
          <a:xfrm>
            <a:off x="5888160" y="2487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227640" y="37735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DI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753000" y="55864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LEX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OPAGACION DEL OLEAJ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7" descr="C:\SEMIPUERTOS\fig5.jpg"/>
          <p:cNvPicPr/>
          <p:nvPr/>
        </p:nvPicPr>
        <p:blipFill>
          <a:blip r:embed="rId2">
            <a:lum contrast="-20000"/>
          </a:blip>
          <a:srcRect l="0" t="7818" r="0" b="3596"/>
          <a:stretch/>
        </p:blipFill>
        <p:spPr>
          <a:xfrm>
            <a:off x="3659040" y="1363680"/>
            <a:ext cx="4249800" cy="50878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4011480" y="3151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E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16360" y="48164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DIFRACC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441680" y="1878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lkCn BT"/>
              </a:rPr>
              <a:t>ROMPIMI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8688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Proceso por el cual la energía del oleaje se transfiere lateralmente, en forma perpendicular a la dirección de propagación del mism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fenómeno se aprecia cuando una ola llega al extremo de un molo de abrigo. Es fundamental en el diseño de obras portuarias y defensas coster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representa mediante un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EFICIENTE DE DIFRAC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8" descr="C:\BuzónPWG\Propagación\Difracción.jpg"/>
          <p:cNvPicPr/>
          <p:nvPr/>
        </p:nvPicPr>
        <p:blipFill>
          <a:blip r:embed="rId2"/>
          <a:srcRect l="0" t="7860" r="0" b="0"/>
          <a:stretch/>
        </p:blipFill>
        <p:spPr>
          <a:xfrm>
            <a:off x="5027760" y="3605040"/>
            <a:ext cx="3801960" cy="293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714240" y="4000680"/>
                <a:ext cx="1154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Text Box 11"/>
          <p:cNvSpPr/>
          <p:nvPr/>
        </p:nvSpPr>
        <p:spPr>
          <a:xfrm>
            <a:off x="642960" y="5286240"/>
            <a:ext cx="385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Nota: Kr puede calcularse teóricamente pero en la práctica se recurre a datos empíricos o modelación numéric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7" descr="C:\BuzónPWG\Propagación\Difracción 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928800" y="1143000"/>
            <a:ext cx="7875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029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12" descr="C:\BuzónPWG\Propagación\Difracción 5.jpg"/>
          <p:cNvPicPr/>
          <p:nvPr/>
        </p:nvPicPr>
        <p:blipFill>
          <a:blip r:embed="rId2"/>
          <a:stretch/>
        </p:blipFill>
        <p:spPr>
          <a:xfrm>
            <a:off x="714240" y="1643040"/>
            <a:ext cx="5803920" cy="5170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BuzónPWG\Propagación\Difracción 3.jpg"/>
          <p:cNvPicPr/>
          <p:nvPr/>
        </p:nvPicPr>
        <p:blipFill>
          <a:blip r:embed="rId3">
            <a:lum contrast="10000"/>
          </a:blip>
          <a:srcRect l="12248" t="0" r="3014" b="0"/>
          <a:stretch/>
        </p:blipFill>
        <p:spPr>
          <a:xfrm>
            <a:off x="4164120" y="1279440"/>
            <a:ext cx="3408120" cy="252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2 Marcador de texto"/>
          <p:cNvSpPr/>
          <p:nvPr/>
        </p:nvSpPr>
        <p:spPr>
          <a:xfrm>
            <a:off x="685800" y="1428840"/>
            <a:ext cx="78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Las Obras de Abrigo se ubicarán orientadas según el oleaje predominante del Sur – Weste, de tal manera que las olas que se obtengan producto de la refracción y difracción dentro de la dársena estén comprendidas en un rango de 30 a 50 cm de altur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2 Marcador de texto"/>
          <p:cNvSpPr/>
          <p:nvPr/>
        </p:nvSpPr>
        <p:spPr>
          <a:xfrm>
            <a:off x="685800" y="1285920"/>
            <a:ext cx="78868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parte desde aguas profundad (H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 perfiles rectos y paralelo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terminación del Coeficiente de Disminución de Fondo (K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3068640"/>
          <a:ext cx="7848720" cy="31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068640"/>
                    <a:ext cx="78487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2 Marcador de texto"/>
          <p:cNvSpPr/>
          <p:nvPr/>
        </p:nvSpPr>
        <p:spPr>
          <a:xfrm>
            <a:off x="685800" y="1285920"/>
            <a:ext cx="7886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Shoal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26920" y="1773360"/>
          <a:ext cx="7848720" cy="33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78487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texto"/>
          <p:cNvSpPr/>
          <p:nvPr/>
        </p:nvSpPr>
        <p:spPr>
          <a:xfrm>
            <a:off x="685800" y="1285920"/>
            <a:ext cx="7886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fracció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cambio en la dirección de la ola y el coeficiente de refracción puede ser calculado usando la siguiente ecu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00000" y="2708280"/>
          <a:ext cx="7920000" cy="31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708280"/>
                    <a:ext cx="792000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2 Marcador de texto"/>
          <p:cNvSpPr/>
          <p:nvPr/>
        </p:nvSpPr>
        <p:spPr>
          <a:xfrm>
            <a:off x="685800" y="1285920"/>
            <a:ext cx="7886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Difracció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ángulo de inclinación del molo de 120° respecto al frente de ol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primer tramo del molo de abrigo de 170 m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Se considerará un segundo tramo de molo de abrigo orientado a 150° respecto al frente de olas y de 150 m de longitu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1 Título"/>
          <p:cNvSpPr/>
          <p:nvPr/>
        </p:nvSpPr>
        <p:spPr>
          <a:xfrm>
            <a:off x="714240" y="752400"/>
            <a:ext cx="702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PREDISEÑO DE HIDRÁULICA MARÍT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rcRect l="0" t="2475" r="0" b="3481"/>
          <a:stretch/>
        </p:blipFill>
        <p:spPr>
          <a:xfrm>
            <a:off x="71280" y="1071720"/>
            <a:ext cx="8928360" cy="57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179280" y="189000"/>
          <a:ext cx="309744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30974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61920" y="1066680"/>
            <a:ext cx="902016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250920" y="981000"/>
          <a:ext cx="676908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981000"/>
                    <a:ext cx="6769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42920" y="1000080"/>
            <a:ext cx="8929800" cy="580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0" y="0"/>
          <a:ext cx="644364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texto"/>
          <p:cNvSpPr/>
          <p:nvPr/>
        </p:nvSpPr>
        <p:spPr>
          <a:xfrm>
            <a:off x="685800" y="1285920"/>
            <a:ext cx="7886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Ancho de la Dársena entre malecones (b):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Malecones // que se sitúan frente a frent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Ancho considerado como condicione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tamaño de los buqu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n° de sitios de atraqu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- uso de remolcador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 malecón tiene 3 o menos sitios de atraque b=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uando un malecón tiene 4 o más sitios de atraque b=1,5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714240" y="752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COMENDACIONES SOBRE PLANIFICACIÓN DE LA DÁRSE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2 Marcador de texto"/>
          <p:cNvSpPr/>
          <p:nvPr/>
        </p:nvSpPr>
        <p:spPr>
          <a:xfrm>
            <a:off x="685800" y="1285920"/>
            <a:ext cx="7886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Área para maniobras de Naves: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área de maniobra para viraje de proa de una nave, deberá exceder el área de un círculo de radio R=1,5 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Con remolcadores y en dársenas tranquilas se puede reducir el área del círculo a R=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Largo de Atraque (L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largo de atraque deberá ser obtenida agregando la manga de construcción del buque a la eslora de la nave. L= Eslora + Mang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El largo L se deberá estimar de modo tal que permita un atraque y zarpe de los barcos en forma cómoda y segur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80"/>
                </a:solidFill>
                <a:uFillTx/>
                <a:latin typeface="Swis721 BT"/>
                <a:ea typeface="Times New Roman"/>
              </a:rPr>
              <a:t>Profundidad de la Dársena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Deberá ser de 1,1 veces el calado a plena carga bajo el NR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1 Título"/>
          <p:cNvSpPr/>
          <p:nvPr/>
        </p:nvSpPr>
        <p:spPr>
          <a:xfrm>
            <a:off x="714240" y="752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Swis721 Ex BT"/>
              </a:rPr>
              <a:t>RECOMENDACIONES SOBRE PLANIFICACIÓN DE LA DÁRSE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2"/>
          <a:stretch/>
        </p:blipFill>
        <p:spPr>
          <a:xfrm>
            <a:off x="420840" y="2639880"/>
            <a:ext cx="83214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L MEDIO AMBIENTE COSTERO ES UN MEDIO DINÁMICO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19238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origen tienen los sedimentos costero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transportan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dinámica tiene la morfología del borde costero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es son escalas espaciales y temporal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2" descr="C:\BuzónPWG\S024-2 Coronel aéreo.jpg"/>
          <p:cNvPicPr/>
          <p:nvPr/>
        </p:nvPicPr>
        <p:blipFill>
          <a:blip r:embed="rId2"/>
          <a:stretch/>
        </p:blipFill>
        <p:spPr>
          <a:xfrm>
            <a:off x="3470400" y="1643040"/>
            <a:ext cx="5530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L CLIMA DE OLEAJE ES COMPLEJO</a:t>
            </a:r>
            <a:r>
              <a:rPr b="0" lang="es-ES_tradnl" sz="1400" spc="-1" strike="noStrike">
                <a:solidFill>
                  <a:srgbClr val="cc0000"/>
                </a:solidFill>
                <a:latin typeface="Swis721 Ex BT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138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dónde se genera el oleaje que llega a nuestro litoral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propaga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penetra en los puerto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9" descr="C:\PRDWIng\Prop\S0-040 Valparaíso - Barón Pier\UKMO\chile5.gif"/>
          <p:cNvPicPr/>
          <p:nvPr/>
        </p:nvPicPr>
        <p:blipFill>
          <a:blip r:embed="rId2"/>
          <a:stretch/>
        </p:blipFill>
        <p:spPr>
          <a:xfrm>
            <a:off x="384480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/>
          <p:cNvPicPr/>
          <p:nvPr/>
        </p:nvPicPr>
        <p:blipFill>
          <a:blip r:embed="rId3"/>
          <a:srcRect l="0" t="0" r="24935" b="0"/>
          <a:stretch/>
        </p:blipFill>
        <p:spPr>
          <a:xfrm>
            <a:off x="2500200" y="3214800"/>
            <a:ext cx="1879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514440"/>
            <a:ext cx="8215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INTERACCIÓN CON OBRAS PORTUARIAS O COSTERA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43320" cy="117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se modifica el oleaje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qué respuesta morfológica se puede esperar?...embanque? ... Socavación al pie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 es el layout óptimo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9" descr="..\..\PRDW ing\Closed Projects\S0499 San Antonio - Defensa costera\SanAntonio-brochure.jpg"/>
          <p:cNvPicPr/>
          <p:nvPr/>
        </p:nvPicPr>
        <p:blipFill>
          <a:blip r:embed="rId2">
            <a:lum bright="10000"/>
          </a:blip>
          <a:srcRect l="0" t="-423" r="18545" b="0"/>
          <a:stretch/>
        </p:blipFill>
        <p:spPr>
          <a:xfrm>
            <a:off x="1981080" y="2895480"/>
            <a:ext cx="7010640" cy="37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ESTUDIOS </a:t>
            </a:r>
            <a:br>
              <a:rPr sz="2000"/>
            </a:br>
            <a:r>
              <a:rPr b="0" lang="es-ES_tradnl" sz="2000" spc="-1" strike="noStrike">
                <a:solidFill>
                  <a:srgbClr val="cc0000"/>
                </a:solidFill>
                <a:latin typeface="Swis721 Ex BT"/>
              </a:rPr>
              <a:t>OCEANOGRÁFICO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se requiere de medicion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uáles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wis721 BT"/>
              </a:rPr>
              <a:t>¿cómo medir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4" descr="C:\PRDW\Imágenes\Otros\Instrumentos de medición.bmp"/>
          <p:cNvPicPr/>
          <p:nvPr/>
        </p:nvPicPr>
        <p:blipFill>
          <a:blip r:embed="rId2"/>
          <a:stretch/>
        </p:blipFill>
        <p:spPr>
          <a:xfrm>
            <a:off x="4094280" y="1676520"/>
            <a:ext cx="407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BT"/>
              </a:rPr>
              <a:t>RECORDANDO LOS INICIOS DE NUESTROS PUERTO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4" descr="C:\Publicaciones\Present JVA\Valpo1853.jpg"/>
          <p:cNvPicPr/>
          <p:nvPr/>
        </p:nvPicPr>
        <p:blipFill>
          <a:blip r:embed="rId2"/>
          <a:stretch/>
        </p:blipFill>
        <p:spPr>
          <a:xfrm>
            <a:off x="304920" y="1752480"/>
            <a:ext cx="415764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5" descr="C:\Publicaciones\Present JVA\Coronel.jpg"/>
          <p:cNvPicPr/>
          <p:nvPr/>
        </p:nvPicPr>
        <p:blipFill>
          <a:blip r:embed="rId3"/>
          <a:stretch/>
        </p:blipFill>
        <p:spPr>
          <a:xfrm>
            <a:off x="4648320" y="1676520"/>
            <a:ext cx="42861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Swis721 BT"/>
              </a:rPr>
              <a:t>EN LOS TIEMPOS ACTUALES…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10" descr="C:\Publicaciones\Present JVA\carguero lt.jpg"/>
          <p:cNvPicPr/>
          <p:nvPr/>
        </p:nvPicPr>
        <p:blipFill>
          <a:blip r:embed="rId2"/>
          <a:stretch/>
        </p:blipFill>
        <p:spPr>
          <a:xfrm>
            <a:off x="428760" y="1857240"/>
            <a:ext cx="3438360" cy="415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:\Publicaciones\Present JVA\porta-contenedor.jpg"/>
          <p:cNvPicPr/>
          <p:nvPr/>
        </p:nvPicPr>
        <p:blipFill>
          <a:blip r:embed="rId3"/>
          <a:stretch/>
        </p:blipFill>
        <p:spPr>
          <a:xfrm>
            <a:off x="5143680" y="1643040"/>
            <a:ext cx="3276360" cy="223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C:\Publicaciones\Present JVA\Terminal-granelero.jpg"/>
          <p:cNvPicPr/>
          <p:nvPr/>
        </p:nvPicPr>
        <p:blipFill>
          <a:blip r:embed="rId4"/>
          <a:stretch/>
        </p:blipFill>
        <p:spPr>
          <a:xfrm>
            <a:off x="5143680" y="3929040"/>
            <a:ext cx="35049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1:21:37Z</dcterms:created>
  <dc:creator>debora riquelme</dc:creator>
  <dc:description/>
  <dc:language>en-US</dc:language>
  <cp:lastModifiedBy>debora riquelme</cp:lastModifiedBy>
  <dcterms:modified xsi:type="dcterms:W3CDTF">2007-08-22T21:27:20Z</dcterms:modified>
  <cp:revision>1</cp:revision>
  <dc:subject/>
  <dc:title>Diapositiva 1</dc:title>
</cp:coreProperties>
</file>