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A6DC-4882-4986-9475-3A831027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3CFD-DA0F-4375-8ACA-19DFBE05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3BEB-CF0F-479F-8738-850666D13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597A-8FF9-4062-87D5-1B1C39011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62A2-417A-4084-B428-7C755E10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4D89-B43F-4EDE-B0B4-8FCC5F11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DD6C-0955-405C-95C3-0CC2B967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790E-BC02-41D5-8942-9EB1164F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2555-6070-4225-89D2-178E2A5B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623C-A5B3-40D9-B37D-0EACDDD7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25D9-BB02-4D7F-B5D8-3931A005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E4D9-F1CE-4298-9AC0-CF1B6C7F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C253-9387-41DD-AB9B-D6BBC4EDE1E3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A DE REMEDIACION PARA SUELO CONTAMINAD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nética de reac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uede ser definida como el estudio del efecto de la temperatura, presión, y concentración sobre la tasa a la cual se desarrolla una reacción quími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sa de rea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 un término usado para describir la tasa de formación o desaparición de una sustancia (o especies químicas)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reacciones generalmente resultan en la pérdida de un reactante y la ganancia o formación de un producto. En forma esquemática se puede escribir lo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a la cual ocurre esta reacción, r, tiene unidades de concentración por tiempo, es decir, M/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505320" y="4114800"/>
                <a:ext cx="21412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actant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product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16:03Z</dcterms:created>
  <dc:creator>Compaq</dc:creator>
  <dc:description/>
  <dc:language>en-US</dc:language>
  <cp:lastModifiedBy>Carlos Espinoza</cp:lastModifiedBy>
  <cp:lastPrinted>2002-03-07T00:28:35Z</cp:lastPrinted>
  <dcterms:modified xsi:type="dcterms:W3CDTF">2005-07-29T20:54:28Z</dcterms:modified>
  <cp:revision>49</cp:revision>
  <dc:subject/>
  <dc:title>Sin título de diapositiva</dc:title>
</cp:coreProperties>
</file>