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538-581D-4909-9DC8-80B597E6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949-5AF1-4523-A59F-A2DF22DA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790-41EB-4DDE-BD9E-BAF282B5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C1B-DDB1-4AB3-82E6-BC160082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366-B34F-4A76-B4B6-CA167232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A485-F04F-4310-9894-F0FB6DAA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BD6-17EF-4E64-AADA-D9BE3F90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1B8-3DD4-438B-A983-C1822095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593-DE7E-45AD-B6E9-B1870EAC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67D-90EA-4591-99B1-7F689C86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0BF-0C8C-4A2F-AA1A-238F3EE4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FA6-A2F4-4FF2-B0F2-5F6A3818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8C6D-4DDC-4BEA-BDFB-F9070C486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38280" y="4876920"/>
            <a:ext cx="6477120" cy="1676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pues que cargan el mapa de fondo hacen lo siguie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er-Dimensione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parece la ventana en pantalla y le dan las coorden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uego para trazar las tuberías deben estar en modo “Long-Auto Sí” (boton derecho sobre lo encerrado en rojo) y de esta forma cada vez que tracen una tubería tendrá la longitud que ustedes dibujen automatic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28600" y="6553080"/>
            <a:ext cx="914400" cy="304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6:13:12Z</dcterms:created>
  <dc:creator>Gerardo Ahumada</dc:creator>
  <dc:description/>
  <dc:language>en-US</dc:language>
  <cp:lastModifiedBy>Gerardo Ahumada</cp:lastModifiedBy>
  <dcterms:modified xsi:type="dcterms:W3CDTF">2005-11-03T16:27:05Z</dcterms:modified>
  <cp:revision>2</cp:revision>
  <dc:subject/>
  <dc:title>Sin título de diapositiva</dc:title>
</cp:coreProperties>
</file>