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69C-2247-48EF-B881-FB81FE17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4A4C-BEC1-4212-A45D-28F160DA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4830-AC88-4C7F-9308-3ED2DFC4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6A4-0FA6-4DB2-A8AA-90B1CDB7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A89-EA0F-40E1-AA6E-00ACAEBC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F20-B094-483A-8F6C-C0F619AF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6B1-B42B-4A6E-B6C4-798BBBFC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4123-D80D-4364-A2FB-AA01B49C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5C48-09EB-4785-92C4-04CA57B0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E5A-5188-4C37-8A7E-75ED63EC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F2B-8E11-4582-9DF5-DE2BC4F1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BA9-38F5-434B-9642-98273EF2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FCF5-5011-475D-B36F-A5C7CF605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38280" y="4876920"/>
            <a:ext cx="6477120" cy="1676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spues que cargan el mapa de fondo hacen lo siguie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er-Dimensiones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parece la ventana en pantalla y le dan las coorden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uego para trazar las tuberías deben estar en modo “Long-Auto Sí” (boton derecho sobre lo encerrado en rojo) y de esta forma cada vez que tracen una tubería tendrá la longitud que ustedes dibujen automatic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28600" y="6553080"/>
            <a:ext cx="914400" cy="30492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6:13:12Z</dcterms:created>
  <dc:creator>Gerardo Ahumada</dc:creator>
  <dc:description/>
  <dc:language>en-US</dc:language>
  <cp:lastModifiedBy>Gerardo Ahumada</cp:lastModifiedBy>
  <dcterms:modified xsi:type="dcterms:W3CDTF">2005-11-03T16:27:05Z</dcterms:modified>
  <cp:revision>2</cp:revision>
  <dc:subject/>
  <dc:title>Sin título de diapositiva</dc:title>
</cp:coreProperties>
</file>