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78C-67BA-4DE6-8425-5CD2CB56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9E0-AB20-433C-ACCB-818D395F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F1D-6CA3-4BD5-85A1-4E5EE669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EBC-FD19-4F3B-ADD6-E4045EBE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826-C12D-4E1D-9AE5-EA80170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961-8B12-4CFF-AD02-1FDD7B66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525-D3F2-4DFC-87A5-FD3FFCC3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494-AB33-4A38-A66F-B449FEC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74F-F103-4486-9281-6A1DEF27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751-558C-4DE8-ACB2-CB2758F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750-EE9C-4D3C-BB2B-87AC976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4C9-A612-4BCE-87BA-67E9D2E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5683-6427-4263-B8A0-8CE53011B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7712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pues que cargan el mapa de fondo hacen l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r-Dimension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parece la ventana en pantalla y le dan las coorden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ego para trazar las tuberías deben estar en modo “Long-Auto Sí” (boton derecho sobre lo encerrado en rojo) y de esta forma cada vez que tracen una tubería tendrá la longitud que ustedes dibujen automatic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28600" y="6553080"/>
            <a:ext cx="91440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3:12Z</dcterms:created>
  <dc:creator>Gerardo Ahumada</dc:creator>
  <dc:description/>
  <dc:language>en-US</dc:language>
  <cp:lastModifiedBy>Gerardo Ahumada</cp:lastModifiedBy>
  <dcterms:modified xsi:type="dcterms:W3CDTF">2005-11-03T16:27:05Z</dcterms:modified>
  <cp:revision>2</cp:revision>
  <dc:subject/>
  <dc:title>Sin título de diapositiva</dc:title>
</cp:coreProperties>
</file>