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3.png" ContentType="image/png"/>
  <Override PartName="/ppt/media/image1.wmf" ContentType="image/x-wmf"/>
  <Override PartName="/ppt/media/image2.wmf" ContentType="image/x-wmf"/>
  <Override PartName="/ppt/media/image3.png" ContentType="image/png"/>
  <Override PartName="/ppt/media/click.wav" ContentType="audio/x-wav"/>
  <Override PartName="/ppt/media/image7.png" ContentType="image/png"/>
  <Override PartName="/ppt/media/image12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4825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81612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995800" y="-360"/>
            <a:ext cx="85716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58680" y="739440"/>
            <a:ext cx="4935600" cy="3701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689000"/>
            <a:ext cx="321624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687960"/>
            <a:ext cx="9176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6594120" y="9687960"/>
            <a:ext cx="25884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E3702-9420-471A-8EBC-CD94A7E24052}" type="slidenum">
              <a:rPr b="0" lang="es-ES_tradnl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PlaceHolder 1"/>
          <p:cNvSpPr>
            <a:spLocks noGrp="1"/>
          </p:cNvSpPr>
          <p:nvPr>
            <p:ph type="sldImg"/>
          </p:nvPr>
        </p:nvSpPr>
        <p:spPr>
          <a:xfrm>
            <a:off x="958680" y="739800"/>
            <a:ext cx="4935600" cy="3701880"/>
          </a:xfrm>
          <a:prstGeom prst="rect">
            <a:avLst/>
          </a:prstGeom>
          <a:ln w="0">
            <a:noFill/>
          </a:ln>
        </p:spPr>
      </p:sp>
      <p:sp>
        <p:nvSpPr>
          <p:cNvPr id="2986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57280" cy="18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15° cl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C285-C6BF-4061-9E00-865E07EE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630E-C985-4CD1-BE12-EBD15FC6C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A9B5-712A-4371-B95C-DD606C318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BBFB-950F-43E6-AABA-F09CF0F01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99D0-B74E-4844-9679-13DC1A64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D7D-64E0-4E9E-A1AA-ADFAB04D3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4932-E051-433C-843F-C769AA1BD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5AD0A-70B0-4B93-99E9-9274B2BA8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BED8-F137-4540-A5F1-DC34433A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ADD-8498-40E2-B1DD-491CAFBA8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91A6D-6638-491D-8013-439A45DF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BF2E-25DE-4C02-95E3-85CF0C53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8DD6-DC8D-4305-99AF-8366AC2494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8.png"/><Relationship Id="rId16" Type="http://schemas.openxmlformats.org/officeDocument/2006/relationships/image" Target="../media/image8.png"/><Relationship Id="rId17" Type="http://schemas.openxmlformats.org/officeDocument/2006/relationships/image" Target="../media/image8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8.png"/><Relationship Id="rId2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4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2.png"/><Relationship Id="rId19" Type="http://schemas.openxmlformats.org/officeDocument/2006/relationships/image" Target="../media/image12.png"/><Relationship Id="rId20" Type="http://schemas.openxmlformats.org/officeDocument/2006/relationships/image" Target="../media/image12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5.png"/><Relationship Id="rId13" Type="http://schemas.openxmlformats.org/officeDocument/2006/relationships/image" Target="../media/image6.png"/><Relationship Id="rId1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8.png"/><Relationship Id="rId12" Type="http://schemas.openxmlformats.org/officeDocument/2006/relationships/image" Target="../media/image7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44680" y="1052280"/>
            <a:ext cx="77724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CURSO  CI52B</a:t>
            </a:r>
            <a:br>
              <a:rPr sz="2400"/>
            </a:br>
            <a:r>
              <a:rPr b="1" lang="es-ES_tradnl" sz="2000" spc="-1" strike="noStrike">
                <a:solidFill>
                  <a:srgbClr val="ff9900"/>
                </a:solidFill>
                <a:latin typeface="Arial"/>
              </a:rPr>
              <a:t>Semestre Primavera</a:t>
            </a:r>
            <a:br>
              <a:rPr sz="2000"/>
            </a:br>
            <a:r>
              <a:rPr b="1" lang="es-ES_tradnl" sz="2400" spc="-1" strike="noStrike">
                <a:solidFill>
                  <a:srgbClr val="ff9900"/>
                </a:solidFill>
                <a:latin typeface="Arial"/>
              </a:rPr>
              <a:t>2007</a:t>
            </a:r>
            <a:br>
              <a:rPr sz="2400"/>
            </a:b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POGRAMACION, SEGUIMIENTO Y CONTROL  DE  PROYECTOS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419640" y="3500280"/>
            <a:ext cx="2374200" cy="2592360"/>
            <a:chOff x="3419640" y="3500280"/>
            <a:chExt cx="2374200" cy="259236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419640" y="3514680"/>
              <a:ext cx="1396800" cy="2577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391640" y="3500280"/>
              <a:ext cx="1402200" cy="253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6515280" y="6242040"/>
            <a:ext cx="2914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900" spc="-1" strike="noStrike">
                <a:solidFill>
                  <a:srgbClr val="ffff00"/>
                </a:solidFill>
                <a:latin typeface="Arial"/>
              </a:rPr>
              <a:t>GREGORIO AZOCAR G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discontinu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 flipV="1">
            <a:off x="35323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716120" y="2583000"/>
            <a:ext cx="2832120" cy="10764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1716120" y="258444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2227320" y="2932200"/>
            <a:ext cx="3338280" cy="730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227320" y="2930400"/>
            <a:ext cx="1042920" cy="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781440" y="3247920"/>
            <a:ext cx="3319560" cy="1018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781440" y="3247920"/>
            <a:ext cx="1568520" cy="9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1971720" y="3581280"/>
            <a:ext cx="3101760" cy="730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971720" y="3581280"/>
            <a:ext cx="129204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1971720" y="3876840"/>
            <a:ext cx="3101760" cy="727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1971720" y="3876840"/>
            <a:ext cx="76032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2738520" y="4172040"/>
            <a:ext cx="3082680" cy="9216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005280" y="4191120"/>
            <a:ext cx="25056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797280" y="4525920"/>
            <a:ext cx="3573360" cy="730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3781440" y="4525920"/>
            <a:ext cx="101772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3270240" y="4840200"/>
            <a:ext cx="2295360" cy="73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3249720" y="4840200"/>
            <a:ext cx="52524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3800520" y="5175360"/>
            <a:ext cx="3576600" cy="7308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805280" y="5175360"/>
            <a:ext cx="74160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5586480" y="5489640"/>
            <a:ext cx="2330280" cy="936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595840" y="5489640"/>
            <a:ext cx="506520" cy="9216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6108840" y="5775480"/>
            <a:ext cx="2035080" cy="889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6118200" y="5765760"/>
            <a:ext cx="23004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3546360" y="2585880"/>
            <a:ext cx="582840" cy="1112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543560" y="2932200"/>
            <a:ext cx="1042920" cy="74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540400" y="3249720"/>
            <a:ext cx="1568520" cy="9180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768840" y="3578400"/>
            <a:ext cx="1292040" cy="72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282920" y="3873600"/>
            <a:ext cx="760680" cy="824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573880" y="4187880"/>
            <a:ext cx="250560" cy="730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037120" y="4846680"/>
            <a:ext cx="525600" cy="73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6354720" y="5172120"/>
            <a:ext cx="741240" cy="824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7378560" y="5486400"/>
            <a:ext cx="506520" cy="101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891560" y="5762520"/>
            <a:ext cx="258840" cy="1144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6340320" y="4532400"/>
            <a:ext cx="1017720" cy="730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5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5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2" dur="5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2" dur="5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2" dur="5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2" dur="5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5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2" dur="5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2" dur="5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2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2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5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5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5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5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1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500"/>
                                        <p:tgtEl>
                                          <p:spTgt spid="1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500"/>
                                        <p:tgtEl>
                                          <p:spTgt spid="1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"/>
          <p:cNvSpPr/>
          <p:nvPr/>
        </p:nvSpPr>
        <p:spPr>
          <a:xfrm>
            <a:off x="6135840" y="3405240"/>
            <a:ext cx="723600" cy="371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3054600" y="437832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742160" y="3392640"/>
            <a:ext cx="723960" cy="371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4541760" y="3392640"/>
            <a:ext cx="723960" cy="371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4548240" y="4389480"/>
            <a:ext cx="723960" cy="371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516560" y="2452680"/>
            <a:ext cx="723600" cy="3715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928960" y="3398760"/>
            <a:ext cx="723960" cy="371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303200" y="3392640"/>
            <a:ext cx="723960" cy="371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278000" y="2455920"/>
            <a:ext cx="723960" cy="3715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6886440" y="3571920"/>
            <a:ext cx="876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705640" y="366696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5695920" y="3666600"/>
            <a:ext cx="0" cy="924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5267160" y="4591080"/>
            <a:ext cx="41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5267160" y="3543480"/>
            <a:ext cx="8956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5248440" y="284796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552920" y="378144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4038480" y="2733840"/>
            <a:ext cx="505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4048200" y="2714400"/>
            <a:ext cx="0" cy="90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3648240" y="3619440"/>
            <a:ext cx="923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2038320" y="361008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290600" y="2838600"/>
            <a:ext cx="0" cy="542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562640" y="4371840"/>
            <a:ext cx="733320" cy="371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6143760" y="3381480"/>
            <a:ext cx="733320" cy="371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685800" y="537840"/>
            <a:ext cx="777240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CTIVIDADES CONTINUAS</a:t>
            </a:r>
            <a:br>
              <a:rPr sz="2800"/>
            </a:b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1" name=""/>
          <p:cNvSpPr/>
          <p:nvPr/>
        </p:nvSpPr>
        <p:spPr>
          <a:xfrm>
            <a:off x="1300320" y="3394080"/>
            <a:ext cx="72360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9900"/>
                </a:solidFill>
                <a:latin typeface="Times New Roman"/>
              </a:rPr>
              <a:t>B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1266840" y="2465280"/>
            <a:ext cx="7239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453680" y="24591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309680" y="4383000"/>
            <a:ext cx="7239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2935440" y="246528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3055680" y="246060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935440" y="340344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935440" y="438300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560840" y="246528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671360" y="24573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560840" y="340344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4560840" y="438300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6164280" y="3403440"/>
            <a:ext cx="7048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7748640" y="339408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305460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680720" y="341784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734360" y="437832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322320" y="33973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2398680" y="26114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 flipV="1">
            <a:off x="2378160" y="3703680"/>
            <a:ext cx="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2941560" y="3780000"/>
            <a:ext cx="0" cy="387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2954160" y="4160880"/>
            <a:ext cx="723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789156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cf0e30"/>
                </a:solidFill>
                <a:latin typeface="Geneva"/>
              </a:rPr>
              <a:t>C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51240" y="277956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1551240" y="37069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1549440" y="4700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3152880" y="4700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3151440" y="37069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151440" y="27828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4770720" y="278748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4794480" y="37069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815000" y="4700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418440" y="37260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8001000" y="37260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3895920" y="43578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5223960" y="294156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1305720" y="296244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309680" y="2987640"/>
            <a:ext cx="203040" cy="203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5246640" y="2987640"/>
            <a:ext cx="203400" cy="18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3935520" y="4383000"/>
            <a:ext cx="182520" cy="2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10648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200160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103500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199224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03320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96992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27190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36352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65392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61296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263196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64140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431784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5169960" y="22525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418752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520812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182480" y="41911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162040" y="41911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5860800" y="3206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678456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376760" y="32162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836424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83721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7422840" y="369720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6795720" y="369720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5862240" y="37069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5177880" y="37069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51541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519372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4195440" y="2759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41684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420480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53952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5269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5045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353340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2614320" y="277956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25808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188064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1002240" y="46702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191880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104976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1945080" y="27320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1046520" y="27320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1454400" y="437976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1470600" y="21877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1483200" y="31258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3093120" y="31384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4702680" y="31510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4675680" y="220356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4701240" y="412740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6306120" y="313992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7909560" y="314640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6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4033800" y="2733840"/>
            <a:ext cx="51444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2055960" y="3600360"/>
            <a:ext cx="87624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4033800" y="2727360"/>
            <a:ext cx="0" cy="912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3678120" y="3629160"/>
            <a:ext cx="3556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4546440" y="3780000"/>
            <a:ext cx="0" cy="60480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5686560" y="3652920"/>
            <a:ext cx="49500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6888240" y="3573360"/>
            <a:ext cx="87624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5249880" y="4583160"/>
            <a:ext cx="458640" cy="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V="1">
            <a:off x="5700600" y="3639600"/>
            <a:ext cx="0" cy="955800"/>
          </a:xfrm>
          <a:prstGeom prst="line">
            <a:avLst/>
          </a:prstGeom>
          <a:ln w="28440">
            <a:solidFill>
              <a:srgbClr val="cf0e3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1488240" y="411336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3053520" y="4173480"/>
            <a:ext cx="45864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37c03"/>
                </a:solidFill>
                <a:latin typeface="Geneva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3102480" y="2209680"/>
            <a:ext cx="405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37c03"/>
                </a:solidFill>
                <a:latin typeface="Geneva"/>
              </a:rPr>
              <a:t>(8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1285920" y="2838600"/>
            <a:ext cx="0" cy="5522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248440" y="2833560"/>
            <a:ext cx="0" cy="5526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1305000" y="3762360"/>
            <a:ext cx="0" cy="619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2048040" y="2629080"/>
            <a:ext cx="885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2400480" y="35146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2381400" y="3714840"/>
            <a:ext cx="561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2028960" y="456264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3629160" y="2610000"/>
            <a:ext cx="94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3638520" y="4581360"/>
            <a:ext cx="9428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3629160" y="4162320"/>
            <a:ext cx="0" cy="219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15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370240" y="2602080"/>
            <a:ext cx="58680" cy="45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343240" y="4532400"/>
            <a:ext cx="5868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4002120" y="3591000"/>
            <a:ext cx="5868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1657440" y="5638680"/>
            <a:ext cx="680076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Camino Crítico: A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B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A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B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</a:t>
            </a:r>
            <a:r>
              <a:rPr b="1" lang="es-CL" sz="2000" spc="-1" strike="noStrike" baseline="-25000">
                <a:solidFill>
                  <a:srgbClr val="0000ff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475000" y="108900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Más  Tempr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2489040" y="111744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Más  Tard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2494080" y="110808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Holgur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2517840" y="1116000"/>
            <a:ext cx="4862520" cy="36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ff"/>
                </a:solidFill>
                <a:latin typeface="Arial"/>
              </a:rPr>
              <a:t>Camino Crític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500"/>
                            </p:stCondLst>
                            <p:childTnLst>
                              <p:par>
                                <p:cTn id="7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500"/>
                            </p:stCondLst>
                            <p:childTnLst>
                              <p:par>
                                <p:cTn id="74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fill="hold">
                            <p:stCondLst>
                              <p:cond delay="2500"/>
                            </p:stCondLst>
                            <p:childTnLst>
                              <p:par>
                                <p:cTn id="75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fill="hold">
                            <p:stCondLst>
                              <p:cond delay="3500"/>
                            </p:stCondLst>
                            <p:childTnLst>
                              <p:par>
                                <p:cTn id="75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fill="hold">
                            <p:stCondLst>
                              <p:cond delay="4500"/>
                            </p:stCondLst>
                            <p:childTnLst>
                              <p:par>
                                <p:cTn id="75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5500"/>
                            </p:stCondLst>
                            <p:childTnLst>
                              <p:par>
                                <p:cTn id="76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fill="hold">
                            <p:stCondLst>
                              <p:cond delay="6500"/>
                            </p:stCondLst>
                            <p:childTnLst>
                              <p:par>
                                <p:cTn id="76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7500"/>
                            </p:stCondLst>
                            <p:childTnLst>
                              <p:par>
                                <p:cTn id="76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7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9500"/>
                            </p:stCondLst>
                            <p:childTnLst>
                              <p:par>
                                <p:cTn id="77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10500"/>
                            </p:stCondLst>
                            <p:childTnLst>
                              <p:par>
                                <p:cTn id="77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1500"/>
                            </p:stCondLst>
                            <p:childTnLst>
                              <p:par>
                                <p:cTn id="77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fill="hold">
                            <p:stCondLst>
                              <p:cond delay="12500"/>
                            </p:stCondLst>
                            <p:childTnLst>
                              <p:par>
                                <p:cTn id="7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3500"/>
                            </p:stCondLst>
                            <p:childTnLst>
                              <p:par>
                                <p:cTn id="7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45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15500"/>
                            </p:stCondLst>
                            <p:childTnLst>
                              <p:par>
                                <p:cTn id="7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7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6" fill="hold">
                            <p:stCondLst>
                              <p:cond delay="17500"/>
                            </p:stCondLst>
                            <p:childTnLst>
                              <p:par>
                                <p:cTn id="7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fill="hold">
                            <p:stCondLst>
                              <p:cond delay="18500"/>
                            </p:stCondLst>
                            <p:childTnLst>
                              <p:par>
                                <p:cTn id="8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9500"/>
                            </p:stCondLst>
                            <p:childTnLst>
                              <p:par>
                                <p:cTn id="8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fill="hold">
                            <p:stCondLst>
                              <p:cond delay="20500"/>
                            </p:stCondLst>
                            <p:childTnLst>
                              <p:par>
                                <p:cTn id="8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21500"/>
                            </p:stCondLst>
                            <p:childTnLst>
                              <p:par>
                                <p:cTn id="8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500"/>
                            </p:stCondLst>
                            <p:childTnLst>
                              <p:par>
                                <p:cTn id="8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500"/>
                            </p:stCondLst>
                            <p:childTnLst>
                              <p:par>
                                <p:cTn id="8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2500"/>
                            </p:stCondLst>
                            <p:childTnLst>
                              <p:par>
                                <p:cTn id="8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fill="hold">
                            <p:stCondLst>
                              <p:cond delay="3500"/>
                            </p:stCondLst>
                            <p:childTnLst>
                              <p:par>
                                <p:cTn id="8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450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500"/>
                            </p:stCondLst>
                            <p:childTnLst>
                              <p:par>
                                <p:cTn id="8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6500"/>
                            </p:stCondLst>
                            <p:childTnLst>
                              <p:par>
                                <p:cTn id="8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75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85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9500"/>
                            </p:stCondLst>
                            <p:childTnLst>
                              <p:par>
                                <p:cTn id="8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fill="hold">
                            <p:stCondLst>
                              <p:cond delay="10500"/>
                            </p:stCondLst>
                            <p:childTnLst>
                              <p:par>
                                <p:cTn id="8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15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13500"/>
                            </p:stCondLst>
                            <p:childTnLst>
                              <p:par>
                                <p:cTn id="8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fill="hold">
                            <p:stCondLst>
                              <p:cond delay="14500"/>
                            </p:stCondLst>
                            <p:childTnLst>
                              <p:par>
                                <p:cTn id="8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155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165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17500"/>
                            </p:stCondLst>
                            <p:childTnLst>
                              <p:par>
                                <p:cTn id="8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fill="hold">
                            <p:stCondLst>
                              <p:cond delay="18500"/>
                            </p:stCondLst>
                            <p:childTnLst>
                              <p:par>
                                <p:cTn id="8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195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20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1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500"/>
                            </p:stCondLst>
                            <p:childTnLst>
                              <p:par>
                                <p:cTn id="8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500"/>
                            </p:stCondLst>
                            <p:childTnLst>
                              <p:par>
                                <p:cTn id="8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2500"/>
                            </p:stCondLst>
                            <p:childTnLst>
                              <p:par>
                                <p:cTn id="8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35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45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55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65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1" fill="hold">
                            <p:stCondLst>
                              <p:cond delay="7500"/>
                            </p:stCondLst>
                            <p:childTnLst>
                              <p:par>
                                <p:cTn id="9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8500"/>
                            </p:stCondLst>
                            <p:childTnLst>
                              <p:par>
                                <p:cTn id="915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9500"/>
                            </p:stCondLst>
                            <p:childTnLst>
                              <p:par>
                                <p:cTn id="918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4" dur="500"/>
                                        <p:tgtEl>
                                          <p:spTgt spid="1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500"/>
                            </p:stCondLst>
                            <p:childTnLst>
                              <p:par>
                                <p:cTn id="9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8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1500"/>
                            </p:stCondLst>
                            <p:childTnLst>
                              <p:par>
                                <p:cTn id="93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2" dur="1000"/>
                                        <p:tgtEl>
                                          <p:spTgt spid="1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35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5500"/>
                            </p:stCondLst>
                            <p:childTnLst>
                              <p:par>
                                <p:cTn id="93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1000"/>
                                        <p:tgtEl>
                                          <p:spTgt spid="1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7500"/>
                            </p:stCondLst>
                            <p:childTnLst>
                              <p:par>
                                <p:cTn id="94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9500"/>
                            </p:stCondLst>
                            <p:childTnLst>
                              <p:par>
                                <p:cTn id="94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8" dur="1000"/>
                                        <p:tgtEl>
                                          <p:spTgt spid="1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11500"/>
                            </p:stCondLst>
                            <p:childTnLst>
                              <p:par>
                                <p:cTn id="950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2" dur="1000"/>
                                        <p:tgtEl>
                                          <p:spTgt spid="1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3500"/>
                            </p:stCondLst>
                            <p:childTnLst>
                              <p:par>
                                <p:cTn id="95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6" dur="1000"/>
                                        <p:tgtEl>
                                          <p:spTgt spid="1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7500"/>
                            </p:stCondLst>
                            <p:childTnLst>
                              <p:par>
                                <p:cTn id="96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4" dur="10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9500"/>
                            </p:stCondLst>
                            <p:childTnLst>
                              <p:par>
                                <p:cTn id="966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8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21500"/>
                            </p:stCondLst>
                            <p:childTnLst>
                              <p:par>
                                <p:cTn id="970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2" dur="10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3" fill="hold">
                            <p:stCondLst>
                              <p:cond delay="23500"/>
                            </p:stCondLst>
                            <p:childTnLst>
                              <p:par>
                                <p:cTn id="97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6" dur="1000"/>
                                        <p:tgtEl>
                                          <p:spTgt spid="1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25500"/>
                            </p:stCondLst>
                            <p:childTnLst>
                              <p:par>
                                <p:cTn id="97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0" dur="10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7500"/>
                            </p:stCondLst>
                            <p:childTnLst>
                              <p:par>
                                <p:cTn id="982" nodeType="after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10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5" fill="hold">
                            <p:stCondLst>
                              <p:cond delay="29500"/>
                            </p:stCondLst>
                            <p:childTnLst>
                              <p:par>
                                <p:cTn id="986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8" dur="10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31500"/>
                            </p:stCondLst>
                            <p:childTnLst>
                              <p:par>
                                <p:cTn id="9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33500"/>
                            </p:stCondLst>
                            <p:childTnLst>
                              <p:par>
                                <p:cTn id="994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10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35500"/>
                            </p:stCondLst>
                            <p:childTnLst>
                              <p:par>
                                <p:cTn id="998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0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5" dur="20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RONOGRAMA</a:t>
            </a:r>
            <a:br>
              <a:rPr sz="2800"/>
            </a:b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continuo)</a:t>
            </a:r>
            <a:br>
              <a:rPr sz="2000"/>
            </a:b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6" name=""/>
          <p:cNvSpPr/>
          <p:nvPr/>
        </p:nvSpPr>
        <p:spPr>
          <a:xfrm>
            <a:off x="1130400" y="1996920"/>
            <a:ext cx="6257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1130400" y="1687680"/>
            <a:ext cx="48038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1739880" y="2243160"/>
            <a:ext cx="4981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113040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1130400" y="2503440"/>
            <a:ext cx="6238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1123920" y="2860560"/>
            <a:ext cx="625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1123920" y="3149640"/>
            <a:ext cx="6270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123920" y="3711600"/>
            <a:ext cx="625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1106640" y="3440160"/>
            <a:ext cx="62690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1123920" y="3984480"/>
            <a:ext cx="625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1123920" y="4273560"/>
            <a:ext cx="6216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123920" y="4546440"/>
            <a:ext cx="623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123920" y="4854600"/>
            <a:ext cx="624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236376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417672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"/>
          <p:cNvSpPr/>
          <p:nvPr/>
        </p:nvSpPr>
        <p:spPr>
          <a:xfrm>
            <a:off x="5916600" y="1687680"/>
            <a:ext cx="0" cy="404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2" name=""/>
          <p:cNvSpPr/>
          <p:nvPr/>
        </p:nvSpPr>
        <p:spPr>
          <a:xfrm>
            <a:off x="6737400" y="1954080"/>
            <a:ext cx="0" cy="3775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758960" y="2025720"/>
            <a:ext cx="0" cy="3708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3298680" y="2025720"/>
            <a:ext cx="0" cy="369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5040360" y="2008080"/>
            <a:ext cx="0" cy="3726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5151240" y="2076480"/>
            <a:ext cx="22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208880" y="1714680"/>
            <a:ext cx="1109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IV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2376720" y="1714680"/>
            <a:ext cx="1917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FECHAS TEMPRAN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286160" y="1714680"/>
            <a:ext cx="1603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FECHAS TARDIA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151280" y="2112840"/>
            <a:ext cx="562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C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1730520" y="2004840"/>
            <a:ext cx="553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DU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35760" y="2004840"/>
            <a:ext cx="751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3217680" y="2004840"/>
            <a:ext cx="98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RMI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4212360" y="2022480"/>
            <a:ext cx="7513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INICI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4993920" y="2022480"/>
            <a:ext cx="9874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RMI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5907960" y="2004840"/>
            <a:ext cx="725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O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7370640" y="1978200"/>
            <a:ext cx="0" cy="3724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1793160" y="2259000"/>
            <a:ext cx="455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O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596320" y="2276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3497040" y="2276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E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4421160" y="227664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L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5250600" y="2293920"/>
            <a:ext cx="3794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LF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6073200" y="2276640"/>
            <a:ext cx="4222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H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778800" y="2004840"/>
            <a:ext cx="58068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Criti-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6755400" y="2239920"/>
            <a:ext cx="632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cida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1252800" y="2567160"/>
            <a:ext cx="40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1252800" y="2892600"/>
            <a:ext cx="40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1252800" y="3165480"/>
            <a:ext cx="407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1254600" y="345456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1254600" y="374508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1254600" y="401652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1254600" y="4287960"/>
            <a:ext cx="4039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1257480" y="457848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1257480" y="48690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1257480" y="519444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1257480" y="546732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1143000" y="5143680"/>
            <a:ext cx="625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1143000" y="5451480"/>
            <a:ext cx="6245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1149480" y="5730840"/>
            <a:ext cx="62053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193932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193932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1939320" y="3165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193932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193932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1939320" y="40165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1939320" y="42879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1939320" y="457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1939320" y="48690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1939320" y="5194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1939320" y="5467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271584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357120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452376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5301720" y="2567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109920" y="2584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271584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357120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4423680" y="28926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201640" y="28926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6109920" y="2892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2715840" y="3165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3461760" y="3165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4423680" y="3165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201640" y="3165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6109920" y="31827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271584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357120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4523760" y="3454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201640" y="34545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109920" y="34732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271584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357120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452376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201640" y="37450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6109920" y="37450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2706120" y="40165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3571200" y="40165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4442760" y="40165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5220720" y="40165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057360" y="40165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260604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346176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444276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220720" y="428796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060600" y="428796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2715840" y="457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3571200" y="457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4423680" y="4578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5201640" y="457848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109920" y="4597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60604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444276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346176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201640" y="486900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060600" y="4869000"/>
            <a:ext cx="3294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262512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444276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346176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5220720" y="519444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>
            <a:off x="6109920" y="5137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260604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346176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9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444276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5220720" y="5467320"/>
            <a:ext cx="3855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6109920" y="54277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6883560" y="260028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6883560" y="290844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8/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6883560" y="319896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6883560" y="348948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6883560" y="376092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8/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6831000" y="4032360"/>
            <a:ext cx="5608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10/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6834600" y="4303800"/>
            <a:ext cx="50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6883560" y="461340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6834600" y="4884840"/>
            <a:ext cx="504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 </a:t>
            </a: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6883560" y="515304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6883560" y="5443560"/>
            <a:ext cx="458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ff"/>
                </a:solidFill>
                <a:latin typeface="Geneva"/>
              </a:rPr>
              <a:t>6/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continu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 flipV="1">
            <a:off x="35323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1716120" y="2563920"/>
            <a:ext cx="2033640" cy="9828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1716120" y="256536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2227320" y="2922480"/>
            <a:ext cx="3120840" cy="7776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2227320" y="2930400"/>
            <a:ext cx="1042920" cy="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781440" y="3247920"/>
            <a:ext cx="3090960" cy="9540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3781440" y="3247920"/>
            <a:ext cx="1568520" cy="9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1971720" y="3581280"/>
            <a:ext cx="2835360" cy="6696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0160" bIns="20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1971720" y="3562200"/>
            <a:ext cx="1292040" cy="921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1987560" y="3867120"/>
            <a:ext cx="2838600" cy="889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1981080" y="3876840"/>
            <a:ext cx="76068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3014640" y="4191120"/>
            <a:ext cx="2806560" cy="11088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005280" y="4191120"/>
            <a:ext cx="250560" cy="91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4807080" y="4525920"/>
            <a:ext cx="2563560" cy="9216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800600" y="4535640"/>
            <a:ext cx="1017720" cy="72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3270240" y="4840200"/>
            <a:ext cx="2066760" cy="8280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3249720" y="4840200"/>
            <a:ext cx="52524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4791240" y="5175360"/>
            <a:ext cx="2309760" cy="6336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4805280" y="5175360"/>
            <a:ext cx="74160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5848200" y="5499000"/>
            <a:ext cx="2040120" cy="637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920" bIns="16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838840" y="5489640"/>
            <a:ext cx="506520" cy="73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6335640" y="5765760"/>
            <a:ext cx="1808280" cy="88920"/>
          </a:xfrm>
          <a:prstGeom prst="rect">
            <a:avLst/>
          </a:prstGeom>
          <a:noFill/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6351480" y="5765760"/>
            <a:ext cx="23040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246480" y="2567160"/>
            <a:ext cx="525600" cy="91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286160" y="2932200"/>
            <a:ext cx="1042920" cy="7452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5321160" y="3249720"/>
            <a:ext cx="1568520" cy="1015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521160" y="3578400"/>
            <a:ext cx="1292040" cy="7272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025880" y="3873600"/>
            <a:ext cx="760320" cy="8244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5592600" y="4187880"/>
            <a:ext cx="231840" cy="11124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789440" y="4846680"/>
            <a:ext cx="525600" cy="730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6335640" y="5172120"/>
            <a:ext cx="741600" cy="8244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7378560" y="5486400"/>
            <a:ext cx="506520" cy="824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7891560" y="5762520"/>
            <a:ext cx="258840" cy="8568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6340320" y="4532400"/>
            <a:ext cx="1017720" cy="7308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06" dur="indefinite" restart="never" nodeType="tmRoot">
          <p:childTnLst>
            <p:seq>
              <p:cTn id="1007" dur="indefinite" nodeType="mainSeq">
                <p:childTnLst>
                  <p:par>
                    <p:cTn id="1008" fill="hold">
                      <p:stCondLst>
                        <p:cond delay="indefinite"/>
                      </p:stCondLst>
                      <p:childTnLst>
                        <p:par>
                          <p:cTn id="1009" fill="hold">
                            <p:stCondLst>
                              <p:cond delay="0"/>
                            </p:stCondLst>
                            <p:childTnLst>
                              <p:par>
                                <p:cTn id="10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5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5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500"/>
                                        <p:tgtEl>
                                          <p:spTgt spid="1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500"/>
                                        <p:tgtEl>
                                          <p:spTgt spid="1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500"/>
                                        <p:tgtEl>
                                          <p:spTgt spid="1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500"/>
                                        <p:tgtEl>
                                          <p:spTgt spid="1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5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5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5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1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500"/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5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500"/>
                                        <p:tgtEl>
                                          <p:spTgt spid="1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500"/>
                                        <p:tgtEl>
                                          <p:spTgt spid="1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500"/>
                                        <p:tgtEl>
                                          <p:spTgt spid="1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1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500"/>
                                        <p:tgtEl>
                                          <p:spTgt spid="1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500"/>
                                        <p:tgtEl>
                                          <p:spTgt spid="1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500"/>
                                        <p:tgtEl>
                                          <p:spTgt spid="1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2" dur="5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27" dur="5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2" dur="5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7" dur="5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2" dur="5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7" dur="5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2" dur="5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7" dur="5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2" dur="5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fill="hold">
                      <p:stCondLst>
                        <p:cond delay="indefinite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67" dur="500"/>
                                        <p:tgtEl>
                                          <p:spTgt spid="1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fill="hold">
                      <p:stCondLst>
                        <p:cond delay="indefinite"/>
                      </p:stCondLst>
                      <p:childTnLst>
                        <p:par>
                          <p:cTn id="1169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2" dur="5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</a:rPr>
              <a:t>COMPUTO DE RECURSO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>
            <a:off x="8550720" y="119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685800" y="49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RECURSO FUNGIB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>
            <a:off x="763920" y="2027160"/>
            <a:ext cx="12664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Cant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7319880" y="5524560"/>
            <a:ext cx="1073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Tiemp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4" name=""/>
          <p:cNvGrpSpPr/>
          <p:nvPr/>
        </p:nvGrpSpPr>
        <p:grpSpPr>
          <a:xfrm>
            <a:off x="1679400" y="2303640"/>
            <a:ext cx="123840" cy="3746160"/>
            <a:chOff x="1679400" y="2303640"/>
            <a:chExt cx="123840" cy="3746160"/>
          </a:xfrm>
        </p:grpSpPr>
        <p:sp>
          <p:nvSpPr>
            <p:cNvPr id="1805" name=""/>
            <p:cNvSpPr/>
            <p:nvPr/>
          </p:nvSpPr>
          <p:spPr>
            <a:xfrm>
              <a:off x="1679400" y="2303640"/>
              <a:ext cx="123840" cy="258480"/>
            </a:xfrm>
            <a:custGeom>
              <a:avLst/>
              <a:gdLst/>
              <a:ahLst/>
              <a:rect l="l" t="t" r="r" b="b"/>
              <a:pathLst>
                <a:path w="78" h="163">
                  <a:moveTo>
                    <a:pt x="46" y="0"/>
                  </a:moveTo>
                  <a:lnTo>
                    <a:pt x="77" y="162"/>
                  </a:lnTo>
                  <a:lnTo>
                    <a:pt x="46" y="162"/>
                  </a:lnTo>
                  <a:lnTo>
                    <a:pt x="0" y="162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1773360" y="2579760"/>
              <a:ext cx="0" cy="34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1766880" y="5397480"/>
            <a:ext cx="6141960" cy="95400"/>
            <a:chOff x="1766880" y="5397480"/>
            <a:chExt cx="6141960" cy="95400"/>
          </a:xfrm>
        </p:grpSpPr>
        <p:sp>
          <p:nvSpPr>
            <p:cNvPr id="1808" name=""/>
            <p:cNvSpPr/>
            <p:nvPr/>
          </p:nvSpPr>
          <p:spPr>
            <a:xfrm>
              <a:off x="7650000" y="5397480"/>
              <a:ext cx="258840" cy="95400"/>
            </a:xfrm>
            <a:custGeom>
              <a:avLst/>
              <a:gdLst/>
              <a:ahLst/>
              <a:rect l="l" t="t" r="r" b="b"/>
              <a:pathLst>
                <a:path w="163" h="60">
                  <a:moveTo>
                    <a:pt x="162" y="29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1766880" y="5462640"/>
              <a:ext cx="589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10" name=""/>
          <p:cNvSpPr/>
          <p:nvPr/>
        </p:nvSpPr>
        <p:spPr>
          <a:xfrm>
            <a:off x="1766880" y="51134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1766880" y="47642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1766880" y="44146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1766880" y="40640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1766880" y="37148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1766880" y="33656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1766880" y="30160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23115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28494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3876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9243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50007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55389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60768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66150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7151760" y="3009960"/>
            <a:ext cx="0" cy="298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1836360" y="549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347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910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34491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987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525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0367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5628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138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614280" y="5470560"/>
            <a:ext cx="4557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1400400" y="49593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1400400" y="4610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1400400" y="4259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1400400" y="39099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1400400" y="35607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1379160" y="315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1386360" y="285444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1746360" y="3365640"/>
            <a:ext cx="5381640" cy="2098440"/>
          </a:xfrm>
          <a:custGeom>
            <a:avLst/>
            <a:gdLst/>
            <a:ahLst/>
            <a:rect l="l" t="t" r="r" b="b"/>
            <a:pathLst>
              <a:path w="3390" h="1322">
                <a:moveTo>
                  <a:pt x="0" y="881"/>
                </a:moveTo>
                <a:lnTo>
                  <a:pt x="339" y="881"/>
                </a:lnTo>
                <a:lnTo>
                  <a:pt x="339" y="220"/>
                </a:lnTo>
                <a:lnTo>
                  <a:pt x="695" y="220"/>
                </a:lnTo>
                <a:lnTo>
                  <a:pt x="695" y="661"/>
                </a:lnTo>
                <a:lnTo>
                  <a:pt x="1034" y="644"/>
                </a:lnTo>
                <a:lnTo>
                  <a:pt x="1034" y="1084"/>
                </a:lnTo>
                <a:lnTo>
                  <a:pt x="1372" y="1084"/>
                </a:lnTo>
                <a:lnTo>
                  <a:pt x="1372" y="424"/>
                </a:lnTo>
                <a:lnTo>
                  <a:pt x="1711" y="424"/>
                </a:lnTo>
                <a:lnTo>
                  <a:pt x="1711" y="864"/>
                </a:lnTo>
                <a:lnTo>
                  <a:pt x="2033" y="864"/>
                </a:lnTo>
                <a:lnTo>
                  <a:pt x="2033" y="0"/>
                </a:lnTo>
                <a:lnTo>
                  <a:pt x="2728" y="0"/>
                </a:lnTo>
                <a:lnTo>
                  <a:pt x="2728" y="440"/>
                </a:lnTo>
                <a:lnTo>
                  <a:pt x="3067" y="457"/>
                </a:lnTo>
                <a:lnTo>
                  <a:pt x="3050" y="881"/>
                </a:lnTo>
                <a:lnTo>
                  <a:pt x="3389" y="881"/>
                </a:lnTo>
                <a:lnTo>
                  <a:pt x="3389" y="1321"/>
                </a:lnTo>
                <a:lnTo>
                  <a:pt x="17" y="1321"/>
                </a:lnTo>
                <a:lnTo>
                  <a:pt x="17" y="881"/>
                </a:lnTo>
                <a:lnTo>
                  <a:pt x="0" y="881"/>
                </a:lnTo>
              </a:path>
            </a:pathLst>
          </a:custGeom>
          <a:solidFill>
            <a:srgbClr val="063de8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4462560" y="3009960"/>
            <a:ext cx="0" cy="30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26748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6" name=""/>
          <p:cNvGrpSpPr/>
          <p:nvPr/>
        </p:nvGrpSpPr>
        <p:grpSpPr>
          <a:xfrm>
            <a:off x="1760400" y="5765760"/>
            <a:ext cx="2678400" cy="378360"/>
            <a:chOff x="1760400" y="5765760"/>
            <a:chExt cx="2678400" cy="378360"/>
          </a:xfrm>
        </p:grpSpPr>
        <p:grpSp>
          <p:nvGrpSpPr>
            <p:cNvPr id="1847" name=""/>
            <p:cNvGrpSpPr/>
            <p:nvPr/>
          </p:nvGrpSpPr>
          <p:grpSpPr>
            <a:xfrm>
              <a:off x="1760400" y="5854680"/>
              <a:ext cx="2678400" cy="95400"/>
              <a:chOff x="1760400" y="5854680"/>
              <a:chExt cx="2678400" cy="95400"/>
            </a:xfrm>
          </p:grpSpPr>
          <p:sp>
            <p:nvSpPr>
              <p:cNvPr id="1848" name=""/>
              <p:cNvSpPr/>
              <p:nvPr/>
            </p:nvSpPr>
            <p:spPr>
              <a:xfrm>
                <a:off x="17604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41814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2009880" y="5919840"/>
                <a:ext cx="21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1" name=""/>
            <p:cNvSpPr/>
            <p:nvPr/>
          </p:nvSpPr>
          <p:spPr>
            <a:xfrm>
              <a:off x="26434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2" name=""/>
          <p:cNvSpPr/>
          <p:nvPr/>
        </p:nvSpPr>
        <p:spPr>
          <a:xfrm>
            <a:off x="53640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53" name=""/>
          <p:cNvGrpSpPr/>
          <p:nvPr/>
        </p:nvGrpSpPr>
        <p:grpSpPr>
          <a:xfrm>
            <a:off x="4503600" y="5765760"/>
            <a:ext cx="2651400" cy="378360"/>
            <a:chOff x="4503600" y="5765760"/>
            <a:chExt cx="2651400" cy="378360"/>
          </a:xfrm>
        </p:grpSpPr>
        <p:grpSp>
          <p:nvGrpSpPr>
            <p:cNvPr id="1854" name=""/>
            <p:cNvGrpSpPr/>
            <p:nvPr/>
          </p:nvGrpSpPr>
          <p:grpSpPr>
            <a:xfrm>
              <a:off x="4503600" y="5854680"/>
              <a:ext cx="2651400" cy="95400"/>
              <a:chOff x="4503600" y="5854680"/>
              <a:chExt cx="2651400" cy="95400"/>
            </a:xfrm>
          </p:grpSpPr>
          <p:sp>
            <p:nvSpPr>
              <p:cNvPr id="1855" name=""/>
              <p:cNvSpPr/>
              <p:nvPr/>
            </p:nvSpPr>
            <p:spPr>
              <a:xfrm>
                <a:off x="45036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68976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4753080" y="5919840"/>
                <a:ext cx="215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58" name=""/>
            <p:cNvSpPr/>
            <p:nvPr/>
          </p:nvSpPr>
          <p:spPr>
            <a:xfrm>
              <a:off x="53326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9" name=""/>
          <p:cNvSpPr/>
          <p:nvPr/>
        </p:nvSpPr>
        <p:spPr>
          <a:xfrm>
            <a:off x="8550720" y="119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1771560" y="4762440"/>
            <a:ext cx="5335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 flipV="1">
            <a:off x="2305080" y="3714840"/>
            <a:ext cx="0" cy="10476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2305080" y="3714840"/>
            <a:ext cx="5335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2838600" y="373392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2838600" y="4419720"/>
            <a:ext cx="53316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3371760" y="4400640"/>
            <a:ext cx="0" cy="723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3371760" y="5124600"/>
            <a:ext cx="55260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 flipV="1">
            <a:off x="3924360" y="4076280"/>
            <a:ext cx="0" cy="1047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924360" y="4076640"/>
            <a:ext cx="552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476600" y="4076640"/>
            <a:ext cx="0" cy="70488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438800" y="4781520"/>
            <a:ext cx="55224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V="1">
            <a:off x="4991040" y="3352320"/>
            <a:ext cx="0" cy="14288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010120" y="3352680"/>
            <a:ext cx="1066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6076800" y="3352680"/>
            <a:ext cx="0" cy="723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6076800" y="4076640"/>
            <a:ext cx="53352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6610320" y="407664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1787400" y="4723920"/>
            <a:ext cx="0" cy="7239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2533680" y="4572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5200560" y="4572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464000" y="3016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2800440" y="1733400"/>
            <a:ext cx="3504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SUMA DE LOS RECURSOS  EN EL CIC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6591240" y="4781520"/>
            <a:ext cx="571680" cy="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flipV="1">
            <a:off x="7143840" y="4781160"/>
            <a:ext cx="0" cy="68580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fill="hold">
                      <p:stCondLst>
                        <p:cond delay="indefinite"/>
                      </p:stCondLst>
                      <p:childTnLst>
                        <p:par>
                          <p:cTn id="1176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9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3" dur="1000"/>
                                        <p:tgtEl>
                                          <p:spTgt spid="1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7" dur="1000"/>
                                        <p:tgtEl>
                                          <p:spTgt spid="1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8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1" dur="1000"/>
                                        <p:tgtEl>
                                          <p:spTgt spid="1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1000"/>
                                        <p:tgtEl>
                                          <p:spTgt spid="1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fill="hold">
                            <p:stCondLst>
                              <p:cond delay="5000"/>
                            </p:stCondLst>
                            <p:childTnLst>
                              <p:par>
                                <p:cTn id="1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1000"/>
                                        <p:tgtEl>
                                          <p:spTgt spid="1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fill="hold">
                            <p:stCondLst>
                              <p:cond delay="6000"/>
                            </p:stCondLst>
                            <p:childTnLst>
                              <p:par>
                                <p:cTn id="12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3" dur="1000"/>
                                        <p:tgtEl>
                                          <p:spTgt spid="1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7" dur="1000"/>
                                        <p:tgtEl>
                                          <p:spTgt spid="1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1" dur="1000"/>
                                        <p:tgtEl>
                                          <p:spTgt spid="1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fill="hold">
                            <p:stCondLst>
                              <p:cond delay="9000"/>
                            </p:stCondLst>
                            <p:childTnLst>
                              <p:par>
                                <p:cTn id="1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1000"/>
                                        <p:tgtEl>
                                          <p:spTgt spid="1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9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1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3" dur="1000"/>
                                        <p:tgtEl>
                                          <p:spTgt spid="1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2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7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12500"/>
                            </p:stCondLst>
                            <p:childTnLst>
                              <p:par>
                                <p:cTn id="1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10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5" dur="1000"/>
                                        <p:tgtEl>
                                          <p:spTgt spid="1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14500"/>
                            </p:stCondLst>
                            <p:childTnLst>
                              <p:par>
                                <p:cTn id="12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9" dur="1000"/>
                                        <p:tgtEl>
                                          <p:spTgt spid="1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0" fill="hold">
                            <p:stCondLst>
                              <p:cond delay="15500"/>
                            </p:stCondLst>
                            <p:childTnLst>
                              <p:par>
                                <p:cTn id="1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3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fill="hold">
                            <p:stCondLst>
                              <p:cond delay="16500"/>
                            </p:stCondLst>
                            <p:childTnLst>
                              <p:par>
                                <p:cTn id="12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7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2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6" dur="2000"/>
                                        <p:tgtEl>
                                          <p:spTgt spid="1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fill="hold">
                      <p:stCondLst>
                        <p:cond delay="indefinite"/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1" dur="500"/>
                                        <p:tgtEl>
                                          <p:spTgt spid="1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fill="hold">
                      <p:stCondLst>
                        <p:cond delay="indefinite"/>
                      </p:stCondLst>
                      <p:childTnLst>
                        <p:par>
                          <p:cTn id="1263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fill="hold">
                      <p:stCondLst>
                        <p:cond delay="indefinite"/>
                      </p:stCondLst>
                      <p:childTnLst>
                        <p:par>
                          <p:cTn id="1271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fill="hold">
                      <p:stCondLst>
                        <p:cond delay="indefinite"/>
                      </p:stCondLst>
                      <p:childTnLst>
                        <p:par>
                          <p:cTn id="1275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8" fill="hold">
                      <p:stCondLst>
                        <p:cond delay="indefinite"/>
                      </p:stCondLst>
                      <p:childTnLst>
                        <p:par>
                          <p:cTn id="1279" fill="hold">
                            <p:stCondLst>
                              <p:cond delay="0"/>
                            </p:stCondLst>
                            <p:childTnLst>
                              <p:par>
                                <p:cTn id="12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"/>
          <p:cNvSpPr/>
          <p:nvPr/>
        </p:nvSpPr>
        <p:spPr>
          <a:xfrm>
            <a:off x="4464000" y="301608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RECURSO REUTILIZABLE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1188720" y="2027160"/>
            <a:ext cx="5914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h/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7319880" y="5524560"/>
            <a:ext cx="10731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Tiemp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87" name=""/>
          <p:cNvGrpSpPr/>
          <p:nvPr/>
        </p:nvGrpSpPr>
        <p:grpSpPr>
          <a:xfrm>
            <a:off x="1679400" y="2303640"/>
            <a:ext cx="123840" cy="3746160"/>
            <a:chOff x="1679400" y="2303640"/>
            <a:chExt cx="123840" cy="3746160"/>
          </a:xfrm>
        </p:grpSpPr>
        <p:sp>
          <p:nvSpPr>
            <p:cNvPr id="1888" name=""/>
            <p:cNvSpPr/>
            <p:nvPr/>
          </p:nvSpPr>
          <p:spPr>
            <a:xfrm>
              <a:off x="1679400" y="2303640"/>
              <a:ext cx="123840" cy="258480"/>
            </a:xfrm>
            <a:custGeom>
              <a:avLst/>
              <a:gdLst/>
              <a:ahLst/>
              <a:rect l="l" t="t" r="r" b="b"/>
              <a:pathLst>
                <a:path w="78" h="163">
                  <a:moveTo>
                    <a:pt x="46" y="0"/>
                  </a:moveTo>
                  <a:lnTo>
                    <a:pt x="77" y="162"/>
                  </a:lnTo>
                  <a:lnTo>
                    <a:pt x="46" y="162"/>
                  </a:lnTo>
                  <a:lnTo>
                    <a:pt x="0" y="162"/>
                  </a:lnTo>
                  <a:lnTo>
                    <a:pt x="4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773360" y="2579760"/>
              <a:ext cx="0" cy="3470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90" name=""/>
          <p:cNvGrpSpPr/>
          <p:nvPr/>
        </p:nvGrpSpPr>
        <p:grpSpPr>
          <a:xfrm>
            <a:off x="1766880" y="5397480"/>
            <a:ext cx="6141960" cy="95400"/>
            <a:chOff x="1766880" y="5397480"/>
            <a:chExt cx="6141960" cy="95400"/>
          </a:xfrm>
        </p:grpSpPr>
        <p:sp>
          <p:nvSpPr>
            <p:cNvPr id="1891" name=""/>
            <p:cNvSpPr/>
            <p:nvPr/>
          </p:nvSpPr>
          <p:spPr>
            <a:xfrm>
              <a:off x="7650000" y="5397480"/>
              <a:ext cx="258840" cy="95400"/>
            </a:xfrm>
            <a:custGeom>
              <a:avLst/>
              <a:gdLst/>
              <a:ahLst/>
              <a:rect l="l" t="t" r="r" b="b"/>
              <a:pathLst>
                <a:path w="163" h="60">
                  <a:moveTo>
                    <a:pt x="162" y="29"/>
                  </a:moveTo>
                  <a:lnTo>
                    <a:pt x="0" y="59"/>
                  </a:lnTo>
                  <a:lnTo>
                    <a:pt x="0" y="29"/>
                  </a:lnTo>
                  <a:lnTo>
                    <a:pt x="0" y="0"/>
                  </a:lnTo>
                  <a:lnTo>
                    <a:pt x="162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766880" y="5462640"/>
              <a:ext cx="5891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93" name=""/>
          <p:cNvSpPr/>
          <p:nvPr/>
        </p:nvSpPr>
        <p:spPr>
          <a:xfrm>
            <a:off x="1766880" y="51134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1766880" y="47642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1766880" y="44146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1766880" y="40640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1766880" y="37148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1766880" y="336564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1766880" y="3016080"/>
            <a:ext cx="551484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23115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28494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33876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39243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50007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553896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60768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7" name=""/>
          <p:cNvSpPr/>
          <p:nvPr/>
        </p:nvSpPr>
        <p:spPr>
          <a:xfrm>
            <a:off x="6615000" y="3009960"/>
            <a:ext cx="0" cy="244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8" name=""/>
          <p:cNvSpPr/>
          <p:nvPr/>
        </p:nvSpPr>
        <p:spPr>
          <a:xfrm>
            <a:off x="7151760" y="3009960"/>
            <a:ext cx="0" cy="2986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9" name=""/>
          <p:cNvSpPr/>
          <p:nvPr/>
        </p:nvSpPr>
        <p:spPr>
          <a:xfrm>
            <a:off x="1836360" y="549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347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>
            <a:off x="2910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34491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3" name=""/>
          <p:cNvSpPr/>
          <p:nvPr/>
        </p:nvSpPr>
        <p:spPr>
          <a:xfrm>
            <a:off x="3987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4" name=""/>
          <p:cNvSpPr/>
          <p:nvPr/>
        </p:nvSpPr>
        <p:spPr>
          <a:xfrm>
            <a:off x="45255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5" name=""/>
          <p:cNvSpPr/>
          <p:nvPr/>
        </p:nvSpPr>
        <p:spPr>
          <a:xfrm>
            <a:off x="50367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6" name=""/>
          <p:cNvSpPr/>
          <p:nvPr/>
        </p:nvSpPr>
        <p:spPr>
          <a:xfrm>
            <a:off x="56289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7" name=""/>
          <p:cNvSpPr/>
          <p:nvPr/>
        </p:nvSpPr>
        <p:spPr>
          <a:xfrm>
            <a:off x="6138360" y="5470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9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8" name=""/>
          <p:cNvSpPr/>
          <p:nvPr/>
        </p:nvSpPr>
        <p:spPr>
          <a:xfrm>
            <a:off x="6614280" y="5470560"/>
            <a:ext cx="4557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9" name=""/>
          <p:cNvSpPr/>
          <p:nvPr/>
        </p:nvSpPr>
        <p:spPr>
          <a:xfrm>
            <a:off x="1400400" y="49593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0" name=""/>
          <p:cNvSpPr/>
          <p:nvPr/>
        </p:nvSpPr>
        <p:spPr>
          <a:xfrm>
            <a:off x="1400400" y="4610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1" name=""/>
          <p:cNvSpPr/>
          <p:nvPr/>
        </p:nvSpPr>
        <p:spPr>
          <a:xfrm>
            <a:off x="1400400" y="42591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2" name=""/>
          <p:cNvSpPr/>
          <p:nvPr/>
        </p:nvSpPr>
        <p:spPr>
          <a:xfrm>
            <a:off x="1400400" y="39099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3" name=""/>
          <p:cNvSpPr/>
          <p:nvPr/>
        </p:nvSpPr>
        <p:spPr>
          <a:xfrm>
            <a:off x="1400400" y="3560760"/>
            <a:ext cx="318600" cy="37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4" name=""/>
          <p:cNvSpPr/>
          <p:nvPr/>
        </p:nvSpPr>
        <p:spPr>
          <a:xfrm>
            <a:off x="1379160" y="315756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5" name=""/>
          <p:cNvSpPr/>
          <p:nvPr/>
        </p:nvSpPr>
        <p:spPr>
          <a:xfrm>
            <a:off x="1386360" y="2854440"/>
            <a:ext cx="3186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6" name=""/>
          <p:cNvSpPr/>
          <p:nvPr/>
        </p:nvSpPr>
        <p:spPr>
          <a:xfrm>
            <a:off x="1746360" y="3365640"/>
            <a:ext cx="5381640" cy="2098440"/>
          </a:xfrm>
          <a:custGeom>
            <a:avLst/>
            <a:gdLst/>
            <a:ahLst/>
            <a:rect l="l" t="t" r="r" b="b"/>
            <a:pathLst>
              <a:path w="3390" h="1322">
                <a:moveTo>
                  <a:pt x="0" y="881"/>
                </a:moveTo>
                <a:lnTo>
                  <a:pt x="339" y="881"/>
                </a:lnTo>
                <a:lnTo>
                  <a:pt x="339" y="220"/>
                </a:lnTo>
                <a:lnTo>
                  <a:pt x="695" y="220"/>
                </a:lnTo>
                <a:lnTo>
                  <a:pt x="695" y="661"/>
                </a:lnTo>
                <a:lnTo>
                  <a:pt x="1034" y="644"/>
                </a:lnTo>
                <a:lnTo>
                  <a:pt x="1034" y="1084"/>
                </a:lnTo>
                <a:lnTo>
                  <a:pt x="1372" y="1084"/>
                </a:lnTo>
                <a:lnTo>
                  <a:pt x="1372" y="424"/>
                </a:lnTo>
                <a:lnTo>
                  <a:pt x="1711" y="424"/>
                </a:lnTo>
                <a:lnTo>
                  <a:pt x="1711" y="864"/>
                </a:lnTo>
                <a:lnTo>
                  <a:pt x="2033" y="864"/>
                </a:lnTo>
                <a:lnTo>
                  <a:pt x="2033" y="0"/>
                </a:lnTo>
                <a:lnTo>
                  <a:pt x="2728" y="0"/>
                </a:lnTo>
                <a:lnTo>
                  <a:pt x="2728" y="440"/>
                </a:lnTo>
                <a:lnTo>
                  <a:pt x="3067" y="457"/>
                </a:lnTo>
                <a:lnTo>
                  <a:pt x="3050" y="881"/>
                </a:lnTo>
                <a:lnTo>
                  <a:pt x="3389" y="881"/>
                </a:lnTo>
                <a:lnTo>
                  <a:pt x="3389" y="1321"/>
                </a:lnTo>
                <a:lnTo>
                  <a:pt x="17" y="1321"/>
                </a:lnTo>
                <a:lnTo>
                  <a:pt x="17" y="881"/>
                </a:lnTo>
                <a:lnTo>
                  <a:pt x="0" y="881"/>
                </a:lnTo>
              </a:path>
            </a:pathLst>
          </a:custGeom>
          <a:solidFill>
            <a:srgbClr val="67cd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7" name=""/>
          <p:cNvSpPr/>
          <p:nvPr/>
        </p:nvSpPr>
        <p:spPr>
          <a:xfrm>
            <a:off x="26748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28" name=""/>
          <p:cNvGrpSpPr/>
          <p:nvPr/>
        </p:nvGrpSpPr>
        <p:grpSpPr>
          <a:xfrm>
            <a:off x="1760400" y="5765760"/>
            <a:ext cx="2678400" cy="378360"/>
            <a:chOff x="1760400" y="5765760"/>
            <a:chExt cx="2678400" cy="378360"/>
          </a:xfrm>
        </p:grpSpPr>
        <p:grpSp>
          <p:nvGrpSpPr>
            <p:cNvPr id="1929" name=""/>
            <p:cNvGrpSpPr/>
            <p:nvPr/>
          </p:nvGrpSpPr>
          <p:grpSpPr>
            <a:xfrm>
              <a:off x="1760400" y="5854680"/>
              <a:ext cx="2678400" cy="95400"/>
              <a:chOff x="1760400" y="5854680"/>
              <a:chExt cx="2678400" cy="95400"/>
            </a:xfrm>
          </p:grpSpPr>
          <p:sp>
            <p:nvSpPr>
              <p:cNvPr id="1930" name=""/>
              <p:cNvSpPr/>
              <p:nvPr/>
            </p:nvSpPr>
            <p:spPr>
              <a:xfrm>
                <a:off x="17604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41814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2009880" y="5919840"/>
                <a:ext cx="2179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33" name=""/>
            <p:cNvSpPr/>
            <p:nvPr/>
          </p:nvSpPr>
          <p:spPr>
            <a:xfrm>
              <a:off x="26434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1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4" name=""/>
          <p:cNvSpPr/>
          <p:nvPr/>
        </p:nvSpPr>
        <p:spPr>
          <a:xfrm>
            <a:off x="5364000" y="5746680"/>
            <a:ext cx="982800" cy="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5" name=""/>
          <p:cNvGrpSpPr/>
          <p:nvPr/>
        </p:nvGrpSpPr>
        <p:grpSpPr>
          <a:xfrm>
            <a:off x="4503600" y="5765760"/>
            <a:ext cx="2651400" cy="378360"/>
            <a:chOff x="4503600" y="5765760"/>
            <a:chExt cx="2651400" cy="378360"/>
          </a:xfrm>
        </p:grpSpPr>
        <p:grpSp>
          <p:nvGrpSpPr>
            <p:cNvPr id="1936" name=""/>
            <p:cNvGrpSpPr/>
            <p:nvPr/>
          </p:nvGrpSpPr>
          <p:grpSpPr>
            <a:xfrm>
              <a:off x="4503600" y="5854680"/>
              <a:ext cx="2651400" cy="95400"/>
              <a:chOff x="4503600" y="5854680"/>
              <a:chExt cx="2651400" cy="95400"/>
            </a:xfrm>
          </p:grpSpPr>
          <p:sp>
            <p:nvSpPr>
              <p:cNvPr id="1937" name=""/>
              <p:cNvSpPr/>
              <p:nvPr/>
            </p:nvSpPr>
            <p:spPr>
              <a:xfrm>
                <a:off x="4503600" y="5854680"/>
                <a:ext cx="231840" cy="95400"/>
              </a:xfrm>
              <a:custGeom>
                <a:avLst/>
                <a:gdLst/>
                <a:ahLst/>
                <a:rect l="l" t="t" r="r" b="b"/>
                <a:pathLst>
                  <a:path w="146" h="60">
                    <a:moveTo>
                      <a:pt x="0" y="29"/>
                    </a:moveTo>
                    <a:lnTo>
                      <a:pt x="145" y="0"/>
                    </a:lnTo>
                    <a:lnTo>
                      <a:pt x="145" y="29"/>
                    </a:lnTo>
                    <a:lnTo>
                      <a:pt x="145" y="59"/>
                    </a:lnTo>
                    <a:lnTo>
                      <a:pt x="0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6897600" y="5854680"/>
                <a:ext cx="257400" cy="95400"/>
              </a:xfrm>
              <a:custGeom>
                <a:avLst/>
                <a:gdLst/>
                <a:ahLst/>
                <a:rect l="l" t="t" r="r" b="b"/>
                <a:pathLst>
                  <a:path w="162" h="60">
                    <a:moveTo>
                      <a:pt x="161" y="29"/>
                    </a:moveTo>
                    <a:lnTo>
                      <a:pt x="0" y="59"/>
                    </a:lnTo>
                    <a:lnTo>
                      <a:pt x="0" y="29"/>
                    </a:lnTo>
                    <a:lnTo>
                      <a:pt x="0" y="0"/>
                    </a:lnTo>
                    <a:lnTo>
                      <a:pt x="161" y="2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4753080" y="5919840"/>
                <a:ext cx="2152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40" name=""/>
            <p:cNvSpPr/>
            <p:nvPr/>
          </p:nvSpPr>
          <p:spPr>
            <a:xfrm>
              <a:off x="5332680" y="5765760"/>
              <a:ext cx="1082160" cy="378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900" spc="-1" strike="noStrike">
                  <a:solidFill>
                    <a:srgbClr val="000000"/>
                  </a:solidFill>
                  <a:latin typeface="Geneva"/>
                </a:rPr>
                <a:t>CICLO 2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1" name=""/>
          <p:cNvSpPr/>
          <p:nvPr/>
        </p:nvSpPr>
        <p:spPr>
          <a:xfrm>
            <a:off x="8550720" y="119160"/>
            <a:ext cx="43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Geneva"/>
              </a:rPr>
              <a:t>(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1771560" y="4762440"/>
            <a:ext cx="53352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 flipV="1">
            <a:off x="2305080" y="3714840"/>
            <a:ext cx="0" cy="10476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>
            <a:off x="2305080" y="3714840"/>
            <a:ext cx="53352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2838600" y="3733920"/>
            <a:ext cx="0" cy="6858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>
            <a:off x="2838600" y="4419720"/>
            <a:ext cx="53316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7" name=""/>
          <p:cNvSpPr/>
          <p:nvPr/>
        </p:nvSpPr>
        <p:spPr>
          <a:xfrm>
            <a:off x="3371760" y="4400640"/>
            <a:ext cx="0" cy="723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8" name=""/>
          <p:cNvSpPr/>
          <p:nvPr/>
        </p:nvSpPr>
        <p:spPr>
          <a:xfrm>
            <a:off x="3371760" y="5124600"/>
            <a:ext cx="55260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9" name=""/>
          <p:cNvSpPr/>
          <p:nvPr/>
        </p:nvSpPr>
        <p:spPr>
          <a:xfrm flipV="1">
            <a:off x="3924360" y="4076280"/>
            <a:ext cx="0" cy="1047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924360" y="4076640"/>
            <a:ext cx="55224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4476600" y="4076640"/>
            <a:ext cx="0" cy="70488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2" name=""/>
          <p:cNvSpPr/>
          <p:nvPr/>
        </p:nvSpPr>
        <p:spPr>
          <a:xfrm>
            <a:off x="4438800" y="4781520"/>
            <a:ext cx="55224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3" name=""/>
          <p:cNvSpPr/>
          <p:nvPr/>
        </p:nvSpPr>
        <p:spPr>
          <a:xfrm flipV="1">
            <a:off x="4991040" y="3352320"/>
            <a:ext cx="0" cy="142884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4" name=""/>
          <p:cNvSpPr/>
          <p:nvPr/>
        </p:nvSpPr>
        <p:spPr>
          <a:xfrm>
            <a:off x="5010120" y="3352680"/>
            <a:ext cx="106668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5" name=""/>
          <p:cNvSpPr/>
          <p:nvPr/>
        </p:nvSpPr>
        <p:spPr>
          <a:xfrm>
            <a:off x="6076800" y="3352680"/>
            <a:ext cx="0" cy="723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6" name=""/>
          <p:cNvSpPr/>
          <p:nvPr/>
        </p:nvSpPr>
        <p:spPr>
          <a:xfrm>
            <a:off x="6076800" y="4076640"/>
            <a:ext cx="53352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7" name=""/>
          <p:cNvSpPr/>
          <p:nvPr/>
        </p:nvSpPr>
        <p:spPr>
          <a:xfrm>
            <a:off x="6610320" y="4076640"/>
            <a:ext cx="0" cy="6858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8" name=""/>
          <p:cNvSpPr/>
          <p:nvPr/>
        </p:nvSpPr>
        <p:spPr>
          <a:xfrm flipV="1">
            <a:off x="1787400" y="4723920"/>
            <a:ext cx="0" cy="72396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9" name=""/>
          <p:cNvSpPr/>
          <p:nvPr/>
        </p:nvSpPr>
        <p:spPr>
          <a:xfrm>
            <a:off x="2533680" y="457200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0" name=""/>
          <p:cNvSpPr/>
          <p:nvPr/>
        </p:nvSpPr>
        <p:spPr>
          <a:xfrm>
            <a:off x="5200560" y="45720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1" name=""/>
          <p:cNvSpPr/>
          <p:nvPr/>
        </p:nvSpPr>
        <p:spPr>
          <a:xfrm>
            <a:off x="2800440" y="1733400"/>
            <a:ext cx="3504960" cy="580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PICK DE LOS RECURSOS  EN EL CICL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2" name=""/>
          <p:cNvSpPr/>
          <p:nvPr/>
        </p:nvSpPr>
        <p:spPr>
          <a:xfrm>
            <a:off x="6591240" y="4781520"/>
            <a:ext cx="571680" cy="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3" name=""/>
          <p:cNvSpPr/>
          <p:nvPr/>
        </p:nvSpPr>
        <p:spPr>
          <a:xfrm flipV="1">
            <a:off x="7143840" y="4781160"/>
            <a:ext cx="0" cy="685800"/>
          </a:xfrm>
          <a:prstGeom prst="line">
            <a:avLst/>
          </a:prstGeom>
          <a:ln w="2844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4" name=""/>
          <p:cNvSpPr/>
          <p:nvPr/>
        </p:nvSpPr>
        <p:spPr>
          <a:xfrm>
            <a:off x="1771560" y="3733920"/>
            <a:ext cx="533520" cy="9903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5" name=""/>
          <p:cNvSpPr/>
          <p:nvPr/>
        </p:nvSpPr>
        <p:spPr>
          <a:xfrm>
            <a:off x="2838600" y="3714840"/>
            <a:ext cx="1619280" cy="1371600"/>
          </a:xfrm>
          <a:custGeom>
            <a:avLst/>
            <a:gdLst/>
            <a:ahLst/>
            <a:rect l="l" t="t" r="r" b="b"/>
            <a:pathLst>
              <a:path w="1020" h="864">
                <a:moveTo>
                  <a:pt x="0" y="0"/>
                </a:moveTo>
                <a:lnTo>
                  <a:pt x="0" y="432"/>
                </a:lnTo>
                <a:lnTo>
                  <a:pt x="336" y="432"/>
                </a:lnTo>
                <a:lnTo>
                  <a:pt x="336" y="864"/>
                </a:lnTo>
                <a:lnTo>
                  <a:pt x="684" y="864"/>
                </a:lnTo>
                <a:lnTo>
                  <a:pt x="684" y="204"/>
                </a:lnTo>
                <a:lnTo>
                  <a:pt x="1020" y="204"/>
                </a:lnTo>
                <a:lnTo>
                  <a:pt x="1020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38ac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6" name=""/>
          <p:cNvSpPr/>
          <p:nvPr/>
        </p:nvSpPr>
        <p:spPr>
          <a:xfrm>
            <a:off x="4476600" y="3371760"/>
            <a:ext cx="495360" cy="13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38ac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7" name=""/>
          <p:cNvSpPr/>
          <p:nvPr/>
        </p:nvSpPr>
        <p:spPr>
          <a:xfrm>
            <a:off x="6076800" y="3352680"/>
            <a:ext cx="1067040" cy="1409760"/>
          </a:xfrm>
          <a:custGeom>
            <a:avLst/>
            <a:gdLst/>
            <a:ahLst/>
            <a:rect l="l" t="t" r="r" b="b"/>
            <a:pathLst>
              <a:path w="672" h="888">
                <a:moveTo>
                  <a:pt x="0" y="0"/>
                </a:moveTo>
                <a:lnTo>
                  <a:pt x="0" y="444"/>
                </a:lnTo>
                <a:lnTo>
                  <a:pt x="336" y="444"/>
                </a:lnTo>
                <a:lnTo>
                  <a:pt x="336" y="888"/>
                </a:lnTo>
                <a:lnTo>
                  <a:pt x="672" y="888"/>
                </a:lnTo>
                <a:lnTo>
                  <a:pt x="672" y="0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38ac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8" name=""/>
          <p:cNvSpPr/>
          <p:nvPr/>
        </p:nvSpPr>
        <p:spPr>
          <a:xfrm>
            <a:off x="905040" y="2004840"/>
            <a:ext cx="1495440" cy="37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0000"/>
                </a:solidFill>
                <a:latin typeface="Geneva"/>
              </a:rPr>
              <a:t>h/sem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9" name=""/>
          <p:cNvSpPr/>
          <p:nvPr/>
        </p:nvSpPr>
        <p:spPr>
          <a:xfrm>
            <a:off x="4462560" y="3009960"/>
            <a:ext cx="0" cy="301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282" dur="indefinite" restart="never" nodeType="tmRoot">
          <p:childTnLst>
            <p:seq>
              <p:cTn id="1283" dur="indefinite" nodeType="mainSeq">
                <p:childTnLst>
                  <p:par>
                    <p:cTn id="1284" fill="hold">
                      <p:stCondLst>
                        <p:cond delay="indefinite"/>
                      </p:stCondLst>
                      <p:childTnLst>
                        <p:par>
                          <p:cTn id="1285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8" dur="1000"/>
                                        <p:tgtEl>
                                          <p:spTgt spid="1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2" dur="1000"/>
                                        <p:tgtEl>
                                          <p:spTgt spid="1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6" dur="1000"/>
                                        <p:tgtEl>
                                          <p:spTgt spid="1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0" dur="1000"/>
                                        <p:tgtEl>
                                          <p:spTgt spid="1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13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4" dur="1000"/>
                                        <p:tgtEl>
                                          <p:spTgt spid="1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1000"/>
                                        <p:tgtEl>
                                          <p:spTgt spid="1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9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2" dur="1000"/>
                                        <p:tgtEl>
                                          <p:spTgt spid="1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3" fill="hold">
                            <p:stCondLst>
                              <p:cond delay="7000"/>
                            </p:stCondLst>
                            <p:childTnLst>
                              <p:par>
                                <p:cTn id="1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6" dur="1000"/>
                                        <p:tgtEl>
                                          <p:spTgt spid="1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0" dur="1000"/>
                                        <p:tgtEl>
                                          <p:spTgt spid="1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4" dur="10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10500"/>
                            </p:stCondLst>
                            <p:childTnLst>
                              <p:par>
                                <p:cTn id="1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2" dur="1000"/>
                                        <p:tgtEl>
                                          <p:spTgt spid="19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fill="hold">
                            <p:stCondLst>
                              <p:cond delay="11500"/>
                            </p:stCondLst>
                            <p:childTnLst>
                              <p:par>
                                <p:cTn id="13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6" dur="1000"/>
                                        <p:tgtEl>
                                          <p:spTgt spid="1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0" dur="10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1" fill="hold">
                            <p:stCondLst>
                              <p:cond delay="13500"/>
                            </p:stCondLst>
                            <p:childTnLst>
                              <p:par>
                                <p:cTn id="13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4" dur="10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5" fill="hold">
                            <p:stCondLst>
                              <p:cond delay="14500"/>
                            </p:stCondLst>
                            <p:childTnLst>
                              <p:par>
                                <p:cTn id="1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8" dur="10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15500"/>
                            </p:stCondLst>
                            <p:childTnLst>
                              <p:par>
                                <p:cTn id="1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2" dur="10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6" dur="1000"/>
                                        <p:tgtEl>
                                          <p:spTgt spid="1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7500"/>
                            </p:stCondLst>
                            <p:childTnLst>
                              <p:par>
                                <p:cTn id="13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1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5" dur="2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6" fill="hold">
                      <p:stCondLst>
                        <p:cond delay="indefinite"/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0" dur="500"/>
                                        <p:tgtEl>
                                          <p:spTgt spid="1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1" fill="hold">
                      <p:stCondLst>
                        <p:cond delay="indefinite"/>
                      </p:stCondLst>
                      <p:childTnLst>
                        <p:par>
                          <p:cTn id="1372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fill="hold">
                      <p:stCondLst>
                        <p:cond delay="indefinite"/>
                      </p:stCondLst>
                      <p:childTnLst>
                        <p:par>
                          <p:cTn id="1376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9" fill="hold">
                      <p:stCondLst>
                        <p:cond delay="indefinite"/>
                      </p:stCondLst>
                      <p:childTnLst>
                        <p:par>
                          <p:cTn id="1380" fill="hold">
                            <p:stCondLst>
                              <p:cond delay="0"/>
                            </p:stCondLst>
                            <p:childTnLst>
                              <p:par>
                                <p:cTn id="13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3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4" fill="hold">
                            <p:stCondLst>
                              <p:cond delay="500"/>
                            </p:stCondLst>
                            <p:childTnLst>
                              <p:par>
                                <p:cTn id="13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7" dur="500"/>
                                        <p:tgtEl>
                                          <p:spTgt spid="1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fill="hold">
                      <p:stCondLst>
                        <p:cond delay="indefinite"/>
                      </p:stCondLst>
                      <p:childTnLst>
                        <p:par>
                          <p:cTn id="1392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fill="hold">
                      <p:stCondLst>
                        <p:cond delay="indefinite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00"/>
                                        <p:tgtEl>
                                          <p:spTgt spid="1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3" dur="500"/>
                                        <p:tgtEl>
                                          <p:spTgt spid="19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7" fill="hold">
                      <p:stCondLst>
                        <p:cond delay="indefinite"/>
                      </p:stCondLst>
                      <p:childTnLst>
                        <p:par>
                          <p:cTn id="1408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title"/>
          </p:nvPr>
        </p:nvSpPr>
        <p:spPr>
          <a:xfrm>
            <a:off x="685800" y="247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COMPUTO DE RECURSO</a:t>
            </a:r>
            <a:br>
              <a:rPr sz="3200"/>
            </a:b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iscontinuas)</a:t>
            </a: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71" name=""/>
          <p:cNvSpPr/>
          <p:nvPr/>
        </p:nvSpPr>
        <p:spPr>
          <a:xfrm>
            <a:off x="387360" y="1515960"/>
            <a:ext cx="8164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63680" y="1830240"/>
            <a:ext cx="8088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07880" y="2171880"/>
            <a:ext cx="8143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446040" y="2486160"/>
            <a:ext cx="8105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417600" y="2820960"/>
            <a:ext cx="8134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426960" y="313524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426960" y="345132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426960" y="376560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465120" y="4100400"/>
            <a:ext cx="808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0" name=""/>
          <p:cNvSpPr/>
          <p:nvPr/>
        </p:nvSpPr>
        <p:spPr>
          <a:xfrm>
            <a:off x="436680" y="4433760"/>
            <a:ext cx="8115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1" name=""/>
          <p:cNvSpPr/>
          <p:nvPr/>
        </p:nvSpPr>
        <p:spPr>
          <a:xfrm>
            <a:off x="426960" y="4749840"/>
            <a:ext cx="812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465120" y="5064120"/>
            <a:ext cx="808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453960" y="5372280"/>
            <a:ext cx="8097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446040" y="1483920"/>
            <a:ext cx="0" cy="4437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 flipV="1">
            <a:off x="1082520" y="1503360"/>
            <a:ext cx="0" cy="3873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 flipV="1">
            <a:off x="1866960" y="1484280"/>
            <a:ext cx="0" cy="4438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 flipV="1">
            <a:off x="2130480" y="1503360"/>
            <a:ext cx="0" cy="441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8" name=""/>
          <p:cNvSpPr/>
          <p:nvPr/>
        </p:nvSpPr>
        <p:spPr>
          <a:xfrm flipV="1">
            <a:off x="264168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9" name=""/>
          <p:cNvSpPr/>
          <p:nvPr/>
        </p:nvSpPr>
        <p:spPr>
          <a:xfrm flipV="1">
            <a:off x="2897280" y="1503360"/>
            <a:ext cx="0" cy="441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 flipV="1">
            <a:off x="3152880" y="148392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 flipV="1">
            <a:off x="340848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 flipV="1">
            <a:off x="368460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394020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419580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 flipV="1">
            <a:off x="445140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4707000" y="1503360"/>
            <a:ext cx="0" cy="43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 flipV="1">
            <a:off x="4964040" y="1503360"/>
            <a:ext cx="0" cy="438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 flipV="1">
            <a:off x="521964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 flipV="1">
            <a:off x="547524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573084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 flipV="1">
            <a:off x="598644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 flipV="1">
            <a:off x="624204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 flipV="1">
            <a:off x="6488280" y="1512360"/>
            <a:ext cx="0" cy="4388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 flipV="1">
            <a:off x="6753240" y="1503000"/>
            <a:ext cx="0" cy="4406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 flipV="1">
            <a:off x="7010280" y="1503000"/>
            <a:ext cx="0" cy="4397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 flipV="1">
            <a:off x="726588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 flipV="1">
            <a:off x="7540560" y="1503360"/>
            <a:ext cx="0" cy="4425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 flipV="1">
            <a:off x="7796160" y="1503360"/>
            <a:ext cx="0" cy="441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 flipV="1">
            <a:off x="8062920" y="149400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0" name=""/>
          <p:cNvSpPr/>
          <p:nvPr/>
        </p:nvSpPr>
        <p:spPr>
          <a:xfrm flipV="1">
            <a:off x="830880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1" name=""/>
          <p:cNvSpPr/>
          <p:nvPr/>
        </p:nvSpPr>
        <p:spPr>
          <a:xfrm>
            <a:off x="511200" y="155088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2" name=""/>
          <p:cNvSpPr/>
          <p:nvPr/>
        </p:nvSpPr>
        <p:spPr>
          <a:xfrm>
            <a:off x="1534320" y="155088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14520" y="190512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614520" y="223848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14520" y="253368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614160" y="28684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14160" y="318276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614160" y="349884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14160" y="38322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620280" y="4146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620280" y="448164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2" name=""/>
          <p:cNvSpPr/>
          <p:nvPr/>
        </p:nvSpPr>
        <p:spPr>
          <a:xfrm>
            <a:off x="620280" y="47959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3" name=""/>
          <p:cNvSpPr/>
          <p:nvPr/>
        </p:nvSpPr>
        <p:spPr>
          <a:xfrm>
            <a:off x="620280" y="511164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1580760" y="1905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 flipV="1">
            <a:off x="2386080" y="1503360"/>
            <a:ext cx="0" cy="437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1580760" y="2868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7" name=""/>
          <p:cNvSpPr/>
          <p:nvPr/>
        </p:nvSpPr>
        <p:spPr>
          <a:xfrm>
            <a:off x="1580760" y="32036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8" name=""/>
          <p:cNvSpPr/>
          <p:nvPr/>
        </p:nvSpPr>
        <p:spPr>
          <a:xfrm>
            <a:off x="1580760" y="2219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9" name=""/>
          <p:cNvSpPr/>
          <p:nvPr/>
        </p:nvSpPr>
        <p:spPr>
          <a:xfrm>
            <a:off x="1580760" y="4146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0" name=""/>
          <p:cNvSpPr/>
          <p:nvPr/>
        </p:nvSpPr>
        <p:spPr>
          <a:xfrm>
            <a:off x="1580760" y="3517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1" name=""/>
          <p:cNvSpPr/>
          <p:nvPr/>
        </p:nvSpPr>
        <p:spPr>
          <a:xfrm>
            <a:off x="1580760" y="2554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2" name=""/>
          <p:cNvSpPr/>
          <p:nvPr/>
        </p:nvSpPr>
        <p:spPr>
          <a:xfrm>
            <a:off x="1580760" y="44816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3" name=""/>
          <p:cNvSpPr/>
          <p:nvPr/>
        </p:nvSpPr>
        <p:spPr>
          <a:xfrm>
            <a:off x="1580760" y="3832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4" name=""/>
          <p:cNvSpPr/>
          <p:nvPr/>
        </p:nvSpPr>
        <p:spPr>
          <a:xfrm>
            <a:off x="1580760" y="48164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5" name=""/>
          <p:cNvSpPr/>
          <p:nvPr/>
        </p:nvSpPr>
        <p:spPr>
          <a:xfrm>
            <a:off x="1580760" y="50734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6" name=""/>
          <p:cNvSpPr/>
          <p:nvPr/>
        </p:nvSpPr>
        <p:spPr>
          <a:xfrm flipV="1">
            <a:off x="8577360" y="1463760"/>
            <a:ext cx="0" cy="444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1868400" y="1973160"/>
            <a:ext cx="2832120" cy="1080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1882800" y="197964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379600" y="2308320"/>
            <a:ext cx="3338640" cy="101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2379600" y="2306520"/>
            <a:ext cx="1042920" cy="104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3933720" y="2654280"/>
            <a:ext cx="3319560" cy="101520"/>
          </a:xfrm>
          <a:prstGeom prst="rect">
            <a:avLst/>
          </a:prstGeom>
          <a:noFill/>
          <a:ln w="12600">
            <a:solidFill>
              <a:srgbClr val="0027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3919680" y="2652840"/>
            <a:ext cx="1552320" cy="9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124000" y="2952720"/>
            <a:ext cx="3102120" cy="122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124000" y="2948040"/>
            <a:ext cx="1292400" cy="1252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2124000" y="3267000"/>
            <a:ext cx="3102120" cy="101520"/>
          </a:xfrm>
          <a:prstGeom prst="rect">
            <a:avLst/>
          </a:prstGeom>
          <a:noFill/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124000" y="3267000"/>
            <a:ext cx="760320" cy="1126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2905200" y="3581280"/>
            <a:ext cx="3082680" cy="1159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8" name=""/>
          <p:cNvSpPr/>
          <p:nvPr/>
        </p:nvSpPr>
        <p:spPr>
          <a:xfrm>
            <a:off x="3157560" y="3581280"/>
            <a:ext cx="235080" cy="101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9" name=""/>
          <p:cNvSpPr/>
          <p:nvPr/>
        </p:nvSpPr>
        <p:spPr>
          <a:xfrm>
            <a:off x="3949560" y="3916440"/>
            <a:ext cx="3573720" cy="101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0" name=""/>
          <p:cNvSpPr/>
          <p:nvPr/>
        </p:nvSpPr>
        <p:spPr>
          <a:xfrm>
            <a:off x="3933720" y="3916440"/>
            <a:ext cx="1017720" cy="871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1" name=""/>
          <p:cNvSpPr/>
          <p:nvPr/>
        </p:nvSpPr>
        <p:spPr>
          <a:xfrm>
            <a:off x="3422520" y="4230720"/>
            <a:ext cx="2295720" cy="10152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2" name=""/>
          <p:cNvSpPr/>
          <p:nvPr/>
        </p:nvSpPr>
        <p:spPr>
          <a:xfrm>
            <a:off x="3402000" y="4245120"/>
            <a:ext cx="525600" cy="871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3952800" y="4565520"/>
            <a:ext cx="3576600" cy="874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4" name=""/>
          <p:cNvSpPr/>
          <p:nvPr/>
        </p:nvSpPr>
        <p:spPr>
          <a:xfrm>
            <a:off x="4957920" y="4565520"/>
            <a:ext cx="741240" cy="1033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5" name=""/>
          <p:cNvSpPr/>
          <p:nvPr/>
        </p:nvSpPr>
        <p:spPr>
          <a:xfrm>
            <a:off x="5724360" y="4879800"/>
            <a:ext cx="2316240" cy="1018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6" name=""/>
          <p:cNvSpPr/>
          <p:nvPr/>
        </p:nvSpPr>
        <p:spPr>
          <a:xfrm>
            <a:off x="5724360" y="4879800"/>
            <a:ext cx="506520" cy="103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6259680" y="5156280"/>
            <a:ext cx="2036520" cy="9828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6256440" y="5156280"/>
            <a:ext cx="23004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1906920" y="153972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684600" y="1962000"/>
            <a:ext cx="525600" cy="1209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4695840" y="2308320"/>
            <a:ext cx="1042920" cy="1029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3921120" y="2954160"/>
            <a:ext cx="1292400" cy="11592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4464000" y="3263760"/>
            <a:ext cx="760320" cy="1112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>
            <a:off x="5740560" y="3578400"/>
            <a:ext cx="264960" cy="11556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5189400" y="4237200"/>
            <a:ext cx="525600" cy="10152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531200" y="4890960"/>
            <a:ext cx="506160" cy="1112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8043840" y="5153040"/>
            <a:ext cx="258840" cy="1141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6492960" y="3908520"/>
            <a:ext cx="1017360" cy="1015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 flipV="1">
            <a:off x="1488960" y="1509480"/>
            <a:ext cx="0" cy="387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186920" y="18921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1186920" y="2855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1186920" y="3191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1186920" y="22068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1186920" y="4133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1186920" y="3505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1186920" y="2541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1186920" y="4468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1186920" y="3819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1186920" y="47592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1186920" y="5092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162080" y="158112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h/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2" name=""/>
          <p:cNvGrpSpPr/>
          <p:nvPr/>
        </p:nvGrpSpPr>
        <p:grpSpPr>
          <a:xfrm>
            <a:off x="1841760" y="1771560"/>
            <a:ext cx="560160" cy="271440"/>
            <a:chOff x="1841760" y="1771560"/>
            <a:chExt cx="560160" cy="271440"/>
          </a:xfrm>
        </p:grpSpPr>
        <p:sp>
          <p:nvSpPr>
            <p:cNvPr id="2083" name=""/>
            <p:cNvSpPr/>
            <p:nvPr/>
          </p:nvSpPr>
          <p:spPr>
            <a:xfrm>
              <a:off x="1841760" y="177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133720" y="177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85" name=""/>
          <p:cNvGrpSpPr/>
          <p:nvPr/>
        </p:nvGrpSpPr>
        <p:grpSpPr>
          <a:xfrm>
            <a:off x="2374920" y="2103480"/>
            <a:ext cx="1028520" cy="271440"/>
            <a:chOff x="2374920" y="2103480"/>
            <a:chExt cx="1028520" cy="271440"/>
          </a:xfrm>
        </p:grpSpPr>
        <p:sp>
          <p:nvSpPr>
            <p:cNvPr id="2086" name=""/>
            <p:cNvSpPr/>
            <p:nvPr/>
          </p:nvSpPr>
          <p:spPr>
            <a:xfrm>
              <a:off x="2374920" y="21034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629080" y="21034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901960" y="210348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138480" y="2103480"/>
              <a:ext cx="26496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0" name=""/>
          <p:cNvGrpSpPr/>
          <p:nvPr/>
        </p:nvGrpSpPr>
        <p:grpSpPr>
          <a:xfrm>
            <a:off x="3937320" y="2422440"/>
            <a:ext cx="1557000" cy="271440"/>
            <a:chOff x="3937320" y="2422440"/>
            <a:chExt cx="1557000" cy="271440"/>
          </a:xfrm>
        </p:grpSpPr>
        <p:sp>
          <p:nvSpPr>
            <p:cNvPr id="2091" name=""/>
            <p:cNvSpPr/>
            <p:nvPr/>
          </p:nvSpPr>
          <p:spPr>
            <a:xfrm>
              <a:off x="39373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1911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46436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469908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49723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5226120" y="24224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97" name=""/>
          <p:cNvGrpSpPr/>
          <p:nvPr/>
        </p:nvGrpSpPr>
        <p:grpSpPr>
          <a:xfrm>
            <a:off x="2108160" y="2728800"/>
            <a:ext cx="1296720" cy="271440"/>
            <a:chOff x="2108160" y="2728800"/>
            <a:chExt cx="1296720" cy="271440"/>
          </a:xfrm>
        </p:grpSpPr>
        <p:sp>
          <p:nvSpPr>
            <p:cNvPr id="2098" name=""/>
            <p:cNvSpPr/>
            <p:nvPr/>
          </p:nvSpPr>
          <p:spPr>
            <a:xfrm>
              <a:off x="210816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238104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265392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13668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2914200" y="27288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03" name=""/>
          <p:cNvGrpSpPr/>
          <p:nvPr/>
        </p:nvGrpSpPr>
        <p:grpSpPr>
          <a:xfrm>
            <a:off x="2146320" y="3063960"/>
            <a:ext cx="776160" cy="271440"/>
            <a:chOff x="2146320" y="3063960"/>
            <a:chExt cx="776160" cy="271440"/>
          </a:xfrm>
        </p:grpSpPr>
        <p:sp>
          <p:nvSpPr>
            <p:cNvPr id="2104" name=""/>
            <p:cNvSpPr/>
            <p:nvPr/>
          </p:nvSpPr>
          <p:spPr>
            <a:xfrm>
              <a:off x="2146320" y="3063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381400" y="3063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654280" y="3063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07" name=""/>
          <p:cNvSpPr/>
          <p:nvPr/>
        </p:nvSpPr>
        <p:spPr>
          <a:xfrm>
            <a:off x="3156120" y="3368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8" name=""/>
          <p:cNvGrpSpPr/>
          <p:nvPr/>
        </p:nvGrpSpPr>
        <p:grpSpPr>
          <a:xfrm>
            <a:off x="3403800" y="4016520"/>
            <a:ext cx="541080" cy="271440"/>
            <a:chOff x="3403800" y="4016520"/>
            <a:chExt cx="541080" cy="271440"/>
          </a:xfrm>
        </p:grpSpPr>
        <p:sp>
          <p:nvSpPr>
            <p:cNvPr id="2109" name=""/>
            <p:cNvSpPr/>
            <p:nvPr/>
          </p:nvSpPr>
          <p:spPr>
            <a:xfrm>
              <a:off x="3403800" y="40165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676680" y="40165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1" name=""/>
          <p:cNvGrpSpPr/>
          <p:nvPr/>
        </p:nvGrpSpPr>
        <p:grpSpPr>
          <a:xfrm>
            <a:off x="4961160" y="4340160"/>
            <a:ext cx="794880" cy="271440"/>
            <a:chOff x="4961160" y="4340160"/>
            <a:chExt cx="794880" cy="271440"/>
          </a:xfrm>
        </p:grpSpPr>
        <p:sp>
          <p:nvSpPr>
            <p:cNvPr id="2112" name=""/>
            <p:cNvSpPr/>
            <p:nvPr/>
          </p:nvSpPr>
          <p:spPr>
            <a:xfrm>
              <a:off x="4961160" y="43401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5233680" y="43401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5487840" y="43401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15" name=""/>
          <p:cNvGrpSpPr/>
          <p:nvPr/>
        </p:nvGrpSpPr>
        <p:grpSpPr>
          <a:xfrm>
            <a:off x="5727960" y="4660920"/>
            <a:ext cx="522000" cy="271440"/>
            <a:chOff x="5727960" y="4660920"/>
            <a:chExt cx="522000" cy="271440"/>
          </a:xfrm>
        </p:grpSpPr>
        <p:sp>
          <p:nvSpPr>
            <p:cNvPr id="2116" name=""/>
            <p:cNvSpPr/>
            <p:nvPr/>
          </p:nvSpPr>
          <p:spPr>
            <a:xfrm>
              <a:off x="5727960" y="4660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5981760" y="4660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18" name=""/>
          <p:cNvSpPr/>
          <p:nvPr/>
        </p:nvSpPr>
        <p:spPr>
          <a:xfrm>
            <a:off x="6242040" y="494676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19" name=""/>
          <p:cNvGrpSpPr/>
          <p:nvPr/>
        </p:nvGrpSpPr>
        <p:grpSpPr>
          <a:xfrm>
            <a:off x="3662280" y="1758960"/>
            <a:ext cx="560160" cy="271440"/>
            <a:chOff x="3662280" y="1758960"/>
            <a:chExt cx="560160" cy="271440"/>
          </a:xfrm>
        </p:grpSpPr>
        <p:sp>
          <p:nvSpPr>
            <p:cNvPr id="2120" name=""/>
            <p:cNvSpPr/>
            <p:nvPr/>
          </p:nvSpPr>
          <p:spPr>
            <a:xfrm>
              <a:off x="3662280" y="1758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3954240" y="1758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5724720" y="2428920"/>
            <a:ext cx="1557000" cy="271440"/>
            <a:chOff x="5724720" y="2428920"/>
            <a:chExt cx="1557000" cy="271440"/>
          </a:xfrm>
        </p:grpSpPr>
        <p:sp>
          <p:nvSpPr>
            <p:cNvPr id="2123" name=""/>
            <p:cNvSpPr/>
            <p:nvPr/>
          </p:nvSpPr>
          <p:spPr>
            <a:xfrm>
              <a:off x="57247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59785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25176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48648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7597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13520" y="24289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9" name=""/>
          <p:cNvGrpSpPr/>
          <p:nvPr/>
        </p:nvGrpSpPr>
        <p:grpSpPr>
          <a:xfrm>
            <a:off x="4734000" y="2114640"/>
            <a:ext cx="1030320" cy="271440"/>
            <a:chOff x="4734000" y="2114640"/>
            <a:chExt cx="1030320" cy="271440"/>
          </a:xfrm>
        </p:grpSpPr>
        <p:sp>
          <p:nvSpPr>
            <p:cNvPr id="2130" name=""/>
            <p:cNvSpPr/>
            <p:nvPr/>
          </p:nvSpPr>
          <p:spPr>
            <a:xfrm>
              <a:off x="473400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98816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526104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5496120" y="2114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4" name=""/>
          <p:cNvGrpSpPr/>
          <p:nvPr/>
        </p:nvGrpSpPr>
        <p:grpSpPr>
          <a:xfrm>
            <a:off x="3943440" y="2739960"/>
            <a:ext cx="1296720" cy="271440"/>
            <a:chOff x="3943440" y="2739960"/>
            <a:chExt cx="1296720" cy="271440"/>
          </a:xfrm>
        </p:grpSpPr>
        <p:sp>
          <p:nvSpPr>
            <p:cNvPr id="2135" name=""/>
            <p:cNvSpPr/>
            <p:nvPr/>
          </p:nvSpPr>
          <p:spPr>
            <a:xfrm>
              <a:off x="394344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21632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48956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97196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749840" y="27399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0" name=""/>
          <p:cNvGrpSpPr/>
          <p:nvPr/>
        </p:nvGrpSpPr>
        <p:grpSpPr>
          <a:xfrm>
            <a:off x="4476960" y="3046320"/>
            <a:ext cx="775800" cy="271440"/>
            <a:chOff x="4476960" y="3046320"/>
            <a:chExt cx="775800" cy="271440"/>
          </a:xfrm>
        </p:grpSpPr>
        <p:sp>
          <p:nvSpPr>
            <p:cNvPr id="2141" name=""/>
            <p:cNvSpPr/>
            <p:nvPr/>
          </p:nvSpPr>
          <p:spPr>
            <a:xfrm>
              <a:off x="4476960" y="30463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711320" y="30463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984560" y="304632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44" name=""/>
          <p:cNvSpPr/>
          <p:nvPr/>
        </p:nvSpPr>
        <p:spPr>
          <a:xfrm>
            <a:off x="5715000" y="33750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Geneva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45" name=""/>
          <p:cNvGrpSpPr/>
          <p:nvPr/>
        </p:nvGrpSpPr>
        <p:grpSpPr>
          <a:xfrm>
            <a:off x="5200920" y="4022640"/>
            <a:ext cx="541080" cy="271440"/>
            <a:chOff x="5200920" y="4022640"/>
            <a:chExt cx="541080" cy="271440"/>
          </a:xfrm>
        </p:grpSpPr>
        <p:sp>
          <p:nvSpPr>
            <p:cNvPr id="2146" name=""/>
            <p:cNvSpPr/>
            <p:nvPr/>
          </p:nvSpPr>
          <p:spPr>
            <a:xfrm>
              <a:off x="5200920" y="4022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5473800" y="402264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48" name=""/>
          <p:cNvGrpSpPr/>
          <p:nvPr/>
        </p:nvGrpSpPr>
        <p:grpSpPr>
          <a:xfrm>
            <a:off x="6724800" y="4325760"/>
            <a:ext cx="794880" cy="271440"/>
            <a:chOff x="6724800" y="4325760"/>
            <a:chExt cx="794880" cy="271440"/>
          </a:xfrm>
        </p:grpSpPr>
        <p:sp>
          <p:nvSpPr>
            <p:cNvPr id="2149" name=""/>
            <p:cNvSpPr/>
            <p:nvPr/>
          </p:nvSpPr>
          <p:spPr>
            <a:xfrm>
              <a:off x="6724800" y="43257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997320" y="43257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251480" y="43257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2" name=""/>
          <p:cNvGrpSpPr/>
          <p:nvPr/>
        </p:nvGrpSpPr>
        <p:grpSpPr>
          <a:xfrm>
            <a:off x="7524720" y="4667400"/>
            <a:ext cx="522000" cy="271440"/>
            <a:chOff x="7524720" y="4667400"/>
            <a:chExt cx="522000" cy="271440"/>
          </a:xfrm>
        </p:grpSpPr>
        <p:sp>
          <p:nvSpPr>
            <p:cNvPr id="2153" name=""/>
            <p:cNvSpPr/>
            <p:nvPr/>
          </p:nvSpPr>
          <p:spPr>
            <a:xfrm>
              <a:off x="7524720" y="46674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778520" y="466740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ff"/>
                  </a:solidFill>
                  <a:latin typeface="Geneva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55" name=""/>
          <p:cNvSpPr/>
          <p:nvPr/>
        </p:nvSpPr>
        <p:spPr>
          <a:xfrm>
            <a:off x="8039160" y="494352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ff"/>
                </a:solidFill>
                <a:latin typeface="Geneva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0006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2544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450864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4705200" y="5683320"/>
            <a:ext cx="247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006880" y="568332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>
            <a:off x="5241960" y="5683320"/>
            <a:ext cx="20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5505480" y="5683320"/>
            <a:ext cx="181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581652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4" name=""/>
          <p:cNvSpPr/>
          <p:nvPr/>
        </p:nvSpPr>
        <p:spPr>
          <a:xfrm>
            <a:off x="60706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632448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657864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683244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709596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732456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757872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7832880" y="568332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8129520" y="56833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192420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21970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2432160" y="5419800"/>
            <a:ext cx="20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2600280" y="5419800"/>
            <a:ext cx="324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95920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3165480" y="54198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347652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7306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400356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2" name=""/>
          <p:cNvSpPr/>
          <p:nvPr/>
        </p:nvSpPr>
        <p:spPr>
          <a:xfrm>
            <a:off x="425772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451152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4" name=""/>
          <p:cNvSpPr/>
          <p:nvPr/>
        </p:nvSpPr>
        <p:spPr>
          <a:xfrm>
            <a:off x="47656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501984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528336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554688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8" name=""/>
          <p:cNvSpPr/>
          <p:nvPr/>
        </p:nvSpPr>
        <p:spPr>
          <a:xfrm>
            <a:off x="581976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9" name=""/>
          <p:cNvSpPr/>
          <p:nvPr/>
        </p:nvSpPr>
        <p:spPr>
          <a:xfrm>
            <a:off x="6073920" y="5419800"/>
            <a:ext cx="133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0" name=""/>
          <p:cNvSpPr/>
          <p:nvPr/>
        </p:nvSpPr>
        <p:spPr>
          <a:xfrm>
            <a:off x="6327720" y="541980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1" name=""/>
          <p:cNvSpPr/>
          <p:nvPr/>
        </p:nvSpPr>
        <p:spPr>
          <a:xfrm>
            <a:off x="1495440" y="5425920"/>
            <a:ext cx="33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(h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2" name=""/>
          <p:cNvSpPr/>
          <p:nvPr/>
        </p:nvSpPr>
        <p:spPr>
          <a:xfrm>
            <a:off x="1501920" y="5680080"/>
            <a:ext cx="333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h/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5707080" y="2654280"/>
            <a:ext cx="1552680" cy="9216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6788160" y="4552920"/>
            <a:ext cx="741240" cy="1033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5" name=""/>
          <p:cNvSpPr/>
          <p:nvPr/>
        </p:nvSpPr>
        <p:spPr>
          <a:xfrm>
            <a:off x="803160" y="542304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ntid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6" name=""/>
          <p:cNvSpPr/>
          <p:nvPr/>
        </p:nvSpPr>
        <p:spPr>
          <a:xfrm>
            <a:off x="803160" y="5670720"/>
            <a:ext cx="851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Cantida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7" name=""/>
          <p:cNvSpPr/>
          <p:nvPr/>
        </p:nvSpPr>
        <p:spPr>
          <a:xfrm>
            <a:off x="438120" y="5600880"/>
            <a:ext cx="815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8" name=""/>
          <p:cNvSpPr/>
          <p:nvPr/>
        </p:nvSpPr>
        <p:spPr>
          <a:xfrm>
            <a:off x="419040" y="5905440"/>
            <a:ext cx="815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9" name=""/>
          <p:cNvSpPr/>
          <p:nvPr/>
        </p:nvSpPr>
        <p:spPr>
          <a:xfrm>
            <a:off x="5924520" y="135252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0" name=""/>
          <p:cNvSpPr/>
          <p:nvPr/>
        </p:nvSpPr>
        <p:spPr>
          <a:xfrm>
            <a:off x="3759120" y="5670720"/>
            <a:ext cx="133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411" dur="indefinite" restart="never" nodeType="tmRoot">
          <p:childTnLst>
            <p:seq>
              <p:cTn id="1412" dur="indefinite" nodeType="mainSeq">
                <p:childTnLst>
                  <p:par>
                    <p:cTn id="1413" fill="hold">
                      <p:stCondLst>
                        <p:cond delay="indefinite"/>
                      </p:stCondLst>
                      <p:childTnLst>
                        <p:par>
                          <p:cTn id="1414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7" dur="5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8" fill="hold">
                            <p:stCondLst>
                              <p:cond delay="500"/>
                            </p:stCondLst>
                            <p:childTnLst>
                              <p:par>
                                <p:cTn id="141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21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5" dur="2000"/>
                                        <p:tgtEl>
                                          <p:spTgt spid="20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6" fill="hold">
                      <p:stCondLst>
                        <p:cond delay="indefinite"/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0" dur="5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500"/>
                            </p:stCondLst>
                            <p:childTnLst>
                              <p:par>
                                <p:cTn id="1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34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2000"/>
                                        <p:tgtEl>
                                          <p:spTgt spid="2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3" dur="5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7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2000"/>
                                        <p:tgtEl>
                                          <p:spTgt spid="20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2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500"/>
                            </p:stCondLst>
                            <p:childTnLst>
                              <p:par>
                                <p:cTn id="145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60" dur="10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4" dur="2000"/>
                                        <p:tgtEl>
                                          <p:spTgt spid="20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5" fill="hold">
                      <p:stCondLst>
                        <p:cond delay="indefinite"/>
                      </p:stCondLst>
                      <p:childTnLst>
                        <p:par>
                          <p:cTn id="1466" fill="hold">
                            <p:stCondLst>
                              <p:cond delay="0"/>
                            </p:stCondLst>
                            <p:childTnLst>
                              <p:par>
                                <p:cTn id="14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9" dur="500"/>
                                        <p:tgtEl>
                                          <p:spTgt spid="2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fill="hold">
                            <p:stCondLst>
                              <p:cond delay="500"/>
                            </p:stCondLst>
                            <p:childTnLst>
                              <p:par>
                                <p:cTn id="147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73" dur="10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7" dur="20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8" fill="hold">
                      <p:stCondLst>
                        <p:cond delay="indefinite"/>
                      </p:stCondLst>
                      <p:childTnLst>
                        <p:par>
                          <p:cTn id="1479" fill="hold">
                            <p:stCondLst>
                              <p:cond delay="0"/>
                            </p:stCondLst>
                            <p:childTnLst>
                              <p:par>
                                <p:cTn id="14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2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fill="hold">
                            <p:stCondLst>
                              <p:cond delay="500"/>
                            </p:stCondLst>
                            <p:childTnLst>
                              <p:par>
                                <p:cTn id="148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86" dur="10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7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fill="hold">
                      <p:stCondLst>
                        <p:cond delay="indefinite"/>
                      </p:stCondLst>
                      <p:childTnLst>
                        <p:par>
                          <p:cTn id="1491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4" dur="10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8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2" dur="10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0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06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7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2000"/>
                                        <p:tgtEl>
                                          <p:spTgt spid="2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19" dur="1000"/>
                                        <p:tgtEl>
                                          <p:spTgt spid="2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2000"/>
                                        <p:tgtEl>
                                          <p:spTgt spid="2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8" dur="500"/>
                                        <p:tgtEl>
                                          <p:spTgt spid="20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fill="hold">
                            <p:stCondLst>
                              <p:cond delay="500"/>
                            </p:stCondLst>
                            <p:childTnLst>
                              <p:par>
                                <p:cTn id="15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2" dur="1000"/>
                                        <p:tgtEl>
                                          <p:spTgt spid="20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6" dur="20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7" fill="hold">
                      <p:stCondLst>
                        <p:cond delay="indefinite"/>
                      </p:stCondLst>
                      <p:childTnLst>
                        <p:par>
                          <p:cTn id="1538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1" dur="1000"/>
                                        <p:tgtEl>
                                          <p:spTgt spid="2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3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45" dur="1000"/>
                                        <p:tgtEl>
                                          <p:spTgt spid="2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0"/>
                            </p:stCondLst>
                            <p:childTnLst>
                              <p:par>
                                <p:cTn id="1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fill="hold">
                      <p:stCondLst>
                        <p:cond delay="indefinite"/>
                      </p:stCondLst>
                      <p:childTnLst>
                        <p:par>
                          <p:cTn id="1557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fill="hold">
                            <p:stCondLst>
                              <p:cond delay="1500"/>
                            </p:stCondLst>
                            <p:childTnLst>
                              <p:par>
                                <p:cTn id="156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6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fill="hold">
                            <p:stCondLst>
                              <p:cond delay="4500"/>
                            </p:stCondLst>
                            <p:childTnLst>
                              <p:par>
                                <p:cTn id="157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fill="hold">
                            <p:stCondLst>
                              <p:cond delay="6000"/>
                            </p:stCondLst>
                            <p:childTnLst>
                              <p:par>
                                <p:cTn id="157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5" fill="hold">
                            <p:stCondLst>
                              <p:cond delay="7500"/>
                            </p:stCondLst>
                            <p:childTnLst>
                              <p:par>
                                <p:cTn id="157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9000"/>
                            </p:stCondLst>
                            <p:childTnLst>
                              <p:par>
                                <p:cTn id="157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582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8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58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9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594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59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9" fill="hold">
                            <p:stCondLst>
                              <p:cond delay="19500"/>
                            </p:stCondLst>
                            <p:childTnLst>
                              <p:par>
                                <p:cTn id="160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2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5" fill="hold">
                            <p:stCondLst>
                              <p:cond delay="22500"/>
                            </p:stCondLst>
                            <p:childTnLst>
                              <p:par>
                                <p:cTn id="160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fill="hold">
                            <p:stCondLst>
                              <p:cond delay="24000"/>
                            </p:stCondLst>
                            <p:childTnLst>
                              <p:par>
                                <p:cTn id="160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1" fill="hold">
                      <p:stCondLst>
                        <p:cond delay="indefinite"/>
                      </p:stCondLst>
                      <p:childTnLst>
                        <p:par>
                          <p:cTn id="1612" fill="hold">
                            <p:stCondLst>
                              <p:cond delay="0"/>
                            </p:stCondLst>
                            <p:childTnLst>
                              <p:par>
                                <p:cTn id="1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5" dur="5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6" fill="hold">
                            <p:stCondLst>
                              <p:cond delay="500"/>
                            </p:stCondLst>
                            <p:childTnLst>
                              <p:par>
                                <p:cTn id="16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2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fill="hold">
                      <p:stCondLst>
                        <p:cond delay="indefinite"/>
                      </p:stCondLst>
                      <p:childTnLst>
                        <p:par>
                          <p:cTn id="1621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5" fill="hold">
                            <p:stCondLst>
                              <p:cond delay="500"/>
                            </p:stCondLst>
                            <p:childTnLst>
                              <p:par>
                                <p:cTn id="16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500"/>
                                        <p:tgtEl>
                                          <p:spTgt spid="2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3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fill="hold">
                            <p:stCondLst>
                              <p:cond delay="500"/>
                            </p:stCondLst>
                            <p:childTnLst>
                              <p:par>
                                <p:cTn id="16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7" dur="500"/>
                                        <p:tgtEl>
                                          <p:spTgt spid="2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8" fill="hold">
                      <p:stCondLst>
                        <p:cond delay="indefinite"/>
                      </p:stCondLst>
                      <p:childTnLst>
                        <p:par>
                          <p:cTn id="1639" fill="hold">
                            <p:stCondLst>
                              <p:cond delay="0"/>
                            </p:stCondLst>
                            <p:childTnLst>
                              <p:par>
                                <p:cTn id="1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2" dur="5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2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fill="hold">
                      <p:stCondLst>
                        <p:cond delay="indefinite"/>
                      </p:stCondLst>
                      <p:childTnLst>
                        <p:par>
                          <p:cTn id="1648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2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2" fill="hold">
                            <p:stCondLst>
                              <p:cond delay="500"/>
                            </p:stCondLst>
                            <p:childTnLst>
                              <p:par>
                                <p:cTn id="1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5" dur="500"/>
                                        <p:tgtEl>
                                          <p:spTgt spid="2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0" dur="500"/>
                                        <p:tgtEl>
                                          <p:spTgt spid="2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62" nodeType="afterEffect" fill="hold" presetClass="entr" presetID="1" repeatCount="100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4" fill="hold">
                      <p:stCondLst>
                        <p:cond delay="indefinite"/>
                      </p:stCondLst>
                      <p:childTnLst>
                        <p:par>
                          <p:cTn id="1665" fill="hold">
                            <p:stCondLst>
                              <p:cond delay="0"/>
                            </p:stCondLst>
                            <p:childTnLst>
                              <p:par>
                                <p:cTn id="1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8" dur="500"/>
                                        <p:tgtEl>
                                          <p:spTgt spid="2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9" fill="hold">
                            <p:stCondLst>
                              <p:cond delay="500"/>
                            </p:stCondLst>
                            <p:childTnLst>
                              <p:par>
                                <p:cTn id="1670" nodeType="after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2" dur="500"/>
                                        <p:tgtEl>
                                          <p:spTgt spid="2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3" fill="hold">
                            <p:stCondLst>
                              <p:cond delay="2500"/>
                            </p:stCondLst>
                            <p:childTnLst>
                              <p:par>
                                <p:cTn id="1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6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1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2" fill="hold">
                            <p:stCondLst>
                              <p:cond delay="500"/>
                            </p:stCondLst>
                            <p:childTnLst>
                              <p:par>
                                <p:cTn id="1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5" dur="500"/>
                                        <p:tgtEl>
                                          <p:spTgt spid="2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fill="hold">
                      <p:stCondLst>
                        <p:cond delay="indefinite"/>
                      </p:stCondLst>
                      <p:childTnLst>
                        <p:par>
                          <p:cTn id="1687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0" dur="500"/>
                                        <p:tgtEl>
                                          <p:spTgt spid="20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1" fill="hold">
                            <p:stCondLst>
                              <p:cond delay="500"/>
                            </p:stCondLst>
                            <p:childTnLst>
                              <p:par>
                                <p:cTn id="16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4" dur="500"/>
                                        <p:tgtEl>
                                          <p:spTgt spid="2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fill="hold">
                      <p:stCondLst>
                        <p:cond delay="indefinite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9" dur="500"/>
                                        <p:tgtEl>
                                          <p:spTgt spid="20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0" fill="hold">
                            <p:stCondLst>
                              <p:cond delay="500"/>
                            </p:stCondLst>
                            <p:childTnLst>
                              <p:par>
                                <p:cTn id="170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3" fill="hold">
                      <p:stCondLst>
                        <p:cond delay="indefinite"/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7" fill="hold">
                            <p:stCondLst>
                              <p:cond delay="0"/>
                            </p:stCondLst>
                            <p:childTnLst>
                              <p:par>
                                <p:cTn id="17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72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72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73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73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7" fill="hold">
                            <p:stCondLst>
                              <p:cond delay="9000"/>
                            </p:stCondLst>
                            <p:childTnLst>
                              <p:par>
                                <p:cTn id="173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4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4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74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5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2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5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5000"/>
                            </p:stCondLst>
                            <p:childTnLst>
                              <p:par>
                                <p:cTn id="175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8" fill="hold">
                            <p:stCondLst>
                              <p:cond delay="16000"/>
                            </p:stCondLst>
                            <p:childTnLst>
                              <p:par>
                                <p:cTn id="175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1" fill="hold">
                            <p:stCondLst>
                              <p:cond delay="17000"/>
                            </p:stCondLst>
                            <p:childTnLst>
                              <p:par>
                                <p:cTn id="17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"/>
          <p:cNvSpPr/>
          <p:nvPr/>
        </p:nvSpPr>
        <p:spPr>
          <a:xfrm>
            <a:off x="1752480" y="1467000"/>
            <a:ext cx="4486320" cy="2943000"/>
          </a:xfrm>
          <a:custGeom>
            <a:avLst/>
            <a:gdLst/>
            <a:ahLst/>
            <a:rect l="l" t="t" r="r" b="b"/>
            <a:pathLst>
              <a:path w="2826" h="1854">
                <a:moveTo>
                  <a:pt x="0" y="1854"/>
                </a:moveTo>
                <a:lnTo>
                  <a:pt x="0" y="1386"/>
                </a:lnTo>
                <a:lnTo>
                  <a:pt x="156" y="1386"/>
                </a:lnTo>
                <a:lnTo>
                  <a:pt x="156" y="468"/>
                </a:lnTo>
                <a:lnTo>
                  <a:pt x="312" y="468"/>
                </a:lnTo>
                <a:lnTo>
                  <a:pt x="312" y="0"/>
                </a:lnTo>
                <a:lnTo>
                  <a:pt x="624" y="0"/>
                </a:lnTo>
                <a:lnTo>
                  <a:pt x="624" y="774"/>
                </a:lnTo>
                <a:lnTo>
                  <a:pt x="780" y="762"/>
                </a:lnTo>
                <a:lnTo>
                  <a:pt x="768" y="324"/>
                </a:lnTo>
                <a:lnTo>
                  <a:pt x="948" y="318"/>
                </a:lnTo>
                <a:lnTo>
                  <a:pt x="942" y="1230"/>
                </a:lnTo>
                <a:lnTo>
                  <a:pt x="1272" y="1230"/>
                </a:lnTo>
                <a:lnTo>
                  <a:pt x="1266" y="1536"/>
                </a:lnTo>
                <a:lnTo>
                  <a:pt x="1884" y="1542"/>
                </a:lnTo>
                <a:lnTo>
                  <a:pt x="1884" y="1392"/>
                </a:lnTo>
                <a:lnTo>
                  <a:pt x="2202" y="1392"/>
                </a:lnTo>
                <a:lnTo>
                  <a:pt x="2202" y="1686"/>
                </a:lnTo>
                <a:lnTo>
                  <a:pt x="2364" y="1686"/>
                </a:lnTo>
                <a:lnTo>
                  <a:pt x="2364" y="1242"/>
                </a:lnTo>
                <a:lnTo>
                  <a:pt x="2670" y="1242"/>
                </a:lnTo>
                <a:lnTo>
                  <a:pt x="2670" y="930"/>
                </a:lnTo>
                <a:lnTo>
                  <a:pt x="2826" y="930"/>
                </a:lnTo>
                <a:lnTo>
                  <a:pt x="2826" y="184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1768320" y="990720"/>
            <a:ext cx="0" cy="341928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201780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226692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251604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755800" y="124776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301608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326556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3514680" y="1190520"/>
            <a:ext cx="0" cy="32194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376380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1" name=""/>
          <p:cNvSpPr/>
          <p:nvPr/>
        </p:nvSpPr>
        <p:spPr>
          <a:xfrm>
            <a:off x="401472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2" name=""/>
          <p:cNvSpPr/>
          <p:nvPr/>
        </p:nvSpPr>
        <p:spPr>
          <a:xfrm>
            <a:off x="4264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45133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47624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501336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526248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551196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576108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6010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62611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651024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675972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70088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725976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750888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775800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800748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825804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1774800" y="1236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1774800" y="1479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1774800" y="1722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1774800" y="19652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1774800" y="22068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1774800" y="2449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1774800" y="2692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1774800" y="2935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1774800" y="34196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1774800" y="3662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1774800" y="3905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1774800" y="4148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1774800" y="4390920"/>
            <a:ext cx="67057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182556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279252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4049640" y="441000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5265720" y="441000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6541920" y="441000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7802640" y="441000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1558800" y="306396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1406520" y="18320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1558800" y="427032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 flipV="1">
            <a:off x="3247920" y="476208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247920" y="4762440"/>
            <a:ext cx="266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247920" y="2943360"/>
            <a:ext cx="2743200" cy="1199880"/>
          </a:xfrm>
          <a:custGeom>
            <a:avLst/>
            <a:gdLst/>
            <a:ahLst/>
            <a:rect l="l" t="t" r="r" b="b"/>
            <a:pathLst>
              <a:path w="1728" h="756">
                <a:moveTo>
                  <a:pt x="0" y="0"/>
                </a:moveTo>
                <a:lnTo>
                  <a:pt x="0" y="312"/>
                </a:lnTo>
                <a:lnTo>
                  <a:pt x="312" y="312"/>
                </a:lnTo>
                <a:lnTo>
                  <a:pt x="312" y="606"/>
                </a:lnTo>
                <a:lnTo>
                  <a:pt x="936" y="606"/>
                </a:lnTo>
                <a:lnTo>
                  <a:pt x="936" y="462"/>
                </a:lnTo>
                <a:lnTo>
                  <a:pt x="1254" y="462"/>
                </a:lnTo>
                <a:lnTo>
                  <a:pt x="1254" y="750"/>
                </a:lnTo>
                <a:lnTo>
                  <a:pt x="1416" y="756"/>
                </a:lnTo>
                <a:lnTo>
                  <a:pt x="1428" y="306"/>
                </a:lnTo>
                <a:lnTo>
                  <a:pt x="1728" y="306"/>
                </a:lnTo>
                <a:lnTo>
                  <a:pt x="172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6189840" y="4552920"/>
            <a:ext cx="20365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6026040" y="4813200"/>
            <a:ext cx="1982880" cy="9864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415800" y="5283360"/>
            <a:ext cx="784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90600" y="4743360"/>
            <a:ext cx="4680" cy="1057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384120" y="4768920"/>
            <a:ext cx="787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698400" y="5022720"/>
            <a:ext cx="756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60" name=""/>
          <p:cNvGrpSpPr/>
          <p:nvPr/>
        </p:nvGrpSpPr>
        <p:grpSpPr>
          <a:xfrm>
            <a:off x="741240" y="4816440"/>
            <a:ext cx="5488200" cy="186120"/>
            <a:chOff x="741240" y="4816440"/>
            <a:chExt cx="5488200" cy="186120"/>
          </a:xfrm>
        </p:grpSpPr>
        <p:sp>
          <p:nvSpPr>
            <p:cNvPr id="2261" name=""/>
            <p:cNvSpPr/>
            <p:nvPr/>
          </p:nvSpPr>
          <p:spPr>
            <a:xfrm>
              <a:off x="181440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20797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308320" y="481644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471760" y="4816440"/>
              <a:ext cx="31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8209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022560" y="4816440"/>
              <a:ext cx="22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324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5719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83868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0845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332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57992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82616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08320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33880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60556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8514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09912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741240" y="481968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Necesidadv.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80" name=""/>
          <p:cNvSpPr/>
          <p:nvPr/>
        </p:nvSpPr>
        <p:spPr>
          <a:xfrm>
            <a:off x="2209680" y="3257640"/>
            <a:ext cx="8193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1" name=""/>
          <p:cNvSpPr/>
          <p:nvPr/>
        </p:nvSpPr>
        <p:spPr>
          <a:xfrm>
            <a:off x="1523880" y="781200"/>
            <a:ext cx="5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2" name=""/>
          <p:cNvSpPr/>
          <p:nvPr/>
        </p:nvSpPr>
        <p:spPr>
          <a:xfrm>
            <a:off x="8420040" y="4159080"/>
            <a:ext cx="590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3" name=""/>
          <p:cNvSpPr/>
          <p:nvPr/>
        </p:nvSpPr>
        <p:spPr>
          <a:xfrm>
            <a:off x="2457360" y="343080"/>
            <a:ext cx="4819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NECESIDAD DE RECURSOS FUNGI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4" name=""/>
          <p:cNvGrpSpPr/>
          <p:nvPr/>
        </p:nvGrpSpPr>
        <p:grpSpPr>
          <a:xfrm>
            <a:off x="741240" y="5327640"/>
            <a:ext cx="7234200" cy="195480"/>
            <a:chOff x="741240" y="5327640"/>
            <a:chExt cx="7234200" cy="195480"/>
          </a:xfrm>
        </p:grpSpPr>
        <p:sp>
          <p:nvSpPr>
            <p:cNvPr id="2285" name=""/>
            <p:cNvSpPr/>
            <p:nvPr/>
          </p:nvSpPr>
          <p:spPr>
            <a:xfrm>
              <a:off x="3828960" y="5340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07520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32288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514760" y="5340240"/>
              <a:ext cx="23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780080" y="534024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37120" y="534024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292720" y="534024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595840" y="53402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584208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08976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33744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585120" y="5340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840360" y="53402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706284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731052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7558200" y="5340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845480" y="53402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741240" y="532764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Neces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602160" y="53276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04" name=""/>
          <p:cNvSpPr/>
          <p:nvPr/>
        </p:nvSpPr>
        <p:spPr>
          <a:xfrm>
            <a:off x="3533760" y="1447920"/>
            <a:ext cx="4487760" cy="2962080"/>
          </a:xfrm>
          <a:custGeom>
            <a:avLst/>
            <a:gdLst/>
            <a:ahLst/>
            <a:rect l="l" t="t" r="r" b="b"/>
            <a:pathLst>
              <a:path w="2827" h="1866">
                <a:moveTo>
                  <a:pt x="0" y="1866"/>
                </a:moveTo>
                <a:lnTo>
                  <a:pt x="6" y="1386"/>
                </a:lnTo>
                <a:lnTo>
                  <a:pt x="132" y="1392"/>
                </a:lnTo>
                <a:lnTo>
                  <a:pt x="138" y="1236"/>
                </a:lnTo>
                <a:lnTo>
                  <a:pt x="300" y="1242"/>
                </a:lnTo>
                <a:lnTo>
                  <a:pt x="306" y="1674"/>
                </a:lnTo>
                <a:lnTo>
                  <a:pt x="456" y="1680"/>
                </a:lnTo>
                <a:lnTo>
                  <a:pt x="462" y="930"/>
                </a:lnTo>
                <a:lnTo>
                  <a:pt x="630" y="936"/>
                </a:lnTo>
                <a:lnTo>
                  <a:pt x="609" y="0"/>
                </a:lnTo>
                <a:lnTo>
                  <a:pt x="936" y="6"/>
                </a:lnTo>
                <a:lnTo>
                  <a:pt x="936" y="306"/>
                </a:lnTo>
                <a:lnTo>
                  <a:pt x="1239" y="312"/>
                </a:lnTo>
                <a:lnTo>
                  <a:pt x="1251" y="1074"/>
                </a:lnTo>
                <a:lnTo>
                  <a:pt x="1416" y="1068"/>
                </a:lnTo>
                <a:lnTo>
                  <a:pt x="1416" y="1524"/>
                </a:lnTo>
                <a:lnTo>
                  <a:pt x="1869" y="1536"/>
                </a:lnTo>
                <a:lnTo>
                  <a:pt x="1869" y="1374"/>
                </a:lnTo>
                <a:lnTo>
                  <a:pt x="2187" y="1374"/>
                </a:lnTo>
                <a:lnTo>
                  <a:pt x="2187" y="1692"/>
                </a:lnTo>
                <a:lnTo>
                  <a:pt x="2343" y="1692"/>
                </a:lnTo>
                <a:lnTo>
                  <a:pt x="2343" y="1224"/>
                </a:lnTo>
                <a:lnTo>
                  <a:pt x="2676" y="1218"/>
                </a:lnTo>
                <a:lnTo>
                  <a:pt x="2670" y="948"/>
                </a:lnTo>
                <a:lnTo>
                  <a:pt x="2826" y="942"/>
                </a:lnTo>
                <a:lnTo>
                  <a:pt x="2827" y="1845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4540320" y="3197160"/>
            <a:ext cx="780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COST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8256600" y="4410000"/>
            <a:ext cx="25560" cy="137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714240" y="4762440"/>
            <a:ext cx="0" cy="1047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08" name=""/>
          <p:cNvGrpSpPr/>
          <p:nvPr/>
        </p:nvGrpSpPr>
        <p:grpSpPr>
          <a:xfrm>
            <a:off x="554040" y="4873680"/>
            <a:ext cx="5787000" cy="393120"/>
            <a:chOff x="554040" y="4873680"/>
            <a:chExt cx="5787000" cy="393120"/>
          </a:xfrm>
        </p:grpSpPr>
        <p:sp>
          <p:nvSpPr>
            <p:cNvPr id="2309" name=""/>
            <p:cNvSpPr/>
            <p:nvPr/>
          </p:nvSpPr>
          <p:spPr>
            <a:xfrm>
              <a:off x="554040" y="5037120"/>
              <a:ext cx="1114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rot="18627600">
              <a:off x="178596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rot="18627600">
              <a:off x="20620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rot="18627600">
              <a:off x="22906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rot="18627600">
              <a:off x="255744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rot="18627600">
              <a:off x="280512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rot="18627600">
              <a:off x="303192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rot="18627600">
              <a:off x="33004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rot="18627600">
              <a:off x="3556080" y="50191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rot="18627600">
              <a:off x="3803760" y="50191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rot="18627600">
              <a:off x="40510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rot="18627600">
              <a:off x="430668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 rot="18627600">
              <a:off x="4581360" y="5019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 rot="18627600">
              <a:off x="4748040" y="497340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rot="18627600">
              <a:off x="5026680" y="4964760"/>
              <a:ext cx="32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rot="18627600">
              <a:off x="5286960" y="4980600"/>
              <a:ext cx="29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rot="18627600">
              <a:off x="5518080" y="4993920"/>
              <a:ext cx="25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rot="18627600">
              <a:off x="5814000" y="5015520"/>
              <a:ext cx="2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rot="18627600">
              <a:off x="6045120" y="4992480"/>
              <a:ext cx="27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754200" y="507348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29" name=""/>
          <p:cNvSpPr/>
          <p:nvPr/>
        </p:nvSpPr>
        <p:spPr>
          <a:xfrm rot="18627600">
            <a:off x="7032240" y="5509800"/>
            <a:ext cx="25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0" name=""/>
          <p:cNvSpPr/>
          <p:nvPr/>
        </p:nvSpPr>
        <p:spPr>
          <a:xfrm rot="18627600">
            <a:off x="7267320" y="5511600"/>
            <a:ext cx="262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1" name=""/>
          <p:cNvSpPr/>
          <p:nvPr/>
        </p:nvSpPr>
        <p:spPr>
          <a:xfrm rot="18627600">
            <a:off x="7526160" y="5510160"/>
            <a:ext cx="255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8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2" name=""/>
          <p:cNvSpPr/>
          <p:nvPr/>
        </p:nvSpPr>
        <p:spPr>
          <a:xfrm rot="18627600">
            <a:off x="7822440" y="5551920"/>
            <a:ext cx="219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9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3" name=""/>
          <p:cNvSpPr/>
          <p:nvPr/>
        </p:nvSpPr>
        <p:spPr>
          <a:xfrm>
            <a:off x="378000" y="5784840"/>
            <a:ext cx="787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701640" y="554364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560520" y="5557680"/>
            <a:ext cx="11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 rot="18627600">
            <a:off x="3841560" y="5530680"/>
            <a:ext cx="2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 rot="18627600">
            <a:off x="4089240" y="554004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 rot="18627600">
            <a:off x="431784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 rot="18627600">
            <a:off x="45925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0" name=""/>
          <p:cNvSpPr/>
          <p:nvPr/>
        </p:nvSpPr>
        <p:spPr>
          <a:xfrm rot="18627600">
            <a:off x="48211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3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1" name=""/>
          <p:cNvSpPr/>
          <p:nvPr/>
        </p:nvSpPr>
        <p:spPr>
          <a:xfrm rot="18627600">
            <a:off x="5086440" y="555876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2" name=""/>
          <p:cNvSpPr/>
          <p:nvPr/>
        </p:nvSpPr>
        <p:spPr>
          <a:xfrm rot="18627600">
            <a:off x="533376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3" name=""/>
          <p:cNvSpPr/>
          <p:nvPr/>
        </p:nvSpPr>
        <p:spPr>
          <a:xfrm rot="18627600">
            <a:off x="556236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 rot="18627600">
            <a:off x="58291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 rot="18627600">
            <a:off x="608472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 rot="18627600">
            <a:off x="633240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6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 rot="18627600">
            <a:off x="6580080" y="555912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 rot="18627600">
            <a:off x="6791400" y="5558760"/>
            <a:ext cx="211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7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9" name=""/>
          <p:cNvSpPr/>
          <p:nvPr/>
        </p:nvSpPr>
        <p:spPr>
          <a:xfrm rot="18627600">
            <a:off x="3619440" y="5530680"/>
            <a:ext cx="210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744480" y="5551560"/>
            <a:ext cx="1114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00"/>
                </a:solidFill>
                <a:latin typeface="Arial"/>
              </a:rPr>
              <a:t>Costo Limi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1" name=""/>
          <p:cNvSpPr/>
          <p:nvPr/>
        </p:nvSpPr>
        <p:spPr>
          <a:xfrm rot="16200000">
            <a:off x="304200" y="4934520"/>
            <a:ext cx="486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E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2" name=""/>
          <p:cNvSpPr/>
          <p:nvPr/>
        </p:nvSpPr>
        <p:spPr>
          <a:xfrm>
            <a:off x="1752480" y="4400640"/>
            <a:ext cx="0" cy="1361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3" name=""/>
          <p:cNvSpPr/>
          <p:nvPr/>
        </p:nvSpPr>
        <p:spPr>
          <a:xfrm>
            <a:off x="2768760" y="4397400"/>
            <a:ext cx="0" cy="13906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4" name=""/>
          <p:cNvSpPr/>
          <p:nvPr/>
        </p:nvSpPr>
        <p:spPr>
          <a:xfrm>
            <a:off x="4060800" y="4394160"/>
            <a:ext cx="0" cy="134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5" name=""/>
          <p:cNvSpPr/>
          <p:nvPr/>
        </p:nvSpPr>
        <p:spPr>
          <a:xfrm>
            <a:off x="5257800" y="4400640"/>
            <a:ext cx="0" cy="1380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6" name=""/>
          <p:cNvSpPr/>
          <p:nvPr/>
        </p:nvSpPr>
        <p:spPr>
          <a:xfrm>
            <a:off x="6512040" y="440676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7756560" y="439416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1762200" y="317988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>
            <a:off x="1781280" y="1454040"/>
            <a:ext cx="4473360" cy="2936880"/>
          </a:xfrm>
          <a:custGeom>
            <a:avLst/>
            <a:gdLst/>
            <a:ahLst/>
            <a:rect l="l" t="t" r="r" b="b"/>
            <a:pathLst>
              <a:path w="2818" h="1850">
                <a:moveTo>
                  <a:pt x="0" y="1850"/>
                </a:moveTo>
                <a:lnTo>
                  <a:pt x="6" y="1388"/>
                </a:lnTo>
                <a:lnTo>
                  <a:pt x="148" y="1386"/>
                </a:lnTo>
                <a:lnTo>
                  <a:pt x="148" y="468"/>
                </a:lnTo>
                <a:lnTo>
                  <a:pt x="304" y="468"/>
                </a:lnTo>
                <a:lnTo>
                  <a:pt x="304" y="0"/>
                </a:lnTo>
                <a:lnTo>
                  <a:pt x="616" y="0"/>
                </a:lnTo>
                <a:lnTo>
                  <a:pt x="616" y="774"/>
                </a:lnTo>
                <a:lnTo>
                  <a:pt x="778" y="774"/>
                </a:lnTo>
                <a:lnTo>
                  <a:pt x="778" y="318"/>
                </a:lnTo>
                <a:lnTo>
                  <a:pt x="940" y="318"/>
                </a:lnTo>
                <a:lnTo>
                  <a:pt x="934" y="1230"/>
                </a:lnTo>
                <a:lnTo>
                  <a:pt x="1252" y="1230"/>
                </a:lnTo>
                <a:lnTo>
                  <a:pt x="1258" y="1542"/>
                </a:lnTo>
                <a:lnTo>
                  <a:pt x="1876" y="1542"/>
                </a:lnTo>
                <a:lnTo>
                  <a:pt x="1876" y="1392"/>
                </a:lnTo>
                <a:lnTo>
                  <a:pt x="2194" y="1392"/>
                </a:lnTo>
                <a:lnTo>
                  <a:pt x="2194" y="1686"/>
                </a:lnTo>
                <a:lnTo>
                  <a:pt x="2356" y="1686"/>
                </a:lnTo>
                <a:lnTo>
                  <a:pt x="2356" y="1242"/>
                </a:lnTo>
                <a:lnTo>
                  <a:pt x="2662" y="1242"/>
                </a:lnTo>
                <a:lnTo>
                  <a:pt x="2662" y="930"/>
                </a:lnTo>
                <a:lnTo>
                  <a:pt x="2818" y="930"/>
                </a:lnTo>
                <a:lnTo>
                  <a:pt x="2818" y="1848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3524400" y="1447920"/>
            <a:ext cx="4502160" cy="2952720"/>
          </a:xfrm>
          <a:custGeom>
            <a:avLst/>
            <a:gdLst/>
            <a:ahLst/>
            <a:rect l="l" t="t" r="r" b="b"/>
            <a:pathLst>
              <a:path w="2836" h="1860">
                <a:moveTo>
                  <a:pt x="0" y="1860"/>
                </a:moveTo>
                <a:lnTo>
                  <a:pt x="6" y="1398"/>
                </a:lnTo>
                <a:lnTo>
                  <a:pt x="150" y="1398"/>
                </a:lnTo>
                <a:lnTo>
                  <a:pt x="150" y="1242"/>
                </a:lnTo>
                <a:lnTo>
                  <a:pt x="306" y="1242"/>
                </a:lnTo>
                <a:lnTo>
                  <a:pt x="312" y="1680"/>
                </a:lnTo>
                <a:lnTo>
                  <a:pt x="462" y="1680"/>
                </a:lnTo>
                <a:lnTo>
                  <a:pt x="456" y="942"/>
                </a:lnTo>
                <a:lnTo>
                  <a:pt x="624" y="936"/>
                </a:lnTo>
                <a:lnTo>
                  <a:pt x="616" y="4"/>
                </a:lnTo>
                <a:lnTo>
                  <a:pt x="948" y="0"/>
                </a:lnTo>
                <a:lnTo>
                  <a:pt x="948" y="300"/>
                </a:lnTo>
                <a:lnTo>
                  <a:pt x="1260" y="318"/>
                </a:lnTo>
                <a:lnTo>
                  <a:pt x="1258" y="1078"/>
                </a:lnTo>
                <a:lnTo>
                  <a:pt x="1422" y="1074"/>
                </a:lnTo>
                <a:lnTo>
                  <a:pt x="1416" y="1536"/>
                </a:lnTo>
                <a:lnTo>
                  <a:pt x="1876" y="1540"/>
                </a:lnTo>
                <a:lnTo>
                  <a:pt x="1876" y="1378"/>
                </a:lnTo>
                <a:lnTo>
                  <a:pt x="2194" y="1378"/>
                </a:lnTo>
                <a:lnTo>
                  <a:pt x="2194" y="1696"/>
                </a:lnTo>
                <a:lnTo>
                  <a:pt x="2350" y="1696"/>
                </a:lnTo>
                <a:lnTo>
                  <a:pt x="2350" y="1228"/>
                </a:lnTo>
                <a:lnTo>
                  <a:pt x="2676" y="1236"/>
                </a:lnTo>
                <a:lnTo>
                  <a:pt x="2664" y="948"/>
                </a:lnTo>
                <a:lnTo>
                  <a:pt x="2836" y="937"/>
                </a:lnTo>
                <a:lnTo>
                  <a:pt x="2836" y="185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 rot="16200000">
            <a:off x="310320" y="5435640"/>
            <a:ext cx="485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4" dur="indefinite" restart="never" nodeType="tmRoot">
          <p:childTnLst>
            <p:seq>
              <p:cTn id="1765" dur="indefinite" nodeType="mainSeq">
                <p:childTnLst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4" dur="3000"/>
                                        <p:tgtEl>
                                          <p:spTgt spid="2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5" fill="hold">
                      <p:stCondLst>
                        <p:cond delay="indefinite"/>
                      </p:stCondLst>
                      <p:childTnLst>
                        <p:par>
                          <p:cTn id="1776" fill="hold">
                            <p:stCondLst>
                              <p:cond delay="0"/>
                            </p:stCondLst>
                            <p:childTnLst>
                              <p:par>
                                <p:cTn id="17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9" dur="8000"/>
                                        <p:tgtEl>
                                          <p:spTgt spid="2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0" fill="hold">
                      <p:stCondLst>
                        <p:cond delay="indefinite"/>
                      </p:stCondLst>
                      <p:childTnLst>
                        <p:par>
                          <p:cTn id="1781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4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2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fill="hold">
                      <p:stCondLst>
                        <p:cond delay="indefinite"/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2" dur="5000"/>
                                        <p:tgtEl>
                                          <p:spTgt spid="2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fill="hold">
                      <p:stCondLst>
                        <p:cond delay="indefinite"/>
                      </p:stCondLst>
                      <p:childTnLst>
                        <p:par>
                          <p:cTn id="1794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7" dur="5000"/>
                                        <p:tgtEl>
                                          <p:spTgt spid="2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fill="hold">
                            <p:stCondLst>
                              <p:cond delay="0"/>
                            </p:stCondLst>
                            <p:childTnLst>
                              <p:par>
                                <p:cTn id="18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5" dur="5000"/>
                                        <p:tgtEl>
                                          <p:spTgt spid="2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6" fill="hold">
                      <p:stCondLst>
                        <p:cond delay="indefinite"/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0" dur="5000"/>
                                        <p:tgtEl>
                                          <p:spTgt spid="2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1" fill="hold">
                            <p:stCondLst>
                              <p:cond delay="5000"/>
                            </p:stCondLst>
                            <p:childTnLst>
                              <p:par>
                                <p:cTn id="181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8" dur="1000"/>
                                        <p:tgtEl>
                                          <p:spTgt spid="2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2" dur="1000"/>
                                        <p:tgtEl>
                                          <p:spTgt spid="2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3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6" dur="1000"/>
                                        <p:tgtEl>
                                          <p:spTgt spid="2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0" dur="1000"/>
                                        <p:tgtEl>
                                          <p:spTgt spid="2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4" dur="1000"/>
                                        <p:tgtEl>
                                          <p:spTgt spid="2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5" fill="hold">
                            <p:stCondLst>
                              <p:cond delay="5500"/>
                            </p:stCondLst>
                            <p:childTnLst>
                              <p:par>
                                <p:cTn id="18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8" dur="1000"/>
                                        <p:tgtEl>
                                          <p:spTgt spid="2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fill="hold">
                            <p:stCondLst>
                              <p:cond delay="6500"/>
                            </p:stCondLst>
                            <p:childTnLst>
                              <p:par>
                                <p:cTn id="18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2" dur="1000"/>
                                        <p:tgtEl>
                                          <p:spTgt spid="2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1000"/>
                                        <p:tgtEl>
                                          <p:spTgt spid="2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7" fill="hold">
                            <p:stCondLst>
                              <p:cond delay="8500"/>
                            </p:stCondLst>
                            <p:childTnLst>
                              <p:par>
                                <p:cTn id="18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0" dur="1000"/>
                                        <p:tgtEl>
                                          <p:spTgt spid="2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1" fill="hold">
                            <p:stCondLst>
                              <p:cond delay="9500"/>
                            </p:stCondLst>
                            <p:childTnLst>
                              <p:par>
                                <p:cTn id="18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4" dur="1000"/>
                                        <p:tgtEl>
                                          <p:spTgt spid="2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5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8" dur="1000"/>
                                        <p:tgtEl>
                                          <p:spTgt spid="2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9" fill="hold">
                            <p:stCondLst>
                              <p:cond delay="11500"/>
                            </p:stCondLst>
                            <p:childTnLst>
                              <p:par>
                                <p:cTn id="18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2" dur="1000"/>
                                        <p:tgtEl>
                                          <p:spTgt spid="2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3" fill="hold">
                            <p:stCondLst>
                              <p:cond delay="12500"/>
                            </p:stCondLst>
                            <p:childTnLst>
                              <p:par>
                                <p:cTn id="18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6" dur="1000"/>
                                        <p:tgtEl>
                                          <p:spTgt spid="2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7" fill="hold">
                            <p:stCondLst>
                              <p:cond delay="13500"/>
                            </p:stCondLst>
                            <p:childTnLst>
                              <p:par>
                                <p:cTn id="18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0" dur="1000"/>
                                        <p:tgtEl>
                                          <p:spTgt spid="2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1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72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4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7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7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7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14500"/>
                            </p:stCondLst>
                            <p:childTnLst>
                              <p:par>
                                <p:cTn id="188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"/>
          <p:cNvSpPr/>
          <p:nvPr/>
        </p:nvSpPr>
        <p:spPr>
          <a:xfrm>
            <a:off x="29448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>
            <a:off x="31939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>
            <a:off x="34434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3722760" y="1576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3971880" y="1576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41925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444168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6926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49417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51912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54403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708520" y="155268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5945040" y="15667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61898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64389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668808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6939000" y="15620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71881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743760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768672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79376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415880" y="16002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>
            <a:off x="1415880" y="18414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415880" y="20844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1415880" y="232740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415880" y="25700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1454040" y="28130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454040" y="30542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1417680" y="32958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1454040" y="354024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1454040" y="37828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454040" y="40258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1454040" y="42670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454040" y="45100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1454040" y="475308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454040" y="49957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1425600" y="5238720"/>
            <a:ext cx="681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3828960" y="525780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5045040" y="525780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6321600" y="5257800"/>
            <a:ext cx="24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7581960" y="525780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03" name=""/>
          <p:cNvGrpSpPr/>
          <p:nvPr/>
        </p:nvGrpSpPr>
        <p:grpSpPr>
          <a:xfrm>
            <a:off x="324000" y="5696280"/>
            <a:ext cx="5800320" cy="298800"/>
            <a:chOff x="324000" y="5696280"/>
            <a:chExt cx="5800320" cy="298800"/>
          </a:xfrm>
        </p:grpSpPr>
        <p:sp>
          <p:nvSpPr>
            <p:cNvPr id="2404" name=""/>
            <p:cNvSpPr/>
            <p:nvPr/>
          </p:nvSpPr>
          <p:spPr>
            <a:xfrm rot="18627600">
              <a:off x="4591080" y="5754600"/>
              <a:ext cx="226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rot="18627600">
              <a:off x="4887000" y="5753880"/>
              <a:ext cx="225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rot="18627600">
              <a:off x="5141880" y="5767200"/>
              <a:ext cx="201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rot="18627600">
              <a:off x="160164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rot="18627600">
              <a:off x="1878120" y="574452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rot="18627600">
              <a:off x="2106720" y="574452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rot="18627600">
              <a:off x="237312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 rot="18627600">
              <a:off x="262080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rot="18627600">
              <a:off x="284940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rot="18627600">
              <a:off x="311616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rot="18627600">
              <a:off x="337176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rot="18627600">
              <a:off x="361944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rot="18627600">
              <a:off x="386712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rot="18627600">
              <a:off x="412596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rot="18627600">
              <a:off x="4397400" y="57448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rot="18627600">
              <a:off x="5371200" y="576180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rot="18627600">
              <a:off x="5645880" y="5744160"/>
              <a:ext cx="177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 rot="18627600">
              <a:off x="5899680" y="5753520"/>
              <a:ext cx="187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24000" y="5746680"/>
              <a:ext cx="102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PREVI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23" name=""/>
          <p:cNvSpPr/>
          <p:nvPr/>
        </p:nvSpPr>
        <p:spPr>
          <a:xfrm>
            <a:off x="198360" y="6384960"/>
            <a:ext cx="787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166680" y="606744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209520" y="5635800"/>
            <a:ext cx="7878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1584360" y="5219640"/>
            <a:ext cx="0" cy="1106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>
            <a:off x="174600" y="5630760"/>
            <a:ext cx="0" cy="72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83528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9" name=""/>
          <p:cNvSpPr/>
          <p:nvPr/>
        </p:nvSpPr>
        <p:spPr>
          <a:xfrm>
            <a:off x="20858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0" name=""/>
          <p:cNvSpPr/>
          <p:nvPr/>
        </p:nvSpPr>
        <p:spPr>
          <a:xfrm>
            <a:off x="233676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1" name=""/>
          <p:cNvSpPr/>
          <p:nvPr/>
        </p:nvSpPr>
        <p:spPr>
          <a:xfrm>
            <a:off x="258768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2" name=""/>
          <p:cNvSpPr/>
          <p:nvPr/>
        </p:nvSpPr>
        <p:spPr>
          <a:xfrm>
            <a:off x="283860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3" name=""/>
          <p:cNvSpPr/>
          <p:nvPr/>
        </p:nvSpPr>
        <p:spPr>
          <a:xfrm>
            <a:off x="30891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4" name=""/>
          <p:cNvSpPr/>
          <p:nvPr/>
        </p:nvSpPr>
        <p:spPr>
          <a:xfrm>
            <a:off x="334008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5" name=""/>
          <p:cNvSpPr/>
          <p:nvPr/>
        </p:nvSpPr>
        <p:spPr>
          <a:xfrm>
            <a:off x="359100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6" name=""/>
          <p:cNvSpPr/>
          <p:nvPr/>
        </p:nvSpPr>
        <p:spPr>
          <a:xfrm>
            <a:off x="38419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7" name=""/>
          <p:cNvSpPr/>
          <p:nvPr/>
        </p:nvSpPr>
        <p:spPr>
          <a:xfrm>
            <a:off x="409248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8" name=""/>
          <p:cNvSpPr/>
          <p:nvPr/>
        </p:nvSpPr>
        <p:spPr>
          <a:xfrm>
            <a:off x="434340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9" name=""/>
          <p:cNvSpPr/>
          <p:nvPr/>
        </p:nvSpPr>
        <p:spPr>
          <a:xfrm>
            <a:off x="45943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0" name=""/>
          <p:cNvSpPr/>
          <p:nvPr/>
        </p:nvSpPr>
        <p:spPr>
          <a:xfrm>
            <a:off x="484488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1" name=""/>
          <p:cNvSpPr/>
          <p:nvPr/>
        </p:nvSpPr>
        <p:spPr>
          <a:xfrm>
            <a:off x="509580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2" name=""/>
          <p:cNvSpPr/>
          <p:nvPr/>
        </p:nvSpPr>
        <p:spPr>
          <a:xfrm>
            <a:off x="534672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3" name=""/>
          <p:cNvSpPr/>
          <p:nvPr/>
        </p:nvSpPr>
        <p:spPr>
          <a:xfrm>
            <a:off x="55976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4" name=""/>
          <p:cNvSpPr/>
          <p:nvPr/>
        </p:nvSpPr>
        <p:spPr>
          <a:xfrm>
            <a:off x="584820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5" name=""/>
          <p:cNvSpPr/>
          <p:nvPr/>
        </p:nvSpPr>
        <p:spPr>
          <a:xfrm>
            <a:off x="60991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6" name=""/>
          <p:cNvSpPr/>
          <p:nvPr/>
        </p:nvSpPr>
        <p:spPr>
          <a:xfrm>
            <a:off x="63500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7" name=""/>
          <p:cNvSpPr/>
          <p:nvPr/>
        </p:nvSpPr>
        <p:spPr>
          <a:xfrm>
            <a:off x="66009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8" name=""/>
          <p:cNvSpPr/>
          <p:nvPr/>
        </p:nvSpPr>
        <p:spPr>
          <a:xfrm>
            <a:off x="685152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9" name=""/>
          <p:cNvSpPr/>
          <p:nvPr/>
        </p:nvSpPr>
        <p:spPr>
          <a:xfrm>
            <a:off x="7102440" y="5219640"/>
            <a:ext cx="0" cy="11494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>
            <a:off x="73533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1" name=""/>
          <p:cNvSpPr/>
          <p:nvPr/>
        </p:nvSpPr>
        <p:spPr>
          <a:xfrm>
            <a:off x="7604280" y="521964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2" name=""/>
          <p:cNvSpPr/>
          <p:nvPr/>
        </p:nvSpPr>
        <p:spPr>
          <a:xfrm>
            <a:off x="785484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3" name=""/>
          <p:cNvSpPr/>
          <p:nvPr/>
        </p:nvSpPr>
        <p:spPr>
          <a:xfrm>
            <a:off x="8105760" y="5219640"/>
            <a:ext cx="0" cy="1133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4" name=""/>
          <p:cNvSpPr/>
          <p:nvPr/>
        </p:nvSpPr>
        <p:spPr>
          <a:xfrm>
            <a:off x="3670200" y="5048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5" name=""/>
          <p:cNvSpPr/>
          <p:nvPr/>
        </p:nvSpPr>
        <p:spPr>
          <a:xfrm>
            <a:off x="3184560" y="5219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6" name=""/>
          <p:cNvSpPr/>
          <p:nvPr/>
        </p:nvSpPr>
        <p:spPr>
          <a:xfrm>
            <a:off x="3429000" y="51404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1714680" y="514440"/>
            <a:ext cx="624816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BAL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“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(Recursos fungibl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>
            <a:off x="8128080" y="502272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59" name=""/>
          <p:cNvGrpSpPr/>
          <p:nvPr/>
        </p:nvGrpSpPr>
        <p:grpSpPr>
          <a:xfrm>
            <a:off x="5924520" y="2425680"/>
            <a:ext cx="1752480" cy="487080"/>
            <a:chOff x="5924520" y="2425680"/>
            <a:chExt cx="1752480" cy="487080"/>
          </a:xfrm>
        </p:grpSpPr>
        <p:sp>
          <p:nvSpPr>
            <p:cNvPr id="2460" name=""/>
            <p:cNvSpPr/>
            <p:nvPr/>
          </p:nvSpPr>
          <p:spPr>
            <a:xfrm flipV="1">
              <a:off x="5924520" y="25333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 flipV="1">
              <a:off x="7664400" y="25585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924520" y="266688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6426360" y="2425680"/>
              <a:ext cx="10476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00"/>
                  </a:solidFill>
                  <a:latin typeface="Arial"/>
                </a:rPr>
                <a:t>Demora Permiti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1428840" y="1295280"/>
            <a:ext cx="0" cy="3962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6970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9461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219564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2444760" y="15811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2695680" y="155268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604880" y="52578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2600280" y="52578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047600" y="414648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>
            <a:off x="1200240" y="511812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>
            <a:off x="1047600" y="318132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>
            <a:off x="857160" y="219708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>
            <a:off x="1047600" y="46292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>
            <a:off x="1047600" y="366408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>
            <a:off x="857160" y="267984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>
            <a:off x="933480" y="1714680"/>
            <a:ext cx="43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>
            <a:off x="2211480" y="4638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438200" y="52149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1704960" y="51228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1952640" y="49258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2454120" y="4346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1143000" y="99072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6" name=""/>
          <p:cNvGrpSpPr/>
          <p:nvPr/>
        </p:nvGrpSpPr>
        <p:grpSpPr>
          <a:xfrm>
            <a:off x="322200" y="6009480"/>
            <a:ext cx="7631640" cy="390600"/>
            <a:chOff x="322200" y="6009480"/>
            <a:chExt cx="7631640" cy="390600"/>
          </a:xfrm>
        </p:grpSpPr>
        <p:sp>
          <p:nvSpPr>
            <p:cNvPr id="2487" name=""/>
            <p:cNvSpPr/>
            <p:nvPr/>
          </p:nvSpPr>
          <p:spPr>
            <a:xfrm>
              <a:off x="322200" y="6156360"/>
              <a:ext cx="1025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LIM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 rot="18627600">
              <a:off x="3663720" y="608616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rot="18627600">
              <a:off x="391140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rot="18627600">
              <a:off x="414000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rot="18627600">
              <a:off x="44146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rot="18627600">
              <a:off x="46432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rot="18627600">
              <a:off x="490860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rot="18627600">
              <a:off x="5156280" y="6114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 rot="18627600">
              <a:off x="5384880" y="611460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 rot="18627600">
              <a:off x="56512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 rot="18627600">
              <a:off x="590688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 rot="18627600">
              <a:off x="615456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 rot="18627600">
              <a:off x="640224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 rot="18627600">
              <a:off x="6613560" y="611496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 rot="18627600">
              <a:off x="6854760" y="6132240"/>
              <a:ext cx="25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 rot="18627600">
              <a:off x="7089480" y="6134040"/>
              <a:ext cx="26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 rot="18627600">
              <a:off x="7348320" y="6132240"/>
              <a:ext cx="255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 rot="18627600">
              <a:off x="7589880" y="6113160"/>
              <a:ext cx="35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 rot="18627600">
              <a:off x="3441600" y="608616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06" name=""/>
          <p:cNvGrpSpPr/>
          <p:nvPr/>
        </p:nvGrpSpPr>
        <p:grpSpPr>
          <a:xfrm>
            <a:off x="1365120" y="4699080"/>
            <a:ext cx="1838160" cy="549360"/>
            <a:chOff x="1365120" y="4699080"/>
            <a:chExt cx="1838160" cy="549360"/>
          </a:xfrm>
        </p:grpSpPr>
        <p:sp>
          <p:nvSpPr>
            <p:cNvPr id="2507" name=""/>
            <p:cNvSpPr/>
            <p:nvPr/>
          </p:nvSpPr>
          <p:spPr>
            <a:xfrm flipH="1">
              <a:off x="3200040" y="4800600"/>
              <a:ext cx="324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1425600" y="491184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1365120" y="4699080"/>
              <a:ext cx="180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Demora  Permiti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10" name=""/>
          <p:cNvSpPr/>
          <p:nvPr/>
        </p:nvSpPr>
        <p:spPr>
          <a:xfrm rot="20051400">
            <a:off x="2689200" y="341928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S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1" name=""/>
          <p:cNvSpPr/>
          <p:nvPr/>
        </p:nvSpPr>
        <p:spPr>
          <a:xfrm rot="19855200">
            <a:off x="2481120" y="356832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empr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2" name=""/>
          <p:cNvSpPr/>
          <p:nvPr/>
        </p:nvSpPr>
        <p:spPr>
          <a:xfrm rot="18952800">
            <a:off x="4087800" y="389844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ard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3" name=""/>
          <p:cNvSpPr/>
          <p:nvPr/>
        </p:nvSpPr>
        <p:spPr>
          <a:xfrm rot="18952800">
            <a:off x="4168800" y="390492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L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4" name=""/>
          <p:cNvSpPr/>
          <p:nvPr/>
        </p:nvSpPr>
        <p:spPr>
          <a:xfrm>
            <a:off x="2698920" y="41814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5" name=""/>
          <p:cNvSpPr/>
          <p:nvPr/>
        </p:nvSpPr>
        <p:spPr>
          <a:xfrm>
            <a:off x="2952720" y="3930480"/>
            <a:ext cx="42840" cy="43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3197160" y="3832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451320" y="3733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8" name=""/>
          <p:cNvSpPr/>
          <p:nvPr/>
        </p:nvSpPr>
        <p:spPr>
          <a:xfrm>
            <a:off x="3695760" y="3692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9" name=""/>
          <p:cNvSpPr/>
          <p:nvPr/>
        </p:nvSpPr>
        <p:spPr>
          <a:xfrm>
            <a:off x="3959280" y="3632040"/>
            <a:ext cx="42840" cy="4320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0" name=""/>
          <p:cNvSpPr/>
          <p:nvPr/>
        </p:nvSpPr>
        <p:spPr>
          <a:xfrm>
            <a:off x="4210200" y="3583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1" name=""/>
          <p:cNvSpPr/>
          <p:nvPr/>
        </p:nvSpPr>
        <p:spPr>
          <a:xfrm>
            <a:off x="4451400" y="3543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2" name=""/>
          <p:cNvSpPr/>
          <p:nvPr/>
        </p:nvSpPr>
        <p:spPr>
          <a:xfrm>
            <a:off x="4676760" y="3468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3" name=""/>
          <p:cNvSpPr/>
          <p:nvPr/>
        </p:nvSpPr>
        <p:spPr>
          <a:xfrm>
            <a:off x="4921200" y="33987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4" name=""/>
          <p:cNvSpPr/>
          <p:nvPr/>
        </p:nvSpPr>
        <p:spPr>
          <a:xfrm>
            <a:off x="5175360" y="33861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5" name=""/>
          <p:cNvSpPr/>
          <p:nvPr/>
        </p:nvSpPr>
        <p:spPr>
          <a:xfrm rot="20837400">
            <a:off x="5419440" y="32778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6" name=""/>
          <p:cNvSpPr/>
          <p:nvPr/>
        </p:nvSpPr>
        <p:spPr>
          <a:xfrm rot="20837400">
            <a:off x="5682960" y="3179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7" name=""/>
          <p:cNvSpPr/>
          <p:nvPr/>
        </p:nvSpPr>
        <p:spPr>
          <a:xfrm>
            <a:off x="1447920" y="3067200"/>
            <a:ext cx="4505040" cy="2181240"/>
          </a:xfrm>
          <a:custGeom>
            <a:avLst/>
            <a:gdLst/>
            <a:ahLst/>
            <a:rect l="l" t="t" r="r" b="b"/>
            <a:pathLst>
              <a:path w="2838" h="1374">
                <a:moveTo>
                  <a:pt x="0" y="1374"/>
                </a:moveTo>
                <a:lnTo>
                  <a:pt x="165" y="1317"/>
                </a:lnTo>
                <a:lnTo>
                  <a:pt x="321" y="1200"/>
                </a:lnTo>
                <a:lnTo>
                  <a:pt x="474" y="1002"/>
                </a:lnTo>
                <a:lnTo>
                  <a:pt x="633" y="819"/>
                </a:lnTo>
                <a:lnTo>
                  <a:pt x="789" y="717"/>
                </a:lnTo>
                <a:lnTo>
                  <a:pt x="948" y="564"/>
                </a:lnTo>
                <a:lnTo>
                  <a:pt x="1098" y="498"/>
                </a:lnTo>
                <a:lnTo>
                  <a:pt x="1263" y="441"/>
                </a:lnTo>
                <a:lnTo>
                  <a:pt x="1419" y="411"/>
                </a:lnTo>
                <a:lnTo>
                  <a:pt x="1578" y="372"/>
                </a:lnTo>
                <a:lnTo>
                  <a:pt x="1734" y="342"/>
                </a:lnTo>
                <a:lnTo>
                  <a:pt x="1896" y="315"/>
                </a:lnTo>
                <a:lnTo>
                  <a:pt x="2040" y="270"/>
                </a:lnTo>
                <a:lnTo>
                  <a:pt x="2202" y="222"/>
                </a:lnTo>
                <a:lnTo>
                  <a:pt x="2367" y="216"/>
                </a:lnTo>
                <a:lnTo>
                  <a:pt x="2520" y="150"/>
                </a:lnTo>
                <a:lnTo>
                  <a:pt x="2691" y="84"/>
                </a:lnTo>
                <a:cubicBezTo>
                  <a:pt x="2734" y="69"/>
                  <a:pt x="2736" y="62"/>
                  <a:pt x="2760" y="48"/>
                </a:cubicBezTo>
                <a:cubicBezTo>
                  <a:pt x="2784" y="34"/>
                  <a:pt x="2822" y="10"/>
                  <a:pt x="2838" y="0"/>
                </a:cubicBezTo>
              </a:path>
            </a:pathLst>
          </a:custGeom>
          <a:noFill/>
          <a:ln w="19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8" name=""/>
          <p:cNvSpPr/>
          <p:nvPr/>
        </p:nvSpPr>
        <p:spPr>
          <a:xfrm>
            <a:off x="3924360" y="5021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9" name=""/>
          <p:cNvSpPr/>
          <p:nvPr/>
        </p:nvSpPr>
        <p:spPr>
          <a:xfrm>
            <a:off x="4178160" y="4875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4422600" y="457668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1" name=""/>
          <p:cNvSpPr/>
          <p:nvPr/>
        </p:nvSpPr>
        <p:spPr>
          <a:xfrm>
            <a:off x="4667400" y="42973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2" name=""/>
          <p:cNvSpPr/>
          <p:nvPr/>
        </p:nvSpPr>
        <p:spPr>
          <a:xfrm>
            <a:off x="4921200" y="4056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3" name=""/>
          <p:cNvSpPr/>
          <p:nvPr/>
        </p:nvSpPr>
        <p:spPr>
          <a:xfrm>
            <a:off x="5175360" y="3805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4" name=""/>
          <p:cNvSpPr/>
          <p:nvPr/>
        </p:nvSpPr>
        <p:spPr>
          <a:xfrm>
            <a:off x="5419800" y="3697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5683320" y="3637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5918040" y="357660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6162840" y="35542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8" name=""/>
          <p:cNvSpPr/>
          <p:nvPr/>
        </p:nvSpPr>
        <p:spPr>
          <a:xfrm>
            <a:off x="6416640" y="34653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9" name=""/>
          <p:cNvSpPr/>
          <p:nvPr/>
        </p:nvSpPr>
        <p:spPr>
          <a:xfrm>
            <a:off x="6670800" y="33861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0" name=""/>
          <p:cNvSpPr/>
          <p:nvPr/>
        </p:nvSpPr>
        <p:spPr>
          <a:xfrm>
            <a:off x="6915240" y="33638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1" name=""/>
          <p:cNvSpPr/>
          <p:nvPr/>
        </p:nvSpPr>
        <p:spPr>
          <a:xfrm>
            <a:off x="7159680" y="3274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7413480" y="3176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7667640" y="3030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5921280" y="30272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3191040" y="3048120"/>
            <a:ext cx="4495680" cy="219060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6" name=""/>
          <p:cNvSpPr/>
          <p:nvPr/>
        </p:nvSpPr>
        <p:spPr>
          <a:xfrm>
            <a:off x="1473120" y="3070080"/>
            <a:ext cx="4496040" cy="219096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19080">
            <a:solidFill>
              <a:srgbClr val="ffff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7" name=""/>
          <p:cNvSpPr/>
          <p:nvPr/>
        </p:nvSpPr>
        <p:spPr>
          <a:xfrm>
            <a:off x="3197160" y="3044880"/>
            <a:ext cx="4496040" cy="219060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1908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6" dur="indefinite" restart="never" nodeType="tmRoot">
          <p:childTnLst>
            <p:seq>
              <p:cTn id="1887" dur="indefinite" nodeType="mainSeq">
                <p:childTnLst>
                  <p:par>
                    <p:cTn id="1888" fill="hold">
                      <p:stCondLst>
                        <p:cond delay="indefinite"/>
                      </p:stCondLst>
                      <p:childTnLst>
                        <p:par>
                          <p:cTn id="1889" fill="hold">
                            <p:stCondLst>
                              <p:cond delay="0"/>
                            </p:stCondLst>
                            <p:childTnLst>
                              <p:par>
                                <p:cTn id="1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2" dur="2000"/>
                                        <p:tgtEl>
                                          <p:spTgt spid="2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3" fill="hold">
                      <p:stCondLst>
                        <p:cond delay="indefinite"/>
                      </p:stCondLst>
                      <p:childTnLst>
                        <p:par>
                          <p:cTn id="1894" fill="hold">
                            <p:stCondLst>
                              <p:cond delay="0"/>
                            </p:stCondLst>
                            <p:childTnLst>
                              <p:par>
                                <p:cTn id="18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0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6" fill="hold">
                            <p:stCondLst>
                              <p:cond delay="0"/>
                            </p:stCondLst>
                            <p:childTnLst>
                              <p:par>
                                <p:cTn id="19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8" fill="hold">
                            <p:stCondLst>
                              <p:cond delay="0"/>
                            </p:stCondLst>
                            <p:childTnLst>
                              <p:par>
                                <p:cTn id="19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4" fill="hold">
                            <p:stCondLst>
                              <p:cond delay="0"/>
                            </p:stCondLst>
                            <p:childTnLst>
                              <p:par>
                                <p:cTn id="19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0" fill="hold">
                            <p:stCondLst>
                              <p:cond delay="0"/>
                            </p:stCondLst>
                            <p:childTnLst>
                              <p:par>
                                <p:cTn id="19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8" fill="hold">
                      <p:stCondLst>
                        <p:cond delay="indefinite"/>
                      </p:stCondLst>
                      <p:childTnLst>
                        <p:par>
                          <p:cTn id="1949" fill="hold">
                            <p:stCondLst>
                              <p:cond delay="0"/>
                            </p:stCondLst>
                            <p:childTnLst>
                              <p:par>
                                <p:cTn id="19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2" dur="2000"/>
                                        <p:tgtEl>
                                          <p:spTgt spid="2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3" fill="hold">
                      <p:stCondLst>
                        <p:cond delay="indefinite"/>
                      </p:stCondLst>
                      <p:childTnLst>
                        <p:par>
                          <p:cTn id="1954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7" dur="1000"/>
                                        <p:tgtEl>
                                          <p:spTgt spid="2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fill="hold">
                      <p:stCondLst>
                        <p:cond delay="indefinite"/>
                      </p:stCondLst>
                      <p:childTnLst>
                        <p:par>
                          <p:cTn id="1959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2" fill="hold">
                      <p:stCondLst>
                        <p:cond delay="indefinite"/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6" dur="2000"/>
                                        <p:tgtEl>
                                          <p:spTgt spid="2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7" fill="hold">
                      <p:stCondLst>
                        <p:cond delay="indefinite"/>
                      </p:stCondLst>
                      <p:childTnLst>
                        <p:par>
                          <p:cTn id="1968" fill="hold">
                            <p:stCondLst>
                              <p:cond delay="0"/>
                            </p:stCondLst>
                            <p:childTnLst>
                              <p:par>
                                <p:cTn id="19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fill="hold">
                      <p:stCondLst>
                        <p:cond delay="indefinite"/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9" fill="hold">
                      <p:stCondLst>
                        <p:cond delay="indefinite"/>
                      </p:stCondLst>
                      <p:childTnLst>
                        <p:par>
                          <p:cTn id="2010" fill="hold">
                            <p:stCondLst>
                              <p:cond delay="0"/>
                            </p:stCondLst>
                            <p:childTnLst>
                              <p:par>
                                <p:cTn id="2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3" fill="hold">
                      <p:stCondLst>
                        <p:cond delay="indefinite"/>
                      </p:stCondLst>
                      <p:childTnLst>
                        <p:par>
                          <p:cTn id="2014" fill="hold">
                            <p:stCondLst>
                              <p:cond delay="0"/>
                            </p:stCondLst>
                            <p:childTnLst>
                              <p:par>
                                <p:cTn id="2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1" dur="2000"/>
                                        <p:tgtEl>
                                          <p:spTgt spid="2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2" fill="hold">
                      <p:stCondLst>
                        <p:cond delay="indefinite"/>
                      </p:stCondLst>
                      <p:childTnLst>
                        <p:par>
                          <p:cTn id="2023" fill="hold">
                            <p:stCondLst>
                              <p:cond delay="0"/>
                            </p:stCondLst>
                            <p:childTnLst>
                              <p:par>
                                <p:cTn id="2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6" dur="1000"/>
                                        <p:tgtEl>
                                          <p:spTgt spid="2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7" fill="hold">
                      <p:stCondLst>
                        <p:cond delay="indefinite"/>
                      </p:stCondLst>
                      <p:childTnLst>
                        <p:par>
                          <p:cTn id="2028" fill="hold">
                            <p:stCondLst>
                              <p:cond delay="0"/>
                            </p:stCondLst>
                            <p:childTnLst>
                              <p:par>
                                <p:cTn id="2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1" dur="2000"/>
                                        <p:tgtEl>
                                          <p:spTgt spid="2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219640" y="3543480"/>
            <a:ext cx="93348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3619440"/>
            <a:ext cx="89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219640" y="2857680"/>
            <a:ext cx="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38320" y="360036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2666880"/>
            <a:ext cx="590400" cy="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962520" y="2666520"/>
            <a:ext cx="0" cy="933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14360" y="2857680"/>
            <a:ext cx="0" cy="590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81560" y="3390840"/>
            <a:ext cx="723960" cy="36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753320" y="3390840"/>
            <a:ext cx="723960" cy="3621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43560" y="2467080"/>
            <a:ext cx="723600" cy="36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914560" y="3400560"/>
            <a:ext cx="723960" cy="3618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3381480"/>
            <a:ext cx="723960" cy="361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ACTIVIDADES DISCONTINUAS</a:t>
            </a:r>
            <a:br>
              <a:rPr sz="3200"/>
            </a:br>
            <a:r>
              <a:rPr b="0" lang="es-ES_tradnl" sz="1800" spc="-1" strike="noStrike">
                <a:solidFill>
                  <a:srgbClr val="0000ff"/>
                </a:solidFill>
                <a:latin typeface="Arial"/>
              </a:rPr>
              <a:t>plazo de construcción 25 días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309680" y="2465280"/>
            <a:ext cx="72396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6840" y="247824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9680" y="3384720"/>
            <a:ext cx="723960" cy="371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09680" y="4383000"/>
            <a:ext cx="72396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35440" y="2465280"/>
            <a:ext cx="70308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840" y="24987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35440" y="340344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35440" y="4383000"/>
            <a:ext cx="70308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560840" y="246528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697280" y="2457360"/>
            <a:ext cx="48456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560840" y="3441600"/>
            <a:ext cx="68256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560840" y="4383000"/>
            <a:ext cx="682560" cy="37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83360" y="3403440"/>
            <a:ext cx="7048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48640" y="3394080"/>
            <a:ext cx="703080" cy="371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262160" y="3800520"/>
            <a:ext cx="112680" cy="608040"/>
            <a:chOff x="1262160" y="3800520"/>
            <a:chExt cx="112680" cy="608040"/>
          </a:xfrm>
        </p:grpSpPr>
        <p:sp>
          <p:nvSpPr>
            <p:cNvPr id="81" name=""/>
            <p:cNvSpPr/>
            <p:nvPr/>
          </p:nvSpPr>
          <p:spPr>
            <a:xfrm>
              <a:off x="1262160" y="4251240"/>
              <a:ext cx="112680" cy="157320"/>
            </a:xfrm>
            <a:custGeom>
              <a:avLst/>
              <a:gdLst/>
              <a:ahLst/>
              <a:rect l="l" t="t" r="r" b="b"/>
              <a:pathLst>
                <a:path w="71" h="99">
                  <a:moveTo>
                    <a:pt x="23" y="98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70" y="0"/>
                  </a:lnTo>
                  <a:lnTo>
                    <a:pt x="23" y="9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316160" y="3800520"/>
              <a:ext cx="0" cy="452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"/>
          <p:cNvSpPr/>
          <p:nvPr/>
        </p:nvSpPr>
        <p:spPr>
          <a:xfrm>
            <a:off x="1441800" y="341640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05460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54600" y="438768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73880" y="34369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6200" y="438768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15120" y="341640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2038320" y="2584440"/>
            <a:ext cx="920880" cy="73080"/>
            <a:chOff x="2038320" y="2584440"/>
            <a:chExt cx="920880" cy="73080"/>
          </a:xfrm>
        </p:grpSpPr>
        <p:sp>
          <p:nvSpPr>
            <p:cNvPr id="90" name=""/>
            <p:cNvSpPr/>
            <p:nvPr/>
          </p:nvSpPr>
          <p:spPr>
            <a:xfrm>
              <a:off x="2782800" y="2584440"/>
              <a:ext cx="176400" cy="73080"/>
            </a:xfrm>
            <a:custGeom>
              <a:avLst/>
              <a:gdLst/>
              <a:ahLst/>
              <a:rect l="l" t="t" r="r" b="b"/>
              <a:pathLst>
                <a:path w="111" h="46">
                  <a:moveTo>
                    <a:pt x="110" y="11"/>
                  </a:moveTo>
                  <a:lnTo>
                    <a:pt x="0" y="45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1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038320" y="2617920"/>
              <a:ext cx="74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664080" y="2563920"/>
            <a:ext cx="920520" cy="73080"/>
            <a:chOff x="3664080" y="2563920"/>
            <a:chExt cx="920520" cy="73080"/>
          </a:xfrm>
        </p:grpSpPr>
        <p:sp>
          <p:nvSpPr>
            <p:cNvPr id="93" name=""/>
            <p:cNvSpPr/>
            <p:nvPr/>
          </p:nvSpPr>
          <p:spPr>
            <a:xfrm>
              <a:off x="4365720" y="2563920"/>
              <a:ext cx="218880" cy="73080"/>
            </a:xfrm>
            <a:custGeom>
              <a:avLst/>
              <a:gdLst/>
              <a:ahLst/>
              <a:rect l="l" t="t" r="r" b="b"/>
              <a:pathLst>
                <a:path w="138" h="46">
                  <a:moveTo>
                    <a:pt x="137" y="22"/>
                  </a:moveTo>
                  <a:lnTo>
                    <a:pt x="0" y="45"/>
                  </a:lnTo>
                  <a:lnTo>
                    <a:pt x="0" y="22"/>
                  </a:lnTo>
                  <a:lnTo>
                    <a:pt x="0" y="0"/>
                  </a:lnTo>
                  <a:lnTo>
                    <a:pt x="137" y="2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664080" y="2617920"/>
              <a:ext cx="703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664080" y="3543480"/>
            <a:ext cx="879480" cy="93600"/>
            <a:chOff x="3664080" y="3543480"/>
            <a:chExt cx="879480" cy="93600"/>
          </a:xfrm>
        </p:grpSpPr>
        <p:sp>
          <p:nvSpPr>
            <p:cNvPr id="96" name=""/>
            <p:cNvSpPr/>
            <p:nvPr/>
          </p:nvSpPr>
          <p:spPr>
            <a:xfrm>
              <a:off x="4344840" y="3543480"/>
              <a:ext cx="198720" cy="93600"/>
            </a:xfrm>
            <a:custGeom>
              <a:avLst/>
              <a:gdLst/>
              <a:ahLst/>
              <a:rect l="l" t="t" r="r" b="b"/>
              <a:pathLst>
                <a:path w="125" h="59">
                  <a:moveTo>
                    <a:pt x="124" y="35"/>
                  </a:moveTo>
                  <a:lnTo>
                    <a:pt x="0" y="58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4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664080" y="3619440"/>
              <a:ext cx="6825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38320" y="4522680"/>
            <a:ext cx="879480" cy="93600"/>
            <a:chOff x="2038320" y="4522680"/>
            <a:chExt cx="879480" cy="93600"/>
          </a:xfrm>
        </p:grpSpPr>
        <p:sp>
          <p:nvSpPr>
            <p:cNvPr id="99" name=""/>
            <p:cNvSpPr/>
            <p:nvPr/>
          </p:nvSpPr>
          <p:spPr>
            <a:xfrm>
              <a:off x="2698920" y="4522680"/>
              <a:ext cx="218880" cy="93600"/>
            </a:xfrm>
            <a:custGeom>
              <a:avLst/>
              <a:gdLst/>
              <a:ahLst/>
              <a:rect l="l" t="t" r="r" b="b"/>
              <a:pathLst>
                <a:path w="138" h="59">
                  <a:moveTo>
                    <a:pt x="137" y="11"/>
                  </a:moveTo>
                  <a:lnTo>
                    <a:pt x="0" y="58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7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38320" y="455616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3684600" y="4522680"/>
            <a:ext cx="858960" cy="114480"/>
            <a:chOff x="3684600" y="4522680"/>
            <a:chExt cx="858960" cy="114480"/>
          </a:xfrm>
        </p:grpSpPr>
        <p:sp>
          <p:nvSpPr>
            <p:cNvPr id="102" name=""/>
            <p:cNvSpPr/>
            <p:nvPr/>
          </p:nvSpPr>
          <p:spPr>
            <a:xfrm>
              <a:off x="4344840" y="4522680"/>
              <a:ext cx="198720" cy="114480"/>
            </a:xfrm>
            <a:custGeom>
              <a:avLst/>
              <a:gdLst/>
              <a:ahLst/>
              <a:rect l="l" t="t" r="r" b="b"/>
              <a:pathLst>
                <a:path w="125" h="72">
                  <a:moveTo>
                    <a:pt x="124" y="36"/>
                  </a:moveTo>
                  <a:lnTo>
                    <a:pt x="0" y="71"/>
                  </a:lnTo>
                  <a:lnTo>
                    <a:pt x="0" y="36"/>
                  </a:lnTo>
                  <a:lnTo>
                    <a:pt x="0" y="0"/>
                  </a:lnTo>
                  <a:lnTo>
                    <a:pt x="124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684600" y="4599000"/>
              <a:ext cx="66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2398680" y="2611440"/>
            <a:ext cx="0" cy="9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2371680" y="3481560"/>
            <a:ext cx="566640" cy="91800"/>
            <a:chOff x="2371680" y="3481560"/>
            <a:chExt cx="566640" cy="91800"/>
          </a:xfrm>
        </p:grpSpPr>
        <p:sp>
          <p:nvSpPr>
            <p:cNvPr id="106" name=""/>
            <p:cNvSpPr/>
            <p:nvPr/>
          </p:nvSpPr>
          <p:spPr>
            <a:xfrm>
              <a:off x="2719440" y="3481560"/>
              <a:ext cx="218880" cy="91800"/>
            </a:xfrm>
            <a:custGeom>
              <a:avLst/>
              <a:gdLst/>
              <a:ahLst/>
              <a:rect l="l" t="t" r="r" b="b"/>
              <a:pathLst>
                <a:path w="138" h="58">
                  <a:moveTo>
                    <a:pt x="137" y="11"/>
                  </a:moveTo>
                  <a:lnTo>
                    <a:pt x="0" y="5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37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71680" y="351468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371680" y="3668760"/>
            <a:ext cx="566640" cy="93600"/>
            <a:chOff x="2371680" y="3668760"/>
            <a:chExt cx="566640" cy="93600"/>
          </a:xfrm>
        </p:grpSpPr>
        <p:sp>
          <p:nvSpPr>
            <p:cNvPr id="109" name=""/>
            <p:cNvSpPr/>
            <p:nvPr/>
          </p:nvSpPr>
          <p:spPr>
            <a:xfrm>
              <a:off x="2719440" y="3668760"/>
              <a:ext cx="218880" cy="93600"/>
            </a:xfrm>
            <a:custGeom>
              <a:avLst/>
              <a:gdLst/>
              <a:ahLst/>
              <a:rect l="l" t="t" r="r" b="b"/>
              <a:pathLst>
                <a:path w="138" h="59">
                  <a:moveTo>
                    <a:pt x="137" y="34"/>
                  </a:moveTo>
                  <a:lnTo>
                    <a:pt x="0" y="58"/>
                  </a:lnTo>
                  <a:lnTo>
                    <a:pt x="0" y="34"/>
                  </a:lnTo>
                  <a:lnTo>
                    <a:pt x="0" y="0"/>
                  </a:lnTo>
                  <a:lnTo>
                    <a:pt x="137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71680" y="3743280"/>
              <a:ext cx="34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 flipV="1">
            <a:off x="2378160" y="3703680"/>
            <a:ext cx="0" cy="853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963960" y="2654280"/>
            <a:ext cx="0" cy="95256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24360" y="2673360"/>
            <a:ext cx="660240" cy="0"/>
          </a:xfrm>
          <a:prstGeom prst="line">
            <a:avLst/>
          </a:prstGeom>
          <a:ln w="38160">
            <a:solidFill>
              <a:srgbClr val="fc012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41560" y="3780000"/>
            <a:ext cx="0" cy="349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935440" y="4160880"/>
            <a:ext cx="723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595680" y="4154400"/>
            <a:ext cx="92160" cy="231840"/>
            <a:chOff x="3595680" y="4154400"/>
            <a:chExt cx="92160" cy="231840"/>
          </a:xfrm>
        </p:grpSpPr>
        <p:sp>
          <p:nvSpPr>
            <p:cNvPr id="117" name=""/>
            <p:cNvSpPr/>
            <p:nvPr/>
          </p:nvSpPr>
          <p:spPr>
            <a:xfrm>
              <a:off x="3595680" y="4230720"/>
              <a:ext cx="92160" cy="155520"/>
            </a:xfrm>
            <a:custGeom>
              <a:avLst/>
              <a:gdLst/>
              <a:ahLst/>
              <a:rect l="l" t="t" r="r" b="b"/>
              <a:pathLst>
                <a:path w="58" h="98">
                  <a:moveTo>
                    <a:pt x="23" y="97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57" y="0"/>
                  </a:lnTo>
                  <a:lnTo>
                    <a:pt x="23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649680" y="4154400"/>
              <a:ext cx="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491000" y="3780000"/>
            <a:ext cx="114480" cy="606240"/>
            <a:chOff x="4491000" y="3780000"/>
            <a:chExt cx="114480" cy="606240"/>
          </a:xfrm>
        </p:grpSpPr>
        <p:sp>
          <p:nvSpPr>
            <p:cNvPr id="120" name=""/>
            <p:cNvSpPr/>
            <p:nvPr/>
          </p:nvSpPr>
          <p:spPr>
            <a:xfrm>
              <a:off x="4491000" y="4230720"/>
              <a:ext cx="114480" cy="155520"/>
            </a:xfrm>
            <a:custGeom>
              <a:avLst/>
              <a:gdLst/>
              <a:ahLst/>
              <a:rect l="l" t="t" r="r" b="b"/>
              <a:pathLst>
                <a:path w="72" h="98">
                  <a:moveTo>
                    <a:pt x="36" y="97"/>
                  </a:moveTo>
                  <a:lnTo>
                    <a:pt x="0" y="0"/>
                  </a:lnTo>
                  <a:lnTo>
                    <a:pt x="36" y="0"/>
                  </a:lnTo>
                  <a:lnTo>
                    <a:pt x="71" y="0"/>
                  </a:lnTo>
                  <a:lnTo>
                    <a:pt x="36" y="9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67320" y="3780000"/>
              <a:ext cx="0" cy="45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5234040" y="3639960"/>
            <a:ext cx="376200" cy="917640"/>
          </a:xfrm>
          <a:custGeom>
            <a:avLst/>
            <a:gdLst/>
            <a:ahLst/>
            <a:rect l="l" t="t" r="r" b="b"/>
            <a:pathLst>
              <a:path w="237" h="578">
                <a:moveTo>
                  <a:pt x="0" y="577"/>
                </a:moveTo>
                <a:lnTo>
                  <a:pt x="236" y="577"/>
                </a:lnTo>
                <a:lnTo>
                  <a:pt x="23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602320" y="3606840"/>
            <a:ext cx="587520" cy="92160"/>
            <a:chOff x="5602320" y="3606840"/>
            <a:chExt cx="587520" cy="92160"/>
          </a:xfrm>
        </p:grpSpPr>
        <p:sp>
          <p:nvSpPr>
            <p:cNvPr id="124" name=""/>
            <p:cNvSpPr/>
            <p:nvPr/>
          </p:nvSpPr>
          <p:spPr>
            <a:xfrm>
              <a:off x="5991120" y="3606840"/>
              <a:ext cx="198720" cy="92160"/>
            </a:xfrm>
            <a:custGeom>
              <a:avLst/>
              <a:gdLst/>
              <a:ahLst/>
              <a:rect l="l" t="t" r="r" b="b"/>
              <a:pathLst>
                <a:path w="125" h="58">
                  <a:moveTo>
                    <a:pt x="124" y="11"/>
                  </a:moveTo>
                  <a:lnTo>
                    <a:pt x="0" y="57"/>
                  </a:lnTo>
                  <a:lnTo>
                    <a:pt x="0" y="11"/>
                  </a:lnTo>
                  <a:lnTo>
                    <a:pt x="0" y="0"/>
                  </a:lnTo>
                  <a:lnTo>
                    <a:pt x="124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602320" y="3639960"/>
              <a:ext cx="390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7891560" y="3395520"/>
            <a:ext cx="4726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545120" y="2774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4512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543680" y="4713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146760" y="4713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4532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45320" y="279576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789800" y="2774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0744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8880" y="4713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1232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995240" y="37544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95920" y="4357800"/>
            <a:ext cx="2682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227920" y="2941560"/>
            <a:ext cx="268200" cy="271440"/>
            <a:chOff x="5227920" y="2941560"/>
            <a:chExt cx="268200" cy="271440"/>
          </a:xfrm>
        </p:grpSpPr>
        <p:sp>
          <p:nvSpPr>
            <p:cNvPr id="140" name=""/>
            <p:cNvSpPr/>
            <p:nvPr/>
          </p:nvSpPr>
          <p:spPr>
            <a:xfrm>
              <a:off x="5227920" y="294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46640" y="2987640"/>
              <a:ext cx="20340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" name=""/>
          <p:cNvSpPr/>
          <p:nvPr/>
        </p:nvSpPr>
        <p:spPr>
          <a:xfrm>
            <a:off x="3935520" y="4383000"/>
            <a:ext cx="182520" cy="20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8072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3076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1160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648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2744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96416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70000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62952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4852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0720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2620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344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312080" y="22525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158800" y="22525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288320" y="32338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19696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44040" y="419112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31800" y="419112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79708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7340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1780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53080" y="32338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721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41168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7845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4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0356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1764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1541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2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19372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2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412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6844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14612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53952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1576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6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9336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3340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5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3484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50600" y="37544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88064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42480" y="4670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0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10880" y="371628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3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055520" y="371628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8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937880" y="2732040"/>
            <a:ext cx="4010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11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6520" y="2732040"/>
            <a:ext cx="291240" cy="31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500" spc="-1" strike="noStrike">
                <a:solidFill>
                  <a:srgbClr val="000000"/>
                </a:solidFill>
                <a:latin typeface="Geneva"/>
              </a:rPr>
              <a:t>7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454400" y="4351320"/>
            <a:ext cx="4802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9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00320" y="2446200"/>
            <a:ext cx="0" cy="3924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34040" y="3430080"/>
            <a:ext cx="0" cy="39708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613320" y="3613320"/>
            <a:ext cx="366480" cy="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305000" y="2854440"/>
            <a:ext cx="0" cy="51264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8960" y="3557520"/>
            <a:ext cx="912600" cy="0"/>
          </a:xfrm>
          <a:prstGeom prst="line">
            <a:avLst/>
          </a:prstGeom>
          <a:ln w="2844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14960" y="2844720"/>
            <a:ext cx="19080" cy="58896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1322640" y="2941560"/>
            <a:ext cx="268200" cy="271440"/>
            <a:chOff x="1322640" y="2941560"/>
            <a:chExt cx="268200" cy="271440"/>
          </a:xfrm>
        </p:grpSpPr>
        <p:sp>
          <p:nvSpPr>
            <p:cNvPr id="195" name=""/>
            <p:cNvSpPr/>
            <p:nvPr/>
          </p:nvSpPr>
          <p:spPr>
            <a:xfrm>
              <a:off x="1322640" y="2941560"/>
              <a:ext cx="26820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1341360" y="2987640"/>
              <a:ext cx="20340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900840" y="3630600"/>
            <a:ext cx="841320" cy="0"/>
          </a:xfrm>
          <a:prstGeom prst="line">
            <a:avLst/>
          </a:prstGeom>
          <a:ln w="38160">
            <a:solidFill>
              <a:srgbClr val="cf0e3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048040" y="360036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06440" y="336708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27160" y="33735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38320" y="33987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659040" y="33861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60840" y="244008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24320" y="2446200"/>
            <a:ext cx="0" cy="39240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83360" y="33861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75640" y="339264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48640" y="338940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450280" y="3386160"/>
            <a:ext cx="0" cy="3920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295280" y="22669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68360" y="321624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879560" y="32130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895480" y="32194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492360" y="32068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46440" y="22795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67360" y="22669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35680" y="323532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89760" y="317484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24800" y="32004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721640" y="31878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280360" y="32130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7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911240" y="22636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901960" y="22734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08200" y="227016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365120" y="4213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66960" y="421020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9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895480" y="4219560"/>
            <a:ext cx="3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1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378240" y="4216320"/>
            <a:ext cx="295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518000" y="3251160"/>
            <a:ext cx="3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013360" y="4203720"/>
            <a:ext cx="409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572000" y="4210200"/>
            <a:ext cx="31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ff"/>
                </a:solidFill>
                <a:latin typeface="Arial"/>
              </a:rPr>
              <a:t>(1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5600880"/>
            <a:ext cx="689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Camino Crítico: </a:t>
            </a:r>
            <a:r>
              <a:rPr b="1" lang="es-CL" sz="2000" spc="-1" strike="noStrike" u="sng">
                <a:solidFill>
                  <a:srgbClr val="0000ff"/>
                </a:solidFill>
                <a:uFillTx/>
                <a:latin typeface="Arial"/>
              </a:rPr>
              <a:t>Ini. A1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B1, C1, A3, </a:t>
            </a:r>
            <a:r>
              <a:rPr b="1" lang="es-CL" sz="2000" spc="-1" strike="noStrike" u="sng">
                <a:solidFill>
                  <a:srgbClr val="0000ff"/>
                </a:solidFill>
                <a:uFillTx/>
                <a:latin typeface="Arial"/>
              </a:rPr>
              <a:t>TER. C2</a:t>
            </a:r>
            <a:r>
              <a:rPr b="1" lang="es-CL" sz="2000" spc="-1" strike="noStrike">
                <a:solidFill>
                  <a:srgbClr val="0000ff"/>
                </a:solidFill>
                <a:latin typeface="Arial"/>
              </a:rPr>
              <a:t>, C3, C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84280" y="2602080"/>
            <a:ext cx="59040" cy="457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43240" y="4518000"/>
            <a:ext cx="5868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930480" y="3576600"/>
            <a:ext cx="59040" cy="460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009960" y="1714680"/>
            <a:ext cx="3048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ECHAS PREVIST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35160" y="1701720"/>
            <a:ext cx="3048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ECHAS LIMI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041640" y="1689120"/>
            <a:ext cx="30481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FLOTAMIEN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048120" y="1695600"/>
            <a:ext cx="304776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Arial"/>
              </a:rPr>
              <a:t>CAMINO CRIT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400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7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8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0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1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5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6000"/>
                            </p:stCondLst>
                            <p:childTnLst>
                              <p:par>
                                <p:cTn id="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7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8000"/>
                            </p:stCondLst>
                            <p:childTnLst>
                              <p:par>
                                <p:cTn id="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9000"/>
                            </p:stCondLst>
                            <p:childTnLst>
                              <p:par>
                                <p:cTn id="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20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21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200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6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70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8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0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6000"/>
                            </p:stCondLst>
                            <p:childTnLst>
                              <p:par>
                                <p:cTn id="1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7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80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9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2000"/>
                            </p:stCondLst>
                            <p:childTnLst>
                              <p:par>
                                <p:cTn id="14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0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60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90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12000"/>
                            </p:stCondLst>
                            <p:childTnLst>
                              <p:par>
                                <p:cTn id="1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4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16000"/>
                            </p:stCondLst>
                            <p:childTnLst>
                              <p:par>
                                <p:cTn id="1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7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8000"/>
                            </p:stCondLst>
                            <p:childTnLst>
                              <p:par>
                                <p:cTn id="20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30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4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60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70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7500"/>
                            </p:stCondLst>
                            <p:childTnLst>
                              <p:par>
                                <p:cTn id="24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8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9000"/>
                            </p:stCondLst>
                            <p:childTnLst>
                              <p:par>
                                <p:cTn id="24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9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3500"/>
                            </p:stCondLst>
                            <p:childTnLst>
                              <p:par>
                                <p:cTn id="26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4000"/>
                            </p:stCondLst>
                            <p:childTnLst>
                              <p:par>
                                <p:cTn id="27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500"/>
                            </p:stCondLst>
                            <p:childTnLst>
                              <p:par>
                                <p:cTn id="277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6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7500"/>
                            </p:stCondLst>
                            <p:childTnLst>
                              <p:par>
                                <p:cTn id="28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9000"/>
                            </p:stCondLst>
                            <p:childTnLst>
                              <p:par>
                                <p:cTn id="29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20000"/>
                            </p:stCondLst>
                            <p:childTnLst>
                              <p:par>
                                <p:cTn id="29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500"/>
                            </p:stCondLst>
                            <p:childTnLst>
                              <p:par>
                                <p:cTn id="29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15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20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30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"/>
          <p:cNvSpPr/>
          <p:nvPr/>
        </p:nvSpPr>
        <p:spPr>
          <a:xfrm>
            <a:off x="3762360" y="3390840"/>
            <a:ext cx="1752480" cy="723960"/>
          </a:xfrm>
          <a:custGeom>
            <a:avLst/>
            <a:gdLst/>
            <a:ahLst/>
            <a:rect l="l" t="t" r="r" b="b"/>
            <a:pathLst>
              <a:path w="1104" h="456">
                <a:moveTo>
                  <a:pt x="0" y="0"/>
                </a:moveTo>
                <a:lnTo>
                  <a:pt x="1104" y="0"/>
                </a:lnTo>
                <a:lnTo>
                  <a:pt x="1104" y="456"/>
                </a:lnTo>
                <a:lnTo>
                  <a:pt x="936" y="456"/>
                </a:lnTo>
                <a:lnTo>
                  <a:pt x="936" y="168"/>
                </a:lnTo>
                <a:lnTo>
                  <a:pt x="618" y="168"/>
                </a:lnTo>
                <a:lnTo>
                  <a:pt x="618" y="318"/>
                </a:lnTo>
                <a:lnTo>
                  <a:pt x="6" y="318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3267000" y="2933640"/>
            <a:ext cx="2733840" cy="476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3911760" y="3178080"/>
            <a:ext cx="1104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3898800" y="3184560"/>
            <a:ext cx="1104840" cy="212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1752480" y="1467000"/>
            <a:ext cx="4486320" cy="2943000"/>
          </a:xfrm>
          <a:custGeom>
            <a:avLst/>
            <a:gdLst/>
            <a:ahLst/>
            <a:rect l="l" t="t" r="r" b="b"/>
            <a:pathLst>
              <a:path w="2826" h="1854">
                <a:moveTo>
                  <a:pt x="0" y="1854"/>
                </a:moveTo>
                <a:lnTo>
                  <a:pt x="0" y="1386"/>
                </a:lnTo>
                <a:lnTo>
                  <a:pt x="156" y="1386"/>
                </a:lnTo>
                <a:lnTo>
                  <a:pt x="156" y="468"/>
                </a:lnTo>
                <a:lnTo>
                  <a:pt x="312" y="468"/>
                </a:lnTo>
                <a:lnTo>
                  <a:pt x="312" y="0"/>
                </a:lnTo>
                <a:lnTo>
                  <a:pt x="624" y="0"/>
                </a:lnTo>
                <a:lnTo>
                  <a:pt x="624" y="774"/>
                </a:lnTo>
                <a:lnTo>
                  <a:pt x="780" y="762"/>
                </a:lnTo>
                <a:lnTo>
                  <a:pt x="780" y="324"/>
                </a:lnTo>
                <a:lnTo>
                  <a:pt x="948" y="318"/>
                </a:lnTo>
                <a:lnTo>
                  <a:pt x="942" y="1230"/>
                </a:lnTo>
                <a:lnTo>
                  <a:pt x="1272" y="1230"/>
                </a:lnTo>
                <a:lnTo>
                  <a:pt x="1266" y="1536"/>
                </a:lnTo>
                <a:lnTo>
                  <a:pt x="1884" y="1542"/>
                </a:lnTo>
                <a:lnTo>
                  <a:pt x="1884" y="1392"/>
                </a:lnTo>
                <a:lnTo>
                  <a:pt x="2202" y="1392"/>
                </a:lnTo>
                <a:lnTo>
                  <a:pt x="2202" y="1686"/>
                </a:lnTo>
                <a:lnTo>
                  <a:pt x="2364" y="1686"/>
                </a:lnTo>
                <a:lnTo>
                  <a:pt x="2364" y="1242"/>
                </a:lnTo>
                <a:lnTo>
                  <a:pt x="2670" y="1242"/>
                </a:lnTo>
                <a:lnTo>
                  <a:pt x="2670" y="930"/>
                </a:lnTo>
                <a:lnTo>
                  <a:pt x="2826" y="930"/>
                </a:lnTo>
                <a:lnTo>
                  <a:pt x="2826" y="1848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1768320" y="990720"/>
            <a:ext cx="0" cy="341928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201780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226692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251604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2755800" y="1247760"/>
            <a:ext cx="0" cy="316224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301608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326556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3514680" y="1190520"/>
            <a:ext cx="0" cy="32194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376380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401472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264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5133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47624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501336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7" name=""/>
          <p:cNvSpPr/>
          <p:nvPr/>
        </p:nvSpPr>
        <p:spPr>
          <a:xfrm>
            <a:off x="526248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8" name=""/>
          <p:cNvSpPr/>
          <p:nvPr/>
        </p:nvSpPr>
        <p:spPr>
          <a:xfrm>
            <a:off x="551196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9" name=""/>
          <p:cNvSpPr/>
          <p:nvPr/>
        </p:nvSpPr>
        <p:spPr>
          <a:xfrm>
            <a:off x="576108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0" name=""/>
          <p:cNvSpPr/>
          <p:nvPr/>
        </p:nvSpPr>
        <p:spPr>
          <a:xfrm>
            <a:off x="601020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1" name=""/>
          <p:cNvSpPr/>
          <p:nvPr/>
        </p:nvSpPr>
        <p:spPr>
          <a:xfrm>
            <a:off x="6261120" y="1209600"/>
            <a:ext cx="0" cy="32004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2" name=""/>
          <p:cNvSpPr/>
          <p:nvPr/>
        </p:nvSpPr>
        <p:spPr>
          <a:xfrm>
            <a:off x="6510240" y="1228680"/>
            <a:ext cx="0" cy="31813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6759720" y="1228680"/>
            <a:ext cx="0" cy="318132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700884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7259760" y="1238400"/>
            <a:ext cx="0" cy="317160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7508880" y="1247760"/>
            <a:ext cx="0" cy="316224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7758000" y="1209600"/>
            <a:ext cx="0" cy="32004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8007480" y="1219320"/>
            <a:ext cx="0" cy="319068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8258040" y="1200240"/>
            <a:ext cx="0" cy="320976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1774800" y="1236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1774800" y="1479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1774800" y="17226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1774800" y="220680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1774800" y="19652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1774800" y="2449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1774800" y="2692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1774800" y="29354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1774800" y="341964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9" name=""/>
          <p:cNvSpPr/>
          <p:nvPr/>
        </p:nvSpPr>
        <p:spPr>
          <a:xfrm>
            <a:off x="1774800" y="3662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0" name=""/>
          <p:cNvSpPr/>
          <p:nvPr/>
        </p:nvSpPr>
        <p:spPr>
          <a:xfrm>
            <a:off x="1774800" y="3905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1" name=""/>
          <p:cNvSpPr/>
          <p:nvPr/>
        </p:nvSpPr>
        <p:spPr>
          <a:xfrm>
            <a:off x="1774800" y="4148280"/>
            <a:ext cx="6534000" cy="0"/>
          </a:xfrm>
          <a:prstGeom prst="line">
            <a:avLst/>
          </a:prstGeom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2" name=""/>
          <p:cNvSpPr/>
          <p:nvPr/>
        </p:nvSpPr>
        <p:spPr>
          <a:xfrm>
            <a:off x="1774800" y="4390920"/>
            <a:ext cx="670572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3" name=""/>
          <p:cNvSpPr/>
          <p:nvPr/>
        </p:nvSpPr>
        <p:spPr>
          <a:xfrm>
            <a:off x="182556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4" name=""/>
          <p:cNvSpPr/>
          <p:nvPr/>
        </p:nvSpPr>
        <p:spPr>
          <a:xfrm>
            <a:off x="2792520" y="441000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5" name=""/>
          <p:cNvSpPr/>
          <p:nvPr/>
        </p:nvSpPr>
        <p:spPr>
          <a:xfrm>
            <a:off x="4049640" y="441000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6" name=""/>
          <p:cNvSpPr/>
          <p:nvPr/>
        </p:nvSpPr>
        <p:spPr>
          <a:xfrm>
            <a:off x="5265720" y="441000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7" name=""/>
          <p:cNvSpPr/>
          <p:nvPr/>
        </p:nvSpPr>
        <p:spPr>
          <a:xfrm>
            <a:off x="6541920" y="441000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8" name=""/>
          <p:cNvSpPr/>
          <p:nvPr/>
        </p:nvSpPr>
        <p:spPr>
          <a:xfrm>
            <a:off x="7802640" y="441000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9" name=""/>
          <p:cNvSpPr/>
          <p:nvPr/>
        </p:nvSpPr>
        <p:spPr>
          <a:xfrm>
            <a:off x="1558800" y="306396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0" name=""/>
          <p:cNvSpPr/>
          <p:nvPr/>
        </p:nvSpPr>
        <p:spPr>
          <a:xfrm>
            <a:off x="1406520" y="18320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1" name=""/>
          <p:cNvSpPr/>
          <p:nvPr/>
        </p:nvSpPr>
        <p:spPr>
          <a:xfrm>
            <a:off x="1558800" y="4270320"/>
            <a:ext cx="171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2" name=""/>
          <p:cNvSpPr/>
          <p:nvPr/>
        </p:nvSpPr>
        <p:spPr>
          <a:xfrm flipV="1">
            <a:off x="3247920" y="476208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3" name=""/>
          <p:cNvSpPr/>
          <p:nvPr/>
        </p:nvSpPr>
        <p:spPr>
          <a:xfrm>
            <a:off x="3247920" y="4762440"/>
            <a:ext cx="266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4" name=""/>
          <p:cNvSpPr/>
          <p:nvPr/>
        </p:nvSpPr>
        <p:spPr>
          <a:xfrm>
            <a:off x="3247920" y="2943360"/>
            <a:ext cx="2743200" cy="1199880"/>
          </a:xfrm>
          <a:custGeom>
            <a:avLst/>
            <a:gdLst/>
            <a:ahLst/>
            <a:rect l="l" t="t" r="r" b="b"/>
            <a:pathLst>
              <a:path w="1728" h="756">
                <a:moveTo>
                  <a:pt x="0" y="0"/>
                </a:moveTo>
                <a:lnTo>
                  <a:pt x="0" y="312"/>
                </a:lnTo>
                <a:lnTo>
                  <a:pt x="312" y="312"/>
                </a:lnTo>
                <a:lnTo>
                  <a:pt x="312" y="606"/>
                </a:lnTo>
                <a:lnTo>
                  <a:pt x="936" y="606"/>
                </a:lnTo>
                <a:lnTo>
                  <a:pt x="936" y="462"/>
                </a:lnTo>
                <a:lnTo>
                  <a:pt x="1254" y="462"/>
                </a:lnTo>
                <a:lnTo>
                  <a:pt x="1254" y="750"/>
                </a:lnTo>
                <a:lnTo>
                  <a:pt x="1416" y="756"/>
                </a:lnTo>
                <a:lnTo>
                  <a:pt x="1428" y="306"/>
                </a:lnTo>
                <a:lnTo>
                  <a:pt x="1728" y="306"/>
                </a:lnTo>
                <a:lnTo>
                  <a:pt x="1728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5" name=""/>
          <p:cNvSpPr/>
          <p:nvPr/>
        </p:nvSpPr>
        <p:spPr>
          <a:xfrm>
            <a:off x="6189840" y="4552920"/>
            <a:ext cx="2036520" cy="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6" name=""/>
          <p:cNvSpPr/>
          <p:nvPr/>
        </p:nvSpPr>
        <p:spPr>
          <a:xfrm>
            <a:off x="415800" y="5511960"/>
            <a:ext cx="78408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7" name=""/>
          <p:cNvSpPr/>
          <p:nvPr/>
        </p:nvSpPr>
        <p:spPr>
          <a:xfrm>
            <a:off x="384120" y="4768920"/>
            <a:ext cx="787896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8" name=""/>
          <p:cNvSpPr/>
          <p:nvPr/>
        </p:nvSpPr>
        <p:spPr>
          <a:xfrm>
            <a:off x="698400" y="5022720"/>
            <a:ext cx="75646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9" name=""/>
          <p:cNvGrpSpPr/>
          <p:nvPr/>
        </p:nvGrpSpPr>
        <p:grpSpPr>
          <a:xfrm>
            <a:off x="741240" y="4816440"/>
            <a:ext cx="5488200" cy="186120"/>
            <a:chOff x="741240" y="4816440"/>
            <a:chExt cx="5488200" cy="186120"/>
          </a:xfrm>
        </p:grpSpPr>
        <p:sp>
          <p:nvSpPr>
            <p:cNvPr id="2610" name=""/>
            <p:cNvSpPr/>
            <p:nvPr/>
          </p:nvSpPr>
          <p:spPr>
            <a:xfrm>
              <a:off x="181440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20797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308320" y="4816440"/>
              <a:ext cx="20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471760" y="4816440"/>
              <a:ext cx="315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28209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3022560" y="4816440"/>
              <a:ext cx="22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3324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357192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383868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408456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43322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457992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482616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08320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338800" y="48164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605560" y="48164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85144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6099120" y="48164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741240" y="481968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Neces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29" name=""/>
          <p:cNvSpPr/>
          <p:nvPr/>
        </p:nvSpPr>
        <p:spPr>
          <a:xfrm>
            <a:off x="2324160" y="3257640"/>
            <a:ext cx="46656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Út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0" name=""/>
          <p:cNvSpPr/>
          <p:nvPr/>
        </p:nvSpPr>
        <p:spPr>
          <a:xfrm>
            <a:off x="1523880" y="781200"/>
            <a:ext cx="590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Ca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1" name=""/>
          <p:cNvSpPr/>
          <p:nvPr/>
        </p:nvSpPr>
        <p:spPr>
          <a:xfrm>
            <a:off x="8420040" y="4159080"/>
            <a:ext cx="5907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2" name=""/>
          <p:cNvSpPr/>
          <p:nvPr/>
        </p:nvSpPr>
        <p:spPr>
          <a:xfrm>
            <a:off x="2457360" y="343080"/>
            <a:ext cx="4819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NECESIDAD DE RECURSOS REUTILIZAB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33" name=""/>
          <p:cNvGrpSpPr/>
          <p:nvPr/>
        </p:nvGrpSpPr>
        <p:grpSpPr>
          <a:xfrm>
            <a:off x="741240" y="5556240"/>
            <a:ext cx="7234200" cy="195480"/>
            <a:chOff x="741240" y="5556240"/>
            <a:chExt cx="7234200" cy="195480"/>
          </a:xfrm>
        </p:grpSpPr>
        <p:sp>
          <p:nvSpPr>
            <p:cNvPr id="2634" name=""/>
            <p:cNvSpPr/>
            <p:nvPr/>
          </p:nvSpPr>
          <p:spPr>
            <a:xfrm>
              <a:off x="3828960" y="55688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407520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432288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4514760" y="5568840"/>
              <a:ext cx="23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4780080" y="5568840"/>
              <a:ext cx="2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037120" y="556884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292720" y="556884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595840" y="55688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84208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608976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633744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585120" y="55688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840360" y="556884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706284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731052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7558200" y="55688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7845480" y="556884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741240" y="555624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Neces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3602160" y="555624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53" name=""/>
          <p:cNvSpPr/>
          <p:nvPr/>
        </p:nvSpPr>
        <p:spPr>
          <a:xfrm>
            <a:off x="3533760" y="1447920"/>
            <a:ext cx="4487760" cy="2962080"/>
          </a:xfrm>
          <a:custGeom>
            <a:avLst/>
            <a:gdLst/>
            <a:ahLst/>
            <a:rect l="l" t="t" r="r" b="b"/>
            <a:pathLst>
              <a:path w="2827" h="1866">
                <a:moveTo>
                  <a:pt x="0" y="1866"/>
                </a:moveTo>
                <a:lnTo>
                  <a:pt x="6" y="1386"/>
                </a:lnTo>
                <a:lnTo>
                  <a:pt x="132" y="1392"/>
                </a:lnTo>
                <a:lnTo>
                  <a:pt x="138" y="1236"/>
                </a:lnTo>
                <a:lnTo>
                  <a:pt x="300" y="1242"/>
                </a:lnTo>
                <a:lnTo>
                  <a:pt x="306" y="1674"/>
                </a:lnTo>
                <a:lnTo>
                  <a:pt x="456" y="1680"/>
                </a:lnTo>
                <a:lnTo>
                  <a:pt x="462" y="930"/>
                </a:lnTo>
                <a:lnTo>
                  <a:pt x="630" y="936"/>
                </a:lnTo>
                <a:lnTo>
                  <a:pt x="609" y="0"/>
                </a:lnTo>
                <a:lnTo>
                  <a:pt x="936" y="6"/>
                </a:lnTo>
                <a:lnTo>
                  <a:pt x="936" y="306"/>
                </a:lnTo>
                <a:lnTo>
                  <a:pt x="1239" y="312"/>
                </a:lnTo>
                <a:lnTo>
                  <a:pt x="1251" y="1074"/>
                </a:lnTo>
                <a:lnTo>
                  <a:pt x="1416" y="1068"/>
                </a:lnTo>
                <a:lnTo>
                  <a:pt x="1416" y="1524"/>
                </a:lnTo>
                <a:lnTo>
                  <a:pt x="1869" y="1536"/>
                </a:lnTo>
                <a:lnTo>
                  <a:pt x="1869" y="1374"/>
                </a:lnTo>
                <a:lnTo>
                  <a:pt x="2187" y="1374"/>
                </a:lnTo>
                <a:lnTo>
                  <a:pt x="2187" y="1692"/>
                </a:lnTo>
                <a:lnTo>
                  <a:pt x="2343" y="1692"/>
                </a:lnTo>
                <a:lnTo>
                  <a:pt x="2343" y="1224"/>
                </a:lnTo>
                <a:lnTo>
                  <a:pt x="2676" y="1218"/>
                </a:lnTo>
                <a:lnTo>
                  <a:pt x="2670" y="948"/>
                </a:lnTo>
                <a:lnTo>
                  <a:pt x="2826" y="942"/>
                </a:lnTo>
                <a:lnTo>
                  <a:pt x="2827" y="1845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54" name=""/>
          <p:cNvGrpSpPr/>
          <p:nvPr/>
        </p:nvGrpSpPr>
        <p:grpSpPr>
          <a:xfrm>
            <a:off x="554040" y="5131080"/>
            <a:ext cx="5787000" cy="486720"/>
            <a:chOff x="554040" y="5131080"/>
            <a:chExt cx="5787000" cy="486720"/>
          </a:xfrm>
        </p:grpSpPr>
        <p:sp>
          <p:nvSpPr>
            <p:cNvPr id="2655" name=""/>
            <p:cNvSpPr/>
            <p:nvPr/>
          </p:nvSpPr>
          <p:spPr>
            <a:xfrm>
              <a:off x="554040" y="5294520"/>
              <a:ext cx="1114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6" name=""/>
            <p:cNvSpPr/>
            <p:nvPr/>
          </p:nvSpPr>
          <p:spPr>
            <a:xfrm rot="18627600">
              <a:off x="178596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7" name=""/>
            <p:cNvSpPr/>
            <p:nvPr/>
          </p:nvSpPr>
          <p:spPr>
            <a:xfrm rot="18627600">
              <a:off x="20620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8" name=""/>
            <p:cNvSpPr/>
            <p:nvPr/>
          </p:nvSpPr>
          <p:spPr>
            <a:xfrm rot="18627600">
              <a:off x="22906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9" name=""/>
            <p:cNvSpPr/>
            <p:nvPr/>
          </p:nvSpPr>
          <p:spPr>
            <a:xfrm rot="18627600">
              <a:off x="255744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0" name=""/>
            <p:cNvSpPr/>
            <p:nvPr/>
          </p:nvSpPr>
          <p:spPr>
            <a:xfrm rot="18627600">
              <a:off x="280512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1" name=""/>
            <p:cNvSpPr/>
            <p:nvPr/>
          </p:nvSpPr>
          <p:spPr>
            <a:xfrm rot="18627600">
              <a:off x="303192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2" name=""/>
            <p:cNvSpPr/>
            <p:nvPr/>
          </p:nvSpPr>
          <p:spPr>
            <a:xfrm rot="18627600">
              <a:off x="33004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3" name=""/>
            <p:cNvSpPr/>
            <p:nvPr/>
          </p:nvSpPr>
          <p:spPr>
            <a:xfrm rot="18627600">
              <a:off x="3556080" y="52765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4" name=""/>
            <p:cNvSpPr/>
            <p:nvPr/>
          </p:nvSpPr>
          <p:spPr>
            <a:xfrm rot="18627600">
              <a:off x="3803760" y="52765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5" name=""/>
            <p:cNvSpPr/>
            <p:nvPr/>
          </p:nvSpPr>
          <p:spPr>
            <a:xfrm rot="18627600">
              <a:off x="40510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6" name=""/>
            <p:cNvSpPr/>
            <p:nvPr/>
          </p:nvSpPr>
          <p:spPr>
            <a:xfrm rot="18627600">
              <a:off x="430668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7" name=""/>
            <p:cNvSpPr/>
            <p:nvPr/>
          </p:nvSpPr>
          <p:spPr>
            <a:xfrm rot="18627600">
              <a:off x="4581360" y="52768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8" name=""/>
            <p:cNvSpPr/>
            <p:nvPr/>
          </p:nvSpPr>
          <p:spPr>
            <a:xfrm rot="18627600">
              <a:off x="4748040" y="523080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rot="18627600">
              <a:off x="5026680" y="5222160"/>
              <a:ext cx="32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rot="18627600">
              <a:off x="5290200" y="5238000"/>
              <a:ext cx="29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1" name=""/>
            <p:cNvSpPr/>
            <p:nvPr/>
          </p:nvSpPr>
          <p:spPr>
            <a:xfrm rot="18627600">
              <a:off x="5590440" y="521892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2" name=""/>
            <p:cNvSpPr/>
            <p:nvPr/>
          </p:nvSpPr>
          <p:spPr>
            <a:xfrm rot="18627600">
              <a:off x="5814000" y="5272920"/>
              <a:ext cx="2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3" name=""/>
            <p:cNvSpPr/>
            <p:nvPr/>
          </p:nvSpPr>
          <p:spPr>
            <a:xfrm rot="18627600">
              <a:off x="6045120" y="5249880"/>
              <a:ext cx="27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754200" y="5330880"/>
              <a:ext cx="1038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Directo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75" name=""/>
          <p:cNvSpPr/>
          <p:nvPr/>
        </p:nvSpPr>
        <p:spPr>
          <a:xfrm>
            <a:off x="378000" y="6289560"/>
            <a:ext cx="78786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701640" y="577224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560520" y="5786280"/>
            <a:ext cx="11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78" name=""/>
          <p:cNvGrpSpPr/>
          <p:nvPr/>
        </p:nvGrpSpPr>
        <p:grpSpPr>
          <a:xfrm>
            <a:off x="744480" y="5942520"/>
            <a:ext cx="7394400" cy="385560"/>
            <a:chOff x="744480" y="5942520"/>
            <a:chExt cx="7394400" cy="385560"/>
          </a:xfrm>
        </p:grpSpPr>
        <p:sp>
          <p:nvSpPr>
            <p:cNvPr id="2679" name=""/>
            <p:cNvSpPr/>
            <p:nvPr/>
          </p:nvSpPr>
          <p:spPr>
            <a:xfrm rot="18627600">
              <a:off x="6996960" y="6059880"/>
              <a:ext cx="307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0" name=""/>
            <p:cNvSpPr/>
            <p:nvPr/>
          </p:nvSpPr>
          <p:spPr>
            <a:xfrm rot="18627600">
              <a:off x="7275240" y="6046560"/>
              <a:ext cx="30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 rot="18627600">
              <a:off x="7509240" y="6053760"/>
              <a:ext cx="29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1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 rot="18627600">
              <a:off x="7810200" y="6029640"/>
              <a:ext cx="314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 rot="18627600">
              <a:off x="3841560" y="60260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rot="18627600">
              <a:off x="4089240" y="60354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 rot="18627600">
              <a:off x="431784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rot="18627600">
              <a:off x="45925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2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rot="18627600">
              <a:off x="48211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rot="18627600">
              <a:off x="5086440" y="605412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5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rot="18627600">
              <a:off x="533376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 rot="18627600">
              <a:off x="556236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rot="18627600">
              <a:off x="58291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7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rot="18627600">
              <a:off x="608472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7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rot="18627600">
              <a:off x="633240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8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rot="18627600">
              <a:off x="658008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9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rot="18627600">
              <a:off x="6794280" y="60544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9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 rot="18627600">
              <a:off x="3619440" y="602604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44480" y="604692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Costo Directo 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98" name=""/>
          <p:cNvSpPr/>
          <p:nvPr/>
        </p:nvSpPr>
        <p:spPr>
          <a:xfrm rot="16200000">
            <a:off x="241920" y="5043600"/>
            <a:ext cx="628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EMP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1752480" y="440064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762200" y="317988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 rot="16200000">
            <a:off x="234000" y="5826240"/>
            <a:ext cx="638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TARDI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2771640" y="1952640"/>
            <a:ext cx="238320" cy="733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717480" y="526428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717480" y="6016680"/>
            <a:ext cx="75549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399960" y="4753080"/>
            <a:ext cx="0" cy="1542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701640" y="4749840"/>
            <a:ext cx="0" cy="1542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07" name=""/>
          <p:cNvGrpSpPr/>
          <p:nvPr/>
        </p:nvGrpSpPr>
        <p:grpSpPr>
          <a:xfrm>
            <a:off x="712800" y="5057640"/>
            <a:ext cx="5516280" cy="186120"/>
            <a:chOff x="712800" y="5057640"/>
            <a:chExt cx="5516280" cy="186120"/>
          </a:xfrm>
        </p:grpSpPr>
        <p:grpSp>
          <p:nvGrpSpPr>
            <p:cNvPr id="2708" name=""/>
            <p:cNvGrpSpPr/>
            <p:nvPr/>
          </p:nvGrpSpPr>
          <p:grpSpPr>
            <a:xfrm>
              <a:off x="1814400" y="5057640"/>
              <a:ext cx="4414680" cy="182880"/>
              <a:chOff x="1814400" y="5057640"/>
              <a:chExt cx="4414680" cy="182880"/>
            </a:xfrm>
          </p:grpSpPr>
          <p:sp>
            <p:nvSpPr>
              <p:cNvPr id="2709" name=""/>
              <p:cNvSpPr/>
              <p:nvPr/>
            </p:nvSpPr>
            <p:spPr>
              <a:xfrm>
                <a:off x="181440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07936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9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2307960" y="5057640"/>
                <a:ext cx="204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2471760" y="5057640"/>
                <a:ext cx="3157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2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2763720" y="5057640"/>
                <a:ext cx="282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3022560" y="5057640"/>
                <a:ext cx="222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332424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357192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3838320" y="505764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408456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433224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4579920" y="5057640"/>
                <a:ext cx="128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482580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5083200" y="5057640"/>
                <a:ext cx="128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533880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5605200" y="5057640"/>
                <a:ext cx="128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5851440" y="5057640"/>
                <a:ext cx="130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6099120" y="5057640"/>
                <a:ext cx="12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2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27" name=""/>
            <p:cNvSpPr/>
            <p:nvPr/>
          </p:nvSpPr>
          <p:spPr>
            <a:xfrm>
              <a:off x="712800" y="5060880"/>
              <a:ext cx="11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Disponibil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28" name=""/>
          <p:cNvGrpSpPr/>
          <p:nvPr/>
        </p:nvGrpSpPr>
        <p:grpSpPr>
          <a:xfrm>
            <a:off x="700200" y="5791320"/>
            <a:ext cx="7262640" cy="195480"/>
            <a:chOff x="700200" y="5791320"/>
            <a:chExt cx="7262640" cy="195480"/>
          </a:xfrm>
        </p:grpSpPr>
        <p:sp>
          <p:nvSpPr>
            <p:cNvPr id="2729" name=""/>
            <p:cNvSpPr/>
            <p:nvPr/>
          </p:nvSpPr>
          <p:spPr>
            <a:xfrm>
              <a:off x="3816360" y="580392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406224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430992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4502160" y="5803920"/>
              <a:ext cx="239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4767120" y="5803920"/>
              <a:ext cx="252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5024520" y="5803920"/>
              <a:ext cx="203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5280120" y="5803920"/>
              <a:ext cx="17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558324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5829480" y="580392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07680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32448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572160" y="5803920"/>
              <a:ext cx="128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82776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7050240" y="580392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7297560" y="5803920"/>
              <a:ext cx="13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7545240" y="58039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7832880" y="5803920"/>
              <a:ext cx="12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700200" y="5791320"/>
              <a:ext cx="1152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Disponibilidad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3589200" y="5791320"/>
              <a:ext cx="12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48" name=""/>
          <p:cNvSpPr/>
          <p:nvPr/>
        </p:nvSpPr>
        <p:spPr>
          <a:xfrm>
            <a:off x="2768760" y="437832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4060800" y="439416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5257800" y="440064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6512040" y="439740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7756560" y="4394160"/>
            <a:ext cx="0" cy="1895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8258040" y="4390920"/>
            <a:ext cx="0" cy="1895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2311560" y="3254400"/>
            <a:ext cx="466560" cy="2127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4019400" y="3419640"/>
            <a:ext cx="238320" cy="6858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5781600" y="3619440"/>
            <a:ext cx="723960" cy="26676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7010280" y="3619440"/>
            <a:ext cx="247680" cy="514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5537160" y="2943360"/>
            <a:ext cx="2247840" cy="676080"/>
          </a:xfrm>
          <a:custGeom>
            <a:avLst/>
            <a:gdLst/>
            <a:ahLst/>
            <a:rect l="l" t="t" r="r" b="b"/>
            <a:pathLst>
              <a:path w="1416" h="426">
                <a:moveTo>
                  <a:pt x="0" y="0"/>
                </a:moveTo>
                <a:lnTo>
                  <a:pt x="12" y="138"/>
                </a:lnTo>
                <a:lnTo>
                  <a:pt x="168" y="126"/>
                </a:lnTo>
                <a:lnTo>
                  <a:pt x="168" y="426"/>
                </a:lnTo>
                <a:lnTo>
                  <a:pt x="1092" y="426"/>
                </a:lnTo>
                <a:lnTo>
                  <a:pt x="1092" y="288"/>
                </a:lnTo>
                <a:lnTo>
                  <a:pt x="1416" y="288"/>
                </a:lnTo>
                <a:lnTo>
                  <a:pt x="1416" y="18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4572000" y="3390840"/>
            <a:ext cx="888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Uti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1781280" y="1454040"/>
            <a:ext cx="4473360" cy="2936880"/>
          </a:xfrm>
          <a:custGeom>
            <a:avLst/>
            <a:gdLst/>
            <a:ahLst/>
            <a:rect l="l" t="t" r="r" b="b"/>
            <a:pathLst>
              <a:path w="2818" h="1850">
                <a:moveTo>
                  <a:pt x="0" y="1850"/>
                </a:moveTo>
                <a:lnTo>
                  <a:pt x="6" y="1388"/>
                </a:lnTo>
                <a:lnTo>
                  <a:pt x="148" y="1386"/>
                </a:lnTo>
                <a:lnTo>
                  <a:pt x="148" y="468"/>
                </a:lnTo>
                <a:lnTo>
                  <a:pt x="304" y="468"/>
                </a:lnTo>
                <a:lnTo>
                  <a:pt x="304" y="0"/>
                </a:lnTo>
                <a:lnTo>
                  <a:pt x="616" y="0"/>
                </a:lnTo>
                <a:lnTo>
                  <a:pt x="616" y="774"/>
                </a:lnTo>
                <a:lnTo>
                  <a:pt x="778" y="774"/>
                </a:lnTo>
                <a:lnTo>
                  <a:pt x="778" y="318"/>
                </a:lnTo>
                <a:lnTo>
                  <a:pt x="940" y="318"/>
                </a:lnTo>
                <a:lnTo>
                  <a:pt x="934" y="1230"/>
                </a:lnTo>
                <a:lnTo>
                  <a:pt x="1252" y="1230"/>
                </a:lnTo>
                <a:lnTo>
                  <a:pt x="1258" y="1542"/>
                </a:lnTo>
                <a:lnTo>
                  <a:pt x="1876" y="1542"/>
                </a:lnTo>
                <a:lnTo>
                  <a:pt x="1876" y="1392"/>
                </a:lnTo>
                <a:lnTo>
                  <a:pt x="2194" y="1392"/>
                </a:lnTo>
                <a:lnTo>
                  <a:pt x="2194" y="1686"/>
                </a:lnTo>
                <a:lnTo>
                  <a:pt x="2356" y="1686"/>
                </a:lnTo>
                <a:lnTo>
                  <a:pt x="2356" y="1242"/>
                </a:lnTo>
                <a:lnTo>
                  <a:pt x="2662" y="1242"/>
                </a:lnTo>
                <a:lnTo>
                  <a:pt x="2662" y="930"/>
                </a:lnTo>
                <a:lnTo>
                  <a:pt x="2818" y="930"/>
                </a:lnTo>
                <a:lnTo>
                  <a:pt x="2818" y="1848"/>
                </a:lnTo>
              </a:path>
            </a:pathLst>
          </a:custGeom>
          <a:noFill/>
          <a:ln w="381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3524400" y="1447920"/>
            <a:ext cx="4502160" cy="2952720"/>
          </a:xfrm>
          <a:custGeom>
            <a:avLst/>
            <a:gdLst/>
            <a:ahLst/>
            <a:rect l="l" t="t" r="r" b="b"/>
            <a:pathLst>
              <a:path w="2836" h="1860">
                <a:moveTo>
                  <a:pt x="0" y="1860"/>
                </a:moveTo>
                <a:lnTo>
                  <a:pt x="6" y="1398"/>
                </a:lnTo>
                <a:lnTo>
                  <a:pt x="150" y="1398"/>
                </a:lnTo>
                <a:lnTo>
                  <a:pt x="150" y="1242"/>
                </a:lnTo>
                <a:lnTo>
                  <a:pt x="306" y="1242"/>
                </a:lnTo>
                <a:lnTo>
                  <a:pt x="312" y="1680"/>
                </a:lnTo>
                <a:lnTo>
                  <a:pt x="462" y="1680"/>
                </a:lnTo>
                <a:lnTo>
                  <a:pt x="456" y="942"/>
                </a:lnTo>
                <a:lnTo>
                  <a:pt x="624" y="936"/>
                </a:lnTo>
                <a:lnTo>
                  <a:pt x="616" y="4"/>
                </a:lnTo>
                <a:lnTo>
                  <a:pt x="948" y="0"/>
                </a:lnTo>
                <a:lnTo>
                  <a:pt x="948" y="300"/>
                </a:lnTo>
                <a:lnTo>
                  <a:pt x="1260" y="318"/>
                </a:lnTo>
                <a:lnTo>
                  <a:pt x="1258" y="1078"/>
                </a:lnTo>
                <a:lnTo>
                  <a:pt x="1422" y="1074"/>
                </a:lnTo>
                <a:lnTo>
                  <a:pt x="1416" y="1536"/>
                </a:lnTo>
                <a:lnTo>
                  <a:pt x="1876" y="1540"/>
                </a:lnTo>
                <a:lnTo>
                  <a:pt x="1876" y="1378"/>
                </a:lnTo>
                <a:lnTo>
                  <a:pt x="2194" y="1378"/>
                </a:lnTo>
                <a:lnTo>
                  <a:pt x="2194" y="1696"/>
                </a:lnTo>
                <a:lnTo>
                  <a:pt x="2350" y="1696"/>
                </a:lnTo>
                <a:lnTo>
                  <a:pt x="2350" y="1228"/>
                </a:lnTo>
                <a:lnTo>
                  <a:pt x="2676" y="1236"/>
                </a:lnTo>
                <a:lnTo>
                  <a:pt x="2664" y="948"/>
                </a:lnTo>
                <a:lnTo>
                  <a:pt x="2836" y="937"/>
                </a:lnTo>
                <a:lnTo>
                  <a:pt x="2836" y="1851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4508640" y="3403440"/>
            <a:ext cx="1104840" cy="213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Disponib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3276720" y="297180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3251160" y="2933640"/>
            <a:ext cx="2997360" cy="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4495680" y="3403440"/>
            <a:ext cx="1105200" cy="21276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4" dur="indefinite" restart="never" nodeType="tmRoot">
          <p:childTnLst>
            <p:seq>
              <p:cTn id="2035" dur="indefinite" nodeType="mainSeq">
                <p:childTnLst>
                  <p:par>
                    <p:cTn id="2036" fill="hold">
                      <p:stCondLst>
                        <p:cond delay="indefinite"/>
                      </p:stCondLst>
                      <p:childTnLst>
                        <p:par>
                          <p:cTn id="2037" fill="hold">
                            <p:stCondLst>
                              <p:cond delay="0"/>
                            </p:stCondLst>
                            <p:childTnLst>
                              <p:par>
                                <p:cTn id="20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0" fill="hold">
                            <p:stCondLst>
                              <p:cond delay="0"/>
                            </p:stCondLst>
                            <p:childTnLst>
                              <p:par>
                                <p:cTn id="20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3" dur="3000"/>
                                        <p:tgtEl>
                                          <p:spTgt spid="2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7" dur="8000"/>
                                        <p:tgtEl>
                                          <p:spTgt spid="2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8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0"/>
                                        <p:tgtEl>
                                          <p:spTgt spid="2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fill="hold">
                      <p:stCondLst>
                        <p:cond delay="indefinite"/>
                      </p:stCondLst>
                      <p:childTnLst>
                        <p:par>
                          <p:cTn id="2053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6" fill="hold">
                      <p:stCondLst>
                        <p:cond delay="indefinite"/>
                      </p:stCondLst>
                      <p:childTnLst>
                        <p:par>
                          <p:cTn id="2057" fill="hold">
                            <p:stCondLst>
                              <p:cond delay="0"/>
                            </p:stCondLst>
                            <p:childTnLst>
                              <p:par>
                                <p:cTn id="20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0" dur="2000"/>
                                        <p:tgtEl>
                                          <p:spTgt spid="2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1" fill="hold">
                      <p:stCondLst>
                        <p:cond delay="indefinite"/>
                      </p:stCondLst>
                      <p:childTnLst>
                        <p:par>
                          <p:cTn id="2062" fill="hold">
                            <p:stCondLst>
                              <p:cond delay="0"/>
                            </p:stCondLst>
                            <p:childTnLst>
                              <p:par>
                                <p:cTn id="2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5" dur="2000"/>
                                        <p:tgtEl>
                                          <p:spTgt spid="2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6" fill="hold">
                      <p:stCondLst>
                        <p:cond delay="indefinite"/>
                      </p:stCondLst>
                      <p:childTnLst>
                        <p:par>
                          <p:cTn id="2067" fill="hold">
                            <p:stCondLst>
                              <p:cond delay="0"/>
                            </p:stCondLst>
                            <p:childTnLst>
                              <p:par>
                                <p:cTn id="20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0" dur="2000"/>
                                        <p:tgtEl>
                                          <p:spTgt spid="2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fill="hold">
                      <p:stCondLst>
                        <p:cond delay="indefinite"/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5" fill="hold">
                            <p:stCondLst>
                              <p:cond delay="0"/>
                            </p:stCondLst>
                            <p:childTnLst>
                              <p:par>
                                <p:cTn id="20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8" fill="hold">
                      <p:stCondLst>
                        <p:cond delay="indefinite"/>
                      </p:stCondLst>
                      <p:childTnLst>
                        <p:par>
                          <p:cTn id="2079" fill="hold">
                            <p:stCondLst>
                              <p:cond delay="0"/>
                            </p:stCondLst>
                            <p:childTnLst>
                              <p:par>
                                <p:cTn id="2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2" dur="5000"/>
                                        <p:tgtEl>
                                          <p:spTgt spid="2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fill="hold">
                      <p:stCondLst>
                        <p:cond delay="indefinite"/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0"/>
                                        <p:tgtEl>
                                          <p:spTgt spid="2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8" fill="hold">
                      <p:stCondLst>
                        <p:cond delay="indefinite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fill="hold">
                            <p:stCondLst>
                              <p:cond delay="0"/>
                            </p:stCondLst>
                            <p:childTnLst>
                              <p:par>
                                <p:cTn id="20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5" fill="hold">
                            <p:stCondLst>
                              <p:cond delay="0"/>
                            </p:stCondLst>
                            <p:childTnLst>
                              <p:par>
                                <p:cTn id="20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2" dur="2000"/>
                                        <p:tgtEl>
                                          <p:spTgt spid="2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6" dur="5000"/>
                                        <p:tgtEl>
                                          <p:spTgt spid="2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0" dur="5000"/>
                                        <p:tgtEl>
                                          <p:spTgt spid="2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1" fill="hold">
                      <p:stCondLst>
                        <p:cond delay="indefinite"/>
                      </p:stCondLst>
                      <p:childTnLst>
                        <p:par>
                          <p:cTn id="2112" fill="hold">
                            <p:stCondLst>
                              <p:cond delay="0"/>
                            </p:stCondLst>
                            <p:childTnLst>
                              <p:par>
                                <p:cTn id="2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9" dur="10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0" fill="hold">
                      <p:stCondLst>
                        <p:cond delay="indefinite"/>
                      </p:stCondLst>
                      <p:childTnLst>
                        <p:par>
                          <p:cTn id="2121" fill="hold">
                            <p:stCondLst>
                              <p:cond delay="0"/>
                            </p:stCondLst>
                            <p:childTnLst>
                              <p:par>
                                <p:cTn id="2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4" dur="10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7" dur="1000"/>
                                        <p:tgtEl>
                                          <p:spTgt spid="2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8" fill="hold">
                      <p:stCondLst>
                        <p:cond delay="indefinite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2" dur="20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6" fill="hold">
                      <p:stCondLst>
                        <p:cond delay="indefinite"/>
                      </p:stCondLst>
                      <p:childTnLst>
                        <p:par>
                          <p:cTn id="2137" fill="hold">
                            <p:stCondLst>
                              <p:cond delay="0"/>
                            </p:stCondLst>
                            <p:childTnLst>
                              <p:par>
                                <p:cTn id="2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0" dur="2000"/>
                                        <p:tgtEl>
                                          <p:spTgt spid="2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1" fill="hold">
                      <p:stCondLst>
                        <p:cond delay="indefinite"/>
                      </p:stCondLst>
                      <p:childTnLst>
                        <p:par>
                          <p:cTn id="2142" fill="hold">
                            <p:stCondLst>
                              <p:cond delay="0"/>
                            </p:stCondLst>
                            <p:childTnLst>
                              <p:par>
                                <p:cTn id="2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5" dur="2000"/>
                                        <p:tgtEl>
                                          <p:spTgt spid="2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6" fill="hold">
                      <p:stCondLst>
                        <p:cond delay="indefinite"/>
                      </p:stCondLst>
                      <p:childTnLst>
                        <p:par>
                          <p:cTn id="2147" fill="hold">
                            <p:stCondLst>
                              <p:cond delay="0"/>
                            </p:stCondLst>
                            <p:childTnLst>
                              <p:par>
                                <p:cTn id="2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"/>
          <p:cNvSpPr/>
          <p:nvPr/>
        </p:nvSpPr>
        <p:spPr>
          <a:xfrm>
            <a:off x="300204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32511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35002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37512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40006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42498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44989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474984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9989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524844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54975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5756400" y="164772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6002280" y="115740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62467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64962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67453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6996240" y="163836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72453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74944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774396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79945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473120" y="16765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473120" y="19177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1473120" y="216072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1473120" y="240336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1473120" y="2646360"/>
            <a:ext cx="653436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1511280" y="288936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1511280" y="313056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1474920" y="337176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1511280" y="36162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1511280" y="38592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1511280" y="41022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1511280" y="43434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1511280" y="458640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0" name=""/>
          <p:cNvSpPr/>
          <p:nvPr/>
        </p:nvSpPr>
        <p:spPr>
          <a:xfrm>
            <a:off x="1511280" y="48290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1" name=""/>
          <p:cNvSpPr/>
          <p:nvPr/>
        </p:nvSpPr>
        <p:spPr>
          <a:xfrm>
            <a:off x="1511280" y="5072040"/>
            <a:ext cx="65340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2" name=""/>
          <p:cNvSpPr/>
          <p:nvPr/>
        </p:nvSpPr>
        <p:spPr>
          <a:xfrm>
            <a:off x="1482840" y="5315040"/>
            <a:ext cx="68198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3886200" y="5334120"/>
            <a:ext cx="304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5102280" y="5334120"/>
            <a:ext cx="266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6378480" y="5334120"/>
            <a:ext cx="24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7639200" y="5334120"/>
            <a:ext cx="228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7" name=""/>
          <p:cNvGrpSpPr/>
          <p:nvPr/>
        </p:nvGrpSpPr>
        <p:grpSpPr>
          <a:xfrm>
            <a:off x="380880" y="5772240"/>
            <a:ext cx="5836680" cy="433440"/>
            <a:chOff x="380880" y="5772240"/>
            <a:chExt cx="5836680" cy="433440"/>
          </a:xfrm>
        </p:grpSpPr>
        <p:sp>
          <p:nvSpPr>
            <p:cNvPr id="2808" name=""/>
            <p:cNvSpPr/>
            <p:nvPr/>
          </p:nvSpPr>
          <p:spPr>
            <a:xfrm rot="18627600">
              <a:off x="4603320" y="5864040"/>
              <a:ext cx="325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9" name=""/>
            <p:cNvSpPr/>
            <p:nvPr/>
          </p:nvSpPr>
          <p:spPr>
            <a:xfrm rot="18627600">
              <a:off x="165852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0" name=""/>
            <p:cNvSpPr/>
            <p:nvPr/>
          </p:nvSpPr>
          <p:spPr>
            <a:xfrm rot="18627600">
              <a:off x="1935000" y="582084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 rot="18627600">
              <a:off x="2163600" y="582084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 rot="18627600">
              <a:off x="243000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3" name=""/>
            <p:cNvSpPr/>
            <p:nvPr/>
          </p:nvSpPr>
          <p:spPr>
            <a:xfrm rot="18627600">
              <a:off x="267768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4" name=""/>
            <p:cNvSpPr/>
            <p:nvPr/>
          </p:nvSpPr>
          <p:spPr>
            <a:xfrm rot="18627600">
              <a:off x="29048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5" name=""/>
            <p:cNvSpPr/>
            <p:nvPr/>
          </p:nvSpPr>
          <p:spPr>
            <a:xfrm rot="18627600">
              <a:off x="31730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6" name=""/>
            <p:cNvSpPr/>
            <p:nvPr/>
          </p:nvSpPr>
          <p:spPr>
            <a:xfrm rot="18627600">
              <a:off x="34286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7" name=""/>
            <p:cNvSpPr/>
            <p:nvPr/>
          </p:nvSpPr>
          <p:spPr>
            <a:xfrm rot="18627600">
              <a:off x="367632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8" name=""/>
            <p:cNvSpPr/>
            <p:nvPr/>
          </p:nvSpPr>
          <p:spPr>
            <a:xfrm rot="18627600">
              <a:off x="392400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9" name=""/>
            <p:cNvSpPr/>
            <p:nvPr/>
          </p:nvSpPr>
          <p:spPr>
            <a:xfrm rot="18627600">
              <a:off x="418284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0" name=""/>
            <p:cNvSpPr/>
            <p:nvPr/>
          </p:nvSpPr>
          <p:spPr>
            <a:xfrm rot="18627600">
              <a:off x="4454280" y="582120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1" name=""/>
            <p:cNvSpPr/>
            <p:nvPr/>
          </p:nvSpPr>
          <p:spPr>
            <a:xfrm rot="18627600">
              <a:off x="4899240" y="5863320"/>
              <a:ext cx="324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4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2" name=""/>
            <p:cNvSpPr/>
            <p:nvPr/>
          </p:nvSpPr>
          <p:spPr>
            <a:xfrm rot="18627600">
              <a:off x="5159880" y="5853960"/>
              <a:ext cx="295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0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3" name=""/>
            <p:cNvSpPr/>
            <p:nvPr/>
          </p:nvSpPr>
          <p:spPr>
            <a:xfrm rot="18627600">
              <a:off x="5460120" y="580680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6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4" name=""/>
            <p:cNvSpPr/>
            <p:nvPr/>
          </p:nvSpPr>
          <p:spPr>
            <a:xfrm rot="18627600">
              <a:off x="5669280" y="5841000"/>
              <a:ext cx="263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2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5" name=""/>
            <p:cNvSpPr/>
            <p:nvPr/>
          </p:nvSpPr>
          <p:spPr>
            <a:xfrm rot="18627600">
              <a:off x="5921280" y="5844600"/>
              <a:ext cx="274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8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380880" y="5823000"/>
              <a:ext cx="102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PREV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27" name=""/>
          <p:cNvSpPr/>
          <p:nvPr/>
        </p:nvSpPr>
        <p:spPr>
          <a:xfrm>
            <a:off x="255600" y="646128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223920" y="614376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266760" y="5711760"/>
            <a:ext cx="7878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641600" y="5295960"/>
            <a:ext cx="0" cy="110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231840" y="5707080"/>
            <a:ext cx="0" cy="7272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189216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21430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239400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26449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28954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1464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33973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364824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38988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414972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440064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46512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49021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515304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540396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565452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590544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615636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64072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665784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690876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7159680" y="5295960"/>
            <a:ext cx="0" cy="1149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74106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7661160" y="5295960"/>
            <a:ext cx="0" cy="116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791208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8163000" y="5295960"/>
            <a:ext cx="0" cy="1133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2979720" y="396072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3232080" y="38052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3486240" y="36450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5978520" y="21938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1467000" y="2209680"/>
            <a:ext cx="4514760" cy="3119400"/>
          </a:xfrm>
          <a:custGeom>
            <a:avLst/>
            <a:gdLst/>
            <a:ahLst/>
            <a:rect l="l" t="t" r="r" b="b"/>
            <a:pathLst>
              <a:path w="2844" h="1965">
                <a:moveTo>
                  <a:pt x="0" y="1965"/>
                </a:moveTo>
                <a:lnTo>
                  <a:pt x="168" y="1917"/>
                </a:lnTo>
                <a:lnTo>
                  <a:pt x="335" y="1796"/>
                </a:lnTo>
                <a:lnTo>
                  <a:pt x="479" y="1611"/>
                </a:lnTo>
                <a:lnTo>
                  <a:pt x="647" y="1410"/>
                </a:lnTo>
                <a:lnTo>
                  <a:pt x="810" y="1260"/>
                </a:lnTo>
                <a:lnTo>
                  <a:pt x="960" y="1116"/>
                </a:lnTo>
                <a:lnTo>
                  <a:pt x="1122" y="1026"/>
                </a:lnTo>
                <a:lnTo>
                  <a:pt x="1272" y="924"/>
                </a:lnTo>
                <a:lnTo>
                  <a:pt x="2844" y="0"/>
                </a:lnTo>
              </a:path>
            </a:pathLst>
          </a:custGeom>
          <a:noFill/>
          <a:ln w="190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3727440" y="51246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4229280" y="48830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5730840" y="3508200"/>
            <a:ext cx="42840" cy="432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3241800" y="5295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3486240" y="52164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5479920" y="36576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4971960" y="40356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5235480" y="37940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4727520" y="42861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4476600" y="45878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7718400" y="23432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3730680" y="34988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3984480" y="335268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4229280" y="32162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4483080" y="306072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4727520" y="2933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4976640" y="2773440"/>
            <a:ext cx="432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5221440" y="2631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5475240" y="24861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5724360" y="2349360"/>
            <a:ext cx="432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5969160" y="3365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7223040" y="26478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6216480" y="3222720"/>
            <a:ext cx="4320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6470640" y="30765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6724800" y="29304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6969240" y="2793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1619280" y="361800"/>
            <a:ext cx="6248520" cy="9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DE BALAN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URVAS “S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(Recursos reutilizables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8185320" y="509904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Tiemp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7467480" y="25020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5848200" y="1847880"/>
            <a:ext cx="362160" cy="24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12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7588080" y="1959120"/>
            <a:ext cx="362160" cy="243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12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94" name=""/>
          <p:cNvGrpSpPr/>
          <p:nvPr/>
        </p:nvGrpSpPr>
        <p:grpSpPr>
          <a:xfrm>
            <a:off x="5981760" y="1187280"/>
            <a:ext cx="1752480" cy="487080"/>
            <a:chOff x="5981760" y="1187280"/>
            <a:chExt cx="1752480" cy="487080"/>
          </a:xfrm>
        </p:grpSpPr>
        <p:sp>
          <p:nvSpPr>
            <p:cNvPr id="2895" name=""/>
            <p:cNvSpPr/>
            <p:nvPr/>
          </p:nvSpPr>
          <p:spPr>
            <a:xfrm flipV="1">
              <a:off x="5981760" y="12949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6" name=""/>
            <p:cNvSpPr/>
            <p:nvPr/>
          </p:nvSpPr>
          <p:spPr>
            <a:xfrm flipV="1">
              <a:off x="7721640" y="1320120"/>
              <a:ext cx="0" cy="228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5981760" y="142848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6483600" y="1187280"/>
              <a:ext cx="104760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ffff00"/>
                  </a:solidFill>
                  <a:latin typeface="Arial"/>
                </a:rPr>
                <a:t>Demora Permitid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99" name=""/>
          <p:cNvSpPr/>
          <p:nvPr/>
        </p:nvSpPr>
        <p:spPr>
          <a:xfrm>
            <a:off x="1486080" y="1371600"/>
            <a:ext cx="0" cy="3962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175428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20034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225252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2502000" y="16574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2752560" y="1628640"/>
            <a:ext cx="0" cy="367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1662120" y="533412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2657520" y="533412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1104840" y="422280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1257480" y="5194440"/>
            <a:ext cx="17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1104840" y="32576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914400" y="227340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1104840" y="470520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1104840" y="3740040"/>
            <a:ext cx="324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914400" y="2755800"/>
            <a:ext cx="5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990720" y="1790640"/>
            <a:ext cx="438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1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2230560" y="470052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1467000" y="529596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1733400" y="520380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1981080" y="500688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9" name=""/>
          <p:cNvSpPr/>
          <p:nvPr/>
        </p:nvSpPr>
        <p:spPr>
          <a:xfrm>
            <a:off x="2482920" y="4427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0" name=""/>
          <p:cNvSpPr/>
          <p:nvPr/>
        </p:nvSpPr>
        <p:spPr>
          <a:xfrm>
            <a:off x="2730600" y="418464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1" name=""/>
          <p:cNvSpPr/>
          <p:nvPr/>
        </p:nvSpPr>
        <p:spPr>
          <a:xfrm>
            <a:off x="1200240" y="1066680"/>
            <a:ext cx="838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00"/>
                </a:solidFill>
                <a:latin typeface="Arial"/>
              </a:rPr>
              <a:t>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379440" y="6085800"/>
            <a:ext cx="7631280" cy="489600"/>
            <a:chOff x="379440" y="6085800"/>
            <a:chExt cx="7631280" cy="489600"/>
          </a:xfrm>
        </p:grpSpPr>
        <p:sp>
          <p:nvSpPr>
            <p:cNvPr id="2923" name=""/>
            <p:cNvSpPr/>
            <p:nvPr/>
          </p:nvSpPr>
          <p:spPr>
            <a:xfrm>
              <a:off x="379440" y="6232680"/>
              <a:ext cx="1025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Costo LIM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 rot="18627600">
              <a:off x="3720600" y="61624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5" name=""/>
            <p:cNvSpPr/>
            <p:nvPr/>
          </p:nvSpPr>
          <p:spPr>
            <a:xfrm rot="18627600">
              <a:off x="396828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6" name=""/>
            <p:cNvSpPr/>
            <p:nvPr/>
          </p:nvSpPr>
          <p:spPr>
            <a:xfrm rot="18627600">
              <a:off x="419688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 rot="18627600">
              <a:off x="44715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 rot="18627600">
              <a:off x="47001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 rot="18627600">
              <a:off x="496548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5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 rot="18627600">
              <a:off x="521280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 rot="18627600">
              <a:off x="544140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6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 rot="18627600">
              <a:off x="57081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 rot="18627600">
              <a:off x="596376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7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 rot="18627600">
              <a:off x="621144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8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 rot="18627600">
              <a:off x="645912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 rot="18627600">
              <a:off x="6670440" y="6191280"/>
              <a:ext cx="210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97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 rot="18627600">
              <a:off x="6981120" y="617652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 rot="18627600">
              <a:off x="7146360" y="6210360"/>
              <a:ext cx="262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09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 rot="18627600">
              <a:off x="7474680" y="6176520"/>
              <a:ext cx="2556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15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 rot="18627600">
              <a:off x="7646760" y="6189480"/>
              <a:ext cx="357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121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 rot="18627600">
              <a:off x="3498480" y="6162480"/>
              <a:ext cx="211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2" name=""/>
          <p:cNvSpPr/>
          <p:nvPr/>
        </p:nvSpPr>
        <p:spPr>
          <a:xfrm>
            <a:off x="3981600" y="5006880"/>
            <a:ext cx="42840" cy="42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3" name=""/>
          <p:cNvSpPr/>
          <p:nvPr/>
        </p:nvSpPr>
        <p:spPr>
          <a:xfrm>
            <a:off x="3257640" y="2362320"/>
            <a:ext cx="4486320" cy="2962080"/>
          </a:xfrm>
          <a:custGeom>
            <a:avLst/>
            <a:gdLst/>
            <a:ahLst/>
            <a:rect l="l" t="t" r="r" b="b"/>
            <a:pathLst>
              <a:path w="2826" h="1866">
                <a:moveTo>
                  <a:pt x="0" y="1866"/>
                </a:moveTo>
                <a:lnTo>
                  <a:pt x="150" y="1800"/>
                </a:lnTo>
                <a:lnTo>
                  <a:pt x="306" y="1752"/>
                </a:lnTo>
                <a:lnTo>
                  <a:pt x="474" y="1674"/>
                </a:lnTo>
                <a:lnTo>
                  <a:pt x="618" y="1602"/>
                </a:lnTo>
                <a:lnTo>
                  <a:pt x="942" y="1230"/>
                </a:lnTo>
                <a:lnTo>
                  <a:pt x="1080" y="1068"/>
                </a:lnTo>
                <a:lnTo>
                  <a:pt x="1260" y="912"/>
                </a:lnTo>
                <a:lnTo>
                  <a:pt x="2826" y="0"/>
                </a:lnTo>
              </a:path>
            </a:pathLst>
          </a:custGeom>
          <a:noFill/>
          <a:ln w="19080">
            <a:solidFill>
              <a:srgbClr val="ff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44" name=""/>
          <p:cNvGrpSpPr/>
          <p:nvPr/>
        </p:nvGrpSpPr>
        <p:grpSpPr>
          <a:xfrm>
            <a:off x="1422360" y="4775040"/>
            <a:ext cx="1838160" cy="549360"/>
            <a:chOff x="1422360" y="4775040"/>
            <a:chExt cx="1838160" cy="549360"/>
          </a:xfrm>
        </p:grpSpPr>
        <p:sp>
          <p:nvSpPr>
            <p:cNvPr id="2945" name=""/>
            <p:cNvSpPr/>
            <p:nvPr/>
          </p:nvSpPr>
          <p:spPr>
            <a:xfrm flipH="1">
              <a:off x="3257280" y="4876560"/>
              <a:ext cx="3240" cy="447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1482840" y="4987800"/>
              <a:ext cx="1752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1422360" y="4775040"/>
              <a:ext cx="1800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200" spc="-1" strike="noStrike">
                  <a:solidFill>
                    <a:srgbClr val="ffff00"/>
                  </a:solidFill>
                  <a:latin typeface="Arial"/>
                </a:rPr>
                <a:t>Demora  </a:t>
              </a:r>
              <a:r>
                <a:rPr b="0" lang="es-CL" sz="1200" spc="-1" strike="noStrike">
                  <a:solidFill>
                    <a:srgbClr val="ffff00"/>
                  </a:solidFill>
                  <a:latin typeface="Arial"/>
                </a:rPr>
                <a:t>Permitida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48" name=""/>
          <p:cNvSpPr/>
          <p:nvPr/>
        </p:nvSpPr>
        <p:spPr>
          <a:xfrm rot="20051400">
            <a:off x="3660840" y="289512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S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9" name=""/>
          <p:cNvSpPr/>
          <p:nvPr/>
        </p:nvSpPr>
        <p:spPr>
          <a:xfrm rot="19855200">
            <a:off x="3452760" y="304452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empran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0" name=""/>
          <p:cNvSpPr/>
          <p:nvPr/>
        </p:nvSpPr>
        <p:spPr>
          <a:xfrm rot="18952800">
            <a:off x="4145040" y="3965040"/>
            <a:ext cx="118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00"/>
                </a:solidFill>
                <a:latin typeface="Arial"/>
              </a:rPr>
              <a:t>Mas tardí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1" name=""/>
          <p:cNvSpPr/>
          <p:nvPr/>
        </p:nvSpPr>
        <p:spPr>
          <a:xfrm rot="18952800">
            <a:off x="4226040" y="3866760"/>
            <a:ext cx="609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ffff00"/>
                </a:solidFill>
                <a:latin typeface="Arial"/>
              </a:rPr>
              <a:t>AL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2" name=""/>
          <p:cNvSpPr/>
          <p:nvPr/>
        </p:nvSpPr>
        <p:spPr>
          <a:xfrm>
            <a:off x="2727360" y="42624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3" name=""/>
          <p:cNvSpPr/>
          <p:nvPr/>
        </p:nvSpPr>
        <p:spPr>
          <a:xfrm>
            <a:off x="2981160" y="401148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4" name=""/>
          <p:cNvSpPr/>
          <p:nvPr/>
        </p:nvSpPr>
        <p:spPr>
          <a:xfrm>
            <a:off x="3225960" y="39132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>
            <a:off x="3479760" y="3814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6" name=""/>
          <p:cNvSpPr/>
          <p:nvPr/>
        </p:nvSpPr>
        <p:spPr>
          <a:xfrm>
            <a:off x="3724200" y="3773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3987720" y="3713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4238640" y="3664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4479840" y="3624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4734000" y="3544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4978440" y="34750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2" name=""/>
          <p:cNvSpPr/>
          <p:nvPr/>
        </p:nvSpPr>
        <p:spPr>
          <a:xfrm>
            <a:off x="5232240" y="346248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3" name=""/>
          <p:cNvSpPr/>
          <p:nvPr/>
        </p:nvSpPr>
        <p:spPr>
          <a:xfrm rot="20837400">
            <a:off x="5476680" y="33541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4" name=""/>
          <p:cNvSpPr/>
          <p:nvPr/>
        </p:nvSpPr>
        <p:spPr>
          <a:xfrm rot="20837400">
            <a:off x="5740200" y="3255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1476360" y="5038560"/>
            <a:ext cx="514440" cy="285840"/>
          </a:xfrm>
          <a:custGeom>
            <a:avLst/>
            <a:gdLst/>
            <a:ahLst/>
            <a:rect l="l" t="t" r="r" b="b"/>
            <a:pathLst>
              <a:path w="324" h="180">
                <a:moveTo>
                  <a:pt x="0" y="180"/>
                </a:moveTo>
                <a:lnTo>
                  <a:pt x="174" y="120"/>
                </a:lnTo>
                <a:lnTo>
                  <a:pt x="324" y="0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1495440" y="3143160"/>
            <a:ext cx="4505400" cy="2181240"/>
          </a:xfrm>
          <a:custGeom>
            <a:avLst/>
            <a:gdLst/>
            <a:ahLst/>
            <a:rect l="l" t="t" r="r" b="b"/>
            <a:pathLst>
              <a:path w="2838" h="1374">
                <a:moveTo>
                  <a:pt x="0" y="1374"/>
                </a:moveTo>
                <a:lnTo>
                  <a:pt x="165" y="1317"/>
                </a:lnTo>
                <a:lnTo>
                  <a:pt x="321" y="1200"/>
                </a:lnTo>
                <a:lnTo>
                  <a:pt x="474" y="1002"/>
                </a:lnTo>
                <a:lnTo>
                  <a:pt x="633" y="819"/>
                </a:lnTo>
                <a:lnTo>
                  <a:pt x="789" y="717"/>
                </a:lnTo>
                <a:lnTo>
                  <a:pt x="948" y="564"/>
                </a:lnTo>
                <a:lnTo>
                  <a:pt x="1098" y="498"/>
                </a:lnTo>
                <a:lnTo>
                  <a:pt x="1263" y="441"/>
                </a:lnTo>
                <a:lnTo>
                  <a:pt x="1419" y="411"/>
                </a:lnTo>
                <a:lnTo>
                  <a:pt x="1578" y="372"/>
                </a:lnTo>
                <a:lnTo>
                  <a:pt x="1734" y="342"/>
                </a:lnTo>
                <a:lnTo>
                  <a:pt x="1896" y="315"/>
                </a:lnTo>
                <a:lnTo>
                  <a:pt x="2040" y="270"/>
                </a:lnTo>
                <a:lnTo>
                  <a:pt x="2202" y="222"/>
                </a:lnTo>
                <a:lnTo>
                  <a:pt x="2367" y="216"/>
                </a:lnTo>
                <a:lnTo>
                  <a:pt x="2520" y="150"/>
                </a:lnTo>
                <a:lnTo>
                  <a:pt x="2691" y="84"/>
                </a:lnTo>
                <a:cubicBezTo>
                  <a:pt x="2734" y="69"/>
                  <a:pt x="2736" y="62"/>
                  <a:pt x="2760" y="48"/>
                </a:cubicBezTo>
                <a:cubicBezTo>
                  <a:pt x="2784" y="34"/>
                  <a:pt x="2822" y="10"/>
                  <a:pt x="2838" y="0"/>
                </a:cubicBez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7" name=""/>
          <p:cNvSpPr/>
          <p:nvPr/>
        </p:nvSpPr>
        <p:spPr>
          <a:xfrm>
            <a:off x="3981600" y="5097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8" name=""/>
          <p:cNvSpPr/>
          <p:nvPr/>
        </p:nvSpPr>
        <p:spPr>
          <a:xfrm>
            <a:off x="4235400" y="49514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9" name=""/>
          <p:cNvSpPr/>
          <p:nvPr/>
        </p:nvSpPr>
        <p:spPr>
          <a:xfrm>
            <a:off x="4479840" y="46530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0" name=""/>
          <p:cNvSpPr/>
          <p:nvPr/>
        </p:nvSpPr>
        <p:spPr>
          <a:xfrm>
            <a:off x="4724280" y="43736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1" name=""/>
          <p:cNvSpPr/>
          <p:nvPr/>
        </p:nvSpPr>
        <p:spPr>
          <a:xfrm>
            <a:off x="4978440" y="41324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2" name=""/>
          <p:cNvSpPr/>
          <p:nvPr/>
        </p:nvSpPr>
        <p:spPr>
          <a:xfrm>
            <a:off x="5232240" y="3881520"/>
            <a:ext cx="4320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3" name=""/>
          <p:cNvSpPr/>
          <p:nvPr/>
        </p:nvSpPr>
        <p:spPr>
          <a:xfrm>
            <a:off x="5477040" y="37735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4" name=""/>
          <p:cNvSpPr/>
          <p:nvPr/>
        </p:nvSpPr>
        <p:spPr>
          <a:xfrm>
            <a:off x="5740560" y="37130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5" name=""/>
          <p:cNvSpPr/>
          <p:nvPr/>
        </p:nvSpPr>
        <p:spPr>
          <a:xfrm>
            <a:off x="5975280" y="365292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6" name=""/>
          <p:cNvSpPr/>
          <p:nvPr/>
        </p:nvSpPr>
        <p:spPr>
          <a:xfrm>
            <a:off x="6219720" y="36306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7" name=""/>
          <p:cNvSpPr/>
          <p:nvPr/>
        </p:nvSpPr>
        <p:spPr>
          <a:xfrm>
            <a:off x="6473880" y="35416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8" name=""/>
          <p:cNvSpPr/>
          <p:nvPr/>
        </p:nvSpPr>
        <p:spPr>
          <a:xfrm>
            <a:off x="6727680" y="346248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9" name=""/>
          <p:cNvSpPr/>
          <p:nvPr/>
        </p:nvSpPr>
        <p:spPr>
          <a:xfrm>
            <a:off x="6972480" y="34401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0" name=""/>
          <p:cNvSpPr/>
          <p:nvPr/>
        </p:nvSpPr>
        <p:spPr>
          <a:xfrm>
            <a:off x="7216920" y="335124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1" name=""/>
          <p:cNvSpPr/>
          <p:nvPr/>
        </p:nvSpPr>
        <p:spPr>
          <a:xfrm>
            <a:off x="7470720" y="32529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2" name=""/>
          <p:cNvSpPr/>
          <p:nvPr/>
        </p:nvSpPr>
        <p:spPr>
          <a:xfrm>
            <a:off x="7724880" y="310680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3" name=""/>
          <p:cNvSpPr/>
          <p:nvPr/>
        </p:nvSpPr>
        <p:spPr>
          <a:xfrm>
            <a:off x="5978520" y="3103560"/>
            <a:ext cx="42840" cy="428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4" name=""/>
          <p:cNvSpPr/>
          <p:nvPr/>
        </p:nvSpPr>
        <p:spPr>
          <a:xfrm>
            <a:off x="3247920" y="3133800"/>
            <a:ext cx="4496040" cy="2190600"/>
          </a:xfrm>
          <a:custGeom>
            <a:avLst/>
            <a:gdLst/>
            <a:ahLst/>
            <a:rect l="l" t="t" r="r" b="b"/>
            <a:pathLst>
              <a:path w="2832" h="1380">
                <a:moveTo>
                  <a:pt x="0" y="1380"/>
                </a:moveTo>
                <a:lnTo>
                  <a:pt x="156" y="1320"/>
                </a:lnTo>
                <a:lnTo>
                  <a:pt x="312" y="1278"/>
                </a:lnTo>
                <a:lnTo>
                  <a:pt x="474" y="1248"/>
                </a:lnTo>
                <a:lnTo>
                  <a:pt x="636" y="1158"/>
                </a:lnTo>
                <a:lnTo>
                  <a:pt x="786" y="978"/>
                </a:lnTo>
                <a:lnTo>
                  <a:pt x="942" y="798"/>
                </a:lnTo>
                <a:lnTo>
                  <a:pt x="1098" y="642"/>
                </a:lnTo>
                <a:lnTo>
                  <a:pt x="1260" y="504"/>
                </a:lnTo>
                <a:lnTo>
                  <a:pt x="1422" y="420"/>
                </a:lnTo>
                <a:lnTo>
                  <a:pt x="1584" y="384"/>
                </a:lnTo>
                <a:lnTo>
                  <a:pt x="1734" y="342"/>
                </a:lnTo>
                <a:lnTo>
                  <a:pt x="1890" y="330"/>
                </a:lnTo>
                <a:lnTo>
                  <a:pt x="2046" y="270"/>
                </a:lnTo>
                <a:lnTo>
                  <a:pt x="2208" y="222"/>
                </a:lnTo>
                <a:lnTo>
                  <a:pt x="2364" y="210"/>
                </a:lnTo>
                <a:lnTo>
                  <a:pt x="2520" y="150"/>
                </a:lnTo>
                <a:lnTo>
                  <a:pt x="2670" y="96"/>
                </a:lnTo>
                <a:lnTo>
                  <a:pt x="2832" y="0"/>
                </a:lnTo>
              </a:path>
            </a:pathLst>
          </a:custGeom>
          <a:noFill/>
          <a:ln w="936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0" dur="indefinite" restart="never" nodeType="tmRoot">
          <p:childTnLst>
            <p:seq>
              <p:cTn id="2151" dur="indefinite" nodeType="mainSeq">
                <p:childTnLst>
                  <p:par>
                    <p:cTn id="2152" fill="hold">
                      <p:stCondLst>
                        <p:cond delay="indefinite"/>
                      </p:stCondLst>
                      <p:childTnLst>
                        <p:par>
                          <p:cTn id="2153" fill="hold">
                            <p:stCondLst>
                              <p:cond delay="0"/>
                            </p:stCondLst>
                            <p:childTnLst>
                              <p:par>
                                <p:cTn id="2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6" dur="20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7" fill="hold">
                      <p:stCondLst>
                        <p:cond delay="indefinite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1" fill="hold">
                            <p:stCondLst>
                              <p:cond delay="0"/>
                            </p:stCondLst>
                            <p:childTnLst>
                              <p:par>
                                <p:cTn id="216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17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6" fill="hold">
                            <p:stCondLst>
                              <p:cond delay="5000"/>
                            </p:stCondLst>
                            <p:childTnLst>
                              <p:par>
                                <p:cTn id="217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9" fill="hold">
                            <p:stCondLst>
                              <p:cond delay="6000"/>
                            </p:stCondLst>
                            <p:childTnLst>
                              <p:par>
                                <p:cTn id="218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18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218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8" fill="hold">
                            <p:stCondLst>
                              <p:cond delay="9000"/>
                            </p:stCondLst>
                            <p:childTnLst>
                              <p:par>
                                <p:cTn id="218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19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9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7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9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0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0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3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0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6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9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1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2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1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5" fill="hold">
                      <p:stCondLst>
                        <p:cond delay="indefinite"/>
                      </p:stCondLst>
                      <p:childTnLst>
                        <p:par>
                          <p:cTn id="2216" fill="hold">
                            <p:stCondLst>
                              <p:cond delay="0"/>
                            </p:stCondLst>
                            <p:childTnLst>
                              <p:par>
                                <p:cTn id="22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9" dur="2000"/>
                                        <p:tgtEl>
                                          <p:spTgt spid="2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4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25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6" dur="250" autoRev="1" fill="hold"/>
                                        <p:tgtEl>
                                          <p:spTgt spid="28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7" fill="hold">
                      <p:stCondLst>
                        <p:cond delay="indefinite"/>
                      </p:stCondLst>
                      <p:childTnLst>
                        <p:par>
                          <p:cTn id="2228" fill="hold">
                            <p:stCondLst>
                              <p:cond delay="0"/>
                            </p:stCondLst>
                            <p:childTnLst>
                              <p:par>
                                <p:cTn id="2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1" dur="1000"/>
                                        <p:tgtEl>
                                          <p:spTgt spid="2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5" fill="hold">
                      <p:stCondLst>
                        <p:cond delay="indefinite"/>
                      </p:stCondLst>
                      <p:childTnLst>
                        <p:par>
                          <p:cTn id="2236" fill="hold">
                            <p:stCondLst>
                              <p:cond delay="0"/>
                            </p:stCondLst>
                            <p:childTnLst>
                              <p:par>
                                <p:cTn id="2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9" dur="2000"/>
                                        <p:tgtEl>
                                          <p:spTgt spid="2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0" fill="hold">
                      <p:stCondLst>
                        <p:cond delay="indefinite"/>
                      </p:stCondLst>
                      <p:childTnLst>
                        <p:par>
                          <p:cTn id="2241" fill="hold">
                            <p:stCondLst>
                              <p:cond delay="0"/>
                            </p:stCondLst>
                            <p:childTnLst>
                              <p:par>
                                <p:cTn id="2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4" fill="hold">
                            <p:stCondLst>
                              <p:cond delay="0"/>
                            </p:stCondLst>
                            <p:childTnLst>
                              <p:par>
                                <p:cTn id="224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4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5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6" fill="hold">
                            <p:stCondLst>
                              <p:cond delay="4000"/>
                            </p:stCondLst>
                            <p:childTnLst>
                              <p:par>
                                <p:cTn id="225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9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2" fill="hold">
                            <p:stCondLst>
                              <p:cond delay="6000"/>
                            </p:stCondLst>
                            <p:childTnLst>
                              <p:par>
                                <p:cTn id="226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5" fill="hold">
                            <p:stCondLst>
                              <p:cond delay="7000"/>
                            </p:stCondLst>
                            <p:childTnLst>
                              <p:par>
                                <p:cTn id="226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8" fill="hold">
                            <p:stCondLst>
                              <p:cond delay="8000"/>
                            </p:stCondLst>
                            <p:childTnLst>
                              <p:par>
                                <p:cTn id="226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1" fill="hold">
                            <p:stCondLst>
                              <p:cond delay="9000"/>
                            </p:stCondLst>
                            <p:childTnLst>
                              <p:par>
                                <p:cTn id="227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27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27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28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3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8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28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9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9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2" fill="hold">
                            <p:stCondLst>
                              <p:cond delay="16000"/>
                            </p:stCondLst>
                            <p:childTnLst>
                              <p:par>
                                <p:cTn id="229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5" fill="hold">
                            <p:stCondLst>
                              <p:cond delay="17000"/>
                            </p:stCondLst>
                            <p:childTnLst>
                              <p:par>
                                <p:cTn id="229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8" fill="hold">
                      <p:stCondLst>
                        <p:cond delay="indefinite"/>
                      </p:stCondLst>
                      <p:childTnLst>
                        <p:par>
                          <p:cTn id="2299" fill="hold">
                            <p:stCondLst>
                              <p:cond delay="0"/>
                            </p:stCondLst>
                            <p:childTnLst>
                              <p:par>
                                <p:cTn id="2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2" dur="2000"/>
                                        <p:tgtEl>
                                          <p:spTgt spid="2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7" nodeType="afterEffect" fill="hold" presetClass="emph" presetID="26" repeatCount="300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8" dur="500"/>
                                        <p:tgtEl>
                                          <p:spTgt spid="2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09" dur="250" autoRev="1" fill="hold"/>
                                        <p:tgtEl>
                                          <p:spTgt spid="2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0" fill="hold">
                      <p:stCondLst>
                        <p:cond delay="indefinite"/>
                      </p:stCondLst>
                      <p:childTnLst>
                        <p:par>
                          <p:cTn id="2311" fill="hold">
                            <p:stCondLst>
                              <p:cond delay="0"/>
                            </p:stCondLst>
                            <p:childTnLst>
                              <p:par>
                                <p:cTn id="23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4" dur="500"/>
                                        <p:tgtEl>
                                          <p:spTgt spid="2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500"/>
                            </p:stCondLst>
                            <p:childTnLst>
                              <p:par>
                                <p:cTn id="23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8" fill="hold">
                      <p:stCondLst>
                        <p:cond delay="indefinite"/>
                      </p:stCondLst>
                      <p:childTnLst>
                        <p:par>
                          <p:cTn id="2319" fill="hold">
                            <p:stCondLst>
                              <p:cond delay="0"/>
                            </p:stCondLst>
                            <p:childTnLst>
                              <p:par>
                                <p:cTn id="2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2" dur="2000"/>
                                        <p:tgtEl>
                                          <p:spTgt spid="29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3" fill="hold">
                      <p:stCondLst>
                        <p:cond delay="indefinite"/>
                      </p:stCondLst>
                      <p:childTnLst>
                        <p:par>
                          <p:cTn id="2324" fill="hold">
                            <p:stCondLst>
                              <p:cond delay="0"/>
                            </p:stCondLst>
                            <p:childTnLst>
                              <p:par>
                                <p:cTn id="23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7" dur="1000"/>
                                        <p:tgtEl>
                                          <p:spTgt spid="2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ACTIVIDADES DISCONTINUAS</a:t>
            </a:r>
            <a:br>
              <a:rPr sz="3200"/>
            </a:b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137320" y="1357200"/>
            <a:ext cx="4396320" cy="1715400"/>
            <a:chOff x="2137320" y="1357200"/>
            <a:chExt cx="4396320" cy="1715400"/>
          </a:xfrm>
        </p:grpSpPr>
        <p:sp>
          <p:nvSpPr>
            <p:cNvPr id="241" name=""/>
            <p:cNvSpPr/>
            <p:nvPr/>
          </p:nvSpPr>
          <p:spPr>
            <a:xfrm>
              <a:off x="4490280" y="2145960"/>
              <a:ext cx="514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94600" y="2192400"/>
              <a:ext cx="493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0280" y="1726920"/>
              <a:ext cx="0" cy="325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734920" y="2180880"/>
              <a:ext cx="504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796560" y="1610280"/>
              <a:ext cx="3258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796560" y="1610280"/>
              <a:ext cx="0" cy="570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335320" y="1726920"/>
              <a:ext cx="0" cy="360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021280" y="2052720"/>
              <a:ext cx="399240" cy="221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888520" y="2052720"/>
              <a:ext cx="399240" cy="2210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117320" y="1488240"/>
              <a:ext cx="399240" cy="22104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218400" y="2058480"/>
              <a:ext cx="399240" cy="22104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335320" y="2046960"/>
              <a:ext cx="399240" cy="22104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332800" y="1487160"/>
              <a:ext cx="39924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412000" y="1495080"/>
              <a:ext cx="309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32800" y="2048760"/>
              <a:ext cx="39924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32800" y="2658960"/>
              <a:ext cx="39924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229920" y="1487160"/>
              <a:ext cx="38772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94360" y="1506240"/>
              <a:ext cx="309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229920" y="2060280"/>
              <a:ext cx="38772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29920" y="2658960"/>
              <a:ext cx="38772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127040" y="1487160"/>
              <a:ext cx="37656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203000" y="1482120"/>
              <a:ext cx="309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127040" y="2083680"/>
              <a:ext cx="37656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27040" y="2658960"/>
              <a:ext cx="376560" cy="2268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22360" y="2060280"/>
              <a:ext cx="38880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886000" y="2054520"/>
              <a:ext cx="387720" cy="226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2306520" y="2302920"/>
              <a:ext cx="61920" cy="371520"/>
              <a:chOff x="2306520" y="2302920"/>
              <a:chExt cx="61920" cy="371520"/>
            </a:xfrm>
          </p:grpSpPr>
          <p:sp>
            <p:nvSpPr>
              <p:cNvPr id="268" name=""/>
              <p:cNvSpPr/>
              <p:nvPr/>
            </p:nvSpPr>
            <p:spPr>
              <a:xfrm>
                <a:off x="2306520" y="2578320"/>
                <a:ext cx="61920" cy="96120"/>
              </a:xfrm>
              <a:custGeom>
                <a:avLst/>
                <a:gdLst/>
                <a:ahLst/>
                <a:rect l="l" t="t" r="r" b="b"/>
                <a:pathLst>
                  <a:path w="71" h="99">
                    <a:moveTo>
                      <a:pt x="23" y="98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70" y="0"/>
                    </a:lnTo>
                    <a:lnTo>
                      <a:pt x="23" y="9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336040" y="2302920"/>
                <a:ext cx="0" cy="27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70" name=""/>
            <p:cNvSpPr/>
            <p:nvPr/>
          </p:nvSpPr>
          <p:spPr>
            <a:xfrm>
              <a:off x="2413080" y="206820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296520" y="20574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294000" y="266400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91840" y="20800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00120" y="266400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096880" y="20682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2734920" y="1559880"/>
              <a:ext cx="507960" cy="44640"/>
              <a:chOff x="2734920" y="1559880"/>
              <a:chExt cx="507960" cy="44640"/>
            </a:xfrm>
          </p:grpSpPr>
          <p:sp>
            <p:nvSpPr>
              <p:cNvPr id="277" name=""/>
              <p:cNvSpPr/>
              <p:nvPr/>
            </p:nvSpPr>
            <p:spPr>
              <a:xfrm>
                <a:off x="3145680" y="1559880"/>
                <a:ext cx="97200" cy="44640"/>
              </a:xfrm>
              <a:custGeom>
                <a:avLst/>
                <a:gdLst/>
                <a:ahLst/>
                <a:rect l="l" t="t" r="r" b="b"/>
                <a:pathLst>
                  <a:path w="111" h="46">
                    <a:moveTo>
                      <a:pt x="110" y="11"/>
                    </a:moveTo>
                    <a:lnTo>
                      <a:pt x="0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10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734920" y="1580040"/>
                <a:ext cx="4114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3632040" y="1547280"/>
              <a:ext cx="507600" cy="44640"/>
              <a:chOff x="3632040" y="1547280"/>
              <a:chExt cx="507600" cy="44640"/>
            </a:xfrm>
          </p:grpSpPr>
          <p:sp>
            <p:nvSpPr>
              <p:cNvPr id="280" name=""/>
              <p:cNvSpPr/>
              <p:nvPr/>
            </p:nvSpPr>
            <p:spPr>
              <a:xfrm>
                <a:off x="4019040" y="1547280"/>
                <a:ext cx="120600" cy="44640"/>
              </a:xfrm>
              <a:custGeom>
                <a:avLst/>
                <a:gdLst/>
                <a:ahLst/>
                <a:rect l="l" t="t" r="r" b="b"/>
                <a:pathLst>
                  <a:path w="138" h="46">
                    <a:moveTo>
                      <a:pt x="137" y="22"/>
                    </a:moveTo>
                    <a:lnTo>
                      <a:pt x="0" y="45"/>
                    </a:lnTo>
                    <a:lnTo>
                      <a:pt x="0" y="22"/>
                    </a:lnTo>
                    <a:lnTo>
                      <a:pt x="0" y="0"/>
                    </a:lnTo>
                    <a:lnTo>
                      <a:pt x="137" y="2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632040" y="1580040"/>
                <a:ext cx="3880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3632040" y="2145960"/>
              <a:ext cx="484920" cy="56880"/>
              <a:chOff x="3632040" y="2145960"/>
              <a:chExt cx="484920" cy="56880"/>
            </a:xfrm>
          </p:grpSpPr>
          <p:sp>
            <p:nvSpPr>
              <p:cNvPr id="283" name=""/>
              <p:cNvSpPr/>
              <p:nvPr/>
            </p:nvSpPr>
            <p:spPr>
              <a:xfrm>
                <a:off x="4007520" y="2145960"/>
                <a:ext cx="109440" cy="56880"/>
              </a:xfrm>
              <a:custGeom>
                <a:avLst/>
                <a:gdLst/>
                <a:ahLst/>
                <a:rect l="l" t="t" r="r" b="b"/>
                <a:pathLst>
                  <a:path w="125" h="59">
                    <a:moveTo>
                      <a:pt x="124" y="35"/>
                    </a:moveTo>
                    <a:lnTo>
                      <a:pt x="0" y="58"/>
                    </a:lnTo>
                    <a:lnTo>
                      <a:pt x="0" y="35"/>
                    </a:lnTo>
                    <a:lnTo>
                      <a:pt x="0" y="0"/>
                    </a:lnTo>
                    <a:lnTo>
                      <a:pt x="124" y="35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32040" y="2192040"/>
                <a:ext cx="3765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2734920" y="2744280"/>
              <a:ext cx="484920" cy="56880"/>
              <a:chOff x="2734920" y="2744280"/>
              <a:chExt cx="484920" cy="56880"/>
            </a:xfrm>
          </p:grpSpPr>
          <p:sp>
            <p:nvSpPr>
              <p:cNvPr id="286" name=""/>
              <p:cNvSpPr/>
              <p:nvPr/>
            </p:nvSpPr>
            <p:spPr>
              <a:xfrm>
                <a:off x="3099240" y="2744280"/>
                <a:ext cx="120600" cy="56880"/>
              </a:xfrm>
              <a:custGeom>
                <a:avLst/>
                <a:gdLst/>
                <a:ahLst/>
                <a:rect l="l" t="t" r="r" b="b"/>
                <a:pathLst>
                  <a:path w="138" h="59">
                    <a:moveTo>
                      <a:pt x="137" y="11"/>
                    </a:moveTo>
                    <a:lnTo>
                      <a:pt x="0" y="58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37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2734920" y="2764440"/>
                <a:ext cx="365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88" name=""/>
            <p:cNvGrpSpPr/>
            <p:nvPr/>
          </p:nvGrpSpPr>
          <p:grpSpPr>
            <a:xfrm>
              <a:off x="3643200" y="2744280"/>
              <a:ext cx="473400" cy="69840"/>
              <a:chOff x="3643200" y="2744280"/>
              <a:chExt cx="473400" cy="69840"/>
            </a:xfrm>
          </p:grpSpPr>
          <p:sp>
            <p:nvSpPr>
              <p:cNvPr id="289" name=""/>
              <p:cNvSpPr/>
              <p:nvPr/>
            </p:nvSpPr>
            <p:spPr>
              <a:xfrm>
                <a:off x="4007160" y="2744280"/>
                <a:ext cx="109440" cy="69840"/>
              </a:xfrm>
              <a:custGeom>
                <a:avLst/>
                <a:gdLst/>
                <a:ahLst/>
                <a:rect l="l" t="t" r="r" b="b"/>
                <a:pathLst>
                  <a:path w="125" h="72">
                    <a:moveTo>
                      <a:pt x="124" y="36"/>
                    </a:moveTo>
                    <a:lnTo>
                      <a:pt x="0" y="71"/>
                    </a:lnTo>
                    <a:lnTo>
                      <a:pt x="0" y="36"/>
                    </a:lnTo>
                    <a:lnTo>
                      <a:pt x="0" y="0"/>
                    </a:lnTo>
                    <a:lnTo>
                      <a:pt x="124" y="3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3643200" y="2790720"/>
                <a:ext cx="365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2933640" y="1576440"/>
              <a:ext cx="0" cy="557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2" name=""/>
            <p:cNvGrpSpPr/>
            <p:nvPr/>
          </p:nvGrpSpPr>
          <p:grpSpPr>
            <a:xfrm>
              <a:off x="2918880" y="2108160"/>
              <a:ext cx="312120" cy="55800"/>
              <a:chOff x="2918880" y="2108160"/>
              <a:chExt cx="312120" cy="55800"/>
            </a:xfrm>
          </p:grpSpPr>
          <p:sp>
            <p:nvSpPr>
              <p:cNvPr id="293" name=""/>
              <p:cNvSpPr/>
              <p:nvPr/>
            </p:nvSpPr>
            <p:spPr>
              <a:xfrm>
                <a:off x="3110400" y="2108160"/>
                <a:ext cx="120600" cy="55800"/>
              </a:xfrm>
              <a:custGeom>
                <a:avLst/>
                <a:gdLst/>
                <a:ahLst/>
                <a:rect l="l" t="t" r="r" b="b"/>
                <a:pathLst>
                  <a:path w="138" h="58">
                    <a:moveTo>
                      <a:pt x="137" y="11"/>
                    </a:moveTo>
                    <a:lnTo>
                      <a:pt x="0" y="5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37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2918880" y="2128320"/>
                <a:ext cx="19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2918880" y="2222640"/>
              <a:ext cx="312120" cy="56880"/>
              <a:chOff x="2918880" y="2222640"/>
              <a:chExt cx="312120" cy="56880"/>
            </a:xfrm>
          </p:grpSpPr>
          <p:sp>
            <p:nvSpPr>
              <p:cNvPr id="296" name=""/>
              <p:cNvSpPr/>
              <p:nvPr/>
            </p:nvSpPr>
            <p:spPr>
              <a:xfrm>
                <a:off x="3110400" y="2222640"/>
                <a:ext cx="120600" cy="56880"/>
              </a:xfrm>
              <a:custGeom>
                <a:avLst/>
                <a:gdLst/>
                <a:ahLst/>
                <a:rect l="l" t="t" r="r" b="b"/>
                <a:pathLst>
                  <a:path w="138" h="59">
                    <a:moveTo>
                      <a:pt x="137" y="34"/>
                    </a:moveTo>
                    <a:lnTo>
                      <a:pt x="0" y="58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137" y="34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918880" y="2268000"/>
                <a:ext cx="192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 flipV="1">
              <a:off x="2922480" y="2243520"/>
              <a:ext cx="0" cy="521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797640" y="1602720"/>
              <a:ext cx="0" cy="58212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75680" y="1614240"/>
              <a:ext cx="364320" cy="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233160" y="2290680"/>
              <a:ext cx="0" cy="213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229920" y="2523240"/>
              <a:ext cx="3992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3594240" y="2519280"/>
              <a:ext cx="50760" cy="141120"/>
              <a:chOff x="3594240" y="2519280"/>
              <a:chExt cx="50760" cy="141120"/>
            </a:xfrm>
          </p:grpSpPr>
          <p:sp>
            <p:nvSpPr>
              <p:cNvPr id="304" name=""/>
              <p:cNvSpPr/>
              <p:nvPr/>
            </p:nvSpPr>
            <p:spPr>
              <a:xfrm>
                <a:off x="3594240" y="2565720"/>
                <a:ext cx="50760" cy="94680"/>
              </a:xfrm>
              <a:custGeom>
                <a:avLst/>
                <a:gdLst/>
                <a:ahLst/>
                <a:rect l="l" t="t" r="r" b="b"/>
                <a:pathLst>
                  <a:path w="58" h="98">
                    <a:moveTo>
                      <a:pt x="23" y="97"/>
                    </a:moveTo>
                    <a:lnTo>
                      <a:pt x="0" y="0"/>
                    </a:lnTo>
                    <a:lnTo>
                      <a:pt x="23" y="0"/>
                    </a:lnTo>
                    <a:lnTo>
                      <a:pt x="57" y="0"/>
                    </a:lnTo>
                    <a:lnTo>
                      <a:pt x="23" y="9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623760" y="2519280"/>
                <a:ext cx="0" cy="47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06" name=""/>
            <p:cNvGrpSpPr/>
            <p:nvPr/>
          </p:nvGrpSpPr>
          <p:grpSpPr>
            <a:xfrm>
              <a:off x="4088160" y="2290680"/>
              <a:ext cx="63000" cy="370440"/>
              <a:chOff x="4088160" y="2290680"/>
              <a:chExt cx="63000" cy="370440"/>
            </a:xfrm>
          </p:grpSpPr>
          <p:sp>
            <p:nvSpPr>
              <p:cNvPr id="307" name=""/>
              <p:cNvSpPr/>
              <p:nvPr/>
            </p:nvSpPr>
            <p:spPr>
              <a:xfrm>
                <a:off x="4088160" y="2566080"/>
                <a:ext cx="63000" cy="95040"/>
              </a:xfrm>
              <a:custGeom>
                <a:avLst/>
                <a:gdLst/>
                <a:ahLst/>
                <a:rect l="l" t="t" r="r" b="b"/>
                <a:pathLst>
                  <a:path w="72" h="98">
                    <a:moveTo>
                      <a:pt x="36" y="97"/>
                    </a:moveTo>
                    <a:lnTo>
                      <a:pt x="0" y="0"/>
                    </a:lnTo>
                    <a:lnTo>
                      <a:pt x="36" y="0"/>
                    </a:lnTo>
                    <a:lnTo>
                      <a:pt x="71" y="0"/>
                    </a:lnTo>
                    <a:lnTo>
                      <a:pt x="36" y="97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129920" y="2290680"/>
                <a:ext cx="0" cy="27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4498560" y="2205000"/>
              <a:ext cx="207360" cy="560520"/>
            </a:xfrm>
            <a:custGeom>
              <a:avLst/>
              <a:gdLst/>
              <a:ahLst/>
              <a:rect l="l" t="t" r="r" b="b"/>
              <a:pathLst>
                <a:path w="237" h="578">
                  <a:moveTo>
                    <a:pt x="0" y="577"/>
                  </a:moveTo>
                  <a:lnTo>
                    <a:pt x="236" y="577"/>
                  </a:lnTo>
                  <a:lnTo>
                    <a:pt x="236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4701600" y="2184840"/>
              <a:ext cx="323640" cy="56160"/>
              <a:chOff x="4701600" y="2184840"/>
              <a:chExt cx="323640" cy="56160"/>
            </a:xfrm>
          </p:grpSpPr>
          <p:sp>
            <p:nvSpPr>
              <p:cNvPr id="311" name=""/>
              <p:cNvSpPr/>
              <p:nvPr/>
            </p:nvSpPr>
            <p:spPr>
              <a:xfrm>
                <a:off x="4915800" y="2184840"/>
                <a:ext cx="109440" cy="56160"/>
              </a:xfrm>
              <a:custGeom>
                <a:avLst/>
                <a:gdLst/>
                <a:ahLst/>
                <a:rect l="l" t="t" r="r" b="b"/>
                <a:pathLst>
                  <a:path w="125" h="58">
                    <a:moveTo>
                      <a:pt x="124" y="11"/>
                    </a:moveTo>
                    <a:lnTo>
                      <a:pt x="0" y="57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124" y="1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701600" y="2205000"/>
                <a:ext cx="215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5967000" y="20574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44400" y="1676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44440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440800" y="2862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326760" y="2862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267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326760" y="16869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4680" y="1676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447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45840" y="2859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1285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003360" y="227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733200" y="26424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4467960" y="1778040"/>
              <a:ext cx="239400" cy="210600"/>
              <a:chOff x="4467960" y="1778040"/>
              <a:chExt cx="239400" cy="210600"/>
            </a:xfrm>
          </p:grpSpPr>
          <p:sp>
            <p:nvSpPr>
              <p:cNvPr id="327" name=""/>
              <p:cNvSpPr/>
              <p:nvPr/>
            </p:nvSpPr>
            <p:spPr>
              <a:xfrm>
                <a:off x="4467960" y="1778040"/>
                <a:ext cx="2394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Geneva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505400" y="1806120"/>
                <a:ext cx="111960" cy="111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9" name=""/>
            <p:cNvSpPr/>
            <p:nvPr/>
          </p:nvSpPr>
          <p:spPr>
            <a:xfrm>
              <a:off x="3781800" y="2658960"/>
              <a:ext cx="100440" cy="1249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8664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71044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4992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68848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15820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67552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08196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9352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05208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58056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03912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6940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969360" y="13572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465080" y="13572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958560" y="1955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48488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933000" y="2541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448520" y="2541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81536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35500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71068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227640" y="1955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3628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70816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36184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82040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7444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46148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48344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6468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824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90600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57048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55644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9304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6760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7116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24720" y="227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265500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137320" y="2834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665800" y="2252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2174760" y="2252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688120" y="1651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69000" y="1651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11280" y="2639520"/>
              <a:ext cx="307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27400" y="1475280"/>
              <a:ext cx="0" cy="2397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4498560" y="2076840"/>
              <a:ext cx="0" cy="24264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603600" y="2188800"/>
              <a:ext cx="201960" cy="0"/>
            </a:xfrm>
            <a:prstGeom prst="line">
              <a:avLst/>
            </a:prstGeom>
            <a:ln w="2844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2330280" y="1724760"/>
              <a:ext cx="0" cy="313200"/>
            </a:xfrm>
            <a:prstGeom prst="line">
              <a:avLst/>
            </a:prstGeom>
            <a:ln w="3816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17640" y="2154600"/>
              <a:ext cx="503280" cy="0"/>
            </a:xfrm>
            <a:prstGeom prst="line">
              <a:avLst/>
            </a:prstGeom>
            <a:ln w="2844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87760" y="1719000"/>
              <a:ext cx="10440" cy="359640"/>
            </a:xfrm>
            <a:prstGeom prst="line">
              <a:avLst/>
            </a:prstGeom>
            <a:ln w="3816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2314080" y="1778040"/>
              <a:ext cx="239400" cy="210600"/>
              <a:chOff x="2314080" y="1778040"/>
              <a:chExt cx="239400" cy="210600"/>
            </a:xfrm>
          </p:grpSpPr>
          <p:sp>
            <p:nvSpPr>
              <p:cNvPr id="382" name=""/>
              <p:cNvSpPr/>
              <p:nvPr/>
            </p:nvSpPr>
            <p:spPr>
              <a:xfrm>
                <a:off x="2314080" y="1778040"/>
                <a:ext cx="239400" cy="210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800" spc="-1" strike="noStrike">
                    <a:solidFill>
                      <a:srgbClr val="000000"/>
                    </a:solidFill>
                    <a:latin typeface="Geneva"/>
                  </a:rPr>
                  <a:t>1</a:t>
                </a:r>
                <a:endParaRPr b="0" lang="en-US" sz="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2350080" y="1806120"/>
                <a:ext cx="111960" cy="1112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5418360" y="2199240"/>
              <a:ext cx="464040" cy="0"/>
            </a:xfrm>
            <a:prstGeom prst="line">
              <a:avLst/>
            </a:prstGeom>
            <a:ln w="38160">
              <a:solidFill>
                <a:srgbClr val="cf0e3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740320" y="2180880"/>
              <a:ext cx="504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331000" y="203832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728800" y="204228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31360" y="205740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629160" y="20498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27040" y="147168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493160" y="1475280"/>
              <a:ext cx="0" cy="23976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022360" y="20498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404320" y="205380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886000" y="20516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273360" y="2049840"/>
              <a:ext cx="0" cy="239400"/>
            </a:xfrm>
            <a:prstGeom prst="line">
              <a:avLst/>
            </a:prstGeom>
            <a:ln w="381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925720" y="1570680"/>
              <a:ext cx="32400" cy="27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903040" y="2741400"/>
              <a:ext cx="32040" cy="28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78920" y="2166120"/>
              <a:ext cx="32400" cy="28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9" name=""/>
          <p:cNvGrpSpPr/>
          <p:nvPr/>
        </p:nvGrpSpPr>
        <p:grpSpPr>
          <a:xfrm>
            <a:off x="2211480" y="3402000"/>
            <a:ext cx="4243680" cy="2717280"/>
            <a:chOff x="2211480" y="3402000"/>
            <a:chExt cx="4243680" cy="2717280"/>
          </a:xfrm>
        </p:grpSpPr>
        <p:sp>
          <p:nvSpPr>
            <p:cNvPr id="400" name=""/>
            <p:cNvSpPr/>
            <p:nvPr/>
          </p:nvSpPr>
          <p:spPr>
            <a:xfrm>
              <a:off x="2225520" y="3606120"/>
              <a:ext cx="415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25520" y="3402000"/>
              <a:ext cx="378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93800" y="3768840"/>
              <a:ext cx="3411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22552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25520" y="3940560"/>
              <a:ext cx="415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221560" y="417636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221560" y="436716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221560" y="473832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211480" y="4558680"/>
              <a:ext cx="416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221560" y="491832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221560" y="510912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221560" y="528948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221560" y="5492880"/>
              <a:ext cx="416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97072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06548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1632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03360" y="340200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605320" y="3624840"/>
              <a:ext cx="0" cy="244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535200" y="3624840"/>
              <a:ext cx="0" cy="24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87120" y="36136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629960" y="3658680"/>
              <a:ext cx="20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561280" y="36136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272320" y="3420720"/>
              <a:ext cx="713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988000" y="3420720"/>
              <a:ext cx="1092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122360" y="3420720"/>
              <a:ext cx="964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05520" y="3420720"/>
              <a:ext cx="943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237040" y="3682800"/>
              <a:ext cx="399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88400" y="3611520"/>
              <a:ext cx="39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16440" y="36115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485160" y="36115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087800" y="36241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58680" y="36241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096160" y="36115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571000" y="3611520"/>
              <a:ext cx="478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386040" y="3593520"/>
              <a:ext cx="0" cy="24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624400" y="3779280"/>
              <a:ext cx="338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09680" y="37929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55440" y="37929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212720" y="37929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12400" y="380232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214600" y="3792960"/>
              <a:ext cx="268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658120" y="3792960"/>
              <a:ext cx="281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70600" y="3611520"/>
              <a:ext cx="410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016320" y="3765600"/>
              <a:ext cx="438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300760" y="398232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300760" y="419832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300760" y="43776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300040" y="45705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300040" y="47613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00040" y="49406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300040" y="51195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03640" y="532296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303640" y="55022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03640" y="571608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303640" y="58975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233440" y="5683320"/>
              <a:ext cx="416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33440" y="5887080"/>
              <a:ext cx="416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37040" y="6071400"/>
              <a:ext cx="4159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70432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70432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704320" y="4377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70432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70432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704320" y="4940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04320" y="5119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704320" y="53103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704320" y="5502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704320" y="5716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704320" y="5897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4244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69036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26060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686840" y="3982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223960" y="39949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682600" y="3982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14244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69036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192920" y="4198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86840" y="4198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22396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682600" y="4198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42440" y="4377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633840" y="4377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192920" y="4377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686840" y="43776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223960" y="4389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682600" y="4389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4244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69036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60600" y="457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86840" y="457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223960" y="4581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682600" y="4581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14244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69036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192920" y="4760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686840" y="4760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22396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682600" y="4760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142440" y="4940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90360" y="4940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19292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68684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20164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672520" y="49406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42440" y="5119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63384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9292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68684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20164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72520" y="5119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142440" y="53103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690360" y="53103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192920" y="53103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686840" y="53103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223960" y="53229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682600" y="53229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142440" y="5502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19292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63384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684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201640" y="5502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5682600" y="5512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308844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19292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63384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686840" y="5716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223960" y="572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682600" y="572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8844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63384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9292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686840" y="5897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223960" y="590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682600" y="59086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037920" y="39823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37920" y="41983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037920" y="43650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37920" y="45684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37920" y="47613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981040" y="493848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981040" y="513108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37920" y="53103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037920" y="55022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037920" y="57168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039720" y="58975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ff"/>
                </a:solidFill>
                <a:latin typeface="Arial"/>
              </a:rPr>
              <a:t>CRONOGRAMA</a:t>
            </a:r>
            <a:br>
              <a:rPr sz="2800"/>
            </a:b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discontinuo)</a:t>
            </a:r>
            <a:br>
              <a:rPr sz="2000"/>
            </a:b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1106640" y="2011320"/>
            <a:ext cx="6933960" cy="4099320"/>
            <a:chOff x="1106640" y="2011320"/>
            <a:chExt cx="6933960" cy="4099320"/>
          </a:xfrm>
        </p:grpSpPr>
        <p:sp>
          <p:nvSpPr>
            <p:cNvPr id="548" name=""/>
            <p:cNvSpPr/>
            <p:nvPr/>
          </p:nvSpPr>
          <p:spPr>
            <a:xfrm>
              <a:off x="1130400" y="2320920"/>
              <a:ext cx="688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130400" y="2011320"/>
              <a:ext cx="6270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739880" y="2567160"/>
              <a:ext cx="5648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3040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130400" y="2827440"/>
              <a:ext cx="688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123920" y="318456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123920" y="347328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123920" y="403560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106640" y="3763800"/>
              <a:ext cx="689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23920" y="430848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123920" y="459756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23920" y="487044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123920" y="5178600"/>
              <a:ext cx="6899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36376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17672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91660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85040" y="2011320"/>
              <a:ext cx="0" cy="4041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758960" y="2349360"/>
              <a:ext cx="0" cy="370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298680" y="2349360"/>
              <a:ext cx="0" cy="369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040360" y="2332080"/>
              <a:ext cx="0" cy="372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51240" y="2400480"/>
              <a:ext cx="2271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6653160" y="2332080"/>
              <a:ext cx="0" cy="3726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08880" y="2038320"/>
              <a:ext cx="1109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395800" y="2038320"/>
              <a:ext cx="17708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273200" y="2038320"/>
              <a:ext cx="1548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900400" y="2038320"/>
              <a:ext cx="15120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151280" y="2436840"/>
              <a:ext cx="562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730520" y="2328840"/>
              <a:ext cx="553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435760" y="2328840"/>
              <a:ext cx="751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217680" y="2328840"/>
              <a:ext cx="98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212360" y="2346480"/>
              <a:ext cx="751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993920" y="2346480"/>
              <a:ext cx="987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880600" y="2328840"/>
              <a:ext cx="7513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71880" y="2328840"/>
              <a:ext cx="6994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18640" y="2301840"/>
              <a:ext cx="0" cy="3695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793160" y="2583000"/>
              <a:ext cx="455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2596320" y="26002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497040" y="26002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421160" y="260028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250600" y="2617920"/>
              <a:ext cx="3794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077520" y="2600280"/>
              <a:ext cx="3337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813720" y="2600280"/>
              <a:ext cx="356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7331400" y="2328840"/>
              <a:ext cx="5806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403040" y="2563920"/>
              <a:ext cx="63252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252800" y="2890800"/>
              <a:ext cx="39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252800" y="3216240"/>
              <a:ext cx="39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252800" y="3489480"/>
              <a:ext cx="39780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252080" y="377820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252080" y="406872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252080" y="434016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52080" y="4611600"/>
              <a:ext cx="3992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258200" y="492120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258200" y="519264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258200" y="551808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258200" y="5791320"/>
              <a:ext cx="3963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143000" y="5467320"/>
              <a:ext cx="689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143000" y="5775480"/>
              <a:ext cx="6897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149480" y="6054840"/>
              <a:ext cx="6886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93932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93932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939320" y="34894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93932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93932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939320" y="434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939320" y="4611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939320" y="49021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939320" y="51926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939320" y="55180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939320" y="57913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266472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57120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51440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201640" y="28908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09920" y="29084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870240" y="28908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266472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57120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85520" y="32162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201640" y="32162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0992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70240" y="32162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664720" y="34894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461760" y="34894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385520" y="34894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201640" y="34894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09920" y="35067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870240" y="35067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66472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57120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514400" y="3778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201640" y="37782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109920" y="37972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870240" y="37972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266472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57120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85520" y="40687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201640" y="40687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10992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70240" y="40687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2664720" y="434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571200" y="4340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38552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20164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05736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836760" y="434016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664720" y="4611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46176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38552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20164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05736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836760" y="461160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664720" y="49021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571200" y="490212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385520" y="49021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201640" y="49021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109920" y="4921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870240" y="49212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664720" y="519264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8552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46176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20164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057360" y="519264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870240" y="521028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55528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38552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46176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201640" y="551808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109920" y="5537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70240" y="553716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5528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46176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38552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201640" y="5791320"/>
              <a:ext cx="3855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109920" y="5808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870240" y="5808600"/>
              <a:ext cx="2836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440480" y="289080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40480" y="321624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440480" y="347040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440480" y="377820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440480" y="406872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343640" y="4340160"/>
              <a:ext cx="554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343640" y="4630680"/>
              <a:ext cx="55476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440480" y="490212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440480" y="519264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440480" y="551808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440480" y="5791320"/>
              <a:ext cx="45288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00"/>
                </a:solidFill>
                <a:latin typeface="Arial"/>
              </a:rPr>
              <a:t>DIAGRAMA DE BARRAS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evista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3397320" y="3765600"/>
            <a:ext cx="479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397320" y="3973680"/>
            <a:ext cx="479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422520" y="420048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422520" y="441000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3422520" y="463248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422520" y="484020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422520" y="505152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422520" y="525924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422520" y="548172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422520" y="570384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422520" y="591336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422520" y="6121440"/>
            <a:ext cx="476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397320" y="6326280"/>
            <a:ext cx="4792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V="1">
            <a:off x="3422520" y="3745080"/>
            <a:ext cx="0" cy="257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819600" y="3757680"/>
            <a:ext cx="0" cy="252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flipV="1">
            <a:off x="4022640" y="3744720"/>
            <a:ext cx="0" cy="2585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41860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45054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6656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8243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498312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1562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53150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4738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56340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57927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 flipV="1">
            <a:off x="59529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611172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2722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 flipV="1">
            <a:off x="64310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V="1">
            <a:off x="65912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67500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 flipV="1">
            <a:off x="69087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70689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722952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V="1">
            <a:off x="738828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V="1">
            <a:off x="75596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77184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787860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V="1">
            <a:off x="803916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462840" y="3789360"/>
            <a:ext cx="367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816720" y="3789360"/>
            <a:ext cx="2757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528000" y="4024440"/>
            <a:ext cx="30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528000" y="4245120"/>
            <a:ext cx="30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528000" y="4441680"/>
            <a:ext cx="30492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527280" y="466416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527280" y="487188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527280" y="508176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527280" y="5303880"/>
            <a:ext cx="3063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531240" y="551196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531240" y="573552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531240" y="594360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531240" y="6153120"/>
            <a:ext cx="3034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837960" y="402444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flipV="1">
            <a:off x="4346640" y="3757320"/>
            <a:ext cx="0" cy="2546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837960" y="46641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3837960" y="488628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3837960" y="42321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837960" y="55119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837960" y="509436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3837960" y="445464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837960" y="573552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3837960" y="530388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837960" y="595800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3837960" y="6165720"/>
            <a:ext cx="2394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8205840" y="3730680"/>
            <a:ext cx="0" cy="257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4024440" y="4070520"/>
            <a:ext cx="326880" cy="601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4341960" y="4300560"/>
            <a:ext cx="650880" cy="4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311800" y="4510080"/>
            <a:ext cx="976320" cy="619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120" bIns="15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183200" y="4732200"/>
            <a:ext cx="804600" cy="47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183200" y="4927680"/>
            <a:ext cx="474480" cy="55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827600" y="5137200"/>
            <a:ext cx="155520" cy="493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311800" y="5359320"/>
            <a:ext cx="633240" cy="493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79880" y="5568840"/>
            <a:ext cx="327240" cy="47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80" bIns="1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50080" y="5791320"/>
            <a:ext cx="461880" cy="4752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6442200" y="5999040"/>
            <a:ext cx="315720" cy="4932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767640" y="6183360"/>
            <a:ext cx="144360" cy="601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320" bIns="133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072680" y="3781440"/>
            <a:ext cx="4148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Geneva"/>
              </a:rPr>
              <a:t>1   2    3   4   5    6    7   8    9   10  11 12  13  14 15 16  17 18  19  20  21 22  23  24  25 26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763560" y="906480"/>
            <a:ext cx="4244040" cy="2717280"/>
            <a:chOff x="763560" y="906480"/>
            <a:chExt cx="4244040" cy="2717280"/>
          </a:xfrm>
        </p:grpSpPr>
        <p:sp>
          <p:nvSpPr>
            <p:cNvPr id="775" name=""/>
            <p:cNvSpPr/>
            <p:nvPr/>
          </p:nvSpPr>
          <p:spPr>
            <a:xfrm>
              <a:off x="777600" y="111060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77600" y="906480"/>
              <a:ext cx="378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145880" y="1273320"/>
              <a:ext cx="341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7760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77600" y="144504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73640" y="168084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73640" y="187164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73640" y="224280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63560" y="206316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73640" y="242280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73640" y="261360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73640" y="27939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73640" y="29973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152280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792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6876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55800" y="906480"/>
              <a:ext cx="0" cy="266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157400" y="1129320"/>
              <a:ext cx="0" cy="2448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087640" y="1129320"/>
              <a:ext cx="0" cy="243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39560" y="111816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182400" y="1163160"/>
              <a:ext cx="20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13720" y="111816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824400" y="925200"/>
              <a:ext cx="713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1540080" y="925200"/>
              <a:ext cx="1092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674800" y="925200"/>
              <a:ext cx="964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657600" y="925200"/>
              <a:ext cx="943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89120" y="1187280"/>
              <a:ext cx="399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1140480" y="1116000"/>
              <a:ext cx="39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1568520" y="111600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037600" y="111600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640240" y="112860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111120" y="112860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48600" y="111600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123440" y="1116000"/>
              <a:ext cx="478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938480" y="1098000"/>
              <a:ext cx="0" cy="2439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1176480" y="1283760"/>
              <a:ext cx="338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1661760" y="129744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207520" y="129744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765160" y="129744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264480" y="130680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767040" y="1297440"/>
              <a:ext cx="268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210560" y="1297440"/>
              <a:ext cx="281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523040" y="1116000"/>
              <a:ext cx="410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568760" y="1270080"/>
              <a:ext cx="438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852840" y="14868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852840" y="170280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852840" y="18820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852120" y="20750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52120" y="22658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852120" y="244512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852120" y="26240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855720" y="28274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855720" y="30067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855720" y="322056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855720" y="340200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785520" y="318780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785520" y="339156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89120" y="357588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25640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125640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1256400" y="1882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25640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125640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256400" y="2445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56400" y="2624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1256400" y="281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256400" y="3006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1256400" y="3220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56400" y="34020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69452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24244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81268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239280" y="14868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3776400" y="14994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235040" y="1486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69452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24244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745360" y="17028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239280" y="17028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377640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235040" y="17028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1694520" y="18820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186280" y="1882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745360" y="1882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3239280" y="18820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3776400" y="1893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235040" y="1893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69452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24244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812680" y="207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39280" y="207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776400" y="20854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235040" y="20854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69452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24244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745360" y="22647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39280" y="22647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77640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235040" y="22647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1694520" y="2445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2242440" y="2445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74536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3928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75408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224960" y="2445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694520" y="2624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18628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274536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3928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75408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224960" y="2624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694520" y="281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242440" y="2814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745360" y="281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39280" y="2814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776400" y="28274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235040" y="28274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694520" y="3006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74536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18628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3928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754080" y="30067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35040" y="3017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164052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74536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18628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39280" y="3220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776400" y="323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35040" y="323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64052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18628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74536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39280" y="340200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776400" y="341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235040" y="3413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590360" y="14868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590360" y="17028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4590360" y="18694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590360" y="20728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590360" y="22658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533480" y="244296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533480" y="263556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590360" y="28148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590360" y="30067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590360" y="32212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4592160" y="34020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Prevista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ff"/>
                </a:solidFill>
                <a:latin typeface="Arial"/>
              </a:rPr>
              <a:t>(Actividades de desarrollo discontinuo)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flipV="1">
            <a:off x="35323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1716120" y="2584440"/>
            <a:ext cx="525600" cy="921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2227320" y="2930400"/>
            <a:ext cx="1042920" cy="748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3781440" y="3247920"/>
            <a:ext cx="1568520" cy="921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1971720" y="3581280"/>
            <a:ext cx="1292040" cy="73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1971720" y="3876840"/>
            <a:ext cx="76032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3138480" y="4176720"/>
            <a:ext cx="117360" cy="874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781440" y="4525920"/>
            <a:ext cx="101772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3249720" y="4840200"/>
            <a:ext cx="525240" cy="730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4819680" y="5160960"/>
            <a:ext cx="741240" cy="73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5557680" y="5448240"/>
            <a:ext cx="559080" cy="1000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099120" y="5765760"/>
            <a:ext cx="249120" cy="9216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2728800" y="4165560"/>
            <a:ext cx="507960" cy="10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706840" y="4164120"/>
            <a:ext cx="155520" cy="1062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3800520" y="5162400"/>
            <a:ext cx="96840" cy="921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3772080" y="5143680"/>
            <a:ext cx="1790640" cy="95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9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3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500"/>
                            </p:stCondLst>
                            <p:childTnLst>
                              <p:par>
                                <p:cTn id="40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7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2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7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2" dur="5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7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2" dur="500"/>
                                        <p:tgtEl>
                                          <p:spTgt spid="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7" dur="5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1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685800" y="190080"/>
            <a:ext cx="7772400" cy="723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Límites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763560" y="1020600"/>
            <a:ext cx="4244040" cy="2717640"/>
            <a:chOff x="763560" y="1020600"/>
            <a:chExt cx="4244040" cy="2717640"/>
          </a:xfrm>
        </p:grpSpPr>
        <p:sp>
          <p:nvSpPr>
            <p:cNvPr id="1007" name=""/>
            <p:cNvSpPr/>
            <p:nvPr/>
          </p:nvSpPr>
          <p:spPr>
            <a:xfrm>
              <a:off x="777600" y="122472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777600" y="1020600"/>
              <a:ext cx="378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145880" y="1387440"/>
              <a:ext cx="3411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7760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77600" y="155916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73640" y="17949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73640" y="198576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73640" y="235692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63560" y="217764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73640" y="253728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73640" y="272808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73640" y="290808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73640" y="3111840"/>
              <a:ext cx="4167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52280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61792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66876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555800" y="1020600"/>
              <a:ext cx="0" cy="266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57400" y="1243800"/>
              <a:ext cx="0" cy="2448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087640" y="1243800"/>
              <a:ext cx="0" cy="2436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139560" y="12322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182400" y="1277280"/>
              <a:ext cx="20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 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113720" y="1232280"/>
              <a:ext cx="0" cy="2459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824400" y="1039320"/>
              <a:ext cx="7131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ACTIV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540080" y="1039320"/>
              <a:ext cx="10929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PREVISTA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674800" y="1039320"/>
              <a:ext cx="964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ECHAS LIMIT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57600" y="1039320"/>
              <a:ext cx="9435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FLOTAMIENTO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89120" y="1301400"/>
              <a:ext cx="3992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40480" y="1230120"/>
              <a:ext cx="39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DUR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568520" y="12301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037600" y="12301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640240" y="12427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111120" y="1242720"/>
              <a:ext cx="6433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IN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3648600" y="1230120"/>
              <a:ext cx="5076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INICIO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123440" y="1230120"/>
              <a:ext cx="4788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TERM.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4938480" y="1212120"/>
              <a:ext cx="0" cy="244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1176480" y="1397880"/>
              <a:ext cx="338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O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661760" y="14115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207520" y="14115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E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65160" y="141156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S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264480" y="1420920"/>
              <a:ext cx="295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LF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767040" y="1411560"/>
              <a:ext cx="2682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i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4210560" y="1411560"/>
              <a:ext cx="2818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000000"/>
                  </a:solidFill>
                  <a:latin typeface="Geneva"/>
                </a:rPr>
                <a:t>Ft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4523040" y="1230120"/>
              <a:ext cx="41004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riti-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4568760" y="1384200"/>
              <a:ext cx="43884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cidad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852840" y="16012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52840" y="181728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52840" y="1996560"/>
              <a:ext cx="3049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279f"/>
                  </a:solidFill>
                  <a:latin typeface="Geneva"/>
                </a:rPr>
                <a:t>A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852120" y="21891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52120" y="237996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52120" y="255924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852120" y="2738520"/>
              <a:ext cx="306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9900"/>
                  </a:solidFill>
                  <a:latin typeface="Geneva"/>
                </a:rPr>
                <a:t>B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855720" y="29419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55720" y="31208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55720" y="333504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5720" y="3516120"/>
              <a:ext cx="30348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c0128"/>
                  </a:solidFill>
                  <a:latin typeface="Geneva"/>
                </a:rPr>
                <a:t>C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85520" y="330228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785520" y="3505680"/>
              <a:ext cx="416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89120" y="3690360"/>
              <a:ext cx="41594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25640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25640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256400" y="1996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25640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5640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56400" y="2559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56400" y="2738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56400" y="2929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256400" y="3120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256400" y="33350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256400" y="35161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69452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24244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81268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239280" y="1601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776400" y="1613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235040" y="160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69452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24244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45360" y="1817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239280" y="18172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77640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235040" y="1817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694520" y="19965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186280" y="1996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745360" y="1996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239280" y="19965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776400" y="2007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235040" y="20077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69452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24244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812680" y="218916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239280" y="218916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776400" y="2199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4235040" y="219960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169452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24244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745360" y="23788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239280" y="237888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77640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4235040" y="23788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694520" y="2559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242440" y="25592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274536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23928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75408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4224960" y="25592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1694520" y="27385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18628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274536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23928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75408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4224960" y="27385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1694520" y="2929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2242440" y="29293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2745360" y="2929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239280" y="29293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76400" y="29419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235040" y="294192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1694520" y="31208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74536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18628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23928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54080" y="31208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235040" y="313128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f0000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164052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274536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18628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239280" y="333504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76400" y="334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235040" y="334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164052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18628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8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274536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239280" y="3516120"/>
              <a:ext cx="29736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2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76400" y="352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235040" y="3527640"/>
              <a:ext cx="23940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800" spc="-1" strike="noStrike">
                  <a:solidFill>
                    <a:srgbClr val="fc0128"/>
                  </a:solidFill>
                  <a:latin typeface="Geneva"/>
                </a:rPr>
                <a:t>7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590360" y="16012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590360" y="181728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590360" y="19839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6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590360" y="218700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5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590360" y="23799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9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533480" y="255708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533480" y="2750040"/>
              <a:ext cx="3931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10/4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590360" y="29293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590360" y="312084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3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590360" y="333576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2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592160" y="3516120"/>
              <a:ext cx="335520" cy="21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Geneva"/>
                </a:rPr>
                <a:t>7/1</a:t>
              </a:r>
              <a:endParaRPr b="0" lang="en-US" sz="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4054320" y="393552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4054320" y="414036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078440" y="436104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4078440" y="456552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4078440" y="478296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4078440" y="498636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4078440" y="519264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4078440" y="539604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4078440" y="561348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>
            <a:off x="4078440" y="582948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4078440" y="603396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4078440" y="6238800"/>
            <a:ext cx="45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054320" y="6438960"/>
            <a:ext cx="4597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 flipV="1">
            <a:off x="4078440" y="3914640"/>
            <a:ext cx="0" cy="25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 flipV="1">
            <a:off x="4459320" y="3927600"/>
            <a:ext cx="0" cy="246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 flipV="1">
            <a:off x="4654440" y="3914280"/>
            <a:ext cx="0" cy="2529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 flipV="1">
            <a:off x="48117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 flipV="1">
            <a:off x="51181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 flipV="1">
            <a:off x="52704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 flipV="1">
            <a:off x="54230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 flipV="1">
            <a:off x="55767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V="1">
            <a:off x="5894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 flipV="1">
            <a:off x="60469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V="1">
            <a:off x="62006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 flipV="1">
            <a:off x="6353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V="1">
            <a:off x="65070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 flipV="1">
            <a:off x="66596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 flipV="1">
            <a:off x="68119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V="1">
            <a:off x="69642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 flipV="1">
            <a:off x="7118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 flipV="1">
            <a:off x="72709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 flipV="1">
            <a:off x="742320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 flipV="1">
            <a:off x="75772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 flipV="1">
            <a:off x="77295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 flipV="1">
            <a:off x="78836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 flipV="1">
            <a:off x="804708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 flipV="1">
            <a:off x="820116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 flipV="1">
            <a:off x="83534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 flipV="1">
            <a:off x="850752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4118040" y="3957480"/>
            <a:ext cx="3902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4454280" y="3957480"/>
            <a:ext cx="2865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4180320" y="4189320"/>
            <a:ext cx="320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4180320" y="4405320"/>
            <a:ext cx="320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4180320" y="4597560"/>
            <a:ext cx="32004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4179600" y="481500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4179600" y="501984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4179600" y="522144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4179600" y="5440320"/>
            <a:ext cx="321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183920" y="564372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4183920" y="586116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4183920" y="606600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>
            <a:off x="4183920" y="6269040"/>
            <a:ext cx="31860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4470840" y="418932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 flipV="1">
            <a:off x="4964040" y="392760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4470840" y="481500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4470840" y="50324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4470840" y="439416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4470840" y="564372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4470840" y="523548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4470840" y="461016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4470840" y="586116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4470840" y="544032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4470840" y="607860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4470840" y="6283440"/>
            <a:ext cx="2469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 flipV="1">
            <a:off x="8667720" y="3902040"/>
            <a:ext cx="0" cy="2516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4597920" y="3951360"/>
            <a:ext cx="42184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Geneva"/>
              </a:rPr>
              <a:t>1   2   3   4  5   6   7   8   9  10 11 12 1314 15 16 17 1819  20 21 22 23 24 25 2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5738760" y="4235400"/>
            <a:ext cx="314280" cy="58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1880" bIns="11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6356520" y="4459320"/>
            <a:ext cx="623880" cy="493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6962760" y="4665600"/>
            <a:ext cx="938160" cy="6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3680" bIns="13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5905440" y="4865760"/>
            <a:ext cx="773280" cy="47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6199200" y="5070600"/>
            <a:ext cx="453960" cy="54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6970680" y="5273640"/>
            <a:ext cx="150840" cy="475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649920" y="5702400"/>
            <a:ext cx="314280" cy="47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7424640" y="5913360"/>
            <a:ext cx="444600" cy="540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"/>
          <p:cNvSpPr/>
          <p:nvPr/>
        </p:nvSpPr>
        <p:spPr>
          <a:xfrm>
            <a:off x="8037360" y="6116760"/>
            <a:ext cx="303480" cy="540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"/>
          <p:cNvSpPr/>
          <p:nvPr/>
        </p:nvSpPr>
        <p:spPr>
          <a:xfrm>
            <a:off x="8332920" y="6296040"/>
            <a:ext cx="155520" cy="5544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"/>
          <p:cNvSpPr/>
          <p:nvPr/>
        </p:nvSpPr>
        <p:spPr>
          <a:xfrm>
            <a:off x="7432560" y="5497560"/>
            <a:ext cx="608040" cy="475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 flipV="1">
            <a:off x="5738760" y="3932280"/>
            <a:ext cx="0" cy="2489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39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DIAGRAMA DE BARRAS</a:t>
            </a:r>
            <a:br>
              <a:rPr sz="3200"/>
            </a:br>
            <a:r>
              <a:rPr b="1" lang="es-ES_tradnl" sz="3200" spc="-1" strike="noStrike">
                <a:solidFill>
                  <a:srgbClr val="0000ff"/>
                </a:solidFill>
                <a:latin typeface="Arial"/>
              </a:rPr>
              <a:t>LÍmites</a:t>
            </a:r>
            <a:br>
              <a:rPr sz="2000"/>
            </a:br>
            <a:r>
              <a:rPr b="1" lang="es-ES_tradnl" sz="2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711360" y="212580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"/>
          <p:cNvSpPr/>
          <p:nvPr/>
        </p:nvSpPr>
        <p:spPr>
          <a:xfrm>
            <a:off x="711360" y="244008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"/>
          <p:cNvSpPr/>
          <p:nvPr/>
        </p:nvSpPr>
        <p:spPr>
          <a:xfrm>
            <a:off x="750960" y="278136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"/>
          <p:cNvSpPr/>
          <p:nvPr/>
        </p:nvSpPr>
        <p:spPr>
          <a:xfrm>
            <a:off x="750960" y="30956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"/>
          <p:cNvSpPr/>
          <p:nvPr/>
        </p:nvSpPr>
        <p:spPr>
          <a:xfrm>
            <a:off x="750960" y="34304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"/>
          <p:cNvSpPr/>
          <p:nvPr/>
        </p:nvSpPr>
        <p:spPr>
          <a:xfrm>
            <a:off x="750960" y="374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"/>
          <p:cNvSpPr/>
          <p:nvPr/>
        </p:nvSpPr>
        <p:spPr>
          <a:xfrm>
            <a:off x="750960" y="40608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"/>
          <p:cNvSpPr/>
          <p:nvPr/>
        </p:nvSpPr>
        <p:spPr>
          <a:xfrm>
            <a:off x="750960" y="437508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750960" y="471024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750960" y="504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750960" y="535932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750960" y="5673600"/>
            <a:ext cx="7648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11360" y="5981760"/>
            <a:ext cx="768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 flipV="1">
            <a:off x="750960" y="2093400"/>
            <a:ext cx="0" cy="3875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 flipV="1">
            <a:off x="1387440" y="2112840"/>
            <a:ext cx="0" cy="379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 flipV="1">
            <a:off x="1714680" y="2093760"/>
            <a:ext cx="0" cy="3895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 flipV="1">
            <a:off x="19782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V="1">
            <a:off x="24890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 flipV="1">
            <a:off x="27446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 flipV="1">
            <a:off x="30002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V="1">
            <a:off x="32558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 flipV="1">
            <a:off x="3787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 flipV="1">
            <a:off x="4043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 flipV="1">
            <a:off x="42991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 flipV="1">
            <a:off x="4554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 flipV="1">
            <a:off x="4811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 flipV="1">
            <a:off x="5067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5322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 flipV="1">
            <a:off x="55785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 flipV="1">
            <a:off x="58341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 flipV="1">
            <a:off x="60897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 flipV="1">
            <a:off x="63453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 flipV="1">
            <a:off x="660096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 flipV="1">
            <a:off x="68580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V="1">
            <a:off x="711360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 flipV="1">
            <a:off x="73882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V="1">
            <a:off x="764388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 flipV="1">
            <a:off x="79009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 flipV="1">
            <a:off x="815652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816120" y="2160720"/>
            <a:ext cx="507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AC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372680" y="2160720"/>
            <a:ext cx="3459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919440" y="251460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919440" y="28479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9440" y="3143160"/>
            <a:ext cx="3978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279f"/>
                </a:solidFill>
                <a:latin typeface="Geneva"/>
              </a:rPr>
              <a:t>A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14040" y="347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914040" y="379260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914040" y="410832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914040" y="4441680"/>
            <a:ext cx="3992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Geneva"/>
              </a:rPr>
              <a:t>B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915480" y="47563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915480" y="509112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915480" y="540540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915480" y="5721480"/>
            <a:ext cx="3963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c0128"/>
                </a:solidFill>
                <a:latin typeface="Geneva"/>
              </a:rPr>
              <a:t>C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1423440" y="25146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 flipV="1">
            <a:off x="2233440" y="211284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1423440" y="3478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423440" y="3813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1423440" y="28288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1423440" y="47563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1423440" y="412740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>
            <a:off x="1423440" y="316404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6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1423440" y="50911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423440" y="444168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1423440" y="542592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423440" y="5740560"/>
            <a:ext cx="283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Geneva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 flipV="1">
            <a:off x="8424720" y="2072880"/>
            <a:ext cx="0" cy="3876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1754640" y="2149560"/>
            <a:ext cx="66906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Geneva"/>
              </a:rPr>
              <a:t>1     2    3   4     5    6     7   8    9   10  11 12   13   14 15  16   17  18  19 20   21  22   23 24   25  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8543880" y="119160"/>
            <a:ext cx="54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Geneva"/>
              </a:rPr>
              <a:t>(22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527280" y="2570040"/>
            <a:ext cx="430200" cy="122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4537080" y="2932200"/>
            <a:ext cx="1042920" cy="74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584680" y="3249720"/>
            <a:ext cx="1568520" cy="918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3774960" y="3559320"/>
            <a:ext cx="1292400" cy="72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4295880" y="3873600"/>
            <a:ext cx="760320" cy="82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5332320" y="4187880"/>
            <a:ext cx="250920" cy="730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5056200" y="4846680"/>
            <a:ext cx="525600" cy="73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350040" y="5153040"/>
            <a:ext cx="608040" cy="1206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416720" y="5486400"/>
            <a:ext cx="506520" cy="824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640" bIns="356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7896240" y="5762520"/>
            <a:ext cx="258840" cy="856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8880" bIns="388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6346800" y="4519440"/>
            <a:ext cx="1017720" cy="730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flipV="1">
            <a:off x="3529080" y="2119320"/>
            <a:ext cx="0" cy="3835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3560760" y="2570040"/>
            <a:ext cx="992160" cy="117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342120" y="5148360"/>
            <a:ext cx="1041480" cy="12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4435560" y="2576520"/>
            <a:ext cx="118800" cy="1224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7273800" y="5159520"/>
            <a:ext cx="106560" cy="10476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5" dur="500"/>
                                        <p:tgtEl>
                                          <p:spTgt spid="1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500"/>
                                        <p:tgtEl>
                                          <p:spTgt spid="1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1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1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5" dur="500"/>
                                        <p:tgtEl>
                                          <p:spTgt spid="1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1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500"/>
                                        <p:tgtEl>
                                          <p:spTgt spid="1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1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500"/>
                                        <p:tgtEl>
                                          <p:spTgt spid="1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1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4T04:40:31Z</dcterms:created>
  <dc:creator>Gregorio Rodolfo Azócar Gajardo</dc:creator>
  <dc:description>Computo de Recursos</dc:description>
  <dc:language>en-US</dc:language>
  <cp:lastModifiedBy> </cp:lastModifiedBy>
  <dcterms:modified xsi:type="dcterms:W3CDTF">2007-10-02T13:57:23Z</dcterms:modified>
  <cp:revision>449</cp:revision>
  <dc:subject>TRANSPARENCIAS</dc:subject>
  <dc:title>CI52B POGRAMACION; SEGUIMIENTO Y CONTROL</dc:title>
</cp:coreProperties>
</file>