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click.wav" ContentType="audio/x-wav"/>
  <Override PartName="/ppt/media/image7.png" ContentType="image/png"/>
  <Override PartName="/ppt/media/image1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816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995800" y="-360"/>
            <a:ext cx="857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868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3216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687960"/>
            <a:ext cx="9176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594120" y="9687960"/>
            <a:ext cx="258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3A29-F138-495C-94DD-223472741A8C}" type="slidenum"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8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57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° cl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697-281D-41BD-BE5C-C9D0062A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25A-FB22-434D-BCC1-27B723EB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F35-68B9-42F2-A3C0-3CD1EC31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B47-79D6-465F-9881-6939BA16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CA7-C7CC-4F7D-9959-862E316A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B71-B970-4F58-9614-062EAD6F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941-CB10-4C65-AD30-1A858712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0A7-EDBB-4D3A-9397-62F950C8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ED3-712C-4A1E-A3B8-43AD21BB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E43-5407-478A-9E0D-5BA4B136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A17-AE76-45E2-B26D-805CD99F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554-AE5B-4730-90AB-45B7F7F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0D3E-BEE5-44A3-AFB4-7D5A33CF1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4680" y="105228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CURSO  CI52B</a:t>
            </a:r>
            <a:br>
              <a:rPr sz="2400"/>
            </a:b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Semestre Primavera</a:t>
            </a:r>
            <a:br>
              <a:rPr sz="2000"/>
            </a:b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2007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GRAMACION, SEGUIMIENTO Y CONTROL  DE  PROYEC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19640" y="3500280"/>
            <a:ext cx="2374200" cy="2592360"/>
            <a:chOff x="3419640" y="3500280"/>
            <a:chExt cx="2374200" cy="25923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419640" y="3514680"/>
              <a:ext cx="13968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391640" y="3500280"/>
              <a:ext cx="1402200" cy="253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6515280" y="6242040"/>
            <a:ext cx="2914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GREGORIO AZOCAR G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716120" y="2583000"/>
            <a:ext cx="2832120" cy="1076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227320" y="2932200"/>
            <a:ext cx="3338280" cy="730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781440" y="3247920"/>
            <a:ext cx="3319560" cy="1018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971720" y="3581280"/>
            <a:ext cx="31017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971720" y="3876840"/>
            <a:ext cx="3101760" cy="727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38520" y="4172040"/>
            <a:ext cx="308268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05280" y="4191120"/>
            <a:ext cx="2505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797280" y="4525920"/>
            <a:ext cx="35733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270240" y="4840200"/>
            <a:ext cx="229536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00520" y="5175360"/>
            <a:ext cx="357660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86480" y="5489640"/>
            <a:ext cx="2330280" cy="936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595840" y="5489640"/>
            <a:ext cx="506520" cy="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108840" y="5775480"/>
            <a:ext cx="20350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118200" y="576576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546360" y="2585880"/>
            <a:ext cx="582840" cy="111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5435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40400" y="3249720"/>
            <a:ext cx="1568520" cy="91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76884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82920" y="3873600"/>
            <a:ext cx="76068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573880" y="4187880"/>
            <a:ext cx="250560" cy="73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03712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354720" y="5172120"/>
            <a:ext cx="74124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378560" y="5486400"/>
            <a:ext cx="50652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891560" y="5762520"/>
            <a:ext cx="258840" cy="114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2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2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6135840" y="3405240"/>
            <a:ext cx="723600" cy="371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5460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42160" y="3392640"/>
            <a:ext cx="723960" cy="371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541760" y="3392640"/>
            <a:ext cx="723960" cy="37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48240" y="4389480"/>
            <a:ext cx="723960" cy="37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16560" y="2452680"/>
            <a:ext cx="723600" cy="37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28960" y="3398760"/>
            <a:ext cx="723960" cy="371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303200" y="3392640"/>
            <a:ext cx="723960" cy="371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278000" y="2455920"/>
            <a:ext cx="723960" cy="371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86440" y="357192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705640" y="3666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695920" y="3666600"/>
            <a:ext cx="0" cy="9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267160" y="45910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7160" y="3543480"/>
            <a:ext cx="89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48440" y="2847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52920" y="378144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038480" y="273384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4048200" y="2714400"/>
            <a:ext cx="0" cy="90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648240" y="3619440"/>
            <a:ext cx="92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038320" y="361008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90600" y="2838600"/>
            <a:ext cx="0" cy="54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562640" y="437184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143760" y="338148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IDADES CONTINUAS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300320" y="3394080"/>
            <a:ext cx="72360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66840" y="246528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53680" y="24591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055680" y="246060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67136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60840" y="340344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16428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680720" y="341784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73436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322320" y="33973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941560" y="3780000"/>
            <a:ext cx="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954160" y="4160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51240" y="2779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512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54944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5288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514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51440" y="2782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770720" y="278748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79448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81500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1844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00100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223960" y="2941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305720" y="296244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09680" y="2987640"/>
            <a:ext cx="203040" cy="20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246640" y="2987640"/>
            <a:ext cx="20340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0648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0016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0350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99224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33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96992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19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6352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6539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61296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6319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6414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31784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6996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875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081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18248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6204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860800" y="3206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7845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376760" y="32162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6424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42284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9572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224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17788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195440" y="2759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20480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5269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5045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614320" y="277956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5808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002240" y="4670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9188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04976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4508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454400" y="437976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70600" y="21877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483200" y="31258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093120" y="31384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702680" y="31510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675680" y="22035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701240" y="4127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6120" y="31399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909560" y="3146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033800" y="2733840"/>
            <a:ext cx="5144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55960" y="3600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033800" y="2727360"/>
            <a:ext cx="0" cy="91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678120" y="3629160"/>
            <a:ext cx="355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546440" y="3780000"/>
            <a:ext cx="0" cy="60480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686560" y="3652920"/>
            <a:ext cx="4950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88240" y="3573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249880" y="4583160"/>
            <a:ext cx="45864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5700600" y="3639600"/>
            <a:ext cx="0" cy="9558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488240" y="41133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053520" y="4173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37c03"/>
                </a:solidFill>
                <a:latin typeface="Geneva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102480" y="22096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285920" y="2838600"/>
            <a:ext cx="0" cy="552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248440" y="2833560"/>
            <a:ext cx="0" cy="552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305000" y="376236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048040" y="2629080"/>
            <a:ext cx="88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400480" y="3514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381400" y="371484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028960" y="45626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29160" y="261000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638520" y="458136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629160" y="41623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1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370240" y="2602080"/>
            <a:ext cx="5868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343240" y="45324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02120" y="3591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657440" y="5638680"/>
            <a:ext cx="6800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475000" y="1089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empr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489040" y="111744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ar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94080" y="110808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Hol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517840" y="1116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Camino Cr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5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1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5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6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5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5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5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8500"/>
                            </p:stCondLst>
                            <p:childTnLst>
                              <p:par>
                                <p:cTn id="9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9500"/>
                            </p:stCondLst>
                            <p:childTnLst>
                              <p:par>
                                <p:cTn id="9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3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5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75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130400" y="1996920"/>
            <a:ext cx="6257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130400" y="1687680"/>
            <a:ext cx="4803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739880" y="2243160"/>
            <a:ext cx="49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1304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130400" y="2503440"/>
            <a:ext cx="623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23920" y="286056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23920" y="3149640"/>
            <a:ext cx="627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123920" y="371160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106640" y="3440160"/>
            <a:ext cx="626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123920" y="398448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123920" y="4273560"/>
            <a:ext cx="621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123920" y="4546440"/>
            <a:ext cx="623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123920" y="4854600"/>
            <a:ext cx="624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376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17672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9166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737400" y="1954080"/>
            <a:ext cx="0" cy="377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758960" y="20257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298680" y="2025720"/>
            <a:ext cx="0" cy="36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040360" y="2008080"/>
            <a:ext cx="0" cy="372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51240" y="2076480"/>
            <a:ext cx="2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08880" y="1714680"/>
            <a:ext cx="110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376720" y="1714680"/>
            <a:ext cx="191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EMPRA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286160" y="1714680"/>
            <a:ext cx="160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ARD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151280" y="2112840"/>
            <a:ext cx="56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730520" y="2004840"/>
            <a:ext cx="55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D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35760" y="200484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217680" y="200484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212360" y="202248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993920" y="202248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07960" y="2004840"/>
            <a:ext cx="72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370640" y="1978200"/>
            <a:ext cx="0" cy="372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793160" y="2259000"/>
            <a:ext cx="45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59632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49704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2116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50600" y="22939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073200" y="2276640"/>
            <a:ext cx="42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778800" y="2004840"/>
            <a:ext cx="580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riti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755400" y="2239920"/>
            <a:ext cx="63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52800" y="256716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52800" y="289260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252800" y="316548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254600" y="34545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254600" y="374508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54600" y="401652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254600" y="42879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257480" y="457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57480" y="48690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257480" y="519444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257480" y="54673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143000" y="5143680"/>
            <a:ext cx="625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43000" y="5451480"/>
            <a:ext cx="624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149480" y="5730840"/>
            <a:ext cx="62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9393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9393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3932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3932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9393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9393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939320" y="42879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932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939320" y="48690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939320" y="519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939320" y="5467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71584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7120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52376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3017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109920" y="258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1584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7120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42368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20164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1099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71584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46176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2368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0164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109920" y="3182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71584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7120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52376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201640" y="34545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109920" y="34732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1584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7120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2376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201640" y="37450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099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7061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57120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4427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22072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0573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60604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461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442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22072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60600" y="42879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71584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57120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2368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20164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109920" y="4597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6060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42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461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2016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060600" y="486900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251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442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461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2207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09920" y="5137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60604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461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442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22072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09920" y="5427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83560" y="26002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83560" y="29084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883560" y="31989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883560" y="34894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883560" y="376092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831000" y="4032360"/>
            <a:ext cx="56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10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834600" y="430380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883560" y="461340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34600" y="488484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883560" y="51530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883560" y="54435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716120" y="2563920"/>
            <a:ext cx="2033640" cy="982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716120" y="256536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227320" y="2922480"/>
            <a:ext cx="3120840" cy="777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781440" y="3247920"/>
            <a:ext cx="3090960" cy="954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71720" y="3581280"/>
            <a:ext cx="2835360" cy="669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71720" y="3562200"/>
            <a:ext cx="1292040" cy="92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987560" y="3867120"/>
            <a:ext cx="2838600" cy="889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981080" y="3876840"/>
            <a:ext cx="76068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014640" y="4191120"/>
            <a:ext cx="2806560" cy="1108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005280" y="4191120"/>
            <a:ext cx="250560" cy="9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07080" y="4525920"/>
            <a:ext cx="256356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00600" y="4535640"/>
            <a:ext cx="1017720" cy="72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270240" y="4840200"/>
            <a:ext cx="2066760" cy="82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91240" y="5175360"/>
            <a:ext cx="2309760" cy="633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848200" y="5499000"/>
            <a:ext cx="2040120" cy="63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838840" y="5489640"/>
            <a:ext cx="50652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335640" y="5765760"/>
            <a:ext cx="18082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351480" y="5765760"/>
            <a:ext cx="23040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246480" y="2567160"/>
            <a:ext cx="525600" cy="91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861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321160" y="3249720"/>
            <a:ext cx="1568520" cy="101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52116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025880" y="3873600"/>
            <a:ext cx="76032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592600" y="4187880"/>
            <a:ext cx="231840" cy="1112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8944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335640" y="5172120"/>
            <a:ext cx="74160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78560" y="5486400"/>
            <a:ext cx="506520" cy="82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91560" y="5762520"/>
            <a:ext cx="258840" cy="856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7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7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2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MPUTO DE RECURS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FUNGI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63920" y="2027160"/>
            <a:ext cx="1266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Cant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05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08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847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848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854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855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MA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REUTILIZA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188720" y="2027160"/>
            <a:ext cx="591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88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91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67c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929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930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3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936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0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CK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771560" y="3733920"/>
            <a:ext cx="533520" cy="99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838600" y="3714840"/>
            <a:ext cx="1619280" cy="1371600"/>
          </a:xfrm>
          <a:custGeom>
            <a:avLst/>
            <a:gdLst/>
            <a:ahLst/>
            <a:rect l="l" t="t" r="r" b="b"/>
            <a:pathLst>
              <a:path w="1020" h="864">
                <a:moveTo>
                  <a:pt x="0" y="0"/>
                </a:moveTo>
                <a:lnTo>
                  <a:pt x="0" y="432"/>
                </a:lnTo>
                <a:lnTo>
                  <a:pt x="336" y="432"/>
                </a:lnTo>
                <a:lnTo>
                  <a:pt x="336" y="864"/>
                </a:lnTo>
                <a:lnTo>
                  <a:pt x="684" y="864"/>
                </a:lnTo>
                <a:lnTo>
                  <a:pt x="684" y="204"/>
                </a:lnTo>
                <a:lnTo>
                  <a:pt x="1020" y="204"/>
                </a:lnTo>
                <a:lnTo>
                  <a:pt x="102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76600" y="3371760"/>
            <a:ext cx="495360" cy="13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076800" y="3352680"/>
            <a:ext cx="1067040" cy="1409760"/>
          </a:xfrm>
          <a:custGeom>
            <a:avLst/>
            <a:gdLst/>
            <a:ahLst/>
            <a:rect l="l" t="t" r="r" b="b"/>
            <a:pathLst>
              <a:path w="672" h="888">
                <a:moveTo>
                  <a:pt x="0" y="0"/>
                </a:moveTo>
                <a:lnTo>
                  <a:pt x="0" y="444"/>
                </a:lnTo>
                <a:lnTo>
                  <a:pt x="336" y="444"/>
                </a:lnTo>
                <a:lnTo>
                  <a:pt x="336" y="888"/>
                </a:lnTo>
                <a:lnTo>
                  <a:pt x="672" y="888"/>
                </a:lnTo>
                <a:lnTo>
                  <a:pt x="67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905040" y="2004840"/>
            <a:ext cx="1495440" cy="3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se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1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10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10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1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10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1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2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OMPUTO DE RECURSO</a:t>
            </a:r>
            <a:br>
              <a:rPr sz="32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iscontinuas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87360" y="1515960"/>
            <a:ext cx="81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63680" y="1830240"/>
            <a:ext cx="808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07880" y="2171880"/>
            <a:ext cx="814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6040" y="2486160"/>
            <a:ext cx="810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7600" y="2820960"/>
            <a:ext cx="813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26960" y="31352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26960" y="345132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26960" y="376560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65120" y="410040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36680" y="4433760"/>
            <a:ext cx="811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26960" y="47498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65120" y="506412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53960" y="5372280"/>
            <a:ext cx="809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46040" y="1483920"/>
            <a:ext cx="0" cy="443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1082520" y="1503360"/>
            <a:ext cx="0" cy="387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1866960" y="1484280"/>
            <a:ext cx="0" cy="443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21304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26416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28972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3152880" y="148392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340848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36846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394020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41958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445140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470700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496404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2196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547524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73084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9864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V="1">
            <a:off x="62420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488280" y="1512360"/>
            <a:ext cx="0" cy="438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67532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70102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72658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754056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779616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8062920" y="149400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830880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11200" y="155088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34320" y="155088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14520" y="19051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14520" y="223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14520" y="25336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14160" y="28684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14160" y="318276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14160" y="34988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4160" y="38322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20280" y="4146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20280" y="448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20280" y="47959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20280" y="511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580760" y="1905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23860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580760" y="286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580760" y="3203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580760" y="2219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580760" y="4146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580760" y="3517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580760" y="2554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80760" y="4481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580760" y="383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580760" y="4816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580760" y="5073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8577360" y="1463760"/>
            <a:ext cx="0" cy="444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868400" y="1973160"/>
            <a:ext cx="2832120" cy="108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882800" y="19796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379600" y="2308320"/>
            <a:ext cx="333864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379600" y="2306520"/>
            <a:ext cx="1042920" cy="10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933720" y="2654280"/>
            <a:ext cx="3319560" cy="101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919680" y="2652840"/>
            <a:ext cx="15523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124000" y="2952720"/>
            <a:ext cx="3102120" cy="122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124000" y="2948040"/>
            <a:ext cx="1292400" cy="12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124000" y="3267000"/>
            <a:ext cx="3102120" cy="1015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124000" y="3267000"/>
            <a:ext cx="760320" cy="112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905200" y="3581280"/>
            <a:ext cx="3082680" cy="115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57560" y="3581280"/>
            <a:ext cx="235080" cy="101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949560" y="3916440"/>
            <a:ext cx="3573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933720" y="3916440"/>
            <a:ext cx="1017720" cy="8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422520" y="4230720"/>
            <a:ext cx="2295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02000" y="4245120"/>
            <a:ext cx="525600" cy="87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952800" y="4565520"/>
            <a:ext cx="3576600" cy="874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957920" y="4565520"/>
            <a:ext cx="741240" cy="103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724360" y="4879800"/>
            <a:ext cx="2316240" cy="101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724360" y="4879800"/>
            <a:ext cx="506520" cy="103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259680" y="5156280"/>
            <a:ext cx="2036520" cy="98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256440" y="515628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6920" y="153972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684600" y="1962000"/>
            <a:ext cx="525600" cy="1209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695840" y="2308320"/>
            <a:ext cx="1042920" cy="10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921120" y="2954160"/>
            <a:ext cx="1292400" cy="1159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64000" y="3263760"/>
            <a:ext cx="760320" cy="111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40560" y="3578400"/>
            <a:ext cx="264960" cy="115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189400" y="4237200"/>
            <a:ext cx="525600" cy="101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531200" y="4890960"/>
            <a:ext cx="506160" cy="1112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043840" y="5153040"/>
            <a:ext cx="258840" cy="1141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492960" y="3908520"/>
            <a:ext cx="101736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1488960" y="1509480"/>
            <a:ext cx="0" cy="38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186920" y="1892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86920" y="2855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186920" y="3191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186920" y="22068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186920" y="4133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186920" y="3505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186920" y="2541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186920" y="4468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186920" y="3819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186920" y="4759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186920" y="5092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162080" y="1581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/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1841760" y="1771560"/>
            <a:ext cx="560160" cy="271440"/>
            <a:chOff x="1841760" y="1771560"/>
            <a:chExt cx="560160" cy="271440"/>
          </a:xfrm>
        </p:grpSpPr>
        <p:sp>
          <p:nvSpPr>
            <p:cNvPr id="2083" name=""/>
            <p:cNvSpPr/>
            <p:nvPr/>
          </p:nvSpPr>
          <p:spPr>
            <a:xfrm>
              <a:off x="184176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3372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374920" y="2103480"/>
            <a:ext cx="1028520" cy="271440"/>
            <a:chOff x="2374920" y="2103480"/>
            <a:chExt cx="1028520" cy="271440"/>
          </a:xfrm>
        </p:grpSpPr>
        <p:sp>
          <p:nvSpPr>
            <p:cNvPr id="2086" name=""/>
            <p:cNvSpPr/>
            <p:nvPr/>
          </p:nvSpPr>
          <p:spPr>
            <a:xfrm>
              <a:off x="237492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2908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90196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38480" y="21034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3937320" y="2422440"/>
            <a:ext cx="1557000" cy="271440"/>
            <a:chOff x="3937320" y="2422440"/>
            <a:chExt cx="1557000" cy="271440"/>
          </a:xfrm>
        </p:grpSpPr>
        <p:sp>
          <p:nvSpPr>
            <p:cNvPr id="2091" name=""/>
            <p:cNvSpPr/>
            <p:nvPr/>
          </p:nvSpPr>
          <p:spPr>
            <a:xfrm>
              <a:off x="3937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191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46436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69908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972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26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2108160" y="2728800"/>
            <a:ext cx="1296720" cy="271440"/>
            <a:chOff x="2108160" y="2728800"/>
            <a:chExt cx="1296720" cy="271440"/>
          </a:xfrm>
        </p:grpSpPr>
        <p:sp>
          <p:nvSpPr>
            <p:cNvPr id="2098" name=""/>
            <p:cNvSpPr/>
            <p:nvPr/>
          </p:nvSpPr>
          <p:spPr>
            <a:xfrm>
              <a:off x="210816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38104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65392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13668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91420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2146320" y="3063960"/>
            <a:ext cx="776160" cy="271440"/>
            <a:chOff x="2146320" y="3063960"/>
            <a:chExt cx="776160" cy="271440"/>
          </a:xfrm>
        </p:grpSpPr>
        <p:sp>
          <p:nvSpPr>
            <p:cNvPr id="2104" name=""/>
            <p:cNvSpPr/>
            <p:nvPr/>
          </p:nvSpPr>
          <p:spPr>
            <a:xfrm>
              <a:off x="214632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38140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65428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156120" y="3368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3403800" y="4016520"/>
            <a:ext cx="541080" cy="271440"/>
            <a:chOff x="3403800" y="4016520"/>
            <a:chExt cx="541080" cy="271440"/>
          </a:xfrm>
        </p:grpSpPr>
        <p:sp>
          <p:nvSpPr>
            <p:cNvPr id="2109" name=""/>
            <p:cNvSpPr/>
            <p:nvPr/>
          </p:nvSpPr>
          <p:spPr>
            <a:xfrm>
              <a:off x="340380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67668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4961160" y="4340160"/>
            <a:ext cx="794880" cy="271440"/>
            <a:chOff x="4961160" y="4340160"/>
            <a:chExt cx="794880" cy="271440"/>
          </a:xfrm>
        </p:grpSpPr>
        <p:sp>
          <p:nvSpPr>
            <p:cNvPr id="2112" name=""/>
            <p:cNvSpPr/>
            <p:nvPr/>
          </p:nvSpPr>
          <p:spPr>
            <a:xfrm>
              <a:off x="496116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3368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8784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5" name=""/>
          <p:cNvGrpSpPr/>
          <p:nvPr/>
        </p:nvGrpSpPr>
        <p:grpSpPr>
          <a:xfrm>
            <a:off x="5727960" y="4660920"/>
            <a:ext cx="522000" cy="271440"/>
            <a:chOff x="5727960" y="4660920"/>
            <a:chExt cx="522000" cy="271440"/>
          </a:xfrm>
        </p:grpSpPr>
        <p:sp>
          <p:nvSpPr>
            <p:cNvPr id="2116" name=""/>
            <p:cNvSpPr/>
            <p:nvPr/>
          </p:nvSpPr>
          <p:spPr>
            <a:xfrm>
              <a:off x="57279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817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8" name=""/>
          <p:cNvSpPr/>
          <p:nvPr/>
        </p:nvSpPr>
        <p:spPr>
          <a:xfrm>
            <a:off x="6242040" y="49467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3662280" y="1758960"/>
            <a:ext cx="560160" cy="271440"/>
            <a:chOff x="3662280" y="1758960"/>
            <a:chExt cx="560160" cy="271440"/>
          </a:xfrm>
        </p:grpSpPr>
        <p:sp>
          <p:nvSpPr>
            <p:cNvPr id="2120" name=""/>
            <p:cNvSpPr/>
            <p:nvPr/>
          </p:nvSpPr>
          <p:spPr>
            <a:xfrm>
              <a:off x="366228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95424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5724720" y="2428920"/>
            <a:ext cx="1557000" cy="271440"/>
            <a:chOff x="5724720" y="2428920"/>
            <a:chExt cx="1557000" cy="271440"/>
          </a:xfrm>
        </p:grpSpPr>
        <p:sp>
          <p:nvSpPr>
            <p:cNvPr id="2123" name=""/>
            <p:cNvSpPr/>
            <p:nvPr/>
          </p:nvSpPr>
          <p:spPr>
            <a:xfrm>
              <a:off x="5724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978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5176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48648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759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13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4734000" y="2114640"/>
            <a:ext cx="1030320" cy="271440"/>
            <a:chOff x="4734000" y="2114640"/>
            <a:chExt cx="1030320" cy="271440"/>
          </a:xfrm>
        </p:grpSpPr>
        <p:sp>
          <p:nvSpPr>
            <p:cNvPr id="2130" name=""/>
            <p:cNvSpPr/>
            <p:nvPr/>
          </p:nvSpPr>
          <p:spPr>
            <a:xfrm>
              <a:off x="473400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8816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26104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49612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43440" y="2739960"/>
            <a:ext cx="1296720" cy="271440"/>
            <a:chOff x="3943440" y="2739960"/>
            <a:chExt cx="1296720" cy="271440"/>
          </a:xfrm>
        </p:grpSpPr>
        <p:sp>
          <p:nvSpPr>
            <p:cNvPr id="2135" name=""/>
            <p:cNvSpPr/>
            <p:nvPr/>
          </p:nvSpPr>
          <p:spPr>
            <a:xfrm>
              <a:off x="39434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21632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4895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719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7498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4476960" y="3046320"/>
            <a:ext cx="775800" cy="271440"/>
            <a:chOff x="4476960" y="3046320"/>
            <a:chExt cx="775800" cy="271440"/>
          </a:xfrm>
        </p:grpSpPr>
        <p:sp>
          <p:nvSpPr>
            <p:cNvPr id="2141" name=""/>
            <p:cNvSpPr/>
            <p:nvPr/>
          </p:nvSpPr>
          <p:spPr>
            <a:xfrm>
              <a:off x="44769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71132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9845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4" name=""/>
          <p:cNvSpPr/>
          <p:nvPr/>
        </p:nvSpPr>
        <p:spPr>
          <a:xfrm>
            <a:off x="5715000" y="3375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5" name=""/>
          <p:cNvGrpSpPr/>
          <p:nvPr/>
        </p:nvGrpSpPr>
        <p:grpSpPr>
          <a:xfrm>
            <a:off x="5200920" y="4022640"/>
            <a:ext cx="541080" cy="271440"/>
            <a:chOff x="5200920" y="4022640"/>
            <a:chExt cx="541080" cy="271440"/>
          </a:xfrm>
        </p:grpSpPr>
        <p:sp>
          <p:nvSpPr>
            <p:cNvPr id="2146" name=""/>
            <p:cNvSpPr/>
            <p:nvPr/>
          </p:nvSpPr>
          <p:spPr>
            <a:xfrm>
              <a:off x="520092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47380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6724800" y="4325760"/>
            <a:ext cx="794880" cy="271440"/>
            <a:chOff x="6724800" y="4325760"/>
            <a:chExt cx="794880" cy="271440"/>
          </a:xfrm>
        </p:grpSpPr>
        <p:sp>
          <p:nvSpPr>
            <p:cNvPr id="2149" name=""/>
            <p:cNvSpPr/>
            <p:nvPr/>
          </p:nvSpPr>
          <p:spPr>
            <a:xfrm>
              <a:off x="672480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9732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25148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7524720" y="4667400"/>
            <a:ext cx="522000" cy="271440"/>
            <a:chOff x="7524720" y="4667400"/>
            <a:chExt cx="522000" cy="271440"/>
          </a:xfrm>
        </p:grpSpPr>
        <p:sp>
          <p:nvSpPr>
            <p:cNvPr id="2153" name=""/>
            <p:cNvSpPr/>
            <p:nvPr/>
          </p:nvSpPr>
          <p:spPr>
            <a:xfrm>
              <a:off x="75247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7785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8039160" y="4943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00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2544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0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05200" y="568332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006880" y="568332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241960" y="568332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505480" y="568332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816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07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32448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57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83244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0959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3245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57872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8328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8129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924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1970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432160" y="541980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00280" y="5419800"/>
            <a:ext cx="3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959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165480" y="5419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476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730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00356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2577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511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765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01984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2833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5468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8197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0739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3277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495440" y="542592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501920" y="568008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07080" y="2654280"/>
            <a:ext cx="1552680" cy="92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88160" y="4552920"/>
            <a:ext cx="741240" cy="103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3160" y="542304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03160" y="567072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38120" y="56008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19040" y="590544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924520" y="13525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759120" y="56707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2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20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2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3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20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6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2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5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0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0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500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62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500"/>
                            </p:stCondLst>
                            <p:childTnLst>
                              <p:par>
                                <p:cTn id="1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68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026040" y="4813200"/>
            <a:ext cx="1982880" cy="986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15800" y="52833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0600" y="4743360"/>
            <a:ext cx="4680" cy="1057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0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261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v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0" name=""/>
          <p:cNvSpPr/>
          <p:nvPr/>
        </p:nvSpPr>
        <p:spPr>
          <a:xfrm>
            <a:off x="2209680" y="3257640"/>
            <a:ext cx="8193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FUNGI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741240" y="5327640"/>
            <a:ext cx="7234200" cy="195480"/>
            <a:chOff x="741240" y="5327640"/>
            <a:chExt cx="7234200" cy="195480"/>
          </a:xfrm>
        </p:grpSpPr>
        <p:sp>
          <p:nvSpPr>
            <p:cNvPr id="2285" name=""/>
            <p:cNvSpPr/>
            <p:nvPr/>
          </p:nvSpPr>
          <p:spPr>
            <a:xfrm>
              <a:off x="382896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07520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228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514760" y="53402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780080" y="53402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37120" y="53402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292720" y="53402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59584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8420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8976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374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8512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84036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628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31052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55820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8454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41240" y="53276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602160" y="53276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4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540320" y="3197160"/>
            <a:ext cx="780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8256600" y="4410000"/>
            <a:ext cx="25560" cy="13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14240" y="4762440"/>
            <a:ext cx="0" cy="104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554040" y="4873680"/>
            <a:ext cx="5787000" cy="393120"/>
            <a:chOff x="554040" y="4873680"/>
            <a:chExt cx="5787000" cy="393120"/>
          </a:xfrm>
        </p:grpSpPr>
        <p:sp>
          <p:nvSpPr>
            <p:cNvPr id="2309" name=""/>
            <p:cNvSpPr/>
            <p:nvPr/>
          </p:nvSpPr>
          <p:spPr>
            <a:xfrm>
              <a:off x="554040" y="50371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rot="18627600">
              <a:off x="17859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rot="18627600">
              <a:off x="2062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8627600">
              <a:off x="2290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8627600">
              <a:off x="255744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8627600">
              <a:off x="28051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8627600">
              <a:off x="30319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8627600">
              <a:off x="33004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8627600">
              <a:off x="355608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8627600">
              <a:off x="380376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8627600">
              <a:off x="4051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8627600">
              <a:off x="4306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8627600">
              <a:off x="45813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rot="18627600">
              <a:off x="4748040" y="49734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rot="18627600">
              <a:off x="5026680" y="49647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18627600">
              <a:off x="5286960" y="49806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rot="18627600">
              <a:off x="5518080" y="499392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rot="18627600">
              <a:off x="5814000" y="50155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rot="18627600">
              <a:off x="6045120" y="49924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54200" y="50734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 rot="18627600">
            <a:off x="7032240" y="550980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rot="18627600">
            <a:off x="7267320" y="5511600"/>
            <a:ext cx="26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rot="18627600">
            <a:off x="7526160" y="551016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rot="18627600">
            <a:off x="7822440" y="5551920"/>
            <a:ext cx="21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78000" y="578484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01640" y="55436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60520" y="55576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rot="18627600">
            <a:off x="384156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rot="18627600">
            <a:off x="4089240" y="554004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rot="18627600">
            <a:off x="431784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rot="18627600">
            <a:off x="45925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rot="18627600">
            <a:off x="4821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rot="18627600">
            <a:off x="508644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rot="18627600">
            <a:off x="53337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rot="18627600">
            <a:off x="55623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rot="18627600">
            <a:off x="5829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rot="18627600">
            <a:off x="60847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rot="18627600">
            <a:off x="633240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rot="18627600">
            <a:off x="658008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rot="18627600">
            <a:off x="679140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rot="18627600">
            <a:off x="361944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44480" y="5551560"/>
            <a:ext cx="111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osto Lim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rot="16200000">
            <a:off x="304200" y="4934520"/>
            <a:ext cx="4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752480" y="4400640"/>
            <a:ext cx="0" cy="136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768760" y="4397400"/>
            <a:ext cx="0" cy="139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060800" y="4394160"/>
            <a:ext cx="0" cy="134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257800" y="4400640"/>
            <a:ext cx="0" cy="13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512040" y="44067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756560" y="43941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rot="16200000">
            <a:off x="310320" y="5435640"/>
            <a:ext cx="48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8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50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1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1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1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1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10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1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10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10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10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8" dur="1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10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29448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1939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434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72276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97188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925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4416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692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941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1912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4403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70852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945040" y="1566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1898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4389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6880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939000" y="15620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1881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437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686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7937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415880" y="16002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415880" y="1841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415880" y="2084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415880" y="2327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415880" y="2570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454040" y="2813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454040" y="3054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1417680" y="32958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454040" y="3540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454040" y="3782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454040" y="4025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454040" y="4267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454040" y="4510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454040" y="4753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454040" y="4995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425600" y="523872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28960" y="52578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5045040" y="52578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321600" y="52578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7581960" y="52578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324000" y="5696280"/>
            <a:ext cx="5800320" cy="298800"/>
            <a:chOff x="324000" y="5696280"/>
            <a:chExt cx="5800320" cy="298800"/>
          </a:xfrm>
        </p:grpSpPr>
        <p:sp>
          <p:nvSpPr>
            <p:cNvPr id="2404" name=""/>
            <p:cNvSpPr/>
            <p:nvPr/>
          </p:nvSpPr>
          <p:spPr>
            <a:xfrm rot="18627600">
              <a:off x="4591080" y="5754600"/>
              <a:ext cx="22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rot="18627600">
              <a:off x="4887000" y="5753880"/>
              <a:ext cx="22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rot="18627600">
              <a:off x="5141880" y="5767200"/>
              <a:ext cx="20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rot="18627600">
              <a:off x="16016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rot="18627600">
              <a:off x="18781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rot="18627600">
              <a:off x="21067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rot="18627600">
              <a:off x="2373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rot="18627600">
              <a:off x="26208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8627600">
              <a:off x="2849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rot="18627600">
              <a:off x="31161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8627600">
              <a:off x="33717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8627600">
              <a:off x="36194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8627600">
              <a:off x="3867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8627600">
              <a:off x="41259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8627600">
              <a:off x="4397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8627600">
              <a:off x="5371200" y="5761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8627600">
              <a:off x="5645880" y="5744160"/>
              <a:ext cx="177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8627600">
              <a:off x="5899680" y="5753520"/>
              <a:ext cx="18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24000" y="5746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3" name=""/>
          <p:cNvSpPr/>
          <p:nvPr/>
        </p:nvSpPr>
        <p:spPr>
          <a:xfrm>
            <a:off x="198360" y="638496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6680" y="606744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09520" y="563580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584360" y="5219640"/>
            <a:ext cx="0" cy="110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74600" y="563076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83528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085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33676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5876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8386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0891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3400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59100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419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0924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3434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5943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8448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0958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34672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5976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84820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0991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3500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6009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8515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10244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3533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042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854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81057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70200" y="5048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184560" y="5219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429000" y="5140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714680" y="514440"/>
            <a:ext cx="624816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(Recursos fungi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128080" y="5022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5924520" y="2425680"/>
            <a:ext cx="1752480" cy="487080"/>
            <a:chOff x="5924520" y="2425680"/>
            <a:chExt cx="1752480" cy="487080"/>
          </a:xfrm>
        </p:grpSpPr>
        <p:sp>
          <p:nvSpPr>
            <p:cNvPr id="2460" name=""/>
            <p:cNvSpPr/>
            <p:nvPr/>
          </p:nvSpPr>
          <p:spPr>
            <a:xfrm flipV="1">
              <a:off x="5924520" y="25333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664400" y="25585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24520" y="26668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26360" y="24256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1428840" y="129528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6970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9461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195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4447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9568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6048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6002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047600" y="41464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200240" y="5118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047600" y="318132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857160" y="219708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047600" y="46292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047600" y="36640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857160" y="267984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933480" y="171468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211480" y="463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438200" y="5214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704960" y="5122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52640" y="49258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454120" y="434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43000" y="990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22200" y="6009480"/>
            <a:ext cx="7631640" cy="390600"/>
            <a:chOff x="322200" y="6009480"/>
            <a:chExt cx="7631640" cy="390600"/>
          </a:xfrm>
        </p:grpSpPr>
        <p:sp>
          <p:nvSpPr>
            <p:cNvPr id="2487" name=""/>
            <p:cNvSpPr/>
            <p:nvPr/>
          </p:nvSpPr>
          <p:spPr>
            <a:xfrm>
              <a:off x="322200" y="6156360"/>
              <a:ext cx="10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18627600">
              <a:off x="366372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18627600">
              <a:off x="39114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18627600">
              <a:off x="41400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18627600">
              <a:off x="44146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18627600">
              <a:off x="4643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18627600">
              <a:off x="49086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18627600">
              <a:off x="51562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rot="18627600">
              <a:off x="53848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rot="18627600">
              <a:off x="5651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18627600">
              <a:off x="59068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rot="18627600">
              <a:off x="6154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18627600">
              <a:off x="640224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rot="18627600">
              <a:off x="6613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rot="18627600">
              <a:off x="685476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rot="18627600">
              <a:off x="7089480" y="613404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rot="18627600">
              <a:off x="734832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8627600">
              <a:off x="7589880" y="611316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rot="18627600">
              <a:off x="344160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1365120" y="4699080"/>
            <a:ext cx="1838160" cy="549360"/>
            <a:chOff x="1365120" y="4699080"/>
            <a:chExt cx="1838160" cy="549360"/>
          </a:xfrm>
        </p:grpSpPr>
        <p:sp>
          <p:nvSpPr>
            <p:cNvPr id="2507" name=""/>
            <p:cNvSpPr/>
            <p:nvPr/>
          </p:nvSpPr>
          <p:spPr>
            <a:xfrm flipH="1">
              <a:off x="3200040" y="480060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25600" y="491184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365120" y="469908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Demora  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rot="20051400">
            <a:off x="2689200" y="341928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rot="19855200">
            <a:off x="2481120" y="35683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rot="18952800">
            <a:off x="4087800" y="38984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rot="18952800">
            <a:off x="4168800" y="39049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698920" y="4181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952720" y="393048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197160" y="3832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451320" y="3733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695760" y="3692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959280" y="363204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210200" y="3583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451400" y="3543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676760" y="346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921200" y="33987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7536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rot="20837400">
            <a:off x="5419440" y="3277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rot="20837400">
            <a:off x="5682960" y="3179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447920" y="3067200"/>
            <a:ext cx="450504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924360" y="5021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178160" y="4875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422600" y="45766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667400" y="42973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921200" y="4056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175360" y="3805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419800" y="3697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683320" y="3637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918040" y="357660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162840" y="3554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416640" y="34653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7080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915240" y="33638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7159680" y="327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413480" y="317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667640" y="3030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921280" y="3027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191040" y="3048120"/>
            <a:ext cx="449568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473120" y="3070080"/>
            <a:ext cx="4496040" cy="219096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197160" y="304488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20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20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1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20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20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10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2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19640" y="3543480"/>
            <a:ext cx="9334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194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28576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8320" y="36003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666880"/>
            <a:ext cx="590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62520" y="2666520"/>
            <a:ext cx="0" cy="9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14360" y="285768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1560" y="3390840"/>
            <a:ext cx="723960" cy="36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3320" y="3390840"/>
            <a:ext cx="723960" cy="36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43560" y="2467080"/>
            <a:ext cx="723600" cy="36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4560" y="3400560"/>
            <a:ext cx="723960" cy="36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3381480"/>
            <a:ext cx="723960" cy="36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plazo de construcción 25 d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09680" y="246528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6840" y="247824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9680" y="3384720"/>
            <a:ext cx="723960" cy="37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840" y="24987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728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34416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336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62160" y="3800520"/>
            <a:ext cx="112680" cy="608040"/>
            <a:chOff x="1262160" y="3800520"/>
            <a:chExt cx="112680" cy="608040"/>
          </a:xfrm>
        </p:grpSpPr>
        <p:sp>
          <p:nvSpPr>
            <p:cNvPr id="81" name=""/>
            <p:cNvSpPr/>
            <p:nvPr/>
          </p:nvSpPr>
          <p:spPr>
            <a:xfrm>
              <a:off x="1262160" y="4251240"/>
              <a:ext cx="112680" cy="15732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23" y="98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70" y="0"/>
                  </a:lnTo>
                  <a:lnTo>
                    <a:pt x="23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16160" y="3800520"/>
              <a:ext cx="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441800" y="341640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46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73880" y="34369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62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15120" y="341640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38320" y="2584440"/>
            <a:ext cx="920880" cy="73080"/>
            <a:chOff x="2038320" y="2584440"/>
            <a:chExt cx="920880" cy="73080"/>
          </a:xfrm>
        </p:grpSpPr>
        <p:sp>
          <p:nvSpPr>
            <p:cNvPr id="90" name=""/>
            <p:cNvSpPr/>
            <p:nvPr/>
          </p:nvSpPr>
          <p:spPr>
            <a:xfrm>
              <a:off x="2782800" y="2584440"/>
              <a:ext cx="176400" cy="7308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0" y="11"/>
                  </a:moveTo>
                  <a:lnTo>
                    <a:pt x="0" y="4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38320" y="2617920"/>
              <a:ext cx="74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4080" y="2563920"/>
            <a:ext cx="920520" cy="73080"/>
            <a:chOff x="3664080" y="2563920"/>
            <a:chExt cx="920520" cy="73080"/>
          </a:xfrm>
        </p:grpSpPr>
        <p:sp>
          <p:nvSpPr>
            <p:cNvPr id="93" name=""/>
            <p:cNvSpPr/>
            <p:nvPr/>
          </p:nvSpPr>
          <p:spPr>
            <a:xfrm>
              <a:off x="4365720" y="2563920"/>
              <a:ext cx="218880" cy="73080"/>
            </a:xfrm>
            <a:custGeom>
              <a:avLst/>
              <a:gdLst/>
              <a:ahLst/>
              <a:rect l="l" t="t" r="r" b="b"/>
              <a:pathLst>
                <a:path w="138" h="46">
                  <a:moveTo>
                    <a:pt x="137" y="22"/>
                  </a:moveTo>
                  <a:lnTo>
                    <a:pt x="0" y="4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4080" y="2617920"/>
              <a:ext cx="70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664080" y="3543480"/>
            <a:ext cx="879480" cy="93600"/>
            <a:chOff x="3664080" y="3543480"/>
            <a:chExt cx="879480" cy="93600"/>
          </a:xfrm>
        </p:grpSpPr>
        <p:sp>
          <p:nvSpPr>
            <p:cNvPr id="96" name=""/>
            <p:cNvSpPr/>
            <p:nvPr/>
          </p:nvSpPr>
          <p:spPr>
            <a:xfrm>
              <a:off x="4344840" y="3543480"/>
              <a:ext cx="198720" cy="93600"/>
            </a:xfrm>
            <a:custGeom>
              <a:avLst/>
              <a:gdLst/>
              <a:ahLst/>
              <a:rect l="l" t="t" r="r" b="b"/>
              <a:pathLst>
                <a:path w="125" h="59">
                  <a:moveTo>
                    <a:pt x="124" y="35"/>
                  </a:moveTo>
                  <a:lnTo>
                    <a:pt x="0" y="58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4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64080" y="3619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38320" y="4522680"/>
            <a:ext cx="879480" cy="93600"/>
            <a:chOff x="2038320" y="4522680"/>
            <a:chExt cx="879480" cy="93600"/>
          </a:xfrm>
        </p:grpSpPr>
        <p:sp>
          <p:nvSpPr>
            <p:cNvPr id="99" name=""/>
            <p:cNvSpPr/>
            <p:nvPr/>
          </p:nvSpPr>
          <p:spPr>
            <a:xfrm>
              <a:off x="2698920" y="452268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11"/>
                  </a:moveTo>
                  <a:lnTo>
                    <a:pt x="0" y="5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8320" y="455616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684600" y="4522680"/>
            <a:ext cx="858960" cy="114480"/>
            <a:chOff x="3684600" y="4522680"/>
            <a:chExt cx="858960" cy="114480"/>
          </a:xfrm>
        </p:grpSpPr>
        <p:sp>
          <p:nvSpPr>
            <p:cNvPr id="102" name=""/>
            <p:cNvSpPr/>
            <p:nvPr/>
          </p:nvSpPr>
          <p:spPr>
            <a:xfrm>
              <a:off x="4344840" y="4522680"/>
              <a:ext cx="198720" cy="114480"/>
            </a:xfrm>
            <a:custGeom>
              <a:avLst/>
              <a:gdLst/>
              <a:ahLst/>
              <a:rect l="l" t="t" r="r" b="b"/>
              <a:pathLst>
                <a:path w="125" h="72">
                  <a:moveTo>
                    <a:pt x="124" y="36"/>
                  </a:moveTo>
                  <a:lnTo>
                    <a:pt x="0" y="71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24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84600" y="45990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71680" y="3481560"/>
            <a:ext cx="566640" cy="91800"/>
            <a:chOff x="2371680" y="3481560"/>
            <a:chExt cx="566640" cy="91800"/>
          </a:xfrm>
        </p:grpSpPr>
        <p:sp>
          <p:nvSpPr>
            <p:cNvPr id="106" name=""/>
            <p:cNvSpPr/>
            <p:nvPr/>
          </p:nvSpPr>
          <p:spPr>
            <a:xfrm>
              <a:off x="2719440" y="3481560"/>
              <a:ext cx="218880" cy="9180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137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71680" y="35146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371680" y="3668760"/>
            <a:ext cx="566640" cy="93600"/>
            <a:chOff x="2371680" y="3668760"/>
            <a:chExt cx="566640" cy="93600"/>
          </a:xfrm>
        </p:grpSpPr>
        <p:sp>
          <p:nvSpPr>
            <p:cNvPr id="109" name=""/>
            <p:cNvSpPr/>
            <p:nvPr/>
          </p:nvSpPr>
          <p:spPr>
            <a:xfrm>
              <a:off x="2719440" y="366876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34"/>
                  </a:moveTo>
                  <a:lnTo>
                    <a:pt x="0" y="58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37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71680" y="3743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960" y="2654280"/>
            <a:ext cx="0" cy="9525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2673360"/>
            <a:ext cx="6602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41560" y="378000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35440" y="416088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95680" y="4154400"/>
            <a:ext cx="92160" cy="231840"/>
            <a:chOff x="3595680" y="4154400"/>
            <a:chExt cx="92160" cy="231840"/>
          </a:xfrm>
        </p:grpSpPr>
        <p:sp>
          <p:nvSpPr>
            <p:cNvPr id="117" name=""/>
            <p:cNvSpPr/>
            <p:nvPr/>
          </p:nvSpPr>
          <p:spPr>
            <a:xfrm>
              <a:off x="3595680" y="4230720"/>
              <a:ext cx="92160" cy="15552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23" y="9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23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49680" y="4154400"/>
              <a:ext cx="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491000" y="3780000"/>
            <a:ext cx="114480" cy="606240"/>
            <a:chOff x="4491000" y="3780000"/>
            <a:chExt cx="114480" cy="606240"/>
          </a:xfrm>
        </p:grpSpPr>
        <p:sp>
          <p:nvSpPr>
            <p:cNvPr id="120" name=""/>
            <p:cNvSpPr/>
            <p:nvPr/>
          </p:nvSpPr>
          <p:spPr>
            <a:xfrm>
              <a:off x="4491000" y="4230720"/>
              <a:ext cx="114480" cy="15552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36" y="97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71" y="0"/>
                  </a:lnTo>
                  <a:lnTo>
                    <a:pt x="3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7320" y="3780000"/>
              <a:ext cx="0" cy="45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234040" y="3639960"/>
            <a:ext cx="376200" cy="917640"/>
          </a:xfrm>
          <a:custGeom>
            <a:avLst/>
            <a:gdLst/>
            <a:ahLst/>
            <a:rect l="l" t="t" r="r" b="b"/>
            <a:pathLst>
              <a:path w="237" h="578">
                <a:moveTo>
                  <a:pt x="0" y="577"/>
                </a:moveTo>
                <a:lnTo>
                  <a:pt x="236" y="577"/>
                </a:lnTo>
                <a:lnTo>
                  <a:pt x="2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602320" y="3606840"/>
            <a:ext cx="587520" cy="92160"/>
            <a:chOff x="5602320" y="3606840"/>
            <a:chExt cx="587520" cy="92160"/>
          </a:xfrm>
        </p:grpSpPr>
        <p:sp>
          <p:nvSpPr>
            <p:cNvPr id="124" name=""/>
            <p:cNvSpPr/>
            <p:nvPr/>
          </p:nvSpPr>
          <p:spPr>
            <a:xfrm>
              <a:off x="5991120" y="3606840"/>
              <a:ext cx="19872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124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2320" y="363996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512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51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36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4676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45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5320" y="279576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980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74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88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2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952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7920" y="2941560"/>
            <a:ext cx="268200" cy="271440"/>
            <a:chOff x="5227920" y="2941560"/>
            <a:chExt cx="268200" cy="271440"/>
          </a:xfrm>
        </p:grpSpPr>
        <p:sp>
          <p:nvSpPr>
            <p:cNvPr id="140" name=""/>
            <p:cNvSpPr/>
            <p:nvPr/>
          </p:nvSpPr>
          <p:spPr>
            <a:xfrm>
              <a:off x="522792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4664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07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3076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116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648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27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41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00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95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485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072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6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3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12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5880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883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69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40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3180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7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734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78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53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1168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4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3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76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41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46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157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484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06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4248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10880" y="3716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55520" y="3716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3788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4400" y="4351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0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34040" y="3430080"/>
            <a:ext cx="0" cy="397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613320" y="3613320"/>
            <a:ext cx="36648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5000" y="2854440"/>
            <a:ext cx="0" cy="51264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8960" y="3557520"/>
            <a:ext cx="9126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14960" y="2844720"/>
            <a:ext cx="19080" cy="58896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22640" y="2941560"/>
            <a:ext cx="268200" cy="271440"/>
            <a:chOff x="1322640" y="2941560"/>
            <a:chExt cx="268200" cy="271440"/>
          </a:xfrm>
        </p:grpSpPr>
        <p:sp>
          <p:nvSpPr>
            <p:cNvPr id="195" name=""/>
            <p:cNvSpPr/>
            <p:nvPr/>
          </p:nvSpPr>
          <p:spPr>
            <a:xfrm>
              <a:off x="132264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4136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900840" y="3630600"/>
            <a:ext cx="84132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8040" y="360036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06440" y="3367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27160" y="33735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8320" y="33987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904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60840" y="2440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24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8336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75640" y="339264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48640" y="338940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028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162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795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32194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32068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6440" y="22795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736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35680" y="32353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89760" y="31748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24800" y="3200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21640" y="3187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803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1240" y="22636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01960" y="2273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8200" y="227016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5120" y="4213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66960" y="42102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2195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78240" y="4216320"/>
            <a:ext cx="29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18000" y="32511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13360" y="4203720"/>
            <a:ext cx="4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21020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5600880"/>
            <a:ext cx="689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Ini. A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1, C1, A3,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TER. C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3, C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84280" y="2602080"/>
            <a:ext cx="5904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4518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30480" y="3576600"/>
            <a:ext cx="5904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09960" y="171468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PREV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35160" y="17017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LIM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1640" y="16891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LOTAMI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695600"/>
            <a:ext cx="30477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MINO CRI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/>
          <p:nvPr/>
        </p:nvSpPr>
        <p:spPr>
          <a:xfrm>
            <a:off x="3762360" y="3390840"/>
            <a:ext cx="1752480" cy="723960"/>
          </a:xfrm>
          <a:custGeom>
            <a:avLst/>
            <a:gdLst/>
            <a:ahLst/>
            <a:rect l="l" t="t" r="r" b="b"/>
            <a:pathLst>
              <a:path w="1104" h="456">
                <a:moveTo>
                  <a:pt x="0" y="0"/>
                </a:moveTo>
                <a:lnTo>
                  <a:pt x="1104" y="0"/>
                </a:lnTo>
                <a:lnTo>
                  <a:pt x="1104" y="456"/>
                </a:lnTo>
                <a:lnTo>
                  <a:pt x="936" y="456"/>
                </a:lnTo>
                <a:lnTo>
                  <a:pt x="936" y="168"/>
                </a:lnTo>
                <a:lnTo>
                  <a:pt x="618" y="168"/>
                </a:lnTo>
                <a:lnTo>
                  <a:pt x="618" y="318"/>
                </a:lnTo>
                <a:lnTo>
                  <a:pt x="6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267000" y="2933640"/>
            <a:ext cx="2733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911760" y="317808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898800" y="3184560"/>
            <a:ext cx="110484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80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15800" y="55119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9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610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2324160" y="3257640"/>
            <a:ext cx="466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Ú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REUTILIZ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741240" y="5556240"/>
            <a:ext cx="7234200" cy="195480"/>
            <a:chOff x="741240" y="5556240"/>
            <a:chExt cx="7234200" cy="195480"/>
          </a:xfrm>
        </p:grpSpPr>
        <p:sp>
          <p:nvSpPr>
            <p:cNvPr id="2634" name=""/>
            <p:cNvSpPr/>
            <p:nvPr/>
          </p:nvSpPr>
          <p:spPr>
            <a:xfrm>
              <a:off x="382896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07520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3228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514760" y="55688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780080" y="55688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37120" y="55688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292720" y="55688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59584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8420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08976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3374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58512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84036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0628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31052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55820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8454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41240" y="55562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2160" y="5556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3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4" name=""/>
          <p:cNvGrpSpPr/>
          <p:nvPr/>
        </p:nvGrpSpPr>
        <p:grpSpPr>
          <a:xfrm>
            <a:off x="554040" y="5131080"/>
            <a:ext cx="5787000" cy="486720"/>
            <a:chOff x="554040" y="5131080"/>
            <a:chExt cx="5787000" cy="486720"/>
          </a:xfrm>
        </p:grpSpPr>
        <p:sp>
          <p:nvSpPr>
            <p:cNvPr id="2655" name=""/>
            <p:cNvSpPr/>
            <p:nvPr/>
          </p:nvSpPr>
          <p:spPr>
            <a:xfrm>
              <a:off x="554040" y="52945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rot="18627600">
              <a:off x="17859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rot="18627600">
              <a:off x="2062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rot="18627600">
              <a:off x="2290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rot="18627600">
              <a:off x="255744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rot="18627600">
              <a:off x="28051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rot="18627600">
              <a:off x="30319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rot="18627600">
              <a:off x="33004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18627600">
              <a:off x="355608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rot="18627600">
              <a:off x="380376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rot="18627600">
              <a:off x="4051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rot="18627600">
              <a:off x="4306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rot="18627600">
              <a:off x="45813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rot="18627600">
              <a:off x="4748040" y="52308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rot="18627600">
              <a:off x="5026680" y="52221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rot="18627600">
              <a:off x="5290200" y="52380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rot="18627600">
              <a:off x="5590440" y="52189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rot="18627600">
              <a:off x="5814000" y="52729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rot="18627600">
              <a:off x="6045120" y="52498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54200" y="53308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Direc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5" name=""/>
          <p:cNvSpPr/>
          <p:nvPr/>
        </p:nvSpPr>
        <p:spPr>
          <a:xfrm>
            <a:off x="378000" y="628956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01640" y="57722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0520" y="57862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744480" y="5942520"/>
            <a:ext cx="7394400" cy="385560"/>
            <a:chOff x="744480" y="5942520"/>
            <a:chExt cx="7394400" cy="385560"/>
          </a:xfrm>
        </p:grpSpPr>
        <p:sp>
          <p:nvSpPr>
            <p:cNvPr id="2679" name=""/>
            <p:cNvSpPr/>
            <p:nvPr/>
          </p:nvSpPr>
          <p:spPr>
            <a:xfrm rot="18627600">
              <a:off x="6996960" y="6059880"/>
              <a:ext cx="30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rot="18627600">
              <a:off x="7275240" y="6046560"/>
              <a:ext cx="30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rot="18627600">
              <a:off x="7509240" y="6053760"/>
              <a:ext cx="29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rot="18627600">
              <a:off x="7810200" y="6029640"/>
              <a:ext cx="31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18627600">
              <a:off x="384156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rot="18627600">
              <a:off x="4089240" y="60354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rot="18627600">
              <a:off x="431784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rot="18627600">
              <a:off x="45925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18627600">
              <a:off x="4821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18627600">
              <a:off x="5086440" y="6054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rot="18627600">
              <a:off x="53337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627600">
              <a:off x="55623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18627600">
              <a:off x="5829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rot="18627600">
              <a:off x="60847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rot="18627600">
              <a:off x="633240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rot="18627600">
              <a:off x="65800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rot="18627600">
              <a:off x="67942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rot="18627600">
              <a:off x="361944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44480" y="604692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Costo Directo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8" name=""/>
          <p:cNvSpPr/>
          <p:nvPr/>
        </p:nvSpPr>
        <p:spPr>
          <a:xfrm rot="16200000">
            <a:off x="241920" y="5043600"/>
            <a:ext cx="6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P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75248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rot="16200000">
            <a:off x="234000" y="5826240"/>
            <a:ext cx="6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D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771640" y="1952640"/>
            <a:ext cx="238320" cy="733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717480" y="52642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717480" y="60166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399960" y="475308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01640" y="474984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7" name=""/>
          <p:cNvGrpSpPr/>
          <p:nvPr/>
        </p:nvGrpSpPr>
        <p:grpSpPr>
          <a:xfrm>
            <a:off x="712800" y="5057640"/>
            <a:ext cx="5516280" cy="186120"/>
            <a:chOff x="712800" y="5057640"/>
            <a:chExt cx="5516280" cy="186120"/>
          </a:xfrm>
        </p:grpSpPr>
        <p:grpSp>
          <p:nvGrpSpPr>
            <p:cNvPr id="2708" name=""/>
            <p:cNvGrpSpPr/>
            <p:nvPr/>
          </p:nvGrpSpPr>
          <p:grpSpPr>
            <a:xfrm>
              <a:off x="1814400" y="5057640"/>
              <a:ext cx="4414680" cy="182880"/>
              <a:chOff x="1814400" y="5057640"/>
              <a:chExt cx="4414680" cy="182880"/>
            </a:xfrm>
          </p:grpSpPr>
          <p:sp>
            <p:nvSpPr>
              <p:cNvPr id="2709" name=""/>
              <p:cNvSpPr/>
              <p:nvPr/>
            </p:nvSpPr>
            <p:spPr>
              <a:xfrm>
                <a:off x="18144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0793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307960" y="505764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471760" y="5057640"/>
                <a:ext cx="315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63720" y="5057640"/>
                <a:ext cx="28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022560" y="5057640"/>
                <a:ext cx="222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324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5719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83832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0845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332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57992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8258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08320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33880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60520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85144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0991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7" name=""/>
            <p:cNvSpPr/>
            <p:nvPr/>
          </p:nvSpPr>
          <p:spPr>
            <a:xfrm>
              <a:off x="712800" y="5060880"/>
              <a:ext cx="11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00200" y="5791320"/>
            <a:ext cx="7262640" cy="195480"/>
            <a:chOff x="700200" y="5791320"/>
            <a:chExt cx="7262640" cy="195480"/>
          </a:xfrm>
        </p:grpSpPr>
        <p:sp>
          <p:nvSpPr>
            <p:cNvPr id="2729" name=""/>
            <p:cNvSpPr/>
            <p:nvPr/>
          </p:nvSpPr>
          <p:spPr>
            <a:xfrm>
              <a:off x="38163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62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30992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502160" y="580392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767120" y="5803920"/>
              <a:ext cx="25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024520" y="5803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280120" y="580392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83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8294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07680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32448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5721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277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05024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2975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45240" y="58039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8328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00200" y="5791320"/>
              <a:ext cx="11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589200" y="57913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8" name=""/>
          <p:cNvSpPr/>
          <p:nvPr/>
        </p:nvSpPr>
        <p:spPr>
          <a:xfrm>
            <a:off x="2768760" y="437832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06080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25780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512040" y="439740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75656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258040" y="4390920"/>
            <a:ext cx="0" cy="1895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311560" y="3254400"/>
            <a:ext cx="466560" cy="212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019400" y="3419640"/>
            <a:ext cx="23832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781600" y="3619440"/>
            <a:ext cx="723960" cy="266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010280" y="3619440"/>
            <a:ext cx="247680" cy="514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537160" y="2943360"/>
            <a:ext cx="2247840" cy="676080"/>
          </a:xfrm>
          <a:custGeom>
            <a:avLst/>
            <a:gdLst/>
            <a:ahLst/>
            <a:rect l="l" t="t" r="r" b="b"/>
            <a:pathLst>
              <a:path w="1416" h="426">
                <a:moveTo>
                  <a:pt x="0" y="0"/>
                </a:moveTo>
                <a:lnTo>
                  <a:pt x="12" y="138"/>
                </a:lnTo>
                <a:lnTo>
                  <a:pt x="168" y="126"/>
                </a:lnTo>
                <a:lnTo>
                  <a:pt x="168" y="426"/>
                </a:lnTo>
                <a:lnTo>
                  <a:pt x="1092" y="426"/>
                </a:lnTo>
                <a:lnTo>
                  <a:pt x="1092" y="288"/>
                </a:lnTo>
                <a:lnTo>
                  <a:pt x="1416" y="288"/>
                </a:lnTo>
                <a:lnTo>
                  <a:pt x="1416" y="18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572000" y="3390840"/>
            <a:ext cx="888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U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508640" y="340344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276720" y="29718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3251160" y="2933640"/>
            <a:ext cx="2997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495680" y="3403440"/>
            <a:ext cx="1105200" cy="2127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3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8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20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20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20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20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4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7" dur="10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20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2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5" dur="20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"/>
          <p:cNvSpPr/>
          <p:nvPr/>
        </p:nvSpPr>
        <p:spPr>
          <a:xfrm>
            <a:off x="30020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2511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500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751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0006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2498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4989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7498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998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2484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4975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56400" y="1647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002280" y="115740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2467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6496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7453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996240" y="163836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2453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944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743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994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473120" y="16765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473120" y="1917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473120" y="2160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473120" y="2403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473120" y="2646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511280" y="28893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511280" y="31305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474920" y="33717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511280" y="3616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511280" y="3859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511280" y="4102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511280" y="4343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1511280" y="4586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1511280" y="4829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511280" y="5072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482840" y="531504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886200" y="533412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5102280" y="533412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378480" y="533412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639200" y="533412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7" name=""/>
          <p:cNvGrpSpPr/>
          <p:nvPr/>
        </p:nvGrpSpPr>
        <p:grpSpPr>
          <a:xfrm>
            <a:off x="380880" y="5772240"/>
            <a:ext cx="5836680" cy="433440"/>
            <a:chOff x="380880" y="5772240"/>
            <a:chExt cx="5836680" cy="433440"/>
          </a:xfrm>
        </p:grpSpPr>
        <p:sp>
          <p:nvSpPr>
            <p:cNvPr id="2808" name=""/>
            <p:cNvSpPr/>
            <p:nvPr/>
          </p:nvSpPr>
          <p:spPr>
            <a:xfrm rot="18627600">
              <a:off x="4603320" y="586404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rot="18627600">
              <a:off x="16585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rot="18627600">
              <a:off x="19350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rot="18627600">
              <a:off x="21636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rot="18627600">
              <a:off x="2430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rot="18627600">
              <a:off x="26776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rot="18627600">
              <a:off x="2904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rot="18627600">
              <a:off x="31730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rot="18627600">
              <a:off x="34286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 rot="18627600">
              <a:off x="36763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rot="18627600">
              <a:off x="3924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rot="18627600">
              <a:off x="4182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rot="18627600">
              <a:off x="44542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rot="18627600">
              <a:off x="4899240" y="586332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rot="18627600">
              <a:off x="5159880" y="585396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rot="18627600">
              <a:off x="5460120" y="580680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rot="18627600">
              <a:off x="5669280" y="584100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rot="18627600">
              <a:off x="5921280" y="5844600"/>
              <a:ext cx="27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0880" y="582300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7" name=""/>
          <p:cNvSpPr/>
          <p:nvPr/>
        </p:nvSpPr>
        <p:spPr>
          <a:xfrm>
            <a:off x="255600" y="646128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23920" y="6143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66760" y="5711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41600" y="5295960"/>
            <a:ext cx="0" cy="110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31840" y="570708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8921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143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39400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6449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8954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1464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3973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64824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38988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14972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44006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6512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9021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51530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4039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56545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90544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61563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64072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6578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69087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15968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4106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66116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7912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81630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979720" y="39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32080" y="38052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486240" y="3645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978520" y="2193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467000" y="2209680"/>
            <a:ext cx="4514760" cy="3119400"/>
          </a:xfrm>
          <a:custGeom>
            <a:avLst/>
            <a:gdLst/>
            <a:ahLst/>
            <a:rect l="l" t="t" r="r" b="b"/>
            <a:pathLst>
              <a:path w="2844" h="1965">
                <a:moveTo>
                  <a:pt x="0" y="1965"/>
                </a:moveTo>
                <a:lnTo>
                  <a:pt x="168" y="1917"/>
                </a:lnTo>
                <a:lnTo>
                  <a:pt x="335" y="1796"/>
                </a:lnTo>
                <a:lnTo>
                  <a:pt x="479" y="1611"/>
                </a:lnTo>
                <a:lnTo>
                  <a:pt x="647" y="1410"/>
                </a:lnTo>
                <a:lnTo>
                  <a:pt x="810" y="1260"/>
                </a:lnTo>
                <a:lnTo>
                  <a:pt x="960" y="1116"/>
                </a:lnTo>
                <a:lnTo>
                  <a:pt x="1122" y="1026"/>
                </a:lnTo>
                <a:lnTo>
                  <a:pt x="1272" y="924"/>
                </a:lnTo>
                <a:lnTo>
                  <a:pt x="284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727440" y="5124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229280" y="4883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5730840" y="3508200"/>
            <a:ext cx="42840" cy="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2418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486240" y="5216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479920" y="3657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971960" y="4035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235480" y="3794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727520" y="42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476600" y="4587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7718400" y="2343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730680" y="3498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984480" y="33526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229280" y="3216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483080" y="30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727520" y="2933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976640" y="277344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221440" y="2631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475240" y="24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724360" y="234936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969160" y="3365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223040" y="2647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216480" y="322272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70640" y="30765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724800" y="2930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6969240" y="2793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619280" y="361800"/>
            <a:ext cx="624852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Recursos reutiliza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8185320" y="509904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7467480" y="2502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848200" y="184788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588080" y="195912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4" name=""/>
          <p:cNvGrpSpPr/>
          <p:nvPr/>
        </p:nvGrpSpPr>
        <p:grpSpPr>
          <a:xfrm>
            <a:off x="5981760" y="1187280"/>
            <a:ext cx="1752480" cy="487080"/>
            <a:chOff x="5981760" y="1187280"/>
            <a:chExt cx="1752480" cy="487080"/>
          </a:xfrm>
        </p:grpSpPr>
        <p:sp>
          <p:nvSpPr>
            <p:cNvPr id="2895" name=""/>
            <p:cNvSpPr/>
            <p:nvPr/>
          </p:nvSpPr>
          <p:spPr>
            <a:xfrm flipV="1">
              <a:off x="5981760" y="1294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7721640" y="13201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81760" y="14284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83600" y="11872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>
            <a:off x="1486080" y="137160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754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20034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2252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25020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752560" y="1628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6621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26575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104840" y="42228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257480" y="519444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104840" y="32576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914400" y="22734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1104840" y="47052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104840" y="3740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914400" y="27558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990720" y="179064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2230560" y="47005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4670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733400" y="5203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98108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482920" y="4427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730600" y="4184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1200240" y="106668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379440" y="6085800"/>
            <a:ext cx="7631280" cy="489600"/>
            <a:chOff x="379440" y="6085800"/>
            <a:chExt cx="7631280" cy="489600"/>
          </a:xfrm>
        </p:grpSpPr>
        <p:sp>
          <p:nvSpPr>
            <p:cNvPr id="2923" name=""/>
            <p:cNvSpPr/>
            <p:nvPr/>
          </p:nvSpPr>
          <p:spPr>
            <a:xfrm>
              <a:off x="379440" y="6232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rot="18627600">
              <a:off x="372060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rot="18627600">
              <a:off x="39682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rot="18627600">
              <a:off x="41968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rot="18627600">
              <a:off x="44715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rot="18627600">
              <a:off x="4700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rot="18627600">
              <a:off x="49654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rot="18627600">
              <a:off x="52128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rot="18627600">
              <a:off x="54414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rot="18627600">
              <a:off x="5708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 rot="18627600">
              <a:off x="59637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rot="18627600">
              <a:off x="6211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rot="18627600">
              <a:off x="645912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rot="18627600">
              <a:off x="6670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rot="18627600">
              <a:off x="698112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rot="18627600">
              <a:off x="7146360" y="621036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rot="18627600">
              <a:off x="747468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rot="18627600">
              <a:off x="7646760" y="618948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 rot="18627600">
              <a:off x="349848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398160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257640" y="2362320"/>
            <a:ext cx="4486320" cy="2962080"/>
          </a:xfrm>
          <a:custGeom>
            <a:avLst/>
            <a:gdLst/>
            <a:ahLst/>
            <a:rect l="l" t="t" r="r" b="b"/>
            <a:pathLst>
              <a:path w="2826" h="1866">
                <a:moveTo>
                  <a:pt x="0" y="1866"/>
                </a:moveTo>
                <a:lnTo>
                  <a:pt x="150" y="1800"/>
                </a:lnTo>
                <a:lnTo>
                  <a:pt x="306" y="1752"/>
                </a:lnTo>
                <a:lnTo>
                  <a:pt x="474" y="1674"/>
                </a:lnTo>
                <a:lnTo>
                  <a:pt x="618" y="1602"/>
                </a:lnTo>
                <a:lnTo>
                  <a:pt x="942" y="1230"/>
                </a:lnTo>
                <a:lnTo>
                  <a:pt x="1080" y="1068"/>
                </a:lnTo>
                <a:lnTo>
                  <a:pt x="1260" y="912"/>
                </a:lnTo>
                <a:lnTo>
                  <a:pt x="2826" y="0"/>
                </a:lnTo>
              </a:path>
            </a:pathLst>
          </a:custGeom>
          <a:noFill/>
          <a:ln w="1908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4" name=""/>
          <p:cNvGrpSpPr/>
          <p:nvPr/>
        </p:nvGrpSpPr>
        <p:grpSpPr>
          <a:xfrm>
            <a:off x="1422360" y="4775040"/>
            <a:ext cx="1838160" cy="549360"/>
            <a:chOff x="1422360" y="4775040"/>
            <a:chExt cx="1838160" cy="549360"/>
          </a:xfrm>
        </p:grpSpPr>
        <p:sp>
          <p:nvSpPr>
            <p:cNvPr id="2945" name=""/>
            <p:cNvSpPr/>
            <p:nvPr/>
          </p:nvSpPr>
          <p:spPr>
            <a:xfrm flipH="1">
              <a:off x="3257280" y="487656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482840" y="498780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422360" y="477504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emora  </a:t>
              </a: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8" name=""/>
          <p:cNvSpPr/>
          <p:nvPr/>
        </p:nvSpPr>
        <p:spPr>
          <a:xfrm rot="20051400">
            <a:off x="3660840" y="2895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rot="19855200">
            <a:off x="3452760" y="30445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rot="18952800">
            <a:off x="4145040" y="39650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rot="18952800">
            <a:off x="4226040" y="386676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727360" y="4262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981160" y="4011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225960" y="3913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479760" y="381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72420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98772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238640" y="3664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4479840" y="362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4734000" y="354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4978440" y="3475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232240" y="3462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 rot="20837400">
            <a:off x="5476680" y="335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rot="20837400">
            <a:off x="5740200" y="3255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476360" y="50385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0" y="180"/>
                </a:moveTo>
                <a:lnTo>
                  <a:pt x="174" y="120"/>
                </a:lnTo>
                <a:lnTo>
                  <a:pt x="32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495440" y="3143160"/>
            <a:ext cx="450540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981600" y="5097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235400" y="4951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479840" y="46530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724280" y="4373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4978440" y="4132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232240" y="388152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547704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74056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975280" y="3652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6219720" y="3630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473880" y="35416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727680" y="3462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972480" y="3440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216920" y="3351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7470720" y="3252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724880" y="3106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5978520" y="31035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3247920" y="313380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2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6" dur="250" autoRev="1" fill="hold"/>
                                        <p:tgtEl>
                                          <p:spTgt spid="28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1" dur="10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20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20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7" nodeType="after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8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9" dur="250" autoRev="1" fill="hold"/>
                                        <p:tgtEl>
                                          <p:spTgt spid="2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5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500"/>
                            </p:stCondLst>
                            <p:childTnLst>
                              <p:par>
                                <p:cTn id="2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20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7" dur="10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7320" y="1357200"/>
            <a:ext cx="4396320" cy="1715400"/>
            <a:chOff x="2137320" y="1357200"/>
            <a:chExt cx="4396320" cy="1715400"/>
          </a:xfrm>
        </p:grpSpPr>
        <p:sp>
          <p:nvSpPr>
            <p:cNvPr id="241" name=""/>
            <p:cNvSpPr/>
            <p:nvPr/>
          </p:nvSpPr>
          <p:spPr>
            <a:xfrm>
              <a:off x="4490280" y="2145960"/>
              <a:ext cx="514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94600" y="2192400"/>
              <a:ext cx="49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0280" y="1726920"/>
              <a:ext cx="0" cy="32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4920" y="2180880"/>
              <a:ext cx="50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96560" y="1610280"/>
              <a:ext cx="325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796560" y="1610280"/>
              <a:ext cx="0" cy="57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5320" y="1726920"/>
              <a:ext cx="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21280" y="2052720"/>
              <a:ext cx="399240" cy="221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88520" y="2052720"/>
              <a:ext cx="399240" cy="221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7320" y="1488240"/>
              <a:ext cx="399240" cy="221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18400" y="2058480"/>
              <a:ext cx="399240" cy="221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35320" y="2046960"/>
              <a:ext cx="399240" cy="221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32800" y="14871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12000" y="149508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32800" y="2048760"/>
              <a:ext cx="39924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32800" y="26589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29920" y="14871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94360" y="150624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29920" y="206028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29920" y="26589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7040" y="148716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03000" y="148212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7040" y="208368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7040" y="2658960"/>
              <a:ext cx="37656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2360" y="2060280"/>
              <a:ext cx="38880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86000" y="205452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306520" y="2302920"/>
              <a:ext cx="61920" cy="371520"/>
              <a:chOff x="2306520" y="2302920"/>
              <a:chExt cx="61920" cy="37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2306520" y="2578320"/>
                <a:ext cx="61920" cy="9612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23" y="98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23" y="9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36040" y="2302920"/>
                <a:ext cx="0" cy="27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413080" y="20682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9652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9400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91840" y="2080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012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96880" y="20682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734920" y="1559880"/>
              <a:ext cx="507960" cy="44640"/>
              <a:chOff x="2734920" y="1559880"/>
              <a:chExt cx="507960" cy="44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145680" y="1559880"/>
                <a:ext cx="97200" cy="44640"/>
              </a:xfrm>
              <a:custGeom>
                <a:avLst/>
                <a:gdLst/>
                <a:ahLst/>
                <a:rect l="l" t="t" r="r" b="b"/>
                <a:pathLst>
                  <a:path w="111" h="46">
                    <a:moveTo>
                      <a:pt x="110" y="11"/>
                    </a:moveTo>
                    <a:lnTo>
                      <a:pt x="0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34920" y="1580040"/>
                <a:ext cx="4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632040" y="1547280"/>
              <a:ext cx="507600" cy="44640"/>
              <a:chOff x="3632040" y="1547280"/>
              <a:chExt cx="507600" cy="44640"/>
            </a:xfrm>
          </p:grpSpPr>
          <p:sp>
            <p:nvSpPr>
              <p:cNvPr id="280" name=""/>
              <p:cNvSpPr/>
              <p:nvPr/>
            </p:nvSpPr>
            <p:spPr>
              <a:xfrm>
                <a:off x="4019040" y="1547280"/>
                <a:ext cx="120600" cy="4464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137" y="22"/>
                    </a:move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37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32040" y="1580040"/>
                <a:ext cx="38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632040" y="2145960"/>
              <a:ext cx="484920" cy="56880"/>
              <a:chOff x="3632040" y="2145960"/>
              <a:chExt cx="484920" cy="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007520" y="2145960"/>
                <a:ext cx="109440" cy="56880"/>
              </a:xfrm>
              <a:custGeom>
                <a:avLst/>
                <a:gdLst/>
                <a:ahLst/>
                <a:rect l="l" t="t" r="r" b="b"/>
                <a:pathLst>
                  <a:path w="125" h="59">
                    <a:moveTo>
                      <a:pt x="124" y="35"/>
                    </a:move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24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32040" y="21920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734920" y="2744280"/>
              <a:ext cx="484920" cy="56880"/>
              <a:chOff x="2734920" y="2744280"/>
              <a:chExt cx="484920" cy="5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3099240" y="274428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11"/>
                    </a:moveTo>
                    <a:lnTo>
                      <a:pt x="0" y="5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34920" y="2764440"/>
                <a:ext cx="36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643200" y="2744280"/>
              <a:ext cx="473400" cy="69840"/>
              <a:chOff x="3643200" y="2744280"/>
              <a:chExt cx="473400" cy="6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4007160" y="2744280"/>
                <a:ext cx="109440" cy="69840"/>
              </a:xfrm>
              <a:custGeom>
                <a:avLst/>
                <a:gdLst/>
                <a:ahLst/>
                <a:rect l="l" t="t" r="r" b="b"/>
                <a:pathLst>
                  <a:path w="125" h="72">
                    <a:moveTo>
                      <a:pt x="124" y="36"/>
                    </a:moveTo>
                    <a:lnTo>
                      <a:pt x="0" y="71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4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43200" y="2790720"/>
                <a:ext cx="36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933640" y="1576440"/>
              <a:ext cx="0" cy="55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918880" y="2108160"/>
              <a:ext cx="312120" cy="55800"/>
              <a:chOff x="2918880" y="2108160"/>
              <a:chExt cx="312120" cy="55800"/>
            </a:xfrm>
          </p:grpSpPr>
          <p:sp>
            <p:nvSpPr>
              <p:cNvPr id="293" name=""/>
              <p:cNvSpPr/>
              <p:nvPr/>
            </p:nvSpPr>
            <p:spPr>
              <a:xfrm>
                <a:off x="3110400" y="2108160"/>
                <a:ext cx="120600" cy="55800"/>
              </a:xfrm>
              <a:custGeom>
                <a:avLst/>
                <a:gdLst/>
                <a:ahLst/>
                <a:rect l="l" t="t" r="r" b="b"/>
                <a:pathLst>
                  <a:path w="138" h="58">
                    <a:moveTo>
                      <a:pt x="137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18880" y="212832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918880" y="2222640"/>
              <a:ext cx="312120" cy="56880"/>
              <a:chOff x="2918880" y="2222640"/>
              <a:chExt cx="312120" cy="56880"/>
            </a:xfrm>
          </p:grpSpPr>
          <p:sp>
            <p:nvSpPr>
              <p:cNvPr id="296" name=""/>
              <p:cNvSpPr/>
              <p:nvPr/>
            </p:nvSpPr>
            <p:spPr>
              <a:xfrm>
                <a:off x="3110400" y="222264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34"/>
                    </a:moveTo>
                    <a:lnTo>
                      <a:pt x="0" y="5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37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18880" y="226800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922480" y="2243520"/>
              <a:ext cx="0" cy="5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97640" y="1602720"/>
              <a:ext cx="0" cy="5821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5680" y="1614240"/>
              <a:ext cx="36432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33160" y="22906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29920" y="2523240"/>
              <a:ext cx="3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594240" y="2519280"/>
              <a:ext cx="50760" cy="141120"/>
              <a:chOff x="3594240" y="2519280"/>
              <a:chExt cx="50760" cy="141120"/>
            </a:xfrm>
          </p:grpSpPr>
          <p:sp>
            <p:nvSpPr>
              <p:cNvPr id="304" name=""/>
              <p:cNvSpPr/>
              <p:nvPr/>
            </p:nvSpPr>
            <p:spPr>
              <a:xfrm>
                <a:off x="3594240" y="2565720"/>
                <a:ext cx="50760" cy="9468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23" y="97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57" y="0"/>
                    </a:lnTo>
                    <a:lnTo>
                      <a:pt x="23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23760" y="2519280"/>
                <a:ext cx="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088160" y="2290680"/>
              <a:ext cx="63000" cy="370440"/>
              <a:chOff x="4088160" y="2290680"/>
              <a:chExt cx="63000" cy="370440"/>
            </a:xfrm>
          </p:grpSpPr>
          <p:sp>
            <p:nvSpPr>
              <p:cNvPr id="307" name=""/>
              <p:cNvSpPr/>
              <p:nvPr/>
            </p:nvSpPr>
            <p:spPr>
              <a:xfrm>
                <a:off x="4088160" y="2566080"/>
                <a:ext cx="63000" cy="95040"/>
              </a:xfrm>
              <a:custGeom>
                <a:avLst/>
                <a:gdLst/>
                <a:ahLst/>
                <a:rect l="l" t="t" r="r" b="b"/>
                <a:pathLst>
                  <a:path w="72" h="98">
                    <a:moveTo>
                      <a:pt x="36" y="9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71" y="0"/>
                    </a:lnTo>
                    <a:lnTo>
                      <a:pt x="36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29920" y="2290680"/>
                <a:ext cx="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498560" y="2205000"/>
              <a:ext cx="207360" cy="560520"/>
            </a:xfrm>
            <a:custGeom>
              <a:avLst/>
              <a:gdLst/>
              <a:ahLst/>
              <a:rect l="l" t="t" r="r" b="b"/>
              <a:pathLst>
                <a:path w="237" h="578">
                  <a:moveTo>
                    <a:pt x="0" y="577"/>
                  </a:moveTo>
                  <a:lnTo>
                    <a:pt x="236" y="577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701600" y="2184840"/>
              <a:ext cx="323640" cy="56160"/>
              <a:chOff x="4701600" y="2184840"/>
              <a:chExt cx="323640" cy="56160"/>
            </a:xfrm>
          </p:grpSpPr>
          <p:sp>
            <p:nvSpPr>
              <p:cNvPr id="311" name=""/>
              <p:cNvSpPr/>
              <p:nvPr/>
            </p:nvSpPr>
            <p:spPr>
              <a:xfrm>
                <a:off x="4915800" y="2184840"/>
                <a:ext cx="109440" cy="56160"/>
              </a:xfrm>
              <a:custGeom>
                <a:avLst/>
                <a:gdLst/>
                <a:ahLst/>
                <a:rect l="l" t="t" r="r" b="b"/>
                <a:pathLst>
                  <a:path w="125" h="58">
                    <a:moveTo>
                      <a:pt x="124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4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01600" y="2205000"/>
                <a:ext cx="2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96700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4440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4440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4080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2676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6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26760" y="1686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468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44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45840" y="2859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285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033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3200" y="2642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467960" y="1778040"/>
              <a:ext cx="239400" cy="210600"/>
              <a:chOff x="4467960" y="1778040"/>
              <a:chExt cx="239400" cy="210600"/>
            </a:xfrm>
          </p:grpSpPr>
          <p:sp>
            <p:nvSpPr>
              <p:cNvPr id="327" name=""/>
              <p:cNvSpPr/>
              <p:nvPr/>
            </p:nvSpPr>
            <p:spPr>
              <a:xfrm>
                <a:off x="446796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0540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781800" y="2658960"/>
              <a:ext cx="100440" cy="12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866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104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4992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884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582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755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19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9352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520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80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391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694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693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65080" y="13572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58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48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330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48520" y="2541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1536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5500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06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2764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362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0816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618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2040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744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6148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8344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6468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82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06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704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64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930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6760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7116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2472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55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3732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65800" y="2252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74760" y="2252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8812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69000" y="1651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11280" y="263952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740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498560" y="2076840"/>
              <a:ext cx="0" cy="2426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603600" y="2188800"/>
              <a:ext cx="20196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30280" y="1724760"/>
              <a:ext cx="0" cy="31320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7640" y="2154600"/>
              <a:ext cx="503280" cy="0"/>
            </a:xfrm>
            <a:prstGeom prst="line">
              <a:avLst/>
            </a:prstGeom>
            <a:ln w="2844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87760" y="1719000"/>
              <a:ext cx="10440" cy="35964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314080" y="1778040"/>
              <a:ext cx="239400" cy="210600"/>
              <a:chOff x="2314080" y="1778040"/>
              <a:chExt cx="239400" cy="21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231408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35008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5418360" y="2199240"/>
              <a:ext cx="464040" cy="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0320" y="2180880"/>
              <a:ext cx="50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31000" y="203832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28800" y="20422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31360" y="20574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91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27040" y="14716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316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22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04320" y="20538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86000" y="20516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73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25720" y="1570680"/>
              <a:ext cx="32400" cy="2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03040" y="2741400"/>
              <a:ext cx="3204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78920" y="2166120"/>
              <a:ext cx="3240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211480" y="3402000"/>
            <a:ext cx="4243680" cy="2717280"/>
            <a:chOff x="2211480" y="3402000"/>
            <a:chExt cx="4243680" cy="2717280"/>
          </a:xfrm>
        </p:grpSpPr>
        <p:sp>
          <p:nvSpPr>
            <p:cNvPr id="400" name=""/>
            <p:cNvSpPr/>
            <p:nvPr/>
          </p:nvSpPr>
          <p:spPr>
            <a:xfrm>
              <a:off x="2225520" y="360612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25520" y="3402000"/>
              <a:ext cx="378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3800" y="3768840"/>
              <a:ext cx="34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255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25520" y="394056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21560" y="41763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21560" y="43671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21560" y="473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11480" y="45586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21560" y="491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21560" y="51091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21560" y="52894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21560" y="54928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07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6548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163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336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05320" y="362484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35200" y="362484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8712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29960" y="36586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128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2320" y="34207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88000" y="34207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22360" y="34207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05520" y="34207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37040" y="36828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8400" y="36115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1644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85160" y="36115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3624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58680" y="3624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9616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1000" y="36115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86040" y="359352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24400" y="37792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0968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544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272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12400" y="38023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14600" y="37929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58120" y="37929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70600" y="36115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16320" y="37656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00760" y="3982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00760" y="4198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00760" y="43776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00040" y="4570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00040" y="47613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0040" y="49406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00040" y="5119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03640" y="53229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03640" y="55022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03640" y="571608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03640" y="58975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3440" y="568332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33440" y="58870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37040" y="607140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0432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0432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0432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0432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432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0432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432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0432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432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4320" y="5716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04320" y="5897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244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9036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0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86840" y="3982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23960" y="3994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82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44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903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292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8684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239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8260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4244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33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292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86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2396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8260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4244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9036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6060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6840" y="457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2396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8260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4244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03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9292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8684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239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8260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4244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9036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929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868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016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725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4244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33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929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86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016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725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4244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9036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9292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8684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396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8260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4244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9292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3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6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16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82600" y="5512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884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9292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33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6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2396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8260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884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33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292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86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2396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260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37920" y="3982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37920" y="4198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37920" y="4365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37920" y="45684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37920" y="4761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81040" y="49384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81040" y="5131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7920" y="5310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37920" y="55022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37920" y="571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39720" y="58975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106640" y="2011320"/>
            <a:ext cx="6933960" cy="4099320"/>
            <a:chOff x="1106640" y="2011320"/>
            <a:chExt cx="6933960" cy="4099320"/>
          </a:xfrm>
        </p:grpSpPr>
        <p:sp>
          <p:nvSpPr>
            <p:cNvPr id="548" name=""/>
            <p:cNvSpPr/>
            <p:nvPr/>
          </p:nvSpPr>
          <p:spPr>
            <a:xfrm>
              <a:off x="1130400" y="232092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30400" y="2011320"/>
              <a:ext cx="627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39880" y="2567160"/>
              <a:ext cx="56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304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30400" y="28274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3920" y="3184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34732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23920" y="4035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06640" y="376380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3920" y="43084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3920" y="4597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23920" y="487044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3920" y="5178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6376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7672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166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8504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8960" y="2349360"/>
              <a:ext cx="0" cy="370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98680" y="2349360"/>
              <a:ext cx="0" cy="36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03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51240" y="2400480"/>
              <a:ext cx="227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531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08880" y="2038320"/>
              <a:ext cx="1109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95800" y="2038320"/>
              <a:ext cx="177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3200" y="2038320"/>
              <a:ext cx="1548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00400" y="2038320"/>
              <a:ext cx="1512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51280" y="2436840"/>
              <a:ext cx="562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30520" y="2328840"/>
              <a:ext cx="553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3576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17680" y="232884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12360" y="234648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93920" y="234648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8060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71880" y="2328840"/>
              <a:ext cx="699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18640" y="2301840"/>
              <a:ext cx="0" cy="369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3160" y="2583000"/>
              <a:ext cx="455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9632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9704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2116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50600" y="26179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77520" y="260028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13720" y="2600280"/>
              <a:ext cx="356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31400" y="2328840"/>
              <a:ext cx="580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03040" y="2563920"/>
              <a:ext cx="63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52800" y="289080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52800" y="321624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52800" y="348948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52080" y="37782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2080" y="406872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52080" y="434016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52080" y="46116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58200" y="492120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58200" y="519264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58200" y="551808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58200" y="579132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3000" y="546732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3000" y="577548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49480" y="60548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93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393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393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393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393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93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93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93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93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39320" y="55180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39320" y="57913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647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712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144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01640" y="28908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09920" y="29084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7024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47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7120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8552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0164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099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024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47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6176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8552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0164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0992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7024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647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712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144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01640" y="37782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0992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024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647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7120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8552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0164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099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7024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647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7120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8552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164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573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67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47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61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8552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0164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73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36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647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7120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8552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0164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0992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7024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47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8552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617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0164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573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870240" y="5210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5528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8552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6176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0164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0992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7024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5528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6176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8552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0164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0992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7024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40480" y="28908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40480" y="32162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40480" y="34704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40480" y="37782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40480" y="40687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43640" y="434016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43640" y="463068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0480" y="49021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40480" y="51926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40480" y="551808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40480" y="57913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DIAGRAMA DE BARR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97320" y="376560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97320" y="39736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22520" y="4200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22520" y="44100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22520" y="4632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2520" y="48402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2520" y="50515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22520" y="52592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2520" y="54817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2520" y="57038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22520" y="591336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22520" y="61214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97320" y="63262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422520" y="374508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819600" y="3757680"/>
            <a:ext cx="0" cy="25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022640" y="3744720"/>
            <a:ext cx="0" cy="25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1860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505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665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243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831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56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315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4738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634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792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952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1117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72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431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5912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750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908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068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2295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7388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559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718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7878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80391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62840" y="3789360"/>
            <a:ext cx="36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16720" y="3789360"/>
            <a:ext cx="275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28000" y="402444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28000" y="424512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28000" y="444168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27280" y="46641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27280" y="4871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27280" y="50817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27280" y="5303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31240" y="551196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31240" y="57355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31240" y="594360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31240" y="61531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37960" y="40244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346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7960" y="4664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7960" y="48862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37960" y="4232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37960" y="55119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37960" y="50943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37960" y="44546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37960" y="57355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37960" y="53038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37960" y="595800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37960" y="61657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8205840" y="3730680"/>
            <a:ext cx="0" cy="25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24440" y="4070520"/>
            <a:ext cx="326880" cy="6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1960" y="4300560"/>
            <a:ext cx="650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1800" y="4510080"/>
            <a:ext cx="976320" cy="61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83200" y="4732200"/>
            <a:ext cx="804600" cy="47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83200" y="4927680"/>
            <a:ext cx="474480" cy="5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27600" y="5137200"/>
            <a:ext cx="155520" cy="49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11800" y="5359320"/>
            <a:ext cx="633240" cy="49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79880" y="5568840"/>
            <a:ext cx="327240" cy="47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50080" y="5791320"/>
            <a:ext cx="461880" cy="47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2200" y="5999040"/>
            <a:ext cx="315720" cy="49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67640" y="6183360"/>
            <a:ext cx="144360" cy="60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72680" y="3781440"/>
            <a:ext cx="4148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   2    3   4   5    6    7   8    9   10  11 12  13  14 15 16  17 18  19  20  21 22  23  24  25 2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763560" y="906480"/>
            <a:ext cx="4244040" cy="2717280"/>
            <a:chOff x="763560" y="906480"/>
            <a:chExt cx="4244040" cy="2717280"/>
          </a:xfrm>
        </p:grpSpPr>
        <p:sp>
          <p:nvSpPr>
            <p:cNvPr id="775" name=""/>
            <p:cNvSpPr/>
            <p:nvPr/>
          </p:nvSpPr>
          <p:spPr>
            <a:xfrm>
              <a:off x="777600" y="111060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7600" y="90648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45880" y="127332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76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7600" y="144504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3640" y="1680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3640" y="18716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3640" y="224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3560" y="20631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3640" y="242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3640" y="26136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3640" y="2793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3640" y="29973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22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792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6876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55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57400" y="112932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87640" y="112932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3956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182400" y="116316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1372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4400" y="92520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40080" y="92520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74800" y="92520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57600" y="92520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9120" y="118728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140480" y="111600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6852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7600" y="11160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0240" y="11286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11120" y="11286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4860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23440" y="111600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38480" y="109800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76480" y="128376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617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0752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651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64480" y="130680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67040" y="129744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10560" y="129744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23040" y="111600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68760" y="127008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52840" y="1486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52840" y="1702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2840" y="1882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52120" y="2075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52120" y="22658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52120" y="24451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52120" y="2624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55720" y="28274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55720" y="30067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55720" y="32205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55720" y="340200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5520" y="318780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5520" y="33915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9120" y="357588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5640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5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5640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5640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5640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5640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5640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5640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6400" y="322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56400" y="340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9452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424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1268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39280" y="1486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76400" y="1499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350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9452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424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4536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3928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7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350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9452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86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4536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39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640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3504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9452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4244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1268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39280" y="207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7640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504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9452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424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4536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3928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7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350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9452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4244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453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392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540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249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9452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86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453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540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249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9452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4244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4536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3928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7640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3504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9452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536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86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39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540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35040" y="3017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4052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4536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186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39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7640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3504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4052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86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4536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39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7640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23504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90360" y="148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90360" y="1702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90360" y="18694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90360" y="20728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90360" y="2265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33480" y="24429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33480" y="26355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90360" y="2814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0360" y="30067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90360" y="322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92160" y="3402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38480" y="4176720"/>
            <a:ext cx="117360" cy="87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19680" y="5160960"/>
            <a:ext cx="74124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557680" y="5448240"/>
            <a:ext cx="559080" cy="10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99120" y="5765760"/>
            <a:ext cx="24912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728800" y="4165560"/>
            <a:ext cx="5079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06840" y="4164120"/>
            <a:ext cx="155520" cy="106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00520" y="5162400"/>
            <a:ext cx="96840" cy="92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772080" y="5143680"/>
            <a:ext cx="1790640" cy="9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ími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763560" y="1020600"/>
            <a:ext cx="4244040" cy="2717640"/>
            <a:chOff x="763560" y="1020600"/>
            <a:chExt cx="4244040" cy="2717640"/>
          </a:xfrm>
        </p:grpSpPr>
        <p:sp>
          <p:nvSpPr>
            <p:cNvPr id="1007" name=""/>
            <p:cNvSpPr/>
            <p:nvPr/>
          </p:nvSpPr>
          <p:spPr>
            <a:xfrm>
              <a:off x="777600" y="122472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7600" y="102060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145880" y="138744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76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7600" y="15591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3640" y="1794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73640" y="19857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3640" y="235692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3560" y="217764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3640" y="25372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3640" y="272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3640" y="290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3640" y="3111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22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92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6876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55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57400" y="1243800"/>
              <a:ext cx="0" cy="24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87640" y="1243800"/>
              <a:ext cx="0" cy="243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13956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82400" y="12772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1372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4400" y="10393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40080" y="10393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74800" y="10393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57600" y="10393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9120" y="13014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40480" y="12301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6852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37600" y="1230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40240" y="12427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11120" y="12427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4860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23440" y="12301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38480" y="1212120"/>
              <a:ext cx="0" cy="24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76480" y="13978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617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0752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651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4480" y="14209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67040" y="14115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10560" y="14115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523040" y="12301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68760" y="13842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52840" y="1601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52840" y="1817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52840" y="199656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120" y="21891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2120" y="23799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2120" y="25592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52120" y="27385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55720" y="29419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55720" y="31208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5720" y="33350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5720" y="35161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85520" y="33022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85520" y="35056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89120" y="36903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5640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5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25640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5640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5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640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5640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5640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25640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56400" y="333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56400" y="3516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69452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424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1268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39280" y="1601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76400" y="1613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350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9452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424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4536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3928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7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350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9452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86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536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39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7640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23504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9452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244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1268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39280" y="21891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7640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3504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9452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424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4536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3928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7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350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9452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4244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453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392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540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249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69452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86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453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39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540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249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9452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4244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4536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3928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7640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3504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9452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4536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86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39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540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5040" y="313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4052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4536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86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39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640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3504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4052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86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536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39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7640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3504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90360" y="160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90360" y="1817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90360" y="1983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90360" y="2187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90360" y="2379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33480" y="2557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33480" y="275004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90360" y="2929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590360" y="3120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90360" y="33357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92160" y="35161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4054320" y="393552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054320" y="41403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078440" y="4361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78440" y="456552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78440" y="4782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078440" y="49863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78440" y="51926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78440" y="5396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78440" y="5613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078440" y="5829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078440" y="6033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078440" y="623880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54320" y="64389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078440" y="39146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459320" y="3927600"/>
            <a:ext cx="0" cy="24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654440" y="3914280"/>
            <a:ext cx="0" cy="25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4811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1181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52704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423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5576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894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046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200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6353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5070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659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811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964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7118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7270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7423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577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295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883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0470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82011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83534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85075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8040" y="3957480"/>
            <a:ext cx="390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54280" y="3957480"/>
            <a:ext cx="286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80320" y="4189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80320" y="4405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180320" y="459756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79600" y="481500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179600" y="50198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79600" y="52214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179600" y="544032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183920" y="564372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83920" y="586116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83920" y="606600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183920" y="626904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70840" y="4189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964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70840" y="48150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70840" y="5032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70840" y="4394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70840" y="56437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70840" y="523548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70840" y="4610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70840" y="5861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70840" y="5440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70840" y="60786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70840" y="6283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8667720" y="39020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597920" y="3951360"/>
            <a:ext cx="4218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   2   3   4  5   6   7   8   9  10 11 12 1314 15 16 17 1819  20 21 22 23 24 25 2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738760" y="4235400"/>
            <a:ext cx="314280" cy="58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356520" y="4459320"/>
            <a:ext cx="623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962760" y="4665600"/>
            <a:ext cx="938160" cy="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905440" y="4865760"/>
            <a:ext cx="773280" cy="47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199200" y="5070600"/>
            <a:ext cx="4539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70680" y="5273640"/>
            <a:ext cx="150840" cy="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649920" y="5702400"/>
            <a:ext cx="314280" cy="4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424640" y="5913360"/>
            <a:ext cx="444600" cy="5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037360" y="6116760"/>
            <a:ext cx="303480" cy="5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32920" y="6296040"/>
            <a:ext cx="155520" cy="5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432560" y="5497560"/>
            <a:ext cx="608040" cy="47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738760" y="393228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Ímite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27280" y="2570040"/>
            <a:ext cx="430200" cy="1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37080" y="2932200"/>
            <a:ext cx="1042920" cy="7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584680" y="3249720"/>
            <a:ext cx="15685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74960" y="3559320"/>
            <a:ext cx="1292400" cy="7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95880" y="387360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332320" y="4187880"/>
            <a:ext cx="25092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56200" y="4846680"/>
            <a:ext cx="52560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350040" y="5153040"/>
            <a:ext cx="608040" cy="120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416720" y="5486400"/>
            <a:ext cx="506520" cy="82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896240" y="5762520"/>
            <a:ext cx="258840" cy="85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346800" y="4519440"/>
            <a:ext cx="101772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529080" y="211932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60760" y="2570040"/>
            <a:ext cx="99216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342120" y="5148360"/>
            <a:ext cx="1041480" cy="12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35560" y="2576520"/>
            <a:ext cx="118800" cy="122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273800" y="5159520"/>
            <a:ext cx="106560" cy="104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4:40:31Z</dcterms:created>
  <dc:creator>Gregorio Rodolfo Azócar Gajardo</dc:creator>
  <dc:description>Computo de Recursos</dc:description>
  <dc:language>en-US</dc:language>
  <cp:lastModifiedBy> </cp:lastModifiedBy>
  <dcterms:modified xsi:type="dcterms:W3CDTF">2007-10-02T13:57:23Z</dcterms:modified>
  <cp:revision>449</cp:revision>
  <dc:subject>TRANSPARENCIAS</dc:subject>
  <dc:title>CI52B POGRAMACION; SEGUIMIENTO Y CONTROL</dc:title>
</cp:coreProperties>
</file>