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click.wav" ContentType="audio/x-wav"/>
  <Override PartName="/ppt/media/image7.png" ContentType="image/png"/>
  <Override PartName="/ppt/media/image12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482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44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8161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995800" y="-360"/>
            <a:ext cx="8571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8680" y="739440"/>
            <a:ext cx="493560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89000"/>
            <a:ext cx="321624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687960"/>
            <a:ext cx="9176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6594120" y="9687960"/>
            <a:ext cx="2588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4689-9F99-4948-951F-B6FFDA3BA45B}" type="slidenum">
              <a:rPr b="0" lang="es-ES_tradnl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PlaceHolder 1"/>
          <p:cNvSpPr>
            <a:spLocks noGrp="1"/>
          </p:cNvSpPr>
          <p:nvPr>
            <p:ph type="sldImg"/>
          </p:nvPr>
        </p:nvSpPr>
        <p:spPr>
          <a:xfrm>
            <a:off x="95868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986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572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5° cl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5282-6ED3-4B8C-B431-1681E3458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7EE5-F764-4D82-97FC-90885A28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8189-21A6-44A7-B554-84E3DE324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AC83-82FA-465A-847C-EBE517F8D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C65B-8B65-4276-A01B-78314436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B900-9A01-49C5-A35E-D9F05B49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D3A7-B87A-4A52-9D27-FA5128F0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2804-7914-4915-8115-E25312D0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8076-B225-4960-A7FE-9F3F6CAB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0541-C028-4054-A16D-7D3F0CBF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1731-D7B9-406E-B713-3F4742F3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D4B9-1D89-4D93-89EC-0A12A20E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78C7-926B-4DB6-800B-FE015185A6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8.png"/><Relationship Id="rId2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8.png"/><Relationship Id="rId2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4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8.png"/><Relationship Id="rId12" Type="http://schemas.openxmlformats.org/officeDocument/2006/relationships/image" Target="../media/image7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44680" y="105228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Arial"/>
              </a:rPr>
              <a:t>CURSO  CI52B</a:t>
            </a:r>
            <a:br>
              <a:rPr sz="2400"/>
            </a:br>
            <a:r>
              <a:rPr b="1" lang="es-ES_tradnl" sz="2000" spc="-1" strike="noStrike">
                <a:solidFill>
                  <a:srgbClr val="ff9900"/>
                </a:solidFill>
                <a:latin typeface="Arial"/>
              </a:rPr>
              <a:t>Semestre Primavera</a:t>
            </a:r>
            <a:br>
              <a:rPr sz="2000"/>
            </a:br>
            <a:r>
              <a:rPr b="1" lang="es-ES_tradnl" sz="2400" spc="-1" strike="noStrike">
                <a:solidFill>
                  <a:srgbClr val="ff9900"/>
                </a:solidFill>
                <a:latin typeface="Arial"/>
              </a:rPr>
              <a:t>2007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OGRAMACION, SEGUIMIENTO Y CONTROL  DE  PROYECT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419640" y="3500280"/>
            <a:ext cx="2374200" cy="2592360"/>
            <a:chOff x="3419640" y="3500280"/>
            <a:chExt cx="2374200" cy="259236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3419640" y="3514680"/>
              <a:ext cx="1396800" cy="25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4391640" y="3500280"/>
              <a:ext cx="1402200" cy="253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"/>
          <p:cNvSpPr/>
          <p:nvPr/>
        </p:nvSpPr>
        <p:spPr>
          <a:xfrm>
            <a:off x="6515280" y="6242040"/>
            <a:ext cx="2914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ffff00"/>
                </a:solidFill>
                <a:latin typeface="Arial"/>
              </a:rPr>
              <a:t>GREGORIO AZOCAR G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DIAGRAMA DE BARRAS</a:t>
            </a:r>
            <a:br>
              <a:rPr sz="2000"/>
            </a:b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(Actividades de desarrollo discontinuo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711360" y="2125800"/>
            <a:ext cx="768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711360" y="2440080"/>
            <a:ext cx="768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750960" y="278136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750960" y="309564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750960" y="343044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750960" y="374508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750960" y="406080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750960" y="437508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50960" y="471024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50960" y="504360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750960" y="535932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750960" y="567360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711360" y="5981760"/>
            <a:ext cx="768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 flipV="1">
            <a:off x="750960" y="2093400"/>
            <a:ext cx="0" cy="387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flipV="1">
            <a:off x="1387440" y="2112840"/>
            <a:ext cx="0" cy="379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V="1">
            <a:off x="1714680" y="2093760"/>
            <a:ext cx="0" cy="389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V="1">
            <a:off x="197820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V="1">
            <a:off x="24890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 flipV="1">
            <a:off x="27446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 flipV="1">
            <a:off x="30002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32558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35323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 flipV="1">
            <a:off x="37879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40435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V="1">
            <a:off x="42991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V="1">
            <a:off x="45543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V="1">
            <a:off x="48117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V="1">
            <a:off x="50673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53229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flipV="1">
            <a:off x="55785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 flipV="1">
            <a:off x="58341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 flipV="1">
            <a:off x="60897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flipV="1">
            <a:off x="63453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66009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V="1">
            <a:off x="685800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flipV="1">
            <a:off x="711360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V="1">
            <a:off x="738828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V="1">
            <a:off x="764388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flipV="1">
            <a:off x="79009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V="1">
            <a:off x="81565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816120" y="2160720"/>
            <a:ext cx="507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A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1372680" y="2160720"/>
            <a:ext cx="345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919440" y="251460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919440" y="284796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919440" y="314316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914040" y="347832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914040" y="379260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914040" y="410832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914040" y="444168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915480" y="475632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915480" y="509112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915480" y="540540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915480" y="572148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423440" y="25146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 flipV="1">
            <a:off x="22334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423440" y="34783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423440" y="38131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423440" y="28288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1423440" y="47563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1423440" y="41274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423440" y="316404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423440" y="50911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1423440" y="44416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423440" y="54259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423440" y="57405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 flipV="1">
            <a:off x="8424720" y="2072880"/>
            <a:ext cx="0" cy="387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716120" y="2583000"/>
            <a:ext cx="2832120" cy="1076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1716120" y="2584440"/>
            <a:ext cx="525600" cy="92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2227320" y="2932200"/>
            <a:ext cx="3338280" cy="730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2227320" y="2930400"/>
            <a:ext cx="1042920" cy="74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781440" y="3247920"/>
            <a:ext cx="3319560" cy="1018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781440" y="3247920"/>
            <a:ext cx="1568520" cy="92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971720" y="3581280"/>
            <a:ext cx="3101760" cy="7308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1971720" y="3581280"/>
            <a:ext cx="1292040" cy="73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1971720" y="3876840"/>
            <a:ext cx="3101760" cy="7272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971720" y="3876840"/>
            <a:ext cx="760320" cy="82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738520" y="4172040"/>
            <a:ext cx="3082680" cy="9216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005280" y="4191120"/>
            <a:ext cx="250560" cy="73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797280" y="4525920"/>
            <a:ext cx="3573360" cy="7308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781440" y="4525920"/>
            <a:ext cx="1017720" cy="73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270240" y="4840200"/>
            <a:ext cx="2295360" cy="7308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249720" y="4840200"/>
            <a:ext cx="525240" cy="73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3800520" y="5175360"/>
            <a:ext cx="3576600" cy="7308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4805280" y="5175360"/>
            <a:ext cx="741600" cy="730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5586480" y="5489640"/>
            <a:ext cx="2330280" cy="9360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5595840" y="5489640"/>
            <a:ext cx="506520" cy="921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108840" y="5775480"/>
            <a:ext cx="2035080" cy="8892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118200" y="5765760"/>
            <a:ext cx="230040" cy="921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1754640" y="2149560"/>
            <a:ext cx="6690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1     2    3   4     5    6     7   8    9   10  11 12   13   14 15  16   17  18  19 20   21  22   23 24   25  2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8543880" y="11916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Geneva"/>
              </a:rPr>
              <a:t>(2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3546360" y="2585880"/>
            <a:ext cx="582840" cy="1112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543560" y="2932200"/>
            <a:ext cx="1042920" cy="745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540400" y="3249720"/>
            <a:ext cx="1568520" cy="918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768840" y="3578400"/>
            <a:ext cx="1292040" cy="727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4282920" y="3873600"/>
            <a:ext cx="760680" cy="8244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5573880" y="4187880"/>
            <a:ext cx="250560" cy="730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5037120" y="4846680"/>
            <a:ext cx="525600" cy="730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6354720" y="5172120"/>
            <a:ext cx="741240" cy="8244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7378560" y="5486400"/>
            <a:ext cx="506520" cy="10152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7891560" y="5762520"/>
            <a:ext cx="258840" cy="1144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340320" y="4532400"/>
            <a:ext cx="1017720" cy="730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2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2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2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2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2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2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2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2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2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2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2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"/>
          <p:cNvSpPr/>
          <p:nvPr/>
        </p:nvSpPr>
        <p:spPr>
          <a:xfrm>
            <a:off x="6135840" y="3405240"/>
            <a:ext cx="723600" cy="371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054600" y="4378320"/>
            <a:ext cx="4802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9900"/>
                </a:solidFill>
                <a:latin typeface="Geneva"/>
              </a:rPr>
              <a:t>B3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7742160" y="3392640"/>
            <a:ext cx="723960" cy="371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4541760" y="3392640"/>
            <a:ext cx="723960" cy="371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548240" y="4389480"/>
            <a:ext cx="723960" cy="371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516560" y="2452680"/>
            <a:ext cx="723600" cy="3715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2928960" y="3398760"/>
            <a:ext cx="723960" cy="3715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303200" y="3392640"/>
            <a:ext cx="723960" cy="371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1278000" y="2455920"/>
            <a:ext cx="723960" cy="3715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886440" y="3571920"/>
            <a:ext cx="876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5705640" y="36669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V="1">
            <a:off x="5695920" y="3666600"/>
            <a:ext cx="0" cy="9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5267160" y="4591080"/>
            <a:ext cx="41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267160" y="3543480"/>
            <a:ext cx="895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5248440" y="284796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552920" y="3781440"/>
            <a:ext cx="0" cy="59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4038480" y="2733840"/>
            <a:ext cx="505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4048200" y="2714400"/>
            <a:ext cx="0" cy="90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648240" y="3619440"/>
            <a:ext cx="923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2038320" y="3610080"/>
            <a:ext cx="89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290600" y="2838600"/>
            <a:ext cx="0" cy="542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562640" y="4371840"/>
            <a:ext cx="733320" cy="371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6143760" y="3381480"/>
            <a:ext cx="733320" cy="371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685800" y="53784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CTIVIDADES CONTINUAS</a:t>
            </a:r>
            <a:br>
              <a:rPr sz="2800"/>
            </a:b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1300320" y="3394080"/>
            <a:ext cx="72360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Times New Roman"/>
              </a:rPr>
              <a:t>B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1266840" y="2465280"/>
            <a:ext cx="72396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453680" y="2459160"/>
            <a:ext cx="4845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279f"/>
                </a:solidFill>
                <a:latin typeface="Geneva"/>
              </a:rPr>
              <a:t>A1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309680" y="4383000"/>
            <a:ext cx="72396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2935440" y="2465280"/>
            <a:ext cx="70308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055680" y="2460600"/>
            <a:ext cx="4845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279f"/>
                </a:solidFill>
                <a:latin typeface="Geneva"/>
              </a:rPr>
              <a:t>A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935440" y="3403440"/>
            <a:ext cx="70308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935440" y="4383000"/>
            <a:ext cx="70308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560840" y="2465280"/>
            <a:ext cx="68256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4671360" y="2457360"/>
            <a:ext cx="4845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279f"/>
                </a:solidFill>
                <a:latin typeface="Geneva"/>
              </a:rPr>
              <a:t>A3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560840" y="3403440"/>
            <a:ext cx="68256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560840" y="4383000"/>
            <a:ext cx="68256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6164280" y="3403440"/>
            <a:ext cx="70488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7748640" y="3394080"/>
            <a:ext cx="70308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054600" y="3395520"/>
            <a:ext cx="4726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cf0e30"/>
                </a:solidFill>
                <a:latin typeface="Geneva"/>
              </a:rPr>
              <a:t>C1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680720" y="3417840"/>
            <a:ext cx="4726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cf0e30"/>
                </a:solidFill>
                <a:latin typeface="Geneva"/>
              </a:rPr>
              <a:t>C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734360" y="4378320"/>
            <a:ext cx="4802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9900"/>
                </a:solidFill>
                <a:latin typeface="Geneva"/>
              </a:rPr>
              <a:t>B4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322320" y="3397320"/>
            <a:ext cx="4726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cf0e30"/>
                </a:solidFill>
                <a:latin typeface="Geneva"/>
              </a:rPr>
              <a:t>C3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2398680" y="2611440"/>
            <a:ext cx="0" cy="9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flipV="1">
            <a:off x="2378160" y="3703680"/>
            <a:ext cx="0" cy="85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2941560" y="3780000"/>
            <a:ext cx="0" cy="38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954160" y="416088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891560" y="3395520"/>
            <a:ext cx="4726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cf0e30"/>
                </a:solidFill>
                <a:latin typeface="Geneva"/>
              </a:rPr>
              <a:t>C4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1551240" y="277956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1551240" y="370692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1549440" y="470052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3152880" y="470052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3151440" y="370692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3151440" y="278280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770720" y="278748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794480" y="370692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815000" y="470052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6418440" y="372600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8001000" y="372600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895920" y="435780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5223960" y="294156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305720" y="296244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309680" y="2987640"/>
            <a:ext cx="203040" cy="203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246640" y="2987640"/>
            <a:ext cx="203400" cy="18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935520" y="4383000"/>
            <a:ext cx="182520" cy="20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1064880" y="22525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2001600" y="22525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1035000" y="323388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1992240" y="323388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1033200" y="41911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1969920" y="41911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2719080" y="22525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3635280" y="22525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653920" y="323388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3612960" y="323388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2631960" y="41911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3641400" y="41911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4317840" y="22525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5169960" y="225252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4187520" y="32338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5208120" y="32338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182480" y="419112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5162040" y="419112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5860800" y="32068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6784560" y="32338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7376760" y="32162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8364240" y="32338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9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8372160" y="37544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7422840" y="369720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6795720" y="369720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5862240" y="370692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5177880" y="370692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154120" y="46702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5193720" y="27320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195440" y="27590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4168440" y="37544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4204800" y="46702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539520" y="37544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3526920" y="46702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2504520" y="46702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3533400" y="27320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2614320" y="277956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2580840" y="37544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880640" y="46702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1002240" y="467028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9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1918800" y="37544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1049760" y="375444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7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1945080" y="273204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1046520" y="273204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1454400" y="4379760"/>
            <a:ext cx="4802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9900"/>
                </a:solidFill>
                <a:latin typeface="Geneva"/>
              </a:rPr>
              <a:t>B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1470600" y="218772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37c03"/>
                </a:solidFill>
                <a:latin typeface="Geneva"/>
              </a:rPr>
              <a:t>(6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1483200" y="312588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37c03"/>
                </a:solidFill>
                <a:latin typeface="Geneva"/>
              </a:rPr>
              <a:t>(6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3093120" y="313848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37c03"/>
                </a:solidFill>
                <a:latin typeface="Geneva"/>
              </a:rPr>
              <a:t>(6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4702680" y="315108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37c03"/>
                </a:solidFill>
                <a:latin typeface="Geneva"/>
              </a:rPr>
              <a:t>(6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4675680" y="220356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37c03"/>
                </a:solidFill>
                <a:latin typeface="Geneva"/>
              </a:rPr>
              <a:t>(6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4701240" y="412740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37c03"/>
                </a:solidFill>
                <a:latin typeface="Geneva"/>
              </a:rPr>
              <a:t>(6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306120" y="313992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37c03"/>
                </a:solidFill>
                <a:latin typeface="Geneva"/>
              </a:rPr>
              <a:t>(6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909560" y="314640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37c03"/>
                </a:solidFill>
                <a:latin typeface="Geneva"/>
              </a:rPr>
              <a:t>(6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4033800" y="2733840"/>
            <a:ext cx="514440" cy="0"/>
          </a:xfrm>
          <a:prstGeom prst="line">
            <a:avLst/>
          </a:prstGeom>
          <a:ln w="2844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055960" y="3600360"/>
            <a:ext cx="876240" cy="0"/>
          </a:xfrm>
          <a:prstGeom prst="line">
            <a:avLst/>
          </a:prstGeom>
          <a:ln w="2844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4033800" y="2727360"/>
            <a:ext cx="0" cy="912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3678120" y="3629160"/>
            <a:ext cx="355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4546440" y="3780000"/>
            <a:ext cx="0" cy="604800"/>
          </a:xfrm>
          <a:prstGeom prst="line">
            <a:avLst/>
          </a:prstGeom>
          <a:ln w="2844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5686560" y="3652920"/>
            <a:ext cx="495000" cy="0"/>
          </a:xfrm>
          <a:prstGeom prst="line">
            <a:avLst/>
          </a:prstGeom>
          <a:ln w="2844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6888240" y="3573360"/>
            <a:ext cx="876240" cy="0"/>
          </a:xfrm>
          <a:prstGeom prst="line">
            <a:avLst/>
          </a:prstGeom>
          <a:ln w="2844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5249880" y="4583160"/>
            <a:ext cx="458640" cy="0"/>
          </a:xfrm>
          <a:prstGeom prst="line">
            <a:avLst/>
          </a:prstGeom>
          <a:ln w="2844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 flipV="1">
            <a:off x="5700600" y="3639600"/>
            <a:ext cx="0" cy="955800"/>
          </a:xfrm>
          <a:prstGeom prst="line">
            <a:avLst/>
          </a:prstGeom>
          <a:ln w="2844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1488240" y="411336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37c03"/>
                </a:solidFill>
                <a:latin typeface="Geneva"/>
              </a:rPr>
              <a:t>(8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3053520" y="417348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37c03"/>
                </a:solidFill>
                <a:latin typeface="Geneva"/>
              </a:rPr>
              <a:t>(1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3102480" y="220968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37c03"/>
                </a:solidFill>
                <a:latin typeface="Geneva"/>
              </a:rPr>
              <a:t>(8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1285920" y="2838600"/>
            <a:ext cx="0" cy="552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5248440" y="2833560"/>
            <a:ext cx="0" cy="552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1305000" y="3762360"/>
            <a:ext cx="0" cy="619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048040" y="2629080"/>
            <a:ext cx="885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400480" y="3514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2381400" y="3714840"/>
            <a:ext cx="561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2028960" y="4562640"/>
            <a:ext cx="89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629160" y="2610000"/>
            <a:ext cx="942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3638520" y="4581360"/>
            <a:ext cx="942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3629160" y="4162320"/>
            <a:ext cx="0" cy="219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8543880" y="11916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Geneva"/>
              </a:rPr>
              <a:t>(15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370240" y="2602080"/>
            <a:ext cx="58680" cy="45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2343240" y="4532400"/>
            <a:ext cx="58680" cy="46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4002120" y="3591000"/>
            <a:ext cx="58680" cy="46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1657440" y="5638680"/>
            <a:ext cx="68007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ff"/>
                </a:solidFill>
                <a:latin typeface="Arial"/>
              </a:rPr>
              <a:t>Camino Crítico: A</a:t>
            </a:r>
            <a:r>
              <a:rPr b="1" lang="es-CL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s-CL" sz="2000" spc="-1" strike="noStrike">
                <a:solidFill>
                  <a:srgbClr val="0000ff"/>
                </a:solidFill>
                <a:latin typeface="Arial"/>
              </a:rPr>
              <a:t>, B</a:t>
            </a:r>
            <a:r>
              <a:rPr b="1" lang="es-CL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s-CL" sz="2000" spc="-1" strike="noStrike">
                <a:solidFill>
                  <a:srgbClr val="0000ff"/>
                </a:solidFill>
                <a:latin typeface="Arial"/>
              </a:rPr>
              <a:t>, C</a:t>
            </a:r>
            <a:r>
              <a:rPr b="1" lang="es-CL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s-CL" sz="2000" spc="-1" strike="noStrike">
                <a:solidFill>
                  <a:srgbClr val="0000ff"/>
                </a:solidFill>
                <a:latin typeface="Arial"/>
              </a:rPr>
              <a:t>, A</a:t>
            </a:r>
            <a:r>
              <a:rPr b="1" lang="es-CL" sz="20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es-CL" sz="2000" spc="-1" strike="noStrike">
                <a:solidFill>
                  <a:srgbClr val="0000ff"/>
                </a:solidFill>
                <a:latin typeface="Arial"/>
              </a:rPr>
              <a:t>, C</a:t>
            </a:r>
            <a:r>
              <a:rPr b="1" lang="es-CL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ff"/>
                </a:solidFill>
                <a:latin typeface="Arial"/>
              </a:rPr>
              <a:t>, B</a:t>
            </a:r>
            <a:r>
              <a:rPr b="1" lang="es-CL" sz="20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1" lang="es-CL" sz="2000" spc="-1" strike="noStrike">
                <a:solidFill>
                  <a:srgbClr val="0000ff"/>
                </a:solidFill>
                <a:latin typeface="Arial"/>
              </a:rPr>
              <a:t>, C</a:t>
            </a:r>
            <a:r>
              <a:rPr b="1" lang="es-CL" sz="20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es-CL" sz="2000" spc="-1" strike="noStrike">
                <a:solidFill>
                  <a:srgbClr val="0000ff"/>
                </a:solidFill>
                <a:latin typeface="Arial"/>
              </a:rPr>
              <a:t>, C</a:t>
            </a:r>
            <a:r>
              <a:rPr b="1" lang="es-CL" sz="20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2475000" y="1089000"/>
            <a:ext cx="4862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ff"/>
                </a:solidFill>
                <a:latin typeface="Arial"/>
              </a:rPr>
              <a:t>Más  Tempra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2489040" y="1117440"/>
            <a:ext cx="4862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ff"/>
                </a:solidFill>
                <a:latin typeface="Arial"/>
              </a:rPr>
              <a:t>Más  Tard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2494080" y="1108080"/>
            <a:ext cx="4862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ff"/>
                </a:solidFill>
                <a:latin typeface="Arial"/>
              </a:rPr>
              <a:t>Holgu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2517840" y="1116000"/>
            <a:ext cx="4862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ff"/>
                </a:solidFill>
                <a:latin typeface="Arial"/>
              </a:rPr>
              <a:t>Camino Crí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500"/>
                            </p:stCondLst>
                            <p:childTnLst>
                              <p:par>
                                <p:cTn id="7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500"/>
                            </p:stCondLst>
                            <p:childTnLst>
                              <p:par>
                                <p:cTn id="7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2500"/>
                            </p:stCondLst>
                            <p:childTnLst>
                              <p:par>
                                <p:cTn id="7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3500"/>
                            </p:stCondLst>
                            <p:childTnLst>
                              <p:par>
                                <p:cTn id="7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4500"/>
                            </p:stCondLst>
                            <p:childTnLst>
                              <p:par>
                                <p:cTn id="7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500"/>
                            </p:stCondLst>
                            <p:childTnLst>
                              <p:par>
                                <p:cTn id="7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6500"/>
                            </p:stCondLst>
                            <p:childTnLst>
                              <p:par>
                                <p:cTn id="7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7500"/>
                            </p:stCondLst>
                            <p:childTnLst>
                              <p:par>
                                <p:cTn id="7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8500"/>
                            </p:stCondLst>
                            <p:childTnLst>
                              <p:par>
                                <p:cTn id="7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9500"/>
                            </p:stCondLst>
                            <p:childTnLst>
                              <p:par>
                                <p:cTn id="7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0500"/>
                            </p:stCondLst>
                            <p:childTnLst>
                              <p:par>
                                <p:cTn id="7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1500"/>
                            </p:stCondLst>
                            <p:childTnLst>
                              <p:par>
                                <p:cTn id="7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2500"/>
                            </p:stCondLst>
                            <p:childTnLst>
                              <p:par>
                                <p:cTn id="7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3500"/>
                            </p:stCondLst>
                            <p:childTnLst>
                              <p:par>
                                <p:cTn id="7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4500"/>
                            </p:stCondLst>
                            <p:childTnLst>
                              <p:par>
                                <p:cTn id="7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5500"/>
                            </p:stCondLst>
                            <p:childTnLst>
                              <p:par>
                                <p:cTn id="7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6500"/>
                            </p:stCondLst>
                            <p:childTnLst>
                              <p:par>
                                <p:cTn id="7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7500"/>
                            </p:stCondLst>
                            <p:childTnLst>
                              <p:par>
                                <p:cTn id="7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850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19500"/>
                            </p:stCondLst>
                            <p:childTnLst>
                              <p:par>
                                <p:cTn id="8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20500"/>
                            </p:stCondLst>
                            <p:childTnLst>
                              <p:par>
                                <p:cTn id="8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21500"/>
                            </p:stCondLst>
                            <p:childTnLst>
                              <p:par>
                                <p:cTn id="8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500"/>
                            </p:stCondLst>
                            <p:childTnLst>
                              <p:par>
                                <p:cTn id="8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2500"/>
                            </p:stCondLst>
                            <p:childTnLst>
                              <p:par>
                                <p:cTn id="8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3500"/>
                            </p:stCondLst>
                            <p:childTnLst>
                              <p:par>
                                <p:cTn id="8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4500"/>
                            </p:stCondLst>
                            <p:childTnLst>
                              <p:par>
                                <p:cTn id="8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5500"/>
                            </p:stCondLst>
                            <p:childTnLst>
                              <p:par>
                                <p:cTn id="8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6500"/>
                            </p:stCondLst>
                            <p:childTnLst>
                              <p:par>
                                <p:cTn id="8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7500"/>
                            </p:stCondLst>
                            <p:childTnLst>
                              <p:par>
                                <p:cTn id="8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8500"/>
                            </p:stCondLst>
                            <p:childTnLst>
                              <p:par>
                                <p:cTn id="8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9500"/>
                            </p:stCondLst>
                            <p:childTnLst>
                              <p:par>
                                <p:cTn id="8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8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150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2500"/>
                            </p:stCondLst>
                            <p:childTnLst>
                              <p:par>
                                <p:cTn id="8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3500"/>
                            </p:stCondLst>
                            <p:childTnLst>
                              <p:par>
                                <p:cTn id="8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14500"/>
                            </p:stCondLst>
                            <p:childTnLst>
                              <p:par>
                                <p:cTn id="8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15500"/>
                            </p:stCondLst>
                            <p:childTnLst>
                              <p:par>
                                <p:cTn id="8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16500"/>
                            </p:stCondLst>
                            <p:childTnLst>
                              <p:par>
                                <p:cTn id="8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17500"/>
                            </p:stCondLst>
                            <p:childTnLst>
                              <p:par>
                                <p:cTn id="8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18500"/>
                            </p:stCondLst>
                            <p:childTnLst>
                              <p:par>
                                <p:cTn id="8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9500"/>
                            </p:stCondLst>
                            <p:childTnLst>
                              <p:par>
                                <p:cTn id="8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20500"/>
                            </p:stCondLst>
                            <p:childTnLst>
                              <p:par>
                                <p:cTn id="8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"/>
                            </p:stCondLst>
                            <p:childTnLst>
                              <p:par>
                                <p:cTn id="8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500"/>
                            </p:stCondLst>
                            <p:childTnLst>
                              <p:par>
                                <p:cTn id="8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2500"/>
                            </p:stCondLst>
                            <p:childTnLst>
                              <p:par>
                                <p:cTn id="8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3500"/>
                            </p:stCondLst>
                            <p:childTnLst>
                              <p:par>
                                <p:cTn id="9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4500"/>
                            </p:stCondLst>
                            <p:childTnLst>
                              <p:par>
                                <p:cTn id="9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5500"/>
                            </p:stCondLst>
                            <p:childTnLst>
                              <p:par>
                                <p:cTn id="9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6500"/>
                            </p:stCondLst>
                            <p:childTnLst>
                              <p:par>
                                <p:cTn id="9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7500"/>
                            </p:stCondLst>
                            <p:childTnLst>
                              <p:par>
                                <p:cTn id="9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8500"/>
                            </p:stCondLst>
                            <p:childTnLst>
                              <p:par>
                                <p:cTn id="91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9500"/>
                            </p:stCondLst>
                            <p:childTnLst>
                              <p:par>
                                <p:cTn id="91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00"/>
                            </p:stCondLst>
                            <p:childTnLst>
                              <p:par>
                                <p:cTn id="9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10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1500"/>
                            </p:stCondLst>
                            <p:childTnLst>
                              <p:par>
                                <p:cTn id="93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2" dur="10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3500"/>
                            </p:stCondLst>
                            <p:childTnLst>
                              <p:par>
                                <p:cTn id="93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10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5500"/>
                            </p:stCondLst>
                            <p:childTnLst>
                              <p:par>
                                <p:cTn id="93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10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7500"/>
                            </p:stCondLst>
                            <p:childTnLst>
                              <p:par>
                                <p:cTn id="94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1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9500"/>
                            </p:stCondLst>
                            <p:childTnLst>
                              <p:par>
                                <p:cTn id="94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8" dur="10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1500"/>
                            </p:stCondLst>
                            <p:childTnLst>
                              <p:par>
                                <p:cTn id="95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2" dur="10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1350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10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5500"/>
                            </p:stCondLst>
                            <p:childTnLst>
                              <p:par>
                                <p:cTn id="95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10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17500"/>
                            </p:stCondLst>
                            <p:childTnLst>
                              <p:par>
                                <p:cTn id="96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10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19500"/>
                            </p:stCondLst>
                            <p:childTnLst>
                              <p:par>
                                <p:cTn id="96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8" dur="1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21500"/>
                            </p:stCondLst>
                            <p:childTnLst>
                              <p:par>
                                <p:cTn id="97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10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23500"/>
                            </p:stCondLst>
                            <p:childTnLst>
                              <p:par>
                                <p:cTn id="97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1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25500"/>
                            </p:stCondLst>
                            <p:childTnLst>
                              <p:par>
                                <p:cTn id="97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0" dur="10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27500"/>
                            </p:stCondLst>
                            <p:childTnLst>
                              <p:par>
                                <p:cTn id="98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4" dur="10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29500"/>
                            </p:stCondLst>
                            <p:childTnLst>
                              <p:par>
                                <p:cTn id="98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8" dur="10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31500"/>
                            </p:stCondLst>
                            <p:childTnLst>
                              <p:par>
                                <p:cTn id="99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10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33500"/>
                            </p:stCondLst>
                            <p:childTnLst>
                              <p:par>
                                <p:cTn id="99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10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35500"/>
                            </p:stCondLst>
                            <p:childTnLst>
                              <p:par>
                                <p:cTn id="99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10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20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CRONOGRAMA</a:t>
            </a:r>
            <a:br>
              <a:rPr sz="2800"/>
            </a:b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(Actividades de desarrollo continuo)</a:t>
            </a:r>
            <a:br>
              <a:rPr sz="2000"/>
            </a:b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1130400" y="1996920"/>
            <a:ext cx="6257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1130400" y="1687680"/>
            <a:ext cx="4803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1739880" y="2243160"/>
            <a:ext cx="498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1130400" y="1687680"/>
            <a:ext cx="0" cy="404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130400" y="2503440"/>
            <a:ext cx="6238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123920" y="2860560"/>
            <a:ext cx="625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123920" y="3149640"/>
            <a:ext cx="627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123920" y="3711600"/>
            <a:ext cx="625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106640" y="3440160"/>
            <a:ext cx="626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123920" y="3984480"/>
            <a:ext cx="625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1123920" y="4273560"/>
            <a:ext cx="6216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1123920" y="4546440"/>
            <a:ext cx="623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1123920" y="4854600"/>
            <a:ext cx="624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2363760" y="1687680"/>
            <a:ext cx="0" cy="404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4176720" y="1687680"/>
            <a:ext cx="0" cy="404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5916600" y="1687680"/>
            <a:ext cx="0" cy="404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6737400" y="1954080"/>
            <a:ext cx="0" cy="3775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1758960" y="2025720"/>
            <a:ext cx="0" cy="370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3298680" y="2025720"/>
            <a:ext cx="0" cy="36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5040360" y="2008080"/>
            <a:ext cx="0" cy="372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5151240" y="2076480"/>
            <a:ext cx="227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1208880" y="1714680"/>
            <a:ext cx="1109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ACTIVID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2376720" y="1714680"/>
            <a:ext cx="1917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FECHAS TEMPRAN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286160" y="1714680"/>
            <a:ext cx="1603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FECHAS TARDI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1151280" y="2112840"/>
            <a:ext cx="562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CO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1730520" y="2004840"/>
            <a:ext cx="553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D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435760" y="2004840"/>
            <a:ext cx="751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INIC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3217680" y="2004840"/>
            <a:ext cx="987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TERMIN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212360" y="2022480"/>
            <a:ext cx="751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INIC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993920" y="2022480"/>
            <a:ext cx="987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TERMIN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5907960" y="2004840"/>
            <a:ext cx="725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TOT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7370640" y="1978200"/>
            <a:ext cx="0" cy="3724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1793160" y="2259000"/>
            <a:ext cx="455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O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2596320" y="227664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3497040" y="227664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E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4421160" y="227664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5250600" y="229392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L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6073200" y="2276640"/>
            <a:ext cx="422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H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6778800" y="2004840"/>
            <a:ext cx="5806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Criti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6755400" y="2239920"/>
            <a:ext cx="632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cid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1252800" y="2567160"/>
            <a:ext cx="407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279f"/>
                </a:solidFill>
                <a:latin typeface="Geneva"/>
              </a:rPr>
              <a:t>A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1252800" y="2892600"/>
            <a:ext cx="407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279f"/>
                </a:solidFill>
                <a:latin typeface="Geneva"/>
              </a:rPr>
              <a:t>A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252800" y="3165480"/>
            <a:ext cx="407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279f"/>
                </a:solidFill>
                <a:latin typeface="Geneva"/>
              </a:rPr>
              <a:t>A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254600" y="3454560"/>
            <a:ext cx="403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00"/>
                </a:solidFill>
                <a:latin typeface="Geneva"/>
              </a:rPr>
              <a:t>B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1254600" y="3745080"/>
            <a:ext cx="403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00"/>
                </a:solidFill>
                <a:latin typeface="Geneva"/>
              </a:rPr>
              <a:t>B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1254600" y="4016520"/>
            <a:ext cx="403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00"/>
                </a:solidFill>
                <a:latin typeface="Geneva"/>
              </a:rPr>
              <a:t>B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1254600" y="4287960"/>
            <a:ext cx="403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00"/>
                </a:solidFill>
                <a:latin typeface="Geneva"/>
              </a:rPr>
              <a:t>B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1257480" y="457848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c0128"/>
                </a:solidFill>
                <a:latin typeface="Geneva"/>
              </a:rPr>
              <a:t>C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257480" y="486900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c0128"/>
                </a:solidFill>
                <a:latin typeface="Geneva"/>
              </a:rPr>
              <a:t>C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1257480" y="519444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c0128"/>
                </a:solidFill>
                <a:latin typeface="Geneva"/>
              </a:rPr>
              <a:t>C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1257480" y="546732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c0128"/>
                </a:solidFill>
                <a:latin typeface="Geneva"/>
              </a:rPr>
              <a:t>C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1143000" y="5143680"/>
            <a:ext cx="625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1143000" y="5451480"/>
            <a:ext cx="624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1149480" y="5730840"/>
            <a:ext cx="6205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1939320" y="25671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1939320" y="28926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1939320" y="31654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1939320" y="34545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1939320" y="37450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1939320" y="40165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1939320" y="42879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1939320" y="45784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1939320" y="48690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1939320" y="519444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1939320" y="54673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2715840" y="25671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571200" y="25671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4523760" y="25671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5301720" y="25671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109920" y="258444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2715840" y="28926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571200" y="28926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4423680" y="289260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5201640" y="289260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6109920" y="28926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2715840" y="31654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3461760" y="316548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4423680" y="316548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201640" y="316548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109920" y="31827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2715840" y="34545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3571200" y="34545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4523760" y="34545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5201640" y="345456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6109920" y="34732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2715840" y="37450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3571200" y="37450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4523760" y="37450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5201640" y="374508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109920" y="37450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2706120" y="40165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571200" y="40165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442760" y="401652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5220720" y="401652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6057360" y="401652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2606040" y="428796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3461760" y="428796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4442760" y="428796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5220720" y="428796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6060600" y="4287960"/>
            <a:ext cx="329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Geneva"/>
              </a:rPr>
              <a:t> </a:t>
            </a:r>
            <a:r>
              <a:rPr b="1" lang="es-ES_tradnl" sz="1400" spc="-1" strike="noStrike">
                <a:solidFill>
                  <a:srgbClr val="ff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2715840" y="45784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3571200" y="45784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4423680" y="457848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5201640" y="457848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6109920" y="45975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2606040" y="486900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4442760" y="486900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461760" y="486900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5201640" y="486900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6060600" y="4869000"/>
            <a:ext cx="329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Geneva"/>
              </a:rPr>
              <a:t> </a:t>
            </a:r>
            <a:r>
              <a:rPr b="1" lang="es-ES_tradnl" sz="1400" spc="-1" strike="noStrike">
                <a:solidFill>
                  <a:srgbClr val="ff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2625120" y="519444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4442760" y="519444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3461760" y="519444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5220720" y="519444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6109920" y="51372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2606040" y="546732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3461760" y="546732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4442760" y="546732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5220720" y="546732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6109920" y="54277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883560" y="2600280"/>
            <a:ext cx="45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Geneva"/>
              </a:rPr>
              <a:t>6/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6883560" y="2908440"/>
            <a:ext cx="45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Geneva"/>
              </a:rPr>
              <a:t>8/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6883560" y="3198960"/>
            <a:ext cx="45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Geneva"/>
              </a:rPr>
              <a:t>6/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6883560" y="3489480"/>
            <a:ext cx="45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Geneva"/>
              </a:rPr>
              <a:t>6/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6883560" y="3760920"/>
            <a:ext cx="45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Geneva"/>
              </a:rPr>
              <a:t>8/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6831000" y="4032360"/>
            <a:ext cx="56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Geneva"/>
              </a:rPr>
              <a:t>10/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6834600" y="4303800"/>
            <a:ext cx="504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Geneva"/>
              </a:rPr>
              <a:t> </a:t>
            </a:r>
            <a:r>
              <a:rPr b="1" lang="es-ES_tradnl" sz="1400" spc="-1" strike="noStrike">
                <a:solidFill>
                  <a:srgbClr val="0000ff"/>
                </a:solidFill>
                <a:latin typeface="Geneva"/>
              </a:rPr>
              <a:t>6/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6883560" y="4613400"/>
            <a:ext cx="45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Geneva"/>
              </a:rPr>
              <a:t>6/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6834600" y="4884840"/>
            <a:ext cx="504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Geneva"/>
              </a:rPr>
              <a:t> </a:t>
            </a:r>
            <a:r>
              <a:rPr b="1" lang="es-ES_tradnl" sz="1400" spc="-1" strike="noStrike">
                <a:solidFill>
                  <a:srgbClr val="0000ff"/>
                </a:solidFill>
                <a:latin typeface="Geneva"/>
              </a:rPr>
              <a:t>6/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6883560" y="5153040"/>
            <a:ext cx="45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Geneva"/>
              </a:rPr>
              <a:t>6/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6883560" y="5443560"/>
            <a:ext cx="45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Geneva"/>
              </a:rPr>
              <a:t>6/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DIAGRAMA DE BARRAS</a:t>
            </a:r>
            <a:br>
              <a:rPr sz="2000"/>
            </a:b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(Actividades de desarrollo continuo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711360" y="2125800"/>
            <a:ext cx="768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711360" y="2440080"/>
            <a:ext cx="768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750960" y="278136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750960" y="309564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750960" y="343044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750960" y="374508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750960" y="406080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750960" y="437508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750960" y="471024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750960" y="504360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750960" y="535932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750960" y="567360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711360" y="5981760"/>
            <a:ext cx="768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 flipV="1">
            <a:off x="750960" y="2093400"/>
            <a:ext cx="0" cy="387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 flipV="1">
            <a:off x="1387440" y="2112840"/>
            <a:ext cx="0" cy="379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 flipV="1">
            <a:off x="1714680" y="2093760"/>
            <a:ext cx="0" cy="389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 flipV="1">
            <a:off x="197820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 flipV="1">
            <a:off x="24890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 flipV="1">
            <a:off x="27446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 flipV="1">
            <a:off x="30002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 flipV="1">
            <a:off x="32558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 flipV="1">
            <a:off x="35323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 flipV="1">
            <a:off x="37879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 flipV="1">
            <a:off x="40435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 flipV="1">
            <a:off x="42991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 flipV="1">
            <a:off x="45543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 flipV="1">
            <a:off x="48117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 flipV="1">
            <a:off x="50673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 flipV="1">
            <a:off x="53229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 flipV="1">
            <a:off x="55785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 flipV="1">
            <a:off x="58341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 flipV="1">
            <a:off x="60897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 flipV="1">
            <a:off x="63453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 flipV="1">
            <a:off x="66009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 flipV="1">
            <a:off x="685800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 flipV="1">
            <a:off x="711360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 flipV="1">
            <a:off x="738828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 flipV="1">
            <a:off x="764388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 flipV="1">
            <a:off x="79009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 flipV="1">
            <a:off x="81565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816120" y="2160720"/>
            <a:ext cx="507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A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1372680" y="2160720"/>
            <a:ext cx="345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919440" y="251460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919440" y="284796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919440" y="314316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914040" y="347832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914040" y="379260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914040" y="410832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914040" y="444168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915480" y="475632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915480" y="509112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915480" y="540540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915480" y="572148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1423440" y="25146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 flipV="1">
            <a:off x="22334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1423440" y="34783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1423440" y="38131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1423440" y="28288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1423440" y="47563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1423440" y="41274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1423440" y="316404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1423440" y="50911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1423440" y="44416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423440" y="54259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1423440" y="57405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 flipV="1">
            <a:off x="8424720" y="2072880"/>
            <a:ext cx="0" cy="387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1716120" y="2563920"/>
            <a:ext cx="2033640" cy="982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1716120" y="2565360"/>
            <a:ext cx="525600" cy="92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2227320" y="2922480"/>
            <a:ext cx="3120840" cy="7776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2227320" y="2930400"/>
            <a:ext cx="1042920" cy="74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3781440" y="3247920"/>
            <a:ext cx="3090960" cy="954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3781440" y="3247920"/>
            <a:ext cx="1568520" cy="92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1971720" y="3581280"/>
            <a:ext cx="2835360" cy="6696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1971720" y="3562200"/>
            <a:ext cx="1292040" cy="921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1987560" y="3867120"/>
            <a:ext cx="2838600" cy="8892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1981080" y="3876840"/>
            <a:ext cx="760680" cy="82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3014640" y="4191120"/>
            <a:ext cx="2806560" cy="11088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3005280" y="4191120"/>
            <a:ext cx="250560" cy="918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807080" y="4525920"/>
            <a:ext cx="2563560" cy="9216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4800600" y="4535640"/>
            <a:ext cx="1017720" cy="72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3270240" y="4840200"/>
            <a:ext cx="2066760" cy="8280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3249720" y="4840200"/>
            <a:ext cx="525240" cy="73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4791240" y="5175360"/>
            <a:ext cx="2309760" cy="6336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4805280" y="5175360"/>
            <a:ext cx="741600" cy="730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5848200" y="5499000"/>
            <a:ext cx="2040120" cy="6372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5838840" y="5489640"/>
            <a:ext cx="506520" cy="730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6335640" y="5765760"/>
            <a:ext cx="1808280" cy="8892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6351480" y="5765760"/>
            <a:ext cx="230400" cy="921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1754640" y="2149560"/>
            <a:ext cx="6690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1     2    3   4     5    6     7   8    9   10  11 12   13   14 15  16   17  18  19 20   21  22   23 24   25  2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8543880" y="11916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Geneva"/>
              </a:rPr>
              <a:t>(2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3246480" y="2567160"/>
            <a:ext cx="525600" cy="918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4286160" y="2932200"/>
            <a:ext cx="1042920" cy="745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5321160" y="3249720"/>
            <a:ext cx="1568520" cy="10152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3521160" y="3578400"/>
            <a:ext cx="1292040" cy="727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4025880" y="3873600"/>
            <a:ext cx="760320" cy="8244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5592600" y="4187880"/>
            <a:ext cx="231840" cy="11124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4789440" y="4846680"/>
            <a:ext cx="525600" cy="730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6335640" y="5172120"/>
            <a:ext cx="741600" cy="8244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7378560" y="5486400"/>
            <a:ext cx="506520" cy="824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7891560" y="5762520"/>
            <a:ext cx="258840" cy="856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6340320" y="4532400"/>
            <a:ext cx="1017720" cy="730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2" dur="5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7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500"/>
                                        <p:tgtEl>
                                          <p:spTgt spid="1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7" dur="500"/>
                                        <p:tgtEl>
                                          <p:spTgt spid="1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2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500"/>
                                        <p:tgtEl>
                                          <p:spTgt spid="1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500"/>
                                        <p:tgtEl>
                                          <p:spTgt spid="1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7" dur="5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500"/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5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2" dur="5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7" dur="500"/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2" dur="500"/>
                                        <p:tgtEl>
                                          <p:spTgt spid="1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2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7" dur="500"/>
                                        <p:tgtEl>
                                          <p:spTgt spid="1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2" dur="5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7" dur="5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1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7" dur="5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5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7" dur="5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2" dur="500"/>
                                        <p:tgtEl>
                                          <p:spTgt spid="1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7" dur="5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2" dur="5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7" dur="5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2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7" dur="5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2" dur="5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7" dur="5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2" dur="5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7" dur="5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2" dur="5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COMPUTO DE RECURSO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8550720" y="11916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Geneva"/>
              </a:rPr>
              <a:t>(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RECURSO FUNGIBL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763920" y="2027160"/>
            <a:ext cx="12664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Geneva"/>
              </a:rPr>
              <a:t>Cantidad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7319880" y="5524560"/>
            <a:ext cx="10731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Geneva"/>
              </a:rPr>
              <a:t>Tiemp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4" name=""/>
          <p:cNvGrpSpPr/>
          <p:nvPr/>
        </p:nvGrpSpPr>
        <p:grpSpPr>
          <a:xfrm>
            <a:off x="1679400" y="2303640"/>
            <a:ext cx="123840" cy="3746160"/>
            <a:chOff x="1679400" y="2303640"/>
            <a:chExt cx="123840" cy="3746160"/>
          </a:xfrm>
        </p:grpSpPr>
        <p:sp>
          <p:nvSpPr>
            <p:cNvPr id="1805" name=""/>
            <p:cNvSpPr/>
            <p:nvPr/>
          </p:nvSpPr>
          <p:spPr>
            <a:xfrm>
              <a:off x="1679400" y="2303640"/>
              <a:ext cx="123840" cy="258480"/>
            </a:xfrm>
            <a:custGeom>
              <a:avLst/>
              <a:gdLst/>
              <a:ahLst/>
              <a:rect l="l" t="t" r="r" b="b"/>
              <a:pathLst>
                <a:path w="78" h="163">
                  <a:moveTo>
                    <a:pt x="46" y="0"/>
                  </a:moveTo>
                  <a:lnTo>
                    <a:pt x="77" y="162"/>
                  </a:lnTo>
                  <a:lnTo>
                    <a:pt x="46" y="162"/>
                  </a:lnTo>
                  <a:lnTo>
                    <a:pt x="0" y="162"/>
                  </a:lnTo>
                  <a:lnTo>
                    <a:pt x="4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773360" y="2579760"/>
              <a:ext cx="0" cy="347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07" name=""/>
          <p:cNvGrpSpPr/>
          <p:nvPr/>
        </p:nvGrpSpPr>
        <p:grpSpPr>
          <a:xfrm>
            <a:off x="1766880" y="5397480"/>
            <a:ext cx="6141960" cy="95400"/>
            <a:chOff x="1766880" y="5397480"/>
            <a:chExt cx="6141960" cy="95400"/>
          </a:xfrm>
        </p:grpSpPr>
        <p:sp>
          <p:nvSpPr>
            <p:cNvPr id="1808" name=""/>
            <p:cNvSpPr/>
            <p:nvPr/>
          </p:nvSpPr>
          <p:spPr>
            <a:xfrm>
              <a:off x="7650000" y="5397480"/>
              <a:ext cx="258840" cy="95400"/>
            </a:xfrm>
            <a:custGeom>
              <a:avLst/>
              <a:gdLst/>
              <a:ahLst/>
              <a:rect l="l" t="t" r="r" b="b"/>
              <a:pathLst>
                <a:path w="163" h="60">
                  <a:moveTo>
                    <a:pt x="162" y="29"/>
                  </a:moveTo>
                  <a:lnTo>
                    <a:pt x="0" y="59"/>
                  </a:lnTo>
                  <a:lnTo>
                    <a:pt x="0" y="29"/>
                  </a:lnTo>
                  <a:lnTo>
                    <a:pt x="0" y="0"/>
                  </a:lnTo>
                  <a:lnTo>
                    <a:pt x="162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766880" y="5462640"/>
              <a:ext cx="5891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0" name=""/>
          <p:cNvSpPr/>
          <p:nvPr/>
        </p:nvSpPr>
        <p:spPr>
          <a:xfrm>
            <a:off x="1766880" y="511344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1766880" y="476424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1766880" y="441468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1766880" y="406404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1766880" y="371484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1766880" y="336564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1766880" y="301608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231156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284940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338760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392436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500076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553896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607680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661500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7151760" y="3009960"/>
            <a:ext cx="0" cy="298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1836360" y="5497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23475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29109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34491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39873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45255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50367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7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56289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61383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9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6614280" y="5470560"/>
            <a:ext cx="4557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10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1400400" y="4959360"/>
            <a:ext cx="318600" cy="378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1400400" y="4610160"/>
            <a:ext cx="318600" cy="378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1400400" y="4259160"/>
            <a:ext cx="318600" cy="378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1400400" y="3909960"/>
            <a:ext cx="318600" cy="378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1400400" y="3560760"/>
            <a:ext cx="318600" cy="378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1379160" y="3157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1386360" y="285444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7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1746360" y="3365640"/>
            <a:ext cx="5381640" cy="2098440"/>
          </a:xfrm>
          <a:custGeom>
            <a:avLst/>
            <a:gdLst/>
            <a:ahLst/>
            <a:rect l="l" t="t" r="r" b="b"/>
            <a:pathLst>
              <a:path w="3390" h="1322">
                <a:moveTo>
                  <a:pt x="0" y="881"/>
                </a:moveTo>
                <a:lnTo>
                  <a:pt x="339" y="881"/>
                </a:lnTo>
                <a:lnTo>
                  <a:pt x="339" y="220"/>
                </a:lnTo>
                <a:lnTo>
                  <a:pt x="695" y="220"/>
                </a:lnTo>
                <a:lnTo>
                  <a:pt x="695" y="661"/>
                </a:lnTo>
                <a:lnTo>
                  <a:pt x="1034" y="644"/>
                </a:lnTo>
                <a:lnTo>
                  <a:pt x="1034" y="1084"/>
                </a:lnTo>
                <a:lnTo>
                  <a:pt x="1372" y="1084"/>
                </a:lnTo>
                <a:lnTo>
                  <a:pt x="1372" y="424"/>
                </a:lnTo>
                <a:lnTo>
                  <a:pt x="1711" y="424"/>
                </a:lnTo>
                <a:lnTo>
                  <a:pt x="1711" y="864"/>
                </a:lnTo>
                <a:lnTo>
                  <a:pt x="2033" y="864"/>
                </a:lnTo>
                <a:lnTo>
                  <a:pt x="2033" y="0"/>
                </a:lnTo>
                <a:lnTo>
                  <a:pt x="2728" y="0"/>
                </a:lnTo>
                <a:lnTo>
                  <a:pt x="2728" y="440"/>
                </a:lnTo>
                <a:lnTo>
                  <a:pt x="3067" y="457"/>
                </a:lnTo>
                <a:lnTo>
                  <a:pt x="3050" y="881"/>
                </a:lnTo>
                <a:lnTo>
                  <a:pt x="3389" y="881"/>
                </a:lnTo>
                <a:lnTo>
                  <a:pt x="3389" y="1321"/>
                </a:lnTo>
                <a:lnTo>
                  <a:pt x="17" y="1321"/>
                </a:lnTo>
                <a:lnTo>
                  <a:pt x="17" y="881"/>
                </a:lnTo>
                <a:lnTo>
                  <a:pt x="0" y="881"/>
                </a:lnTo>
              </a:path>
            </a:pathLst>
          </a:custGeom>
          <a:solidFill>
            <a:srgbClr val="063de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4462560" y="3009960"/>
            <a:ext cx="0" cy="301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2674800" y="5746680"/>
            <a:ext cx="982800" cy="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46" name=""/>
          <p:cNvGrpSpPr/>
          <p:nvPr/>
        </p:nvGrpSpPr>
        <p:grpSpPr>
          <a:xfrm>
            <a:off x="1760400" y="5765760"/>
            <a:ext cx="2678400" cy="378360"/>
            <a:chOff x="1760400" y="5765760"/>
            <a:chExt cx="2678400" cy="378360"/>
          </a:xfrm>
        </p:grpSpPr>
        <p:grpSp>
          <p:nvGrpSpPr>
            <p:cNvPr id="1847" name=""/>
            <p:cNvGrpSpPr/>
            <p:nvPr/>
          </p:nvGrpSpPr>
          <p:grpSpPr>
            <a:xfrm>
              <a:off x="1760400" y="5854680"/>
              <a:ext cx="2678400" cy="95400"/>
              <a:chOff x="1760400" y="5854680"/>
              <a:chExt cx="2678400" cy="95400"/>
            </a:xfrm>
          </p:grpSpPr>
          <p:sp>
            <p:nvSpPr>
              <p:cNvPr id="1848" name=""/>
              <p:cNvSpPr/>
              <p:nvPr/>
            </p:nvSpPr>
            <p:spPr>
              <a:xfrm>
                <a:off x="1760400" y="5854680"/>
                <a:ext cx="231840" cy="95400"/>
              </a:xfrm>
              <a:custGeom>
                <a:avLst/>
                <a:gdLst/>
                <a:ahLst/>
                <a:rect l="l" t="t" r="r" b="b"/>
                <a:pathLst>
                  <a:path w="146" h="60">
                    <a:moveTo>
                      <a:pt x="0" y="29"/>
                    </a:moveTo>
                    <a:lnTo>
                      <a:pt x="145" y="0"/>
                    </a:lnTo>
                    <a:lnTo>
                      <a:pt x="145" y="29"/>
                    </a:lnTo>
                    <a:lnTo>
                      <a:pt x="145" y="59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4181400" y="5854680"/>
                <a:ext cx="257400" cy="95400"/>
              </a:xfrm>
              <a:custGeom>
                <a:avLst/>
                <a:gdLst/>
                <a:ahLst/>
                <a:rect l="l" t="t" r="r" b="b"/>
                <a:pathLst>
                  <a:path w="162" h="60">
                    <a:moveTo>
                      <a:pt x="161" y="29"/>
                    </a:moveTo>
                    <a:lnTo>
                      <a:pt x="0" y="5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161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2009880" y="5919840"/>
                <a:ext cx="217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51" name=""/>
            <p:cNvSpPr/>
            <p:nvPr/>
          </p:nvSpPr>
          <p:spPr>
            <a:xfrm>
              <a:off x="2643480" y="5765760"/>
              <a:ext cx="1082160" cy="37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Geneva"/>
                </a:rPr>
                <a:t>CICLO 1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52" name=""/>
          <p:cNvSpPr/>
          <p:nvPr/>
        </p:nvSpPr>
        <p:spPr>
          <a:xfrm>
            <a:off x="5364000" y="5746680"/>
            <a:ext cx="982800" cy="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3" name=""/>
          <p:cNvGrpSpPr/>
          <p:nvPr/>
        </p:nvGrpSpPr>
        <p:grpSpPr>
          <a:xfrm>
            <a:off x="4503600" y="5765760"/>
            <a:ext cx="2651400" cy="378360"/>
            <a:chOff x="4503600" y="5765760"/>
            <a:chExt cx="2651400" cy="378360"/>
          </a:xfrm>
        </p:grpSpPr>
        <p:grpSp>
          <p:nvGrpSpPr>
            <p:cNvPr id="1854" name=""/>
            <p:cNvGrpSpPr/>
            <p:nvPr/>
          </p:nvGrpSpPr>
          <p:grpSpPr>
            <a:xfrm>
              <a:off x="4503600" y="5854680"/>
              <a:ext cx="2651400" cy="95400"/>
              <a:chOff x="4503600" y="5854680"/>
              <a:chExt cx="2651400" cy="95400"/>
            </a:xfrm>
          </p:grpSpPr>
          <p:sp>
            <p:nvSpPr>
              <p:cNvPr id="1855" name=""/>
              <p:cNvSpPr/>
              <p:nvPr/>
            </p:nvSpPr>
            <p:spPr>
              <a:xfrm>
                <a:off x="4503600" y="5854680"/>
                <a:ext cx="231840" cy="95400"/>
              </a:xfrm>
              <a:custGeom>
                <a:avLst/>
                <a:gdLst/>
                <a:ahLst/>
                <a:rect l="l" t="t" r="r" b="b"/>
                <a:pathLst>
                  <a:path w="146" h="60">
                    <a:moveTo>
                      <a:pt x="0" y="29"/>
                    </a:moveTo>
                    <a:lnTo>
                      <a:pt x="145" y="0"/>
                    </a:lnTo>
                    <a:lnTo>
                      <a:pt x="145" y="29"/>
                    </a:lnTo>
                    <a:lnTo>
                      <a:pt x="145" y="59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6897600" y="5854680"/>
                <a:ext cx="257400" cy="95400"/>
              </a:xfrm>
              <a:custGeom>
                <a:avLst/>
                <a:gdLst/>
                <a:ahLst/>
                <a:rect l="l" t="t" r="r" b="b"/>
                <a:pathLst>
                  <a:path w="162" h="60">
                    <a:moveTo>
                      <a:pt x="161" y="29"/>
                    </a:moveTo>
                    <a:lnTo>
                      <a:pt x="0" y="5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161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4753080" y="5919840"/>
                <a:ext cx="215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58" name=""/>
            <p:cNvSpPr/>
            <p:nvPr/>
          </p:nvSpPr>
          <p:spPr>
            <a:xfrm>
              <a:off x="5332680" y="5765760"/>
              <a:ext cx="1082160" cy="37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Geneva"/>
                </a:rPr>
                <a:t>CICLO 2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59" name=""/>
          <p:cNvSpPr/>
          <p:nvPr/>
        </p:nvSpPr>
        <p:spPr>
          <a:xfrm>
            <a:off x="8550720" y="11916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Geneva"/>
              </a:rPr>
              <a:t>(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1771560" y="4762440"/>
            <a:ext cx="5335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 flipV="1">
            <a:off x="2305080" y="3714840"/>
            <a:ext cx="0" cy="10476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2305080" y="3714840"/>
            <a:ext cx="5335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2838600" y="3733920"/>
            <a:ext cx="0" cy="685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2838600" y="4419720"/>
            <a:ext cx="5331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3371760" y="4400640"/>
            <a:ext cx="0" cy="7239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3371760" y="5124600"/>
            <a:ext cx="5526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 flipV="1">
            <a:off x="3924360" y="4076280"/>
            <a:ext cx="0" cy="10479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3924360" y="4076640"/>
            <a:ext cx="5522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4476600" y="4076640"/>
            <a:ext cx="0" cy="7048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4438800" y="4781520"/>
            <a:ext cx="5522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 flipV="1">
            <a:off x="4991040" y="3352320"/>
            <a:ext cx="0" cy="14288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5010120" y="3352680"/>
            <a:ext cx="10666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6076800" y="3352680"/>
            <a:ext cx="0" cy="7239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6076800" y="4076640"/>
            <a:ext cx="5335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610320" y="4076640"/>
            <a:ext cx="0" cy="685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 flipV="1">
            <a:off x="1787400" y="4723920"/>
            <a:ext cx="0" cy="7239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2533680" y="4572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5200560" y="45720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4464000" y="301608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2800440" y="1733400"/>
            <a:ext cx="35049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UMA DE LOS RECURSOS  EN EL CIC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6591240" y="4781520"/>
            <a:ext cx="5716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 flipV="1">
            <a:off x="7143840" y="4781160"/>
            <a:ext cx="0" cy="685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9" dur="10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10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7" dur="10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10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5" dur="10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9" dur="10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3" dur="10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7" dur="10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8000"/>
                            </p:stCondLst>
                            <p:childTnLst>
                              <p:par>
                                <p:cTn id="12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1" dur="10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9000"/>
                            </p:stCondLst>
                            <p:childTnLst>
                              <p:par>
                                <p:cTn id="1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5" dur="1000"/>
                                        <p:tgtEl>
                                          <p:spTgt spid="1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9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3" dur="10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7" dur="1000"/>
                                        <p:tgtEl>
                                          <p:spTgt spid="1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1" dur="10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5" dur="10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9" dur="10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3" dur="1000"/>
                                        <p:tgtEl>
                                          <p:spTgt spid="1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7" dur="1000"/>
                                        <p:tgtEl>
                                          <p:spTgt spid="1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1" dur="5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6" dur="20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1" dur="500"/>
                                        <p:tgtEl>
                                          <p:spTgt spid="1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"/>
          <p:cNvSpPr/>
          <p:nvPr/>
        </p:nvSpPr>
        <p:spPr>
          <a:xfrm>
            <a:off x="4464000" y="301608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RECURSO REUTILIZABL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1188720" y="2027160"/>
            <a:ext cx="5914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Geneva"/>
              </a:rPr>
              <a:t>h/d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7319880" y="5524560"/>
            <a:ext cx="10731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Geneva"/>
              </a:rPr>
              <a:t>Tiemp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7" name=""/>
          <p:cNvGrpSpPr/>
          <p:nvPr/>
        </p:nvGrpSpPr>
        <p:grpSpPr>
          <a:xfrm>
            <a:off x="1679400" y="2303640"/>
            <a:ext cx="123840" cy="3746160"/>
            <a:chOff x="1679400" y="2303640"/>
            <a:chExt cx="123840" cy="3746160"/>
          </a:xfrm>
        </p:grpSpPr>
        <p:sp>
          <p:nvSpPr>
            <p:cNvPr id="1888" name=""/>
            <p:cNvSpPr/>
            <p:nvPr/>
          </p:nvSpPr>
          <p:spPr>
            <a:xfrm>
              <a:off x="1679400" y="2303640"/>
              <a:ext cx="123840" cy="258480"/>
            </a:xfrm>
            <a:custGeom>
              <a:avLst/>
              <a:gdLst/>
              <a:ahLst/>
              <a:rect l="l" t="t" r="r" b="b"/>
              <a:pathLst>
                <a:path w="78" h="163">
                  <a:moveTo>
                    <a:pt x="46" y="0"/>
                  </a:moveTo>
                  <a:lnTo>
                    <a:pt x="77" y="162"/>
                  </a:lnTo>
                  <a:lnTo>
                    <a:pt x="46" y="162"/>
                  </a:lnTo>
                  <a:lnTo>
                    <a:pt x="0" y="162"/>
                  </a:lnTo>
                  <a:lnTo>
                    <a:pt x="4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773360" y="2579760"/>
              <a:ext cx="0" cy="347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0" name=""/>
          <p:cNvGrpSpPr/>
          <p:nvPr/>
        </p:nvGrpSpPr>
        <p:grpSpPr>
          <a:xfrm>
            <a:off x="1766880" y="5397480"/>
            <a:ext cx="6141960" cy="95400"/>
            <a:chOff x="1766880" y="5397480"/>
            <a:chExt cx="6141960" cy="95400"/>
          </a:xfrm>
        </p:grpSpPr>
        <p:sp>
          <p:nvSpPr>
            <p:cNvPr id="1891" name=""/>
            <p:cNvSpPr/>
            <p:nvPr/>
          </p:nvSpPr>
          <p:spPr>
            <a:xfrm>
              <a:off x="7650000" y="5397480"/>
              <a:ext cx="258840" cy="95400"/>
            </a:xfrm>
            <a:custGeom>
              <a:avLst/>
              <a:gdLst/>
              <a:ahLst/>
              <a:rect l="l" t="t" r="r" b="b"/>
              <a:pathLst>
                <a:path w="163" h="60">
                  <a:moveTo>
                    <a:pt x="162" y="29"/>
                  </a:moveTo>
                  <a:lnTo>
                    <a:pt x="0" y="59"/>
                  </a:lnTo>
                  <a:lnTo>
                    <a:pt x="0" y="29"/>
                  </a:lnTo>
                  <a:lnTo>
                    <a:pt x="0" y="0"/>
                  </a:lnTo>
                  <a:lnTo>
                    <a:pt x="162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766880" y="5462640"/>
              <a:ext cx="5891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3" name=""/>
          <p:cNvSpPr/>
          <p:nvPr/>
        </p:nvSpPr>
        <p:spPr>
          <a:xfrm>
            <a:off x="1766880" y="511344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1766880" y="476424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1766880" y="441468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1766880" y="406404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1766880" y="371484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1766880" y="336564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1766880" y="301608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231156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284940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338760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392436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500076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553896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607680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661500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7151760" y="3009960"/>
            <a:ext cx="0" cy="298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1836360" y="5497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23475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29109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34491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39873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45255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50367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7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56289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61383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9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6614280" y="5470560"/>
            <a:ext cx="4557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10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1400400" y="4959360"/>
            <a:ext cx="318600" cy="378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1400400" y="4610160"/>
            <a:ext cx="318600" cy="378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1400400" y="4259160"/>
            <a:ext cx="318600" cy="378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1400400" y="3909960"/>
            <a:ext cx="318600" cy="378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1400400" y="3560760"/>
            <a:ext cx="318600" cy="378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1379160" y="3157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1386360" y="285444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7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1746360" y="3365640"/>
            <a:ext cx="5381640" cy="2098440"/>
          </a:xfrm>
          <a:custGeom>
            <a:avLst/>
            <a:gdLst/>
            <a:ahLst/>
            <a:rect l="l" t="t" r="r" b="b"/>
            <a:pathLst>
              <a:path w="3390" h="1322">
                <a:moveTo>
                  <a:pt x="0" y="881"/>
                </a:moveTo>
                <a:lnTo>
                  <a:pt x="339" y="881"/>
                </a:lnTo>
                <a:lnTo>
                  <a:pt x="339" y="220"/>
                </a:lnTo>
                <a:lnTo>
                  <a:pt x="695" y="220"/>
                </a:lnTo>
                <a:lnTo>
                  <a:pt x="695" y="661"/>
                </a:lnTo>
                <a:lnTo>
                  <a:pt x="1034" y="644"/>
                </a:lnTo>
                <a:lnTo>
                  <a:pt x="1034" y="1084"/>
                </a:lnTo>
                <a:lnTo>
                  <a:pt x="1372" y="1084"/>
                </a:lnTo>
                <a:lnTo>
                  <a:pt x="1372" y="424"/>
                </a:lnTo>
                <a:lnTo>
                  <a:pt x="1711" y="424"/>
                </a:lnTo>
                <a:lnTo>
                  <a:pt x="1711" y="864"/>
                </a:lnTo>
                <a:lnTo>
                  <a:pt x="2033" y="864"/>
                </a:lnTo>
                <a:lnTo>
                  <a:pt x="2033" y="0"/>
                </a:lnTo>
                <a:lnTo>
                  <a:pt x="2728" y="0"/>
                </a:lnTo>
                <a:lnTo>
                  <a:pt x="2728" y="440"/>
                </a:lnTo>
                <a:lnTo>
                  <a:pt x="3067" y="457"/>
                </a:lnTo>
                <a:lnTo>
                  <a:pt x="3050" y="881"/>
                </a:lnTo>
                <a:lnTo>
                  <a:pt x="3389" y="881"/>
                </a:lnTo>
                <a:lnTo>
                  <a:pt x="3389" y="1321"/>
                </a:lnTo>
                <a:lnTo>
                  <a:pt x="17" y="1321"/>
                </a:lnTo>
                <a:lnTo>
                  <a:pt x="17" y="881"/>
                </a:lnTo>
                <a:lnTo>
                  <a:pt x="0" y="881"/>
                </a:lnTo>
              </a:path>
            </a:pathLst>
          </a:custGeom>
          <a:solidFill>
            <a:srgbClr val="67cd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2674800" y="5746680"/>
            <a:ext cx="982800" cy="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8" name=""/>
          <p:cNvGrpSpPr/>
          <p:nvPr/>
        </p:nvGrpSpPr>
        <p:grpSpPr>
          <a:xfrm>
            <a:off x="1760400" y="5765760"/>
            <a:ext cx="2678400" cy="378360"/>
            <a:chOff x="1760400" y="5765760"/>
            <a:chExt cx="2678400" cy="378360"/>
          </a:xfrm>
        </p:grpSpPr>
        <p:grpSp>
          <p:nvGrpSpPr>
            <p:cNvPr id="1929" name=""/>
            <p:cNvGrpSpPr/>
            <p:nvPr/>
          </p:nvGrpSpPr>
          <p:grpSpPr>
            <a:xfrm>
              <a:off x="1760400" y="5854680"/>
              <a:ext cx="2678400" cy="95400"/>
              <a:chOff x="1760400" y="5854680"/>
              <a:chExt cx="2678400" cy="95400"/>
            </a:xfrm>
          </p:grpSpPr>
          <p:sp>
            <p:nvSpPr>
              <p:cNvPr id="1930" name=""/>
              <p:cNvSpPr/>
              <p:nvPr/>
            </p:nvSpPr>
            <p:spPr>
              <a:xfrm>
                <a:off x="1760400" y="5854680"/>
                <a:ext cx="231840" cy="95400"/>
              </a:xfrm>
              <a:custGeom>
                <a:avLst/>
                <a:gdLst/>
                <a:ahLst/>
                <a:rect l="l" t="t" r="r" b="b"/>
                <a:pathLst>
                  <a:path w="146" h="60">
                    <a:moveTo>
                      <a:pt x="0" y="29"/>
                    </a:moveTo>
                    <a:lnTo>
                      <a:pt x="145" y="0"/>
                    </a:lnTo>
                    <a:lnTo>
                      <a:pt x="145" y="29"/>
                    </a:lnTo>
                    <a:lnTo>
                      <a:pt x="145" y="59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4181400" y="5854680"/>
                <a:ext cx="257400" cy="95400"/>
              </a:xfrm>
              <a:custGeom>
                <a:avLst/>
                <a:gdLst/>
                <a:ahLst/>
                <a:rect l="l" t="t" r="r" b="b"/>
                <a:pathLst>
                  <a:path w="162" h="60">
                    <a:moveTo>
                      <a:pt x="161" y="29"/>
                    </a:moveTo>
                    <a:lnTo>
                      <a:pt x="0" y="5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161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2009880" y="5919840"/>
                <a:ext cx="217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33" name=""/>
            <p:cNvSpPr/>
            <p:nvPr/>
          </p:nvSpPr>
          <p:spPr>
            <a:xfrm>
              <a:off x="2643480" y="5765760"/>
              <a:ext cx="1082160" cy="37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Geneva"/>
                </a:rPr>
                <a:t>CICLO 1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34" name=""/>
          <p:cNvSpPr/>
          <p:nvPr/>
        </p:nvSpPr>
        <p:spPr>
          <a:xfrm>
            <a:off x="5364000" y="5746680"/>
            <a:ext cx="982800" cy="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5" name=""/>
          <p:cNvGrpSpPr/>
          <p:nvPr/>
        </p:nvGrpSpPr>
        <p:grpSpPr>
          <a:xfrm>
            <a:off x="4503600" y="5765760"/>
            <a:ext cx="2651400" cy="378360"/>
            <a:chOff x="4503600" y="5765760"/>
            <a:chExt cx="2651400" cy="378360"/>
          </a:xfrm>
        </p:grpSpPr>
        <p:grpSp>
          <p:nvGrpSpPr>
            <p:cNvPr id="1936" name=""/>
            <p:cNvGrpSpPr/>
            <p:nvPr/>
          </p:nvGrpSpPr>
          <p:grpSpPr>
            <a:xfrm>
              <a:off x="4503600" y="5854680"/>
              <a:ext cx="2651400" cy="95400"/>
              <a:chOff x="4503600" y="5854680"/>
              <a:chExt cx="2651400" cy="95400"/>
            </a:xfrm>
          </p:grpSpPr>
          <p:sp>
            <p:nvSpPr>
              <p:cNvPr id="1937" name=""/>
              <p:cNvSpPr/>
              <p:nvPr/>
            </p:nvSpPr>
            <p:spPr>
              <a:xfrm>
                <a:off x="4503600" y="5854680"/>
                <a:ext cx="231840" cy="95400"/>
              </a:xfrm>
              <a:custGeom>
                <a:avLst/>
                <a:gdLst/>
                <a:ahLst/>
                <a:rect l="l" t="t" r="r" b="b"/>
                <a:pathLst>
                  <a:path w="146" h="60">
                    <a:moveTo>
                      <a:pt x="0" y="29"/>
                    </a:moveTo>
                    <a:lnTo>
                      <a:pt x="145" y="0"/>
                    </a:lnTo>
                    <a:lnTo>
                      <a:pt x="145" y="29"/>
                    </a:lnTo>
                    <a:lnTo>
                      <a:pt x="145" y="59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6897600" y="5854680"/>
                <a:ext cx="257400" cy="95400"/>
              </a:xfrm>
              <a:custGeom>
                <a:avLst/>
                <a:gdLst/>
                <a:ahLst/>
                <a:rect l="l" t="t" r="r" b="b"/>
                <a:pathLst>
                  <a:path w="162" h="60">
                    <a:moveTo>
                      <a:pt x="161" y="29"/>
                    </a:moveTo>
                    <a:lnTo>
                      <a:pt x="0" y="5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161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4753080" y="5919840"/>
                <a:ext cx="215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40" name=""/>
            <p:cNvSpPr/>
            <p:nvPr/>
          </p:nvSpPr>
          <p:spPr>
            <a:xfrm>
              <a:off x="5332680" y="5765760"/>
              <a:ext cx="1082160" cy="37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Geneva"/>
                </a:rPr>
                <a:t>CICLO 2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1" name=""/>
          <p:cNvSpPr/>
          <p:nvPr/>
        </p:nvSpPr>
        <p:spPr>
          <a:xfrm>
            <a:off x="8550720" y="11916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Geneva"/>
              </a:rPr>
              <a:t>(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1771560" y="4762440"/>
            <a:ext cx="533520" cy="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 flipV="1">
            <a:off x="2305080" y="3714840"/>
            <a:ext cx="0" cy="104760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2305080" y="3714840"/>
            <a:ext cx="533520" cy="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2838600" y="3733920"/>
            <a:ext cx="0" cy="68580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2838600" y="4419720"/>
            <a:ext cx="533160" cy="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3371760" y="4400640"/>
            <a:ext cx="0" cy="72396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3371760" y="5124600"/>
            <a:ext cx="552600" cy="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 flipV="1">
            <a:off x="3924360" y="4076280"/>
            <a:ext cx="0" cy="104796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924360" y="4076640"/>
            <a:ext cx="552240" cy="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4476600" y="4076640"/>
            <a:ext cx="0" cy="70488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4438800" y="4781520"/>
            <a:ext cx="552240" cy="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 flipV="1">
            <a:off x="4991040" y="3352320"/>
            <a:ext cx="0" cy="142884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5010120" y="3352680"/>
            <a:ext cx="1066680" cy="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6076800" y="3352680"/>
            <a:ext cx="0" cy="72396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6076800" y="4076640"/>
            <a:ext cx="533520" cy="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6610320" y="4076640"/>
            <a:ext cx="0" cy="68580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 flipV="1">
            <a:off x="1787400" y="4723920"/>
            <a:ext cx="0" cy="72396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2533680" y="4572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5200560" y="45720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2800440" y="1733400"/>
            <a:ext cx="35049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ICK DE LOS RECURSOS  EN EL CIC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6591240" y="4781520"/>
            <a:ext cx="571680" cy="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 flipV="1">
            <a:off x="7143840" y="4781160"/>
            <a:ext cx="0" cy="68580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1771560" y="3733920"/>
            <a:ext cx="533520" cy="99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2838600" y="3714840"/>
            <a:ext cx="1619280" cy="1371600"/>
          </a:xfrm>
          <a:custGeom>
            <a:avLst/>
            <a:gdLst/>
            <a:ahLst/>
            <a:rect l="l" t="t" r="r" b="b"/>
            <a:pathLst>
              <a:path w="1020" h="864">
                <a:moveTo>
                  <a:pt x="0" y="0"/>
                </a:moveTo>
                <a:lnTo>
                  <a:pt x="0" y="432"/>
                </a:lnTo>
                <a:lnTo>
                  <a:pt x="336" y="432"/>
                </a:lnTo>
                <a:lnTo>
                  <a:pt x="336" y="864"/>
                </a:lnTo>
                <a:lnTo>
                  <a:pt x="684" y="864"/>
                </a:lnTo>
                <a:lnTo>
                  <a:pt x="684" y="204"/>
                </a:lnTo>
                <a:lnTo>
                  <a:pt x="1020" y="204"/>
                </a:lnTo>
                <a:lnTo>
                  <a:pt x="102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8ac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4476600" y="3371760"/>
            <a:ext cx="495360" cy="13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6076800" y="3352680"/>
            <a:ext cx="1067040" cy="1409760"/>
          </a:xfrm>
          <a:custGeom>
            <a:avLst/>
            <a:gdLst/>
            <a:ahLst/>
            <a:rect l="l" t="t" r="r" b="b"/>
            <a:pathLst>
              <a:path w="672" h="888">
                <a:moveTo>
                  <a:pt x="0" y="0"/>
                </a:moveTo>
                <a:lnTo>
                  <a:pt x="0" y="444"/>
                </a:lnTo>
                <a:lnTo>
                  <a:pt x="336" y="444"/>
                </a:lnTo>
                <a:lnTo>
                  <a:pt x="336" y="888"/>
                </a:lnTo>
                <a:lnTo>
                  <a:pt x="672" y="888"/>
                </a:lnTo>
                <a:lnTo>
                  <a:pt x="67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8ac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905040" y="2004840"/>
            <a:ext cx="1495440" cy="37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Geneva"/>
              </a:rPr>
              <a:t>h/sem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4462560" y="3009960"/>
            <a:ext cx="0" cy="301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82" dur="indefinite" restart="never" nodeType="tmRoot">
          <p:childTnLst>
            <p:seq>
              <p:cTn id="1283" dur="indefinite" nodeType="mainSeq">
                <p:childTnLst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8" dur="1000"/>
                                        <p:tgtEl>
                                          <p:spTgt spid="1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2" dur="10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6" dur="1000"/>
                                        <p:tgtEl>
                                          <p:spTgt spid="1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0" dur="1000"/>
                                        <p:tgtEl>
                                          <p:spTgt spid="1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4" dur="1000"/>
                                        <p:tgtEl>
                                          <p:spTgt spid="1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8" dur="1000"/>
                                        <p:tgtEl>
                                          <p:spTgt spid="1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2" dur="1000"/>
                                        <p:tgtEl>
                                          <p:spTgt spid="1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6" dur="1000"/>
                                        <p:tgtEl>
                                          <p:spTgt spid="1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8000"/>
                            </p:stCondLst>
                            <p:childTnLst>
                              <p:par>
                                <p:cTn id="13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0" dur="1000"/>
                                        <p:tgtEl>
                                          <p:spTgt spid="1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9000"/>
                            </p:stCondLst>
                            <p:childTnLst>
                              <p:par>
                                <p:cTn id="1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4" dur="10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8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2" dur="1000"/>
                                        <p:tgtEl>
                                          <p:spTgt spid="1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6" dur="1000"/>
                                        <p:tgtEl>
                                          <p:spTgt spid="1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0" dur="1000"/>
                                        <p:tgtEl>
                                          <p:spTgt spid="1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4" dur="1000"/>
                                        <p:tgtEl>
                                          <p:spTgt spid="1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14500"/>
                            </p:stCondLst>
                            <p:childTnLst>
                              <p:par>
                                <p:cTn id="1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8" dur="1000"/>
                                        <p:tgtEl>
                                          <p:spTgt spid="1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15500"/>
                            </p:stCondLst>
                            <p:childTnLst>
                              <p:par>
                                <p:cTn id="1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2" dur="1000"/>
                                        <p:tgtEl>
                                          <p:spTgt spid="1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6" dur="1000"/>
                                        <p:tgtEl>
                                          <p:spTgt spid="1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0" dur="500"/>
                                        <p:tgtEl>
                                          <p:spTgt spid="1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5" dur="2000"/>
                                        <p:tgtEl>
                                          <p:spTgt spid="1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0" dur="500"/>
                                        <p:tgtEl>
                                          <p:spTgt spid="1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3" dur="500"/>
                                        <p:tgtEl>
                                          <p:spTgt spid="1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fill="hold">
                            <p:stCondLst>
                              <p:cond delay="500"/>
                            </p:stCondLst>
                            <p:childTnLst>
                              <p:par>
                                <p:cTn id="1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500"/>
                                        <p:tgtEl>
                                          <p:spTgt spid="1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9" dur="500"/>
                                        <p:tgtEl>
                                          <p:spTgt spid="1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500"/>
                            </p:stCondLst>
                            <p:childTnLst>
                              <p:par>
                                <p:cTn id="1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3" dur="5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COMPUTO DE RECURSO</a:t>
            </a:r>
            <a:br>
              <a:rPr sz="3200"/>
            </a:b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(actividades discontinuas)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387360" y="1515960"/>
            <a:ext cx="816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463680" y="1830240"/>
            <a:ext cx="808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407880" y="2171880"/>
            <a:ext cx="814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446040" y="2486160"/>
            <a:ext cx="810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417600" y="2820960"/>
            <a:ext cx="813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26960" y="3135240"/>
            <a:ext cx="812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426960" y="3451320"/>
            <a:ext cx="812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426960" y="3765600"/>
            <a:ext cx="812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465120" y="4100400"/>
            <a:ext cx="808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436680" y="4433760"/>
            <a:ext cx="811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426960" y="4749840"/>
            <a:ext cx="812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465120" y="5064120"/>
            <a:ext cx="808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453960" y="5372280"/>
            <a:ext cx="8097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 flipV="1">
            <a:off x="446040" y="1483920"/>
            <a:ext cx="0" cy="443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 flipV="1">
            <a:off x="1082520" y="1503360"/>
            <a:ext cx="0" cy="387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 flipV="1">
            <a:off x="1866960" y="1484280"/>
            <a:ext cx="0" cy="443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 flipV="1">
            <a:off x="2130480" y="1503360"/>
            <a:ext cx="0" cy="441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 flipV="1">
            <a:off x="2641680" y="1503000"/>
            <a:ext cx="0" cy="439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 flipV="1">
            <a:off x="2897280" y="1503360"/>
            <a:ext cx="0" cy="441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 flipV="1">
            <a:off x="3152880" y="1483920"/>
            <a:ext cx="0" cy="439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 flipV="1">
            <a:off x="3408480" y="1503000"/>
            <a:ext cx="0" cy="440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 flipV="1">
            <a:off x="3684600" y="1503000"/>
            <a:ext cx="0" cy="439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 flipV="1">
            <a:off x="3940200" y="1503360"/>
            <a:ext cx="0" cy="442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 flipV="1">
            <a:off x="4195800" y="1503000"/>
            <a:ext cx="0" cy="439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 flipV="1">
            <a:off x="4451400" y="1503000"/>
            <a:ext cx="0" cy="440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 flipV="1">
            <a:off x="4707000" y="1503360"/>
            <a:ext cx="0" cy="438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 flipV="1">
            <a:off x="4964040" y="1503360"/>
            <a:ext cx="0" cy="438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 flipV="1">
            <a:off x="5219640" y="1503360"/>
            <a:ext cx="0" cy="442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 flipV="1">
            <a:off x="5475240" y="1503360"/>
            <a:ext cx="0" cy="437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 flipV="1">
            <a:off x="5730840" y="1503000"/>
            <a:ext cx="0" cy="439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 flipV="1">
            <a:off x="5986440" y="1503360"/>
            <a:ext cx="0" cy="442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 flipV="1">
            <a:off x="6242040" y="1503000"/>
            <a:ext cx="0" cy="440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 flipV="1">
            <a:off x="6488280" y="1512360"/>
            <a:ext cx="0" cy="438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 flipV="1">
            <a:off x="6753240" y="1503000"/>
            <a:ext cx="0" cy="440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 flipV="1">
            <a:off x="7010280" y="1503000"/>
            <a:ext cx="0" cy="439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 flipV="1">
            <a:off x="7265880" y="1503360"/>
            <a:ext cx="0" cy="437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 flipV="1">
            <a:off x="7540560" y="1503360"/>
            <a:ext cx="0" cy="442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 flipV="1">
            <a:off x="7796160" y="1503360"/>
            <a:ext cx="0" cy="441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 flipV="1">
            <a:off x="8062920" y="1494000"/>
            <a:ext cx="0" cy="437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 flipV="1">
            <a:off x="8308800" y="1503360"/>
            <a:ext cx="0" cy="437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511200" y="1550880"/>
            <a:ext cx="507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A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1534320" y="1550880"/>
            <a:ext cx="345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614520" y="190512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614520" y="223848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614520" y="253368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614160" y="286848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614160" y="318276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614160" y="349884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614160" y="383220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620280" y="414648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620280" y="448164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620280" y="479592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620280" y="511164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1580760" y="19051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 flipV="1">
            <a:off x="2386080" y="1503360"/>
            <a:ext cx="0" cy="437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1580760" y="28684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1580760" y="320364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1580760" y="22194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1580760" y="41464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1580760" y="35179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1580760" y="25542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1580760" y="448164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1580760" y="38322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1580760" y="481644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1580760" y="50734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 flipV="1">
            <a:off x="8577360" y="1463760"/>
            <a:ext cx="0" cy="444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1868400" y="1973160"/>
            <a:ext cx="2832120" cy="1080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1882800" y="1979640"/>
            <a:ext cx="525600" cy="92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2379600" y="2308320"/>
            <a:ext cx="3338640" cy="1015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2379600" y="2306520"/>
            <a:ext cx="1042920" cy="104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3933720" y="2654280"/>
            <a:ext cx="3319560" cy="10152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3919680" y="2652840"/>
            <a:ext cx="1552320" cy="91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2124000" y="2952720"/>
            <a:ext cx="3102120" cy="1224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2124000" y="2948040"/>
            <a:ext cx="1292400" cy="125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2124000" y="3267000"/>
            <a:ext cx="3102120" cy="10152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2124000" y="3267000"/>
            <a:ext cx="760320" cy="1126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2905200" y="3581280"/>
            <a:ext cx="3082680" cy="1159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3157560" y="3581280"/>
            <a:ext cx="235080" cy="101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3949560" y="3916440"/>
            <a:ext cx="3573720" cy="1015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3933720" y="3916440"/>
            <a:ext cx="1017720" cy="871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3422520" y="4230720"/>
            <a:ext cx="2295720" cy="1015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3402000" y="4245120"/>
            <a:ext cx="525600" cy="871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3952800" y="4565520"/>
            <a:ext cx="3576600" cy="8748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4957920" y="4565520"/>
            <a:ext cx="741240" cy="1033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5724360" y="4879800"/>
            <a:ext cx="2316240" cy="10188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5724360" y="4879800"/>
            <a:ext cx="506520" cy="1033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6259680" y="5156280"/>
            <a:ext cx="2036520" cy="9828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6256440" y="5156280"/>
            <a:ext cx="230040" cy="921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1906920" y="1539720"/>
            <a:ext cx="6690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1     2    3   4     5    6     7   8    9   10  11 12   13   14 15  16   17  18  19 20   21  22   23 24   25  2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3684600" y="1962000"/>
            <a:ext cx="525600" cy="1209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4695840" y="2308320"/>
            <a:ext cx="1042920" cy="1029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3921120" y="2954160"/>
            <a:ext cx="1292400" cy="11592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4464000" y="3263760"/>
            <a:ext cx="760320" cy="1112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5740560" y="3578400"/>
            <a:ext cx="264960" cy="115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5189400" y="4237200"/>
            <a:ext cx="525600" cy="10152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7531200" y="4890960"/>
            <a:ext cx="506160" cy="1112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8043840" y="5153040"/>
            <a:ext cx="258840" cy="11412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6492960" y="3908520"/>
            <a:ext cx="1017360" cy="10152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 flipV="1">
            <a:off x="1488960" y="1509480"/>
            <a:ext cx="0" cy="387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1186920" y="18921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1186920" y="28558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1186920" y="319104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1186920" y="22068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1186920" y="41338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1186920" y="35053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1186920" y="25416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1186920" y="44686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1186920" y="38196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1186920" y="47592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1186920" y="50925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1162080" y="1581120"/>
            <a:ext cx="609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h/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82" name=""/>
          <p:cNvGrpSpPr/>
          <p:nvPr/>
        </p:nvGrpSpPr>
        <p:grpSpPr>
          <a:xfrm>
            <a:off x="1841760" y="1771560"/>
            <a:ext cx="560160" cy="271440"/>
            <a:chOff x="1841760" y="1771560"/>
            <a:chExt cx="560160" cy="271440"/>
          </a:xfrm>
        </p:grpSpPr>
        <p:sp>
          <p:nvSpPr>
            <p:cNvPr id="2083" name=""/>
            <p:cNvSpPr/>
            <p:nvPr/>
          </p:nvSpPr>
          <p:spPr>
            <a:xfrm>
              <a:off x="1841760" y="17715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2133720" y="17715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85" name=""/>
          <p:cNvGrpSpPr/>
          <p:nvPr/>
        </p:nvGrpSpPr>
        <p:grpSpPr>
          <a:xfrm>
            <a:off x="2374920" y="2103480"/>
            <a:ext cx="1028520" cy="271440"/>
            <a:chOff x="2374920" y="2103480"/>
            <a:chExt cx="1028520" cy="271440"/>
          </a:xfrm>
        </p:grpSpPr>
        <p:sp>
          <p:nvSpPr>
            <p:cNvPr id="2086" name=""/>
            <p:cNvSpPr/>
            <p:nvPr/>
          </p:nvSpPr>
          <p:spPr>
            <a:xfrm>
              <a:off x="2374920" y="210348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2629080" y="210348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2901960" y="210348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3138480" y="2103480"/>
              <a:ext cx="264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90" name=""/>
          <p:cNvGrpSpPr/>
          <p:nvPr/>
        </p:nvGrpSpPr>
        <p:grpSpPr>
          <a:xfrm>
            <a:off x="3937320" y="2422440"/>
            <a:ext cx="1557000" cy="271440"/>
            <a:chOff x="3937320" y="2422440"/>
            <a:chExt cx="1557000" cy="271440"/>
          </a:xfrm>
        </p:grpSpPr>
        <p:sp>
          <p:nvSpPr>
            <p:cNvPr id="2091" name=""/>
            <p:cNvSpPr/>
            <p:nvPr/>
          </p:nvSpPr>
          <p:spPr>
            <a:xfrm>
              <a:off x="3937320" y="24224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4191120" y="24224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4464360" y="24224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4699080" y="24224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4972320" y="24224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5226120" y="24224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97" name=""/>
          <p:cNvGrpSpPr/>
          <p:nvPr/>
        </p:nvGrpSpPr>
        <p:grpSpPr>
          <a:xfrm>
            <a:off x="2108160" y="2728800"/>
            <a:ext cx="1296720" cy="271440"/>
            <a:chOff x="2108160" y="2728800"/>
            <a:chExt cx="1296720" cy="271440"/>
          </a:xfrm>
        </p:grpSpPr>
        <p:sp>
          <p:nvSpPr>
            <p:cNvPr id="2098" name=""/>
            <p:cNvSpPr/>
            <p:nvPr/>
          </p:nvSpPr>
          <p:spPr>
            <a:xfrm>
              <a:off x="2108160" y="272880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2381040" y="272880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2653920" y="272880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3136680" y="272880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2914200" y="272880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3" name=""/>
          <p:cNvGrpSpPr/>
          <p:nvPr/>
        </p:nvGrpSpPr>
        <p:grpSpPr>
          <a:xfrm>
            <a:off x="2146320" y="3063960"/>
            <a:ext cx="776160" cy="271440"/>
            <a:chOff x="2146320" y="3063960"/>
            <a:chExt cx="776160" cy="271440"/>
          </a:xfrm>
        </p:grpSpPr>
        <p:sp>
          <p:nvSpPr>
            <p:cNvPr id="2104" name=""/>
            <p:cNvSpPr/>
            <p:nvPr/>
          </p:nvSpPr>
          <p:spPr>
            <a:xfrm>
              <a:off x="2146320" y="30639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2381400" y="30639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2654280" y="30639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07" name=""/>
          <p:cNvSpPr/>
          <p:nvPr/>
        </p:nvSpPr>
        <p:spPr>
          <a:xfrm>
            <a:off x="3156120" y="336852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8" name=""/>
          <p:cNvGrpSpPr/>
          <p:nvPr/>
        </p:nvGrpSpPr>
        <p:grpSpPr>
          <a:xfrm>
            <a:off x="3403800" y="4016520"/>
            <a:ext cx="541080" cy="271440"/>
            <a:chOff x="3403800" y="4016520"/>
            <a:chExt cx="541080" cy="271440"/>
          </a:xfrm>
        </p:grpSpPr>
        <p:sp>
          <p:nvSpPr>
            <p:cNvPr id="2109" name=""/>
            <p:cNvSpPr/>
            <p:nvPr/>
          </p:nvSpPr>
          <p:spPr>
            <a:xfrm>
              <a:off x="3403800" y="40165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3676680" y="40165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11" name=""/>
          <p:cNvGrpSpPr/>
          <p:nvPr/>
        </p:nvGrpSpPr>
        <p:grpSpPr>
          <a:xfrm>
            <a:off x="4961160" y="4340160"/>
            <a:ext cx="794880" cy="271440"/>
            <a:chOff x="4961160" y="4340160"/>
            <a:chExt cx="794880" cy="271440"/>
          </a:xfrm>
        </p:grpSpPr>
        <p:sp>
          <p:nvSpPr>
            <p:cNvPr id="2112" name=""/>
            <p:cNvSpPr/>
            <p:nvPr/>
          </p:nvSpPr>
          <p:spPr>
            <a:xfrm>
              <a:off x="4961160" y="43401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5233680" y="43401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487840" y="43401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15" name=""/>
          <p:cNvGrpSpPr/>
          <p:nvPr/>
        </p:nvGrpSpPr>
        <p:grpSpPr>
          <a:xfrm>
            <a:off x="5727960" y="4660920"/>
            <a:ext cx="522000" cy="271440"/>
            <a:chOff x="5727960" y="4660920"/>
            <a:chExt cx="522000" cy="271440"/>
          </a:xfrm>
        </p:grpSpPr>
        <p:sp>
          <p:nvSpPr>
            <p:cNvPr id="2116" name=""/>
            <p:cNvSpPr/>
            <p:nvPr/>
          </p:nvSpPr>
          <p:spPr>
            <a:xfrm>
              <a:off x="5727960" y="46609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981760" y="46609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18" name=""/>
          <p:cNvSpPr/>
          <p:nvPr/>
        </p:nvSpPr>
        <p:spPr>
          <a:xfrm>
            <a:off x="6242040" y="494676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19" name=""/>
          <p:cNvGrpSpPr/>
          <p:nvPr/>
        </p:nvGrpSpPr>
        <p:grpSpPr>
          <a:xfrm>
            <a:off x="3662280" y="1758960"/>
            <a:ext cx="560160" cy="271440"/>
            <a:chOff x="3662280" y="1758960"/>
            <a:chExt cx="560160" cy="271440"/>
          </a:xfrm>
        </p:grpSpPr>
        <p:sp>
          <p:nvSpPr>
            <p:cNvPr id="2120" name=""/>
            <p:cNvSpPr/>
            <p:nvPr/>
          </p:nvSpPr>
          <p:spPr>
            <a:xfrm>
              <a:off x="3662280" y="17589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3954240" y="17589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2" name=""/>
          <p:cNvGrpSpPr/>
          <p:nvPr/>
        </p:nvGrpSpPr>
        <p:grpSpPr>
          <a:xfrm>
            <a:off x="5724720" y="2428920"/>
            <a:ext cx="1557000" cy="271440"/>
            <a:chOff x="5724720" y="2428920"/>
            <a:chExt cx="1557000" cy="271440"/>
          </a:xfrm>
        </p:grpSpPr>
        <p:sp>
          <p:nvSpPr>
            <p:cNvPr id="2123" name=""/>
            <p:cNvSpPr/>
            <p:nvPr/>
          </p:nvSpPr>
          <p:spPr>
            <a:xfrm>
              <a:off x="5724720" y="24289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978520" y="24289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251760" y="24289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6486480" y="24289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759720" y="24289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013520" y="24289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9" name=""/>
          <p:cNvGrpSpPr/>
          <p:nvPr/>
        </p:nvGrpSpPr>
        <p:grpSpPr>
          <a:xfrm>
            <a:off x="4734000" y="2114640"/>
            <a:ext cx="1030320" cy="271440"/>
            <a:chOff x="4734000" y="2114640"/>
            <a:chExt cx="1030320" cy="271440"/>
          </a:xfrm>
        </p:grpSpPr>
        <p:sp>
          <p:nvSpPr>
            <p:cNvPr id="2130" name=""/>
            <p:cNvSpPr/>
            <p:nvPr/>
          </p:nvSpPr>
          <p:spPr>
            <a:xfrm>
              <a:off x="4734000" y="21146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4988160" y="21146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5261040" y="21146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5496120" y="21146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4" name=""/>
          <p:cNvGrpSpPr/>
          <p:nvPr/>
        </p:nvGrpSpPr>
        <p:grpSpPr>
          <a:xfrm>
            <a:off x="3943440" y="2739960"/>
            <a:ext cx="1296720" cy="271440"/>
            <a:chOff x="3943440" y="2739960"/>
            <a:chExt cx="1296720" cy="271440"/>
          </a:xfrm>
        </p:grpSpPr>
        <p:sp>
          <p:nvSpPr>
            <p:cNvPr id="2135" name=""/>
            <p:cNvSpPr/>
            <p:nvPr/>
          </p:nvSpPr>
          <p:spPr>
            <a:xfrm>
              <a:off x="3943440" y="27399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216320" y="27399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489560" y="27399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4971960" y="27399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749840" y="27399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40" name=""/>
          <p:cNvGrpSpPr/>
          <p:nvPr/>
        </p:nvGrpSpPr>
        <p:grpSpPr>
          <a:xfrm>
            <a:off x="4476960" y="3046320"/>
            <a:ext cx="775800" cy="271440"/>
            <a:chOff x="4476960" y="3046320"/>
            <a:chExt cx="775800" cy="271440"/>
          </a:xfrm>
        </p:grpSpPr>
        <p:sp>
          <p:nvSpPr>
            <p:cNvPr id="2141" name=""/>
            <p:cNvSpPr/>
            <p:nvPr/>
          </p:nvSpPr>
          <p:spPr>
            <a:xfrm>
              <a:off x="4476960" y="30463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4711320" y="30463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4984560" y="30463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44" name=""/>
          <p:cNvSpPr/>
          <p:nvPr/>
        </p:nvSpPr>
        <p:spPr>
          <a:xfrm>
            <a:off x="5715000" y="337500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ff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45" name=""/>
          <p:cNvGrpSpPr/>
          <p:nvPr/>
        </p:nvGrpSpPr>
        <p:grpSpPr>
          <a:xfrm>
            <a:off x="5200920" y="4022640"/>
            <a:ext cx="541080" cy="271440"/>
            <a:chOff x="5200920" y="4022640"/>
            <a:chExt cx="541080" cy="271440"/>
          </a:xfrm>
        </p:grpSpPr>
        <p:sp>
          <p:nvSpPr>
            <p:cNvPr id="2146" name=""/>
            <p:cNvSpPr/>
            <p:nvPr/>
          </p:nvSpPr>
          <p:spPr>
            <a:xfrm>
              <a:off x="5200920" y="40226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5473800" y="40226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48" name=""/>
          <p:cNvGrpSpPr/>
          <p:nvPr/>
        </p:nvGrpSpPr>
        <p:grpSpPr>
          <a:xfrm>
            <a:off x="6724800" y="4325760"/>
            <a:ext cx="794880" cy="271440"/>
            <a:chOff x="6724800" y="4325760"/>
            <a:chExt cx="794880" cy="271440"/>
          </a:xfrm>
        </p:grpSpPr>
        <p:sp>
          <p:nvSpPr>
            <p:cNvPr id="2149" name=""/>
            <p:cNvSpPr/>
            <p:nvPr/>
          </p:nvSpPr>
          <p:spPr>
            <a:xfrm>
              <a:off x="6724800" y="43257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997320" y="43257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7251480" y="43257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2" name=""/>
          <p:cNvGrpSpPr/>
          <p:nvPr/>
        </p:nvGrpSpPr>
        <p:grpSpPr>
          <a:xfrm>
            <a:off x="7524720" y="4667400"/>
            <a:ext cx="522000" cy="271440"/>
            <a:chOff x="7524720" y="4667400"/>
            <a:chExt cx="522000" cy="271440"/>
          </a:xfrm>
        </p:grpSpPr>
        <p:sp>
          <p:nvSpPr>
            <p:cNvPr id="2153" name=""/>
            <p:cNvSpPr/>
            <p:nvPr/>
          </p:nvSpPr>
          <p:spPr>
            <a:xfrm>
              <a:off x="7524720" y="466740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7778520" y="466740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55" name=""/>
          <p:cNvSpPr/>
          <p:nvPr/>
        </p:nvSpPr>
        <p:spPr>
          <a:xfrm>
            <a:off x="8039160" y="494352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ff"/>
                </a:solidFill>
                <a:latin typeface="Geneva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4000680" y="568332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4254480" y="568332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4508640" y="568332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4705200" y="5683320"/>
            <a:ext cx="247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5006880" y="5683320"/>
            <a:ext cx="171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5241960" y="5683320"/>
            <a:ext cx="20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5505480" y="5683320"/>
            <a:ext cx="18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5816520" y="5683320"/>
            <a:ext cx="1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6070680" y="568332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6324480" y="5683320"/>
            <a:ext cx="1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6578640" y="568332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6832440" y="5683320"/>
            <a:ext cx="1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7095960" y="5683320"/>
            <a:ext cx="1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7324560" y="5683320"/>
            <a:ext cx="1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7578720" y="568332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7832880" y="568332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8129520" y="5683320"/>
            <a:ext cx="1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1924200" y="541980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2197080" y="541980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2432160" y="5419800"/>
            <a:ext cx="20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2600280" y="5419800"/>
            <a:ext cx="32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2959200" y="541980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3165480" y="541980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3476520" y="5419800"/>
            <a:ext cx="1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3730680" y="541980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4003560" y="5419800"/>
            <a:ext cx="1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4257720" y="541980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4511520" y="5419800"/>
            <a:ext cx="1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4765680" y="541980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5019840" y="541980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5283360" y="541980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5546880" y="541980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5819760" y="541980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6073920" y="541980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6327720" y="5419800"/>
            <a:ext cx="1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1495440" y="5425920"/>
            <a:ext cx="333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(h/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1501920" y="5680080"/>
            <a:ext cx="333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h/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5707080" y="2654280"/>
            <a:ext cx="1552680" cy="921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6788160" y="4552920"/>
            <a:ext cx="741240" cy="10332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803160" y="5423040"/>
            <a:ext cx="85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803160" y="5670720"/>
            <a:ext cx="85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Cantid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438120" y="5600880"/>
            <a:ext cx="815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419040" y="590544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5924520" y="135252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3759120" y="5670720"/>
            <a:ext cx="1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11" dur="indefinite" restart="never" nodeType="tmRoot">
          <p:childTnLst>
            <p:seq>
              <p:cTn id="1412" dur="indefinite" nodeType="mainSeq">
                <p:childTnLst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7" dur="500"/>
                                        <p:tgtEl>
                                          <p:spTgt spid="2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500"/>
                            </p:stCondLst>
                            <p:childTnLst>
                              <p:par>
                                <p:cTn id="14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1" dur="1000"/>
                                        <p:tgtEl>
                                          <p:spTgt spid="2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5" dur="2000"/>
                                        <p:tgtEl>
                                          <p:spTgt spid="2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0" dur="5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500"/>
                            </p:stCondLst>
                            <p:childTnLst>
                              <p:par>
                                <p:cTn id="1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4" dur="1000"/>
                                        <p:tgtEl>
                                          <p:spTgt spid="2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8" dur="2000"/>
                                        <p:tgtEl>
                                          <p:spTgt spid="2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3" dur="500"/>
                                        <p:tgtEl>
                                          <p:spTgt spid="2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7" dur="10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2000"/>
                                        <p:tgtEl>
                                          <p:spTgt spid="2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6" dur="500"/>
                                        <p:tgtEl>
                                          <p:spTgt spid="2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500"/>
                            </p:stCondLst>
                            <p:childTnLst>
                              <p:par>
                                <p:cTn id="14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0" dur="1000"/>
                                        <p:tgtEl>
                                          <p:spTgt spid="2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4" dur="2000"/>
                                        <p:tgtEl>
                                          <p:spTgt spid="2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9" dur="500"/>
                                        <p:tgtEl>
                                          <p:spTgt spid="2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fill="hold">
                            <p:stCondLst>
                              <p:cond delay="500"/>
                            </p:stCondLst>
                            <p:childTnLst>
                              <p:par>
                                <p:cTn id="14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3" dur="1000"/>
                                        <p:tgtEl>
                                          <p:spTgt spid="2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7" dur="2000"/>
                                        <p:tgtEl>
                                          <p:spTgt spid="2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2" dur="500"/>
                                        <p:tgtEl>
                                          <p:spTgt spid="2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fill="hold">
                            <p:stCondLst>
                              <p:cond delay="500"/>
                            </p:stCondLst>
                            <p:childTnLst>
                              <p:par>
                                <p:cTn id="14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6" dur="10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4" dur="1000"/>
                                        <p:tgtEl>
                                          <p:spTgt spid="2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8" dur="500"/>
                                        <p:tgtEl>
                                          <p:spTgt spid="2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2" dur="1000"/>
                                        <p:tgtEl>
                                          <p:spTgt spid="2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6" dur="500"/>
                                        <p:tgtEl>
                                          <p:spTgt spid="2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0" dur="2000"/>
                                        <p:tgtEl>
                                          <p:spTgt spid="2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5" dur="500"/>
                                        <p:tgtEl>
                                          <p:spTgt spid="2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500"/>
                            </p:stCondLst>
                            <p:childTnLst>
                              <p:par>
                                <p:cTn id="15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9" dur="1000"/>
                                        <p:tgtEl>
                                          <p:spTgt spid="2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3" dur="2000"/>
                                        <p:tgtEl>
                                          <p:spTgt spid="2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8" dur="500"/>
                                        <p:tgtEl>
                                          <p:spTgt spid="2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fill="hold">
                            <p:stCondLst>
                              <p:cond delay="500"/>
                            </p:stCondLst>
                            <p:childTnLst>
                              <p:par>
                                <p:cTn id="15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2" dur="1000"/>
                                        <p:tgtEl>
                                          <p:spTgt spid="2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6" dur="2000"/>
                                        <p:tgtEl>
                                          <p:spTgt spid="2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1" dur="1000"/>
                                        <p:tgtEl>
                                          <p:spTgt spid="2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3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5" dur="1000"/>
                                        <p:tgtEl>
                                          <p:spTgt spid="2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fill="hold">
                            <p:stCondLst>
                              <p:cond delay="4500"/>
                            </p:stCondLst>
                            <p:childTnLst>
                              <p:par>
                                <p:cTn id="157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7500"/>
                            </p:stCondLst>
                            <p:childTnLst>
                              <p:par>
                                <p:cTn id="157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8" fill="hold">
                            <p:stCondLst>
                              <p:cond delay="9000"/>
                            </p:stCondLst>
                            <p:childTnLst>
                              <p:par>
                                <p:cTn id="157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8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8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58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9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9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9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19500"/>
                            </p:stCondLst>
                            <p:childTnLst>
                              <p:par>
                                <p:cTn id="160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fill="hold">
                            <p:stCondLst>
                              <p:cond delay="21000"/>
                            </p:stCondLst>
                            <p:childTnLst>
                              <p:par>
                                <p:cTn id="160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5" fill="hold">
                            <p:stCondLst>
                              <p:cond delay="22500"/>
                            </p:stCondLst>
                            <p:childTnLst>
                              <p:par>
                                <p:cTn id="160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24000"/>
                            </p:stCondLst>
                            <p:childTnLst>
                              <p:par>
                                <p:cTn id="160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5" dur="500"/>
                                        <p:tgtEl>
                                          <p:spTgt spid="2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6" fill="hold">
                            <p:stCondLst>
                              <p:cond delay="500"/>
                            </p:stCondLst>
                            <p:childTnLst>
                              <p:par>
                                <p:cTn id="1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9" dur="500"/>
                                        <p:tgtEl>
                                          <p:spTgt spid="2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4" dur="500"/>
                                        <p:tgtEl>
                                          <p:spTgt spid="2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5" fill="hold">
                            <p:stCondLst>
                              <p:cond delay="500"/>
                            </p:stCondLst>
                            <p:childTnLst>
                              <p:par>
                                <p:cTn id="16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8" dur="500"/>
                                        <p:tgtEl>
                                          <p:spTgt spid="2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3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fill="hold">
                            <p:stCondLst>
                              <p:cond delay="500"/>
                            </p:stCondLst>
                            <p:childTnLst>
                              <p:par>
                                <p:cTn id="1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7" dur="500"/>
                                        <p:tgtEl>
                                          <p:spTgt spid="2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2" dur="500"/>
                                        <p:tgtEl>
                                          <p:spTgt spid="2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6" dur="500"/>
                                        <p:tgtEl>
                                          <p:spTgt spid="2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1" dur="500"/>
                                        <p:tgtEl>
                                          <p:spTgt spid="2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2" fill="hold">
                            <p:stCondLst>
                              <p:cond delay="500"/>
                            </p:stCondLst>
                            <p:childTnLst>
                              <p:par>
                                <p:cTn id="1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5" dur="500"/>
                                        <p:tgtEl>
                                          <p:spTgt spid="2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0" dur="500"/>
                                        <p:tgtEl>
                                          <p:spTgt spid="2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62" nodeType="afterEffect" fill="hold" presetClass="entr" presetID="1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8" dur="500"/>
                                        <p:tgtEl>
                                          <p:spTgt spid="2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fill="hold">
                            <p:stCondLst>
                              <p:cond delay="500"/>
                            </p:stCondLst>
                            <p:childTnLst>
                              <p:par>
                                <p:cTn id="1670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2" dur="500"/>
                                        <p:tgtEl>
                                          <p:spTgt spid="2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6" dur="500"/>
                                        <p:tgtEl>
                                          <p:spTgt spid="2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1" dur="500"/>
                                        <p:tgtEl>
                                          <p:spTgt spid="2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2" fill="hold">
                            <p:stCondLst>
                              <p:cond delay="500"/>
                            </p:stCondLst>
                            <p:childTnLst>
                              <p:par>
                                <p:cTn id="1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5" dur="500"/>
                                        <p:tgtEl>
                                          <p:spTgt spid="2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0" dur="500"/>
                                        <p:tgtEl>
                                          <p:spTgt spid="2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fill="hold">
                            <p:stCondLst>
                              <p:cond delay="500"/>
                            </p:stCondLst>
                            <p:childTnLst>
                              <p:par>
                                <p:cTn id="1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4" dur="500"/>
                                        <p:tgtEl>
                                          <p:spTgt spid="2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9" dur="500"/>
                                        <p:tgtEl>
                                          <p:spTgt spid="2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0" fill="hold">
                            <p:stCondLst>
                              <p:cond delay="500"/>
                            </p:stCondLst>
                            <p:childTnLst>
                              <p:par>
                                <p:cTn id="170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5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7000"/>
                            </p:stCondLst>
                            <p:childTnLst>
                              <p:par>
                                <p:cTn id="17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fill="hold">
                            <p:stCondLst>
                              <p:cond delay="8000"/>
                            </p:stCondLst>
                            <p:childTnLst>
                              <p:par>
                                <p:cTn id="17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9000"/>
                            </p:stCondLst>
                            <p:childTnLst>
                              <p:par>
                                <p:cTn id="17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1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"/>
          <p:cNvSpPr/>
          <p:nvPr/>
        </p:nvSpPr>
        <p:spPr>
          <a:xfrm>
            <a:off x="1752480" y="1467000"/>
            <a:ext cx="4486320" cy="2943000"/>
          </a:xfrm>
          <a:custGeom>
            <a:avLst/>
            <a:gdLst/>
            <a:ahLst/>
            <a:rect l="l" t="t" r="r" b="b"/>
            <a:pathLst>
              <a:path w="2826" h="1854">
                <a:moveTo>
                  <a:pt x="0" y="1854"/>
                </a:moveTo>
                <a:lnTo>
                  <a:pt x="0" y="1386"/>
                </a:lnTo>
                <a:lnTo>
                  <a:pt x="156" y="1386"/>
                </a:lnTo>
                <a:lnTo>
                  <a:pt x="156" y="468"/>
                </a:lnTo>
                <a:lnTo>
                  <a:pt x="312" y="468"/>
                </a:lnTo>
                <a:lnTo>
                  <a:pt x="312" y="0"/>
                </a:lnTo>
                <a:lnTo>
                  <a:pt x="624" y="0"/>
                </a:lnTo>
                <a:lnTo>
                  <a:pt x="624" y="774"/>
                </a:lnTo>
                <a:lnTo>
                  <a:pt x="780" y="762"/>
                </a:lnTo>
                <a:lnTo>
                  <a:pt x="768" y="324"/>
                </a:lnTo>
                <a:lnTo>
                  <a:pt x="948" y="318"/>
                </a:lnTo>
                <a:lnTo>
                  <a:pt x="942" y="1230"/>
                </a:lnTo>
                <a:lnTo>
                  <a:pt x="1272" y="1230"/>
                </a:lnTo>
                <a:lnTo>
                  <a:pt x="1266" y="1536"/>
                </a:lnTo>
                <a:lnTo>
                  <a:pt x="1884" y="1542"/>
                </a:lnTo>
                <a:lnTo>
                  <a:pt x="1884" y="1392"/>
                </a:lnTo>
                <a:lnTo>
                  <a:pt x="2202" y="1392"/>
                </a:lnTo>
                <a:lnTo>
                  <a:pt x="2202" y="1686"/>
                </a:lnTo>
                <a:lnTo>
                  <a:pt x="2364" y="1686"/>
                </a:lnTo>
                <a:lnTo>
                  <a:pt x="2364" y="1242"/>
                </a:lnTo>
                <a:lnTo>
                  <a:pt x="2670" y="1242"/>
                </a:lnTo>
                <a:lnTo>
                  <a:pt x="2670" y="930"/>
                </a:lnTo>
                <a:lnTo>
                  <a:pt x="2826" y="930"/>
                </a:lnTo>
                <a:lnTo>
                  <a:pt x="2826" y="184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1768320" y="990720"/>
            <a:ext cx="0" cy="341928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2017800" y="1247760"/>
            <a:ext cx="0" cy="316224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2266920" y="1238400"/>
            <a:ext cx="0" cy="31716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2516040" y="1209600"/>
            <a:ext cx="0" cy="32004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2755800" y="1247760"/>
            <a:ext cx="0" cy="31622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3016080" y="1209600"/>
            <a:ext cx="0" cy="32004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3265560" y="1200240"/>
            <a:ext cx="0" cy="320976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3514680" y="1190520"/>
            <a:ext cx="0" cy="32194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3763800" y="1238400"/>
            <a:ext cx="0" cy="31716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4014720" y="1209600"/>
            <a:ext cx="0" cy="32004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4264200" y="1219320"/>
            <a:ext cx="0" cy="31906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4513320" y="1209600"/>
            <a:ext cx="0" cy="32004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4762440" y="1219320"/>
            <a:ext cx="0" cy="31906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5013360" y="1228680"/>
            <a:ext cx="0" cy="318132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5262480" y="1228680"/>
            <a:ext cx="0" cy="3181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5511960" y="1209600"/>
            <a:ext cx="0" cy="32004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5761080" y="1228680"/>
            <a:ext cx="0" cy="318132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6010200" y="1219320"/>
            <a:ext cx="0" cy="31906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6261120" y="1209600"/>
            <a:ext cx="0" cy="32004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6510240" y="1228680"/>
            <a:ext cx="0" cy="3181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6759720" y="1228680"/>
            <a:ext cx="0" cy="318132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7008840" y="1219320"/>
            <a:ext cx="0" cy="31906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7259760" y="1238400"/>
            <a:ext cx="0" cy="31716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7508880" y="1247760"/>
            <a:ext cx="0" cy="316224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7758000" y="1209600"/>
            <a:ext cx="0" cy="32004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8007480" y="1219320"/>
            <a:ext cx="0" cy="31906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8258040" y="1200240"/>
            <a:ext cx="0" cy="320976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1774800" y="123660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1774800" y="147960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1774800" y="172260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1774800" y="196524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1774800" y="220680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1774800" y="244944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1774800" y="269244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1774800" y="293544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1774800" y="341964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1774800" y="366228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1774800" y="390528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1774800" y="414828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1774800" y="4390920"/>
            <a:ext cx="670572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1825560" y="4410000"/>
            <a:ext cx="17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2792520" y="4410000"/>
            <a:ext cx="17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4049640" y="4410000"/>
            <a:ext cx="304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5265720" y="4410000"/>
            <a:ext cx="26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6541920" y="4410000"/>
            <a:ext cx="24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7802640" y="4410000"/>
            <a:ext cx="228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1558800" y="3063960"/>
            <a:ext cx="171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1406520" y="1832040"/>
            <a:ext cx="32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1558800" y="4270320"/>
            <a:ext cx="171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 flipV="1">
            <a:off x="3247920" y="476208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3247920" y="4762440"/>
            <a:ext cx="266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3247920" y="2943360"/>
            <a:ext cx="2743200" cy="1199880"/>
          </a:xfrm>
          <a:custGeom>
            <a:avLst/>
            <a:gdLst/>
            <a:ahLst/>
            <a:rect l="l" t="t" r="r" b="b"/>
            <a:pathLst>
              <a:path w="1728" h="756">
                <a:moveTo>
                  <a:pt x="0" y="0"/>
                </a:moveTo>
                <a:lnTo>
                  <a:pt x="0" y="312"/>
                </a:lnTo>
                <a:lnTo>
                  <a:pt x="312" y="312"/>
                </a:lnTo>
                <a:lnTo>
                  <a:pt x="312" y="606"/>
                </a:lnTo>
                <a:lnTo>
                  <a:pt x="936" y="606"/>
                </a:lnTo>
                <a:lnTo>
                  <a:pt x="936" y="462"/>
                </a:lnTo>
                <a:lnTo>
                  <a:pt x="1254" y="462"/>
                </a:lnTo>
                <a:lnTo>
                  <a:pt x="1254" y="750"/>
                </a:lnTo>
                <a:lnTo>
                  <a:pt x="1416" y="756"/>
                </a:lnTo>
                <a:lnTo>
                  <a:pt x="1428" y="306"/>
                </a:lnTo>
                <a:lnTo>
                  <a:pt x="1728" y="306"/>
                </a:lnTo>
                <a:lnTo>
                  <a:pt x="1728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6189840" y="4552920"/>
            <a:ext cx="2036520" cy="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6026040" y="4813200"/>
            <a:ext cx="1982880" cy="9864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415800" y="5283360"/>
            <a:ext cx="7840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390600" y="4743360"/>
            <a:ext cx="4680" cy="1057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384120" y="4768920"/>
            <a:ext cx="7878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698400" y="5022720"/>
            <a:ext cx="756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60" name=""/>
          <p:cNvGrpSpPr/>
          <p:nvPr/>
        </p:nvGrpSpPr>
        <p:grpSpPr>
          <a:xfrm>
            <a:off x="741240" y="4816440"/>
            <a:ext cx="5488200" cy="186120"/>
            <a:chOff x="741240" y="4816440"/>
            <a:chExt cx="5488200" cy="186120"/>
          </a:xfrm>
        </p:grpSpPr>
        <p:sp>
          <p:nvSpPr>
            <p:cNvPr id="2261" name=""/>
            <p:cNvSpPr/>
            <p:nvPr/>
          </p:nvSpPr>
          <p:spPr>
            <a:xfrm>
              <a:off x="181440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2079720" y="48164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2308320" y="4816440"/>
              <a:ext cx="20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2471760" y="4816440"/>
              <a:ext cx="315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282096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3022560" y="4816440"/>
              <a:ext cx="222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332424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3571920" y="48164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3838680" y="48164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408456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433224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4579920" y="48164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4826160" y="48164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5083200" y="48164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5338800" y="48164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5605560" y="48164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585144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609912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741240" y="4819680"/>
              <a:ext cx="1114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Necesidadv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80" name=""/>
          <p:cNvSpPr/>
          <p:nvPr/>
        </p:nvSpPr>
        <p:spPr>
          <a:xfrm>
            <a:off x="2209680" y="3257640"/>
            <a:ext cx="81936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OS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1523880" y="781200"/>
            <a:ext cx="59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Ca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8420040" y="4159080"/>
            <a:ext cx="5907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Tiemp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2457360" y="343080"/>
            <a:ext cx="48196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URVAS DE NECESIDAD DE RECURSOS FUNGI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4" name=""/>
          <p:cNvGrpSpPr/>
          <p:nvPr/>
        </p:nvGrpSpPr>
        <p:grpSpPr>
          <a:xfrm>
            <a:off x="741240" y="5327640"/>
            <a:ext cx="7234200" cy="195480"/>
            <a:chOff x="741240" y="5327640"/>
            <a:chExt cx="7234200" cy="195480"/>
          </a:xfrm>
        </p:grpSpPr>
        <p:sp>
          <p:nvSpPr>
            <p:cNvPr id="2285" name=""/>
            <p:cNvSpPr/>
            <p:nvPr/>
          </p:nvSpPr>
          <p:spPr>
            <a:xfrm>
              <a:off x="3828960" y="53402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075200" y="53402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322880" y="53402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514760" y="5340240"/>
              <a:ext cx="23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4780080" y="5340240"/>
              <a:ext cx="25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037120" y="5340240"/>
              <a:ext cx="20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292720" y="5340240"/>
              <a:ext cx="17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595840" y="53402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5842080" y="53402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6089760" y="53402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337440" y="53402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6585120" y="53402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6840360" y="53402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7062840" y="53402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7310520" y="53402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7558200" y="53402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7845480" y="53402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741240" y="5327640"/>
              <a:ext cx="1038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Necesida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3602160" y="53276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04" name=""/>
          <p:cNvSpPr/>
          <p:nvPr/>
        </p:nvSpPr>
        <p:spPr>
          <a:xfrm>
            <a:off x="3533760" y="1447920"/>
            <a:ext cx="4487760" cy="2962080"/>
          </a:xfrm>
          <a:custGeom>
            <a:avLst/>
            <a:gdLst/>
            <a:ahLst/>
            <a:rect l="l" t="t" r="r" b="b"/>
            <a:pathLst>
              <a:path w="2827" h="1866">
                <a:moveTo>
                  <a:pt x="0" y="1866"/>
                </a:moveTo>
                <a:lnTo>
                  <a:pt x="6" y="1386"/>
                </a:lnTo>
                <a:lnTo>
                  <a:pt x="132" y="1392"/>
                </a:lnTo>
                <a:lnTo>
                  <a:pt x="138" y="1236"/>
                </a:lnTo>
                <a:lnTo>
                  <a:pt x="300" y="1242"/>
                </a:lnTo>
                <a:lnTo>
                  <a:pt x="306" y="1674"/>
                </a:lnTo>
                <a:lnTo>
                  <a:pt x="456" y="1680"/>
                </a:lnTo>
                <a:lnTo>
                  <a:pt x="462" y="930"/>
                </a:lnTo>
                <a:lnTo>
                  <a:pt x="630" y="936"/>
                </a:lnTo>
                <a:lnTo>
                  <a:pt x="609" y="0"/>
                </a:lnTo>
                <a:lnTo>
                  <a:pt x="936" y="6"/>
                </a:lnTo>
                <a:lnTo>
                  <a:pt x="936" y="306"/>
                </a:lnTo>
                <a:lnTo>
                  <a:pt x="1239" y="312"/>
                </a:lnTo>
                <a:lnTo>
                  <a:pt x="1251" y="1074"/>
                </a:lnTo>
                <a:lnTo>
                  <a:pt x="1416" y="1068"/>
                </a:lnTo>
                <a:lnTo>
                  <a:pt x="1416" y="1524"/>
                </a:lnTo>
                <a:lnTo>
                  <a:pt x="1869" y="1536"/>
                </a:lnTo>
                <a:lnTo>
                  <a:pt x="1869" y="1374"/>
                </a:lnTo>
                <a:lnTo>
                  <a:pt x="2187" y="1374"/>
                </a:lnTo>
                <a:lnTo>
                  <a:pt x="2187" y="1692"/>
                </a:lnTo>
                <a:lnTo>
                  <a:pt x="2343" y="1692"/>
                </a:lnTo>
                <a:lnTo>
                  <a:pt x="2343" y="1224"/>
                </a:lnTo>
                <a:lnTo>
                  <a:pt x="2676" y="1218"/>
                </a:lnTo>
                <a:lnTo>
                  <a:pt x="2670" y="948"/>
                </a:lnTo>
                <a:lnTo>
                  <a:pt x="2826" y="942"/>
                </a:lnTo>
                <a:lnTo>
                  <a:pt x="2827" y="1845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4540320" y="3197160"/>
            <a:ext cx="7808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OS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8256600" y="4410000"/>
            <a:ext cx="25560" cy="1376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714240" y="4762440"/>
            <a:ext cx="0" cy="1047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08" name=""/>
          <p:cNvGrpSpPr/>
          <p:nvPr/>
        </p:nvGrpSpPr>
        <p:grpSpPr>
          <a:xfrm>
            <a:off x="554040" y="4873680"/>
            <a:ext cx="5787000" cy="393120"/>
            <a:chOff x="554040" y="4873680"/>
            <a:chExt cx="5787000" cy="393120"/>
          </a:xfrm>
        </p:grpSpPr>
        <p:sp>
          <p:nvSpPr>
            <p:cNvPr id="2309" name=""/>
            <p:cNvSpPr/>
            <p:nvPr/>
          </p:nvSpPr>
          <p:spPr>
            <a:xfrm>
              <a:off x="554040" y="5037120"/>
              <a:ext cx="11145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 rot="18627600">
              <a:off x="1785960" y="5019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 rot="18627600">
              <a:off x="2062080" y="5019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 rot="18627600">
              <a:off x="2290680" y="5019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 rot="18627600">
              <a:off x="2557440" y="5019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 rot="18627600">
              <a:off x="2805120" y="5019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 rot="18627600">
              <a:off x="3031920" y="5019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 rot="18627600">
              <a:off x="3300480" y="5019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5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 rot="18627600">
              <a:off x="3556080" y="501912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 rot="18627600">
              <a:off x="3803760" y="501912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 rot="18627600">
              <a:off x="4051080" y="5019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 rot="18627600">
              <a:off x="4306680" y="5019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 rot="18627600">
              <a:off x="4581360" y="5019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 rot="18627600">
              <a:off x="4748040" y="4973400"/>
              <a:ext cx="325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 rot="18627600">
              <a:off x="5026680" y="4964760"/>
              <a:ext cx="32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 rot="18627600">
              <a:off x="5286960" y="4980600"/>
              <a:ext cx="295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 rot="18627600">
              <a:off x="5518080" y="4993920"/>
              <a:ext cx="255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 rot="18627600">
              <a:off x="5814000" y="5015520"/>
              <a:ext cx="263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8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 rot="18627600">
              <a:off x="6045120" y="4992480"/>
              <a:ext cx="274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754200" y="5073480"/>
              <a:ext cx="1038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Cost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29" name=""/>
          <p:cNvSpPr/>
          <p:nvPr/>
        </p:nvSpPr>
        <p:spPr>
          <a:xfrm rot="18627600">
            <a:off x="7032240" y="5509800"/>
            <a:ext cx="255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7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 rot="18627600">
            <a:off x="7267320" y="5511600"/>
            <a:ext cx="262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8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 rot="18627600">
            <a:off x="7526160" y="5510160"/>
            <a:ext cx="255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8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 rot="18627600">
            <a:off x="7822440" y="5551920"/>
            <a:ext cx="219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9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378000" y="5784840"/>
            <a:ext cx="787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701640" y="5543640"/>
            <a:ext cx="7554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560520" y="5557680"/>
            <a:ext cx="11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 rot="18627600">
            <a:off x="3841560" y="5530680"/>
            <a:ext cx="21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 rot="18627600">
            <a:off x="4089240" y="5540040"/>
            <a:ext cx="21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 rot="18627600">
            <a:off x="4317840" y="5559120"/>
            <a:ext cx="21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 rot="18627600">
            <a:off x="4592520" y="5559120"/>
            <a:ext cx="21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 rot="18627600">
            <a:off x="4821120" y="5559120"/>
            <a:ext cx="21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 rot="18627600">
            <a:off x="5086440" y="5558760"/>
            <a:ext cx="21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4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 rot="18627600">
            <a:off x="5333760" y="5559120"/>
            <a:ext cx="21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5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 rot="18627600">
            <a:off x="5562360" y="5559120"/>
            <a:ext cx="21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6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 rot="18627600">
            <a:off x="5829120" y="5559120"/>
            <a:ext cx="21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 rot="18627600">
            <a:off x="6084720" y="5559120"/>
            <a:ext cx="21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6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 rot="18627600">
            <a:off x="6332400" y="5559120"/>
            <a:ext cx="21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6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 rot="18627600">
            <a:off x="6580080" y="5559120"/>
            <a:ext cx="21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7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 rot="18627600">
            <a:off x="6791400" y="5558760"/>
            <a:ext cx="21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7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 rot="18627600">
            <a:off x="3619440" y="5530680"/>
            <a:ext cx="21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744480" y="5551560"/>
            <a:ext cx="1114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Costo Limi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 rot="16200000">
            <a:off x="304200" y="4934520"/>
            <a:ext cx="48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1752480" y="4400640"/>
            <a:ext cx="0" cy="1361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2768760" y="4397400"/>
            <a:ext cx="0" cy="1390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4060800" y="4394160"/>
            <a:ext cx="0" cy="134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5257800" y="4400640"/>
            <a:ext cx="0" cy="1380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6512040" y="440676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7756560" y="439416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1762200" y="317988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1781280" y="1454040"/>
            <a:ext cx="4473360" cy="2936880"/>
          </a:xfrm>
          <a:custGeom>
            <a:avLst/>
            <a:gdLst/>
            <a:ahLst/>
            <a:rect l="l" t="t" r="r" b="b"/>
            <a:pathLst>
              <a:path w="2818" h="1850">
                <a:moveTo>
                  <a:pt x="0" y="1850"/>
                </a:moveTo>
                <a:lnTo>
                  <a:pt x="6" y="1388"/>
                </a:lnTo>
                <a:lnTo>
                  <a:pt x="148" y="1386"/>
                </a:lnTo>
                <a:lnTo>
                  <a:pt x="148" y="468"/>
                </a:lnTo>
                <a:lnTo>
                  <a:pt x="304" y="468"/>
                </a:lnTo>
                <a:lnTo>
                  <a:pt x="304" y="0"/>
                </a:lnTo>
                <a:lnTo>
                  <a:pt x="616" y="0"/>
                </a:lnTo>
                <a:lnTo>
                  <a:pt x="616" y="774"/>
                </a:lnTo>
                <a:lnTo>
                  <a:pt x="778" y="774"/>
                </a:lnTo>
                <a:lnTo>
                  <a:pt x="778" y="318"/>
                </a:lnTo>
                <a:lnTo>
                  <a:pt x="940" y="318"/>
                </a:lnTo>
                <a:lnTo>
                  <a:pt x="934" y="1230"/>
                </a:lnTo>
                <a:lnTo>
                  <a:pt x="1252" y="1230"/>
                </a:lnTo>
                <a:lnTo>
                  <a:pt x="1258" y="1542"/>
                </a:lnTo>
                <a:lnTo>
                  <a:pt x="1876" y="1542"/>
                </a:lnTo>
                <a:lnTo>
                  <a:pt x="1876" y="1392"/>
                </a:lnTo>
                <a:lnTo>
                  <a:pt x="2194" y="1392"/>
                </a:lnTo>
                <a:lnTo>
                  <a:pt x="2194" y="1686"/>
                </a:lnTo>
                <a:lnTo>
                  <a:pt x="2356" y="1686"/>
                </a:lnTo>
                <a:lnTo>
                  <a:pt x="2356" y="1242"/>
                </a:lnTo>
                <a:lnTo>
                  <a:pt x="2662" y="1242"/>
                </a:lnTo>
                <a:lnTo>
                  <a:pt x="2662" y="930"/>
                </a:lnTo>
                <a:lnTo>
                  <a:pt x="2818" y="930"/>
                </a:lnTo>
                <a:lnTo>
                  <a:pt x="2818" y="1848"/>
                </a:lnTo>
              </a:path>
            </a:pathLst>
          </a:custGeom>
          <a:noFill/>
          <a:ln w="38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3524400" y="1447920"/>
            <a:ext cx="4502160" cy="2952720"/>
          </a:xfrm>
          <a:custGeom>
            <a:avLst/>
            <a:gdLst/>
            <a:ahLst/>
            <a:rect l="l" t="t" r="r" b="b"/>
            <a:pathLst>
              <a:path w="2836" h="1860">
                <a:moveTo>
                  <a:pt x="0" y="1860"/>
                </a:moveTo>
                <a:lnTo>
                  <a:pt x="6" y="1398"/>
                </a:lnTo>
                <a:lnTo>
                  <a:pt x="150" y="1398"/>
                </a:lnTo>
                <a:lnTo>
                  <a:pt x="150" y="1242"/>
                </a:lnTo>
                <a:lnTo>
                  <a:pt x="306" y="1242"/>
                </a:lnTo>
                <a:lnTo>
                  <a:pt x="312" y="1680"/>
                </a:lnTo>
                <a:lnTo>
                  <a:pt x="462" y="1680"/>
                </a:lnTo>
                <a:lnTo>
                  <a:pt x="456" y="942"/>
                </a:lnTo>
                <a:lnTo>
                  <a:pt x="624" y="936"/>
                </a:lnTo>
                <a:lnTo>
                  <a:pt x="616" y="4"/>
                </a:lnTo>
                <a:lnTo>
                  <a:pt x="948" y="0"/>
                </a:lnTo>
                <a:lnTo>
                  <a:pt x="948" y="300"/>
                </a:lnTo>
                <a:lnTo>
                  <a:pt x="1260" y="318"/>
                </a:lnTo>
                <a:lnTo>
                  <a:pt x="1258" y="1078"/>
                </a:lnTo>
                <a:lnTo>
                  <a:pt x="1422" y="1074"/>
                </a:lnTo>
                <a:lnTo>
                  <a:pt x="1416" y="1536"/>
                </a:lnTo>
                <a:lnTo>
                  <a:pt x="1876" y="1540"/>
                </a:lnTo>
                <a:lnTo>
                  <a:pt x="1876" y="1378"/>
                </a:lnTo>
                <a:lnTo>
                  <a:pt x="2194" y="1378"/>
                </a:lnTo>
                <a:lnTo>
                  <a:pt x="2194" y="1696"/>
                </a:lnTo>
                <a:lnTo>
                  <a:pt x="2350" y="1696"/>
                </a:lnTo>
                <a:lnTo>
                  <a:pt x="2350" y="1228"/>
                </a:lnTo>
                <a:lnTo>
                  <a:pt x="2676" y="1236"/>
                </a:lnTo>
                <a:lnTo>
                  <a:pt x="2664" y="948"/>
                </a:lnTo>
                <a:lnTo>
                  <a:pt x="2836" y="937"/>
                </a:lnTo>
                <a:lnTo>
                  <a:pt x="2836" y="1851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 rot="16200000">
            <a:off x="310320" y="5435640"/>
            <a:ext cx="48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T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4" dur="indefinite" restart="never" nodeType="tmRoot">
          <p:childTnLst>
            <p:seq>
              <p:cTn id="1765" dur="indefinite" nodeType="mainSeq">
                <p:childTnLst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4" dur="3000"/>
                                        <p:tgtEl>
                                          <p:spTgt spid="2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9" dur="80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7" dur="500"/>
                                        <p:tgtEl>
                                          <p:spTgt spid="2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2" dur="5000"/>
                                        <p:tgtEl>
                                          <p:spTgt spid="2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7" dur="5000"/>
                                        <p:tgtEl>
                                          <p:spTgt spid="2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5" dur="5000"/>
                                        <p:tgtEl>
                                          <p:spTgt spid="2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0" dur="5000"/>
                                        <p:tgtEl>
                                          <p:spTgt spid="2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fill="hold">
                      <p:stCondLst>
                        <p:cond delay="indefinite"/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8" dur="1000"/>
                                        <p:tgtEl>
                                          <p:spTgt spid="2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2" dur="1000"/>
                                        <p:tgtEl>
                                          <p:spTgt spid="2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6" dur="1000"/>
                                        <p:tgtEl>
                                          <p:spTgt spid="2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7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0" dur="1000"/>
                                        <p:tgtEl>
                                          <p:spTgt spid="2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4500"/>
                            </p:stCondLst>
                            <p:childTnLst>
                              <p:par>
                                <p:cTn id="18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4" dur="1000"/>
                                        <p:tgtEl>
                                          <p:spTgt spid="2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5" fill="hold">
                            <p:stCondLst>
                              <p:cond delay="5500"/>
                            </p:stCondLst>
                            <p:childTnLst>
                              <p:par>
                                <p:cTn id="18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8" dur="1000"/>
                                        <p:tgtEl>
                                          <p:spTgt spid="2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9" fill="hold">
                            <p:stCondLst>
                              <p:cond delay="6500"/>
                            </p:stCondLst>
                            <p:childTnLst>
                              <p:par>
                                <p:cTn id="18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2" dur="1000"/>
                                        <p:tgtEl>
                                          <p:spTgt spid="2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3" fill="hold">
                            <p:stCondLst>
                              <p:cond delay="7500"/>
                            </p:stCondLst>
                            <p:childTnLst>
                              <p:par>
                                <p:cTn id="18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6" dur="1000"/>
                                        <p:tgtEl>
                                          <p:spTgt spid="2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7" fill="hold">
                            <p:stCondLst>
                              <p:cond delay="8500"/>
                            </p:stCondLst>
                            <p:childTnLst>
                              <p:par>
                                <p:cTn id="18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0" dur="1000"/>
                                        <p:tgtEl>
                                          <p:spTgt spid="2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1" fill="hold">
                            <p:stCondLst>
                              <p:cond delay="9500"/>
                            </p:stCondLst>
                            <p:childTnLst>
                              <p:par>
                                <p:cTn id="18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4" dur="1000"/>
                                        <p:tgtEl>
                                          <p:spTgt spid="2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8" dur="1000"/>
                                        <p:tgtEl>
                                          <p:spTgt spid="2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9" fill="hold">
                            <p:stCondLst>
                              <p:cond delay="11500"/>
                            </p:stCondLst>
                            <p:childTnLst>
                              <p:par>
                                <p:cTn id="18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2" dur="1000"/>
                                        <p:tgtEl>
                                          <p:spTgt spid="2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6" dur="1000"/>
                                        <p:tgtEl>
                                          <p:spTgt spid="2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8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0" dur="1000"/>
                                        <p:tgtEl>
                                          <p:spTgt spid="2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1" fill="hold">
                            <p:stCondLst>
                              <p:cond delay="14500"/>
                            </p:stCondLst>
                            <p:childTnLst>
                              <p:par>
                                <p:cTn id="187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4" fill="hold">
                            <p:stCondLst>
                              <p:cond delay="14500"/>
                            </p:stCondLst>
                            <p:childTnLst>
                              <p:par>
                                <p:cTn id="187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87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0" fill="hold">
                            <p:stCondLst>
                              <p:cond delay="14500"/>
                            </p:stCondLst>
                            <p:childTnLst>
                              <p:par>
                                <p:cTn id="188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3" fill="hold">
                            <p:stCondLst>
                              <p:cond delay="14500"/>
                            </p:stCondLst>
                            <p:childTnLst>
                              <p:par>
                                <p:cTn id="188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"/>
          <p:cNvSpPr/>
          <p:nvPr/>
        </p:nvSpPr>
        <p:spPr>
          <a:xfrm>
            <a:off x="294480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319392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344340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3722760" y="1576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3971880" y="1576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419256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444168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469260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494172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519120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544032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5708520" y="155268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5945040" y="15667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618984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643896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668808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6939000" y="15620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718812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743760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768672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793764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1415880" y="160020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1415880" y="184140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1415880" y="208440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1415880" y="232740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1415880" y="257004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1454040" y="281304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1454040" y="305424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1417680" y="329580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1454040" y="354024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1454040" y="378288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1454040" y="402588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1454040" y="426708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1454040" y="451008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1454040" y="475308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1454040" y="499572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1425600" y="5238720"/>
            <a:ext cx="6819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3828960" y="5257800"/>
            <a:ext cx="304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5045040" y="5257800"/>
            <a:ext cx="26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6321600" y="5257800"/>
            <a:ext cx="24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7581960" y="5257800"/>
            <a:ext cx="228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03" name=""/>
          <p:cNvGrpSpPr/>
          <p:nvPr/>
        </p:nvGrpSpPr>
        <p:grpSpPr>
          <a:xfrm>
            <a:off x="324000" y="5696280"/>
            <a:ext cx="5800320" cy="298800"/>
            <a:chOff x="324000" y="5696280"/>
            <a:chExt cx="5800320" cy="298800"/>
          </a:xfrm>
        </p:grpSpPr>
        <p:sp>
          <p:nvSpPr>
            <p:cNvPr id="2404" name=""/>
            <p:cNvSpPr/>
            <p:nvPr/>
          </p:nvSpPr>
          <p:spPr>
            <a:xfrm rot="18627600">
              <a:off x="4591080" y="5754600"/>
              <a:ext cx="226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 rot="18627600">
              <a:off x="4887000" y="5753880"/>
              <a:ext cx="225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 rot="18627600">
              <a:off x="5141880" y="5767200"/>
              <a:ext cx="20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 rot="18627600">
              <a:off x="1601640" y="574488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 rot="18627600">
              <a:off x="1878120" y="574452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 rot="18627600">
              <a:off x="2106720" y="574452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 rot="18627600">
              <a:off x="2373120" y="574488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 rot="18627600">
              <a:off x="2620800" y="574488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 rot="18627600">
              <a:off x="2849400" y="574488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 rot="18627600">
              <a:off x="3116160" y="574488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5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 rot="18627600">
              <a:off x="3371760" y="574488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 rot="18627600">
              <a:off x="3619440" y="574488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 rot="18627600">
              <a:off x="3867120" y="574488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 rot="18627600">
              <a:off x="4125960" y="574488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 rot="18627600">
              <a:off x="4397400" y="574488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 rot="18627600">
              <a:off x="5371200" y="57618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 rot="18627600">
              <a:off x="5645880" y="5744160"/>
              <a:ext cx="177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8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 rot="18627600">
              <a:off x="5899680" y="5753520"/>
              <a:ext cx="187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324000" y="5746680"/>
              <a:ext cx="102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Costo PREVI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23" name=""/>
          <p:cNvSpPr/>
          <p:nvPr/>
        </p:nvSpPr>
        <p:spPr>
          <a:xfrm>
            <a:off x="198360" y="6384960"/>
            <a:ext cx="7878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166680" y="6067440"/>
            <a:ext cx="7878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209520" y="5635800"/>
            <a:ext cx="7878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1584360" y="5219640"/>
            <a:ext cx="0" cy="1106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174600" y="5630760"/>
            <a:ext cx="0" cy="72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1835280" y="5219640"/>
            <a:ext cx="0" cy="11494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208584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2336760" y="5219640"/>
            <a:ext cx="0" cy="11635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258768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283860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308916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334008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3591000" y="5219640"/>
            <a:ext cx="0" cy="11494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384192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4092480" y="5219640"/>
            <a:ext cx="0" cy="11635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434340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459432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484488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509580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5346720" y="5219640"/>
            <a:ext cx="0" cy="11494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559764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5848200" y="5219640"/>
            <a:ext cx="0" cy="11635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609912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635004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660096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685152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7102440" y="5219640"/>
            <a:ext cx="0" cy="11494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735336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7604280" y="5219640"/>
            <a:ext cx="0" cy="11635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785484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810576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3670200" y="50482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3184560" y="52196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3429000" y="51404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1714680" y="514440"/>
            <a:ext cx="6248160" cy="9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URVAS DE BALANC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URVAS “S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(Recursos fungible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8128080" y="5022720"/>
            <a:ext cx="83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Tiemp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59" name=""/>
          <p:cNvGrpSpPr/>
          <p:nvPr/>
        </p:nvGrpSpPr>
        <p:grpSpPr>
          <a:xfrm>
            <a:off x="5924520" y="2425680"/>
            <a:ext cx="1752480" cy="487080"/>
            <a:chOff x="5924520" y="2425680"/>
            <a:chExt cx="1752480" cy="487080"/>
          </a:xfrm>
        </p:grpSpPr>
        <p:sp>
          <p:nvSpPr>
            <p:cNvPr id="2460" name=""/>
            <p:cNvSpPr/>
            <p:nvPr/>
          </p:nvSpPr>
          <p:spPr>
            <a:xfrm flipV="1">
              <a:off x="5924520" y="253332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 flipV="1">
              <a:off x="7664400" y="255852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5924520" y="2666880"/>
              <a:ext cx="17524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6426360" y="2425680"/>
              <a:ext cx="10476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00"/>
                  </a:solidFill>
                  <a:latin typeface="Arial"/>
                </a:rPr>
                <a:t>Demora Permitid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64" name=""/>
          <p:cNvSpPr/>
          <p:nvPr/>
        </p:nvSpPr>
        <p:spPr>
          <a:xfrm>
            <a:off x="1428840" y="1295280"/>
            <a:ext cx="0" cy="3962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169704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194616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219564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244476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2695680" y="155268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1604880" y="5257800"/>
            <a:ext cx="17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2600280" y="5257800"/>
            <a:ext cx="17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1047600" y="4146480"/>
            <a:ext cx="32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1200240" y="5118120"/>
            <a:ext cx="17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1047600" y="3181320"/>
            <a:ext cx="32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857160" y="2197080"/>
            <a:ext cx="571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1047600" y="4629240"/>
            <a:ext cx="32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1047600" y="3664080"/>
            <a:ext cx="32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857160" y="2679840"/>
            <a:ext cx="571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933480" y="1714680"/>
            <a:ext cx="43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4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2211480" y="46386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1438200" y="521496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1704960" y="51228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1952640" y="49258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2454120" y="43466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1143000" y="990720"/>
            <a:ext cx="83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Co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6" name=""/>
          <p:cNvGrpSpPr/>
          <p:nvPr/>
        </p:nvGrpSpPr>
        <p:grpSpPr>
          <a:xfrm>
            <a:off x="322200" y="6009480"/>
            <a:ext cx="7631640" cy="390600"/>
            <a:chOff x="322200" y="6009480"/>
            <a:chExt cx="7631640" cy="390600"/>
          </a:xfrm>
        </p:grpSpPr>
        <p:sp>
          <p:nvSpPr>
            <p:cNvPr id="2487" name=""/>
            <p:cNvSpPr/>
            <p:nvPr/>
          </p:nvSpPr>
          <p:spPr>
            <a:xfrm>
              <a:off x="322200" y="6156360"/>
              <a:ext cx="102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Costo LIM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 rot="18627600">
              <a:off x="3663720" y="608616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 rot="18627600">
              <a:off x="3911400" y="611496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 rot="18627600">
              <a:off x="4140000" y="611496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 rot="18627600">
              <a:off x="4414680" y="611496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 rot="18627600">
              <a:off x="4643280" y="611496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 rot="18627600">
              <a:off x="4908600" y="611496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 rot="18627600">
              <a:off x="5156280" y="611460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 rot="18627600">
              <a:off x="5384880" y="611460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 rot="18627600">
              <a:off x="5651280" y="611496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 rot="18627600">
              <a:off x="5906880" y="611496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 rot="18627600">
              <a:off x="6154560" y="611496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 rot="18627600">
              <a:off x="6402240" y="611496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 rot="18627600">
              <a:off x="6613560" y="611496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 rot="18627600">
              <a:off x="6854760" y="6132240"/>
              <a:ext cx="255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 rot="18627600">
              <a:off x="7089480" y="6134040"/>
              <a:ext cx="26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 rot="18627600">
              <a:off x="7348320" y="6132240"/>
              <a:ext cx="255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8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 rot="18627600">
              <a:off x="7589880" y="6113160"/>
              <a:ext cx="35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 rot="18627600">
              <a:off x="3441600" y="608616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06" name=""/>
          <p:cNvGrpSpPr/>
          <p:nvPr/>
        </p:nvGrpSpPr>
        <p:grpSpPr>
          <a:xfrm>
            <a:off x="1365120" y="4699080"/>
            <a:ext cx="1838160" cy="549360"/>
            <a:chOff x="1365120" y="4699080"/>
            <a:chExt cx="1838160" cy="549360"/>
          </a:xfrm>
        </p:grpSpPr>
        <p:sp>
          <p:nvSpPr>
            <p:cNvPr id="2507" name=""/>
            <p:cNvSpPr/>
            <p:nvPr/>
          </p:nvSpPr>
          <p:spPr>
            <a:xfrm flipH="1">
              <a:off x="3200040" y="4800600"/>
              <a:ext cx="3240" cy="447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1425600" y="4911840"/>
              <a:ext cx="17524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1365120" y="4699080"/>
              <a:ext cx="180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ffff00"/>
                  </a:solidFill>
                  <a:latin typeface="Arial"/>
                </a:rPr>
                <a:t>Demora  Permitid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0" name=""/>
          <p:cNvSpPr/>
          <p:nvPr/>
        </p:nvSpPr>
        <p:spPr>
          <a:xfrm rot="20051400">
            <a:off x="2689200" y="3419280"/>
            <a:ext cx="609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ASA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 rot="19855200">
            <a:off x="2481120" y="3568320"/>
            <a:ext cx="118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Mas tempran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 rot="18952800">
            <a:off x="4087800" y="3898440"/>
            <a:ext cx="118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Mas tardí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 rot="18952800">
            <a:off x="4168800" y="3904920"/>
            <a:ext cx="609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ALA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2698920" y="41814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2952720" y="3930480"/>
            <a:ext cx="42840" cy="43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3197160" y="38322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451320" y="37339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3695760" y="36925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3959280" y="3632040"/>
            <a:ext cx="42840" cy="43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4210200" y="35830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4451400" y="35434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4676760" y="34686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4921200" y="339876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5175360" y="338616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 rot="20837400">
            <a:off x="5419440" y="32778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 rot="20837400">
            <a:off x="5682960" y="31795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1447920" y="3067200"/>
            <a:ext cx="4505040" cy="2181240"/>
          </a:xfrm>
          <a:custGeom>
            <a:avLst/>
            <a:gdLst/>
            <a:ahLst/>
            <a:rect l="l" t="t" r="r" b="b"/>
            <a:pathLst>
              <a:path w="2838" h="1374">
                <a:moveTo>
                  <a:pt x="0" y="1374"/>
                </a:moveTo>
                <a:lnTo>
                  <a:pt x="165" y="1317"/>
                </a:lnTo>
                <a:lnTo>
                  <a:pt x="321" y="1200"/>
                </a:lnTo>
                <a:lnTo>
                  <a:pt x="474" y="1002"/>
                </a:lnTo>
                <a:lnTo>
                  <a:pt x="633" y="819"/>
                </a:lnTo>
                <a:lnTo>
                  <a:pt x="789" y="717"/>
                </a:lnTo>
                <a:lnTo>
                  <a:pt x="948" y="564"/>
                </a:lnTo>
                <a:lnTo>
                  <a:pt x="1098" y="498"/>
                </a:lnTo>
                <a:lnTo>
                  <a:pt x="1263" y="441"/>
                </a:lnTo>
                <a:lnTo>
                  <a:pt x="1419" y="411"/>
                </a:lnTo>
                <a:lnTo>
                  <a:pt x="1578" y="372"/>
                </a:lnTo>
                <a:lnTo>
                  <a:pt x="1734" y="342"/>
                </a:lnTo>
                <a:lnTo>
                  <a:pt x="1896" y="315"/>
                </a:lnTo>
                <a:lnTo>
                  <a:pt x="2040" y="270"/>
                </a:lnTo>
                <a:lnTo>
                  <a:pt x="2202" y="222"/>
                </a:lnTo>
                <a:lnTo>
                  <a:pt x="2367" y="216"/>
                </a:lnTo>
                <a:lnTo>
                  <a:pt x="2520" y="150"/>
                </a:lnTo>
                <a:lnTo>
                  <a:pt x="2691" y="84"/>
                </a:lnTo>
                <a:cubicBezTo>
                  <a:pt x="2734" y="69"/>
                  <a:pt x="2736" y="62"/>
                  <a:pt x="2760" y="48"/>
                </a:cubicBezTo>
                <a:cubicBezTo>
                  <a:pt x="2784" y="34"/>
                  <a:pt x="2822" y="10"/>
                  <a:pt x="2838" y="0"/>
                </a:cubicBezTo>
              </a:path>
            </a:pathLst>
          </a:custGeom>
          <a:noFill/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3924360" y="50212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4178160" y="48751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4422600" y="4576680"/>
            <a:ext cx="4320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4667400" y="42973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4921200" y="40561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5175360" y="38052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5419800" y="36972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5683320" y="36370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5918040" y="3576600"/>
            <a:ext cx="4320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6162840" y="35542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6416640" y="346536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6670800" y="338616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6915240" y="33638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7159680" y="32749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7413480" y="31766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7667640" y="30304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5921280" y="30272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3191040" y="3048120"/>
            <a:ext cx="4495680" cy="2190600"/>
          </a:xfrm>
          <a:custGeom>
            <a:avLst/>
            <a:gdLst/>
            <a:ahLst/>
            <a:rect l="l" t="t" r="r" b="b"/>
            <a:pathLst>
              <a:path w="2832" h="1380">
                <a:moveTo>
                  <a:pt x="0" y="1380"/>
                </a:moveTo>
                <a:lnTo>
                  <a:pt x="156" y="1320"/>
                </a:lnTo>
                <a:lnTo>
                  <a:pt x="312" y="1278"/>
                </a:lnTo>
                <a:lnTo>
                  <a:pt x="474" y="1248"/>
                </a:lnTo>
                <a:lnTo>
                  <a:pt x="636" y="1158"/>
                </a:lnTo>
                <a:lnTo>
                  <a:pt x="786" y="978"/>
                </a:lnTo>
                <a:lnTo>
                  <a:pt x="942" y="798"/>
                </a:lnTo>
                <a:lnTo>
                  <a:pt x="1098" y="642"/>
                </a:lnTo>
                <a:lnTo>
                  <a:pt x="1260" y="504"/>
                </a:lnTo>
                <a:lnTo>
                  <a:pt x="1422" y="420"/>
                </a:lnTo>
                <a:lnTo>
                  <a:pt x="1584" y="384"/>
                </a:lnTo>
                <a:lnTo>
                  <a:pt x="1734" y="342"/>
                </a:lnTo>
                <a:lnTo>
                  <a:pt x="1890" y="330"/>
                </a:lnTo>
                <a:lnTo>
                  <a:pt x="2046" y="270"/>
                </a:lnTo>
                <a:lnTo>
                  <a:pt x="2208" y="222"/>
                </a:lnTo>
                <a:lnTo>
                  <a:pt x="2364" y="210"/>
                </a:lnTo>
                <a:lnTo>
                  <a:pt x="2520" y="150"/>
                </a:lnTo>
                <a:lnTo>
                  <a:pt x="2670" y="96"/>
                </a:lnTo>
                <a:lnTo>
                  <a:pt x="2832" y="0"/>
                </a:lnTo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1473120" y="3070080"/>
            <a:ext cx="4496040" cy="2190960"/>
          </a:xfrm>
          <a:custGeom>
            <a:avLst/>
            <a:gdLst/>
            <a:ahLst/>
            <a:rect l="l" t="t" r="r" b="b"/>
            <a:pathLst>
              <a:path w="2832" h="1380">
                <a:moveTo>
                  <a:pt x="0" y="1380"/>
                </a:moveTo>
                <a:lnTo>
                  <a:pt x="156" y="1320"/>
                </a:lnTo>
                <a:lnTo>
                  <a:pt x="312" y="1278"/>
                </a:lnTo>
                <a:lnTo>
                  <a:pt x="474" y="1248"/>
                </a:lnTo>
                <a:lnTo>
                  <a:pt x="636" y="1158"/>
                </a:lnTo>
                <a:lnTo>
                  <a:pt x="786" y="978"/>
                </a:lnTo>
                <a:lnTo>
                  <a:pt x="942" y="798"/>
                </a:lnTo>
                <a:lnTo>
                  <a:pt x="1098" y="642"/>
                </a:lnTo>
                <a:lnTo>
                  <a:pt x="1260" y="504"/>
                </a:lnTo>
                <a:lnTo>
                  <a:pt x="1422" y="420"/>
                </a:lnTo>
                <a:lnTo>
                  <a:pt x="1584" y="384"/>
                </a:lnTo>
                <a:lnTo>
                  <a:pt x="1734" y="342"/>
                </a:lnTo>
                <a:lnTo>
                  <a:pt x="1890" y="330"/>
                </a:lnTo>
                <a:lnTo>
                  <a:pt x="2046" y="270"/>
                </a:lnTo>
                <a:lnTo>
                  <a:pt x="2208" y="222"/>
                </a:lnTo>
                <a:lnTo>
                  <a:pt x="2364" y="210"/>
                </a:lnTo>
                <a:lnTo>
                  <a:pt x="2520" y="150"/>
                </a:lnTo>
                <a:lnTo>
                  <a:pt x="2670" y="96"/>
                </a:lnTo>
                <a:lnTo>
                  <a:pt x="2832" y="0"/>
                </a:lnTo>
              </a:path>
            </a:pathLst>
          </a:custGeom>
          <a:noFill/>
          <a:ln w="19080">
            <a:solidFill>
              <a:srgbClr val="ffff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3197160" y="3044880"/>
            <a:ext cx="4496040" cy="2190600"/>
          </a:xfrm>
          <a:custGeom>
            <a:avLst/>
            <a:gdLst/>
            <a:ahLst/>
            <a:rect l="l" t="t" r="r" b="b"/>
            <a:pathLst>
              <a:path w="2832" h="1380">
                <a:moveTo>
                  <a:pt x="0" y="1380"/>
                </a:moveTo>
                <a:lnTo>
                  <a:pt x="156" y="1320"/>
                </a:lnTo>
                <a:lnTo>
                  <a:pt x="312" y="1278"/>
                </a:lnTo>
                <a:lnTo>
                  <a:pt x="474" y="1248"/>
                </a:lnTo>
                <a:lnTo>
                  <a:pt x="636" y="1158"/>
                </a:lnTo>
                <a:lnTo>
                  <a:pt x="786" y="978"/>
                </a:lnTo>
                <a:lnTo>
                  <a:pt x="942" y="798"/>
                </a:lnTo>
                <a:lnTo>
                  <a:pt x="1098" y="642"/>
                </a:lnTo>
                <a:lnTo>
                  <a:pt x="1260" y="504"/>
                </a:lnTo>
                <a:lnTo>
                  <a:pt x="1422" y="420"/>
                </a:lnTo>
                <a:lnTo>
                  <a:pt x="1584" y="384"/>
                </a:lnTo>
                <a:lnTo>
                  <a:pt x="1734" y="342"/>
                </a:lnTo>
                <a:lnTo>
                  <a:pt x="1890" y="330"/>
                </a:lnTo>
                <a:lnTo>
                  <a:pt x="2046" y="270"/>
                </a:lnTo>
                <a:lnTo>
                  <a:pt x="2208" y="222"/>
                </a:lnTo>
                <a:lnTo>
                  <a:pt x="2364" y="210"/>
                </a:lnTo>
                <a:lnTo>
                  <a:pt x="2520" y="150"/>
                </a:lnTo>
                <a:lnTo>
                  <a:pt x="2670" y="96"/>
                </a:lnTo>
                <a:lnTo>
                  <a:pt x="2832" y="0"/>
                </a:lnTo>
              </a:path>
            </a:pathLst>
          </a:custGeom>
          <a:noFill/>
          <a:ln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6" dur="indefinite" restart="never" nodeType="tmRoot">
          <p:childTnLst>
            <p:seq>
              <p:cTn id="1887" dur="indefinite" nodeType="mainSeq">
                <p:childTnLst>
                  <p:par>
                    <p:cTn id="1888" fill="hold">
                      <p:stCondLst>
                        <p:cond delay="indefinite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2" dur="2000"/>
                                        <p:tgtEl>
                                          <p:spTgt spid="2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9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8" fill="hold">
                      <p:stCondLst>
                        <p:cond delay="indefinite"/>
                      </p:stCondLst>
                      <p:childTnLst>
                        <p:par>
                          <p:cTn id="1949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2" dur="2000"/>
                                        <p:tgtEl>
                                          <p:spTgt spid="2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7" dur="1000"/>
                                        <p:tgtEl>
                                          <p:spTgt spid="2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2" fill="hold">
                      <p:stCondLst>
                        <p:cond delay="indefinite"/>
                      </p:stCondLst>
                      <p:childTnLst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6" dur="2000"/>
                                        <p:tgtEl>
                                          <p:spTgt spid="2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7" fill="hold">
                      <p:stCondLst>
                        <p:cond delay="indefinite"/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3" fill="hold">
                      <p:stCondLst>
                        <p:cond delay="indefinite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1" dur="2000"/>
                                        <p:tgtEl>
                                          <p:spTgt spid="2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2" fill="hold">
                      <p:stCondLst>
                        <p:cond delay="indefinite"/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6" dur="1000"/>
                                        <p:tgtEl>
                                          <p:spTgt spid="2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7" fill="hold">
                      <p:stCondLst>
                        <p:cond delay="indefinite"/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1" dur="2000"/>
                                        <p:tgtEl>
                                          <p:spTgt spid="2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219640" y="3543480"/>
            <a:ext cx="9334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3619440"/>
            <a:ext cx="89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19640" y="285768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38320" y="36003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2666880"/>
            <a:ext cx="59040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962520" y="2666520"/>
            <a:ext cx="0" cy="93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14360" y="2857680"/>
            <a:ext cx="0" cy="59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81560" y="3390840"/>
            <a:ext cx="723960" cy="362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753320" y="3390840"/>
            <a:ext cx="723960" cy="362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43560" y="2467080"/>
            <a:ext cx="723600" cy="361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14560" y="3400560"/>
            <a:ext cx="723960" cy="361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14360" y="3381480"/>
            <a:ext cx="723960" cy="361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ACTIVIDADES DISCONTINUAS</a:t>
            </a:r>
            <a:br>
              <a:rPr sz="3200"/>
            </a:b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plazo de construcción 25 día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09680" y="2465280"/>
            <a:ext cx="723960" cy="37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46840" y="2478240"/>
            <a:ext cx="4845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279f"/>
                </a:solidFill>
                <a:latin typeface="Geneva"/>
              </a:rPr>
              <a:t>A1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09680" y="3384720"/>
            <a:ext cx="723960" cy="371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09680" y="4383000"/>
            <a:ext cx="723960" cy="37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935440" y="2465280"/>
            <a:ext cx="703080" cy="37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8840" y="2498760"/>
            <a:ext cx="4845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279f"/>
                </a:solidFill>
                <a:latin typeface="Geneva"/>
              </a:rPr>
              <a:t>A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35440" y="3403440"/>
            <a:ext cx="70308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35440" y="4383000"/>
            <a:ext cx="703080" cy="37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60840" y="2465280"/>
            <a:ext cx="68256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97280" y="2457360"/>
            <a:ext cx="4845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279f"/>
                </a:solidFill>
                <a:latin typeface="Geneva"/>
              </a:rPr>
              <a:t>A3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60840" y="3441600"/>
            <a:ext cx="68256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60840" y="4383000"/>
            <a:ext cx="682560" cy="37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83360" y="3403440"/>
            <a:ext cx="70488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748640" y="3394080"/>
            <a:ext cx="70308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262160" y="3800520"/>
            <a:ext cx="112680" cy="608040"/>
            <a:chOff x="1262160" y="3800520"/>
            <a:chExt cx="112680" cy="608040"/>
          </a:xfrm>
        </p:grpSpPr>
        <p:sp>
          <p:nvSpPr>
            <p:cNvPr id="81" name=""/>
            <p:cNvSpPr/>
            <p:nvPr/>
          </p:nvSpPr>
          <p:spPr>
            <a:xfrm>
              <a:off x="1262160" y="4251240"/>
              <a:ext cx="112680" cy="157320"/>
            </a:xfrm>
            <a:custGeom>
              <a:avLst/>
              <a:gdLst/>
              <a:ahLst/>
              <a:rect l="l" t="t" r="r" b="b"/>
              <a:pathLst>
                <a:path w="71" h="99">
                  <a:moveTo>
                    <a:pt x="23" y="98"/>
                  </a:moveTo>
                  <a:lnTo>
                    <a:pt x="0" y="0"/>
                  </a:lnTo>
                  <a:lnTo>
                    <a:pt x="23" y="0"/>
                  </a:lnTo>
                  <a:lnTo>
                    <a:pt x="70" y="0"/>
                  </a:lnTo>
                  <a:lnTo>
                    <a:pt x="23" y="9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316160" y="3800520"/>
              <a:ext cx="0" cy="45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1441800" y="3416400"/>
            <a:ext cx="4802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9900"/>
                </a:solidFill>
                <a:latin typeface="Geneva"/>
              </a:rPr>
              <a:t>B1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54600" y="3395520"/>
            <a:ext cx="4726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fc0128"/>
                </a:solidFill>
                <a:latin typeface="Geneva"/>
              </a:rPr>
              <a:t>C1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54600" y="4387680"/>
            <a:ext cx="4802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9900"/>
                </a:solidFill>
                <a:latin typeface="Geneva"/>
              </a:rPr>
              <a:t>B3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73880" y="3436920"/>
            <a:ext cx="4726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fc0128"/>
                </a:solidFill>
                <a:latin typeface="Geneva"/>
              </a:rPr>
              <a:t>C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96200" y="4387680"/>
            <a:ext cx="4802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9900"/>
                </a:solidFill>
                <a:latin typeface="Geneva"/>
              </a:rPr>
              <a:t>B4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315120" y="3416400"/>
            <a:ext cx="4726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fc0128"/>
                </a:solidFill>
                <a:latin typeface="Geneva"/>
              </a:rPr>
              <a:t>C3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038320" y="2584440"/>
            <a:ext cx="920880" cy="73080"/>
            <a:chOff x="2038320" y="2584440"/>
            <a:chExt cx="920880" cy="73080"/>
          </a:xfrm>
        </p:grpSpPr>
        <p:sp>
          <p:nvSpPr>
            <p:cNvPr id="90" name=""/>
            <p:cNvSpPr/>
            <p:nvPr/>
          </p:nvSpPr>
          <p:spPr>
            <a:xfrm>
              <a:off x="2782800" y="2584440"/>
              <a:ext cx="176400" cy="73080"/>
            </a:xfrm>
            <a:custGeom>
              <a:avLst/>
              <a:gdLst/>
              <a:ahLst/>
              <a:rect l="l" t="t" r="r" b="b"/>
              <a:pathLst>
                <a:path w="111" h="46">
                  <a:moveTo>
                    <a:pt x="110" y="11"/>
                  </a:moveTo>
                  <a:lnTo>
                    <a:pt x="0" y="45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10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38320" y="2617920"/>
              <a:ext cx="74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664080" y="2563920"/>
            <a:ext cx="920520" cy="73080"/>
            <a:chOff x="3664080" y="2563920"/>
            <a:chExt cx="920520" cy="73080"/>
          </a:xfrm>
        </p:grpSpPr>
        <p:sp>
          <p:nvSpPr>
            <p:cNvPr id="93" name=""/>
            <p:cNvSpPr/>
            <p:nvPr/>
          </p:nvSpPr>
          <p:spPr>
            <a:xfrm>
              <a:off x="4365720" y="2563920"/>
              <a:ext cx="218880" cy="73080"/>
            </a:xfrm>
            <a:custGeom>
              <a:avLst/>
              <a:gdLst/>
              <a:ahLst/>
              <a:rect l="l" t="t" r="r" b="b"/>
              <a:pathLst>
                <a:path w="138" h="46">
                  <a:moveTo>
                    <a:pt x="137" y="22"/>
                  </a:moveTo>
                  <a:lnTo>
                    <a:pt x="0" y="45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37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64080" y="2617920"/>
              <a:ext cx="70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3664080" y="3543480"/>
            <a:ext cx="879480" cy="93600"/>
            <a:chOff x="3664080" y="3543480"/>
            <a:chExt cx="879480" cy="93600"/>
          </a:xfrm>
        </p:grpSpPr>
        <p:sp>
          <p:nvSpPr>
            <p:cNvPr id="96" name=""/>
            <p:cNvSpPr/>
            <p:nvPr/>
          </p:nvSpPr>
          <p:spPr>
            <a:xfrm>
              <a:off x="4344840" y="3543480"/>
              <a:ext cx="198720" cy="93600"/>
            </a:xfrm>
            <a:custGeom>
              <a:avLst/>
              <a:gdLst/>
              <a:ahLst/>
              <a:rect l="l" t="t" r="r" b="b"/>
              <a:pathLst>
                <a:path w="125" h="59">
                  <a:moveTo>
                    <a:pt x="124" y="35"/>
                  </a:moveTo>
                  <a:lnTo>
                    <a:pt x="0" y="58"/>
                  </a:lnTo>
                  <a:lnTo>
                    <a:pt x="0" y="35"/>
                  </a:lnTo>
                  <a:lnTo>
                    <a:pt x="0" y="0"/>
                  </a:lnTo>
                  <a:lnTo>
                    <a:pt x="124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64080" y="361944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038320" y="4522680"/>
            <a:ext cx="879480" cy="93600"/>
            <a:chOff x="2038320" y="4522680"/>
            <a:chExt cx="879480" cy="93600"/>
          </a:xfrm>
        </p:grpSpPr>
        <p:sp>
          <p:nvSpPr>
            <p:cNvPr id="99" name=""/>
            <p:cNvSpPr/>
            <p:nvPr/>
          </p:nvSpPr>
          <p:spPr>
            <a:xfrm>
              <a:off x="2698920" y="4522680"/>
              <a:ext cx="218880" cy="93600"/>
            </a:xfrm>
            <a:custGeom>
              <a:avLst/>
              <a:gdLst/>
              <a:ahLst/>
              <a:rect l="l" t="t" r="r" b="b"/>
              <a:pathLst>
                <a:path w="138" h="59">
                  <a:moveTo>
                    <a:pt x="137" y="11"/>
                  </a:moveTo>
                  <a:lnTo>
                    <a:pt x="0" y="58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37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38320" y="4556160"/>
              <a:ext cx="66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684600" y="4522680"/>
            <a:ext cx="858960" cy="114480"/>
            <a:chOff x="3684600" y="4522680"/>
            <a:chExt cx="858960" cy="114480"/>
          </a:xfrm>
        </p:grpSpPr>
        <p:sp>
          <p:nvSpPr>
            <p:cNvPr id="102" name=""/>
            <p:cNvSpPr/>
            <p:nvPr/>
          </p:nvSpPr>
          <p:spPr>
            <a:xfrm>
              <a:off x="4344840" y="4522680"/>
              <a:ext cx="198720" cy="114480"/>
            </a:xfrm>
            <a:custGeom>
              <a:avLst/>
              <a:gdLst/>
              <a:ahLst/>
              <a:rect l="l" t="t" r="r" b="b"/>
              <a:pathLst>
                <a:path w="125" h="72">
                  <a:moveTo>
                    <a:pt x="124" y="36"/>
                  </a:moveTo>
                  <a:lnTo>
                    <a:pt x="0" y="71"/>
                  </a:lnTo>
                  <a:lnTo>
                    <a:pt x="0" y="36"/>
                  </a:lnTo>
                  <a:lnTo>
                    <a:pt x="0" y="0"/>
                  </a:lnTo>
                  <a:lnTo>
                    <a:pt x="124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84600" y="4599000"/>
              <a:ext cx="66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2398680" y="2611440"/>
            <a:ext cx="0" cy="9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371680" y="3481560"/>
            <a:ext cx="566640" cy="91800"/>
            <a:chOff x="2371680" y="3481560"/>
            <a:chExt cx="566640" cy="91800"/>
          </a:xfrm>
        </p:grpSpPr>
        <p:sp>
          <p:nvSpPr>
            <p:cNvPr id="106" name=""/>
            <p:cNvSpPr/>
            <p:nvPr/>
          </p:nvSpPr>
          <p:spPr>
            <a:xfrm>
              <a:off x="2719440" y="3481560"/>
              <a:ext cx="218880" cy="91800"/>
            </a:xfrm>
            <a:custGeom>
              <a:avLst/>
              <a:gdLst/>
              <a:ahLst/>
              <a:rect l="l" t="t" r="r" b="b"/>
              <a:pathLst>
                <a:path w="138" h="58">
                  <a:moveTo>
                    <a:pt x="137" y="11"/>
                  </a:moveTo>
                  <a:lnTo>
                    <a:pt x="0" y="5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37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71680" y="3514680"/>
              <a:ext cx="34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371680" y="3668760"/>
            <a:ext cx="566640" cy="93600"/>
            <a:chOff x="2371680" y="3668760"/>
            <a:chExt cx="566640" cy="93600"/>
          </a:xfrm>
        </p:grpSpPr>
        <p:sp>
          <p:nvSpPr>
            <p:cNvPr id="109" name=""/>
            <p:cNvSpPr/>
            <p:nvPr/>
          </p:nvSpPr>
          <p:spPr>
            <a:xfrm>
              <a:off x="2719440" y="3668760"/>
              <a:ext cx="218880" cy="93600"/>
            </a:xfrm>
            <a:custGeom>
              <a:avLst/>
              <a:gdLst/>
              <a:ahLst/>
              <a:rect l="l" t="t" r="r" b="b"/>
              <a:pathLst>
                <a:path w="138" h="59">
                  <a:moveTo>
                    <a:pt x="137" y="34"/>
                  </a:moveTo>
                  <a:lnTo>
                    <a:pt x="0" y="58"/>
                  </a:lnTo>
                  <a:lnTo>
                    <a:pt x="0" y="34"/>
                  </a:lnTo>
                  <a:lnTo>
                    <a:pt x="0" y="0"/>
                  </a:lnTo>
                  <a:lnTo>
                    <a:pt x="137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371680" y="3743280"/>
              <a:ext cx="34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 flipV="1">
            <a:off x="2378160" y="3703680"/>
            <a:ext cx="0" cy="85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3960" y="2654280"/>
            <a:ext cx="0" cy="95256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24360" y="2673360"/>
            <a:ext cx="660240" cy="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41560" y="3780000"/>
            <a:ext cx="0" cy="34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35440" y="4160880"/>
            <a:ext cx="723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595680" y="4154400"/>
            <a:ext cx="92160" cy="231840"/>
            <a:chOff x="3595680" y="4154400"/>
            <a:chExt cx="92160" cy="231840"/>
          </a:xfrm>
        </p:grpSpPr>
        <p:sp>
          <p:nvSpPr>
            <p:cNvPr id="117" name=""/>
            <p:cNvSpPr/>
            <p:nvPr/>
          </p:nvSpPr>
          <p:spPr>
            <a:xfrm>
              <a:off x="3595680" y="4230720"/>
              <a:ext cx="92160" cy="155520"/>
            </a:xfrm>
            <a:custGeom>
              <a:avLst/>
              <a:gdLst/>
              <a:ahLst/>
              <a:rect l="l" t="t" r="r" b="b"/>
              <a:pathLst>
                <a:path w="58" h="98">
                  <a:moveTo>
                    <a:pt x="23" y="97"/>
                  </a:moveTo>
                  <a:lnTo>
                    <a:pt x="0" y="0"/>
                  </a:lnTo>
                  <a:lnTo>
                    <a:pt x="23" y="0"/>
                  </a:lnTo>
                  <a:lnTo>
                    <a:pt x="57" y="0"/>
                  </a:lnTo>
                  <a:lnTo>
                    <a:pt x="23" y="9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49680" y="4154400"/>
              <a:ext cx="0" cy="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491000" y="3780000"/>
            <a:ext cx="114480" cy="606240"/>
            <a:chOff x="4491000" y="3780000"/>
            <a:chExt cx="114480" cy="606240"/>
          </a:xfrm>
        </p:grpSpPr>
        <p:sp>
          <p:nvSpPr>
            <p:cNvPr id="120" name=""/>
            <p:cNvSpPr/>
            <p:nvPr/>
          </p:nvSpPr>
          <p:spPr>
            <a:xfrm>
              <a:off x="4491000" y="4230720"/>
              <a:ext cx="114480" cy="155520"/>
            </a:xfrm>
            <a:custGeom>
              <a:avLst/>
              <a:gdLst/>
              <a:ahLst/>
              <a:rect l="l" t="t" r="r" b="b"/>
              <a:pathLst>
                <a:path w="72" h="98">
                  <a:moveTo>
                    <a:pt x="36" y="97"/>
                  </a:moveTo>
                  <a:lnTo>
                    <a:pt x="0" y="0"/>
                  </a:lnTo>
                  <a:lnTo>
                    <a:pt x="36" y="0"/>
                  </a:lnTo>
                  <a:lnTo>
                    <a:pt x="71" y="0"/>
                  </a:lnTo>
                  <a:lnTo>
                    <a:pt x="36" y="9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67320" y="3780000"/>
              <a:ext cx="0" cy="45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5234040" y="3639960"/>
            <a:ext cx="376200" cy="917640"/>
          </a:xfrm>
          <a:custGeom>
            <a:avLst/>
            <a:gdLst/>
            <a:ahLst/>
            <a:rect l="l" t="t" r="r" b="b"/>
            <a:pathLst>
              <a:path w="237" h="578">
                <a:moveTo>
                  <a:pt x="0" y="577"/>
                </a:moveTo>
                <a:lnTo>
                  <a:pt x="236" y="577"/>
                </a:lnTo>
                <a:lnTo>
                  <a:pt x="23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602320" y="3606840"/>
            <a:ext cx="587520" cy="92160"/>
            <a:chOff x="5602320" y="3606840"/>
            <a:chExt cx="587520" cy="92160"/>
          </a:xfrm>
        </p:grpSpPr>
        <p:sp>
          <p:nvSpPr>
            <p:cNvPr id="124" name=""/>
            <p:cNvSpPr/>
            <p:nvPr/>
          </p:nvSpPr>
          <p:spPr>
            <a:xfrm>
              <a:off x="5991120" y="3606840"/>
              <a:ext cx="198720" cy="92160"/>
            </a:xfrm>
            <a:custGeom>
              <a:avLst/>
              <a:gdLst/>
              <a:ahLst/>
              <a:rect l="l" t="t" r="r" b="b"/>
              <a:pathLst>
                <a:path w="125" h="58">
                  <a:moveTo>
                    <a:pt x="124" y="11"/>
                  </a:moveTo>
                  <a:lnTo>
                    <a:pt x="0" y="5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24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2320" y="3639960"/>
              <a:ext cx="39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7891560" y="3395520"/>
            <a:ext cx="4726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fc0128"/>
                </a:solidFill>
                <a:latin typeface="Geneva"/>
              </a:rPr>
              <a:t>C4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45120" y="277488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45120" y="375444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43680" y="47131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46760" y="47131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45320" y="375444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45320" y="279576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89800" y="277488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07440" y="375444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08880" y="47131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12320" y="375444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995240" y="375444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95920" y="435780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227920" y="2941560"/>
            <a:ext cx="268200" cy="271440"/>
            <a:chOff x="5227920" y="2941560"/>
            <a:chExt cx="268200" cy="271440"/>
          </a:xfrm>
        </p:grpSpPr>
        <p:sp>
          <p:nvSpPr>
            <p:cNvPr id="140" name=""/>
            <p:cNvSpPr/>
            <p:nvPr/>
          </p:nvSpPr>
          <p:spPr>
            <a:xfrm>
              <a:off x="5227920" y="29415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46640" y="2987640"/>
              <a:ext cx="20340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3935520" y="4383000"/>
            <a:ext cx="182520" cy="20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80720" y="22525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30760" y="22525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11600" y="323388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86480" y="323388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27440" y="41911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64160" y="41911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00000" y="22525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29520" y="22525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48520" y="323388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07200" y="323388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26200" y="41911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83440" y="41911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12080" y="22525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58800" y="225252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288320" y="323388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96960" y="32338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44040" y="41911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31800" y="419112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7080" y="32338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73400" y="32338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7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17800" y="32338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7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53080" y="32338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72160" y="37544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11680" y="37544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84560" y="37544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03560" y="37544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76440" y="37544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54120" y="46702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93720" y="27320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54120" y="27320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68440" y="37544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46120" y="46702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39520" y="37544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15760" y="46702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93360" y="46702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33400" y="27320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34840" y="27320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50600" y="37544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3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880640" y="46702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3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42480" y="46702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10880" y="37162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3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55520" y="371628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37880" y="27320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46520" y="273204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7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54400" y="4351320"/>
            <a:ext cx="4802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9900"/>
                </a:solidFill>
                <a:latin typeface="Geneva"/>
              </a:rPr>
              <a:t>B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00320" y="2446200"/>
            <a:ext cx="0" cy="39240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234040" y="3430080"/>
            <a:ext cx="0" cy="39708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613320" y="3613320"/>
            <a:ext cx="366480" cy="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05000" y="2854440"/>
            <a:ext cx="0" cy="512640"/>
          </a:xfrm>
          <a:prstGeom prst="line">
            <a:avLst/>
          </a:prstGeom>
          <a:ln w="381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8960" y="3557520"/>
            <a:ext cx="912600" cy="0"/>
          </a:xfrm>
          <a:prstGeom prst="line">
            <a:avLst/>
          </a:prstGeom>
          <a:ln w="2844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14960" y="2844720"/>
            <a:ext cx="19080" cy="588960"/>
          </a:xfrm>
          <a:prstGeom prst="line">
            <a:avLst/>
          </a:prstGeom>
          <a:ln w="381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322640" y="2941560"/>
            <a:ext cx="268200" cy="271440"/>
            <a:chOff x="1322640" y="2941560"/>
            <a:chExt cx="268200" cy="271440"/>
          </a:xfrm>
        </p:grpSpPr>
        <p:sp>
          <p:nvSpPr>
            <p:cNvPr id="195" name=""/>
            <p:cNvSpPr/>
            <p:nvPr/>
          </p:nvSpPr>
          <p:spPr>
            <a:xfrm>
              <a:off x="1322640" y="29415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41360" y="2987640"/>
              <a:ext cx="20340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6900840" y="3630600"/>
            <a:ext cx="841320" cy="0"/>
          </a:xfrm>
          <a:prstGeom prst="line">
            <a:avLst/>
          </a:prstGeom>
          <a:ln w="381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48040" y="360036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06440" y="3367080"/>
            <a:ext cx="0" cy="3920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27160" y="3373560"/>
            <a:ext cx="0" cy="3920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938320" y="3398760"/>
            <a:ext cx="0" cy="3920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9040" y="3386160"/>
            <a:ext cx="0" cy="3920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60840" y="2440080"/>
            <a:ext cx="0" cy="3920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24320" y="2446200"/>
            <a:ext cx="0" cy="39240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183360" y="3386160"/>
            <a:ext cx="0" cy="3920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75640" y="3392640"/>
            <a:ext cx="0" cy="3920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748640" y="3389400"/>
            <a:ext cx="0" cy="3920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450280" y="3386160"/>
            <a:ext cx="0" cy="3920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95280" y="226692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68360" y="321624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79560" y="321300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895480" y="321948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92360" y="320688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46440" y="227952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67360" y="226692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35680" y="323532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89760" y="317484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724800" y="320040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721640" y="318780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280360" y="321300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11240" y="226368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9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901960" y="227340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9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8200" y="227016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9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65120" y="421308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9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66960" y="421020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9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95480" y="4219560"/>
            <a:ext cx="31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11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78240" y="4216320"/>
            <a:ext cx="29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1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18000" y="3251160"/>
            <a:ext cx="31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1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013360" y="4203720"/>
            <a:ext cx="40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1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4210200"/>
            <a:ext cx="31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1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5600880"/>
            <a:ext cx="6896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ff"/>
                </a:solidFill>
                <a:latin typeface="Arial"/>
              </a:rPr>
              <a:t>Camino Crítico: </a:t>
            </a:r>
            <a:r>
              <a:rPr b="1" lang="es-CL" sz="2000" spc="-1" strike="noStrike" u="sng">
                <a:solidFill>
                  <a:srgbClr val="0000ff"/>
                </a:solidFill>
                <a:uFillTx/>
                <a:latin typeface="Arial"/>
              </a:rPr>
              <a:t>Ini. A1</a:t>
            </a:r>
            <a:r>
              <a:rPr b="1" lang="es-CL" sz="2000" spc="-1" strike="noStrike">
                <a:solidFill>
                  <a:srgbClr val="0000ff"/>
                </a:solidFill>
                <a:latin typeface="Arial"/>
              </a:rPr>
              <a:t>, B1, C1, A3, </a:t>
            </a:r>
            <a:r>
              <a:rPr b="1" lang="es-CL" sz="2000" spc="-1" strike="noStrike" u="sng">
                <a:solidFill>
                  <a:srgbClr val="0000ff"/>
                </a:solidFill>
                <a:uFillTx/>
                <a:latin typeface="Arial"/>
              </a:rPr>
              <a:t>TER. C2</a:t>
            </a:r>
            <a:r>
              <a:rPr b="1" lang="es-CL" sz="2000" spc="-1" strike="noStrike">
                <a:solidFill>
                  <a:srgbClr val="0000ff"/>
                </a:solidFill>
                <a:latin typeface="Arial"/>
              </a:rPr>
              <a:t>, C3, C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84280" y="2602080"/>
            <a:ext cx="59040" cy="45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43240" y="4518000"/>
            <a:ext cx="58680" cy="46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30480" y="3576600"/>
            <a:ext cx="59040" cy="46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09960" y="1714680"/>
            <a:ext cx="304812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ECHAS PREVIST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35160" y="1701720"/>
            <a:ext cx="304812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ECHAS LIMI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41640" y="1689120"/>
            <a:ext cx="304812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LOTAMIEN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48120" y="1695600"/>
            <a:ext cx="30477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AMINO CRIT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7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8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60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7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8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90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1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20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7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8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9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9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10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20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0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9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7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1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20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50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60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70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75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85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9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15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3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55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65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75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85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90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15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2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30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"/>
          <p:cNvSpPr/>
          <p:nvPr/>
        </p:nvSpPr>
        <p:spPr>
          <a:xfrm>
            <a:off x="3762360" y="3390840"/>
            <a:ext cx="1752480" cy="723960"/>
          </a:xfrm>
          <a:custGeom>
            <a:avLst/>
            <a:gdLst/>
            <a:ahLst/>
            <a:rect l="l" t="t" r="r" b="b"/>
            <a:pathLst>
              <a:path w="1104" h="456">
                <a:moveTo>
                  <a:pt x="0" y="0"/>
                </a:moveTo>
                <a:lnTo>
                  <a:pt x="1104" y="0"/>
                </a:lnTo>
                <a:lnTo>
                  <a:pt x="1104" y="456"/>
                </a:lnTo>
                <a:lnTo>
                  <a:pt x="936" y="456"/>
                </a:lnTo>
                <a:lnTo>
                  <a:pt x="936" y="168"/>
                </a:lnTo>
                <a:lnTo>
                  <a:pt x="618" y="168"/>
                </a:lnTo>
                <a:lnTo>
                  <a:pt x="618" y="318"/>
                </a:lnTo>
                <a:lnTo>
                  <a:pt x="6" y="31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3267000" y="2933640"/>
            <a:ext cx="27338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3911760" y="3178080"/>
            <a:ext cx="11048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isponib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3898800" y="3184560"/>
            <a:ext cx="1104840" cy="212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1752480" y="1467000"/>
            <a:ext cx="4486320" cy="2943000"/>
          </a:xfrm>
          <a:custGeom>
            <a:avLst/>
            <a:gdLst/>
            <a:ahLst/>
            <a:rect l="l" t="t" r="r" b="b"/>
            <a:pathLst>
              <a:path w="2826" h="1854">
                <a:moveTo>
                  <a:pt x="0" y="1854"/>
                </a:moveTo>
                <a:lnTo>
                  <a:pt x="0" y="1386"/>
                </a:lnTo>
                <a:lnTo>
                  <a:pt x="156" y="1386"/>
                </a:lnTo>
                <a:lnTo>
                  <a:pt x="156" y="468"/>
                </a:lnTo>
                <a:lnTo>
                  <a:pt x="312" y="468"/>
                </a:lnTo>
                <a:lnTo>
                  <a:pt x="312" y="0"/>
                </a:lnTo>
                <a:lnTo>
                  <a:pt x="624" y="0"/>
                </a:lnTo>
                <a:lnTo>
                  <a:pt x="624" y="774"/>
                </a:lnTo>
                <a:lnTo>
                  <a:pt x="780" y="762"/>
                </a:lnTo>
                <a:lnTo>
                  <a:pt x="780" y="324"/>
                </a:lnTo>
                <a:lnTo>
                  <a:pt x="948" y="318"/>
                </a:lnTo>
                <a:lnTo>
                  <a:pt x="942" y="1230"/>
                </a:lnTo>
                <a:lnTo>
                  <a:pt x="1272" y="1230"/>
                </a:lnTo>
                <a:lnTo>
                  <a:pt x="1266" y="1536"/>
                </a:lnTo>
                <a:lnTo>
                  <a:pt x="1884" y="1542"/>
                </a:lnTo>
                <a:lnTo>
                  <a:pt x="1884" y="1392"/>
                </a:lnTo>
                <a:lnTo>
                  <a:pt x="2202" y="1392"/>
                </a:lnTo>
                <a:lnTo>
                  <a:pt x="2202" y="1686"/>
                </a:lnTo>
                <a:lnTo>
                  <a:pt x="2364" y="1686"/>
                </a:lnTo>
                <a:lnTo>
                  <a:pt x="2364" y="1242"/>
                </a:lnTo>
                <a:lnTo>
                  <a:pt x="2670" y="1242"/>
                </a:lnTo>
                <a:lnTo>
                  <a:pt x="2670" y="930"/>
                </a:lnTo>
                <a:lnTo>
                  <a:pt x="2826" y="930"/>
                </a:lnTo>
                <a:lnTo>
                  <a:pt x="2826" y="1848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1768320" y="990720"/>
            <a:ext cx="0" cy="341928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2017800" y="1247760"/>
            <a:ext cx="0" cy="316224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2266920" y="1238400"/>
            <a:ext cx="0" cy="31716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2516040" y="1209600"/>
            <a:ext cx="0" cy="32004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2755800" y="1247760"/>
            <a:ext cx="0" cy="31622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3016080" y="1209600"/>
            <a:ext cx="0" cy="32004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3265560" y="1200240"/>
            <a:ext cx="0" cy="320976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3514680" y="1190520"/>
            <a:ext cx="0" cy="32194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3763800" y="1238400"/>
            <a:ext cx="0" cy="31716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4014720" y="1209600"/>
            <a:ext cx="0" cy="32004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4264200" y="1219320"/>
            <a:ext cx="0" cy="31906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4513320" y="1209600"/>
            <a:ext cx="0" cy="32004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4762440" y="1219320"/>
            <a:ext cx="0" cy="31906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5013360" y="1228680"/>
            <a:ext cx="0" cy="318132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5262480" y="1228680"/>
            <a:ext cx="0" cy="3181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5511960" y="1209600"/>
            <a:ext cx="0" cy="32004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5761080" y="1228680"/>
            <a:ext cx="0" cy="318132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6010200" y="1219320"/>
            <a:ext cx="0" cy="31906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6261120" y="1209600"/>
            <a:ext cx="0" cy="32004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6510240" y="1228680"/>
            <a:ext cx="0" cy="3181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6759720" y="1228680"/>
            <a:ext cx="0" cy="318132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7008840" y="1219320"/>
            <a:ext cx="0" cy="31906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7259760" y="1238400"/>
            <a:ext cx="0" cy="31716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7508880" y="1247760"/>
            <a:ext cx="0" cy="316224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7758000" y="1209600"/>
            <a:ext cx="0" cy="32004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8007480" y="1219320"/>
            <a:ext cx="0" cy="31906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8258040" y="1200240"/>
            <a:ext cx="0" cy="320976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1774800" y="123660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1774800" y="147960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1774800" y="172260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1774800" y="220680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1774800" y="196524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1774800" y="244944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1774800" y="269244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1774800" y="293544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1774800" y="341964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1774800" y="366228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1774800" y="390528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1774800" y="414828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1774800" y="4390920"/>
            <a:ext cx="670572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1825560" y="4410000"/>
            <a:ext cx="17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2792520" y="4410000"/>
            <a:ext cx="17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4049640" y="4410000"/>
            <a:ext cx="304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5265720" y="4410000"/>
            <a:ext cx="26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6541920" y="4410000"/>
            <a:ext cx="24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7802640" y="4410000"/>
            <a:ext cx="228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1558800" y="3063960"/>
            <a:ext cx="171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1406520" y="1832040"/>
            <a:ext cx="32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1558800" y="4270320"/>
            <a:ext cx="171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 flipV="1">
            <a:off x="3247920" y="476208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3247920" y="4762440"/>
            <a:ext cx="266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3247920" y="2943360"/>
            <a:ext cx="2743200" cy="1199880"/>
          </a:xfrm>
          <a:custGeom>
            <a:avLst/>
            <a:gdLst/>
            <a:ahLst/>
            <a:rect l="l" t="t" r="r" b="b"/>
            <a:pathLst>
              <a:path w="1728" h="756">
                <a:moveTo>
                  <a:pt x="0" y="0"/>
                </a:moveTo>
                <a:lnTo>
                  <a:pt x="0" y="312"/>
                </a:lnTo>
                <a:lnTo>
                  <a:pt x="312" y="312"/>
                </a:lnTo>
                <a:lnTo>
                  <a:pt x="312" y="606"/>
                </a:lnTo>
                <a:lnTo>
                  <a:pt x="936" y="606"/>
                </a:lnTo>
                <a:lnTo>
                  <a:pt x="936" y="462"/>
                </a:lnTo>
                <a:lnTo>
                  <a:pt x="1254" y="462"/>
                </a:lnTo>
                <a:lnTo>
                  <a:pt x="1254" y="750"/>
                </a:lnTo>
                <a:lnTo>
                  <a:pt x="1416" y="756"/>
                </a:lnTo>
                <a:lnTo>
                  <a:pt x="1428" y="306"/>
                </a:lnTo>
                <a:lnTo>
                  <a:pt x="1728" y="306"/>
                </a:lnTo>
                <a:lnTo>
                  <a:pt x="1728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6189840" y="4552920"/>
            <a:ext cx="2036520" cy="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415800" y="5511960"/>
            <a:ext cx="7840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384120" y="4768920"/>
            <a:ext cx="7878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698400" y="5022720"/>
            <a:ext cx="756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09" name=""/>
          <p:cNvGrpSpPr/>
          <p:nvPr/>
        </p:nvGrpSpPr>
        <p:grpSpPr>
          <a:xfrm>
            <a:off x="741240" y="4816440"/>
            <a:ext cx="5488200" cy="186120"/>
            <a:chOff x="741240" y="4816440"/>
            <a:chExt cx="5488200" cy="186120"/>
          </a:xfrm>
        </p:grpSpPr>
        <p:sp>
          <p:nvSpPr>
            <p:cNvPr id="2610" name=""/>
            <p:cNvSpPr/>
            <p:nvPr/>
          </p:nvSpPr>
          <p:spPr>
            <a:xfrm>
              <a:off x="181440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2079720" y="48164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2308320" y="4816440"/>
              <a:ext cx="20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2471760" y="4816440"/>
              <a:ext cx="315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282096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3022560" y="4816440"/>
              <a:ext cx="222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332424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3571920" y="48164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3838680" y="48164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408456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433224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4579920" y="48164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4826160" y="48164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5083200" y="48164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5338800" y="48164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5605560" y="48164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585144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609912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741240" y="4819680"/>
              <a:ext cx="1114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Necesida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29" name=""/>
          <p:cNvSpPr/>
          <p:nvPr/>
        </p:nvSpPr>
        <p:spPr>
          <a:xfrm>
            <a:off x="2324160" y="3257640"/>
            <a:ext cx="46656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Úti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1523880" y="781200"/>
            <a:ext cx="59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Ca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8420040" y="4159080"/>
            <a:ext cx="5907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Tiemp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2457360" y="343080"/>
            <a:ext cx="48196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URVAS DE NECESIDAD DE RECURSOS REUTILIZ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33" name=""/>
          <p:cNvGrpSpPr/>
          <p:nvPr/>
        </p:nvGrpSpPr>
        <p:grpSpPr>
          <a:xfrm>
            <a:off x="741240" y="5556240"/>
            <a:ext cx="7234200" cy="195480"/>
            <a:chOff x="741240" y="5556240"/>
            <a:chExt cx="7234200" cy="195480"/>
          </a:xfrm>
        </p:grpSpPr>
        <p:sp>
          <p:nvSpPr>
            <p:cNvPr id="2634" name=""/>
            <p:cNvSpPr/>
            <p:nvPr/>
          </p:nvSpPr>
          <p:spPr>
            <a:xfrm>
              <a:off x="3828960" y="55688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4075200" y="55688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4322880" y="55688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4514760" y="5568840"/>
              <a:ext cx="23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4780080" y="5568840"/>
              <a:ext cx="25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5037120" y="5568840"/>
              <a:ext cx="20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5292720" y="5568840"/>
              <a:ext cx="17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5595840" y="55688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5842080" y="55688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6089760" y="55688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6337440" y="55688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6585120" y="55688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6840360" y="55688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7062840" y="55688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7310520" y="55688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7558200" y="55688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7845480" y="55688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741240" y="5556240"/>
              <a:ext cx="1038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Necesida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3602160" y="55562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53" name=""/>
          <p:cNvSpPr/>
          <p:nvPr/>
        </p:nvSpPr>
        <p:spPr>
          <a:xfrm>
            <a:off x="3533760" y="1447920"/>
            <a:ext cx="4487760" cy="2962080"/>
          </a:xfrm>
          <a:custGeom>
            <a:avLst/>
            <a:gdLst/>
            <a:ahLst/>
            <a:rect l="l" t="t" r="r" b="b"/>
            <a:pathLst>
              <a:path w="2827" h="1866">
                <a:moveTo>
                  <a:pt x="0" y="1866"/>
                </a:moveTo>
                <a:lnTo>
                  <a:pt x="6" y="1386"/>
                </a:lnTo>
                <a:lnTo>
                  <a:pt x="132" y="1392"/>
                </a:lnTo>
                <a:lnTo>
                  <a:pt x="138" y="1236"/>
                </a:lnTo>
                <a:lnTo>
                  <a:pt x="300" y="1242"/>
                </a:lnTo>
                <a:lnTo>
                  <a:pt x="306" y="1674"/>
                </a:lnTo>
                <a:lnTo>
                  <a:pt x="456" y="1680"/>
                </a:lnTo>
                <a:lnTo>
                  <a:pt x="462" y="930"/>
                </a:lnTo>
                <a:lnTo>
                  <a:pt x="630" y="936"/>
                </a:lnTo>
                <a:lnTo>
                  <a:pt x="609" y="0"/>
                </a:lnTo>
                <a:lnTo>
                  <a:pt x="936" y="6"/>
                </a:lnTo>
                <a:lnTo>
                  <a:pt x="936" y="306"/>
                </a:lnTo>
                <a:lnTo>
                  <a:pt x="1239" y="312"/>
                </a:lnTo>
                <a:lnTo>
                  <a:pt x="1251" y="1074"/>
                </a:lnTo>
                <a:lnTo>
                  <a:pt x="1416" y="1068"/>
                </a:lnTo>
                <a:lnTo>
                  <a:pt x="1416" y="1524"/>
                </a:lnTo>
                <a:lnTo>
                  <a:pt x="1869" y="1536"/>
                </a:lnTo>
                <a:lnTo>
                  <a:pt x="1869" y="1374"/>
                </a:lnTo>
                <a:lnTo>
                  <a:pt x="2187" y="1374"/>
                </a:lnTo>
                <a:lnTo>
                  <a:pt x="2187" y="1692"/>
                </a:lnTo>
                <a:lnTo>
                  <a:pt x="2343" y="1692"/>
                </a:lnTo>
                <a:lnTo>
                  <a:pt x="2343" y="1224"/>
                </a:lnTo>
                <a:lnTo>
                  <a:pt x="2676" y="1218"/>
                </a:lnTo>
                <a:lnTo>
                  <a:pt x="2670" y="948"/>
                </a:lnTo>
                <a:lnTo>
                  <a:pt x="2826" y="942"/>
                </a:lnTo>
                <a:lnTo>
                  <a:pt x="2827" y="1845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4" name=""/>
          <p:cNvGrpSpPr/>
          <p:nvPr/>
        </p:nvGrpSpPr>
        <p:grpSpPr>
          <a:xfrm>
            <a:off x="554040" y="5131080"/>
            <a:ext cx="5787000" cy="486720"/>
            <a:chOff x="554040" y="5131080"/>
            <a:chExt cx="5787000" cy="486720"/>
          </a:xfrm>
        </p:grpSpPr>
        <p:sp>
          <p:nvSpPr>
            <p:cNvPr id="2655" name=""/>
            <p:cNvSpPr/>
            <p:nvPr/>
          </p:nvSpPr>
          <p:spPr>
            <a:xfrm>
              <a:off x="554040" y="5294520"/>
              <a:ext cx="11145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 rot="18627600">
              <a:off x="1785960" y="52768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 rot="18627600">
              <a:off x="2062080" y="52768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 rot="18627600">
              <a:off x="2290680" y="52768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 rot="18627600">
              <a:off x="2557440" y="52768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 rot="18627600">
              <a:off x="2805120" y="52768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 rot="18627600">
              <a:off x="3031920" y="52768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5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 rot="18627600">
              <a:off x="3300480" y="52768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 rot="18627600">
              <a:off x="3556080" y="527652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 rot="18627600">
              <a:off x="3803760" y="527652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 rot="18627600">
              <a:off x="4051080" y="52768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 rot="18627600">
              <a:off x="4306680" y="52768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8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 rot="18627600">
              <a:off x="4581360" y="52768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9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 rot="18627600">
              <a:off x="4748040" y="5230800"/>
              <a:ext cx="325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9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 rot="18627600">
              <a:off x="5026680" y="5222160"/>
              <a:ext cx="32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0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 rot="18627600">
              <a:off x="5290200" y="5238000"/>
              <a:ext cx="295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1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 rot="18627600">
              <a:off x="5590440" y="5218920"/>
              <a:ext cx="2556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1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 rot="18627600">
              <a:off x="5814000" y="5272920"/>
              <a:ext cx="263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2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 rot="18627600">
              <a:off x="6045120" y="5249880"/>
              <a:ext cx="274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2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754200" y="5330880"/>
              <a:ext cx="1038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Costo Direct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5" name=""/>
          <p:cNvSpPr/>
          <p:nvPr/>
        </p:nvSpPr>
        <p:spPr>
          <a:xfrm>
            <a:off x="378000" y="6289560"/>
            <a:ext cx="787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701640" y="5772240"/>
            <a:ext cx="7554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560520" y="5786280"/>
            <a:ext cx="11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78" name=""/>
          <p:cNvGrpSpPr/>
          <p:nvPr/>
        </p:nvGrpSpPr>
        <p:grpSpPr>
          <a:xfrm>
            <a:off x="744480" y="5942520"/>
            <a:ext cx="7394400" cy="385560"/>
            <a:chOff x="744480" y="5942520"/>
            <a:chExt cx="7394400" cy="385560"/>
          </a:xfrm>
        </p:grpSpPr>
        <p:sp>
          <p:nvSpPr>
            <p:cNvPr id="2679" name=""/>
            <p:cNvSpPr/>
            <p:nvPr/>
          </p:nvSpPr>
          <p:spPr>
            <a:xfrm rot="18627600">
              <a:off x="6996960" y="6059880"/>
              <a:ext cx="307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 rot="18627600">
              <a:off x="7275240" y="6046560"/>
              <a:ext cx="30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0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 rot="18627600">
              <a:off x="7509240" y="6053760"/>
              <a:ext cx="292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1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 rot="18627600">
              <a:off x="7810200" y="6029640"/>
              <a:ext cx="314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2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 rot="18627600">
              <a:off x="3841560" y="602604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 rot="18627600">
              <a:off x="4089240" y="603540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 rot="18627600">
              <a:off x="4317840" y="6054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 rot="18627600">
              <a:off x="4592520" y="6054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2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 rot="18627600">
              <a:off x="4821120" y="6054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4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 rot="18627600">
              <a:off x="5086440" y="605412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5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 rot="18627600">
              <a:off x="5333760" y="6054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 rot="18627600">
              <a:off x="5562360" y="6054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 rot="18627600">
              <a:off x="5829120" y="6054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7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 rot="18627600">
              <a:off x="6084720" y="6054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7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 rot="18627600">
              <a:off x="6332400" y="6054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8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 rot="18627600">
              <a:off x="6580080" y="6054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9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 rot="18627600">
              <a:off x="6794280" y="6054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9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 rot="18627600">
              <a:off x="3619440" y="602604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744480" y="6046920"/>
              <a:ext cx="1114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Costo Directo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8" name=""/>
          <p:cNvSpPr/>
          <p:nvPr/>
        </p:nvSpPr>
        <p:spPr>
          <a:xfrm rot="16200000">
            <a:off x="241920" y="5043600"/>
            <a:ext cx="6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TEMP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>
            <a:off x="1752480" y="4400640"/>
            <a:ext cx="0" cy="1895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1762200" y="317988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 rot="16200000">
            <a:off x="234000" y="5826240"/>
            <a:ext cx="63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TARDI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>
            <a:off x="2771640" y="1952640"/>
            <a:ext cx="238320" cy="7333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717480" y="5264280"/>
            <a:ext cx="7554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717480" y="6016680"/>
            <a:ext cx="7554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399960" y="4753080"/>
            <a:ext cx="0" cy="1542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701640" y="4749840"/>
            <a:ext cx="0" cy="1542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7" name=""/>
          <p:cNvGrpSpPr/>
          <p:nvPr/>
        </p:nvGrpSpPr>
        <p:grpSpPr>
          <a:xfrm>
            <a:off x="712800" y="5057640"/>
            <a:ext cx="5516280" cy="186120"/>
            <a:chOff x="712800" y="5057640"/>
            <a:chExt cx="5516280" cy="186120"/>
          </a:xfrm>
        </p:grpSpPr>
        <p:grpSp>
          <p:nvGrpSpPr>
            <p:cNvPr id="2708" name=""/>
            <p:cNvGrpSpPr/>
            <p:nvPr/>
          </p:nvGrpSpPr>
          <p:grpSpPr>
            <a:xfrm>
              <a:off x="1814400" y="5057640"/>
              <a:ext cx="4414680" cy="182880"/>
              <a:chOff x="1814400" y="5057640"/>
              <a:chExt cx="4414680" cy="182880"/>
            </a:xfrm>
          </p:grpSpPr>
          <p:sp>
            <p:nvSpPr>
              <p:cNvPr id="2709" name=""/>
              <p:cNvSpPr/>
              <p:nvPr/>
            </p:nvSpPr>
            <p:spPr>
              <a:xfrm>
                <a:off x="1814400" y="5057640"/>
                <a:ext cx="130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2079360" y="5057640"/>
                <a:ext cx="130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9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2307960" y="5057640"/>
                <a:ext cx="204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1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2471760" y="5057640"/>
                <a:ext cx="315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1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2763720" y="5057640"/>
                <a:ext cx="282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3022560" y="5057640"/>
                <a:ext cx="222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3324240" y="5057640"/>
                <a:ext cx="129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3571920" y="5057640"/>
                <a:ext cx="129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3838320" y="5057640"/>
                <a:ext cx="12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4084560" y="5057640"/>
                <a:ext cx="130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4332240" y="5057640"/>
                <a:ext cx="129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4579920" y="5057640"/>
                <a:ext cx="128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4825800" y="5057640"/>
                <a:ext cx="130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5083200" y="5057640"/>
                <a:ext cx="128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5338800" y="5057640"/>
                <a:ext cx="129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5605200" y="5057640"/>
                <a:ext cx="12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5851440" y="5057640"/>
                <a:ext cx="130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6099120" y="5057640"/>
                <a:ext cx="129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27" name=""/>
            <p:cNvSpPr/>
            <p:nvPr/>
          </p:nvSpPr>
          <p:spPr>
            <a:xfrm>
              <a:off x="712800" y="5060880"/>
              <a:ext cx="11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Disponibilida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28" name=""/>
          <p:cNvGrpSpPr/>
          <p:nvPr/>
        </p:nvGrpSpPr>
        <p:grpSpPr>
          <a:xfrm>
            <a:off x="700200" y="5791320"/>
            <a:ext cx="7262640" cy="195480"/>
            <a:chOff x="700200" y="5791320"/>
            <a:chExt cx="7262640" cy="195480"/>
          </a:xfrm>
        </p:grpSpPr>
        <p:sp>
          <p:nvSpPr>
            <p:cNvPr id="2729" name=""/>
            <p:cNvSpPr/>
            <p:nvPr/>
          </p:nvSpPr>
          <p:spPr>
            <a:xfrm>
              <a:off x="3816360" y="580392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4062240" y="580392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4309920" y="580392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4502160" y="5803920"/>
              <a:ext cx="23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4767120" y="5803920"/>
              <a:ext cx="252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5024520" y="5803920"/>
              <a:ext cx="20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5280120" y="5803920"/>
              <a:ext cx="17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5583240" y="580392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5829480" y="580392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6076800" y="580392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6324480" y="580392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6572160" y="580392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6827760" y="580392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7050240" y="580392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7297560" y="580392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7545240" y="580392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7832880" y="580392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700200" y="5791320"/>
              <a:ext cx="115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Disponibilida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3589200" y="579132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48" name=""/>
          <p:cNvSpPr/>
          <p:nvPr/>
        </p:nvSpPr>
        <p:spPr>
          <a:xfrm>
            <a:off x="2768760" y="4378320"/>
            <a:ext cx="0" cy="1895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>
            <a:off x="4060800" y="4394160"/>
            <a:ext cx="0" cy="1895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5257800" y="4400640"/>
            <a:ext cx="0" cy="1895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6512040" y="4397400"/>
            <a:ext cx="0" cy="1895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7756560" y="4394160"/>
            <a:ext cx="0" cy="1895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8258040" y="4390920"/>
            <a:ext cx="0" cy="1895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2311560" y="3254400"/>
            <a:ext cx="466560" cy="2127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4019400" y="3419640"/>
            <a:ext cx="238320" cy="6858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5781600" y="3619440"/>
            <a:ext cx="723960" cy="2667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7010280" y="3619440"/>
            <a:ext cx="247680" cy="5144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5537160" y="2943360"/>
            <a:ext cx="2247840" cy="676080"/>
          </a:xfrm>
          <a:custGeom>
            <a:avLst/>
            <a:gdLst/>
            <a:ahLst/>
            <a:rect l="l" t="t" r="r" b="b"/>
            <a:pathLst>
              <a:path w="1416" h="426">
                <a:moveTo>
                  <a:pt x="0" y="0"/>
                </a:moveTo>
                <a:lnTo>
                  <a:pt x="12" y="138"/>
                </a:lnTo>
                <a:lnTo>
                  <a:pt x="168" y="126"/>
                </a:lnTo>
                <a:lnTo>
                  <a:pt x="168" y="426"/>
                </a:lnTo>
                <a:lnTo>
                  <a:pt x="1092" y="426"/>
                </a:lnTo>
                <a:lnTo>
                  <a:pt x="1092" y="288"/>
                </a:lnTo>
                <a:lnTo>
                  <a:pt x="1416" y="288"/>
                </a:lnTo>
                <a:lnTo>
                  <a:pt x="1416" y="18"/>
                </a:lnTo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4572000" y="3390840"/>
            <a:ext cx="8888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Uti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>
            <a:off x="1781280" y="1454040"/>
            <a:ext cx="4473360" cy="2936880"/>
          </a:xfrm>
          <a:custGeom>
            <a:avLst/>
            <a:gdLst/>
            <a:ahLst/>
            <a:rect l="l" t="t" r="r" b="b"/>
            <a:pathLst>
              <a:path w="2818" h="1850">
                <a:moveTo>
                  <a:pt x="0" y="1850"/>
                </a:moveTo>
                <a:lnTo>
                  <a:pt x="6" y="1388"/>
                </a:lnTo>
                <a:lnTo>
                  <a:pt x="148" y="1386"/>
                </a:lnTo>
                <a:lnTo>
                  <a:pt x="148" y="468"/>
                </a:lnTo>
                <a:lnTo>
                  <a:pt x="304" y="468"/>
                </a:lnTo>
                <a:lnTo>
                  <a:pt x="304" y="0"/>
                </a:lnTo>
                <a:lnTo>
                  <a:pt x="616" y="0"/>
                </a:lnTo>
                <a:lnTo>
                  <a:pt x="616" y="774"/>
                </a:lnTo>
                <a:lnTo>
                  <a:pt x="778" y="774"/>
                </a:lnTo>
                <a:lnTo>
                  <a:pt x="778" y="318"/>
                </a:lnTo>
                <a:lnTo>
                  <a:pt x="940" y="318"/>
                </a:lnTo>
                <a:lnTo>
                  <a:pt x="934" y="1230"/>
                </a:lnTo>
                <a:lnTo>
                  <a:pt x="1252" y="1230"/>
                </a:lnTo>
                <a:lnTo>
                  <a:pt x="1258" y="1542"/>
                </a:lnTo>
                <a:lnTo>
                  <a:pt x="1876" y="1542"/>
                </a:lnTo>
                <a:lnTo>
                  <a:pt x="1876" y="1392"/>
                </a:lnTo>
                <a:lnTo>
                  <a:pt x="2194" y="1392"/>
                </a:lnTo>
                <a:lnTo>
                  <a:pt x="2194" y="1686"/>
                </a:lnTo>
                <a:lnTo>
                  <a:pt x="2356" y="1686"/>
                </a:lnTo>
                <a:lnTo>
                  <a:pt x="2356" y="1242"/>
                </a:lnTo>
                <a:lnTo>
                  <a:pt x="2662" y="1242"/>
                </a:lnTo>
                <a:lnTo>
                  <a:pt x="2662" y="930"/>
                </a:lnTo>
                <a:lnTo>
                  <a:pt x="2818" y="930"/>
                </a:lnTo>
                <a:lnTo>
                  <a:pt x="2818" y="1848"/>
                </a:lnTo>
              </a:path>
            </a:pathLst>
          </a:custGeom>
          <a:noFill/>
          <a:ln w="38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>
            <a:off x="3524400" y="1447920"/>
            <a:ext cx="4502160" cy="2952720"/>
          </a:xfrm>
          <a:custGeom>
            <a:avLst/>
            <a:gdLst/>
            <a:ahLst/>
            <a:rect l="l" t="t" r="r" b="b"/>
            <a:pathLst>
              <a:path w="2836" h="1860">
                <a:moveTo>
                  <a:pt x="0" y="1860"/>
                </a:moveTo>
                <a:lnTo>
                  <a:pt x="6" y="1398"/>
                </a:lnTo>
                <a:lnTo>
                  <a:pt x="150" y="1398"/>
                </a:lnTo>
                <a:lnTo>
                  <a:pt x="150" y="1242"/>
                </a:lnTo>
                <a:lnTo>
                  <a:pt x="306" y="1242"/>
                </a:lnTo>
                <a:lnTo>
                  <a:pt x="312" y="1680"/>
                </a:lnTo>
                <a:lnTo>
                  <a:pt x="462" y="1680"/>
                </a:lnTo>
                <a:lnTo>
                  <a:pt x="456" y="942"/>
                </a:lnTo>
                <a:lnTo>
                  <a:pt x="624" y="936"/>
                </a:lnTo>
                <a:lnTo>
                  <a:pt x="616" y="4"/>
                </a:lnTo>
                <a:lnTo>
                  <a:pt x="948" y="0"/>
                </a:lnTo>
                <a:lnTo>
                  <a:pt x="948" y="300"/>
                </a:lnTo>
                <a:lnTo>
                  <a:pt x="1260" y="318"/>
                </a:lnTo>
                <a:lnTo>
                  <a:pt x="1258" y="1078"/>
                </a:lnTo>
                <a:lnTo>
                  <a:pt x="1422" y="1074"/>
                </a:lnTo>
                <a:lnTo>
                  <a:pt x="1416" y="1536"/>
                </a:lnTo>
                <a:lnTo>
                  <a:pt x="1876" y="1540"/>
                </a:lnTo>
                <a:lnTo>
                  <a:pt x="1876" y="1378"/>
                </a:lnTo>
                <a:lnTo>
                  <a:pt x="2194" y="1378"/>
                </a:lnTo>
                <a:lnTo>
                  <a:pt x="2194" y="1696"/>
                </a:lnTo>
                <a:lnTo>
                  <a:pt x="2350" y="1696"/>
                </a:lnTo>
                <a:lnTo>
                  <a:pt x="2350" y="1228"/>
                </a:lnTo>
                <a:lnTo>
                  <a:pt x="2676" y="1236"/>
                </a:lnTo>
                <a:lnTo>
                  <a:pt x="2664" y="948"/>
                </a:lnTo>
                <a:lnTo>
                  <a:pt x="2836" y="937"/>
                </a:lnTo>
                <a:lnTo>
                  <a:pt x="2836" y="1851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4508640" y="3403440"/>
            <a:ext cx="11048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isponib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>
            <a:off x="3276720" y="29718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3251160" y="2933640"/>
            <a:ext cx="299736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>
            <a:off x="4495680" y="3403440"/>
            <a:ext cx="1105200" cy="2127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4" dur="indefinite" restart="never" nodeType="tmRoot">
          <p:childTnLst>
            <p:seq>
              <p:cTn id="2035" dur="indefinite" nodeType="mainSeq">
                <p:childTnLst>
                  <p:par>
                    <p:cTn id="2036" fill="hold">
                      <p:stCondLst>
                        <p:cond delay="indefinite"/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3" dur="3000"/>
                                        <p:tgtEl>
                                          <p:spTgt spid="2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7" dur="8000"/>
                                        <p:tgtEl>
                                          <p:spTgt spid="2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1" dur="5000"/>
                                        <p:tgtEl>
                                          <p:spTgt spid="2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fill="hold">
                      <p:stCondLst>
                        <p:cond delay="indefinite"/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fill="hold">
                      <p:stCondLst>
                        <p:cond delay="indefinite"/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0" dur="2000"/>
                                        <p:tgtEl>
                                          <p:spTgt spid="2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5" dur="2000"/>
                                        <p:tgtEl>
                                          <p:spTgt spid="2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6" fill="hold">
                      <p:stCondLst>
                        <p:cond delay="indefinite"/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0" dur="2000"/>
                                        <p:tgtEl>
                                          <p:spTgt spid="2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fill="hold">
                      <p:stCondLst>
                        <p:cond delay="indefinite"/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5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8" fill="hold">
                      <p:stCondLst>
                        <p:cond delay="indefinite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2" dur="5000"/>
                                        <p:tgtEl>
                                          <p:spTgt spid="2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fill="hold">
                      <p:stCondLst>
                        <p:cond delay="indefinite"/>
                      </p:stCondLst>
                      <p:childTnLst>
                        <p:par>
                          <p:cTn id="2084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7" dur="5000"/>
                                        <p:tgtEl>
                                          <p:spTgt spid="2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8" fill="hold">
                      <p:stCondLst>
                        <p:cond delay="indefinite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8" fill="hold">
                      <p:stCondLst>
                        <p:cond delay="indefinite"/>
                      </p:stCondLst>
                      <p:childTnLst>
                        <p:par>
                          <p:cTn id="2099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2" dur="2000"/>
                                        <p:tgtEl>
                                          <p:spTgt spid="2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6" dur="5000"/>
                                        <p:tgtEl>
                                          <p:spTgt spid="2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fill="hold">
                            <p:stCondLst>
                              <p:cond delay="7000"/>
                            </p:stCondLst>
                            <p:childTnLst>
                              <p:par>
                                <p:cTn id="2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0" dur="5000"/>
                                        <p:tgtEl>
                                          <p:spTgt spid="2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9" dur="1000"/>
                                        <p:tgtEl>
                                          <p:spTgt spid="2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fill="hold">
                      <p:stCondLst>
                        <p:cond delay="indefinite"/>
                      </p:stCondLst>
                      <p:childTnLst>
                        <p:par>
                          <p:cTn id="2121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4" dur="1000"/>
                                        <p:tgtEl>
                                          <p:spTgt spid="2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7" dur="1000"/>
                                        <p:tgtEl>
                                          <p:spTgt spid="2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8" fill="hold">
                      <p:stCondLst>
                        <p:cond delay="indefinite"/>
                      </p:stCondLst>
                      <p:childTnLst>
                        <p:par>
                          <p:cTn id="2129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2" dur="2000"/>
                                        <p:tgtEl>
                                          <p:spTgt spid="2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6" fill="hold">
                      <p:stCondLst>
                        <p:cond delay="indefinite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0" dur="2000"/>
                                        <p:tgtEl>
                                          <p:spTgt spid="2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5" dur="2000"/>
                                        <p:tgtEl>
                                          <p:spTgt spid="2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6" fill="hold">
                      <p:stCondLst>
                        <p:cond delay="indefinite"/>
                      </p:stCondLst>
                      <p:childTnLst>
                        <p:par>
                          <p:cTn id="2147" fill="hold">
                            <p:stCondLst>
                              <p:cond delay="0"/>
                            </p:stCondLst>
                            <p:childTnLst>
                              <p:par>
                                <p:cTn id="2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"/>
          <p:cNvSpPr/>
          <p:nvPr/>
        </p:nvSpPr>
        <p:spPr>
          <a:xfrm>
            <a:off x="300204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325116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350028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375120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400068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424980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449892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474984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499896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524844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549756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5756400" y="16477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6002280" y="115740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624672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649620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674532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6996240" y="163836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724536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749448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774396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799452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1473120" y="167652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1473120" y="191772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1473120" y="216072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1473120" y="240336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1473120" y="264636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1511280" y="288936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1511280" y="313056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1474920" y="337176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1511280" y="361620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1511280" y="385920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1511280" y="410220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1511280" y="434340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1511280" y="458640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1511280" y="482904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1511280" y="507204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1482840" y="5315040"/>
            <a:ext cx="6819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3886200" y="5334120"/>
            <a:ext cx="304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5102280" y="5334120"/>
            <a:ext cx="26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6378480" y="5334120"/>
            <a:ext cx="24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7639200" y="5334120"/>
            <a:ext cx="228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7" name=""/>
          <p:cNvGrpSpPr/>
          <p:nvPr/>
        </p:nvGrpSpPr>
        <p:grpSpPr>
          <a:xfrm>
            <a:off x="380880" y="5772240"/>
            <a:ext cx="5836680" cy="433440"/>
            <a:chOff x="380880" y="5772240"/>
            <a:chExt cx="5836680" cy="433440"/>
          </a:xfrm>
        </p:grpSpPr>
        <p:sp>
          <p:nvSpPr>
            <p:cNvPr id="2808" name=""/>
            <p:cNvSpPr/>
            <p:nvPr/>
          </p:nvSpPr>
          <p:spPr>
            <a:xfrm rot="18627600">
              <a:off x="4603320" y="5864040"/>
              <a:ext cx="325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9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 rot="18627600">
              <a:off x="1658520" y="582120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 rot="18627600">
              <a:off x="1935000" y="582084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 rot="18627600">
              <a:off x="2163600" y="582084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 rot="18627600">
              <a:off x="2430000" y="582120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 rot="18627600">
              <a:off x="2677680" y="582120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 rot="18627600">
              <a:off x="2904840" y="582120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5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 rot="18627600">
              <a:off x="3173040" y="582120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 rot="18627600">
              <a:off x="3428640" y="582120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 rot="18627600">
              <a:off x="3676320" y="582120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 rot="18627600">
              <a:off x="3924000" y="582120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 rot="18627600">
              <a:off x="4182840" y="582120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8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 rot="18627600">
              <a:off x="4454280" y="582120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9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 rot="18627600">
              <a:off x="4899240" y="5863320"/>
              <a:ext cx="32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0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 rot="18627600">
              <a:off x="5159880" y="5853960"/>
              <a:ext cx="295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1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 rot="18627600">
              <a:off x="5460120" y="5806800"/>
              <a:ext cx="2556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1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 rot="18627600">
              <a:off x="5669280" y="5841000"/>
              <a:ext cx="263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2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 rot="18627600">
              <a:off x="5921280" y="5844600"/>
              <a:ext cx="27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2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380880" y="5823000"/>
              <a:ext cx="102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Costo PREV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27" name=""/>
          <p:cNvSpPr/>
          <p:nvPr/>
        </p:nvSpPr>
        <p:spPr>
          <a:xfrm>
            <a:off x="255600" y="6461280"/>
            <a:ext cx="7878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223920" y="6143760"/>
            <a:ext cx="7878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266760" y="5711760"/>
            <a:ext cx="7878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1641600" y="5295960"/>
            <a:ext cx="0" cy="1106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231840" y="5707080"/>
            <a:ext cx="0" cy="72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1892160" y="5295960"/>
            <a:ext cx="0" cy="11491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214308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2394000" y="5295960"/>
            <a:ext cx="0" cy="11635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264492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289548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314640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339732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3648240" y="5295960"/>
            <a:ext cx="0" cy="11491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389880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4149720" y="5295960"/>
            <a:ext cx="0" cy="11635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440064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465120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490212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515304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5403960" y="5295960"/>
            <a:ext cx="0" cy="11491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565452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5905440" y="5295960"/>
            <a:ext cx="0" cy="11635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615636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640728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665784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690876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7159680" y="5295960"/>
            <a:ext cx="0" cy="11491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741060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7661160" y="5295960"/>
            <a:ext cx="0" cy="11635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791208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816300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2979720" y="396072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3232080" y="380520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3486240" y="364500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5978520" y="219384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1467000" y="2209680"/>
            <a:ext cx="4514760" cy="3119400"/>
          </a:xfrm>
          <a:custGeom>
            <a:avLst/>
            <a:gdLst/>
            <a:ahLst/>
            <a:rect l="l" t="t" r="r" b="b"/>
            <a:pathLst>
              <a:path w="2844" h="1965">
                <a:moveTo>
                  <a:pt x="0" y="1965"/>
                </a:moveTo>
                <a:lnTo>
                  <a:pt x="168" y="1917"/>
                </a:lnTo>
                <a:lnTo>
                  <a:pt x="335" y="1796"/>
                </a:lnTo>
                <a:lnTo>
                  <a:pt x="479" y="1611"/>
                </a:lnTo>
                <a:lnTo>
                  <a:pt x="647" y="1410"/>
                </a:lnTo>
                <a:lnTo>
                  <a:pt x="810" y="1260"/>
                </a:lnTo>
                <a:lnTo>
                  <a:pt x="960" y="1116"/>
                </a:lnTo>
                <a:lnTo>
                  <a:pt x="1122" y="1026"/>
                </a:lnTo>
                <a:lnTo>
                  <a:pt x="1272" y="924"/>
                </a:lnTo>
                <a:lnTo>
                  <a:pt x="2844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3727440" y="512460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4229280" y="488304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5730840" y="3508200"/>
            <a:ext cx="42840" cy="43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3241800" y="529596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3486240" y="521640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5479920" y="365760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4971960" y="403560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5235480" y="379404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4727520" y="428616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4476600" y="458784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7718400" y="234324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3730680" y="349884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3984480" y="335268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4229280" y="321624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>
            <a:off x="4483080" y="306072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>
            <a:off x="4727520" y="293364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>
            <a:off x="4976640" y="2773440"/>
            <a:ext cx="4320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5221440" y="263196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5475240" y="248616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5724360" y="2349360"/>
            <a:ext cx="4320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5969160" y="336564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7223040" y="264780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6216480" y="3222720"/>
            <a:ext cx="4320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6470640" y="307656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6724800" y="293040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6969240" y="279396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1619280" y="361800"/>
            <a:ext cx="6248520" cy="9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URVAS DE BALANC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URVAS “S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(Recursos reutilizable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8185320" y="5099040"/>
            <a:ext cx="83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Tiemp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7467480" y="250200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5848200" y="1847880"/>
            <a:ext cx="362160" cy="243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12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7588080" y="1959120"/>
            <a:ext cx="362160" cy="243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12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94" name=""/>
          <p:cNvGrpSpPr/>
          <p:nvPr/>
        </p:nvGrpSpPr>
        <p:grpSpPr>
          <a:xfrm>
            <a:off x="5981760" y="1187280"/>
            <a:ext cx="1752480" cy="487080"/>
            <a:chOff x="5981760" y="1187280"/>
            <a:chExt cx="1752480" cy="487080"/>
          </a:xfrm>
        </p:grpSpPr>
        <p:sp>
          <p:nvSpPr>
            <p:cNvPr id="2895" name=""/>
            <p:cNvSpPr/>
            <p:nvPr/>
          </p:nvSpPr>
          <p:spPr>
            <a:xfrm flipV="1">
              <a:off x="5981760" y="129492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 flipV="1">
              <a:off x="7721640" y="132012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5981760" y="1428480"/>
              <a:ext cx="17524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6483600" y="1187280"/>
              <a:ext cx="10476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00"/>
                  </a:solidFill>
                  <a:latin typeface="Arial"/>
                </a:rPr>
                <a:t>Demora Permitid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99" name=""/>
          <p:cNvSpPr/>
          <p:nvPr/>
        </p:nvSpPr>
        <p:spPr>
          <a:xfrm>
            <a:off x="1486080" y="1371600"/>
            <a:ext cx="0" cy="3962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0" name=""/>
          <p:cNvSpPr/>
          <p:nvPr/>
        </p:nvSpPr>
        <p:spPr>
          <a:xfrm>
            <a:off x="175428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1" name=""/>
          <p:cNvSpPr/>
          <p:nvPr/>
        </p:nvSpPr>
        <p:spPr>
          <a:xfrm>
            <a:off x="200340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2" name=""/>
          <p:cNvSpPr/>
          <p:nvPr/>
        </p:nvSpPr>
        <p:spPr>
          <a:xfrm>
            <a:off x="225252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3" name=""/>
          <p:cNvSpPr/>
          <p:nvPr/>
        </p:nvSpPr>
        <p:spPr>
          <a:xfrm>
            <a:off x="250200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4" name=""/>
          <p:cNvSpPr/>
          <p:nvPr/>
        </p:nvSpPr>
        <p:spPr>
          <a:xfrm>
            <a:off x="2752560" y="16286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5" name=""/>
          <p:cNvSpPr/>
          <p:nvPr/>
        </p:nvSpPr>
        <p:spPr>
          <a:xfrm>
            <a:off x="1662120" y="5334120"/>
            <a:ext cx="17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>
            <a:off x="2657520" y="5334120"/>
            <a:ext cx="17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>
            <a:off x="1104840" y="4222800"/>
            <a:ext cx="32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8" name=""/>
          <p:cNvSpPr/>
          <p:nvPr/>
        </p:nvSpPr>
        <p:spPr>
          <a:xfrm>
            <a:off x="1257480" y="5194440"/>
            <a:ext cx="17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9" name=""/>
          <p:cNvSpPr/>
          <p:nvPr/>
        </p:nvSpPr>
        <p:spPr>
          <a:xfrm>
            <a:off x="1104840" y="3257640"/>
            <a:ext cx="32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914400" y="2273400"/>
            <a:ext cx="571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>
            <a:off x="1104840" y="4705200"/>
            <a:ext cx="32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1104840" y="3740040"/>
            <a:ext cx="32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3" name=""/>
          <p:cNvSpPr/>
          <p:nvPr/>
        </p:nvSpPr>
        <p:spPr>
          <a:xfrm>
            <a:off x="914400" y="2755800"/>
            <a:ext cx="571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>
            <a:off x="990720" y="1790640"/>
            <a:ext cx="43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4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>
            <a:off x="2230560" y="470052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>
            <a:off x="1467000" y="529596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>
            <a:off x="1733400" y="520380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>
            <a:off x="1981080" y="500688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>
            <a:off x="2482920" y="442764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0" name=""/>
          <p:cNvSpPr/>
          <p:nvPr/>
        </p:nvSpPr>
        <p:spPr>
          <a:xfrm>
            <a:off x="2730600" y="418464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>
            <a:off x="1200240" y="1066680"/>
            <a:ext cx="83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Co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2" name=""/>
          <p:cNvGrpSpPr/>
          <p:nvPr/>
        </p:nvGrpSpPr>
        <p:grpSpPr>
          <a:xfrm>
            <a:off x="379440" y="6085800"/>
            <a:ext cx="7631280" cy="489600"/>
            <a:chOff x="379440" y="6085800"/>
            <a:chExt cx="7631280" cy="489600"/>
          </a:xfrm>
        </p:grpSpPr>
        <p:sp>
          <p:nvSpPr>
            <p:cNvPr id="2923" name=""/>
            <p:cNvSpPr/>
            <p:nvPr/>
          </p:nvSpPr>
          <p:spPr>
            <a:xfrm>
              <a:off x="379440" y="6232680"/>
              <a:ext cx="102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Costo LIM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 rot="18627600">
              <a:off x="3720600" y="616248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 rot="18627600">
              <a:off x="3968280" y="6191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 rot="18627600">
              <a:off x="4196880" y="6191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 rot="18627600">
              <a:off x="4471560" y="6191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 rot="18627600">
              <a:off x="4700160" y="6191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 rot="18627600">
              <a:off x="4965480" y="6191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5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 rot="18627600">
              <a:off x="5212800" y="6191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 rot="18627600">
              <a:off x="5441400" y="6191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 rot="18627600">
              <a:off x="5708160" y="6191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 rot="18627600">
              <a:off x="5963760" y="6191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 rot="18627600">
              <a:off x="6211440" y="6191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8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 rot="18627600">
              <a:off x="6459120" y="6191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9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 rot="18627600">
              <a:off x="6670440" y="6191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9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 rot="18627600">
              <a:off x="6981120" y="6176520"/>
              <a:ext cx="2556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 rot="18627600">
              <a:off x="7146360" y="6210360"/>
              <a:ext cx="26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0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 rot="18627600">
              <a:off x="7474680" y="6176520"/>
              <a:ext cx="2556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1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 rot="18627600">
              <a:off x="7646760" y="6189480"/>
              <a:ext cx="35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2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 rot="18627600">
              <a:off x="3498480" y="616248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2" name=""/>
          <p:cNvSpPr/>
          <p:nvPr/>
        </p:nvSpPr>
        <p:spPr>
          <a:xfrm>
            <a:off x="3981600" y="500688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>
            <a:off x="3257640" y="2362320"/>
            <a:ext cx="4486320" cy="2962080"/>
          </a:xfrm>
          <a:custGeom>
            <a:avLst/>
            <a:gdLst/>
            <a:ahLst/>
            <a:rect l="l" t="t" r="r" b="b"/>
            <a:pathLst>
              <a:path w="2826" h="1866">
                <a:moveTo>
                  <a:pt x="0" y="1866"/>
                </a:moveTo>
                <a:lnTo>
                  <a:pt x="150" y="1800"/>
                </a:lnTo>
                <a:lnTo>
                  <a:pt x="306" y="1752"/>
                </a:lnTo>
                <a:lnTo>
                  <a:pt x="474" y="1674"/>
                </a:lnTo>
                <a:lnTo>
                  <a:pt x="618" y="1602"/>
                </a:lnTo>
                <a:lnTo>
                  <a:pt x="942" y="1230"/>
                </a:lnTo>
                <a:lnTo>
                  <a:pt x="1080" y="1068"/>
                </a:lnTo>
                <a:lnTo>
                  <a:pt x="1260" y="912"/>
                </a:lnTo>
                <a:lnTo>
                  <a:pt x="2826" y="0"/>
                </a:lnTo>
              </a:path>
            </a:pathLst>
          </a:custGeom>
          <a:noFill/>
          <a:ln w="1908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4" name=""/>
          <p:cNvGrpSpPr/>
          <p:nvPr/>
        </p:nvGrpSpPr>
        <p:grpSpPr>
          <a:xfrm>
            <a:off x="1422360" y="4775040"/>
            <a:ext cx="1838160" cy="549360"/>
            <a:chOff x="1422360" y="4775040"/>
            <a:chExt cx="1838160" cy="549360"/>
          </a:xfrm>
        </p:grpSpPr>
        <p:sp>
          <p:nvSpPr>
            <p:cNvPr id="2945" name=""/>
            <p:cNvSpPr/>
            <p:nvPr/>
          </p:nvSpPr>
          <p:spPr>
            <a:xfrm flipH="1">
              <a:off x="3257280" y="4876560"/>
              <a:ext cx="3240" cy="447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1482840" y="4987800"/>
              <a:ext cx="17524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1422360" y="4775040"/>
              <a:ext cx="180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Demora  </a:t>
              </a:r>
              <a:r>
                <a:rPr b="0" lang="es-CL" sz="1200" spc="-1" strike="noStrike">
                  <a:solidFill>
                    <a:srgbClr val="ffff00"/>
                  </a:solidFill>
                  <a:latin typeface="Arial"/>
                </a:rPr>
                <a:t>Permitid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8" name=""/>
          <p:cNvSpPr/>
          <p:nvPr/>
        </p:nvSpPr>
        <p:spPr>
          <a:xfrm rot="20051400">
            <a:off x="3660840" y="2895120"/>
            <a:ext cx="609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ASA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 rot="19855200">
            <a:off x="3452760" y="3044520"/>
            <a:ext cx="118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Mas tempran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 rot="18952800">
            <a:off x="4145040" y="3965040"/>
            <a:ext cx="118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Mas tardí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 rot="18952800">
            <a:off x="4226040" y="3866760"/>
            <a:ext cx="609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ALA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>
            <a:off x="2727360" y="42624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2981160" y="4011480"/>
            <a:ext cx="4320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3225960" y="39132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>
            <a:off x="3479760" y="38149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>
            <a:off x="3724200" y="37735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>
            <a:off x="3987720" y="37130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>
            <a:off x="4238640" y="36640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9" name=""/>
          <p:cNvSpPr/>
          <p:nvPr/>
        </p:nvSpPr>
        <p:spPr>
          <a:xfrm>
            <a:off x="4479840" y="36241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>
            <a:off x="4734000" y="35449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1" name=""/>
          <p:cNvSpPr/>
          <p:nvPr/>
        </p:nvSpPr>
        <p:spPr>
          <a:xfrm>
            <a:off x="4978440" y="34750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2" name=""/>
          <p:cNvSpPr/>
          <p:nvPr/>
        </p:nvSpPr>
        <p:spPr>
          <a:xfrm>
            <a:off x="5232240" y="3462480"/>
            <a:ext cx="4320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3" name=""/>
          <p:cNvSpPr/>
          <p:nvPr/>
        </p:nvSpPr>
        <p:spPr>
          <a:xfrm rot="20837400">
            <a:off x="5476680" y="33541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4" name=""/>
          <p:cNvSpPr/>
          <p:nvPr/>
        </p:nvSpPr>
        <p:spPr>
          <a:xfrm rot="20837400">
            <a:off x="5740200" y="32554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5" name=""/>
          <p:cNvSpPr/>
          <p:nvPr/>
        </p:nvSpPr>
        <p:spPr>
          <a:xfrm>
            <a:off x="1476360" y="5038560"/>
            <a:ext cx="514440" cy="285840"/>
          </a:xfrm>
          <a:custGeom>
            <a:avLst/>
            <a:gdLst/>
            <a:ahLst/>
            <a:rect l="l" t="t" r="r" b="b"/>
            <a:pathLst>
              <a:path w="324" h="180">
                <a:moveTo>
                  <a:pt x="0" y="180"/>
                </a:moveTo>
                <a:lnTo>
                  <a:pt x="174" y="120"/>
                </a:lnTo>
                <a:lnTo>
                  <a:pt x="324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6" name=""/>
          <p:cNvSpPr/>
          <p:nvPr/>
        </p:nvSpPr>
        <p:spPr>
          <a:xfrm>
            <a:off x="1495440" y="3143160"/>
            <a:ext cx="4505400" cy="2181240"/>
          </a:xfrm>
          <a:custGeom>
            <a:avLst/>
            <a:gdLst/>
            <a:ahLst/>
            <a:rect l="l" t="t" r="r" b="b"/>
            <a:pathLst>
              <a:path w="2838" h="1374">
                <a:moveTo>
                  <a:pt x="0" y="1374"/>
                </a:moveTo>
                <a:lnTo>
                  <a:pt x="165" y="1317"/>
                </a:lnTo>
                <a:lnTo>
                  <a:pt x="321" y="1200"/>
                </a:lnTo>
                <a:lnTo>
                  <a:pt x="474" y="1002"/>
                </a:lnTo>
                <a:lnTo>
                  <a:pt x="633" y="819"/>
                </a:lnTo>
                <a:lnTo>
                  <a:pt x="789" y="717"/>
                </a:lnTo>
                <a:lnTo>
                  <a:pt x="948" y="564"/>
                </a:lnTo>
                <a:lnTo>
                  <a:pt x="1098" y="498"/>
                </a:lnTo>
                <a:lnTo>
                  <a:pt x="1263" y="441"/>
                </a:lnTo>
                <a:lnTo>
                  <a:pt x="1419" y="411"/>
                </a:lnTo>
                <a:lnTo>
                  <a:pt x="1578" y="372"/>
                </a:lnTo>
                <a:lnTo>
                  <a:pt x="1734" y="342"/>
                </a:lnTo>
                <a:lnTo>
                  <a:pt x="1896" y="315"/>
                </a:lnTo>
                <a:lnTo>
                  <a:pt x="2040" y="270"/>
                </a:lnTo>
                <a:lnTo>
                  <a:pt x="2202" y="222"/>
                </a:lnTo>
                <a:lnTo>
                  <a:pt x="2367" y="216"/>
                </a:lnTo>
                <a:lnTo>
                  <a:pt x="2520" y="150"/>
                </a:lnTo>
                <a:lnTo>
                  <a:pt x="2691" y="84"/>
                </a:lnTo>
                <a:cubicBezTo>
                  <a:pt x="2734" y="69"/>
                  <a:pt x="2736" y="62"/>
                  <a:pt x="2760" y="48"/>
                </a:cubicBezTo>
                <a:cubicBezTo>
                  <a:pt x="2784" y="34"/>
                  <a:pt x="2822" y="10"/>
                  <a:pt x="2838" y="0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7" name=""/>
          <p:cNvSpPr/>
          <p:nvPr/>
        </p:nvSpPr>
        <p:spPr>
          <a:xfrm>
            <a:off x="3981600" y="50976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8" name=""/>
          <p:cNvSpPr/>
          <p:nvPr/>
        </p:nvSpPr>
        <p:spPr>
          <a:xfrm>
            <a:off x="4235400" y="49514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9" name=""/>
          <p:cNvSpPr/>
          <p:nvPr/>
        </p:nvSpPr>
        <p:spPr>
          <a:xfrm>
            <a:off x="4479840" y="46530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0" name=""/>
          <p:cNvSpPr/>
          <p:nvPr/>
        </p:nvSpPr>
        <p:spPr>
          <a:xfrm>
            <a:off x="4724280" y="43736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>
            <a:off x="4978440" y="41324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>
            <a:off x="5232240" y="3881520"/>
            <a:ext cx="4320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>
            <a:off x="5477040" y="37735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>
            <a:off x="5740560" y="37130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>
            <a:off x="5975280" y="36529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>
            <a:off x="6219720" y="36306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>
            <a:off x="6473880" y="35416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>
            <a:off x="6727680" y="34624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>
            <a:off x="6972480" y="344016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>
            <a:off x="7216920" y="33512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>
            <a:off x="7470720" y="325296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7724880" y="31068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>
            <a:off x="5978520" y="310356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>
            <a:off x="3247920" y="3133800"/>
            <a:ext cx="4496040" cy="2190600"/>
          </a:xfrm>
          <a:custGeom>
            <a:avLst/>
            <a:gdLst/>
            <a:ahLst/>
            <a:rect l="l" t="t" r="r" b="b"/>
            <a:pathLst>
              <a:path w="2832" h="1380">
                <a:moveTo>
                  <a:pt x="0" y="1380"/>
                </a:moveTo>
                <a:lnTo>
                  <a:pt x="156" y="1320"/>
                </a:lnTo>
                <a:lnTo>
                  <a:pt x="312" y="1278"/>
                </a:lnTo>
                <a:lnTo>
                  <a:pt x="474" y="1248"/>
                </a:lnTo>
                <a:lnTo>
                  <a:pt x="636" y="1158"/>
                </a:lnTo>
                <a:lnTo>
                  <a:pt x="786" y="978"/>
                </a:lnTo>
                <a:lnTo>
                  <a:pt x="942" y="798"/>
                </a:lnTo>
                <a:lnTo>
                  <a:pt x="1098" y="642"/>
                </a:lnTo>
                <a:lnTo>
                  <a:pt x="1260" y="504"/>
                </a:lnTo>
                <a:lnTo>
                  <a:pt x="1422" y="420"/>
                </a:lnTo>
                <a:lnTo>
                  <a:pt x="1584" y="384"/>
                </a:lnTo>
                <a:lnTo>
                  <a:pt x="1734" y="342"/>
                </a:lnTo>
                <a:lnTo>
                  <a:pt x="1890" y="330"/>
                </a:lnTo>
                <a:lnTo>
                  <a:pt x="2046" y="270"/>
                </a:lnTo>
                <a:lnTo>
                  <a:pt x="2208" y="222"/>
                </a:lnTo>
                <a:lnTo>
                  <a:pt x="2364" y="210"/>
                </a:lnTo>
                <a:lnTo>
                  <a:pt x="2520" y="150"/>
                </a:lnTo>
                <a:lnTo>
                  <a:pt x="2670" y="96"/>
                </a:lnTo>
                <a:lnTo>
                  <a:pt x="2832" y="0"/>
                </a:ln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0" dur="indefinite" restart="never" nodeType="tmRoot">
          <p:childTnLst>
            <p:seq>
              <p:cTn id="2151" dur="indefinite" nodeType="mainSeq">
                <p:childTnLst>
                  <p:par>
                    <p:cTn id="2152" fill="hold">
                      <p:stCondLst>
                        <p:cond delay="indefinite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6" dur="2000"/>
                                        <p:tgtEl>
                                          <p:spTgt spid="2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1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6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9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1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21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8" fill="hold">
                            <p:stCondLst>
                              <p:cond delay="9000"/>
                            </p:stCondLst>
                            <p:childTnLst>
                              <p:par>
                                <p:cTn id="21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9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2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5" fill="hold">
                      <p:stCondLst>
                        <p:cond delay="indefinite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9" dur="2000"/>
                                        <p:tgtEl>
                                          <p:spTgt spid="2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4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5" dur="500"/>
                                        <p:tgtEl>
                                          <p:spTgt spid="28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26" dur="250" autoRev="1" fill="hold"/>
                                        <p:tgtEl>
                                          <p:spTgt spid="28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7" fill="hold">
                      <p:stCondLst>
                        <p:cond delay="indefinite"/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1" dur="1000"/>
                                        <p:tgtEl>
                                          <p:spTgt spid="2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5" fill="hold">
                      <p:stCondLst>
                        <p:cond delay="indefinite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9" dur="2000"/>
                                        <p:tgtEl>
                                          <p:spTgt spid="2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0" fill="hold">
                      <p:stCondLst>
                        <p:cond delay="indefinite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9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2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5" fill="hold">
                            <p:stCondLst>
                              <p:cond delay="7000"/>
                            </p:stCondLst>
                            <p:childTnLst>
                              <p:par>
                                <p:cTn id="22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8" fill="hold">
                            <p:stCondLst>
                              <p:cond delay="8000"/>
                            </p:stCondLst>
                            <p:childTnLst>
                              <p:par>
                                <p:cTn id="22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1" fill="hold">
                            <p:stCondLst>
                              <p:cond delay="9000"/>
                            </p:stCondLst>
                            <p:childTnLst>
                              <p:par>
                                <p:cTn id="22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9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5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8" fill="hold">
                      <p:stCondLst>
                        <p:cond delay="indefinite"/>
                      </p:stCondLst>
                      <p:childTnLst>
                        <p:par>
                          <p:cTn id="2299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2" dur="2000"/>
                                        <p:tgtEl>
                                          <p:spTgt spid="2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7" nodeType="afterEffect" fill="hold" presetClass="emph" presetID="26" repeatCount="3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8" dur="500"/>
                                        <p:tgtEl>
                                          <p:spTgt spid="28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09" dur="250" autoRev="1" fill="hold"/>
                                        <p:tgtEl>
                                          <p:spTgt spid="28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0" fill="hold">
                      <p:stCondLst>
                        <p:cond delay="indefinite"/>
                      </p:stCondLst>
                      <p:childTnLst>
                        <p:par>
                          <p:cTn id="2311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4" dur="500"/>
                                        <p:tgtEl>
                                          <p:spTgt spid="2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5" fill="hold">
                            <p:stCondLst>
                              <p:cond delay="500"/>
                            </p:stCondLst>
                            <p:childTnLst>
                              <p:par>
                                <p:cTn id="2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8" fill="hold">
                      <p:stCondLst>
                        <p:cond delay="indefinite"/>
                      </p:stCondLst>
                      <p:childTnLst>
                        <p:par>
                          <p:cTn id="2319" fill="hold">
                            <p:stCondLst>
                              <p:cond delay="0"/>
                            </p:stCondLst>
                            <p:childTnLst>
                              <p:par>
                                <p:cTn id="2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2" dur="2000"/>
                                        <p:tgtEl>
                                          <p:spTgt spid="2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3" fill="hold">
                      <p:stCondLst>
                        <p:cond delay="indefinite"/>
                      </p:stCondLst>
                      <p:childTnLst>
                        <p:par>
                          <p:cTn id="2324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7" dur="1000"/>
                                        <p:tgtEl>
                                          <p:spTgt spid="2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ACTIVIDADES DISCONTINUAS</a:t>
            </a:r>
            <a:br>
              <a:rPr sz="3200"/>
            </a:b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137320" y="1357200"/>
            <a:ext cx="4396320" cy="1715400"/>
            <a:chOff x="2137320" y="1357200"/>
            <a:chExt cx="4396320" cy="1715400"/>
          </a:xfrm>
        </p:grpSpPr>
        <p:sp>
          <p:nvSpPr>
            <p:cNvPr id="241" name=""/>
            <p:cNvSpPr/>
            <p:nvPr/>
          </p:nvSpPr>
          <p:spPr>
            <a:xfrm>
              <a:off x="4490280" y="2145960"/>
              <a:ext cx="5148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394600" y="2192400"/>
              <a:ext cx="49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90280" y="1726920"/>
              <a:ext cx="0" cy="32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34920" y="2180880"/>
              <a:ext cx="50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796560" y="1610280"/>
              <a:ext cx="3258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3796560" y="1610280"/>
              <a:ext cx="0" cy="57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335320" y="1726920"/>
              <a:ext cx="0" cy="36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021280" y="2052720"/>
              <a:ext cx="399240" cy="221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888520" y="2052720"/>
              <a:ext cx="399240" cy="221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117320" y="1488240"/>
              <a:ext cx="399240" cy="2210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218400" y="2058480"/>
              <a:ext cx="399240" cy="2210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335320" y="2046960"/>
              <a:ext cx="399240" cy="2210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32800" y="1487160"/>
              <a:ext cx="399240" cy="226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412000" y="1495080"/>
              <a:ext cx="309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279f"/>
                  </a:solidFill>
                  <a:latin typeface="Geneva"/>
                </a:rPr>
                <a:t>A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332800" y="2048760"/>
              <a:ext cx="399240" cy="226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32800" y="2658960"/>
              <a:ext cx="399240" cy="226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229920" y="1487160"/>
              <a:ext cx="387720" cy="226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294360" y="1506240"/>
              <a:ext cx="309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279f"/>
                  </a:solidFill>
                  <a:latin typeface="Geneva"/>
                </a:rPr>
                <a:t>A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229920" y="2060280"/>
              <a:ext cx="387720" cy="226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229920" y="2658960"/>
              <a:ext cx="387720" cy="226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27040" y="1487160"/>
              <a:ext cx="376560" cy="226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203000" y="1482120"/>
              <a:ext cx="309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279f"/>
                  </a:solidFill>
                  <a:latin typeface="Geneva"/>
                </a:rPr>
                <a:t>A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127040" y="2083680"/>
              <a:ext cx="376560" cy="226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127040" y="2658960"/>
              <a:ext cx="376560" cy="226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22360" y="2060280"/>
              <a:ext cx="388800" cy="226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886000" y="2054520"/>
              <a:ext cx="387720" cy="226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2306520" y="2302920"/>
              <a:ext cx="61920" cy="371520"/>
              <a:chOff x="2306520" y="2302920"/>
              <a:chExt cx="61920" cy="371520"/>
            </a:xfrm>
          </p:grpSpPr>
          <p:sp>
            <p:nvSpPr>
              <p:cNvPr id="268" name=""/>
              <p:cNvSpPr/>
              <p:nvPr/>
            </p:nvSpPr>
            <p:spPr>
              <a:xfrm>
                <a:off x="2306520" y="2578320"/>
                <a:ext cx="61920" cy="96120"/>
              </a:xfrm>
              <a:custGeom>
                <a:avLst/>
                <a:gdLst/>
                <a:ahLst/>
                <a:rect l="l" t="t" r="r" b="b"/>
                <a:pathLst>
                  <a:path w="71" h="99">
                    <a:moveTo>
                      <a:pt x="23" y="98"/>
                    </a:moveTo>
                    <a:lnTo>
                      <a:pt x="0" y="0"/>
                    </a:lnTo>
                    <a:lnTo>
                      <a:pt x="23" y="0"/>
                    </a:lnTo>
                    <a:lnTo>
                      <a:pt x="70" y="0"/>
                    </a:lnTo>
                    <a:lnTo>
                      <a:pt x="23" y="9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336040" y="2302920"/>
                <a:ext cx="0" cy="27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2413080" y="2068200"/>
              <a:ext cx="3078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9900"/>
                  </a:solidFill>
                  <a:latin typeface="Geneva"/>
                </a:rPr>
                <a:t>B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96520" y="2057400"/>
              <a:ext cx="30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C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294000" y="2664000"/>
              <a:ext cx="3078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9900"/>
                  </a:solidFill>
                  <a:latin typeface="Geneva"/>
                </a:rPr>
                <a:t>B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191840" y="2080080"/>
              <a:ext cx="30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C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00120" y="2664000"/>
              <a:ext cx="3078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9900"/>
                  </a:solidFill>
                  <a:latin typeface="Geneva"/>
                </a:rPr>
                <a:t>B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096880" y="2068200"/>
              <a:ext cx="30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C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2734920" y="1559880"/>
              <a:ext cx="507960" cy="44640"/>
              <a:chOff x="2734920" y="1559880"/>
              <a:chExt cx="507960" cy="44640"/>
            </a:xfrm>
          </p:grpSpPr>
          <p:sp>
            <p:nvSpPr>
              <p:cNvPr id="277" name=""/>
              <p:cNvSpPr/>
              <p:nvPr/>
            </p:nvSpPr>
            <p:spPr>
              <a:xfrm>
                <a:off x="3145680" y="1559880"/>
                <a:ext cx="97200" cy="44640"/>
              </a:xfrm>
              <a:custGeom>
                <a:avLst/>
                <a:gdLst/>
                <a:ahLst/>
                <a:rect l="l" t="t" r="r" b="b"/>
                <a:pathLst>
                  <a:path w="111" h="46">
                    <a:moveTo>
                      <a:pt x="110" y="11"/>
                    </a:moveTo>
                    <a:lnTo>
                      <a:pt x="0" y="45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0" y="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734920" y="1580040"/>
                <a:ext cx="4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3632040" y="1547280"/>
              <a:ext cx="507600" cy="44640"/>
              <a:chOff x="3632040" y="1547280"/>
              <a:chExt cx="507600" cy="44640"/>
            </a:xfrm>
          </p:grpSpPr>
          <p:sp>
            <p:nvSpPr>
              <p:cNvPr id="280" name=""/>
              <p:cNvSpPr/>
              <p:nvPr/>
            </p:nvSpPr>
            <p:spPr>
              <a:xfrm>
                <a:off x="4019040" y="1547280"/>
                <a:ext cx="120600" cy="44640"/>
              </a:xfrm>
              <a:custGeom>
                <a:avLst/>
                <a:gdLst/>
                <a:ahLst/>
                <a:rect l="l" t="t" r="r" b="b"/>
                <a:pathLst>
                  <a:path w="138" h="46">
                    <a:moveTo>
                      <a:pt x="137" y="22"/>
                    </a:moveTo>
                    <a:lnTo>
                      <a:pt x="0" y="45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137" y="2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632040" y="1580040"/>
                <a:ext cx="388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3632040" y="2145960"/>
              <a:ext cx="484920" cy="56880"/>
              <a:chOff x="3632040" y="2145960"/>
              <a:chExt cx="484920" cy="56880"/>
            </a:xfrm>
          </p:grpSpPr>
          <p:sp>
            <p:nvSpPr>
              <p:cNvPr id="283" name=""/>
              <p:cNvSpPr/>
              <p:nvPr/>
            </p:nvSpPr>
            <p:spPr>
              <a:xfrm>
                <a:off x="4007520" y="2145960"/>
                <a:ext cx="109440" cy="56880"/>
              </a:xfrm>
              <a:custGeom>
                <a:avLst/>
                <a:gdLst/>
                <a:ahLst/>
                <a:rect l="l" t="t" r="r" b="b"/>
                <a:pathLst>
                  <a:path w="125" h="59">
                    <a:moveTo>
                      <a:pt x="124" y="35"/>
                    </a:moveTo>
                    <a:lnTo>
                      <a:pt x="0" y="58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124" y="3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632040" y="2192040"/>
                <a:ext cx="37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2734920" y="2744280"/>
              <a:ext cx="484920" cy="56880"/>
              <a:chOff x="2734920" y="2744280"/>
              <a:chExt cx="484920" cy="56880"/>
            </a:xfrm>
          </p:grpSpPr>
          <p:sp>
            <p:nvSpPr>
              <p:cNvPr id="286" name=""/>
              <p:cNvSpPr/>
              <p:nvPr/>
            </p:nvSpPr>
            <p:spPr>
              <a:xfrm>
                <a:off x="3099240" y="2744280"/>
                <a:ext cx="120600" cy="56880"/>
              </a:xfrm>
              <a:custGeom>
                <a:avLst/>
                <a:gdLst/>
                <a:ahLst/>
                <a:rect l="l" t="t" r="r" b="b"/>
                <a:pathLst>
                  <a:path w="138" h="59">
                    <a:moveTo>
                      <a:pt x="137" y="11"/>
                    </a:moveTo>
                    <a:lnTo>
                      <a:pt x="0" y="58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37" y="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734920" y="2764440"/>
                <a:ext cx="365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3643200" y="2744280"/>
              <a:ext cx="473400" cy="69840"/>
              <a:chOff x="3643200" y="2744280"/>
              <a:chExt cx="473400" cy="69840"/>
            </a:xfrm>
          </p:grpSpPr>
          <p:sp>
            <p:nvSpPr>
              <p:cNvPr id="289" name=""/>
              <p:cNvSpPr/>
              <p:nvPr/>
            </p:nvSpPr>
            <p:spPr>
              <a:xfrm>
                <a:off x="4007160" y="2744280"/>
                <a:ext cx="109440" cy="69840"/>
              </a:xfrm>
              <a:custGeom>
                <a:avLst/>
                <a:gdLst/>
                <a:ahLst/>
                <a:rect l="l" t="t" r="r" b="b"/>
                <a:pathLst>
                  <a:path w="125" h="72">
                    <a:moveTo>
                      <a:pt x="124" y="36"/>
                    </a:moveTo>
                    <a:lnTo>
                      <a:pt x="0" y="71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124" y="3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643200" y="2790720"/>
                <a:ext cx="365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2933640" y="1576440"/>
              <a:ext cx="0" cy="55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2918880" y="2108160"/>
              <a:ext cx="312120" cy="55800"/>
              <a:chOff x="2918880" y="2108160"/>
              <a:chExt cx="312120" cy="55800"/>
            </a:xfrm>
          </p:grpSpPr>
          <p:sp>
            <p:nvSpPr>
              <p:cNvPr id="293" name=""/>
              <p:cNvSpPr/>
              <p:nvPr/>
            </p:nvSpPr>
            <p:spPr>
              <a:xfrm>
                <a:off x="3110400" y="2108160"/>
                <a:ext cx="120600" cy="55800"/>
              </a:xfrm>
              <a:custGeom>
                <a:avLst/>
                <a:gdLst/>
                <a:ahLst/>
                <a:rect l="l" t="t" r="r" b="b"/>
                <a:pathLst>
                  <a:path w="138" h="58">
                    <a:moveTo>
                      <a:pt x="137" y="11"/>
                    </a:moveTo>
                    <a:lnTo>
                      <a:pt x="0" y="5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37" y="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918880" y="2128320"/>
                <a:ext cx="192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2918880" y="2222640"/>
              <a:ext cx="312120" cy="56880"/>
              <a:chOff x="2918880" y="2222640"/>
              <a:chExt cx="312120" cy="56880"/>
            </a:xfrm>
          </p:grpSpPr>
          <p:sp>
            <p:nvSpPr>
              <p:cNvPr id="296" name=""/>
              <p:cNvSpPr/>
              <p:nvPr/>
            </p:nvSpPr>
            <p:spPr>
              <a:xfrm>
                <a:off x="3110400" y="2222640"/>
                <a:ext cx="120600" cy="56880"/>
              </a:xfrm>
              <a:custGeom>
                <a:avLst/>
                <a:gdLst/>
                <a:ahLst/>
                <a:rect l="l" t="t" r="r" b="b"/>
                <a:pathLst>
                  <a:path w="138" h="59">
                    <a:moveTo>
                      <a:pt x="137" y="34"/>
                    </a:moveTo>
                    <a:lnTo>
                      <a:pt x="0" y="58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137" y="3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918880" y="2268000"/>
                <a:ext cx="192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 flipV="1">
              <a:off x="2922480" y="2243520"/>
              <a:ext cx="0" cy="52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797640" y="1602720"/>
              <a:ext cx="0" cy="58212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75680" y="1614240"/>
              <a:ext cx="364320" cy="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233160" y="2290680"/>
              <a:ext cx="0" cy="21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229920" y="2523240"/>
              <a:ext cx="39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3594240" y="2519280"/>
              <a:ext cx="50760" cy="141120"/>
              <a:chOff x="3594240" y="2519280"/>
              <a:chExt cx="50760" cy="141120"/>
            </a:xfrm>
          </p:grpSpPr>
          <p:sp>
            <p:nvSpPr>
              <p:cNvPr id="304" name=""/>
              <p:cNvSpPr/>
              <p:nvPr/>
            </p:nvSpPr>
            <p:spPr>
              <a:xfrm>
                <a:off x="3594240" y="2565720"/>
                <a:ext cx="50760" cy="94680"/>
              </a:xfrm>
              <a:custGeom>
                <a:avLst/>
                <a:gdLst/>
                <a:ahLst/>
                <a:rect l="l" t="t" r="r" b="b"/>
                <a:pathLst>
                  <a:path w="58" h="98">
                    <a:moveTo>
                      <a:pt x="23" y="97"/>
                    </a:moveTo>
                    <a:lnTo>
                      <a:pt x="0" y="0"/>
                    </a:lnTo>
                    <a:lnTo>
                      <a:pt x="23" y="0"/>
                    </a:lnTo>
                    <a:lnTo>
                      <a:pt x="57" y="0"/>
                    </a:lnTo>
                    <a:lnTo>
                      <a:pt x="23" y="9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623760" y="2519280"/>
                <a:ext cx="0" cy="4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4088160" y="2290680"/>
              <a:ext cx="63000" cy="370440"/>
              <a:chOff x="4088160" y="2290680"/>
              <a:chExt cx="63000" cy="370440"/>
            </a:xfrm>
          </p:grpSpPr>
          <p:sp>
            <p:nvSpPr>
              <p:cNvPr id="307" name=""/>
              <p:cNvSpPr/>
              <p:nvPr/>
            </p:nvSpPr>
            <p:spPr>
              <a:xfrm>
                <a:off x="4088160" y="2566080"/>
                <a:ext cx="63000" cy="95040"/>
              </a:xfrm>
              <a:custGeom>
                <a:avLst/>
                <a:gdLst/>
                <a:ahLst/>
                <a:rect l="l" t="t" r="r" b="b"/>
                <a:pathLst>
                  <a:path w="72" h="98">
                    <a:moveTo>
                      <a:pt x="36" y="97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71" y="0"/>
                    </a:lnTo>
                    <a:lnTo>
                      <a:pt x="36" y="9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129920" y="2290680"/>
                <a:ext cx="0" cy="27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4498560" y="2205000"/>
              <a:ext cx="207360" cy="560520"/>
            </a:xfrm>
            <a:custGeom>
              <a:avLst/>
              <a:gdLst/>
              <a:ahLst/>
              <a:rect l="l" t="t" r="r" b="b"/>
              <a:pathLst>
                <a:path w="237" h="578">
                  <a:moveTo>
                    <a:pt x="0" y="577"/>
                  </a:moveTo>
                  <a:lnTo>
                    <a:pt x="236" y="577"/>
                  </a:lnTo>
                  <a:lnTo>
                    <a:pt x="23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4701600" y="2184840"/>
              <a:ext cx="323640" cy="56160"/>
              <a:chOff x="4701600" y="2184840"/>
              <a:chExt cx="323640" cy="56160"/>
            </a:xfrm>
          </p:grpSpPr>
          <p:sp>
            <p:nvSpPr>
              <p:cNvPr id="311" name=""/>
              <p:cNvSpPr/>
              <p:nvPr/>
            </p:nvSpPr>
            <p:spPr>
              <a:xfrm>
                <a:off x="4915800" y="2184840"/>
                <a:ext cx="109440" cy="56160"/>
              </a:xfrm>
              <a:custGeom>
                <a:avLst/>
                <a:gdLst/>
                <a:ahLst/>
                <a:rect l="l" t="t" r="r" b="b"/>
                <a:pathLst>
                  <a:path w="125" h="58">
                    <a:moveTo>
                      <a:pt x="124" y="11"/>
                    </a:moveTo>
                    <a:lnTo>
                      <a:pt x="0" y="5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24" y="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701600" y="2205000"/>
                <a:ext cx="215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5967000" y="2057400"/>
              <a:ext cx="30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C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44400" y="16761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444400" y="22748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440800" y="28620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326760" y="28620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326760" y="22748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326760" y="16869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234680" y="16761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244760" y="22748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245840" y="28598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128560" y="22748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003360" y="22748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733200" y="26424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4467960" y="1778040"/>
              <a:ext cx="239400" cy="210600"/>
              <a:chOff x="4467960" y="1778040"/>
              <a:chExt cx="239400" cy="210600"/>
            </a:xfrm>
          </p:grpSpPr>
          <p:sp>
            <p:nvSpPr>
              <p:cNvPr id="327" name=""/>
              <p:cNvSpPr/>
              <p:nvPr/>
            </p:nvSpPr>
            <p:spPr>
              <a:xfrm>
                <a:off x="4467960" y="1778040"/>
                <a:ext cx="23940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800" spc="-1" strike="noStrike">
                    <a:solidFill>
                      <a:srgbClr val="000000"/>
                    </a:solidFill>
                    <a:latin typeface="Geneva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505400" y="1806120"/>
                <a:ext cx="111960" cy="1112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3781800" y="2658960"/>
              <a:ext cx="100440" cy="12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86640" y="13572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710440" y="13572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149920" y="19555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688480" y="19555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158200" y="25416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675520" y="25416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81960" y="13572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93520" y="13572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52080" y="19555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580560" y="19555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039120" y="25416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569400" y="25416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969360" y="13572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465080" y="135720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958560" y="19555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484880" y="1955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933000" y="25416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48520" y="254160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815360" y="1955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355000" y="1955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710680" y="1955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227640" y="1955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236280" y="2274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2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708160" y="2274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2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361840" y="2274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2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820400" y="2274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474440" y="2274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461480" y="28346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483440" y="16513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2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964680" y="16513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18240" y="2274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906000" y="28346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570480" y="2274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556440" y="28346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993040" y="28346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567600" y="16513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071160" y="16513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024720" y="2274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655000" y="28346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137320" y="28346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665800" y="2252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174760" y="22525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688120" y="16513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169000" y="1651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11280" y="2639520"/>
              <a:ext cx="3078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9900"/>
                  </a:solidFill>
                  <a:latin typeface="Geneva"/>
                </a:rPr>
                <a:t>B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27400" y="1475280"/>
              <a:ext cx="0" cy="23976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4498560" y="2076840"/>
              <a:ext cx="0" cy="24264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3603600" y="2188800"/>
              <a:ext cx="201960" cy="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330280" y="1724760"/>
              <a:ext cx="0" cy="313200"/>
            </a:xfrm>
            <a:prstGeom prst="line">
              <a:avLst/>
            </a:prstGeom>
            <a:ln w="38160">
              <a:solidFill>
                <a:srgbClr val="cf0e3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17640" y="2154600"/>
              <a:ext cx="503280" cy="0"/>
            </a:xfrm>
            <a:prstGeom prst="line">
              <a:avLst/>
            </a:prstGeom>
            <a:ln w="28440">
              <a:solidFill>
                <a:srgbClr val="cf0e3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87760" y="1719000"/>
              <a:ext cx="10440" cy="359640"/>
            </a:xfrm>
            <a:prstGeom prst="line">
              <a:avLst/>
            </a:prstGeom>
            <a:ln w="38160">
              <a:solidFill>
                <a:srgbClr val="cf0e3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2314080" y="1778040"/>
              <a:ext cx="239400" cy="210600"/>
              <a:chOff x="2314080" y="1778040"/>
              <a:chExt cx="239400" cy="210600"/>
            </a:xfrm>
          </p:grpSpPr>
          <p:sp>
            <p:nvSpPr>
              <p:cNvPr id="382" name=""/>
              <p:cNvSpPr/>
              <p:nvPr/>
            </p:nvSpPr>
            <p:spPr>
              <a:xfrm>
                <a:off x="2314080" y="1778040"/>
                <a:ext cx="23940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800" spc="-1" strike="noStrike">
                    <a:solidFill>
                      <a:srgbClr val="000000"/>
                    </a:solidFill>
                    <a:latin typeface="Geneva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350080" y="1806120"/>
                <a:ext cx="111960" cy="1112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>
              <a:off x="5418360" y="2199240"/>
              <a:ext cx="464040" cy="0"/>
            </a:xfrm>
            <a:prstGeom prst="line">
              <a:avLst/>
            </a:prstGeom>
            <a:ln w="38160">
              <a:solidFill>
                <a:srgbClr val="cf0e3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40320" y="2180880"/>
              <a:ext cx="504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331000" y="2038320"/>
              <a:ext cx="0" cy="2394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728800" y="2042280"/>
              <a:ext cx="0" cy="2394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31360" y="2057400"/>
              <a:ext cx="0" cy="2394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629160" y="2049840"/>
              <a:ext cx="0" cy="2394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27040" y="1471680"/>
              <a:ext cx="0" cy="2394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493160" y="1475280"/>
              <a:ext cx="0" cy="23976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022360" y="2049840"/>
              <a:ext cx="0" cy="2394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404320" y="2053800"/>
              <a:ext cx="0" cy="2394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886000" y="2051640"/>
              <a:ext cx="0" cy="2394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273360" y="2049840"/>
              <a:ext cx="0" cy="2394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925720" y="1570680"/>
              <a:ext cx="32400" cy="27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903040" y="2741400"/>
              <a:ext cx="32040" cy="28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778920" y="2166120"/>
              <a:ext cx="32400" cy="28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2211480" y="3402000"/>
            <a:ext cx="4243680" cy="2717280"/>
            <a:chOff x="2211480" y="3402000"/>
            <a:chExt cx="4243680" cy="2717280"/>
          </a:xfrm>
        </p:grpSpPr>
        <p:sp>
          <p:nvSpPr>
            <p:cNvPr id="400" name=""/>
            <p:cNvSpPr/>
            <p:nvPr/>
          </p:nvSpPr>
          <p:spPr>
            <a:xfrm>
              <a:off x="2225520" y="3606120"/>
              <a:ext cx="4159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225520" y="3402000"/>
              <a:ext cx="378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593800" y="3768840"/>
              <a:ext cx="341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225520" y="3402000"/>
              <a:ext cx="0" cy="266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225520" y="3940560"/>
              <a:ext cx="4159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221560" y="4176360"/>
              <a:ext cx="416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21560" y="4367160"/>
              <a:ext cx="416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221560" y="4738320"/>
              <a:ext cx="416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211480" y="4558680"/>
              <a:ext cx="416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221560" y="4918320"/>
              <a:ext cx="416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221560" y="5109120"/>
              <a:ext cx="416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221560" y="5289480"/>
              <a:ext cx="416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221560" y="5492880"/>
              <a:ext cx="416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970720" y="3402000"/>
              <a:ext cx="0" cy="266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065480" y="3402000"/>
              <a:ext cx="0" cy="266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16320" y="3402000"/>
              <a:ext cx="0" cy="266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003360" y="3402000"/>
              <a:ext cx="0" cy="266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605320" y="3624840"/>
              <a:ext cx="0" cy="244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535200" y="3624840"/>
              <a:ext cx="0" cy="243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587120" y="3613680"/>
              <a:ext cx="0" cy="245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629960" y="3658680"/>
              <a:ext cx="20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561280" y="3613680"/>
              <a:ext cx="0" cy="245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72320" y="3420720"/>
              <a:ext cx="7131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ACTIVIDA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988000" y="3420720"/>
              <a:ext cx="1092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FECHAS PREVISTA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122360" y="3420720"/>
              <a:ext cx="9648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FECHAS LIMIT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105520" y="3420720"/>
              <a:ext cx="9435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FLOTAMIENTO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237040" y="3682800"/>
              <a:ext cx="399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CO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88400" y="3611520"/>
              <a:ext cx="39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DU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16440" y="3611520"/>
              <a:ext cx="507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INICI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485160" y="3611520"/>
              <a:ext cx="6433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TERMIN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087800" y="3624120"/>
              <a:ext cx="507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INICI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558680" y="3624120"/>
              <a:ext cx="6433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TERMIN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096160" y="3611520"/>
              <a:ext cx="507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INICI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571000" y="3611520"/>
              <a:ext cx="4788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TERM.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386040" y="3593520"/>
              <a:ext cx="0" cy="243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624400" y="3779280"/>
              <a:ext cx="338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O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09680" y="3792960"/>
              <a:ext cx="295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55440" y="3792960"/>
              <a:ext cx="295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EF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212720" y="3792960"/>
              <a:ext cx="295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L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712400" y="3802320"/>
              <a:ext cx="295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LF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214600" y="3792960"/>
              <a:ext cx="2682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Fi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658120" y="3792960"/>
              <a:ext cx="2818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Ft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970600" y="3611520"/>
              <a:ext cx="410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Criti-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016320" y="3765600"/>
              <a:ext cx="4388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cida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300760" y="3982320"/>
              <a:ext cx="30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279f"/>
                  </a:solidFill>
                  <a:latin typeface="Geneva"/>
                </a:rPr>
                <a:t>A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300760" y="4198320"/>
              <a:ext cx="30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279f"/>
                  </a:solidFill>
                  <a:latin typeface="Geneva"/>
                </a:rPr>
                <a:t>A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300760" y="4377600"/>
              <a:ext cx="30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279f"/>
                  </a:solidFill>
                  <a:latin typeface="Geneva"/>
                </a:rPr>
                <a:t>A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300040" y="4570560"/>
              <a:ext cx="306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9900"/>
                  </a:solidFill>
                  <a:latin typeface="Geneva"/>
                </a:rPr>
                <a:t>B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300040" y="4761360"/>
              <a:ext cx="306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9900"/>
                  </a:solidFill>
                  <a:latin typeface="Geneva"/>
                </a:rPr>
                <a:t>B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300040" y="4940640"/>
              <a:ext cx="306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9900"/>
                  </a:solidFill>
                  <a:latin typeface="Geneva"/>
                </a:rPr>
                <a:t>B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300040" y="5119560"/>
              <a:ext cx="306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9900"/>
                  </a:solidFill>
                  <a:latin typeface="Geneva"/>
                </a:rPr>
                <a:t>B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303640" y="5322960"/>
              <a:ext cx="3034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c0128"/>
                  </a:solidFill>
                  <a:latin typeface="Geneva"/>
                </a:rPr>
                <a:t>C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303640" y="5502240"/>
              <a:ext cx="3034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c0128"/>
                  </a:solidFill>
                  <a:latin typeface="Geneva"/>
                </a:rPr>
                <a:t>C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03640" y="5716080"/>
              <a:ext cx="3034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c0128"/>
                  </a:solidFill>
                  <a:latin typeface="Geneva"/>
                </a:rPr>
                <a:t>C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03640" y="5897520"/>
              <a:ext cx="3034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c0128"/>
                  </a:solidFill>
                  <a:latin typeface="Geneva"/>
                </a:rPr>
                <a:t>C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233440" y="5683320"/>
              <a:ext cx="416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233440" y="5887080"/>
              <a:ext cx="416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237040" y="6071400"/>
              <a:ext cx="4159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704320" y="3982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704320" y="4198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704320" y="43776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704320" y="45705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704320" y="4760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704320" y="49406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704320" y="51195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704320" y="53103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704320" y="55022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704320" y="57160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704320" y="58975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142440" y="3982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690360" y="3982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260600" y="3982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686840" y="39823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223960" y="39949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682600" y="3982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142440" y="4198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690360" y="4198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192920" y="41983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686840" y="41983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223960" y="4198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682600" y="4198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42440" y="43776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633840" y="437760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192920" y="437760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686840" y="437760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23960" y="43891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682600" y="43891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42440" y="45705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690360" y="45705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60600" y="45705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686840" y="45705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223960" y="45810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682600" y="45810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142440" y="4760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690360" y="4760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192920" y="47602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686840" y="47602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223960" y="4760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682600" y="4760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142440" y="49406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690360" y="49406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192920" y="49406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686840" y="49406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201640" y="49406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672520" y="49406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142440" y="51195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633840" y="51195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192920" y="51195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686840" y="51195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201640" y="51195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672520" y="51195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142440" y="53103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690360" y="53103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192920" y="53103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686840" y="53103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223960" y="53229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82600" y="53229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142440" y="55022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192920" y="55022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633840" y="55022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686840" y="55022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201640" y="55022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682600" y="55126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0000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088440" y="57160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192920" y="57160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633840" y="57160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686840" y="57160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223960" y="57286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682600" y="57286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088440" y="5897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633840" y="5897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92920" y="5897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686840" y="5897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23960" y="59086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682600" y="59086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37920" y="398232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/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037920" y="419832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/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037920" y="436500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037920" y="456840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037920" y="476136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/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981040" y="4938480"/>
              <a:ext cx="3931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/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981040" y="5131080"/>
              <a:ext cx="3931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/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37920" y="531036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37920" y="550224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037920" y="571680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039720" y="589752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CRONOGRAMA</a:t>
            </a:r>
            <a:br>
              <a:rPr sz="2800"/>
            </a:b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(Actividades de desarrollo discontinuo)</a:t>
            </a:r>
            <a:br>
              <a:rPr sz="2000"/>
            </a:b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1106640" y="2011320"/>
            <a:ext cx="6933960" cy="4099320"/>
            <a:chOff x="1106640" y="2011320"/>
            <a:chExt cx="6933960" cy="4099320"/>
          </a:xfrm>
        </p:grpSpPr>
        <p:sp>
          <p:nvSpPr>
            <p:cNvPr id="548" name=""/>
            <p:cNvSpPr/>
            <p:nvPr/>
          </p:nvSpPr>
          <p:spPr>
            <a:xfrm>
              <a:off x="1130400" y="2320920"/>
              <a:ext cx="6886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130400" y="2011320"/>
              <a:ext cx="6270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739880" y="2567160"/>
              <a:ext cx="564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130400" y="2011320"/>
              <a:ext cx="0" cy="404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130400" y="2827440"/>
              <a:ext cx="6886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123920" y="3184560"/>
              <a:ext cx="689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123920" y="3473280"/>
              <a:ext cx="689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123920" y="4035600"/>
              <a:ext cx="689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106640" y="3763800"/>
              <a:ext cx="689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123920" y="4308480"/>
              <a:ext cx="689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123920" y="4597560"/>
              <a:ext cx="689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123920" y="4870440"/>
              <a:ext cx="689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123920" y="5178600"/>
              <a:ext cx="689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363760" y="2011320"/>
              <a:ext cx="0" cy="404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176720" y="2011320"/>
              <a:ext cx="0" cy="404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916600" y="2011320"/>
              <a:ext cx="0" cy="404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385040" y="2011320"/>
              <a:ext cx="0" cy="404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758960" y="2349360"/>
              <a:ext cx="0" cy="370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298680" y="2349360"/>
              <a:ext cx="0" cy="369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040360" y="2332080"/>
              <a:ext cx="0" cy="372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151240" y="2400480"/>
              <a:ext cx="2271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653160" y="2332080"/>
              <a:ext cx="0" cy="372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08880" y="2038320"/>
              <a:ext cx="11095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ACTIVIDA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395800" y="2038320"/>
              <a:ext cx="177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FECHAS PREVIST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273200" y="2038320"/>
              <a:ext cx="1548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FECHAS LIMIT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900400" y="2038320"/>
              <a:ext cx="1512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FLOTAMIENT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151280" y="2436840"/>
              <a:ext cx="5623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C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730520" y="2328840"/>
              <a:ext cx="5533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DU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435760" y="2328840"/>
              <a:ext cx="7513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INIC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217680" y="2328840"/>
              <a:ext cx="9874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TERMIN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212360" y="2346480"/>
              <a:ext cx="7513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INIC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993920" y="2346480"/>
              <a:ext cx="9874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TERMIN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880600" y="2328840"/>
              <a:ext cx="7513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INIC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671880" y="2328840"/>
              <a:ext cx="6994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TERM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018640" y="2301840"/>
              <a:ext cx="0" cy="369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793160" y="2583000"/>
              <a:ext cx="4557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Geneva"/>
                </a:rPr>
                <a:t>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596320" y="260028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Geneva"/>
                </a:rPr>
                <a:t>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497040" y="260028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Geneva"/>
                </a:rPr>
                <a:t>E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421160" y="260028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Geneva"/>
                </a:rPr>
                <a:t>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250600" y="261792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Geneva"/>
                </a:rPr>
                <a:t>L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077520" y="2600280"/>
              <a:ext cx="3337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Geneva"/>
                </a:rPr>
                <a:t>F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813720" y="2600280"/>
              <a:ext cx="3567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Geneva"/>
                </a:rPr>
                <a:t>F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331400" y="2328840"/>
              <a:ext cx="5806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Criti-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403040" y="2563920"/>
              <a:ext cx="6325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cida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252800" y="2890800"/>
              <a:ext cx="397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279f"/>
                  </a:solidFill>
                  <a:latin typeface="Geneva"/>
                </a:rPr>
                <a:t>A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252800" y="3216240"/>
              <a:ext cx="397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279f"/>
                  </a:solidFill>
                  <a:latin typeface="Geneva"/>
                </a:rPr>
                <a:t>A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252800" y="3489480"/>
              <a:ext cx="397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279f"/>
                  </a:solidFill>
                  <a:latin typeface="Geneva"/>
                </a:rPr>
                <a:t>A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252080" y="3778200"/>
              <a:ext cx="399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9900"/>
                  </a:solidFill>
                  <a:latin typeface="Geneva"/>
                </a:rPr>
                <a:t>B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252080" y="4068720"/>
              <a:ext cx="399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9900"/>
                  </a:solidFill>
                  <a:latin typeface="Geneva"/>
                </a:rPr>
                <a:t>B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252080" y="4340160"/>
              <a:ext cx="399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9900"/>
                  </a:solidFill>
                  <a:latin typeface="Geneva"/>
                </a:rPr>
                <a:t>B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252080" y="4611600"/>
              <a:ext cx="399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9900"/>
                  </a:solidFill>
                  <a:latin typeface="Geneva"/>
                </a:rPr>
                <a:t>B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258200" y="4921200"/>
              <a:ext cx="396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c0128"/>
                  </a:solidFill>
                  <a:latin typeface="Geneva"/>
                </a:rPr>
                <a:t>C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258200" y="5192640"/>
              <a:ext cx="396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c0128"/>
                  </a:solidFill>
                  <a:latin typeface="Geneva"/>
                </a:rPr>
                <a:t>C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258200" y="5518080"/>
              <a:ext cx="396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c0128"/>
                  </a:solidFill>
                  <a:latin typeface="Geneva"/>
                </a:rPr>
                <a:t>C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258200" y="5791320"/>
              <a:ext cx="396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c0128"/>
                  </a:solidFill>
                  <a:latin typeface="Geneva"/>
                </a:rPr>
                <a:t>C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143000" y="5467320"/>
              <a:ext cx="689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143000" y="5775480"/>
              <a:ext cx="689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149480" y="6054840"/>
              <a:ext cx="6886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939320" y="28908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939320" y="321624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939320" y="348948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939320" y="37782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939320" y="406872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939320" y="434016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939320" y="46116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939320" y="490212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939320" y="519264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939320" y="551808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939320" y="579132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664720" y="28908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571200" y="28908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514400" y="28908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201640" y="289080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109920" y="290844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870240" y="28908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664720" y="321624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571200" y="321624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385520" y="321624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201640" y="321624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109920" y="321624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70240" y="321624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664720" y="348948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461760" y="348948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385520" y="348948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201640" y="348948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2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09920" y="350676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870240" y="350676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664720" y="37782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571200" y="37782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514400" y="37782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201640" y="377820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109920" y="379728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870240" y="379728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664720" y="406872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571200" y="406872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385520" y="406872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201640" y="406872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109920" y="406872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870240" y="406872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664720" y="434016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571200" y="434016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385520" y="434016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01640" y="434016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057360" y="434016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836760" y="434016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664720" y="46116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461760" y="461160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385520" y="461160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201640" y="461160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057360" y="461160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836760" y="461160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664720" y="490212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571200" y="490212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385520" y="490212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201640" y="490212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109920" y="49212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870240" y="49212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664720" y="519264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385520" y="519264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461760" y="519264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201640" y="519264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057360" y="519264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870240" y="521028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Genev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555280" y="551808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385520" y="551808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461760" y="551808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201640" y="551808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109920" y="553716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870240" y="553716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555280" y="579132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461760" y="579132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385520" y="579132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201640" y="579132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2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109920" y="58086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870240" y="58086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440480" y="2890800"/>
              <a:ext cx="4528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9/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440480" y="3216240"/>
              <a:ext cx="4528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9/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440480" y="3470400"/>
              <a:ext cx="4528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7/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440480" y="3778200"/>
              <a:ext cx="4528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7/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440480" y="4068720"/>
              <a:ext cx="4528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9/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343640" y="4340160"/>
              <a:ext cx="5547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0/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343640" y="4630680"/>
              <a:ext cx="5547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0/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440480" y="4902120"/>
              <a:ext cx="4528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7/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440480" y="5192640"/>
              <a:ext cx="4528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7/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440480" y="5518080"/>
              <a:ext cx="4528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7/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440480" y="5791320"/>
              <a:ext cx="4528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7/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0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DIAGRAMA DE BARRA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19008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DIAGRAMA DE BARRAS</a:t>
            </a:r>
            <a:br>
              <a:rPr sz="3200"/>
            </a:b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Previst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397320" y="3765600"/>
            <a:ext cx="479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397320" y="3973680"/>
            <a:ext cx="479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422520" y="4200480"/>
            <a:ext cx="47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422520" y="4410000"/>
            <a:ext cx="47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422520" y="4632480"/>
            <a:ext cx="47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422520" y="4840200"/>
            <a:ext cx="47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422520" y="5051520"/>
            <a:ext cx="47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422520" y="5259240"/>
            <a:ext cx="47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422520" y="5481720"/>
            <a:ext cx="47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422520" y="5703840"/>
            <a:ext cx="47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422520" y="5913360"/>
            <a:ext cx="47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422520" y="6121440"/>
            <a:ext cx="47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397320" y="6326280"/>
            <a:ext cx="479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3422520" y="3745080"/>
            <a:ext cx="0" cy="257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3819600" y="3757680"/>
            <a:ext cx="0" cy="252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4022640" y="3744720"/>
            <a:ext cx="0" cy="258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418608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450540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466560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82436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498312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515628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531504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47380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563400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579276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595296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611172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627228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643104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659124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675000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690876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706896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722952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738828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755964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771840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787860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803916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462840" y="3789360"/>
            <a:ext cx="367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AC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816720" y="3789360"/>
            <a:ext cx="275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t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528000" y="4024440"/>
            <a:ext cx="30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279f"/>
                </a:solidFill>
                <a:latin typeface="Geneva"/>
              </a:rPr>
              <a:t>A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528000" y="4245120"/>
            <a:ext cx="30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279f"/>
                </a:solidFill>
                <a:latin typeface="Geneva"/>
              </a:rPr>
              <a:t>A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528000" y="4441680"/>
            <a:ext cx="30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279f"/>
                </a:solidFill>
                <a:latin typeface="Geneva"/>
              </a:rPr>
              <a:t>A3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527280" y="4664160"/>
            <a:ext cx="306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9900"/>
                </a:solidFill>
                <a:latin typeface="Geneva"/>
              </a:rPr>
              <a:t>B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527280" y="4871880"/>
            <a:ext cx="306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9900"/>
                </a:solidFill>
                <a:latin typeface="Geneva"/>
              </a:rPr>
              <a:t>B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527280" y="5081760"/>
            <a:ext cx="306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9900"/>
                </a:solidFill>
                <a:latin typeface="Geneva"/>
              </a:rPr>
              <a:t>B3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527280" y="5303880"/>
            <a:ext cx="306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9900"/>
                </a:solidFill>
                <a:latin typeface="Geneva"/>
              </a:rPr>
              <a:t>B4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531240" y="5511960"/>
            <a:ext cx="303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c0128"/>
                </a:solidFill>
                <a:latin typeface="Geneva"/>
              </a:rPr>
              <a:t>C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531240" y="5735520"/>
            <a:ext cx="303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c0128"/>
                </a:solidFill>
                <a:latin typeface="Geneva"/>
              </a:rPr>
              <a:t>C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531240" y="5943600"/>
            <a:ext cx="303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c0128"/>
                </a:solidFill>
                <a:latin typeface="Geneva"/>
              </a:rPr>
              <a:t>C3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531240" y="6153120"/>
            <a:ext cx="303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c0128"/>
                </a:solidFill>
                <a:latin typeface="Geneva"/>
              </a:rPr>
              <a:t>C4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837960" y="4024440"/>
            <a:ext cx="239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434664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837960" y="4664160"/>
            <a:ext cx="239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837960" y="4886280"/>
            <a:ext cx="239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837960" y="4232160"/>
            <a:ext cx="239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837960" y="5511960"/>
            <a:ext cx="239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837960" y="5094360"/>
            <a:ext cx="239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837960" y="4454640"/>
            <a:ext cx="239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837960" y="5735520"/>
            <a:ext cx="239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837960" y="5303880"/>
            <a:ext cx="239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837960" y="5958000"/>
            <a:ext cx="239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837960" y="6165720"/>
            <a:ext cx="239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8205840" y="3730680"/>
            <a:ext cx="0" cy="257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024440" y="4070520"/>
            <a:ext cx="326880" cy="60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341960" y="4300560"/>
            <a:ext cx="650880" cy="49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311800" y="4510080"/>
            <a:ext cx="976320" cy="61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183200" y="4732200"/>
            <a:ext cx="804600" cy="47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183200" y="4927680"/>
            <a:ext cx="474480" cy="5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827600" y="5137200"/>
            <a:ext cx="155520" cy="493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311800" y="5359320"/>
            <a:ext cx="633240" cy="493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979880" y="5568840"/>
            <a:ext cx="327240" cy="478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950080" y="5791320"/>
            <a:ext cx="461880" cy="475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442200" y="5999040"/>
            <a:ext cx="315720" cy="493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767640" y="6183360"/>
            <a:ext cx="144360" cy="601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072680" y="3781440"/>
            <a:ext cx="4148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1   2    3   4   5    6    7   8    9   10  11 12  13  14 15 16  17 18  19  20  21 22  23  24  25 26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763560" y="906480"/>
            <a:ext cx="4244040" cy="2717280"/>
            <a:chOff x="763560" y="906480"/>
            <a:chExt cx="4244040" cy="2717280"/>
          </a:xfrm>
        </p:grpSpPr>
        <p:sp>
          <p:nvSpPr>
            <p:cNvPr id="775" name=""/>
            <p:cNvSpPr/>
            <p:nvPr/>
          </p:nvSpPr>
          <p:spPr>
            <a:xfrm>
              <a:off x="777600" y="1110600"/>
              <a:ext cx="415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77600" y="906480"/>
              <a:ext cx="378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145880" y="1273320"/>
              <a:ext cx="341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77600" y="906480"/>
              <a:ext cx="0" cy="266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77600" y="1445040"/>
              <a:ext cx="415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73640" y="168084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73640" y="187164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73640" y="224280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63560" y="2063160"/>
              <a:ext cx="416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73640" y="242280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73640" y="261360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73640" y="279396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73640" y="299736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522800" y="906480"/>
              <a:ext cx="0" cy="266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17920" y="906480"/>
              <a:ext cx="0" cy="266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668760" y="906480"/>
              <a:ext cx="0" cy="266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55800" y="906480"/>
              <a:ext cx="0" cy="266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157400" y="1129320"/>
              <a:ext cx="0" cy="244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87640" y="1129320"/>
              <a:ext cx="0" cy="243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139560" y="1118160"/>
              <a:ext cx="0" cy="245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182400" y="1163160"/>
              <a:ext cx="20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13720" y="1118160"/>
              <a:ext cx="0" cy="245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824400" y="925200"/>
              <a:ext cx="7131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ACTIVIDA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540080" y="925200"/>
              <a:ext cx="1092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FECHAS PREVISTA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674800" y="925200"/>
              <a:ext cx="9648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FECHAS LIMIT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657600" y="925200"/>
              <a:ext cx="9435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FLOTAMIENTO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89120" y="1187280"/>
              <a:ext cx="399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CO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140480" y="1116000"/>
              <a:ext cx="39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DU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568520" y="1116000"/>
              <a:ext cx="507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INICI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037600" y="1116000"/>
              <a:ext cx="6433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TERMIN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640240" y="1128600"/>
              <a:ext cx="507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INICI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111120" y="1128600"/>
              <a:ext cx="6433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TERMIN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648600" y="1116000"/>
              <a:ext cx="507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INICI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123440" y="1116000"/>
              <a:ext cx="4788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TERM.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938480" y="1098000"/>
              <a:ext cx="0" cy="243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176480" y="1283760"/>
              <a:ext cx="338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O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661760" y="1297440"/>
              <a:ext cx="295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207520" y="1297440"/>
              <a:ext cx="295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EF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765160" y="1297440"/>
              <a:ext cx="295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L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264480" y="1306800"/>
              <a:ext cx="295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LF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767040" y="1297440"/>
              <a:ext cx="2682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Fi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210560" y="1297440"/>
              <a:ext cx="2818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Ft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523040" y="1116000"/>
              <a:ext cx="410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Criti-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568760" y="1270080"/>
              <a:ext cx="4388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cida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52840" y="1486800"/>
              <a:ext cx="30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279f"/>
                  </a:solidFill>
                  <a:latin typeface="Geneva"/>
                </a:rPr>
                <a:t>A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52840" y="1702800"/>
              <a:ext cx="30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279f"/>
                  </a:solidFill>
                  <a:latin typeface="Geneva"/>
                </a:rPr>
                <a:t>A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852840" y="1882080"/>
              <a:ext cx="30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279f"/>
                  </a:solidFill>
                  <a:latin typeface="Geneva"/>
                </a:rPr>
                <a:t>A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852120" y="2075040"/>
              <a:ext cx="306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9900"/>
                  </a:solidFill>
                  <a:latin typeface="Geneva"/>
                </a:rPr>
                <a:t>B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52120" y="2265840"/>
              <a:ext cx="306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9900"/>
                  </a:solidFill>
                  <a:latin typeface="Geneva"/>
                </a:rPr>
                <a:t>B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852120" y="2445120"/>
              <a:ext cx="306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9900"/>
                  </a:solidFill>
                  <a:latin typeface="Geneva"/>
                </a:rPr>
                <a:t>B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852120" y="2624040"/>
              <a:ext cx="306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9900"/>
                  </a:solidFill>
                  <a:latin typeface="Geneva"/>
                </a:rPr>
                <a:t>B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855720" y="2827440"/>
              <a:ext cx="3034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c0128"/>
                  </a:solidFill>
                  <a:latin typeface="Geneva"/>
                </a:rPr>
                <a:t>C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55720" y="3006720"/>
              <a:ext cx="3034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c0128"/>
                  </a:solidFill>
                  <a:latin typeface="Geneva"/>
                </a:rPr>
                <a:t>C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855720" y="3220560"/>
              <a:ext cx="3034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c0128"/>
                  </a:solidFill>
                  <a:latin typeface="Geneva"/>
                </a:rPr>
                <a:t>C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855720" y="3402000"/>
              <a:ext cx="3034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c0128"/>
                  </a:solidFill>
                  <a:latin typeface="Geneva"/>
                </a:rPr>
                <a:t>C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85520" y="3187800"/>
              <a:ext cx="416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85520" y="3391560"/>
              <a:ext cx="416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89120" y="3575880"/>
              <a:ext cx="415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256400" y="14868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256400" y="17028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256400" y="18820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256400" y="20750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256400" y="22647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256400" y="24451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256400" y="26240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256400" y="28148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256400" y="30067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256400" y="32205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256400" y="34020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694520" y="14868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242440" y="14868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812680" y="14868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239280" y="148680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776400" y="14994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235040" y="14868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694520" y="17028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242440" y="17028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745360" y="170280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239280" y="170280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776400" y="17028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235040" y="17028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694520" y="18820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186280" y="18820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745360" y="18820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239280" y="18820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776400" y="18936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235040" y="18936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694520" y="20750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242440" y="20750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812680" y="20750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239280" y="20750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776400" y="20854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235040" y="20854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694520" y="22647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242440" y="22647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745360" y="22647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239280" y="22647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776400" y="22647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235040" y="22647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694520" y="24451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242440" y="24451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745360" y="24451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239280" y="24451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754080" y="24451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224960" y="24451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694520" y="26240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186280" y="26240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745360" y="26240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239280" y="26240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754080" y="26240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224960" y="26240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694520" y="28148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242440" y="28148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745360" y="2814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239280" y="2814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776400" y="28274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235040" y="28274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694520" y="30067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745360" y="30067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186280" y="30067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239280" y="30067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754080" y="30067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235040" y="30171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0000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640520" y="32205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745360" y="32205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186280" y="32205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239280" y="32205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776400" y="32331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235040" y="32331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640520" y="340200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186280" y="340200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745360" y="340200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239280" y="340200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776400" y="34131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235040" y="34131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590360" y="148680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/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590360" y="170280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/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590360" y="186948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590360" y="207288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590360" y="226584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/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533480" y="2442960"/>
              <a:ext cx="3931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/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533480" y="2635560"/>
              <a:ext cx="3931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/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590360" y="281484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590360" y="300672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90360" y="322128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92160" y="340200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DIAGRAMA DE BARRAS</a:t>
            </a:r>
            <a:br>
              <a:rPr sz="3200"/>
            </a:b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Previstas</a:t>
            </a:r>
            <a:br>
              <a:rPr sz="2000"/>
            </a:b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(Actividades de desarrollo discontinuo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711360" y="2125800"/>
            <a:ext cx="768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11360" y="2440080"/>
            <a:ext cx="768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50960" y="278136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50960" y="309564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50960" y="343044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50960" y="374508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50960" y="406080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50960" y="437508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50960" y="471024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50960" y="504360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750960" y="535932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750960" y="567360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711360" y="5981760"/>
            <a:ext cx="768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750960" y="2093400"/>
            <a:ext cx="0" cy="387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1387440" y="2112840"/>
            <a:ext cx="0" cy="379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V="1">
            <a:off x="1714680" y="2093760"/>
            <a:ext cx="0" cy="389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197820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24890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27446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30002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32558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35323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37879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40435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V="1">
            <a:off x="42991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45543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V="1">
            <a:off x="48117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50673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53229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V="1">
            <a:off x="55785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V="1">
            <a:off x="58341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60897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63453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66009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685800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V="1">
            <a:off x="711360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738828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V="1">
            <a:off x="764388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V="1">
            <a:off x="79009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81565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816120" y="2160720"/>
            <a:ext cx="507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A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372680" y="2160720"/>
            <a:ext cx="345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919440" y="251460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919440" y="284796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919440" y="314316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914040" y="347832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914040" y="379260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914040" y="410832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914040" y="444168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915480" y="475632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915480" y="509112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915480" y="540540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915480" y="572148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423440" y="25146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V="1">
            <a:off x="22334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423440" y="34783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423440" y="38131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423440" y="28288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423440" y="47563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423440" y="41274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423440" y="316404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423440" y="50911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423440" y="44416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423440" y="54259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423440" y="57405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V="1">
            <a:off x="8424720" y="2072880"/>
            <a:ext cx="0" cy="387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716120" y="2584440"/>
            <a:ext cx="525600" cy="92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227320" y="2930400"/>
            <a:ext cx="1042920" cy="74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781440" y="3247920"/>
            <a:ext cx="1568520" cy="92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971720" y="3581280"/>
            <a:ext cx="1292040" cy="73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971720" y="3876840"/>
            <a:ext cx="760320" cy="82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138480" y="4176720"/>
            <a:ext cx="117360" cy="87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781440" y="4525920"/>
            <a:ext cx="1017720" cy="73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249720" y="4840200"/>
            <a:ext cx="525240" cy="73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819680" y="5160960"/>
            <a:ext cx="741240" cy="730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557680" y="5448240"/>
            <a:ext cx="559080" cy="1000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099120" y="5765760"/>
            <a:ext cx="249120" cy="921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754640" y="2149560"/>
            <a:ext cx="6690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1     2    3   4     5    6     7   8    9   10  11 12   13   14 15  16   17  18  19 20   21  22   23 24   25  2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8543880" y="11916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Geneva"/>
              </a:rPr>
              <a:t>(2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728800" y="4165560"/>
            <a:ext cx="507960" cy="10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706840" y="4164120"/>
            <a:ext cx="155520" cy="1062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800520" y="5162400"/>
            <a:ext cx="96840" cy="921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772080" y="5143680"/>
            <a:ext cx="1790640" cy="9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3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3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7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2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7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2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7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2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7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19008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DIAGRAMA DE BARRAS</a:t>
            </a:r>
            <a:br>
              <a:rPr sz="3200"/>
            </a:b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ímit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763560" y="1020600"/>
            <a:ext cx="4244040" cy="2717640"/>
            <a:chOff x="763560" y="1020600"/>
            <a:chExt cx="4244040" cy="2717640"/>
          </a:xfrm>
        </p:grpSpPr>
        <p:sp>
          <p:nvSpPr>
            <p:cNvPr id="1007" name=""/>
            <p:cNvSpPr/>
            <p:nvPr/>
          </p:nvSpPr>
          <p:spPr>
            <a:xfrm>
              <a:off x="777600" y="1224720"/>
              <a:ext cx="415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77600" y="1020600"/>
              <a:ext cx="378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145880" y="1387440"/>
              <a:ext cx="341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77600" y="1020600"/>
              <a:ext cx="0" cy="266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77600" y="1559160"/>
              <a:ext cx="415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73640" y="179496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73640" y="198576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73640" y="235692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63560" y="2177640"/>
              <a:ext cx="416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73640" y="253728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73640" y="272808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73640" y="290808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73640" y="311184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522800" y="1020600"/>
              <a:ext cx="0" cy="266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617920" y="1020600"/>
              <a:ext cx="0" cy="266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668760" y="1020600"/>
              <a:ext cx="0" cy="266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555800" y="1020600"/>
              <a:ext cx="0" cy="266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157400" y="1243800"/>
              <a:ext cx="0" cy="244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087640" y="1243800"/>
              <a:ext cx="0" cy="243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139560" y="1232280"/>
              <a:ext cx="0" cy="245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182400" y="1277280"/>
              <a:ext cx="20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113720" y="1232280"/>
              <a:ext cx="0" cy="245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824400" y="1039320"/>
              <a:ext cx="7131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ACTIVIDA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540080" y="1039320"/>
              <a:ext cx="1092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FECHAS PREVISTA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674800" y="1039320"/>
              <a:ext cx="9648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FECHAS LIMIT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657600" y="1039320"/>
              <a:ext cx="9435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FLOTAMIENTO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89120" y="1301400"/>
              <a:ext cx="399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CO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140480" y="1230120"/>
              <a:ext cx="39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DU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568520" y="1230120"/>
              <a:ext cx="507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INICI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037600" y="1230120"/>
              <a:ext cx="6433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TERMIN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640240" y="1242720"/>
              <a:ext cx="507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INICI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111120" y="1242720"/>
              <a:ext cx="6433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TERMIN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648600" y="1230120"/>
              <a:ext cx="507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INICI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123440" y="1230120"/>
              <a:ext cx="4788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TERM.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938480" y="1212120"/>
              <a:ext cx="0" cy="244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176480" y="1397880"/>
              <a:ext cx="338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O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661760" y="1411560"/>
              <a:ext cx="295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207520" y="1411560"/>
              <a:ext cx="295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EF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765160" y="1411560"/>
              <a:ext cx="295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L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264480" y="1420920"/>
              <a:ext cx="295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LF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767040" y="1411560"/>
              <a:ext cx="2682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Fi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210560" y="1411560"/>
              <a:ext cx="2818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Ft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523040" y="1230120"/>
              <a:ext cx="410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Criti-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568760" y="1384200"/>
              <a:ext cx="4388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cida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852840" y="1601280"/>
              <a:ext cx="30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279f"/>
                  </a:solidFill>
                  <a:latin typeface="Geneva"/>
                </a:rPr>
                <a:t>A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852840" y="1817280"/>
              <a:ext cx="30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279f"/>
                  </a:solidFill>
                  <a:latin typeface="Geneva"/>
                </a:rPr>
                <a:t>A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852840" y="1996560"/>
              <a:ext cx="30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279f"/>
                  </a:solidFill>
                  <a:latin typeface="Geneva"/>
                </a:rPr>
                <a:t>A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2120" y="2189160"/>
              <a:ext cx="306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9900"/>
                  </a:solidFill>
                  <a:latin typeface="Geneva"/>
                </a:rPr>
                <a:t>B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2120" y="2379960"/>
              <a:ext cx="306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9900"/>
                  </a:solidFill>
                  <a:latin typeface="Geneva"/>
                </a:rPr>
                <a:t>B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852120" y="2559240"/>
              <a:ext cx="306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9900"/>
                  </a:solidFill>
                  <a:latin typeface="Geneva"/>
                </a:rPr>
                <a:t>B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852120" y="2738520"/>
              <a:ext cx="306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9900"/>
                  </a:solidFill>
                  <a:latin typeface="Geneva"/>
                </a:rPr>
                <a:t>B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855720" y="2941920"/>
              <a:ext cx="3034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c0128"/>
                  </a:solidFill>
                  <a:latin typeface="Geneva"/>
                </a:rPr>
                <a:t>C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855720" y="3120840"/>
              <a:ext cx="3034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c0128"/>
                  </a:solidFill>
                  <a:latin typeface="Geneva"/>
                </a:rPr>
                <a:t>C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5720" y="3335040"/>
              <a:ext cx="3034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c0128"/>
                  </a:solidFill>
                  <a:latin typeface="Geneva"/>
                </a:rPr>
                <a:t>C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5720" y="3516120"/>
              <a:ext cx="3034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c0128"/>
                  </a:solidFill>
                  <a:latin typeface="Geneva"/>
                </a:rPr>
                <a:t>C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85520" y="3302280"/>
              <a:ext cx="416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85520" y="3505680"/>
              <a:ext cx="416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89120" y="3690360"/>
              <a:ext cx="415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256400" y="1601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256400" y="1817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256400" y="19965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256400" y="21891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256400" y="23788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256400" y="25592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256400" y="27385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256400" y="2929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256400" y="31208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256400" y="33350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256400" y="35161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694520" y="1601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242440" y="1601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812680" y="1601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239280" y="16012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776400" y="16138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235040" y="1601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694520" y="1817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242440" y="1817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745360" y="18172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239280" y="18172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776400" y="1817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235040" y="1817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694520" y="19965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186280" y="19965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745360" y="19965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239280" y="19965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776400" y="20077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235040" y="20077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694520" y="21891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242440" y="21891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812680" y="21891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239280" y="21891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776400" y="21996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235040" y="21996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694520" y="23788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242440" y="23788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745360" y="23788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239280" y="23788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776400" y="23788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235040" y="23788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694520" y="25592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242440" y="25592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745360" y="25592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239280" y="25592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754080" y="25592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224960" y="25592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694520" y="27385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86280" y="2738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745360" y="2738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239280" y="2738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754080" y="2738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224960" y="2738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694520" y="2929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242440" y="2929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745360" y="29293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239280" y="29293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776400" y="29419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235040" y="29419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694520" y="31208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745360" y="3120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186280" y="3120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239280" y="3120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754080" y="3120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235040" y="3131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0000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640520" y="33350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745360" y="33350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186280" y="33350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239280" y="33350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776400" y="33476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235040" y="33476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640520" y="35161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186280" y="35161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745360" y="35161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239280" y="35161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776400" y="35276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235040" y="35276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590360" y="160128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/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590360" y="181728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/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590360" y="198396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590360" y="218700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590360" y="237996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/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533480" y="2557080"/>
              <a:ext cx="3931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/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533480" y="2750040"/>
              <a:ext cx="3931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/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590360" y="292932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590360" y="312084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590360" y="333576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592160" y="351612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3" name=""/>
          <p:cNvSpPr/>
          <p:nvPr/>
        </p:nvSpPr>
        <p:spPr>
          <a:xfrm>
            <a:off x="4054320" y="3935520"/>
            <a:ext cx="459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054320" y="4140360"/>
            <a:ext cx="459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078440" y="4361040"/>
            <a:ext cx="457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078440" y="4565520"/>
            <a:ext cx="457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078440" y="4782960"/>
            <a:ext cx="457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078440" y="4986360"/>
            <a:ext cx="457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078440" y="5192640"/>
            <a:ext cx="457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078440" y="5396040"/>
            <a:ext cx="457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078440" y="5613480"/>
            <a:ext cx="457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078440" y="5829480"/>
            <a:ext cx="457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078440" y="6033960"/>
            <a:ext cx="457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078440" y="6238800"/>
            <a:ext cx="457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054320" y="6438960"/>
            <a:ext cx="459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4078440" y="3914640"/>
            <a:ext cx="0" cy="25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flipV="1">
            <a:off x="4459320" y="3927600"/>
            <a:ext cx="0" cy="246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V="1">
            <a:off x="4654440" y="3914280"/>
            <a:ext cx="0" cy="252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flipV="1">
            <a:off x="481176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511812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V="1">
            <a:off x="527040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V="1">
            <a:off x="542304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flipV="1">
            <a:off x="557676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V="1">
            <a:off x="589428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V="1">
            <a:off x="604692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V="1">
            <a:off x="620064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 flipV="1">
            <a:off x="635328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V="1">
            <a:off x="650700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665964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681192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696420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711828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V="1">
            <a:off x="727092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flipV="1">
            <a:off x="742320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757728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772956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788364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804708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820116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835344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850752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118040" y="3957480"/>
            <a:ext cx="3902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AC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454280" y="3957480"/>
            <a:ext cx="2865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4180320" y="4189320"/>
            <a:ext cx="3200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279f"/>
                </a:solidFill>
                <a:latin typeface="Geneva"/>
              </a:rPr>
              <a:t>A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180320" y="4405320"/>
            <a:ext cx="3200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279f"/>
                </a:solidFill>
                <a:latin typeface="Geneva"/>
              </a:rPr>
              <a:t>A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180320" y="4597560"/>
            <a:ext cx="3200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279f"/>
                </a:solidFill>
                <a:latin typeface="Geneva"/>
              </a:rPr>
              <a:t>A3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179600" y="4815000"/>
            <a:ext cx="3214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9900"/>
                </a:solidFill>
                <a:latin typeface="Geneva"/>
              </a:rPr>
              <a:t>B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4179600" y="5019840"/>
            <a:ext cx="3214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9900"/>
                </a:solidFill>
                <a:latin typeface="Geneva"/>
              </a:rPr>
              <a:t>B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179600" y="5221440"/>
            <a:ext cx="3214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9900"/>
                </a:solidFill>
                <a:latin typeface="Geneva"/>
              </a:rPr>
              <a:t>B3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4179600" y="5440320"/>
            <a:ext cx="3214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9900"/>
                </a:solidFill>
                <a:latin typeface="Geneva"/>
              </a:rPr>
              <a:t>B4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183920" y="5643720"/>
            <a:ext cx="3186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c0128"/>
                </a:solidFill>
                <a:latin typeface="Geneva"/>
              </a:rPr>
              <a:t>C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183920" y="5861160"/>
            <a:ext cx="3186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c0128"/>
                </a:solidFill>
                <a:latin typeface="Geneva"/>
              </a:rPr>
              <a:t>C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4183920" y="6066000"/>
            <a:ext cx="3186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c0128"/>
                </a:solidFill>
                <a:latin typeface="Geneva"/>
              </a:rPr>
              <a:t>C3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183920" y="6269040"/>
            <a:ext cx="3186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c0128"/>
                </a:solidFill>
                <a:latin typeface="Geneva"/>
              </a:rPr>
              <a:t>C4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470840" y="418932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496404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470840" y="481500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470840" y="503244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470840" y="439416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470840" y="564372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470840" y="523548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470840" y="461016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470840" y="586116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470840" y="544032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470840" y="607860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470840" y="628344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V="1">
            <a:off x="8667720" y="3902040"/>
            <a:ext cx="0" cy="25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597920" y="3951360"/>
            <a:ext cx="42184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1   2   3   4  5   6   7   8   9  10 11 12 1314 15 16 17 1819  20 21 22 23 24 25 26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5738760" y="4235400"/>
            <a:ext cx="314280" cy="58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6356520" y="4459320"/>
            <a:ext cx="623880" cy="49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962760" y="4665600"/>
            <a:ext cx="938160" cy="6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905440" y="4865760"/>
            <a:ext cx="773280" cy="47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199200" y="5070600"/>
            <a:ext cx="453960" cy="5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970680" y="5273640"/>
            <a:ext cx="150840" cy="475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6649920" y="5702400"/>
            <a:ext cx="314280" cy="47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424640" y="5913360"/>
            <a:ext cx="444600" cy="54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8037360" y="6116760"/>
            <a:ext cx="303480" cy="54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8332920" y="6296040"/>
            <a:ext cx="155520" cy="554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7432560" y="5497560"/>
            <a:ext cx="608040" cy="475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V="1">
            <a:off x="5738760" y="393228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3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DIAGRAMA DE BARRAS</a:t>
            </a:r>
            <a:br>
              <a:rPr sz="3200"/>
            </a:b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LÍmites</a:t>
            </a:r>
            <a:br>
              <a:rPr sz="2000"/>
            </a:b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711360" y="2125800"/>
            <a:ext cx="768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11360" y="2440080"/>
            <a:ext cx="768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50960" y="278136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50960" y="309564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750960" y="343044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750960" y="374508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750960" y="406080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750960" y="437508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750960" y="471024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750960" y="504360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750960" y="535932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750960" y="567360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711360" y="5981760"/>
            <a:ext cx="768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750960" y="2093400"/>
            <a:ext cx="0" cy="387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1387440" y="2112840"/>
            <a:ext cx="0" cy="379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1714680" y="2093760"/>
            <a:ext cx="0" cy="389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 flipV="1">
            <a:off x="197820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flipV="1">
            <a:off x="24890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V="1">
            <a:off x="27446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V="1">
            <a:off x="30002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 flipV="1">
            <a:off x="32558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flipV="1">
            <a:off x="37879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 flipV="1">
            <a:off x="40435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42991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V="1">
            <a:off x="45543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flipV="1">
            <a:off x="48117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V="1">
            <a:off x="50673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 flipV="1">
            <a:off x="53229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flipV="1">
            <a:off x="55785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flipV="1">
            <a:off x="58341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V="1">
            <a:off x="60897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63453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 flipV="1">
            <a:off x="66009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 flipV="1">
            <a:off x="685800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V="1">
            <a:off x="711360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738828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V="1">
            <a:off x="764388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V="1">
            <a:off x="79009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V="1">
            <a:off x="81565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816120" y="2160720"/>
            <a:ext cx="507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A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372680" y="2160720"/>
            <a:ext cx="345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919440" y="251460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919440" y="284796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919440" y="314316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914040" y="347832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914040" y="379260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914040" y="410832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914040" y="444168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915480" y="475632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915480" y="509112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915480" y="540540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915480" y="572148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1423440" y="25146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V="1">
            <a:off x="22334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1423440" y="34783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423440" y="38131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1423440" y="28288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1423440" y="47563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1423440" y="41274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1423440" y="316404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423440" y="50911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423440" y="44416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1423440" y="54259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423440" y="57405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V="1">
            <a:off x="8424720" y="2072880"/>
            <a:ext cx="0" cy="387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754640" y="2149560"/>
            <a:ext cx="6690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1     2    3   4     5    6     7   8    9   10  11 12   13   14 15  16   17  18  19 20   21  22   23 24   25  2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8543880" y="11916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Geneva"/>
              </a:rPr>
              <a:t>(2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527280" y="2570040"/>
            <a:ext cx="430200" cy="122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537080" y="2932200"/>
            <a:ext cx="1042920" cy="74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584680" y="3249720"/>
            <a:ext cx="1568520" cy="91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3774960" y="3559320"/>
            <a:ext cx="1292400" cy="72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295880" y="3873600"/>
            <a:ext cx="760320" cy="82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5332320" y="4187880"/>
            <a:ext cx="250920" cy="73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056200" y="4846680"/>
            <a:ext cx="525600" cy="73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350040" y="5153040"/>
            <a:ext cx="608040" cy="1206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7416720" y="5486400"/>
            <a:ext cx="506520" cy="824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7896240" y="5762520"/>
            <a:ext cx="258840" cy="856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6346800" y="4519440"/>
            <a:ext cx="1017720" cy="730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flipV="1">
            <a:off x="3529080" y="211932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560760" y="2570040"/>
            <a:ext cx="992160" cy="11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342120" y="5148360"/>
            <a:ext cx="1041480" cy="12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4435560" y="2576520"/>
            <a:ext cx="118800" cy="1224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7273800" y="5159520"/>
            <a:ext cx="106560" cy="1047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4T04:40:31Z</dcterms:created>
  <dc:creator>Gregorio Rodolfo Azócar Gajardo</dc:creator>
  <dc:description>Computo de Recursos</dc:description>
  <dc:language>en-US</dc:language>
  <cp:lastModifiedBy> </cp:lastModifiedBy>
  <dcterms:modified xsi:type="dcterms:W3CDTF">2007-10-02T13:57:23Z</dcterms:modified>
  <cp:revision>449</cp:revision>
  <dc:subject>TRANSPARENCIAS</dc:subject>
  <dc:title>CI52B POGRAMACION; SEGUIMIENTO Y CONTROL</dc:title>
</cp:coreProperties>
</file>