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F14-533D-4E26-9595-B101D37A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DA5-F803-464E-9626-E6112900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192-FE47-4B47-8AC0-DED1C441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3FA-B502-44DC-95D8-3E9873F7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7C40-9CEA-4D70-A2E6-07E7E9AE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21AA-10BD-437B-831D-3A7FAE71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B50-75E0-422C-8103-F4FC043B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A63E-BAFE-4832-9057-9ABABB3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203-B71E-413C-9A31-7D5EF9D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38FF-D5DF-4EDA-B444-A9FCB68F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F39C-7521-4D10-AB2F-8F6BA1B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007-FD50-4D72-86B2-0FD8411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6AFB-5383-4494-AA7B-D1A13E7C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B85F-47AE-4F72-911A-82AEFF9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2191-CE78-4833-A5B3-F9AF3A96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3063-565B-4C41-B8A3-04EA12A4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0D53-0FBF-4E4F-8CF9-05E92DD2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5CE-11D5-47CE-8338-02171FB1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CAC-798C-42DB-8772-E3694E6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844-4907-4EB2-B0EC-F7F2A34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206-A478-46A3-9834-EE9DEF96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74F-4BBC-4602-938D-3EFB2AA1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212-1C2F-4B7E-A6BF-3C79971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6FE-1C91-42F8-BB7F-E36B9382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D2AB-84C7-443D-B7FB-A5FD007F21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B169-239E-48D1-B94E-51815DD543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s de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 fijo por la obra terminada, incluyendo todo lo indicado en los documentos del proyecto (Planos, EETT y Bases Administrativas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reajustabilidad (típico U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anticipo (normalmente hay anticipos entre 10% y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 todas formas la Constructora entrega presupuesto detallado y desglose de P.U. por posibles variaciones de contra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ARIACIONES DE UNA SUMA AL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bios en las bases del contrato, proyectos o especific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uevas obras no consideradas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ción de cantidades de obra más allá del límite establecido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CUENCIAS DE LAS VARIACIONES DE UNA 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pla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gastos generales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utilidades de la Constructora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os por aceleración de ob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989000"/>
          <a:ext cx="8785440" cy="4114800"/>
        </p:xfrm>
        <a:graphic>
          <a:graphicData uri="http://schemas.openxmlformats.org/drawingml/2006/table">
            <a:tbl>
              <a:tblPr/>
              <a:tblGrid>
                <a:gridCol w="2536920"/>
                <a:gridCol w="2071800"/>
                <a:gridCol w="1981080"/>
                <a:gridCol w="2195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</a:t>
                      </a:r>
                      <a:br>
                        <a:rPr sz="1800"/>
                      </a:b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 Pre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juste Típ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CIÓN DELEG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DE PRECIOS UNITAR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os ajusta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ALZ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, IPC, Polinom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costo puede variar 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acterísticas propias de la obra (por ejemplo, geología incier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oyecto incompleto (definiciones incompletas, planos inconclusos o mal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ternalidades (dólar, eur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usa mayor (terremoto, inundacione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Quién asume el riesgo por las variaciones de costos la durante la construc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ES MODALIDADES PRINCIP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ontratos que combinan estas tres modalidades según el estado de desarrollo de los proyectos en las distintas áreas de la ob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utiliza principalmente en el caso de que la construcción se inicie sin tener terminada totalmente la Ingeniería de Detal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se usa en caso de emerg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administra la obra y el mandante le reembolsa l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recibe un % por sobre los costos o un valor preestablecido a modo de u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se necesita un mecanismo de reajuste, puesto que se pagan los costos re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Proyectos FAST TRACK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en los cuales la oportunidad es determinante para el éxito del proy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Emergenc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La premura no permite el desarrollo de proyectos detall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Remodelacion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No hay suficiente información como para que la Constructora se comprometa a un valor fi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antidad de obra es informada por el Mandante, pero no constituye compromiso de que esas cantidades sean las defin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pone un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recio Unit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a cada una de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artida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solicitadas por el Mand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cantidades informadas sirven para evaluar la incidencia de los costos indirectos de construcción e incluirlas como % dentro de los Precios Unit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volumen son de responsabilidad del Mand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precios son responsabilidad de l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forma de reajuste suele usarse el mecanismo de los “cubos ajustabl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bos ajustabl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ugar de variar el precio se hace una variación ficticia de la cantidad de obra para que el producto de precio por cantidad corresponda al total reaju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84360" y="3789360"/>
                <a:ext cx="4038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19280" y="4583160"/>
                <a:ext cx="5735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TRA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9840" y="5878440"/>
                <a:ext cx="4872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TRA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6:11:16Z</dcterms:created>
  <dc:creator>William</dc:creator>
  <dc:description/>
  <dc:language>en-US</dc:language>
  <cp:lastModifiedBy>William</cp:lastModifiedBy>
  <dcterms:modified xsi:type="dcterms:W3CDTF">2007-03-23T16:11:40Z</dcterms:modified>
  <cp:revision>1</cp:revision>
  <dc:subject/>
  <dc:title>CI 52A Métodos Constructivos</dc:title>
</cp:coreProperties>
</file>