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C77-BEF9-40F2-959F-4AD27B0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ADA-952F-4A08-86EE-B052A3B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0EC-F4BD-404D-B2CA-4A526B73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EAE-7CE2-4A31-912D-76293DE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5A3-BB71-4C31-B758-CB61F34F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411-7C1E-44A6-B4EB-2916F8B6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580D-CDE0-4E9B-8DE6-55C89F0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452-E03F-454A-8A72-821BAF37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138-D6C0-425A-8BEC-4E666FD6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7D06-E36B-4926-9C4E-1CC5F0B2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AA5-4EB9-49B0-8C6A-8AC989B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E8F-8FC5-4B31-8F67-80F3452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2AC-7ACB-47B4-B0F6-4FA08AC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590-5F1F-4E5E-98CC-B2149E0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D03C-AC0C-41C5-82BB-D2F11DED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7FF4-666D-45FC-A3EB-B8E55349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07E6-76A9-4D09-8AFC-9142DD96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EF7-CA88-4238-9718-AB9D5C1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B2B-2C4C-4AF0-BDC4-D19C49B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711-761D-4C06-BCA9-4F3D86B4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20E-DAB8-4FB9-8668-850FA25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74C-6A68-4A68-9AB1-2A9B62A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1DF-82FF-40C0-9DFC-1609DCA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F66-837E-48FF-A066-96A2E6F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03E1-0589-4842-B668-1AEBE8B81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DAB-3391-4740-9B24-4D16DDDB8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Visita a Terre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quinarias 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ú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ontacargas, Elevadores de Platafo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etone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bradores de hormigón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erras, cortadoras de ladri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oldado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ladros, esmeriles, cepill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pamento (iluminación, calefacción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inistro cerc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ndido provis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potencia (KVA) voltaje (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necesitarse nuevo transformador, cableado de mayor diámetro o subestación (instalación adelanta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hay suminis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upo electrógeno (acordarse de la crisis energética de 199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stalación de central térmica o hidroeléc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teriales y equip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mar: Barcaza, lanchas, bal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tonelaje de puentes, cuestas, curvas cerradas, caminos angostos, profundidad de vade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mar las máquinas para alivianar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ntes provisorios o refor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scar rutas alternativas, mejorar caminos existentes, hacer caminos de acc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: Escuela Isla Wellington, Puente Río Serrano, Planta Elevadora Aguas Servidas T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v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uses, mini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pamento v/s viajes diarios (cuando el viaje es largo, hay que pagar las horas como trabaj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égimen de “bajadas”. Leyes Labo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OS SERVIC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gua potable y Alcantaril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es públicas, pozos y ríos, transporte (camiones alji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zos negros, baños químicos, plantas de tra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 de telefonía, teléfonos satel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sposición de bas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tederos municipalidades, sitios designados (estudio de impacto ambient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ERS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calificado, especializado y directivo suele llevar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geni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Jefes de Obra y capataces (*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peradores de grúa, maquinarias movimiento de ti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no calificado si es posible se obtiene en el lugar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acer averiguaciones (ejemplo Quell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CONOMÍA LO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producción de la industria local (maestranzas, aislapol, ladrillos, prefabricados menores, alumini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staladores de electricidad, sanitarios. Urbaniz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ercio de materiales de construcción, arriendo de maquinarias y equip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vicios (bancos, notarías, fotocopiad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la obra utiliza gran cantidad de Mano de Obra, se forma una población de empleados que requiere servicios médicos, correo, centros de llamados, entret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uede ser mediante transporte a un pueblo cercano o disponerse en el campamento de la fa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familiares. En algunos casos es preferible trasladar a los familiares al lugar de las obras (cuando las obras son en alguna ciudad o pueblo) o a algún pueblo cercano (cuando las obras están alejad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 Chuquicamata-Calama, Disputada-Santiago, Puerto Mont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que hacer un estudio de costos de las distintas alternativas y combinaciones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operación con entidades oficiales y privadas. (ej. GOPE Pto. Mon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ción del comercio local para compras de deta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o de personal lo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la buena voluntad de la zona se obtienen beneficios para la obra y su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de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general para ubica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detallado para Ingeniería de Detalle y determinación de cantidades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lección y materialización de PRs para la construcción (para el replanteo de las obr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a mano lava la otra y las dos lavan la car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vor con favor se pag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mundo es un pañuel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vida tiene muchas vuelt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prestar atención a las relaciones públ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previa a la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 de campamento, bodegas, talleres, sitios de acopio, capt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caminos de acceso a las obras, empréstitos, campamento, bodeg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otadero de excedentes de exca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líneas de energía, 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btención de la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y mapas exist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pección visual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(visita a terren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ectividad: Caminos de acceso a la ciudad más próxima, puentes, muelles, túneles (condición y capacid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íneas eléctricas y telefónicas exist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nales y po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lant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PRs a lugares cercanos a las ob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ñalización y protección de los PRs en terreno,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marcar los PRs en los 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r ubicación de PRs teniendo en cuenta las futuras obras, de modo que no se vean afectados por excavaciones, rellenos y futuras construc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e diseño para prever el comportamiento de la obra. Evacuación de aguas lluvias, niveles y caudales de crecida, ciclos hielo/deshie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para determinar métodos de ejecución de la construc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luencia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erre de las faenas en ciertas épocas (SUR-SUR, El Indio, Antár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ucción del horario de trabajo en invierno (latitu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lluvias o hielo impiden la compactación de suelos por el exceso de agua o la solid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ríos se pueden desviar sólo en algunas estaciones del a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cauciones al Hormig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calu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Frío (Madurez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≠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Nch 170/85). Precauciones para pequeños espesores (relación superficie/volum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randes masas. El fragüe del hormigón es una reacción exotérmic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la disipación neces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lección de maquinaria y acces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denas para nieve o hi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hículos off-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auciones para vehículos diesel (ejemplo: Minera El Indio, Canadá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tección de los operadores (ejemplo Codelco Andina: vehículos a control remo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5T13:49:54Z</dcterms:created>
  <dc:creator>William Wragg L.</dc:creator>
  <dc:description/>
  <dc:language>en-US</dc:language>
  <cp:lastModifiedBy>William</cp:lastModifiedBy>
  <dcterms:modified xsi:type="dcterms:W3CDTF">2007-04-03T12:38:24Z</dcterms:modified>
  <cp:revision>16</cp:revision>
  <dc:subject/>
  <dc:title>CI 52A Métodos Constructivos</dc:title>
</cp:coreProperties>
</file>