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526-6185-48B4-8D65-BF2E84D5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CE8-73B1-42DF-9918-D83FD85E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B4C-94C4-452E-9054-E31B5D2F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3C3-EE68-45B0-8596-49228AA6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6399-DC5A-439D-A21C-AA83889B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9E96-9EE6-4D0E-BEF4-F123C1D8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1B6-F161-4E80-81B8-8B2A5D2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F49-ED09-409D-94F6-167A8A7E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8D70-DFD2-46B8-B385-37801E96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9BC9-2C21-4CFE-840A-61206C5B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F98-984C-48B2-9194-DEF1650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87B-1886-4AC1-844A-B95F59E0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54F7-E416-4F0D-9263-F7CD02F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CAAD-6C38-490F-9632-259E1756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4A6D-9B35-47ED-8105-CB4D543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D85E-FBE5-4CB6-BBBD-7ED1F0F4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D101-A1C6-49E4-AF68-CA582A65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D51-BA3A-4FBD-B574-455BB7B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153-956A-468C-ADAE-59023D72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9FC-E69C-407C-A69D-4ED1D017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629-5E78-4864-99F8-D1672C3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EC5-742B-4FF5-BCB3-0D9F75AA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A37-CBF2-4C63-BF56-D5B3C4A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682-2EF6-43DA-8235-B8A28EB4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6B6F-ABC3-403F-8096-5C318955D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5EAD-43B6-4B9C-B55D-E5C2BCAE3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Visita a Terre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NERG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quinarias eléctr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ú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ontacargas, Elevadores de Platafor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etoner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bradores de hormigón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erras, cortadoras de ladri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oldador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aladros, esmeriles, cepill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pamento (iluminación, calefacción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NERG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inistro cerc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ndido provis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ificar potencia (KVA) voltaje (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necesitarse nuevo transformador, cableado de mayor diámetro o subestación (instalación adelantad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hay suminis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upo electrógeno (acordarse de la crisis energética de 199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stalación de central térmica o hidroeléc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teriales y equip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mar: Barcaza, lanchas, bal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ificar tonelaje de puentes, cuestas, curvas cerradas, caminos angostos, profundidad de vade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mar las máquinas para alivianar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ntes provisorios o refor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uscar rutas alternativas, mejorar caminos existentes, hacer caminos de acc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: Escuela Isla Wellington, Puente Río Serrano, Planta Elevadora Aguas Servidas T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v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uses, minib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pamento v/s viajes diarios (cuando el viaje es largo, hay que pagar las horas como trabaja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égimen de “bajadas”. Leyes Labor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OS SERVIC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gua potable y Alcantaril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des públicas, pozos y ríos, transporte (camiones alji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zos negros, baños químicos, plantas de tra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d de telefonía, teléfonos sateli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sposición de bas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tederos municipalidades, sitios designados (estudio de impacto ambient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ERS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 calificado, especializado y directivo suele llevar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geni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Jefes de Obra y capataces (*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peradores de grúa, maquinarias movimiento de tier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 no calificado si es posible se obtiene en el lugar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acer averiguaciones (ejemplo Quell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CONOMÍA LO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producción de la industria local (maestranzas, aislapol, ladrillos, prefabricados menores, alumini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staladores de electricidad, sanitarios. Urbaniz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ercio de materiales de construcción, arriendo de maquinarias y equip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vicios (bancos, notarías, fotocopiad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SERVICIO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la obra utiliza gran cantidad de Mano de Obra, se forma una población de empleados que requiere servicios médicos, correo, centros de llamados, entreten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uede ser mediante transporte a un pueblo cercano o disponerse en el campamento de la fa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SERVICIO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slado de familiares. En algunos casos es preferible trasladar a los familiares al lugar de las obras (cuando las obras son en alguna ciudad o pueblo) o a algún pueblo cercano (cuando las obras están alejad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 Chuquicamata-Calama, Disputada-Santiago, Puerto Mont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que hacer un estudio de costos de las distintas alternativas y combinaciones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LACIONES PÚBLIC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operación con entidades oficiales y privadas. (ej. GOPE Pto. Mont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ción del comercio local para compras de deta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o de personal lo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la buena voluntad de la zona se obtienen beneficios para la obra y su pers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etapa de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vantamiento general para ubica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vantamiento detallado para Ingeniería de Detalle y determinación de cantidades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lección y materialización de PRs para la construcción (para el replanteo de las obr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LACIONES PÚBLIC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a mano lava la otra y las dos lavan la car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avor con favor se pag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mundo es un pañuel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vida tiene muchas vuelta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ingeniero debe prestar atención a las relaciones públ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etapa previa a la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bicación de campamento, bodegas, talleres, sitios de acopio, capt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zado de caminos de acceso a las obras, empréstitos, campamento, bodeg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otadero de excedentes de exca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zado de líneas de energía, 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btención de la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y mapas exist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spección visual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(visita a terren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ectividad: Caminos de acceso a la ciudad más próxima, puentes, muelles, túneles (condición y capacida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íneas eléctricas y telefónicas exist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nales y po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lant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slado de PRs a lugares cercanos a las ob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ñalización y protección de los PRs en terreno,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marcar los PRs en los 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r ubicación de PRs teniendo en cuenta las futuras obras, de modo que no se vean afectados por excavaciones, rellenos y futuras construc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de diseño para prever el comportamiento de la obra. Evacuación de aguas lluvias, niveles y caudales de crecida, ciclos hielo/deshie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para determinar métodos de ejecución de la construc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luencia en la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erre de las faenas en ciertas épocas (SUR-SUR, El Indio, Antárt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ucción del horario de trabajo en invierno (latitu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lluvias o hielo impiden la compactación de suelos por el exceso de agua o la solid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ríos se pueden desviar sólo en algunas estaciones del a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cauciones al Hormig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mpo calu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mpo Frío (Madurez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≠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Nch 170/85). Precauciones para pequeños espesores (relación superficie/volum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randes masas. El fragüe del hormigón es una reacción exotérmic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siderar la disipación neces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lección de maquinaria y acces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denas para nieve o hi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hículos off-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auciones para vehículos diesel (ejemplo: Minera El Indio, Canadá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tección de los operadores (ejemplo Codelco Andina: vehículos a control remo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5T13:49:54Z</dcterms:created>
  <dc:creator>William Wragg L.</dc:creator>
  <dc:description/>
  <dc:language>en-US</dc:language>
  <cp:lastModifiedBy>William</cp:lastModifiedBy>
  <dcterms:modified xsi:type="dcterms:W3CDTF">2007-04-03T12:38:24Z</dcterms:modified>
  <cp:revision>16</cp:revision>
  <dc:subject/>
  <dc:title>CI 52A Métodos Constructivos</dc:title>
</cp:coreProperties>
</file>