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4D0-15D3-40FF-9034-FE444490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735-C404-43FA-A9B9-A849FD2A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247-404F-4AE8-AF11-8B1FC822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9AA-F881-4178-B687-CD32C6BC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3E2-8DF9-45A5-8B65-CC90DC7D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9AEB-0C99-4CC6-B2EC-6D838E35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554-99D4-4EB0-8280-655BB2A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09B-4B86-4208-8370-2FF7D5D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2A70-2036-4ED0-A0DD-1D3CAF5E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EBA8-3F24-4696-B9CA-8DD8E4B5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7026-9544-4E8D-96DC-5E5B7CDC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BF5-F41B-4B1D-99FE-4153DE43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3AF5-B4BE-4252-90A0-B1C580B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933F-FE2A-4A35-AC45-4905BA1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E7A-4EF1-47E9-8411-C9F24365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6DDD-5434-4E7C-AD6A-771E6A7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E20-2506-4BC6-900D-C187C485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A3A-8427-4EEF-80A4-7DEC590E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48E-64D7-4078-B316-9FEF891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FA2-C1FC-4674-82B9-B4432FFC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22F-E096-4642-9F97-B6D28E32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A73-DBBA-4E33-8F34-03158B71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34A-9D77-4F41-A5BF-FD626A10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D04-3EBA-4922-A4A1-B832BA9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BE3-AB77-4D17-8DD7-F84F322F1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DE54-AA0C-4F50-A4D7-00003EFD0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Visita a Terre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NERG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quinarias 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ú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ontacargas, Elevadores de Platafo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etoner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bradores de hormigón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erras, cortadoras de ladri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oldadoras (*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ladros, esmeriles, cepill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pamento (iluminación, calefacción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NERG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inistro cerc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ndido provis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ificar potencia (KVA) voltaje (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necesitarse nuevo transformador, cableado de mayor diámetro o subestación (instalación adelantad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hay suminis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upo electrógeno (acordarse de la crisis energética de 199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stalación de central térmica o hidroeléc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teriales y equip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mar: Barcaza, lanchas, bal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ificar tonelaje de puentes, cuestas, curvas cerradas, caminos angostos, profundidad de vade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mar las máquinas para alivianar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ntes provisorios o refor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scar rutas alternativas, mejorar caminos existentes, hacer caminos de acc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: Escuela Isla Wellington, Puente Río Serrano, Planta Elevadora Aguas Servidas T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v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uses, mini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pamento v/s viajes diarios (cuando el viaje es largo, hay que pagar las horas como trabaja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égimen de “bajadas”. Leyes Labo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OS SERVIC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gua potable y Alcantaril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des públicas, pozos y ríos, transporte (camiones alji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zos negros, baños químicos, plantas de tra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d de telefonía, teléfonos sateli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sposición de bas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ertederos municipalidades, sitios designados (estudio de impacto ambient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ERS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calificado, especializado y directivo suele llevar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geni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Jefes de Obra y capataces (*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peradores de grúa, maquinarias movimiento de ti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sonal no calificado si es posible se obtiene en el lugar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acer averiguaciones (ejemplo Quell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CONOMÍA LO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producción de la industria local (maestranzas, aislapol, ladrillos, prefabricados menores, alumini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staladores de electricidad, sanitarios. Urbaniz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ercio de materiales de construcción, arriendo de maquinarias y equip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vicios (bancos, notarías, fotocopiad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SERVICIO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la obra utiliza gran cantidad de Mano de Obra, se forma una población de empleados que requiere servicios médicos, correo, centros de llamados, entret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uede ser mediante transporte a un pueblo cercano o disponerse en el campamento de la fa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SERVICIOS SOCI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slado de familiares. En algunos casos es preferible trasladar a los familiares al lugar de las obras (cuando las obras son en alguna ciudad o pueblo) o a algún pueblo cercano (cuando las obras están alejad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 Chuquicamata-Calama, Disputada-Santiago, Puerto Mont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ay que hacer un estudio de costos de las distintas alternativas y combinaciones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LACIONES PÚBLIC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operación con entidades oficiales y privadas. (ej. GOPE Pto. Mont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ción del comercio local para compras de deta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o de personal lo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la buena voluntad de la zona se obtienen beneficios para la obra y su pers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tapa de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vantamiento general para ubica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vantamiento detallado para Ingeniería de Detalle y determinación de cantidades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lección y materialización de PRs para la construcción (para el replanteo de las obr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LACIONES PÚBLIC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a mano lava la otra y las dos lavan la car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avor con favor se pag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mundo es un pañuel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vida tiene muchas vuelta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ingeniero debe prestar atención a las relaciones públ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tapa previa a la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bicación de campamento, bodegas, talleres, sitios de acopio, capt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zado de caminos de acceso a las obras, empréstitos, campamento, bodeg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otadero de excedentes de exca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zado de líneas de energía, 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btención de la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y mapas exist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spección visual </a:t>
            </a: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(visita a terren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ectividad: Caminos de acceso a la ciudad más próxima, puentes, muelles, túneles (condición y capacida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íneas eléctricas y telefónicas exist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nales y po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OP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lant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slado de PRs a lugares cercanos a las ob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ñalización y protección de los PRs en terreno,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marcar los PRs en los pl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r ubicación de PRs teniendo en cuenta las futuras obras, de modo que no se vean afectados por excavaciones, rellenos y futuras construc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e diseño para prever el comportamiento de la obra. Evacuación de aguas lluvias, niveles y caudales de crecida, ciclos hielo/deshie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para determinar métodos de ejecución de la construc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luencia en la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erre de las faenas en ciertas épocas (SUR-SUR, El Indio, Antárt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ucción del horario de trabajo en invierno (latitu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lluvias o hielo impiden la compactación de suelos por el exceso de agua o la solid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ríos se pueden desviar sólo en algunas estaciones del a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cauciones al Hormig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mpo calu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mpo Frío (Madurez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≠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Nch 170/85). Precauciones para pequeños espesores (relación superficie/volum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randes masas. El fragüe del hormigón es una reacción exotérmic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la disipación neces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I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lección de maquinaria y acces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denas para nieve o hi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hículos off-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auciones para vehículos diesel (ejemplo: Minera El Indio, Canadá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tección de los operadores (ejemplo Codelco Andina: vehículos a control remo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5T13:49:54Z</dcterms:created>
  <dc:creator>William Wragg L.</dc:creator>
  <dc:description/>
  <dc:language>en-US</dc:language>
  <cp:lastModifiedBy>William</cp:lastModifiedBy>
  <dcterms:modified xsi:type="dcterms:W3CDTF">2007-04-03T12:38:24Z</dcterms:modified>
  <cp:revision>16</cp:revision>
  <dc:subject/>
  <dc:title>CI 52A Métodos Constructivos</dc:title>
</cp:coreProperties>
</file>