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C4B-517C-4B68-9CFF-DF980E8C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98C-83DD-41F5-B9CF-18DBAD85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5EA-B7B2-485E-A450-7F3AB34B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402-53FE-4127-B107-A6D87B04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2B5C-C9D1-41F7-A3E9-E3968D7D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A990-D264-4382-8CFB-7208938E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4ADA-0024-4916-8605-8BC31D6D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1C84-8390-4878-B6B1-B335D22C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691F-DAD1-472F-9668-54144606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43C7-84D7-4025-8578-A34FE59B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8E57-48D0-4FE1-8A2A-234F6D97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1BF-E236-4930-B4A5-046151A7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9B1E-5A9C-4EA2-B39F-AD2B1D0B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C8BA-08B0-4B5C-A48A-119F91D0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DA19-8280-47C4-A0F6-9BB721AD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F11B-BEA6-4450-800B-C57081E8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9494-0093-438E-95A5-C7A59FCC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86D-BFA7-4FC2-82DD-6465FFDB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0F9-1A98-4AD8-8696-76AF4449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02C-C31E-4986-A4F7-A60895EA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E67-BF47-4C5C-BB32-0A915EFA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3E60-100A-4B6B-A87E-96996E67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B9C-EDF2-4621-A7A2-5D511FC1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F87-E4CB-47C9-BA2B-9CB9ED5E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E4B6-58FA-42BF-B7E7-09DD08B9772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E4B7-537B-4C35-888E-011E3440E5B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Ética Profe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ÉTICA PROFESIO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ber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pecífico dentro de las disciplinas humanas  que tiene como objeto la fundamentación racional de lo que debe ser la responsabilidad del ser humano para alcanzar "lo bueno“ o "lo recto"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ualidad de determinadas acciones de los individuos en cuanto tienen que ver con la manera que éstos ejercen su responsabilidad frente a los valores, principios y normas morales. Hace un juicio evaluatorio de una acción humana en cuanto es capaz de encarnar o realizar en la práctica, a los valores, principios, y normas ét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ÉTICA PROFESIO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teger la seguridad, salud y bienes del públ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estar servicios solamente en materias en las que se sea compet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mitir juicios públicos de manera objetiva y veraz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materias profesionales, actuar para cada cliente como agentes confi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vitar la solicitud impropia de trabajo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56:47Z</dcterms:created>
  <dc:creator>William</dc:creator>
  <dc:description/>
  <dc:language>en-US</dc:language>
  <cp:lastModifiedBy>William</cp:lastModifiedBy>
  <dcterms:modified xsi:type="dcterms:W3CDTF">2007-03-26T18:34:24Z</dcterms:modified>
  <cp:revision>2</cp:revision>
  <dc:subject/>
  <dc:title>CI 52A Métodos Constructivos</dc:title>
</cp:coreProperties>
</file>