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8CDB-B64E-47BF-8841-7F2741DD0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7ED8-7CBD-4A86-A69A-F7BA54629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CAC4-0FA4-4952-B998-2F2F46779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157E-A04A-4555-B928-89D756A66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E2982-D9D0-4602-A3BE-EF73A63A9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44346-5B74-4237-8E41-D2A386BF4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24DE2-D1FC-4C89-A8DC-A4D8F7B42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DCB46-B450-417B-A2F8-B5762B95E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F0BB6-90F9-426F-9FDA-DE15799E3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50122-3834-405F-B948-D12208870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FA00C-893C-4943-A952-D93C63A47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D8B5-41E5-490A-8BDF-B2AEA7130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AE0A3-4771-4B4A-B090-C1370B66E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C8207-64B4-4A61-9FC8-4B6359E0D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035E2-3B2A-4B46-BDC8-5C2801A17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FF316-20FA-4278-8725-F85126D8E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47FEA-1404-49F5-91A5-2A2004FEA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48A5-1101-4CF7-9808-5DE4B07E8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CD6B-604D-4CA0-BD28-2EEF6AEC2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FE4B-E9E2-4653-93EE-1ECA895F4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88ED-661C-44C8-8CE4-052E32188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CA55-5A38-4E43-A3E4-394EE5CCB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07F3-7145-4BDD-8E07-D4676F017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04B5-EF3D-407A-BD39-316E7AFC5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0AA94-F294-4471-837F-0A40223BEE2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5AFBF-73D7-4D72-B9B3-888FCC7DDD6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I 52A</a:t>
            </a:r>
            <a:br>
              <a:rPr sz="4400"/>
            </a:b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étodos Constructiv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Ética Profesion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ÉTICA PROFESIONA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aber 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specífico dentro de las disciplinas humanas  que tiene como objeto la fundamentación racional de lo que debe ser la responsabilidad del ser humano para alcanzar "lo bueno“ o "lo recto"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Cualidad de determinadas acciones de los individuos en cuanto tienen que ver con la manera que éstos ejercen su responsabilidad frente a los valores, principios y normas morales. Hace un juicio evaluatorio de una acción humana en cuanto es capaz de encarnar o realizar en la práctica, a los valores, principios, y normas étic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ÉTICA PROFESIONA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Proteger la seguridad, salud y bienes del públ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Prestar servicios solamente en materias en las que se sea competen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mitir juicios públicos de manera objetiva y veraz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n materias profesionales, actuar para cada cliente como agentes confiabl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vitar la solicitud impropia de trabajos profesion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3T15:56:47Z</dcterms:created>
  <dc:creator>William</dc:creator>
  <dc:description/>
  <dc:language>en-US</dc:language>
  <cp:lastModifiedBy>William</cp:lastModifiedBy>
  <dcterms:modified xsi:type="dcterms:W3CDTF">2007-03-26T18:34:24Z</dcterms:modified>
  <cp:revision>2</cp:revision>
  <dc:subject/>
  <dc:title>CI 52A Métodos Constructivos</dc:title>
</cp:coreProperties>
</file>