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729-5DB3-4609-96B0-E146BB22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49C-F700-4B0F-BE34-4DA4D49C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310-5641-4F12-8FBE-9BFE9796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8E8-5E29-4420-911C-037006CB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FF18-362D-4C8B-875C-F214E961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DDE4-B884-49E8-882B-DE823E9B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3EBA-4D29-4FF1-9829-4A7000FE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91DA-FFEF-49CB-B1CC-7B7540A6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2B25-974E-4D43-95CC-0A6F4C75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A57B-E239-4008-BC3E-0C1138A7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5557-3D6F-4B2B-BA97-B0E1518B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FB7-88F0-4BDF-8844-0D017C9B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AF32-5512-4C26-BC4F-E3DD4A80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1FD0-B057-4272-A0F4-FF56A24B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0AD5-F58F-4471-9565-525D319E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D554-4C46-4A20-94A4-45331398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65C7-9360-4BA0-9BFF-FC0E5303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28F-9A4C-418F-ACC3-D2870A35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9AF-5280-427E-A0AB-EC7ED4DA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A295-C112-43FA-AAA8-25A82644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89A-CB28-4628-B16A-5EB0A667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0AB-F3BD-44AF-A32D-C1FA2E3F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EEF-AF78-440C-81D7-169C1D89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FCB-9438-4817-93AA-D23F44B4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FBA6-AA12-4547-B1E9-0CC0A945D8A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4DF8-5EB2-4ED7-B332-72BFF325289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Ética Profe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ÉTICA PROFESIO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ber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pecífico dentro de las disciplinas humanas  que tiene como objeto la fundamentación racional de lo que debe ser la responsabilidad del ser humano para alcanzar "lo bueno“ o "lo recto"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ualidad de determinadas acciones de los individuos en cuanto tienen que ver con la manera que éstos ejercen su responsabilidad frente a los valores, principios y normas morales. Hace un juicio evaluatorio de una acción humana en cuanto es capaz de encarnar o realizar en la práctica, a los valores, principios, y normas ét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ÉTICA PROFESIO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teger la seguridad, salud y bienes del públ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estar servicios solamente en materias en las que se sea compet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mitir juicios públicos de manera objetiva y veraz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materias profesionales, actuar para cada cliente como agentes confi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vitar la solicitud impropia de trabajo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56:47Z</dcterms:created>
  <dc:creator>William</dc:creator>
  <dc:description/>
  <dc:language>en-US</dc:language>
  <cp:lastModifiedBy>William</cp:lastModifiedBy>
  <dcterms:modified xsi:type="dcterms:W3CDTF">2007-03-26T18:34:24Z</dcterms:modified>
  <cp:revision>2</cp:revision>
  <dc:subject/>
  <dc:title>CI 52A Métodos Constructivos</dc:title>
</cp:coreProperties>
</file>