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B38A-DBDE-466C-935E-BDE209CC1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82BD-CE70-4FE1-A1CD-77305D524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A07C-7D49-42BD-8B71-F915EF829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31F5-F469-4F37-81D8-B4AE8ADC2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4E00C-C569-48EC-BAE1-7C2898A4B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50F4A-27B4-4843-A0C0-346D4F292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C334B-F2A4-4110-99D2-7E8CD0E42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D23A1-6130-4687-8346-8FEA1384F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67C40-CCE2-4A56-A9E0-6207134F7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D0A0F-C082-4A44-AC4A-A2A6CC9C8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E6300-D192-4265-8C9E-16CC0985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221D-BE0C-4524-833A-EFB3481FB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4658F-C026-425E-A853-4C5D2B99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25FCB-53B6-4A83-A476-6D7F2D27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1692D-087E-47F1-8ADA-CB751712B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BF21D-1BD6-45A4-B558-D02AFB34C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5A314-79BC-49C8-BCBB-FF4213087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19DC-4EAC-4323-B055-A9B1FD2DC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53F9-9CDE-483C-92E3-88ED4838A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844A-EFAD-40AA-9BF1-C4431E3AD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BEC8-69F7-4C09-B36B-783890D85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9582-AB68-4651-8D0F-03613C68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1355-089A-48D6-B142-450CD3C0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BD22-8424-4AF0-9F47-EDE07FE0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67569-B99A-4DA6-A331-4FC616A690E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8396F-0753-417D-981A-FC459BA5D16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I 52A</a:t>
            </a:r>
            <a:br>
              <a:rPr sz="4400"/>
            </a:b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étodos Constructiv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Ética Profesion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ÉTICA PROFESIONA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ber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specífico dentro de las disciplinas humanas  que tiene como objeto la fundamentación racional de lo que debe ser la responsabilidad del ser humano para alcanzar "lo bueno“ o "lo recto"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ualidad de determinadas acciones de los individuos en cuanto tienen que ver con la manera que éstos ejercen su responsabilidad frente a los valores, principios y normas morales. Hace un juicio evaluatorio de una acción humana en cuanto es capaz de encarnar o realizar en la práctica, a los valores, principios, y normas étic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ÉTICA PROFESIONA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Proteger la seguridad, salud y bienes del públic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Prestar servicios solamente en materias en las que se sea compete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mitir juicios públicos de manera objetiva y veraz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n materias profesionales, actuar para cada cliente como agentes confiabl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vitar la solicitud impropia de trabajos profesion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15:56:47Z</dcterms:created>
  <dc:creator>William</dc:creator>
  <dc:description/>
  <dc:language>en-US</dc:language>
  <cp:lastModifiedBy>William</cp:lastModifiedBy>
  <dcterms:modified xsi:type="dcterms:W3CDTF">2007-03-26T18:34:24Z</dcterms:modified>
  <cp:revision>2</cp:revision>
  <dc:subject/>
  <dc:title>CI 52A Métodos Constructivos</dc:title>
</cp:coreProperties>
</file>