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C0C-70F0-431C-AEE5-FDD03D31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5AE-C2E8-4D8C-BB9C-721652E5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167-1F28-4C06-920E-02E48C38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2FB8-E386-42A3-8FE4-C9D08835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0714-1BCA-4E49-A4D1-003F367D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F1D2-6567-4EAD-B485-FB8F492F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800B-81CE-4D9D-8F49-A8188E1D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6673-FA5F-4118-A29D-0D13E33D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8DFF-CE1F-4305-97CC-E3B9AEDC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0984-BDC4-43CE-8BDA-E12CD817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0C80-1813-40B5-BCD1-F98224B8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095-726D-40D9-BC05-67E9EBA5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2C0D-29B6-46A4-B6EA-7329B601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ADD9-DD56-4B60-8249-516B4E7B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DE91-4AB4-4148-8E80-4A89C4A7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D1A7-0F0C-4E5E-B1F6-2768DBF8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8B43-2197-4467-BE92-16673060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956-E8E5-4CA3-9C7B-010B086B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AB8-9936-42F9-B0C6-CDCEA38F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4EE-A4FA-4877-BEC0-E93268FB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1A1-3565-48D9-ACC3-AC025EC9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2CEF-215B-4095-A463-BA52A6ED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B4C-CE4F-44AF-BA8E-9471F3DC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FDAF-A867-43F5-A7AB-747C1490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D0D6-3FA7-472D-A98E-495CD260A5D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6922-1217-4D06-981A-5416A5385EB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Ética Profes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ÉTICA PROFESIO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ber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pecífico dentro de las disciplinas humanas  que tiene como objeto la fundamentación racional de lo que debe ser la responsabilidad del ser humano para alcanzar "lo bueno“ o "lo recto"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ualidad de determinadas acciones de los individuos en cuanto tienen que ver con la manera que éstos ejercen su responsabilidad frente a los valores, principios y normas morales. Hace un juicio evaluatorio de una acción humana en cuanto es capaz de encarnar o realizar en la práctica, a los valores, principios, y normas éti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ÉTICA PROFESIO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teger la seguridad, salud y bienes del públ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estar servicios solamente en materias en las que se sea compet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mitir juicios públicos de manera objetiva y veraz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 materias profesionales, actuar para cada cliente como agentes confi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vitar la solicitud impropia de trabajos profes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56:47Z</dcterms:created>
  <dc:creator>William</dc:creator>
  <dc:description/>
  <dc:language>en-US</dc:language>
  <cp:lastModifiedBy>William</cp:lastModifiedBy>
  <dcterms:modified xsi:type="dcterms:W3CDTF">2007-03-26T18:34:24Z</dcterms:modified>
  <cp:revision>2</cp:revision>
  <dc:subject/>
  <dc:title>CI 52A Métodos Constructivos</dc:title>
</cp:coreProperties>
</file>