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A536E-AA31-40EB-A063-D3FD197A8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A53B1-7659-4324-9D8E-2FBF0C511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D4B43-E5D8-4384-8D46-7614DC3E7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C0E68-0371-43F0-BACC-C8BCC9FA1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14170-3A89-4819-A995-55F166349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56226-8837-422B-AB42-F0C1402EA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0A461-FDB0-4575-BE60-1424465FD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3A3F5-647F-430E-80A8-0C77C6E1D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3C255-1E2F-4504-9680-CFFE56308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8AAC3-58C9-497A-84D2-6BCED5210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BC9CA-B594-48EF-AF89-1F5ED4DAB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D055E-667C-406A-B223-966ACFD97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5FCA7-1FCF-4028-8DA9-BFBD0CB64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04288-6733-413C-B59A-406A4655B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14D81-64B7-4049-B7DC-D9C13619B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C11A9-83F3-4162-A332-AE5854604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DA559-4503-48C3-86BE-4CC2EA86B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05A17-5C3B-4734-B611-5655EF70B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104A7-9364-4EA9-BF1A-3BE23B2E0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9283D-F986-4370-A249-B16B01C6A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C4A77-26A6-4E16-B942-5E03431AE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53F77-0595-4194-8A57-60E80FFCE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C33D1-CF65-4D04-886E-2BE72957E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13C7D-2969-46A2-B2FA-ED267A5DB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32EA9-2779-40DA-A740-5CF903AA15D9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DC773-CEA9-40E7-A013-154818A5807A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CI 52A</a:t>
            </a:r>
            <a:br>
              <a:rPr sz="4400"/>
            </a:b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Métodos Constructivo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Tipos de contrat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e5ffff"/>
                </a:solidFill>
                <a:latin typeface="Tahoma"/>
              </a:rPr>
              <a:t>TIPOS DE CONTRATOS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SUMA ALZAD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Precio fijo por la obra terminada, incluyendo todo lo indicado en los documentos del proyecto (Planos, EETT y Bases Administrativas, etc.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Con o sin reajustabilidad (típico UF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Con o sin anticipo (normalmente hay anticipos entre 10% y 25%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e5ffff"/>
                </a:solidFill>
                <a:latin typeface="Tahoma"/>
              </a:rPr>
              <a:t>TIPOS DE CONTRATOS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De todas formas la Constructora entrega presupuesto detallado y desglose de P.U. por posibles variaciones de contrat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VARIACIONES DE UNA SUMA ALZAD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Cambios en las bases del contrato, proyectos o especificacion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Nuevas obras no consideradas en el contrat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Variación de cantidades de obra más allá del límite establecido en el contrat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e5ffff"/>
                </a:solidFill>
                <a:latin typeface="Tahoma"/>
              </a:rPr>
              <a:t>TIPOS DE CONTRATOS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CONSECUENCIAS DE LAS VARIACIONES DE UNA SUMA ALZAD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Aumento de plaz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Aumento de gastos generales (cuando se sobrepasa cierto límite de variación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Aumento de utilidades de la Constructora (cuando se sobrepasa cierto límite de variación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Cargos por aceleración de obr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e5ffff"/>
                </a:solidFill>
                <a:latin typeface="Tahoma"/>
              </a:rPr>
              <a:t>TIPOS DE CONTRATOS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179280" y="1989000"/>
          <a:ext cx="8785440" cy="4114800"/>
        </p:xfrm>
        <a:graphic>
          <a:graphicData uri="http://schemas.openxmlformats.org/drawingml/2006/table">
            <a:tbl>
              <a:tblPr/>
              <a:tblGrid>
                <a:gridCol w="2536920"/>
                <a:gridCol w="2071800"/>
                <a:gridCol w="1981080"/>
                <a:gridCol w="2195640"/>
              </a:tblGrid>
              <a:tr h="102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P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iesgo</a:t>
                      </a:r>
                      <a:br>
                        <a:rPr sz="1800"/>
                      </a:br>
                      <a:r>
                        <a:rPr b="0" lang="es-ES_tradn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ntidad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iesgo Precio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ajuste Típic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28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MINISTRACIÓN DELEGAD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ndant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ndant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rect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RIE DE PRECIOS UNITARIO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ndant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structor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ubos ajustabl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28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UMA ALZAD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structor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structor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F, IPC, Polinomi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e5ffff"/>
                </a:solidFill>
                <a:latin typeface="Tahoma"/>
              </a:rPr>
              <a:t>TIPOS DE CONTRATOS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El costo puede variar po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Características propias de la obra (por ejemplo, geología inciert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Proyecto incompleto (definiciones incompletas, planos inconclusos o malos, etc.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Externalidades (dólar, euro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Causa mayor (terremoto, inundaciones, etc.)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¿Quién asume el riesgo por las variaciones de costos la durante la construcción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e5ffff"/>
                </a:solidFill>
                <a:latin typeface="Tahoma"/>
              </a:rPr>
              <a:t>TIPOS DE CONTRATOS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TRES MODALIDADES PRINCIPA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Administración delegad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Serie de Precios unitari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Suma alzad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También existen contratos que combinan estas tres modalidades según el estado de desarrollo de los proyectos en las distintas áreas de la obr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e5ffff"/>
                </a:solidFill>
                <a:latin typeface="Tahoma"/>
              </a:rPr>
              <a:t>TIPOS DE CONTRATOS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ADMINISTRACIÓN DELEGAD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Se utiliza principalmente en el caso de que la construcción se inicie sin tener terminada totalmente la Ingeniería de Detall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También se usa en caso de emergencia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La Constructora administra la obra y el mandante le reembolsa los costo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e5ffff"/>
                </a:solidFill>
                <a:latin typeface="Tahoma"/>
              </a:rPr>
              <a:t>TIPOS DE CONTRATOS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ADMINISTRACIÓN DELEGAD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La constructora recibe un % por sobre los costos o un valor preestablecido a modo de utilida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No se necesita un mecanismo de reajuste, puesto que se pagan los costos real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e5ffff"/>
                </a:solidFill>
                <a:latin typeface="Tahoma"/>
              </a:rPr>
              <a:t>TIPOS DE CONTRATOS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ADMINISTRACIÓN DELEGAD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Ejempl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084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Tahoma"/>
              </a:rPr>
              <a:t>Proyectos FAST TRACK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 en los cuales la oportunidad es determinante para el éxito del proyect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084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Tahoma"/>
              </a:rPr>
              <a:t>Emergencias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. La premura no permite el desarrollo de proyectos detallado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084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Tahoma"/>
              </a:rPr>
              <a:t>Remodelaciones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. No hay suficiente información como para que la Constructora se comprometa a un valor fij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e5ffff"/>
                </a:solidFill>
                <a:latin typeface="Tahoma"/>
              </a:rPr>
              <a:t>TIPOS DE CONTRATOS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SERIE DE PRECIOS UNITARI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La cantidad de obra es informada por el Mandante, pero no constituye compromiso de que esas cantidades sean las definitiva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La Constructora pone un </a:t>
            </a:r>
            <a:r>
              <a:rPr b="0" lang="es-ES_tradnl" sz="2800" spc="-1" strike="noStrike" u="sng">
                <a:solidFill>
                  <a:srgbClr val="ffffff"/>
                </a:solidFill>
                <a:uFillTx/>
                <a:latin typeface="Tahoma"/>
              </a:rPr>
              <a:t>Precio Unitario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 a cada una de la </a:t>
            </a:r>
            <a:r>
              <a:rPr b="0" lang="es-ES_tradnl" sz="2800" spc="-1" strike="noStrike" u="sng">
                <a:solidFill>
                  <a:srgbClr val="ffffff"/>
                </a:solidFill>
                <a:uFillTx/>
                <a:latin typeface="Tahoma"/>
              </a:rPr>
              <a:t>partidas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 solicitadas por el Mandant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e5ffff"/>
                </a:solidFill>
                <a:latin typeface="Tahoma"/>
              </a:rPr>
              <a:t>TIPOS DE CONTRATOS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SERIE DE PRECIOS UNITARI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Las cantidades informadas sirven para evaluar la incidencia de los costos indirectos de construcción e incluirlas como % dentro de los Precios Unitario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Las variaciones de volumen son de responsabilidad del Mandant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Las variaciones de precios son responsabilidad de la constructor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Como forma de reajuste suele usarse el mecanismo de los “cubos ajustables”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e5ffff"/>
                </a:solidFill>
                <a:latin typeface="Tahoma"/>
              </a:rPr>
              <a:t>TIPOS DE CONTRATOS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91520" cy="22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Cubos ajustables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En lugar de variar el precio se hace una variación ficticia de la cantidad de obra para que el producto de precio por cantidad corresponda al total reajustad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2484360" y="3789360"/>
                <a:ext cx="403884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Total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J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antida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EAL</m:t>
                        </m:r>
                      </m:sub>
                    </m:sSub>
                    <m:r>
                      <m:t xml:space="preserve">×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P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1619280" y="4583160"/>
                <a:ext cx="573552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antida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JUS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antida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EAL</m:t>
                        </m:r>
                      </m:sub>
                    </m:sSub>
                    <m:r>
                      <m:t xml:space="preserve">×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J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NTRATO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139840" y="5878440"/>
                <a:ext cx="487224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Total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J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antida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JUST</m:t>
                        </m:r>
                      </m:sub>
                    </m:sSub>
                    <m:r>
                      <m:t xml:space="preserve">×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P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ONTRATO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3T16:11:16Z</dcterms:created>
  <dc:creator>William</dc:creator>
  <dc:description/>
  <dc:language>en-US</dc:language>
  <cp:lastModifiedBy>William</cp:lastModifiedBy>
  <dcterms:modified xsi:type="dcterms:W3CDTF">2007-03-23T16:11:40Z</dcterms:modified>
  <cp:revision>1</cp:revision>
  <dc:subject/>
  <dc:title>CI 52A Métodos Constructivos</dc:title>
</cp:coreProperties>
</file>