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CBD-99AA-49EB-9392-0AF3119E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6F49-7652-4F9C-A025-8A28EBAA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0E3-EB90-453F-BD47-94D0F732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59DB-04B4-4C1F-B5BF-1B7816CDB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3BEE-2817-4EB8-B3F1-77952BFE8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85A6-C43E-42A5-A9C0-520555B1D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DB5A-1705-417D-AD57-8FEC1224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50DA-FE65-4328-8DA0-5F9171C0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8466-469A-478A-B71E-BC536941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00D7-92F1-4B39-982C-D22AF270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4E4AA-E78D-47E4-A959-0B5E99E6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792-9E7B-4F90-80A4-CA4AB3A5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395A-78F9-4D36-9192-80BEAA94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B43D-C17D-4C5B-A13D-CDDAC1885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60B1C-810D-4CB1-A708-3E3431FDF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1C45-90A5-44A4-99EB-68832B0A2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6DC3-BD0B-49E8-A57B-9ACBBDB9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4B2-5B91-41B4-B197-62D45800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B47-A584-47CD-944A-18787300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5329-F95C-409F-B5E2-0E0C8EDE6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AD1-0DBA-421A-8702-F8CC97C0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331C-9EB4-447A-9E00-371909BA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FBE9-FA82-4B04-8372-22973A7B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4B0B-1550-4C5D-B61F-21D7C08C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E3CF-4D6A-4FD2-B4F9-C2C11C7D474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044C-6D12-49B5-B5A8-3E0225AB3CE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pos de contra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UMA ALZ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cio fijo por la obra terminada, incluyendo todo lo indicado en los documentos del proyecto (Planos, EETT y Bases Administrativas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 o sin reajustabilidad (típico UF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n o sin anticipo (normalmente hay anticipos entre 10% y 25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 todas formas la Constructora entrega presupuesto detallado y desglose de P.U. por posibles variaciones de contrat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ARIACIONES DE UNA SUMA ALZA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mbios en las bases del contrato, proyectos o especificac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Nuevas obras no consideradas en el contra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ción de cantidades de obra más allá del límite establecido en el contra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CUENCIAS DE LAS VARIACIONES DE UNA SUMA ALZ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umento de plaz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umento de gastos generales (cuando se sobrepasa cierto límite de vari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umento de utilidades de la Constructora (cuando se sobrepasa cierto límite de vari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gos por aceleración de ob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79280" y="1989000"/>
          <a:ext cx="8785440" cy="4114800"/>
        </p:xfrm>
        <a:graphic>
          <a:graphicData uri="http://schemas.openxmlformats.org/drawingml/2006/table">
            <a:tbl>
              <a:tblPr/>
              <a:tblGrid>
                <a:gridCol w="2536920"/>
                <a:gridCol w="2071800"/>
                <a:gridCol w="1981080"/>
                <a:gridCol w="2195640"/>
              </a:tblGrid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esgo</a:t>
                      </a:r>
                      <a:br>
                        <a:rPr sz="1800"/>
                      </a:b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t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esgo Preci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juste Típ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CIÓN DELEG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d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d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rec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381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IE DE PRECIOS UNITARI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d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o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bos ajustab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MA ALZAD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o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381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tructor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F, IPC, Polinomi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costo puede variar p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racterísticas propias de la obra (por ejemplo, geología incier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royecto incompleto (definiciones incompletas, planos inconclusos o malos, etc.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ternalidades (dólar, eur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usa mayor (terremoto, inundaciones, etc.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¿Quién asume el riesgo por las variaciones de costos la durante la construcció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ES MODALIDADES PRINCIP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ministración deleg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rie de Precios u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ma alz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ambién existen contratos que combinan estas tres modalidades según el estado de desarrollo de los proyectos en las distintas áreas de la ob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DMINISTRACIÓN DELEG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 utiliza principalmente en el caso de que la construcción se inicie sin tener terminada totalmente la Ingeniería de Detal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ambién se usa en caso de emergenci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onstructora administra la obra y el mandante le reembolsa los cos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DMINISTRACIÓN DELEG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onstructora recibe un % por sobre los costos o un valor preestablecido a modo de utilida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 se necesita un mecanismo de reajuste, puesto que se pagan los costos real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DMINISTRACIÓN DELEG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Proyectos FAST TRACK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en los cuales la oportunidad es determinante para el éxito del proy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Emergencia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 La premura no permite el desarrollo de proyectos detallad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Remodelacione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 No hay suficiente información como para que la Constructora se comprometa a un valor fi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SERIE DE PRECIOS UNITA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antidad de obra es informada por el Mandante, pero no constituye compromiso de que esas cantidades sean las definitiva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Constructora pone un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Precio Unitario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a cada una de la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ahoma"/>
              </a:rPr>
              <a:t>partidas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solicitadas por el Mandant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RIE DE PRECIOS UNITAR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s cantidades informadas sirven para evaluar la incidencia de los costos indirectos de construcción e incluirlas como % dentro de los Precios Unitari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s variaciones de volumen son de responsabilidad del Manda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as variaciones de precios son responsabilidad de la construc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mo forma de reajuste suele usarse el mecanismo de los “cubos ajustable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TIPOS DE CONTRATO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9152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ubos ajustables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n lugar de variar el precio se hace una variación ficticia de la cantidad de obra para que el producto de precio por cantidad corresponda al total reajustad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484360" y="3789360"/>
                <a:ext cx="4038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ntid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619280" y="4583160"/>
                <a:ext cx="57355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ntid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JU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ntid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EAL</m:t>
                        </m:r>
                      </m:sub>
                    </m:sSub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NTRA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139840" y="5878440"/>
                <a:ext cx="4872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ntida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JUST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ONTRAT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3T16:11:16Z</dcterms:created>
  <dc:creator>William</dc:creator>
  <dc:description/>
  <dc:language>en-US</dc:language>
  <cp:lastModifiedBy>William</cp:lastModifiedBy>
  <dcterms:modified xsi:type="dcterms:W3CDTF">2007-03-23T16:11:40Z</dcterms:modified>
  <cp:revision>1</cp:revision>
  <dc:subject/>
  <dc:title>CI 52A Métodos Constructivos</dc:title>
</cp:coreProperties>
</file>