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A9E-6266-43D9-B2BD-B7BD57C1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E0A8-B01B-4BD3-B1BD-786B7633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FF64-E9B7-45A5-86CD-30BA8AEA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7C6F-4548-43F8-806C-EF920E6F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843D-A2B6-4A2E-A84A-3476A840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88EC-096F-4582-8B08-B812073C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ACA8-4FFE-4146-AE14-7F18BAE8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95B7-9050-4F6B-8603-0A1A4573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21F1-98C7-4483-B829-E1A891B2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6A45-ADE6-483E-A75D-F7F9D52D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F024-8F30-4657-AB8E-6B74BCD8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D711-36F4-4252-B853-30F6CCD0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FF2A-3D24-47C3-8468-CD5C9CE8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DBFE-3383-4D92-A0F4-11C8EC13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FF96-C991-491F-B329-7D9DB13E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3F88-703F-4AB6-A564-9F952F87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7522-6B11-4F2E-A808-1E2945E1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B662-01B4-4515-ABE5-3651D1EA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A558-CE12-4818-B6B8-E6B6EF9E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2995-79C8-4D9D-91D4-D4DEC6F3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2648-B776-448A-81F3-4646ABDE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4528-FC0A-4873-86B2-9776BCD2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A7A9-93B2-4E9A-85FB-9BF12E1C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9539-2A3E-4333-8948-B81C9EC6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F0F4-B6E1-420F-9BCD-1A59CF0C511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20AC-95AF-4231-A7C5-27AEF494F1A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ipos de contra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UMA ALZ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cio fijo por la obra terminada, incluyendo todo lo indicado en los documentos del proyecto (Planos, EETT y Bases Administrativas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 o sin reajustabilidad (típico U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 o sin anticipo (normalmente hay anticipos entre 10% y 25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 todas formas la Constructora entrega presupuesto detallado y desglose de P.U. por posibles variaciones de contra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ARIACIONES DE UNA SUMA ALZ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mbios en las bases del contrato, proyectos o especificac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uevas obras no consideradas en el contra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ariación de cantidades de obra más allá del límite establecido en el contra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ECUENCIAS DE LAS VARIACIONES DE UNA SUMA ALZ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umento de plaz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umento de gastos generales (cuando se sobrepasa cierto límite de variació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umento de utilidades de la Constructora (cuando se sobrepasa cierto límite de variació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rgos por aceleración de ob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9280" y="1989000"/>
          <a:ext cx="8785440" cy="4114800"/>
        </p:xfrm>
        <a:graphic>
          <a:graphicData uri="http://schemas.openxmlformats.org/drawingml/2006/table">
            <a:tbl>
              <a:tblPr/>
              <a:tblGrid>
                <a:gridCol w="2536920"/>
                <a:gridCol w="2071800"/>
                <a:gridCol w="1981080"/>
                <a:gridCol w="2195640"/>
              </a:tblGrid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esgo</a:t>
                      </a:r>
                      <a:br>
                        <a:rPr sz="1800"/>
                      </a:b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t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esgo Prec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juste Típ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CIÓN DELEG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d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d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rec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IE DE PRECIOS UNITARI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d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ucto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bos ajustab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A ALZ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ucto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ucto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F, IPC, Polinom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costo puede variar p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racterísticas propias de la obra (por ejemplo, geología incier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royecto incompleto (definiciones incompletas, planos inconclusos o malos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ternalidades (dólar, eur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usa mayor (terremoto, inundaciones, etc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Quién asume el riesgo por las variaciones de costos la durante la construcció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ES MODALIDADES PRINCIP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dministración deleg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rie de Precios uni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uma alz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mbién existen contratos que combinan estas tres modalidades según el estado de desarrollo de los proyectos en las distintas áreas de la ob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DMINISTRACIÓN DELEG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utiliza principalmente en el caso de que la construcción se inicie sin tener terminada totalmente la Ingeniería de Detal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ambién se usa en caso de emergenci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 Constructora administra la obra y el mandante le reembolsa los cos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DMINISTRACIÓN DELEG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 constructora recibe un % por sobre los costos o un valor preestablecido a modo de ut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o se necesita un mecanismo de reajuste, puesto que se pagan los costos re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DMINISTRACIÓN DELEG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Proyectos FAST TRACK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en los cuales la oportunidad es determinante para el éxito del proye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Emergencia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. La premura no permite el desarrollo de proyectos detall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Remodelacione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. No hay suficiente información como para que la Constructora se comprometa a un valor fi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RIE DE PRECIOS UNITA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 cantidad de obra es informada por el Mandante, pero no constituye compromiso de que esas cantidades sean las definitiv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 Constructora pone un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Precio Unitari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a cada una de la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partidas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solicitadas por el Mand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RIE DE PRECIOS UNITA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s cantidades informadas sirven para evaluar la incidencia de los costos indirectos de construcción e incluirlas como % dentro de los Precios Unitar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s variaciones de volumen son de responsabilidad del Manda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s variaciones de precios son responsabilidad de l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mo forma de reajuste suele usarse el mecanismo de los “cubos ajustable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ubos ajustable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n lugar de variar el precio se hace una variación ficticia de la cantidad de obra para que el producto de precio por cantidad corresponda al total reajust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484360" y="3789360"/>
                <a:ext cx="40388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ntida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619280" y="4583160"/>
                <a:ext cx="5735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ntida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JUS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ntida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</m:sub>
                    </m:sSub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TRA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139840" y="5878440"/>
                <a:ext cx="4872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ntida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JUST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TRAT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6:11:16Z</dcterms:created>
  <dc:creator>William</dc:creator>
  <dc:description/>
  <dc:language>en-US</dc:language>
  <cp:lastModifiedBy>William</cp:lastModifiedBy>
  <dcterms:modified xsi:type="dcterms:W3CDTF">2007-03-23T16:11:40Z</dcterms:modified>
  <cp:revision>1</cp:revision>
  <dc:subject/>
  <dc:title>CI 52A Métodos Constructivos</dc:title>
</cp:coreProperties>
</file>